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8.png" ContentType="image/png"/>
  <Override PartName="/ppt/media/image5.png" ContentType="image/png"/>
  <Override PartName="/ppt/media/image29.jpeg" ContentType="image/jpeg"/>
  <Override PartName="/ppt/media/image27.jpeg" ContentType="image/jpe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6.png" ContentType="image/png"/>
  <Override PartName="/ppt/media/image11.png" ContentType="image/png"/>
  <Override PartName="/ppt/media/image23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4.jpeg" ContentType="image/jpe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F791-B502-46E1-80A0-A3A4C6D03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3E6F-45CF-4C51-BF3D-D0653BD4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EFBF-2297-4D72-8018-714B8C82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4B6C-C5E8-4A75-A838-03A7596F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490D-0DDE-4F71-86AB-87E1727D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5E28-3785-48F5-93DC-593A7E1B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F322-16A3-4A3D-AD09-0749DB55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7C65-59D2-4ECE-B1F6-DECA96AF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6CCE-6632-47E6-B56D-B283B747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BF4B-1EFA-4785-9E73-19B32C0A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7280-CE1E-4F9A-B1B6-EBDA33C4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9E3C-D5A4-429D-917B-461F4428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992A-A57F-438C-8215-3BE9DFD5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A7A0-1A01-4440-BE85-D7E70D84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42C3-83E4-442F-8FC5-0AF2A81F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3DC0-CCA6-40E9-9821-4C8F3E693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5F88-FC35-4422-86EE-2B6417E24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E80C-6129-45C7-A50B-ACD00A98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6B46-2046-43AA-9115-7A58065B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2D8D-0903-4A66-B3EB-7ED31651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AD2E-19C3-488E-80CF-DB75E9A8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EEC3-FCA4-442F-9CB8-929ADD6B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15FC-BED1-4093-987F-2593F9C3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9EFC-A8B8-46A3-AED8-3CACDD5F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F3CD-7FF0-4AF8-8145-67449BE965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3F2C-49EC-448E-B522-73032F258827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23640" y="1773360"/>
            <a:ext cx="6193080" cy="27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3dd78b"/>
                </a:solidFill>
                <a:latin typeface="Times New Roman"/>
              </a:rPr>
              <a:t>ПРИРОДА ВЕСНОЙ</a:t>
            </a:r>
            <a:endParaRPr b="0" lang="en-US" sz="88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04" name="Объект 1" descr=""/>
          <p:cNvPicPr/>
          <p:nvPr/>
        </p:nvPicPr>
        <p:blipFill>
          <a:blip r:embed="rId1"/>
          <a:stretch/>
        </p:blipFill>
        <p:spPr>
          <a:xfrm>
            <a:off x="2405160" y="333360"/>
            <a:ext cx="5854680" cy="6348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332320" y="167652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1" descr=""/>
          <p:cNvPicPr/>
          <p:nvPr/>
        </p:nvPicPr>
        <p:blipFill>
          <a:blip r:embed="rId1"/>
          <a:stretch/>
        </p:blipFill>
        <p:spPr>
          <a:xfrm>
            <a:off x="2195640" y="981000"/>
            <a:ext cx="6453000" cy="5353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1" descr=""/>
          <p:cNvPicPr/>
          <p:nvPr/>
        </p:nvPicPr>
        <p:blipFill>
          <a:blip r:embed="rId1"/>
          <a:stretch/>
        </p:blipFill>
        <p:spPr>
          <a:xfrm>
            <a:off x="2268360" y="907920"/>
            <a:ext cx="636588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55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dd78b"/>
                </a:solidFill>
                <a:latin typeface="Times New Roman"/>
              </a:rPr>
              <a:t>Перелетные птицы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11280" y="2060640"/>
            <a:ext cx="262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Соловей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Вьюрок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Грач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Дрозд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Чибис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Иволга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Кукушка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Ласточка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724000" y="2060640"/>
            <a:ext cx="284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Лебедь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Перепелка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Скворец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Чайка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Трясогузка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Аист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Кулик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Жаворонок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2" descr=""/>
          <p:cNvPicPr/>
          <p:nvPr/>
        </p:nvPicPr>
        <p:blipFill>
          <a:blip r:embed="rId1"/>
          <a:stretch/>
        </p:blipFill>
        <p:spPr>
          <a:xfrm>
            <a:off x="2124000" y="836640"/>
            <a:ext cx="6408720" cy="5519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1" descr=""/>
          <p:cNvPicPr/>
          <p:nvPr/>
        </p:nvPicPr>
        <p:blipFill>
          <a:blip r:embed="rId1"/>
          <a:stretch/>
        </p:blipFill>
        <p:spPr>
          <a:xfrm>
            <a:off x="2268360" y="765000"/>
            <a:ext cx="6336000" cy="5731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3203640" y="549360"/>
            <a:ext cx="4537080" cy="6138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6697800" cy="4297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"/>
          <p:cNvPicPr/>
          <p:nvPr/>
        </p:nvPicPr>
        <p:blipFill>
          <a:blip r:embed="rId1"/>
          <a:stretch/>
        </p:blipFill>
        <p:spPr>
          <a:xfrm>
            <a:off x="3059280" y="352440"/>
            <a:ext cx="457344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"/>
          <p:cNvPicPr/>
          <p:nvPr/>
        </p:nvPicPr>
        <p:blipFill>
          <a:blip r:embed="rId1"/>
          <a:stretch/>
        </p:blipFill>
        <p:spPr>
          <a:xfrm>
            <a:off x="2268360" y="1052640"/>
            <a:ext cx="6264360" cy="5268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1" descr=""/>
          <p:cNvPicPr/>
          <p:nvPr/>
        </p:nvPicPr>
        <p:blipFill>
          <a:blip r:embed="rId1"/>
          <a:stretch/>
        </p:blipFill>
        <p:spPr>
          <a:xfrm>
            <a:off x="3348000" y="692280"/>
            <a:ext cx="3656160" cy="6094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1" descr=""/>
          <p:cNvPicPr/>
          <p:nvPr/>
        </p:nvPicPr>
        <p:blipFill>
          <a:blip r:embed="rId1"/>
          <a:stretch/>
        </p:blipFill>
        <p:spPr>
          <a:xfrm>
            <a:off x="2268360" y="1052640"/>
            <a:ext cx="632952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1" descr=""/>
          <p:cNvPicPr/>
          <p:nvPr/>
        </p:nvPicPr>
        <p:blipFill>
          <a:blip r:embed="rId1"/>
          <a:stretch/>
        </p:blipFill>
        <p:spPr>
          <a:xfrm>
            <a:off x="2195640" y="907920"/>
            <a:ext cx="6121440" cy="5375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1" descr=""/>
          <p:cNvPicPr/>
          <p:nvPr/>
        </p:nvPicPr>
        <p:blipFill>
          <a:blip r:embed="rId1"/>
          <a:stretch/>
        </p:blipFill>
        <p:spPr>
          <a:xfrm>
            <a:off x="2124000" y="1125360"/>
            <a:ext cx="660888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1" descr=""/>
          <p:cNvPicPr/>
          <p:nvPr/>
        </p:nvPicPr>
        <p:blipFill>
          <a:blip r:embed="rId1"/>
          <a:stretch/>
        </p:blipFill>
        <p:spPr>
          <a:xfrm>
            <a:off x="2268360" y="1125360"/>
            <a:ext cx="6324840" cy="4824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1" descr=""/>
          <p:cNvPicPr/>
          <p:nvPr/>
        </p:nvPicPr>
        <p:blipFill>
          <a:blip r:embed="rId1"/>
          <a:stretch/>
        </p:blipFill>
        <p:spPr>
          <a:xfrm>
            <a:off x="2124000" y="836640"/>
            <a:ext cx="6624720" cy="5599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" descr=""/>
          <p:cNvPicPr/>
          <p:nvPr/>
        </p:nvPicPr>
        <p:blipFill>
          <a:blip r:embed="rId1"/>
          <a:stretch/>
        </p:blipFill>
        <p:spPr>
          <a:xfrm>
            <a:off x="3419640" y="404640"/>
            <a:ext cx="3990960" cy="619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1908000" y="5157720"/>
            <a:ext cx="6561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8db3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a2c"/>
                </a:solidFill>
                <a:latin typeface="Calibri"/>
              </a:rPr>
              <a:t>кулик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25" name="Рисунок 1" descr=""/>
          <p:cNvPicPr/>
          <p:nvPr/>
        </p:nvPicPr>
        <p:blipFill>
          <a:blip r:embed="rId1"/>
          <a:stretch/>
        </p:blipFill>
        <p:spPr>
          <a:xfrm>
            <a:off x="1908000" y="920880"/>
            <a:ext cx="6561360" cy="4236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Объект 2" descr=""/>
          <p:cNvPicPr/>
          <p:nvPr/>
        </p:nvPicPr>
        <p:blipFill>
          <a:blip r:embed="rId1"/>
          <a:stretch/>
        </p:blipFill>
        <p:spPr>
          <a:xfrm>
            <a:off x="2268360" y="836640"/>
            <a:ext cx="6264360" cy="5095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" descr="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0080" y="476280"/>
            <a:ext cx="701028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dd78b"/>
                </a:solidFill>
                <a:latin typeface="Times New Roman"/>
              </a:rPr>
              <a:t>СОРОКИ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692360" y="2276280"/>
            <a:ext cx="698328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Arial"/>
              </a:rPr>
              <a:t>Это весенний народный праздник, который отмечают 22 марта.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0080" y="476280"/>
            <a:ext cx="701028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dd78b"/>
                </a:solidFill>
                <a:latin typeface="Times New Roman"/>
              </a:rPr>
              <a:t>СОРОКИ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360440" y="1412640"/>
            <a:ext cx="7315200" cy="48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На Руси считали, что в этот день из тёплых стран возвращаются первые птицы, кулики и жаворонки, приносят с собой весну и ищут себе места для гнезд.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Жаворонков, которые прилетали в этот день, называли "путёвые". Бывало, что жаворонки раньше прилетали, когда ещё холодно, нет корма и можно замерзнуть, те «непутёвые».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0080" y="476280"/>
            <a:ext cx="701028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dd78b"/>
                </a:solidFill>
                <a:latin typeface="Times New Roman"/>
              </a:rPr>
              <a:t>СОРОКИ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692360" y="1483920"/>
            <a:ext cx="698328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Накануне Сороков хозяйки замешивали тесто и пекли из него «жаворонков» - булочки в виде летящих птиц с хохолками.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Их раздавали детям, а те печёных птичек прикрепляли к длинным палкам и с криками и звонким смехом выбегали с ними на пригорки «закликать» жаворонков, а с ними и весну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2" descr=""/>
          <p:cNvPicPr/>
          <p:nvPr/>
        </p:nvPicPr>
        <p:blipFill>
          <a:blip r:embed="rId1"/>
          <a:stretch/>
        </p:blipFill>
        <p:spPr>
          <a:xfrm>
            <a:off x="-30240" y="333360"/>
            <a:ext cx="9174240" cy="6114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1" descr=""/>
          <p:cNvPicPr/>
          <p:nvPr/>
        </p:nvPicPr>
        <p:blipFill>
          <a:blip r:embed="rId1"/>
          <a:stretch/>
        </p:blipFill>
        <p:spPr>
          <a:xfrm>
            <a:off x="250920" y="0"/>
            <a:ext cx="8605800" cy="6853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1" descr=""/>
          <p:cNvPicPr/>
          <p:nvPr/>
        </p:nvPicPr>
        <p:blipFill>
          <a:blip r:embed="rId1"/>
          <a:stretch/>
        </p:blipFill>
        <p:spPr>
          <a:xfrm>
            <a:off x="250920" y="0"/>
            <a:ext cx="8605800" cy="685332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2411280" y="260280"/>
            <a:ext cx="525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й, кулики, жавороночки!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летите к нам, принесите нам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сну красную, лето теплое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несите от нас зиму холодную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68724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</a:rPr>
              <a:t>Весенние приметы</a:t>
            </a:r>
            <a:endParaRPr b="0" lang="en-US" sz="6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898560" y="1676520"/>
            <a:ext cx="7772400" cy="49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есной солнце ярче и выше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есной тает снег 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а деревьях и кустарниках набухают почки 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а проталинах зацвели первоцветы 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осыпаются насекомые 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 юга вернулись птицы и принялись вить гнезда 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икие животные сменили зимний мех 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dd78b"/>
                </a:solidFill>
                <a:latin typeface="Times New Roman"/>
              </a:rPr>
              <a:t>Весенние цветы</a:t>
            </a:r>
            <a:endParaRPr b="0" lang="en-US" sz="7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87280" y="1557000"/>
            <a:ext cx="456876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Arial"/>
              </a:rPr>
              <a:t>Подснежник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Arial"/>
              </a:rPr>
              <a:t>Фиалка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Arial"/>
              </a:rPr>
              <a:t>Ветреница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Arial"/>
              </a:rPr>
              <a:t>Мать-и-мачеха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Arial"/>
              </a:rPr>
              <a:t>Золотой ключик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Arial"/>
              </a:rPr>
              <a:t>Одуванчик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Arial"/>
              </a:rPr>
              <a:t>Ландыш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99" name="Рисунок 1" descr=""/>
          <p:cNvPicPr/>
          <p:nvPr/>
        </p:nvPicPr>
        <p:blipFill>
          <a:blip r:embed="rId1"/>
          <a:stretch/>
        </p:blipFill>
        <p:spPr>
          <a:xfrm>
            <a:off x="2173320" y="692280"/>
            <a:ext cx="6165720" cy="5905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" descr=""/>
          <p:cNvPicPr/>
          <p:nvPr/>
        </p:nvPicPr>
        <p:blipFill>
          <a:blip r:embed="rId1"/>
          <a:stretch/>
        </p:blipFill>
        <p:spPr>
          <a:xfrm>
            <a:off x="2268360" y="836640"/>
            <a:ext cx="6102360" cy="5692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"/>
          <p:cNvPicPr/>
          <p:nvPr/>
        </p:nvPicPr>
        <p:blipFill>
          <a:blip r:embed="rId1"/>
          <a:stretch/>
        </p:blipFill>
        <p:spPr>
          <a:xfrm>
            <a:off x="2411280" y="1052640"/>
            <a:ext cx="5992920" cy="5394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"/>
          <p:cNvPicPr/>
          <p:nvPr/>
        </p:nvPicPr>
        <p:blipFill>
          <a:blip r:embed="rId1"/>
          <a:stretch/>
        </p:blipFill>
        <p:spPr>
          <a:xfrm>
            <a:off x="2340000" y="1052640"/>
            <a:ext cx="6127560" cy="5329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1T11:04:09Z</dcterms:created>
  <dc:creator>Class305b</dc:creator>
  <dc:description/>
  <dc:language>en-US</dc:language>
  <cp:lastModifiedBy>RePack by Diakov</cp:lastModifiedBy>
  <dcterms:modified xsi:type="dcterms:W3CDTF">2023-06-25T13:41:17Z</dcterms:modified>
  <cp:revision>61</cp:revision>
  <dc:subject/>
  <dc:title>ВЕСНА В ЛЕСУ</dc:title>
</cp:coreProperties>
</file>