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8.png" ContentType="image/png"/>
  <Override PartName="/ppt/media/image5.png" ContentType="image/png"/>
  <Override PartName="/ppt/media/image29.jpeg" ContentType="image/jpeg"/>
  <Override PartName="/ppt/media/image27.jpeg" ContentType="image/jpe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6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C46-2A04-4E95-B96D-290E39A8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1B8-D8A6-4BAF-9241-BA26C63A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1E5-829E-4914-88EC-E7DFB835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2D7-B25C-4105-97A3-E8471621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DC48-5F95-4618-B953-30C6373A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105C-F985-484F-A9EA-027A55AA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BFBA-E86D-45F8-86CA-9534259F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AE75-289C-4CA0-80F5-4023FC02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89FA-D791-4022-AAB8-2B7527B6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C01F-297B-40A6-8DCA-040AA12E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861D-CFE6-4493-8BE7-49132D51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8947-FCDB-47D9-BE66-212A1188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7781-3D0B-4B36-9C46-74594681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3502-2046-4E9E-8E41-8064BDA5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52D2-B604-4306-9F2D-CE8E8722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0B13-B282-45AF-A86D-36D04C02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D7A7-7222-4E8F-ABB4-20CAEB9C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29AD-45CF-453C-9E62-1FC9A464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B7B8-B579-4D56-95FF-81CAD6E3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233-B04F-49C6-BFD9-E5C1D094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449A-87A0-4771-9DFF-FDD65829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B71D-4432-44EA-BE8B-A782DE43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1018-FA57-45AE-B71F-1DD3B70F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D03F-2604-426F-8BA9-B2DE97EC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1CF3-425E-4686-9378-402CD0CE61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389A-2151-4472-BFE9-E19C5BF139C6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23640" y="1773360"/>
            <a:ext cx="6193080" cy="27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3dd78b"/>
                </a:solidFill>
                <a:latin typeface="Times New Roman"/>
              </a:rPr>
              <a:t>ПРИРОДА ВЕСНОЙ</a:t>
            </a:r>
            <a:endParaRPr b="0" lang="en-US" sz="88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4" name="Объект 1" descr=""/>
          <p:cNvPicPr/>
          <p:nvPr/>
        </p:nvPicPr>
        <p:blipFill>
          <a:blip r:embed="rId1"/>
          <a:stretch/>
        </p:blipFill>
        <p:spPr>
          <a:xfrm>
            <a:off x="2405160" y="333360"/>
            <a:ext cx="5854680" cy="6348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32320" y="167652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"/>
          <p:cNvPicPr/>
          <p:nvPr/>
        </p:nvPicPr>
        <p:blipFill>
          <a:blip r:embed="rId1"/>
          <a:stretch/>
        </p:blipFill>
        <p:spPr>
          <a:xfrm>
            <a:off x="2195640" y="981000"/>
            <a:ext cx="6453000" cy="5353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636588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dd78b"/>
                </a:solidFill>
                <a:latin typeface="Times New Roman"/>
              </a:rPr>
              <a:t>Перелетные птицы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11280" y="2060640"/>
            <a:ext cx="262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Соловей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Вьюрок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Грач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Дрозд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Чибис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Иволг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Кукушк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Ласточк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24000" y="2060640"/>
            <a:ext cx="284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Лебедь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Перепелк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Скворец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Чайк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Трясогузк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Аист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Кулик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Жаворонок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2" descr=""/>
          <p:cNvPicPr/>
          <p:nvPr/>
        </p:nvPicPr>
        <p:blipFill>
          <a:blip r:embed="rId1"/>
          <a:stretch/>
        </p:blipFill>
        <p:spPr>
          <a:xfrm>
            <a:off x="2124000" y="836640"/>
            <a:ext cx="6408720" cy="5519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6336000" cy="5731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3203640" y="549360"/>
            <a:ext cx="4537080" cy="613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6697800" cy="4297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3059280" y="352440"/>
            <a:ext cx="457344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6264360" cy="5268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1" descr=""/>
          <p:cNvPicPr/>
          <p:nvPr/>
        </p:nvPicPr>
        <p:blipFill>
          <a:blip r:embed="rId1"/>
          <a:stretch/>
        </p:blipFill>
        <p:spPr>
          <a:xfrm>
            <a:off x="3348000" y="692280"/>
            <a:ext cx="3656160" cy="6094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632952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" descr=""/>
          <p:cNvPicPr/>
          <p:nvPr/>
        </p:nvPicPr>
        <p:blipFill>
          <a:blip r:embed="rId1"/>
          <a:stretch/>
        </p:blipFill>
        <p:spPr>
          <a:xfrm>
            <a:off x="2195640" y="907920"/>
            <a:ext cx="6121440" cy="5375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660888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6324840" cy="4824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2124000" y="836640"/>
            <a:ext cx="6624720" cy="5599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"/>
          <p:cNvPicPr/>
          <p:nvPr/>
        </p:nvPicPr>
        <p:blipFill>
          <a:blip r:embed="rId1"/>
          <a:stretch/>
        </p:blipFill>
        <p:spPr>
          <a:xfrm>
            <a:off x="3419640" y="404640"/>
            <a:ext cx="3990960" cy="619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908000" y="5157720"/>
            <a:ext cx="6561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8db3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a2c"/>
                </a:solidFill>
                <a:latin typeface="Calibri"/>
              </a:rPr>
              <a:t>кулик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1908000" y="920880"/>
            <a:ext cx="6561360" cy="4236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Объект 2" descr=""/>
          <p:cNvPicPr/>
          <p:nvPr/>
        </p:nvPicPr>
        <p:blipFill>
          <a:blip r:embed="rId1"/>
          <a:stretch/>
        </p:blipFill>
        <p:spPr>
          <a:xfrm>
            <a:off x="2268360" y="836640"/>
            <a:ext cx="6264360" cy="5095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0080" y="476280"/>
            <a:ext cx="70102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dd78b"/>
                </a:solidFill>
                <a:latin typeface="Times New Roman"/>
              </a:rPr>
              <a:t>СОРОКИ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692360" y="2276280"/>
            <a:ext cx="698328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Это весенний народный праздник, который отмечают 22 марта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0080" y="476280"/>
            <a:ext cx="70102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dd78b"/>
                </a:solidFill>
                <a:latin typeface="Times New Roman"/>
              </a:rPr>
              <a:t>СОРОКИ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360440" y="1412640"/>
            <a:ext cx="731520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На Руси считали, что в этот день из тёплых стран возвращаются первые птицы, кулики и жаворонки, приносят с собой весну и ищут себе места для гнезд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Жаворонков, которые прилетали в этот день, называли "путёвые". Бывало, что жаворонки раньше прилетали, когда ещё холодно, нет корма и можно замерзнуть, те «непутёвые»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0080" y="476280"/>
            <a:ext cx="70102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dd78b"/>
                </a:solidFill>
                <a:latin typeface="Times New Roman"/>
              </a:rPr>
              <a:t>СОРОКИ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692360" y="148392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Накануне Сороков хозяйки замешивали тесто и пекли из него «жаворонков» - булочки в виде летящих птиц с хохолками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Их раздавали детям, а те печёных птичек прикрепляли к длинным палкам и с криками и звонким смехом выбегали с ними на пригорки «закликать» жаворонков, а с ними и весну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2" descr=""/>
          <p:cNvPicPr/>
          <p:nvPr/>
        </p:nvPicPr>
        <p:blipFill>
          <a:blip r:embed="rId1"/>
          <a:stretch/>
        </p:blipFill>
        <p:spPr>
          <a:xfrm>
            <a:off x="-30240" y="333360"/>
            <a:ext cx="9174240" cy="6114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"/>
          <p:cNvPicPr/>
          <p:nvPr/>
        </p:nvPicPr>
        <p:blipFill>
          <a:blip r:embed="rId1"/>
          <a:stretch/>
        </p:blipFill>
        <p:spPr>
          <a:xfrm>
            <a:off x="250920" y="0"/>
            <a:ext cx="8605800" cy="6853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"/>
          <p:cNvPicPr/>
          <p:nvPr/>
        </p:nvPicPr>
        <p:blipFill>
          <a:blip r:embed="rId1"/>
          <a:stretch/>
        </p:blipFill>
        <p:spPr>
          <a:xfrm>
            <a:off x="250920" y="0"/>
            <a:ext cx="8605800" cy="68533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2411280" y="26028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й, кулики, жавороночки!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летите к нам, принесите нам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сну красную, лето теплое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несите от нас зиму холодную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68724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</a:rPr>
              <a:t>Весенние приметы</a:t>
            </a:r>
            <a:endParaRPr b="0" lang="en-US" sz="6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898560" y="1676520"/>
            <a:ext cx="777240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есной солнце ярче и выше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есной тает снег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 деревьях и кустарниках набухают почки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 проталинах зацвели первоцветы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осыпаются насекомые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 юга вернулись птицы и принялись вить гнезда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икие животные сменили зимний мех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dd78b"/>
                </a:solidFill>
                <a:latin typeface="Times New Roman"/>
              </a:rPr>
              <a:t>Весенние цветы</a:t>
            </a:r>
            <a:endParaRPr b="0" lang="en-US" sz="7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87280" y="1557000"/>
            <a:ext cx="456876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Подснежник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Фиалка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Ветреница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Мать-и-мачеха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Золотой ключик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Одуванчик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Ландыш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2173320" y="692280"/>
            <a:ext cx="616572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2268360" y="836640"/>
            <a:ext cx="6102360" cy="5692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2411280" y="1052640"/>
            <a:ext cx="5992920" cy="5394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2340000" y="1052640"/>
            <a:ext cx="6127560" cy="5329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1T11:04:09Z</dcterms:created>
  <dc:creator>Class305b</dc:creator>
  <dc:description/>
  <dc:language>en-US</dc:language>
  <cp:lastModifiedBy>RePack by Diakov</cp:lastModifiedBy>
  <dcterms:modified xsi:type="dcterms:W3CDTF">2023-06-25T13:41:17Z</dcterms:modified>
  <cp:revision>61</cp:revision>
  <dc:subject/>
  <dc:title>ВЕСНА В ЛЕСУ</dc:title>
</cp:coreProperties>
</file>