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15C-B335-4471-8EF0-9250BAC4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107-1348-493C-B3C6-D905E3F5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790-8562-49CB-B6FB-E729DACC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02D-62B7-4482-A1A3-1213B5CD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C549-3643-4639-A678-CD0A5770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A2B1-F264-4748-8C1E-39149050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F987-5A5C-463E-AD58-B0B7C08B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B8AB-6DF2-4DE0-A2AC-99BC0584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EA33-524E-45C6-9926-2555512D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601C-7FAF-489E-A86F-5430F41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46EC-9B95-407C-84A8-7C21CB02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BBD-73F7-499F-9707-38EF8976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201A-D81E-4570-86E6-88278214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ECE8-E0C3-41FC-A184-FED4D9E5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1FAC-BCBB-4FD0-843D-3E132F75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0104-A044-4B6B-9198-E94A0697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58BE-AA3E-4935-97C5-C126CCFB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725-2F04-4E34-8161-629BFB04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5A3-510F-4089-9B64-5253D77C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224-13E5-4F38-AD6A-C0E4DF74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85C-37F1-4501-8405-DAD64088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5A7-858B-45CC-BDD3-5B90DF33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AFE-BC77-4397-AD6C-7D9C4279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238-7A66-44EB-A378-61C41423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424D-EF44-4A22-AC8D-8323DA5932AE}" type="slidenum">
              <a:rPr b="1" lang="ru-RU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41DF-90B5-4608-98AF-CC25798770E2}" type="slidenum">
              <a:rPr b="1" lang="ru-RU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40080" y="4227120"/>
            <a:ext cx="4903920" cy="24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0560" y="602280"/>
            <a:ext cx="8053560" cy="20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ый выбор профессии – залог жизненного успеха» </a:t>
            </a:r>
            <a:br>
              <a:rPr sz="2000"/>
            </a:br>
            <a:br>
              <a:rPr sz="4000"/>
            </a:br>
            <a:br>
              <a:rPr sz="48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670040" y="3060720"/>
            <a:ext cx="5565960" cy="3697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240080" y="4227120"/>
            <a:ext cx="4903920" cy="24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0560" y="602280"/>
            <a:ext cx="8053560" cy="20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Если человек знает, к какой пристани он держит путь, для него ни один ветер не будет попутным</a:t>
            </a:r>
            <a:br>
              <a:rPr sz="4000"/>
            </a:br>
            <a:br>
              <a:rPr sz="2000"/>
            </a:br>
            <a:br>
              <a:rPr sz="4000"/>
            </a:br>
            <a:br>
              <a:rPr sz="48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339920" y="2763720"/>
            <a:ext cx="7459560" cy="409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240080" y="4227120"/>
            <a:ext cx="4903920" cy="24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2040" y="1568880"/>
            <a:ext cx="7050600" cy="450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lnSpc>
                <a:spcPct val="9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-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чва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рка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арля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таквао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тарина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егдлоп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лтсиок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юрси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гиноолк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хкоудн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4000"/>
            </a:b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4559400" y="1087560"/>
            <a:ext cx="4398840" cy="3697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64920" y="679680"/>
            <a:ext cx="809100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кетирование 6а клас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Объект 2" descr=""/>
          <p:cNvPicPr/>
          <p:nvPr/>
        </p:nvPicPr>
        <p:blipFill>
          <a:blip r:embed="rId1"/>
          <a:stretch/>
        </p:blipFill>
        <p:spPr>
          <a:xfrm>
            <a:off x="787320" y="2311560"/>
            <a:ext cx="7794720" cy="3825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64920" y="679680"/>
            <a:ext cx="809100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бимый предм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Объект 5" descr=""/>
          <p:cNvPicPr/>
          <p:nvPr/>
        </p:nvPicPr>
        <p:blipFill>
          <a:blip r:embed="rId1"/>
          <a:stretch/>
        </p:blipFill>
        <p:spPr>
          <a:xfrm>
            <a:off x="787320" y="2311560"/>
            <a:ext cx="7794720" cy="3825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ем ты хочешь стать в будущем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62040" y="2319480"/>
            <a:ext cx="39463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дитер – 1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раммист – 1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ьер – 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ач – 1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путат – 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 –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ьнобойщик – 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зайнер –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женер – 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верситета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это вопрос вторичный (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492800" y="2252520"/>
            <a:ext cx="4651200" cy="4426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03160" y="293400"/>
            <a:ext cx="78418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ги к будущей професс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15"/>
          <p:cNvSpPr/>
          <p:nvPr/>
        </p:nvSpPr>
        <p:spPr>
          <a:xfrm>
            <a:off x="2997360" y="2019240"/>
            <a:ext cx="2724120" cy="1158840"/>
          </a:xfrm>
          <a:prstGeom prst="ellipse">
            <a:avLst/>
          </a:prstGeom>
          <a:solidFill>
            <a:srgbClr val="00aca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У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15"/>
          <p:cNvSpPr/>
          <p:nvPr/>
        </p:nvSpPr>
        <p:spPr>
          <a:xfrm>
            <a:off x="2770200" y="4532400"/>
            <a:ext cx="3895560" cy="1292040"/>
          </a:xfrm>
          <a:prstGeom prst="ellipse">
            <a:avLst/>
          </a:prstGeom>
          <a:solidFill>
            <a:srgbClr val="00aca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полн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Прямая со стрелкой 2"/>
          <p:cNvCxnSpPr/>
          <p:nvPr/>
        </p:nvCxnSpPr>
        <p:spPr>
          <a:xfrm flipH="1" flipV="1">
            <a:off x="1355760" y="4531680"/>
            <a:ext cx="1271880" cy="21348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cxnSp>
        <p:nvCxnSpPr>
          <p:cNvPr id="115" name="Прямая со стрелкой 14"/>
          <p:cNvCxnSpPr/>
          <p:nvPr/>
        </p:nvCxnSpPr>
        <p:spPr>
          <a:xfrm flipH="1">
            <a:off x="1236240" y="5245200"/>
            <a:ext cx="1391040" cy="14976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cxnSp>
        <p:nvCxnSpPr>
          <p:cNvPr id="116" name="Прямая со стрелкой 18"/>
          <p:cNvCxnSpPr/>
          <p:nvPr/>
        </p:nvCxnSpPr>
        <p:spPr>
          <a:xfrm flipH="1">
            <a:off x="2093400" y="5711400"/>
            <a:ext cx="1113840" cy="45180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cxnSp>
        <p:nvCxnSpPr>
          <p:cNvPr id="117" name="Прямая со стрелкой 20"/>
          <p:cNvCxnSpPr/>
          <p:nvPr/>
        </p:nvCxnSpPr>
        <p:spPr>
          <a:xfrm>
            <a:off x="6808680" y="5457960"/>
            <a:ext cx="1099440" cy="36720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cxnSp>
        <p:nvCxnSpPr>
          <p:cNvPr id="118" name="Прямая со стрелкой 24"/>
          <p:cNvCxnSpPr/>
          <p:nvPr/>
        </p:nvCxnSpPr>
        <p:spPr>
          <a:xfrm>
            <a:off x="5991120" y="5711400"/>
            <a:ext cx="550080" cy="45180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cxnSp>
        <p:nvCxnSpPr>
          <p:cNvPr id="119" name="Прямая со стрелкой 26"/>
          <p:cNvCxnSpPr/>
          <p:nvPr/>
        </p:nvCxnSpPr>
        <p:spPr>
          <a:xfrm flipV="1">
            <a:off x="6665760" y="4638240"/>
            <a:ext cx="1099440" cy="9144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sp>
        <p:nvSpPr>
          <p:cNvPr id="120" name="Овал 12"/>
          <p:cNvSpPr/>
          <p:nvPr/>
        </p:nvSpPr>
        <p:spPr>
          <a:xfrm>
            <a:off x="173160" y="4294080"/>
            <a:ext cx="132372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Д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Овал 29"/>
          <p:cNvSpPr/>
          <p:nvPr/>
        </p:nvSpPr>
        <p:spPr>
          <a:xfrm>
            <a:off x="77760" y="5394240"/>
            <a:ext cx="147636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М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Овал 30"/>
          <p:cNvSpPr/>
          <p:nvPr/>
        </p:nvSpPr>
        <p:spPr>
          <a:xfrm>
            <a:off x="1255680" y="6168960"/>
            <a:ext cx="132552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Х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Овал 31"/>
          <p:cNvSpPr/>
          <p:nvPr/>
        </p:nvSpPr>
        <p:spPr>
          <a:xfrm>
            <a:off x="5910120" y="6168960"/>
            <a:ext cx="171000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ЮС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Овал 32"/>
          <p:cNvSpPr/>
          <p:nvPr/>
        </p:nvSpPr>
        <p:spPr>
          <a:xfrm>
            <a:off x="7358040" y="4371840"/>
            <a:ext cx="178596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с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Овал 33"/>
          <p:cNvSpPr/>
          <p:nvPr/>
        </p:nvSpPr>
        <p:spPr>
          <a:xfrm>
            <a:off x="7358040" y="5711760"/>
            <a:ext cx="173196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нтр Тур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Овал 34"/>
          <p:cNvSpPr/>
          <p:nvPr/>
        </p:nvSpPr>
        <p:spPr>
          <a:xfrm>
            <a:off x="3443400" y="6235560"/>
            <a:ext cx="186984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К «Горня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" name="Прямая со стрелкой 35"/>
          <p:cNvCxnSpPr/>
          <p:nvPr/>
        </p:nvCxnSpPr>
        <p:spPr>
          <a:xfrm flipH="1">
            <a:off x="4496760" y="5843160"/>
            <a:ext cx="1080" cy="45180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sp>
        <p:nvSpPr>
          <p:cNvPr id="128" name="Овал 16"/>
          <p:cNvSpPr/>
          <p:nvPr/>
        </p:nvSpPr>
        <p:spPr>
          <a:xfrm>
            <a:off x="1884240" y="2886120"/>
            <a:ext cx="155916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Овал 44"/>
          <p:cNvSpPr/>
          <p:nvPr/>
        </p:nvSpPr>
        <p:spPr>
          <a:xfrm>
            <a:off x="5910120" y="2762280"/>
            <a:ext cx="159084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Балас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Овал 45"/>
          <p:cNvSpPr/>
          <p:nvPr/>
        </p:nvSpPr>
        <p:spPr>
          <a:xfrm>
            <a:off x="596880" y="3544920"/>
            <a:ext cx="240048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Астронав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46"/>
          <p:cNvSpPr/>
          <p:nvPr/>
        </p:nvSpPr>
        <p:spPr>
          <a:xfrm>
            <a:off x="6062760" y="3351240"/>
            <a:ext cx="184464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Шахм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47"/>
          <p:cNvSpPr/>
          <p:nvPr/>
        </p:nvSpPr>
        <p:spPr>
          <a:xfrm>
            <a:off x="1892160" y="4130640"/>
            <a:ext cx="155124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Робототех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48"/>
          <p:cNvSpPr/>
          <p:nvPr/>
        </p:nvSpPr>
        <p:spPr>
          <a:xfrm>
            <a:off x="5991120" y="4021200"/>
            <a:ext cx="177336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Лид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49"/>
          <p:cNvSpPr/>
          <p:nvPr/>
        </p:nvSpPr>
        <p:spPr>
          <a:xfrm>
            <a:off x="77760" y="3040200"/>
            <a:ext cx="1914480" cy="57132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Гимна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Овал 50"/>
          <p:cNvSpPr/>
          <p:nvPr/>
        </p:nvSpPr>
        <p:spPr>
          <a:xfrm>
            <a:off x="7500960" y="3728880"/>
            <a:ext cx="158904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Краеве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Овал 51"/>
          <p:cNvSpPr/>
          <p:nvPr/>
        </p:nvSpPr>
        <p:spPr>
          <a:xfrm>
            <a:off x="7667640" y="3040200"/>
            <a:ext cx="1476360" cy="58392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Рад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23"/>
          <p:cNvSpPr/>
          <p:nvPr/>
        </p:nvSpPr>
        <p:spPr>
          <a:xfrm>
            <a:off x="3100320" y="3325680"/>
            <a:ext cx="3027600" cy="1206720"/>
          </a:xfrm>
          <a:prstGeom prst="ellipse">
            <a:avLst/>
          </a:prstGeom>
          <a:solidFill>
            <a:srgbClr val="00aca8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шко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Овал 25"/>
          <p:cNvSpPr/>
          <p:nvPr/>
        </p:nvSpPr>
        <p:spPr>
          <a:xfrm>
            <a:off x="2770200" y="874800"/>
            <a:ext cx="3373560" cy="1144440"/>
          </a:xfrm>
          <a:prstGeom prst="ellipse">
            <a:avLst/>
          </a:prstGeom>
          <a:solidFill>
            <a:srgbClr val="00aca8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78040" y="1197360"/>
            <a:ext cx="7552440" cy="256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 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6:25:13Z</dcterms:created>
  <dc:creator>студент305</dc:creator>
  <dc:description/>
  <dc:language>en-US</dc:language>
  <cp:lastModifiedBy>2-comp</cp:lastModifiedBy>
  <dcterms:modified xsi:type="dcterms:W3CDTF">2020-01-22T06:38:56Z</dcterms:modified>
  <cp:revision>61</cp:revision>
  <dc:subject/>
  <dc:title>Как Выбрать профессию?</dc:title>
</cp:coreProperties>
</file>