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E3B-A9EE-42B1-9762-2A23CC90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44B-2FB6-4E07-ABAD-DF9D0E0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B3F-ABA0-477D-9BB8-31CC366E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3BE-773C-4A0E-8D83-00C8917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E996-24FA-4D3A-9AA3-9AFC9E57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50A-793A-4ACD-AFA9-4344EA2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5D34-9A2C-4759-B1CE-BD6A785B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861-64D0-4FEC-BD10-28F231A2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520-EF06-458C-B583-D4ADE19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3220-DF1A-49DC-AE8A-0183ACC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09A4-762A-43BE-9656-4CCD40D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AD7-97B0-4571-ADB0-4BD4E88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A0BB-00EB-478D-BA7A-11D4BD7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7143-42B8-4523-B4C0-5671CBD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61E4-FB2D-43BB-AD6F-62E2871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937-C5D9-4A4B-9BA7-26E0E037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4D79-7954-4F26-B9CC-DDEE6581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5C5-8355-405A-9832-6345A235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CAB-84CE-4A64-B14D-BCEB60C4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F94-CF9C-441C-8322-D3DE693C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AD9-6D21-43AE-A437-D8DA55E3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24A-4477-4697-98B7-7917EEE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09B-C888-4135-BEA5-EC9A5771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3D2-AB6D-44D9-942B-9EF4D28C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CEE-8736-40D9-83C6-CBEE1C2C3508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A80-D78D-491C-9D6B-23B939EF4847}" type="slidenum">
              <a:rPr b="1" lang="ru-RU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0560" y="602280"/>
            <a:ext cx="8053560" cy="20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 выбор профессии – залог жизненного успеха» </a:t>
            </a:r>
            <a:br>
              <a:rPr sz="2000"/>
            </a:br>
            <a:br>
              <a:rPr sz="4000"/>
            </a:br>
            <a:br>
              <a:rPr sz="48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670040" y="3060720"/>
            <a:ext cx="5565960" cy="3697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0560" y="602280"/>
            <a:ext cx="8053560" cy="20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Если человек знает, к какой пристани он держит путь, для него ни один ветер не будет попутным</a:t>
            </a:r>
            <a:br>
              <a:rPr sz="4000"/>
            </a:br>
            <a:br>
              <a:rPr sz="2000"/>
            </a:br>
            <a:br>
              <a:rPr sz="4000"/>
            </a:br>
            <a:br>
              <a:rPr sz="48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339920" y="2763720"/>
            <a:ext cx="7459560" cy="409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240080" y="4227120"/>
            <a:ext cx="4903920" cy="24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2040" y="1568880"/>
            <a:ext cx="7050600" cy="450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9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чв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рк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арля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таквао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арина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егдлоп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лтсиок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юрси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гиноолк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хкоудн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40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4559400" y="1087560"/>
            <a:ext cx="439884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64920" y="679680"/>
            <a:ext cx="809100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кетирование 6а клас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787320" y="2311560"/>
            <a:ext cx="7794720" cy="382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64920" y="679680"/>
            <a:ext cx="809100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бимый предм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Объект 5" descr=""/>
          <p:cNvPicPr/>
          <p:nvPr/>
        </p:nvPicPr>
        <p:blipFill>
          <a:blip r:embed="rId1"/>
          <a:stretch/>
        </p:blipFill>
        <p:spPr>
          <a:xfrm>
            <a:off x="787320" y="2311560"/>
            <a:ext cx="7794720" cy="382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ем ты хочешь стать в будущем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2040" y="2319480"/>
            <a:ext cx="39463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дитер – 1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ист – 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ьер – 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ач – 1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путат – 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 –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нобойщик –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зайнер –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женер –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верситета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7760" indent="-1677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это вопрос вторичный (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492800" y="2252520"/>
            <a:ext cx="4651200" cy="44262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03160" y="293400"/>
            <a:ext cx="7841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ги к будущей професс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115"/>
          <p:cNvSpPr/>
          <p:nvPr/>
        </p:nvSpPr>
        <p:spPr>
          <a:xfrm>
            <a:off x="2997360" y="2019240"/>
            <a:ext cx="2724120" cy="1158840"/>
          </a:xfrm>
          <a:prstGeom prst="ellipse">
            <a:avLst/>
          </a:prstGeom>
          <a:solidFill>
            <a:srgbClr val="00aca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У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15"/>
          <p:cNvSpPr/>
          <p:nvPr/>
        </p:nvSpPr>
        <p:spPr>
          <a:xfrm>
            <a:off x="2770200" y="4532400"/>
            <a:ext cx="3895560" cy="1292040"/>
          </a:xfrm>
          <a:prstGeom prst="ellipse">
            <a:avLst/>
          </a:prstGeom>
          <a:solidFill>
            <a:srgbClr val="00aca8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Прямая со стрелкой 2"/>
          <p:cNvCxnSpPr/>
          <p:nvPr/>
        </p:nvCxnSpPr>
        <p:spPr>
          <a:xfrm flipH="1" flipV="1">
            <a:off x="1355760" y="4531680"/>
            <a:ext cx="1271880" cy="21348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5" name="Прямая со стрелкой 14"/>
          <p:cNvCxnSpPr/>
          <p:nvPr/>
        </p:nvCxnSpPr>
        <p:spPr>
          <a:xfrm flipH="1">
            <a:off x="1236240" y="5245200"/>
            <a:ext cx="1391040" cy="14976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6" name="Прямая со стрелкой 18"/>
          <p:cNvCxnSpPr/>
          <p:nvPr/>
        </p:nvCxnSpPr>
        <p:spPr>
          <a:xfrm flipH="1">
            <a:off x="2093400" y="5711400"/>
            <a:ext cx="111384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7" name="Прямая со стрелкой 20"/>
          <p:cNvCxnSpPr/>
          <p:nvPr/>
        </p:nvCxnSpPr>
        <p:spPr>
          <a:xfrm>
            <a:off x="6808680" y="5457960"/>
            <a:ext cx="1099440" cy="3672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8" name="Прямая со стрелкой 24"/>
          <p:cNvCxnSpPr/>
          <p:nvPr/>
        </p:nvCxnSpPr>
        <p:spPr>
          <a:xfrm>
            <a:off x="5991120" y="5711400"/>
            <a:ext cx="55008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cxnSp>
        <p:nvCxnSpPr>
          <p:cNvPr id="119" name="Прямая со стрелкой 26"/>
          <p:cNvCxnSpPr/>
          <p:nvPr/>
        </p:nvCxnSpPr>
        <p:spPr>
          <a:xfrm flipV="1">
            <a:off x="6665760" y="4638240"/>
            <a:ext cx="1099440" cy="9144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sp>
        <p:nvSpPr>
          <p:cNvPr id="120" name="Овал 12"/>
          <p:cNvSpPr/>
          <p:nvPr/>
        </p:nvSpPr>
        <p:spPr>
          <a:xfrm>
            <a:off x="173160" y="4294080"/>
            <a:ext cx="132372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Д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29"/>
          <p:cNvSpPr/>
          <p:nvPr/>
        </p:nvSpPr>
        <p:spPr>
          <a:xfrm>
            <a:off x="77760" y="5394240"/>
            <a:ext cx="14763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М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0"/>
          <p:cNvSpPr/>
          <p:nvPr/>
        </p:nvSpPr>
        <p:spPr>
          <a:xfrm>
            <a:off x="1255680" y="6168960"/>
            <a:ext cx="132552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Х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1"/>
          <p:cNvSpPr/>
          <p:nvPr/>
        </p:nvSpPr>
        <p:spPr>
          <a:xfrm>
            <a:off x="5910120" y="6168960"/>
            <a:ext cx="171000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ЮС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32"/>
          <p:cNvSpPr/>
          <p:nvPr/>
        </p:nvSpPr>
        <p:spPr>
          <a:xfrm>
            <a:off x="7358040" y="4371840"/>
            <a:ext cx="17859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с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33"/>
          <p:cNvSpPr/>
          <p:nvPr/>
        </p:nvSpPr>
        <p:spPr>
          <a:xfrm>
            <a:off x="7358040" y="5711760"/>
            <a:ext cx="173196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нтр Тур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34"/>
          <p:cNvSpPr/>
          <p:nvPr/>
        </p:nvSpPr>
        <p:spPr>
          <a:xfrm>
            <a:off x="3443400" y="6235560"/>
            <a:ext cx="1869840" cy="62244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К «Горня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Прямая со стрелкой 35"/>
          <p:cNvCxnSpPr/>
          <p:nvPr/>
        </p:nvCxnSpPr>
        <p:spPr>
          <a:xfrm flipH="1">
            <a:off x="4496760" y="5843160"/>
            <a:ext cx="1080" cy="451800"/>
          </a:xfrm>
          <a:prstGeom prst="straightConnector1">
            <a:avLst/>
          </a:prstGeom>
          <a:ln w="9360">
            <a:solidFill>
              <a:srgbClr val="fdc960"/>
            </a:solidFill>
            <a:miter/>
            <a:tailEnd len="med" type="arrow" w="med"/>
          </a:ln>
        </p:spPr>
      </p:cxnSp>
      <p:sp>
        <p:nvSpPr>
          <p:cNvPr id="128" name="Овал 16"/>
          <p:cNvSpPr/>
          <p:nvPr/>
        </p:nvSpPr>
        <p:spPr>
          <a:xfrm>
            <a:off x="1884240" y="2886120"/>
            <a:ext cx="155916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вал 44"/>
          <p:cNvSpPr/>
          <p:nvPr/>
        </p:nvSpPr>
        <p:spPr>
          <a:xfrm>
            <a:off x="5910120" y="2762280"/>
            <a:ext cx="15908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Балас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45"/>
          <p:cNvSpPr/>
          <p:nvPr/>
        </p:nvSpPr>
        <p:spPr>
          <a:xfrm>
            <a:off x="596880" y="3544920"/>
            <a:ext cx="240048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Астронав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46"/>
          <p:cNvSpPr/>
          <p:nvPr/>
        </p:nvSpPr>
        <p:spPr>
          <a:xfrm>
            <a:off x="6062760" y="3351240"/>
            <a:ext cx="18446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Шахм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47"/>
          <p:cNvSpPr/>
          <p:nvPr/>
        </p:nvSpPr>
        <p:spPr>
          <a:xfrm>
            <a:off x="1892160" y="4130640"/>
            <a:ext cx="15512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Робототех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48"/>
          <p:cNvSpPr/>
          <p:nvPr/>
        </p:nvSpPr>
        <p:spPr>
          <a:xfrm>
            <a:off x="5991120" y="4021200"/>
            <a:ext cx="177336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Лид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49"/>
          <p:cNvSpPr/>
          <p:nvPr/>
        </p:nvSpPr>
        <p:spPr>
          <a:xfrm>
            <a:off x="77760" y="3040200"/>
            <a:ext cx="1914480" cy="57132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Гимн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50"/>
          <p:cNvSpPr/>
          <p:nvPr/>
        </p:nvSpPr>
        <p:spPr>
          <a:xfrm>
            <a:off x="7500960" y="3728880"/>
            <a:ext cx="1589040" cy="58428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Краеве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Овал 51"/>
          <p:cNvSpPr/>
          <p:nvPr/>
        </p:nvSpPr>
        <p:spPr>
          <a:xfrm>
            <a:off x="7667640" y="3040200"/>
            <a:ext cx="1476360" cy="583920"/>
          </a:xfrm>
          <a:prstGeom prst="ellipse">
            <a:avLst/>
          </a:prstGeom>
          <a:solidFill>
            <a:srgbClr val="ff7c80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Arial"/>
              </a:rPr>
              <a:t>Рад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3100320" y="3325680"/>
            <a:ext cx="3027600" cy="1206720"/>
          </a:xfrm>
          <a:prstGeom prst="ellipse">
            <a:avLst/>
          </a:prstGeom>
          <a:solidFill>
            <a:srgbClr val="00aca8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шко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Овал 25"/>
          <p:cNvSpPr/>
          <p:nvPr/>
        </p:nvSpPr>
        <p:spPr>
          <a:xfrm>
            <a:off x="2770200" y="874800"/>
            <a:ext cx="3373560" cy="1144440"/>
          </a:xfrm>
          <a:prstGeom prst="ellipse">
            <a:avLst/>
          </a:prstGeom>
          <a:solidFill>
            <a:srgbClr val="00aca8"/>
          </a:solidFill>
          <a:ln w="25560">
            <a:solidFill>
              <a:srgbClr val="bc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78040" y="1197360"/>
            <a:ext cx="7552440" cy="256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 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6:25:13Z</dcterms:created>
  <dc:creator>студент305</dc:creator>
  <dc:description/>
  <dc:language>en-US</dc:language>
  <cp:lastModifiedBy>2-comp</cp:lastModifiedBy>
  <dcterms:modified xsi:type="dcterms:W3CDTF">2020-01-22T06:38:56Z</dcterms:modified>
  <cp:revision>61</cp:revision>
  <dc:subject/>
  <dc:title>Как Выбрать профессию?</dc:title>
</cp:coreProperties>
</file>