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2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43.jpeg" ContentType="image/jpeg"/>
  <Override PartName="/ppt/media/image5.png" ContentType="image/png"/>
  <Override PartName="/ppt/media/image35.jpeg" ContentType="image/jpeg"/>
  <Override PartName="/ppt/media/image37.jpeg" ContentType="image/jpeg"/>
  <Override PartName="/ppt/media/image36.png" ContentType="image/png"/>
  <Override PartName="/ppt/media/image40.png" ContentType="image/png"/>
  <Override PartName="/ppt/media/image41.png" ContentType="image/png"/>
  <Override PartName="/ppt/media/image48.png" ContentType="image/png"/>
  <Override PartName="/ppt/media/image11.png" ContentType="image/pn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9.png" ContentType="image/png"/>
  <Override PartName="/ppt/media/image12.jpeg" ContentType="image/jpeg"/>
  <Override PartName="/ppt/media/image4.png" ContentType="image/png"/>
  <Override PartName="/ppt/media/image34.png" ContentType="image/png"/>
  <Override PartName="/ppt/media/image7.png" ContentType="image/png"/>
  <Override PartName="/ppt/media/image44.png" ContentType="image/png"/>
  <Override PartName="/ppt/media/image13.jpeg" ContentType="image/jpe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32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F5A-C8C9-4933-A2DE-3DFB7B73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127-01CD-4D0B-89D9-E0D59D18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0719-6673-498B-A5ED-65C3D238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8D7-C845-470A-8C24-4D2019BF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C78C-9B66-4EF9-8C27-085F6918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51F7-9ADF-4581-B58A-625A97F2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18C7-982B-441D-AB51-564CE1FE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1A97-6A68-4347-9C12-7F449D4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7FEC-AB96-466E-922A-6F615DF1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F681-CAFE-4E48-B25B-B79BBA4B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CD75-46BC-4FD8-8C9B-EC6A5C24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8A1-0CBF-4C8F-AF36-45C04BF9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D4CE-33BE-4711-9133-8F781405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E379-89E5-4558-9DE7-D75BFBC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F7E7-1629-4051-A84A-80C10203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30BD-2D11-4141-90F4-F489C964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C2CE-2863-43DC-A010-10B8CD27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C4A5-B75D-4A9E-AE1D-DADAEE96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1E1A-C722-4FF4-A7DD-89A1B73D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7DF3-879A-4B62-9D56-957B5302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5E4F-62C4-4D7A-B487-009103C3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DA8F-AE87-489C-95E6-BFFDC9B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9B8-FBE4-4F27-AE5C-D00BD479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9C2E-81D7-428B-809F-EBE12EE5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B9342-A021-4EF5-9587-9365F0A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0291-161B-4713-BFEF-F0681C4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F545-A02D-421C-B4AF-BEA0B171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ADFFD-7988-481F-97A4-FF20160B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25411-E233-44C5-AD6C-590848A7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7B77-7853-4539-8477-7401023D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1ECE-825C-4435-A84A-3C4239D8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45DB-43DA-4959-9F5B-E3AB44B4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5D874-746C-4806-B5F4-88E1680F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6FE-6AD7-4064-ABC8-7F48C931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1CFF-686C-45DD-9C61-9201ED44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DE4F-DB36-4C4A-8B24-E5CFAEA2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1BCC8-B058-46F4-BDA1-F431CAF9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7619-FB13-4167-8448-28D589D1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4606-6A5B-4268-AE81-AAC6922F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3D1A-9A25-4C2E-9BC4-2341A804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0668-CF0A-4F3C-AEE0-1193A66F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63A1-6A3F-452D-A32B-46028E46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15952-70AE-4A6A-AB59-09E810C0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43E1-1E95-4507-B832-02E3CDE4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8ED-D0A6-409E-B5EE-09D22A8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0C58-E412-4D27-805F-73D651C6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D6336-4B55-44CF-B1BE-05CAEC2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9582-61FB-480E-B525-D9E9DC25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4E410-8147-44FC-BCB1-0DCC5245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25AC9-2520-40CD-8AE5-489693AA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C5028-43FB-4C2D-A52C-2F96CD82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DDAE-43BA-45A5-99E5-0E0CFC5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C071F-E874-4F21-893D-63C57795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2045-4014-4362-A4C6-78D0942F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AEADE-8A83-48E7-984F-BBD80D8F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12C-01F7-4A50-8370-E4455668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7BC55-2B53-42C5-8E00-9CDF9770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D9512-77C7-4095-A21D-9E34C6CA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09A7E-4C30-49C2-A4CD-4750C96B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D7223-B5CD-4DC8-A01F-EE5896B9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F5C4E-C35C-45F0-90D1-3CFF34F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9B325-6A8F-4CAC-8149-D4796AE1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92A4E-D34F-42DF-A7E3-F21A3C6A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5618D-5DDA-4914-9464-9CE769F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AE68D-2771-477D-8189-CE7C3594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79B64-8312-42A4-ADB8-29316D2A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3E1-8F46-447D-9E64-6E1B6F54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2CF8-7688-42A7-8A98-F5873BAD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E91B4-178F-4ACF-B4DC-00B4409C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B960E-135B-4216-A37C-A2636524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D1F-A817-42D7-B156-5A38379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174-ADD6-4D96-8324-CE24EAE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B8C5-B174-47FA-AF01-2E7D2303CB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FE5D-0DB1-4015-9AA5-BFD6516FB8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F694-0FF7-4FA8-870C-1D0988E8D1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80B-92FA-4D36-B50C-5BA6984829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8D20-6B2F-49DC-8CB1-A5DDC51655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4D54-F087-43DA-91B3-B3492B9D5E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78320" cy="37306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8" descr="D6747.jpg"/>
          <p:cNvPicPr/>
          <p:nvPr/>
        </p:nvPicPr>
        <p:blipFill>
          <a:blip r:embed="rId2"/>
          <a:stretch/>
        </p:blipFill>
        <p:spPr>
          <a:xfrm rot="21117600">
            <a:off x="442440" y="760320"/>
            <a:ext cx="350064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6840" y="1857240"/>
            <a:ext cx="4614840" cy="41436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е общайтесь с ребен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ощряйте его желание высказывать свою точку зрения, уважительно относитесь к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Заголовок 2" descr=""/>
          <p:cNvPicPr/>
          <p:nvPr/>
        </p:nvPicPr>
        <p:blipFill>
          <a:blip r:embed="rId1"/>
          <a:stretch/>
        </p:blipFill>
        <p:spPr>
          <a:xfrm>
            <a:off x="390600" y="212760"/>
            <a:ext cx="8362800" cy="13111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4" descr="8499e1aa980e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1785960"/>
            <a:ext cx="32860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28400" y="1642680"/>
            <a:ext cx="4143240" cy="47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йте с ребенком состав числа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8 – это 4 +4, 3+5, 2+6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 ориентироваться в числовом ряду (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соседи» числа 5 – это 4 и 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пространственно-временных представлений (верх-низ, раньше-позже, право-ле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Заголовок 2" descr=""/>
          <p:cNvPicPr/>
          <p:nvPr/>
        </p:nvPicPr>
        <p:blipFill>
          <a:blip r:embed="rId1"/>
          <a:stretch/>
        </p:blipFill>
        <p:spPr>
          <a:xfrm>
            <a:off x="365040" y="219240"/>
            <a:ext cx="8413920" cy="13284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3" descr="8-37_G8egDQh5WT.jpg"/>
          <p:cNvPicPr/>
          <p:nvPr/>
        </p:nvPicPr>
        <p:blipFill>
          <a:blip r:embed="rId2"/>
          <a:stretch/>
        </p:blipFill>
        <p:spPr>
          <a:xfrm>
            <a:off x="4786200" y="2571840"/>
            <a:ext cx="4000680" cy="38574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5" descr="sch_tr.gif"/>
          <p:cNvPicPr/>
          <p:nvPr/>
        </p:nvPicPr>
        <p:blipFill>
          <a:blip r:embed="rId3"/>
          <a:stretch/>
        </p:blipFill>
        <p:spPr>
          <a:xfrm>
            <a:off x="5500800" y="214200"/>
            <a:ext cx="2928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643040"/>
            <a:ext cx="4829040" cy="457200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Развивайте мелкую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торику ру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месте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суй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крашивайте (стараясь не залезать за границы рису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п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ирайте моза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62800" cy="127476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3" descr="shkola.jpg"/>
          <p:cNvPicPr/>
          <p:nvPr/>
        </p:nvPicPr>
        <p:blipFill>
          <a:blip r:embed="rId2"/>
          <a:stretch/>
        </p:blipFill>
        <p:spPr>
          <a:xfrm>
            <a:off x="5643720" y="1785960"/>
            <a:ext cx="3143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6840" y="1999800"/>
            <a:ext cx="8186760" cy="4286520"/>
          </a:xfrm>
          <a:prstGeom prst="rect">
            <a:avLst/>
          </a:prstGeom>
          <a:solidFill>
            <a:srgbClr val="cef8fe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редставления ребенка о звуках, слогах, словах и предложе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ложите ребенку назвать звук, с которого начинается слово. Именно звук, а не букву. В противном случае у детей возникают трудности при слиянии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омить с буквами желательно тогда, когда ребенок уже начнет читать по сл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того, что буквы и звуки – это вовсе не одно и то же, поможет ребенку в овладении пись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важно уметь делить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2794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3" descr="6.jpg"/>
          <p:cNvPicPr/>
          <p:nvPr/>
        </p:nvPicPr>
        <p:blipFill>
          <a:blip r:embed="rId2"/>
          <a:stretch/>
        </p:blipFill>
        <p:spPr>
          <a:xfrm>
            <a:off x="5572080" y="214200"/>
            <a:ext cx="25002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7120" y="1643040"/>
            <a:ext cx="4929120" cy="48578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При общении с ребенком называйте его друзей по и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Не критикуйте сверстников ребен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Если возникнет необходимость, лучше проанализировать сложную (иногда конфликтную) ситуацию вместе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Приглашайте друзей ребенка в гости, участвуйте в иг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3" descr="big5f1xo1.jpg"/>
          <p:cNvPicPr/>
          <p:nvPr/>
        </p:nvPicPr>
        <p:blipFill>
          <a:blip r:embed="rId2"/>
          <a:stretch/>
        </p:blipFill>
        <p:spPr>
          <a:xfrm rot="472800">
            <a:off x="5429160" y="2286000"/>
            <a:ext cx="3357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643040"/>
            <a:ext cx="4757760" cy="45720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овывайте с ребенком совмест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обсуждайте при нем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яйте ему правила общения с учителем и другими взрослыми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62800" cy="11462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ipoteca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429160" y="171468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57120" y="1785960"/>
            <a:ext cx="4857840" cy="4857840"/>
          </a:xfrm>
          <a:prstGeom prst="rect">
            <a:avLst/>
          </a:prstGeom>
          <a:solidFill>
            <a:srgbClr val="fce9b2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ывайте ребенку о правилах поведения в обществе и закрепляйте их своим приме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ажайте права ребенка, предъявляйте разумные требования, чаще отмечайте его хорошие поступки и успе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й и запретов не должно быть много, но те, что вы установили, должны соблюдать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членами семь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гда и в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я должны быть обоснованными и поня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Заголовок 2" descr=""/>
          <p:cNvPicPr/>
          <p:nvPr/>
        </p:nvPicPr>
        <p:blipFill>
          <a:blip r:embed="rId1"/>
          <a:stretch/>
        </p:blipFill>
        <p:spPr>
          <a:xfrm>
            <a:off x="646200" y="152280"/>
            <a:ext cx="7991280" cy="131148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6" descr="blackboard.gif"/>
          <p:cNvPicPr/>
          <p:nvPr/>
        </p:nvPicPr>
        <p:blipFill>
          <a:blip r:embed="rId2"/>
          <a:stretch/>
        </p:blipFill>
        <p:spPr>
          <a:xfrm>
            <a:off x="5429160" y="150012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6840" y="1571400"/>
            <a:ext cx="4543560" cy="471492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аучитесь понимать своего ребен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е забывайте, что у ребенка могут быть свои проблемы и свое мнени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е стоит торопить время, желая, чтобы ваш малыш повзросле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аучитесь радоваться каждому дню его детст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594640" cy="13050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5" descr="a1a595594bddt.jpg"/>
          <p:cNvPicPr/>
          <p:nvPr/>
        </p:nvPicPr>
        <p:blipFill>
          <a:blip r:embed="rId2"/>
          <a:stretch/>
        </p:blipFill>
        <p:spPr>
          <a:xfrm>
            <a:off x="5334120" y="2000160"/>
            <a:ext cx="35956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6840" y="2071800"/>
            <a:ext cx="5186520" cy="435744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забывайте о физических упражн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ренняя гимнастика должна стать привыч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йте музыку, под которую приятно потанцевать и порезв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ы на свежем воздухе, плаванье, лыжи, коньки, велосипед помогут будущему ученику окрепнуть и разовьют координацию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Заголовок 3" descr=""/>
          <p:cNvPicPr/>
          <p:nvPr/>
        </p:nvPicPr>
        <p:blipFill>
          <a:blip r:embed="rId1"/>
          <a:stretch/>
        </p:blipFill>
        <p:spPr>
          <a:xfrm>
            <a:off x="390600" y="360360"/>
            <a:ext cx="8246880" cy="14558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1211949034_11.jpg"/>
          <p:cNvPicPr/>
          <p:nvPr/>
        </p:nvPicPr>
        <p:blipFill>
          <a:blip r:embed="rId2"/>
          <a:stretch/>
        </p:blipFill>
        <p:spPr>
          <a:xfrm rot="429600">
            <a:off x="6257520" y="313920"/>
            <a:ext cx="1714680" cy="192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34" name="Рисунок 7" descr="8c2e29e827a6t.jpg"/>
          <p:cNvPicPr/>
          <p:nvPr/>
        </p:nvPicPr>
        <p:blipFill>
          <a:blip r:embed="rId3"/>
          <a:stretch/>
        </p:blipFill>
        <p:spPr>
          <a:xfrm>
            <a:off x="5786280" y="27860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Содержимое 3" descr="1217822913_0lik_ru_12.jpg"/>
          <p:cNvPicPr/>
          <p:nvPr/>
        </p:nvPicPr>
        <p:blipFill>
          <a:blip r:embed="rId1"/>
          <a:stretch/>
        </p:blipFill>
        <p:spPr>
          <a:xfrm>
            <a:off x="3151080" y="1138320"/>
            <a:ext cx="5278680" cy="5148360"/>
          </a:xfrm>
          <a:prstGeom prst="rect">
            <a:avLst/>
          </a:prstGeom>
          <a:ln w="0">
            <a:noFill/>
          </a:ln>
        </p:spPr>
      </p:pic>
      <p:pic>
        <p:nvPicPr>
          <p:cNvPr id="336" name="Заголовок 2" descr=""/>
          <p:cNvPicPr/>
          <p:nvPr/>
        </p:nvPicPr>
        <p:blipFill>
          <a:blip r:embed="rId2"/>
          <a:stretch/>
        </p:blipFill>
        <p:spPr>
          <a:xfrm>
            <a:off x="426960" y="828720"/>
            <a:ext cx="82962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99680" y="1857240"/>
            <a:ext cx="4714920" cy="4572000"/>
          </a:xfrm>
          <a:prstGeom prst="rect">
            <a:avLst/>
          </a:prstGeom>
          <a:solidFill>
            <a:srgbClr val="d7d8e7"/>
          </a:solidFill>
          <a:ln w="9360">
            <a:solidFill>
              <a:srgbClr val="7acbe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Я» (имя, фамилия, пол, возраст, место прожи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я семья (Ф. И. О. родителей, состав семьи, професс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ружающий мир (животные и растения, времена года и явления природы, люди и техника и т. 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Заголовок 8" descr=""/>
          <p:cNvPicPr/>
          <p:nvPr/>
        </p:nvPicPr>
        <p:blipFill>
          <a:blip r:embed="rId1"/>
          <a:stretch/>
        </p:blipFill>
        <p:spPr>
          <a:xfrm>
            <a:off x="420840" y="244440"/>
            <a:ext cx="8223120" cy="14446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7" descr="65662.jpg"/>
          <p:cNvPicPr/>
          <p:nvPr/>
        </p:nvPicPr>
        <p:blipFill>
          <a:blip r:embed="rId2"/>
          <a:stretch/>
        </p:blipFill>
        <p:spPr>
          <a:xfrm>
            <a:off x="5643720" y="2071800"/>
            <a:ext cx="27860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78920" y="1480680"/>
            <a:ext cx="5472360" cy="4805640"/>
          </a:xfrm>
          <a:prstGeom prst="rect">
            <a:avLst/>
          </a:prstGeom>
          <a:solidFill>
            <a:srgbClr val="fbe0d1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вая последовательность в пределах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ение и вычитание в пределах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ие «больше – меньш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геометрические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рение предметов при помощи лине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вета и их отт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Заголовок 2" descr=""/>
          <p:cNvPicPr/>
          <p:nvPr/>
        </p:nvPicPr>
        <p:blipFill>
          <a:blip r:embed="rId1"/>
          <a:stretch/>
        </p:blipFill>
        <p:spPr>
          <a:xfrm>
            <a:off x="390600" y="244440"/>
            <a:ext cx="8393040" cy="10717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3" descr="9785947433432.jpg"/>
          <p:cNvPicPr/>
          <p:nvPr/>
        </p:nvPicPr>
        <p:blipFill>
          <a:blip r:embed="rId2"/>
          <a:stretch/>
        </p:blipFill>
        <p:spPr>
          <a:xfrm>
            <a:off x="5715000" y="1500120"/>
            <a:ext cx="2928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785600"/>
            <a:ext cx="4829040" cy="442908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 составлять рассказ по карти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сказывать содержание известной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ывать связные истории из свое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вот  умение бегло читать или писать письменными буквами – совершенно не обязательн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553240" cy="13050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3" descr="9785947433449.jpg"/>
          <p:cNvPicPr/>
          <p:nvPr/>
        </p:nvPicPr>
        <p:blipFill>
          <a:blip r:embed="rId2"/>
          <a:stretch/>
        </p:blipFill>
        <p:spPr>
          <a:xfrm>
            <a:off x="5857920" y="2428920"/>
            <a:ext cx="3071880" cy="41972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5" descr="3532_russian_schools_02.jpg"/>
          <p:cNvPicPr/>
          <p:nvPr/>
        </p:nvPicPr>
        <p:blipFill>
          <a:blip r:embed="rId3"/>
          <a:stretch/>
        </p:blipFill>
        <p:spPr>
          <a:xfrm rot="559200">
            <a:off x="5722920" y="431280"/>
            <a:ext cx="28576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642680"/>
            <a:ext cx="4829040" cy="478620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интеллектуальные функции </a:t>
            </a:r>
            <a:r>
              <a:rPr b="1" i="1" lang="en-US" sz="2000" spc="-1" strike="noStrike">
                <a:solidFill>
                  <a:srgbClr val="a3171e"/>
                </a:solidFill>
                <a:latin typeface="Arial"/>
              </a:rPr>
              <a:t>(внимание, память и мышление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ны достичь определенного уровня развития – стать произвольными, т. е. сознательно управляе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ущему школьнику необходимо уметь определенное время работать, сосредоточившись на за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Заголовок 2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412120" cy="12430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4" descr="b661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0800" y="1785960"/>
            <a:ext cx="34812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56760" y="1785960"/>
            <a:ext cx="5357880" cy="4643280"/>
          </a:xfrm>
          <a:prstGeom prst="rect">
            <a:avLst/>
          </a:prstGeom>
          <a:solidFill>
            <a:srgbClr val="d4dfe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171e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a3171e"/>
                </a:solidFill>
                <a:latin typeface="Arial"/>
              </a:rPr>
              <a:t>Ребенку важно научиться владеть собственными пальчиками – ведь теперь он будет учиться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ему нужно ум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о держать ру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оваться ножн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совать и леп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водить контуры и заштриховывать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Заголовок 2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393040" cy="127476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3" descr="1232699973_1_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929200" y="2286000"/>
            <a:ext cx="2928960" cy="414324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4" descr="big_school.gif"/>
          <p:cNvPicPr/>
          <p:nvPr/>
        </p:nvPicPr>
        <p:blipFill>
          <a:blip r:embed="rId3"/>
          <a:stretch/>
        </p:blipFill>
        <p:spPr>
          <a:xfrm>
            <a:off x="6215040" y="0"/>
            <a:ext cx="18385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713880" y="2071800"/>
            <a:ext cx="4929480" cy="428616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Желание учиться, идти в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тремление узнавать н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епляйте положительное отношение ребенка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запугивайте ребенка, рассказывая о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Заголовок 2" descr=""/>
          <p:cNvPicPr/>
          <p:nvPr/>
        </p:nvPicPr>
        <p:blipFill>
          <a:blip r:embed="rId1"/>
          <a:stretch/>
        </p:blipFill>
        <p:spPr>
          <a:xfrm>
            <a:off x="378000" y="317520"/>
            <a:ext cx="8650080" cy="158436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3" descr="93dbcc2d26c0t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659560" y="2071800"/>
            <a:ext cx="3319200" cy="42861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4" descr="deti0000.gif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285840" y="0"/>
            <a:ext cx="20001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6840" y="2142720"/>
            <a:ext cx="4329000" cy="4357800"/>
          </a:xfrm>
          <a:prstGeom prst="rect">
            <a:avLst/>
          </a:prstGeom>
          <a:solidFill>
            <a:srgbClr val="fbe0d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я с ребенком, используйте игры с правилами (домино, лото, шашки, подвижные игры и т. 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ите за тем</a:t>
            </a: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ребенок выполнял правила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Заголовок 10" descr=""/>
          <p:cNvPicPr/>
          <p:nvPr/>
        </p:nvPicPr>
        <p:blipFill>
          <a:blip r:embed="rId1"/>
          <a:stretch/>
        </p:blipFill>
        <p:spPr>
          <a:xfrm>
            <a:off x="285840" y="244440"/>
            <a:ext cx="8589960" cy="16448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9" descr="object_5_1099054865_27794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357880" y="2143080"/>
            <a:ext cx="3375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28400" y="1856880"/>
            <a:ext cx="4214520" cy="4357800"/>
          </a:xfrm>
          <a:prstGeom prst="rect">
            <a:avLst/>
          </a:prstGeom>
          <a:solidFill>
            <a:srgbClr val="d3eef5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  ребенка устанавливать причинно-следственные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айте вместе с ним логические задачи: загадки, ребусы, кроссво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Заголовок 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246880" cy="127980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4" descr="school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929120" y="292896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5" descr="logo_white_3.jpg"/>
          <p:cNvPicPr/>
          <p:nvPr/>
        </p:nvPicPr>
        <p:blipFill>
          <a:blip r:embed="rId3">
            <a:lum contrast="40000"/>
          </a:blip>
          <a:stretch/>
        </p:blipFill>
        <p:spPr>
          <a:xfrm rot="1275600">
            <a:off x="6214680" y="500040"/>
            <a:ext cx="18572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3:10:02Z</dcterms:created>
  <dc:creator>User</dc:creator>
  <dc:description/>
  <dc:language>en-US</dc:language>
  <cp:lastModifiedBy>Воробьева</cp:lastModifiedBy>
  <dcterms:modified xsi:type="dcterms:W3CDTF">2003-05-06T21:50:51Z</dcterms:modified>
  <cp:revision>49</cp:revision>
  <dc:subject/>
  <dc:title>Что должен знать и уметь ребенок при поступлении в школу</dc:title>
</cp:coreProperties>
</file>