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42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43.jpeg" ContentType="image/jpeg"/>
  <Override PartName="/ppt/media/image5.png" ContentType="image/png"/>
  <Override PartName="/ppt/media/image35.jpeg" ContentType="image/jpeg"/>
  <Override PartName="/ppt/media/image37.jpeg" ContentType="image/jpeg"/>
  <Override PartName="/ppt/media/image36.png" ContentType="image/png"/>
  <Override PartName="/ppt/media/image40.png" ContentType="image/png"/>
  <Override PartName="/ppt/media/image41.png" ContentType="image/png"/>
  <Override PartName="/ppt/media/image48.png" ContentType="image/png"/>
  <Override PartName="/ppt/media/image11.png" ContentType="image/pn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9.png" ContentType="image/png"/>
  <Override PartName="/ppt/media/image12.jpeg" ContentType="image/jpeg"/>
  <Override PartName="/ppt/media/image4.png" ContentType="image/png"/>
  <Override PartName="/ppt/media/image34.png" ContentType="image/png"/>
  <Override PartName="/ppt/media/image7.png" ContentType="image/png"/>
  <Override PartName="/ppt/media/image44.png" ContentType="image/png"/>
  <Override PartName="/ppt/media/image13.jpeg" ContentType="image/jpe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32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5D6-C172-47D8-8602-E8891447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BDF-3CF1-419B-9E98-E85ACE6E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CA1-37F8-4E52-99C6-CFBB2B92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B82-67F2-4801-AD9D-C4E698A2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2DC5-E2AD-42EC-BF0D-D5A844E9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F77B-BAE8-4246-93C6-D727228F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3297-A55C-4E47-AB7B-379AC7A4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706C-3EB8-4803-AEA8-156EA6E7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116E-55F1-47C5-B7D3-5032FC10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BB24-F7B1-4A62-B8D9-C1608A8B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5B9A-4769-40EF-A297-43D9A6B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150-4AD1-4984-A427-81189E5A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3487-94D3-4286-A941-C9F5AECA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F4FC-B2C5-47E6-8BD8-6E064ED0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D62F-254F-4F4A-A8EF-02ABADD5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EA39-BC1E-4653-BEBF-C39DA640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DE32-48E7-4B7E-86CD-129C1332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A2FE-F8A2-417C-A0E3-916E5FC4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5819-C4A4-4998-B2A5-7BAA558A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C15D-8888-4858-BBBF-008B7261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FD2B4-4F6D-4E5E-97E1-371C6302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0222-C4A1-4E54-8788-F52345A0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A3C-84B2-49BB-8A19-077F1512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7C73-F707-4E85-8993-79D16EE3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AD5D-5B52-456E-BD56-C596F8EA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C674-8BA3-4D68-AFFB-BB427DA0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CF9C-18BD-4BF4-8DDD-F9CE234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D4620-562C-436C-85EE-088829AD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B7AD-EA46-4BBC-9223-F5F523D1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61CC-2151-477B-915E-F2548509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F1B7A-1280-40E6-BFF1-F7292019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5393D-C0A2-4ACD-8A5B-EDBED116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B8B5-2542-4ED9-B3BB-01CD8BE4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DE6-BA89-4E1E-A81B-4278592F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41AC3-A7C1-4F41-9538-0D428A42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BF9C-E9EC-4008-86A6-A10B826F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32F6-01A5-40E1-A915-DE77672C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D7882-373D-44CE-BF05-F1055E2B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A375-DD81-42EF-B8A7-DC37CB6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184DD-D51B-4156-9FF2-45AA81D6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5B95-E68B-432B-A35A-91D3425A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C60F-6093-4A0B-8A1E-C126BB12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18F2-05F6-4892-820C-4DBCADE5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2F545-EA90-443C-B467-1376B6B6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515-C575-4AF1-9D05-CC00D283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E70E1-8DA7-476A-BEEA-A30882C8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23597-C3D9-4E31-AE78-D1141B86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67750-7432-44C3-B33D-1EF34BF4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DC304-82F9-4099-9AE6-65D7CFB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10EE3-348B-4165-A02D-F4B5565E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16F47-BA8F-4805-AE58-63961930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2940B-2E5F-4936-9E14-96E75113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8F606-114B-4D90-A774-01F3C1ED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095E9-77A4-40C0-9623-A234F196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41761-86B9-4F5A-8CD0-0EA18AC8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13E-0539-4A5F-BC3E-4973A934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B1173-0C3C-4F5A-89F7-20A5CC93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AB0F0-C396-46E9-8321-F5210EAD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9D1A5-9739-40BA-8782-695EE9F7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07847-E988-43C5-BAB9-14A07DB7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BBDF8-93EE-4090-9A52-C54C08D8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A98A1-A7FC-4C00-8B55-8D58CC1C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6636-0686-47E9-BE7A-36733657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3CE49-01A6-4447-AE1D-15384453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AC0E1-9FBF-4B23-ADC5-DF76C42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FBCA4-DA83-46B5-8847-0D4B061D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673-FC8A-4AA3-BF82-670BDFF8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32999-D85C-4809-A7A5-90BF40E2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7C6C4-C22E-474F-9497-E2BC4650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C2869-E69D-440D-B8F5-17968FBE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C78-5388-4AEA-8B89-D295307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A41-E1B0-482A-8695-E58FA6BC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27BF-EEF9-4941-B333-1555D49DA4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44D4-B975-450E-A343-704149FBD5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2D46-434D-490D-A342-D24C34FF5E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549C-9D5C-4C20-9B90-636966CD1C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E137-ADC8-48CC-8032-5712CD0641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0D63-AAEE-43F3-A5BD-886E8A53B4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378320" cy="37306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8" descr="D6747.jpg"/>
          <p:cNvPicPr/>
          <p:nvPr/>
        </p:nvPicPr>
        <p:blipFill>
          <a:blip r:embed="rId2"/>
          <a:stretch/>
        </p:blipFill>
        <p:spPr>
          <a:xfrm rot="21117600">
            <a:off x="442440" y="760320"/>
            <a:ext cx="350064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6840" y="1857240"/>
            <a:ext cx="4614840" cy="41436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е общайтесь с ребен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ощряйте его желание высказывать свою точку зрения, уважительно относитесь к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Заголовок 2" descr=""/>
          <p:cNvPicPr/>
          <p:nvPr/>
        </p:nvPicPr>
        <p:blipFill>
          <a:blip r:embed="rId1"/>
          <a:stretch/>
        </p:blipFill>
        <p:spPr>
          <a:xfrm>
            <a:off x="390600" y="212760"/>
            <a:ext cx="8362800" cy="131112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4" descr="8499e1aa980e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1785960"/>
            <a:ext cx="3286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28400" y="1642680"/>
            <a:ext cx="4143240" cy="47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яйте с ребенком состав числа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8 – это 4 +4, 3+5, 2+6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ориентироваться в числовом ряду (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оседи» числа 5 – это 4 и 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пространственно-временных представлений (верх-низ, раньше-позже, право-ле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Заголовок 2" descr=""/>
          <p:cNvPicPr/>
          <p:nvPr/>
        </p:nvPicPr>
        <p:blipFill>
          <a:blip r:embed="rId1"/>
          <a:stretch/>
        </p:blipFill>
        <p:spPr>
          <a:xfrm>
            <a:off x="365040" y="219240"/>
            <a:ext cx="8413920" cy="132840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3" descr="8-37_G8egDQh5WT.jpg"/>
          <p:cNvPicPr/>
          <p:nvPr/>
        </p:nvPicPr>
        <p:blipFill>
          <a:blip r:embed="rId2"/>
          <a:stretch/>
        </p:blipFill>
        <p:spPr>
          <a:xfrm>
            <a:off x="4786200" y="2571840"/>
            <a:ext cx="4000680" cy="38574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5" descr="sch_tr.gif"/>
          <p:cNvPicPr/>
          <p:nvPr/>
        </p:nvPicPr>
        <p:blipFill>
          <a:blip r:embed="rId3"/>
          <a:stretch/>
        </p:blipFill>
        <p:spPr>
          <a:xfrm>
            <a:off x="5500800" y="214200"/>
            <a:ext cx="29289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643040"/>
            <a:ext cx="4829040" cy="457200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Развивайте мелкую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торику ру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месте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суй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крашивайте (стараясь не залезать за границы рису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п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ирайте моза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62800" cy="127476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3" descr="shkola.jpg"/>
          <p:cNvPicPr/>
          <p:nvPr/>
        </p:nvPicPr>
        <p:blipFill>
          <a:blip r:embed="rId2"/>
          <a:stretch/>
        </p:blipFill>
        <p:spPr>
          <a:xfrm>
            <a:off x="5643720" y="1785960"/>
            <a:ext cx="3143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6840" y="1999800"/>
            <a:ext cx="8186760" cy="4286520"/>
          </a:xfrm>
          <a:prstGeom prst="rect">
            <a:avLst/>
          </a:prstGeom>
          <a:solidFill>
            <a:srgbClr val="cef8fe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яйте представления ребенка о звуках, слогах, словах и предлож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дложите ребенку назвать звук, с которого начинается слово. Именно звук, а не букву. В противном случае у детей возникают трудности при слиянии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комить с буквами желательно тогда, когда ребенок уже начнет читать по сл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имание того, что буквы и звуки – это вовсе не одно и то же, поможет ребенку в овладении пись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важно уметь делить слов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3" descr="6.jpg"/>
          <p:cNvPicPr/>
          <p:nvPr/>
        </p:nvPicPr>
        <p:blipFill>
          <a:blip r:embed="rId2"/>
          <a:stretch/>
        </p:blipFill>
        <p:spPr>
          <a:xfrm>
            <a:off x="5572080" y="214200"/>
            <a:ext cx="25002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7120" y="1643040"/>
            <a:ext cx="4929120" cy="48578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При общении с ребенком называйте его друзей по и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Не критикуйте сверстников ребен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Если возникнет необходимость, лучше проанализировать сложную (иногда конфликтную) ситуацию вместе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Приглашайте друзей ребенка в гости, участвуйте в иг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3" descr="big5f1xo1.jpg"/>
          <p:cNvPicPr/>
          <p:nvPr/>
        </p:nvPicPr>
        <p:blipFill>
          <a:blip r:embed="rId2"/>
          <a:stretch/>
        </p:blipFill>
        <p:spPr>
          <a:xfrm rot="472800">
            <a:off x="5429160" y="2286000"/>
            <a:ext cx="3357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643040"/>
            <a:ext cx="4757760" cy="45720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овывайте с ребенком совмест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обсуждайте при нем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яйте ему правила общения с учителем и другими взрослыми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ipotec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429160" y="171468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57120" y="1785960"/>
            <a:ext cx="4857840" cy="485784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казывайте ребенку о правилах поведения в обществе и закрепляйте их своим прим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ажайте права ребенка, предъявляйте разумные требования, чаще отмечайте его хорошие поступки и успе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й и запретов не должно быть много, но те, что вы установили, должны соблюдать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ленами семь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гда и в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я должны быть обоснованными и понят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Заголовок 2" descr=""/>
          <p:cNvPicPr/>
          <p:nvPr/>
        </p:nvPicPr>
        <p:blipFill>
          <a:blip r:embed="rId1"/>
          <a:stretch/>
        </p:blipFill>
        <p:spPr>
          <a:xfrm>
            <a:off x="646200" y="152280"/>
            <a:ext cx="7991280" cy="131148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6" descr="blackboard.gif"/>
          <p:cNvPicPr/>
          <p:nvPr/>
        </p:nvPicPr>
        <p:blipFill>
          <a:blip r:embed="rId2"/>
          <a:stretch/>
        </p:blipFill>
        <p:spPr>
          <a:xfrm>
            <a:off x="5429160" y="1500120"/>
            <a:ext cx="3286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6840" y="1571400"/>
            <a:ext cx="4543560" cy="471492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аучитесь понимать своего ребен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е забывайте, что у ребенка могут быть свои проблемы и свое мнени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е стоит торопить время, желая, чтобы ваш малыш повзросле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аучитесь радоваться каждому дню его детст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Заголовок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594640" cy="13050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5" descr="a1a595594bddt.jpg"/>
          <p:cNvPicPr/>
          <p:nvPr/>
        </p:nvPicPr>
        <p:blipFill>
          <a:blip r:embed="rId2"/>
          <a:stretch/>
        </p:blipFill>
        <p:spPr>
          <a:xfrm>
            <a:off x="5334120" y="2000160"/>
            <a:ext cx="35956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6840" y="2071800"/>
            <a:ext cx="5186520" cy="43574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забывайте о физических упражн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ренняя гимнастика должна стать привыч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йте музыку, под которую приятно потанцевать и порезв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ы на свежем воздухе, плаванье, лыжи, коньки, велосипед помогут будущему ученику окрепнуть и разовьют координацию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Заголовок 3" descr=""/>
          <p:cNvPicPr/>
          <p:nvPr/>
        </p:nvPicPr>
        <p:blipFill>
          <a:blip r:embed="rId1"/>
          <a:stretch/>
        </p:blipFill>
        <p:spPr>
          <a:xfrm>
            <a:off x="390600" y="360360"/>
            <a:ext cx="8246880" cy="145584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1211949034_11.jpg"/>
          <p:cNvPicPr/>
          <p:nvPr/>
        </p:nvPicPr>
        <p:blipFill>
          <a:blip r:embed="rId2"/>
          <a:stretch/>
        </p:blipFill>
        <p:spPr>
          <a:xfrm rot="429600">
            <a:off x="6257520" y="313920"/>
            <a:ext cx="171468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34" name="Рисунок 7" descr="8c2e29e827a6t.jpg"/>
          <p:cNvPicPr/>
          <p:nvPr/>
        </p:nvPicPr>
        <p:blipFill>
          <a:blip r:embed="rId3"/>
          <a:stretch/>
        </p:blipFill>
        <p:spPr>
          <a:xfrm>
            <a:off x="5786280" y="27860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Содержимое 3" descr="1217822913_0lik_ru_12.jpg"/>
          <p:cNvPicPr/>
          <p:nvPr/>
        </p:nvPicPr>
        <p:blipFill>
          <a:blip r:embed="rId1"/>
          <a:stretch/>
        </p:blipFill>
        <p:spPr>
          <a:xfrm>
            <a:off x="3151080" y="1138320"/>
            <a:ext cx="5278680" cy="5148360"/>
          </a:xfrm>
          <a:prstGeom prst="rect">
            <a:avLst/>
          </a:prstGeom>
          <a:ln w="0">
            <a:noFill/>
          </a:ln>
        </p:spPr>
      </p:pic>
      <p:pic>
        <p:nvPicPr>
          <p:cNvPr id="336" name="Заголовок 2" descr=""/>
          <p:cNvPicPr/>
          <p:nvPr/>
        </p:nvPicPr>
        <p:blipFill>
          <a:blip r:embed="rId2"/>
          <a:stretch/>
        </p:blipFill>
        <p:spPr>
          <a:xfrm>
            <a:off x="426960" y="828720"/>
            <a:ext cx="82962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99680" y="1857240"/>
            <a:ext cx="4714920" cy="4572000"/>
          </a:xfrm>
          <a:prstGeom prst="rect">
            <a:avLst/>
          </a:prstGeom>
          <a:solidFill>
            <a:srgbClr val="d7d8e7"/>
          </a:solidFill>
          <a:ln w="9360">
            <a:solidFill>
              <a:srgbClr val="7acbe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Я» (имя, фамилия, пол, возраст, место прожи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я семья (Ф. И. О. родителей, состав семьи, професс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ружающий мир (животные и растения, времена года и явления природы, люди и техника и т. 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Заголовок 8" descr=""/>
          <p:cNvPicPr/>
          <p:nvPr/>
        </p:nvPicPr>
        <p:blipFill>
          <a:blip r:embed="rId1"/>
          <a:stretch/>
        </p:blipFill>
        <p:spPr>
          <a:xfrm>
            <a:off x="420840" y="244440"/>
            <a:ext cx="8223120" cy="14446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7" descr="65662.jpg"/>
          <p:cNvPicPr/>
          <p:nvPr/>
        </p:nvPicPr>
        <p:blipFill>
          <a:blip r:embed="rId2"/>
          <a:stretch/>
        </p:blipFill>
        <p:spPr>
          <a:xfrm>
            <a:off x="5643720" y="2071800"/>
            <a:ext cx="27860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78920" y="1480680"/>
            <a:ext cx="5472360" cy="4805640"/>
          </a:xfrm>
          <a:prstGeom prst="rect">
            <a:avLst/>
          </a:prstGeom>
          <a:solidFill>
            <a:srgbClr val="fbe0d1"/>
          </a:soli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вая последовательность в пределах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ение и вычитание в пределах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ие «больше – меньш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е геометрические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ентировка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рение предметов при помощи лине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вета и их отт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93040" cy="10717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3" descr="9785947433432.jpg"/>
          <p:cNvPicPr/>
          <p:nvPr/>
        </p:nvPicPr>
        <p:blipFill>
          <a:blip r:embed="rId2"/>
          <a:stretch/>
        </p:blipFill>
        <p:spPr>
          <a:xfrm>
            <a:off x="5715000" y="1500120"/>
            <a:ext cx="2928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785600"/>
            <a:ext cx="4829040" cy="44290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 составлять рассказ по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сказывать содержание известной ска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казывать связные истории из свое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у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вот  умение бегло читать или писать письменными буквами – совершенно не обязатель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553240" cy="13050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3" descr="9785947433449.jpg"/>
          <p:cNvPicPr/>
          <p:nvPr/>
        </p:nvPicPr>
        <p:blipFill>
          <a:blip r:embed="rId2"/>
          <a:stretch/>
        </p:blipFill>
        <p:spPr>
          <a:xfrm>
            <a:off x="5857920" y="2428920"/>
            <a:ext cx="3071880" cy="419724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5" descr="3532_russian_schools_02.jpg"/>
          <p:cNvPicPr/>
          <p:nvPr/>
        </p:nvPicPr>
        <p:blipFill>
          <a:blip r:embed="rId3"/>
          <a:stretch/>
        </p:blipFill>
        <p:spPr>
          <a:xfrm rot="559200">
            <a:off x="5722920" y="431280"/>
            <a:ext cx="28576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642680"/>
            <a:ext cx="4829040" cy="4786200"/>
          </a:xfrm>
          <a:prstGeom prst="rect">
            <a:avLst/>
          </a:prstGeom>
          <a:solidFill>
            <a:srgbClr val="def5fa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интеллектуальные функции </a:t>
            </a:r>
            <a:r>
              <a:rPr b="1" i="1" lang="en-US" sz="2000" spc="-1" strike="noStrike">
                <a:solidFill>
                  <a:srgbClr val="a3171e"/>
                </a:solidFill>
                <a:latin typeface="Arial"/>
              </a:rPr>
              <a:t>(внимание, память и мышление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ны достичь определенного уровня развития – стать произвольными, т. е. сознательно управляе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ущему школьнику необходимо уметь определенное время работать, сосредоточившись на зад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412120" cy="12430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4" descr="b661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500800" y="1785960"/>
            <a:ext cx="34812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56760" y="1785960"/>
            <a:ext cx="5357880" cy="4643280"/>
          </a:xfrm>
          <a:prstGeom prst="rect">
            <a:avLst/>
          </a:prstGeom>
          <a:solidFill>
            <a:srgbClr val="d4dfe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171e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a3171e"/>
                </a:solidFill>
                <a:latin typeface="Arial"/>
              </a:rPr>
              <a:t>Ребенку важно научиться владеть собственными пальчиками – ведь теперь он будет учиться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ему нужно ум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о держать руч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ьзоваться ножни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совать и леп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водить контуры и заштриховывать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93040" cy="127476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3" descr="1232699973_1_2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929200" y="2286000"/>
            <a:ext cx="2928960" cy="414324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4" descr="big_school.gif"/>
          <p:cNvPicPr/>
          <p:nvPr/>
        </p:nvPicPr>
        <p:blipFill>
          <a:blip r:embed="rId3"/>
          <a:stretch/>
        </p:blipFill>
        <p:spPr>
          <a:xfrm>
            <a:off x="6215040" y="0"/>
            <a:ext cx="18385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713880" y="2071800"/>
            <a:ext cx="4929480" cy="428616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Желание учиться, идти в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тремление узнавать н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яйте положительное отношение ребенка к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да не запугивайте ребенка, рассказывая о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Заголовок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8650080" cy="158436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3" descr="93dbcc2d26c0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659560" y="2071800"/>
            <a:ext cx="3319200" cy="428616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4" descr="deti0000.gif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85840" y="0"/>
            <a:ext cx="2000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6840" y="2142720"/>
            <a:ext cx="4329000" cy="43578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я с ребенком, используйте игры с правилами (домино, лото, шашки, подвижные игры и т. 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ите за тем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, чт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ребенок выполнял правила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Заголовок 10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89960" cy="164484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9" descr="object_5_1099054865_27794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2143080"/>
            <a:ext cx="3375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28400" y="1856880"/>
            <a:ext cx="4214520" cy="43578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  ребенка устанавливать причинно-следственные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айте вместе с ним логические задачи: загадки, ребусы, кроссво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Заголовок 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6880" cy="127980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4" descr="school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929120" y="29289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5" descr="logo_white_3.jpg"/>
          <p:cNvPicPr/>
          <p:nvPr/>
        </p:nvPicPr>
        <p:blipFill>
          <a:blip r:embed="rId3">
            <a:lum contrast="40000"/>
          </a:blip>
          <a:stretch/>
        </p:blipFill>
        <p:spPr>
          <a:xfrm rot="1275600">
            <a:off x="6214680" y="500040"/>
            <a:ext cx="18572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3:10:02Z</dcterms:created>
  <dc:creator>User</dc:creator>
  <dc:description/>
  <dc:language>en-US</dc:language>
  <cp:lastModifiedBy>Воробьева</cp:lastModifiedBy>
  <dcterms:modified xsi:type="dcterms:W3CDTF">2003-05-06T21:50:51Z</dcterms:modified>
  <cp:revision>49</cp:revision>
  <dc:subject/>
  <dc:title>Что должен знать и уметь ребенок при поступлении в школу</dc:title>
</cp:coreProperties>
</file>