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D27-B8C8-4632-9600-A8666211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D87-861F-445C-876D-21C29027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BA6-0D06-43CD-B41A-A8B51D6B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21F0-5440-46E1-A25E-6D3EBDA4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7A70-3D62-4E3B-B95F-2109C09B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EE6F-7FE7-4837-85B1-01317395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FF42-3B90-453C-9C12-31E354C9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8FD6-FF14-42DF-8685-5726C8C8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C43D-FF5E-4BB6-BBDF-59334C49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2CD2-3B18-4089-9993-D4947C13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A278-533E-40A0-9D92-3A1C7BB3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69BE-3A5D-4734-9EF2-02CC488B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A9BD-FB1A-4E97-B308-F55A7A6A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CC1C-6EC0-4B35-BE3C-7624A674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0A94-181B-4EF6-A74F-CB66CAF8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A4F0-0428-4DC2-BBC8-BB7923AF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EEAF-9191-4C2E-8158-0D3565E1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6320-7FF7-49E6-A577-B3FB2F18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9B3-7004-4D92-8074-A2A309D7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82D-14CB-43C1-A062-BF826040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45E-12DB-4959-B3F9-700FC6B5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11F8-EAE5-4FE6-B8E7-E3A260E1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CE8B-6664-40CC-B358-B69D54C9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BD6-348C-4E1D-A2CD-B62BA292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8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60b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0a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870C-9519-4305-9D93-6E3DC4B06B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8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60b5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98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1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2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0a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128" name="Group 3"/>
            <p:cNvGrpSpPr/>
            <p:nvPr/>
          </p:nvGrpSpPr>
          <p:grpSpPr>
            <a:xfrm>
              <a:off x="5410080" y="61560"/>
              <a:ext cx="3620160" cy="6130800"/>
              <a:chOff x="5410080" y="61560"/>
              <a:chExt cx="3620160" cy="6130800"/>
            </a:xfrm>
          </p:grpSpPr>
          <p:sp>
            <p:nvSpPr>
              <p:cNvPr id="129" name="Freeform 4"/>
              <p:cNvSpPr/>
              <p:nvPr/>
            </p:nvSpPr>
            <p:spPr>
              <a:xfrm flipV="1" rot="11970000">
                <a:off x="6582600" y="347040"/>
                <a:ext cx="2115000" cy="235584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Freeform 5"/>
              <p:cNvSpPr/>
              <p:nvPr/>
            </p:nvSpPr>
            <p:spPr>
              <a:xfrm flipV="1" rot="11970000">
                <a:off x="7421760" y="1958400"/>
                <a:ext cx="906120" cy="84240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V="1" rot="11970000">
                <a:off x="6824520" y="259020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V="1" rot="11970000">
                <a:off x="7250400" y="67212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 flipV="1" rot="11970000">
                <a:off x="7152120" y="264636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 flipV="1" rot="11970000">
                <a:off x="7138800" y="124452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 flipV="1" rot="11970000">
                <a:off x="5940360" y="2931480"/>
                <a:ext cx="523440" cy="32670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b5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5652360" y="303120"/>
              <a:ext cx="894600" cy="821160"/>
              <a:chOff x="5652360" y="303120"/>
              <a:chExt cx="894600" cy="821160"/>
            </a:xfrm>
          </p:grpSpPr>
          <p:sp>
            <p:nvSpPr>
              <p:cNvPr id="147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14908200">
                <a:off x="6257520" y="4028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25"/>
            <p:cNvGrpSpPr/>
            <p:nvPr/>
          </p:nvGrpSpPr>
          <p:grpSpPr>
            <a:xfrm>
              <a:off x="968760" y="5261400"/>
              <a:ext cx="1059120" cy="833760"/>
              <a:chOff x="968760" y="5261400"/>
              <a:chExt cx="1059120" cy="833760"/>
            </a:xfrm>
          </p:grpSpPr>
          <p:sp>
            <p:nvSpPr>
              <p:cNvPr id="151" name="Freeform 26"/>
              <p:cNvSpPr/>
              <p:nvPr/>
            </p:nvSpPr>
            <p:spPr>
              <a:xfrm rot="8524800">
                <a:off x="1710720" y="5524560"/>
                <a:ext cx="250920" cy="301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8524800">
                <a:off x="1195920" y="5739120"/>
                <a:ext cx="429480" cy="2502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 rot="8524800">
                <a:off x="960480" y="5385600"/>
                <a:ext cx="448920" cy="128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4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55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8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59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2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37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A73D-5BC4-4889-ADB9-ADD0204F52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2960" y="596520"/>
            <a:ext cx="8005680" cy="21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1" i="1" lang="ru-RU" sz="4000" spc="-1" strike="noStrike">
                <a:solidFill>
                  <a:srgbClr val="002060"/>
                </a:solidFill>
                <a:latin typeface="Verdana"/>
              </a:rPr>
              <a:t>ТЕМПЕРАМЕНТ И УЧЕБНАЯ ДЕЯТЕЛЬНОСТЬ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Verdana"/>
              </a:rPr>
              <a:t>(РЕКОМЕНДАЦИИ РОДИТЕЛЯМ)</a:t>
            </a: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55280" y="5444640"/>
            <a:ext cx="8209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Подготовила:  педагог - психолог МБО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«НШ –ДС № 11» Монид Любовь Евгеньев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4" descr="197bc8671ba4"/>
          <p:cNvPicPr/>
          <p:nvPr/>
        </p:nvPicPr>
        <p:blipFill>
          <a:blip r:embed="rId1"/>
          <a:srcRect l="0" t="0" r="37108" b="0"/>
          <a:stretch/>
        </p:blipFill>
        <p:spPr>
          <a:xfrm>
            <a:off x="3500280" y="2857680"/>
            <a:ext cx="2214720" cy="276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6378"/>
                </a:solidFill>
                <a:latin typeface="Verdana"/>
              </a:rPr>
              <a:t>Ежедневные проблемы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857160"/>
            <a:ext cx="854388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се его многочисленные друзья будут соответствовать привычному для вас кругу люд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брежность в учебе, неумение доводить дело до конца, невнимательность к мелочам сильно сказываются на успеваемости, а в будущем и на успехах в работ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асто меняет интерес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пешен в учебе, если предмет вызывает интерес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6378"/>
                </a:solidFill>
                <a:latin typeface="Verdana"/>
              </a:rPr>
              <a:t>Рекомендации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13840" y="92844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подвижный образ жизни, но в спорте они не будут сильно стремиться к результа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делать основной упор в занятиях на умении сосредотачиваться на выполняемой работе и доводить ее до конц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Конструкторы, пазлы, рукоделие, конструирование моделей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другие игры, которые требую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внимания и тщательности, помогу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развить собранность и аккуратность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4" descr="ооо"/>
          <p:cNvPicPr/>
          <p:nvPr/>
        </p:nvPicPr>
        <p:blipFill>
          <a:blip r:embed="rId1"/>
          <a:stretch/>
        </p:blipFill>
        <p:spPr>
          <a:xfrm>
            <a:off x="7250040" y="3695760"/>
            <a:ext cx="1679760" cy="25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13840" y="214200"/>
            <a:ext cx="8472600" cy="58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С сангвиниками можно быть требовательным, и, конечно, не следует перегибать при этом палку. Вы вполне можете попросить его переделать заново работу и оценить самому результа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Постепенно повышать планку требов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Не позволяйте ему слишк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часто пропускать занятия, ес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он посещает кружок, следите за тем, чтобы он не забывал про мелочи в работе, терпеливо учите его оформлять домашнее задание или рисун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4" descr="218363"/>
          <p:cNvPicPr/>
          <p:nvPr/>
        </p:nvPicPr>
        <p:blipFill>
          <a:blip r:embed="rId1"/>
          <a:stretch/>
        </p:blipFill>
        <p:spPr>
          <a:xfrm>
            <a:off x="6643800" y="2428920"/>
            <a:ext cx="2022480" cy="202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4d4d6"/>
                </a:solidFill>
                <a:latin typeface="Verdana"/>
              </a:rPr>
              <a:t>Меланхолик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5840" y="785520"/>
            <a:ext cx="85723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вышенная чувствительность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держанность и обстоятель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алообщительный, тревожны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собенно нуждаются в поддерж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е  одобрении близких. Они очен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вствительны, обидчивы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сторожены ко всему новом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ланхолик не уверен в себе, ем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но самостоятельно сделать выбо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ланхолики теряются в незнакомой обстановке и совершенно не в состоянии постоять за себ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Содержимое 5" descr=""/>
          <p:cNvPicPr/>
          <p:nvPr/>
        </p:nvPicPr>
        <p:blipFill>
          <a:blip r:embed="rId1"/>
          <a:stretch/>
        </p:blipFill>
        <p:spPr>
          <a:xfrm>
            <a:off x="7000920" y="714240"/>
            <a:ext cx="2000160" cy="378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6378"/>
                </a:solidFill>
                <a:latin typeface="Verdana"/>
              </a:rPr>
              <a:t>Ежедневные проблемы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8568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збегать критических замечаний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Неуверенность в себе, пессимизм и нерешительност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егулярные жалоб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Замкнутость, обидчивость на любое замечание, сказанное даже в шутк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Трудности общения (с трудом завязывает новые знакомства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Наличие страхов: темноты, собак, отвечать у доски, одноклассников, проверочных работ и плохих оценок,  и т.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6378"/>
                </a:solidFill>
                <a:latin typeface="Verdana"/>
              </a:rPr>
              <a:t>Рекомендации родителям меланхоликов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Ваш девиз в общении с меланхоликом — людям свойственно ошибатьс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Хвалите, хвалите и еще раз хвалите, ищите даже в неудачах позитивные момент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Просите продемонстрировать вам его достижения, восхищайтесь и радуйтесь за него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35676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Напоминайте о прошлых успеха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Поручайте ему дела, с которыми он наверняка справится и результат которых сможет оценить как можно больше окружающи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Учите его находить выход из конфликтных ситуаций, отстаивать свое мнение, но ни в коем случае не давите на нег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Развивайте творчески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Способно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350x292"/>
          <p:cNvPicPr/>
          <p:nvPr/>
        </p:nvPicPr>
        <p:blipFill>
          <a:blip r:embed="rId1"/>
          <a:stretch/>
        </p:blipFill>
        <p:spPr>
          <a:xfrm>
            <a:off x="6000840" y="4572000"/>
            <a:ext cx="2428920" cy="202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6378"/>
                </a:solidFill>
                <a:latin typeface="Verdana"/>
              </a:rPr>
              <a:t>Флегматик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642600"/>
            <a:ext cx="88581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вые формы поведения формируют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дленно, но являются стойки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некоторых случаях могут проявля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ссивность к окружающим, лень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вол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длительный, усидчивый и внешн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койный ребенок. Последователен 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тоятелен в своих занятия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ычно с детства аккуратно складыва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грушки и одежд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грая с детьми, предпочитает знакомые и нешумные развлеч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тремится к лидерству, не любит принимать решения, легко отдавая это право други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Содержимое 5" descr=""/>
          <p:cNvPicPr/>
          <p:nvPr/>
        </p:nvPicPr>
        <p:blipFill>
          <a:blip r:embed="rId1"/>
          <a:stretch/>
        </p:blipFill>
        <p:spPr>
          <a:xfrm>
            <a:off x="7000920" y="857160"/>
            <a:ext cx="1785960" cy="364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6378"/>
                </a:solidFill>
                <a:latin typeface="Verdana"/>
              </a:rPr>
              <a:t>Ежедневные проблемы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14200" y="785520"/>
            <a:ext cx="8515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Медлительность, постоянные опозд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Отвергает все новое (ест одну и ту же пищу, читает одни и те же книги и т.д.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Демонстративная лень – хороший способ манипулирования родителе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Нерешительност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Чувствуют время по-другому, поэтому многое не успевают доделат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6378"/>
                </a:solidFill>
                <a:latin typeface="Verdana"/>
              </a:rPr>
              <a:t>Рекомендации 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7142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не старайтесь ускорить процесс сборов или выполнения задания криками и скандалами, гораздо легче просто начать раньш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не стоит упорно стараться навязать полезное с вашей точки зрения занятие, если он сопротивляетс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наберитесь терпения и не спешит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делать все за него, инач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он вообще перестане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что-либо делать сам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4" descr="h_W2dHtfjenSq1ZvUoyOGxB3pLPi6l54NA_"/>
          <p:cNvPicPr/>
          <p:nvPr/>
        </p:nvPicPr>
        <p:blipFill>
          <a:blip r:embed="rId1"/>
          <a:stretch/>
        </p:blipFill>
        <p:spPr>
          <a:xfrm>
            <a:off x="5857920" y="4357800"/>
            <a:ext cx="2692440" cy="222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44000" cy="611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3200"/>
            </a:b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Темперамент считается врожденной характеристикой личности.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зависимости от темперамента своего чада вы можете спрогнозировать, что ему будет даваться с трудом, а в чем он не испытает трудностей в школе.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214" name="Picture 4" descr="1518660"/>
          <p:cNvPicPr/>
          <p:nvPr/>
        </p:nvPicPr>
        <p:blipFill>
          <a:blip r:embed="rId1"/>
          <a:stretch/>
        </p:blipFill>
        <p:spPr>
          <a:xfrm>
            <a:off x="2928960" y="4429080"/>
            <a:ext cx="3357720" cy="221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13840" y="285480"/>
            <a:ext cx="8472600" cy="57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Если вы постоянно раздражаетесь и наказываете его за медлительность и неуверенность, у ребенка может выработаться страх перед действием и развиться ощущение своей неполноцен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Рассказывайте ему интересные новости из окружающего мира, развивайте творческое мышление рисованием, музыкой, шахматами. Его могут заинтересовать те виды спорт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которые не требуют быстрой реакции. 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Крайне важно научить его понимать чувства и эмоции других люд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4" descr="207049"/>
          <p:cNvPicPr/>
          <p:nvPr/>
        </p:nvPicPr>
        <p:blipFill>
          <a:blip r:embed="rId1"/>
          <a:stretch/>
        </p:blipFill>
        <p:spPr>
          <a:xfrm>
            <a:off x="7358040" y="3429000"/>
            <a:ext cx="1601640" cy="186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Verdana"/>
              </a:rPr>
              <a:t>Выводы: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57120" y="713880"/>
            <a:ext cx="878688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На успешность обучения влияют особенности темперамента, его соответствие условиям воспитания и методов развит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Мало поддающийся изменениям в течение жизни темперамент необходимо учитывать при  определении учебной нагрузки, выборе дополнительного образования (кружки, секции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5" descr="family01"/>
          <p:cNvPicPr/>
          <p:nvPr/>
        </p:nvPicPr>
        <p:blipFill>
          <a:blip r:embed="rId1"/>
          <a:stretch/>
        </p:blipFill>
        <p:spPr>
          <a:xfrm>
            <a:off x="4357800" y="4357800"/>
            <a:ext cx="3446280" cy="229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a6378"/>
                </a:solidFill>
                <a:latin typeface="Verdana"/>
              </a:rPr>
              <a:t>СПАСИБО ЗА ВНИМАНИЕ!</a:t>
            </a:r>
            <a:endParaRPr b="0" lang="en-US" sz="60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400960" cy="642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Verdana"/>
              </a:rPr>
              <a:t>Зачем нужно знать темперамент своего ребенка?</a:t>
            </a:r>
            <a:br>
              <a:rPr sz="4400"/>
            </a:b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*понять ребенка и избежать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конфликтов;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*рассчитать его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нагрузку;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*развить лучшие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 качества;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*заинтересовать</a:t>
            </a:r>
            <a:br>
              <a:rPr sz="4000"/>
            </a:br>
            <a:endParaRPr b="0" lang="en-US" sz="40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216" name="Picture 4" descr="24d"/>
          <p:cNvPicPr/>
          <p:nvPr/>
        </p:nvPicPr>
        <p:blipFill>
          <a:blip r:embed="rId1"/>
          <a:stretch/>
        </p:blipFill>
        <p:spPr>
          <a:xfrm>
            <a:off x="714240" y="2357280"/>
            <a:ext cx="2711520" cy="335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102960"/>
            <a:ext cx="8043840" cy="639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Verdana"/>
              </a:rPr>
              <a:t>В основе темперамента лежат две важные характеристики: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1) степень общительности.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2) тип нервной системы (слабый или сильный)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Verdana"/>
              </a:rPr>
              <a:t>Традиционно выделяют четыре типа темперамента: </a:t>
            </a:r>
            <a:br>
              <a:rPr sz="3600"/>
            </a:br>
            <a:r>
              <a:rPr b="0" i="1" lang="ru-RU" sz="3600" spc="-1" strike="noStrike">
                <a:solidFill>
                  <a:srgbClr val="002060"/>
                </a:solidFill>
                <a:latin typeface="Verdana"/>
              </a:rPr>
              <a:t> 1) холерик; </a:t>
            </a:r>
            <a:br>
              <a:rPr sz="3600"/>
            </a:br>
            <a:r>
              <a:rPr b="0" i="1" lang="ru-RU" sz="3600" spc="-1" strike="noStrike">
                <a:solidFill>
                  <a:srgbClr val="002060"/>
                </a:solidFill>
                <a:latin typeface="Verdana"/>
              </a:rPr>
              <a:t> 2) сангвиник; </a:t>
            </a:r>
            <a:br>
              <a:rPr sz="3600"/>
            </a:br>
            <a:r>
              <a:rPr b="0" i="1" lang="ru-RU" sz="3600" spc="-1" strike="noStrike">
                <a:solidFill>
                  <a:srgbClr val="002060"/>
                </a:solidFill>
                <a:latin typeface="Verdana"/>
              </a:rPr>
              <a:t> 3) меланхолик; </a:t>
            </a:r>
            <a:br>
              <a:rPr sz="3600"/>
            </a:br>
            <a:r>
              <a:rPr b="0" i="1" lang="ru-RU" sz="3600" spc="-1" strike="noStrike">
                <a:solidFill>
                  <a:srgbClr val="002060"/>
                </a:solidFill>
                <a:latin typeface="Verdana"/>
              </a:rPr>
              <a:t> 4) флегматик.</a:t>
            </a:r>
            <a:endParaRPr b="0" lang="en-US" sz="3600" spc="-1" strike="noStrike">
              <a:solidFill>
                <a:srgbClr val="5a6378"/>
              </a:solidFill>
              <a:latin typeface="Verdana"/>
            </a:endParaRPr>
          </a:p>
        </p:txBody>
      </p:sp>
      <p:pic>
        <p:nvPicPr>
          <p:cNvPr id="218" name="Picture 4" descr="8a9007d6eb73b482f79821ede54a06cd"/>
          <p:cNvPicPr/>
          <p:nvPr/>
        </p:nvPicPr>
        <p:blipFill>
          <a:blip r:embed="rId1"/>
          <a:srcRect l="0" t="7316" r="0" b="0"/>
          <a:stretch/>
        </p:blipFill>
        <p:spPr>
          <a:xfrm>
            <a:off x="6357960" y="4143240"/>
            <a:ext cx="2046240" cy="271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4d4d6"/>
                </a:solidFill>
                <a:latin typeface="Verdana"/>
              </a:rPr>
              <a:t>Холерик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13840" y="928800"/>
            <a:ext cx="8643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спыльчив, самоуверен и стремителен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гновенно принимает решения, поэто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его идеи часто не продуманы, но очен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тересн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 Холерик очень подвижен, не переноси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олгого ожидания, подвержен резким переменам настро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) Непоседа и спорщик. Он решителен, настойчив и бесстрашен, может изменить свое решение в последнюю минуту с точностью до наоборот, любит риск, приключ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) Действия порывистые. Отличается повышенной возбудимостью, большой эмоциональность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) Любит риск, стремится к лидерств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Рисунок 4" descr=""/>
          <p:cNvPicPr/>
          <p:nvPr/>
        </p:nvPicPr>
        <p:blipFill>
          <a:blip r:embed="rId1"/>
          <a:stretch/>
        </p:blipFill>
        <p:spPr>
          <a:xfrm>
            <a:off x="7429680" y="285840"/>
            <a:ext cx="150012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6378"/>
                </a:solidFill>
                <a:latin typeface="Verdana"/>
              </a:rPr>
              <a:t>Ежедневные проблемы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85840" y="642600"/>
            <a:ext cx="84009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 он настолько увлечен очередной своей идеей, что просто не слышит ваших указа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ния бросается выполнять, недослушав до конца, все делает быстро, но небрежно, не замечая неточностей и ошибок, что приводит к проблемам в учеб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трудом идет на компромисс, бывает вспыльчив и агрессивен не в мер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начальной школе, когда авторитет взрослых силен, холерик, постоянно получающий замечания от учителей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6378"/>
                </a:solidFill>
                <a:latin typeface="Verdana"/>
              </a:rPr>
              <a:t>Рекомендации: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28800" y="785880"/>
            <a:ext cx="7758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Быть спокойными и терпеливыми родителями, не раздражаться, не наказывать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Не стыдить при всех, избегать сравнения с другими деть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Поощрять любое проявление старательности и терп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Учите его проговаривать сначала вслух, потом про себя этапы работы и следовать своему план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</a:rPr>
              <a:t>Заниматься подвижными видами спорт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4" descr="1schoolboy3-med"/>
          <p:cNvPicPr/>
          <p:nvPr/>
        </p:nvPicPr>
        <p:blipFill>
          <a:blip r:embed="rId1"/>
          <a:stretch/>
        </p:blipFill>
        <p:spPr>
          <a:xfrm>
            <a:off x="6786720" y="1857240"/>
            <a:ext cx="2071440" cy="220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85840" y="214200"/>
            <a:ext cx="8400960" cy="58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Помогать в осознании того, что качество лучше скор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Конструирование, рисование, ручной труд, рукоделие – помогут укрепить тормозные процессы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Контролировать выполнение дела до конц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Чаще быть вместе с ни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на природ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Научить его налаж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отношения в коллектив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4" descr="6a00d8341c3c5553ef0120a4c753c0970b-800wi"/>
          <p:cNvPicPr/>
          <p:nvPr/>
        </p:nvPicPr>
        <p:blipFill>
          <a:blip r:embed="rId1"/>
          <a:stretch/>
        </p:blipFill>
        <p:spPr>
          <a:xfrm>
            <a:off x="6143760" y="4071960"/>
            <a:ext cx="261936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4d4d6"/>
                </a:solidFill>
                <a:latin typeface="Verdana"/>
              </a:rPr>
              <a:t>Сангвиник</a:t>
            </a:r>
            <a:endParaRPr b="0" lang="en-US" sz="4400" spc="-1" strike="noStrike">
              <a:solidFill>
                <a:srgbClr val="5a6378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7120" y="714240"/>
            <a:ext cx="65008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ыстро приспосабливаетс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ыстро сходится с людь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щителе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увства легко возникают и сменяю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огатая мими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войственна открытость и доступность, в некоторых случаях беззаботность, поверхностность, непостоянств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Живой, жизнерадостный, сильный и уравновешенный 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юбознателен, активе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ружит со все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Клип 5" descr=""/>
          <p:cNvPicPr/>
          <p:nvPr/>
        </p:nvPicPr>
        <p:blipFill>
          <a:blip r:embed="rId1"/>
          <a:stretch/>
        </p:blipFill>
        <p:spPr>
          <a:xfrm>
            <a:off x="6929280" y="1285920"/>
            <a:ext cx="2071800" cy="385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0:49:23Z</dcterms:created>
  <dc:creator>2</dc:creator>
  <dc:description/>
  <dc:language>en-US</dc:language>
  <cp:lastModifiedBy>Элемент</cp:lastModifiedBy>
  <dcterms:modified xsi:type="dcterms:W3CDTF">2017-09-12T13:32:12Z</dcterms:modified>
  <cp:revision>111</cp:revision>
  <dc:subject/>
  <dc:title>Тип личности и профессия</dc:title>
</cp:coreProperties>
</file>