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805-1475-4806-9343-B8B08CB7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34A-41E0-41A3-8CD8-6FE7FB0E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CA8-3B14-489C-B1BB-84E1093C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0FD-9401-45A6-B531-B8FB5E1F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1CB-D6C6-463C-BEF5-446364D9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FDC-33C9-4E24-A3E6-70FE5AA7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FDE-7119-4105-9AEF-FAD82A8A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9AA-661F-45F9-93FA-22C1B643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91A-991B-4F70-AC5E-04E90769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8CC-A28C-471A-BBCC-DD956B52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B75-51F1-4D2A-8C75-8BF06757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7D5-EC0E-490A-84E2-8DC3AC5A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44E1-07FA-45E9-BF17-B5B3E063C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глядный  материал к лексической тем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Транспор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земный, воздушный, водный, подзем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итель: учитель-дефектолог Третьякова Е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ДОУ ЦРР д/с 87 г. Калинин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Назем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оздуш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840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од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2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одзем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1196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Спасиб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88000" y="4829040"/>
            <a:ext cx="25560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1T19:16:16Z</dcterms:created>
  <dc:creator>qwerty</dc:creator>
  <dc:description/>
  <dc:language>en-US</dc:language>
  <cp:lastModifiedBy>qwerty</cp:lastModifiedBy>
  <dcterms:modified xsi:type="dcterms:W3CDTF">2023-06-25T05:30:37Z</dcterms:modified>
  <cp:revision>4</cp:revision>
  <dc:subject/>
  <dc:title>Транспорт</dc:title>
</cp:coreProperties>
</file>