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10F-2A71-4E30-A1D4-8258A655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17A-A7A0-4628-AF96-681E952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D72-AB9E-4CE3-BB61-88D9A6D8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129-D599-4DB0-BF1D-65D0EAE9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39A-9866-40EA-BA77-E67BEF95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A92-7260-4990-A780-016D476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231-9F05-4F96-A6F9-AFAD4F53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AAE-B06A-4271-A593-5E520B68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5EC-FA74-49CC-9A3B-EE7FA066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69E-7FA4-4D08-9FD7-BEACACF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E1A-1E76-4B46-8D4A-2604EE4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C3F-CA33-4D7E-ABF8-CE5DA4E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45F-A524-473D-8DA4-84581A10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глядный  материал к лексической тем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Транспор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емный, воздушный, водный, подзем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На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4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д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119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88000" y="4829040"/>
            <a:ext cx="2556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19:16:16Z</dcterms:created>
  <dc:creator>qwerty</dc:creator>
  <dc:description/>
  <dc:language>en-US</dc:language>
  <cp:lastModifiedBy>qwerty</cp:lastModifiedBy>
  <dcterms:modified xsi:type="dcterms:W3CDTF">2023-06-25T05:30:37Z</dcterms:modified>
  <cp:revision>4</cp:revision>
  <dc:subject/>
  <dc:title>Транспорт</dc:title>
</cp:coreProperties>
</file>