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7BA-B2EC-4479-84E3-A194ED09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E41-6A3F-4B4A-9455-B525B1CB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0F8-D718-43C3-AECB-07AA6F21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E66-BE7D-4855-8B80-312B5855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101-9EF4-4209-AA57-6E87641D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581-772B-4D25-9ABB-F83592C3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A6C-CA56-4E2A-BEB0-AF36DBD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20B-2AEC-4632-886D-BFE697D2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97B-679A-4BEF-B7D0-924A95C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86E-01F1-4A6A-9D31-A3A0D2C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D3A-9F0E-4E6A-BF4C-6E1CA85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FC2-06B3-4955-8093-8216B2C7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FDDC-7203-43F0-B86D-657FACFC2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438280" y="990720"/>
            <a:ext cx="6477120" cy="4724280"/>
          </a:xfrm>
          <a:prstGeom prst="ellipse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веты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дрого Филин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ил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природе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274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505320" cy="5791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029200" y="1676520"/>
            <a:ext cx="342900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ерево од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ле возвышаетс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стоя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 ним в гроз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дям запрещает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молния в н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значай удар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живого никого Рядом не остав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257800" y="1828800"/>
            <a:ext cx="281952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икогда не ешь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х ягод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грибы-поган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рот тащить не над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лова закружится, Заболит живо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 отравл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ктор не спасе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3876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638680" y="1219320"/>
            <a:ext cx="274320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лжны всерьез вы уясн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з взросл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лес нельзя ход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заблуд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легк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йти от дома дале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найти назад пути.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ольше к маме не дой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57800" y="1066680"/>
            <a:ext cx="3352680" cy="5035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 попрос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тим реб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трог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еньких звер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уки нико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брат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чится защища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ка еще малы он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ма стере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е дн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3657600" cy="541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410080" y="60480"/>
            <a:ext cx="3048120" cy="680220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по ле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друзьями гуля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пенеч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ю увидал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не крич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зывай всех друзей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отойди с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альше скор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мни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я начинает кус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олж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врагов защищатьс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же не станеш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е обижа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ешь спокой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вой путь продолж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657600" cy="556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410080" y="1143000"/>
            <a:ext cx="281952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ужно все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здоровьем след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от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агается мы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рукты и овощ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д ед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старательно теплой во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тое ябло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рче блести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 и жив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него не бол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72428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791320" y="762120"/>
            <a:ext cx="2819160" cy="58874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спыляй аэрозо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близи открытого огн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комара или от мол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паука и от слепн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если брызнеш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на плам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зовь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 небес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езультате пострадаю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зья, ты сам... и целый ле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28600" y="533520"/>
            <a:ext cx="3886200" cy="36446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н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ход спешат ребята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знать турист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юным надо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страда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вери, птиц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роду порт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годится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19920" y="457200"/>
            <a:ext cx="3124080" cy="4216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ляны мусор собер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кост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сожгит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оставляйте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ском, землею засыпайт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дымил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искри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ды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натворил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11T11:06:3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