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2AA-CCD5-4B78-88FB-8607DE98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D00-7819-44D8-8739-F65CED2B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85A-8AAA-4E68-BECD-B1C1F51B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F3E-3F64-4259-9E76-AF25C7C2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E53-812C-43CD-B66F-5A0DB0D6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D5D-EDFE-42C8-9A9F-1F0FA0BB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0DE-8A15-4392-928F-36792B3B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83B-5AD2-41E5-8C7B-CE82D4EE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0DB-C2A6-4A8C-9B92-2217648C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64E-7168-4AC6-A022-E04B391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B7E-E808-41B6-95EB-AA9F981A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D80-87D7-40CA-B2AE-4CE4372B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9CFD-CC8F-4601-888A-169B67CC67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2438280" y="990720"/>
            <a:ext cx="6477120" cy="4724280"/>
          </a:xfrm>
          <a:prstGeom prst="ellipse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Советы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удрого Филин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авила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оведения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 природе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52280" y="0"/>
            <a:ext cx="274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3505320" cy="5791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029200" y="1676520"/>
            <a:ext cx="3429000" cy="28382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дерево од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поле возвышаетс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стоя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 ним в гроз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дям запрещаетс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молния в не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взначай удари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живого никого Рядом не оставит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342900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5257800" y="1828800"/>
            <a:ext cx="2819520" cy="28382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икогда не ешь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знакомых ягод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грибы-поган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рот тащить не над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олова закружится, Заболит живо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т отравл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ктор не спасет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3387600" cy="5638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5638680" y="1219320"/>
            <a:ext cx="2743200" cy="405792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лжны всерьез вы уяснить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ез взрослы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лес нельзя ходи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дь заблуд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легк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йти от дома далек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е найти назад пути..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больше к маме не дойт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35812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257800" y="1066680"/>
            <a:ext cx="3352680" cy="503568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ы попроси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отим ребя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трог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еньких зверя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руки никог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брать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х м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мчится защищать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ка еще малы он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х мама стереж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се дн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3657600" cy="5410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5410080" y="60480"/>
            <a:ext cx="3048120" cy="680220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по лес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друзьями гуля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а пенечк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мею увидал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не крич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сзывай всех друзей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отойди с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альше скор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мни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мея начинает кусатьс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долж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врагов защищаться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же не станеш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е обижать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жешь спокойн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вой путь продолжа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657600" cy="5562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410080" y="1143000"/>
            <a:ext cx="2819520" cy="405792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ужно всег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 здоровьем следи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потом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лагается мы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рукты и овощ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ред ед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чень старательно теплой водо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ытое яблок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ярче блести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а и живо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него не болит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724280" cy="3124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5791320" y="762120"/>
            <a:ext cx="2819160" cy="58874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распыляй аэрозо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близи открытого огн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комара или от мол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паука и от слепн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дь если брызнеш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на плам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стер взовь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 небес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результате пострадаю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рузья, ты сам... и целый лес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228600" y="533520"/>
            <a:ext cx="3886200" cy="36446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сн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поход спешат ребята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о знать турист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юным надо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б не страда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вери, птицы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роду порти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годится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019920" y="457200"/>
            <a:ext cx="3124080" cy="421668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ляны мусор собери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а костр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го сожгите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стер в лес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оставляйте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ском, землею засыпайт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б не дымилс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искри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еды в лес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натворил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90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1-11T11:06:3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