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85A-D4A0-4859-AC2D-254E50B5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35A-6F2B-426B-B745-12D3864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47B-E637-410A-8623-BD2A401D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33D-EE91-4911-8509-50D6C81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C48-5984-4292-80DF-C9CD0E9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313-335E-49F6-8FAD-40161B44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6C9-113E-4DA8-A6B0-F3544A0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31D-9DE5-4771-91FF-53DD5173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1BB-BA2B-4695-81C0-4687B14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397-D3FF-4487-AAE9-5CE1922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F30-7258-4734-9D52-7A0D1B4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106-43C3-4157-9A67-8B76ECA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306-E12E-4975-A052-E90BA2D0A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2438280" y="990720"/>
            <a:ext cx="6477120" cy="4724280"/>
          </a:xfrm>
          <a:prstGeom prst="ellipse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Советы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удрого Филина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ил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 природе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280" y="0"/>
            <a:ext cx="274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3505320" cy="5791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029200" y="1676520"/>
            <a:ext cx="342900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ерево од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ле возвышается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стоя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 ним в гроз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дям запрещаетс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молния в н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взначай удари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живого никого Рядом не остав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257800" y="1828800"/>
            <a:ext cx="2819520" cy="28382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икогда не ешь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х ягод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грибы-поган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рот тащить не над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лова закружится, Заболит живо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 отравлени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ктор не спасе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33876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638680" y="1219320"/>
            <a:ext cx="274320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лжны всерьез вы уясни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з взрослы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лес нельзя ход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заблуд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легко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йти от дома далек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найти назад пути..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ольше к маме не дойт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358128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257800" y="1066680"/>
            <a:ext cx="3352680" cy="5035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 попрос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тим реб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трог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еньких зверя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уки нико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брат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мчится защищать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ка еще малы он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мама стере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се дн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3657600" cy="5410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410080" y="60480"/>
            <a:ext cx="3048120" cy="680220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по ле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друзьями гуля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пенечк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ю увидал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 не крич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сзывай всех друзе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 отойди с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альше скоре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мн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мея начинает кус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долж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врагов защищатьс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же не станеш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е обижа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ешь спокойн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вой путь продолжат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657600" cy="55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410080" y="1143000"/>
            <a:ext cx="2819520" cy="405792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ужно всегд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 здоровьем след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ото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агается мы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рукты и овощ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ред ед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старательно теплой во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ытое яблок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рче блести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а и живо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него не болит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72428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791320" y="762120"/>
            <a:ext cx="2819160" cy="58874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распыляй аэрозо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близи открытого огн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комара или от мол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 паука и от слепн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если брызнеш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на плам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зовь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 небес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результате пострадаю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зья, ты сам... и целый ле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228600" y="533520"/>
            <a:ext cx="3886200" cy="364464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н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поход спешат ребята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знать турист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ным надо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страда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вери, птицы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роду порт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годится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19920" y="457200"/>
            <a:ext cx="3124080" cy="4216680"/>
          </a:xfrm>
          <a:prstGeom prst="rect">
            <a:avLst/>
          </a:prstGeom>
          <a:solidFill>
            <a:srgbClr val="84e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ляны мусор соберит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а костр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сожгит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стер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оставляйте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еском, землею засыпайт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б не дымил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искри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ды в лес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 натворил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908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1-11T11:06:3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