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459-DA69-4531-AB70-8D9D7B26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053-4276-47D1-A6EF-934BD475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38A-EC38-4680-AD3A-272CC439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C40-ECCF-4F1B-BAFD-2D7ABBE0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4DF-2225-4509-ADDF-B20AB46A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CDFD-7554-4092-B406-974A787D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5CB-3292-44EA-8571-FB1386E2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34C-37B0-4962-A237-2116C0A4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5B9-271B-43A3-845B-BB4FD4AF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763-9D82-46E2-BEBA-661A0503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8A7-D46F-4D54-BC41-9EC1D550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C18-7C42-4C8B-98D8-0D86C667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BB2A-B2AA-4181-9C1A-6B77431FF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2438280" y="990720"/>
            <a:ext cx="6477120" cy="4724280"/>
          </a:xfrm>
          <a:prstGeom prst="ellipse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Советы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удрого Филин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авила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оведения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 природе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52280" y="0"/>
            <a:ext cx="274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3505320" cy="5791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029200" y="1676520"/>
            <a:ext cx="3429000" cy="28382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дерево од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поле возвышаетс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стоя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 ним в гроз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дям запрещаетс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молния в не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взначай удари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живого никого Рядом не оставит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342900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5257800" y="1828800"/>
            <a:ext cx="2819520" cy="28382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икогда не ешь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знакомых ягод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грибы-поган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рот тащить не над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олова закружится, Заболит живо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т отравл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ктор не спасет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3387600" cy="5638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5638680" y="1219320"/>
            <a:ext cx="2743200" cy="405792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лжны всерьез вы уяснить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ез взрослы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лес нельзя ходи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дь заблуд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легк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йти от дома далек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е найти назад пути..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больше к маме не дойт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35812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257800" y="1066680"/>
            <a:ext cx="3352680" cy="503568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ы попроси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отим ребя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трог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еньких зверя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руки никог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брать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х м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мчится защищать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ка еще малы он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х мама стереж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се дн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3657600" cy="5410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5410080" y="60480"/>
            <a:ext cx="3048120" cy="680220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по лес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друзьями гуля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а пенечк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мею увидал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не крич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сзывай всех друзей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отойди с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альше скор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мни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мея начинает кусатьс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долж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врагов защищаться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же не станеш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е обижать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жешь спокойн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вой путь продолжа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657600" cy="5562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410080" y="1143000"/>
            <a:ext cx="2819520" cy="405792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ужно всег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 здоровьем следи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потом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лагается мы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рукты и овощ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ред ед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чень старательно теплой водо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ытое яблок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ярче блести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а и живо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него не болит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724280" cy="3124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5791320" y="762120"/>
            <a:ext cx="2819160" cy="58874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распыляй аэрозо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близи открытого огн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комара или от мол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паука и от слепн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дь если брызнеш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на плам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стер взовь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 небес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результате пострадаю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рузья, ты сам... и целый лес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228600" y="533520"/>
            <a:ext cx="3886200" cy="36446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сн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поход спешат ребята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о знать турист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юным надо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б не страда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вери, птицы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роду порти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годится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019920" y="457200"/>
            <a:ext cx="3124080" cy="421668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ляны мусор собери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а костр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го сожгите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стер в лес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оставляйте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ском, землею засыпайт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б не дымилс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искри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еды в лес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натворил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90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1-11T11:06:3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