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C8-78FA-422D-9FF6-A3C49D69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E31-2229-4614-958F-D4894861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28-9981-44E5-921A-C04D68B2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9E2-B87B-4212-9B4F-8BA3918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8D3E-B300-4648-B608-77491F8C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BA8B-610C-44D4-B85D-5AC461A8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78CA-DC35-4367-BC1B-D6BE197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90B6-8371-42DC-B865-E8FC84ED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F481-0822-4546-A4C9-24E6E4C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A410-EB13-4DD3-9A29-C2A1D2A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602A-50E4-44FB-B3FE-19BFC3B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D1D-50CB-4453-823F-A792B89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FFA6-2398-4B26-9CD9-AAA9F31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D803-39C0-427C-996D-E31F9ADB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7966-4B90-47E0-AE96-99044C9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F6D0-924A-42DE-8051-FBCC03E1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2275-E216-43C0-A306-09A24B6E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8B6-E1A2-4467-A9D7-14F8B2F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058-89BA-404F-A392-F0FAFBB8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389-B984-4434-859A-4257A31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46A-BE5F-483B-A66F-ADE6552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25F-9472-42AD-91E2-428D5C38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CE0-02C1-4ED8-8370-C0665A09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B15-15D2-4692-87E7-231771A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6E5-88F9-4E1F-883F-C931477D5A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091-0076-47B5-BD29-6E6FBAA42FC8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60640"/>
            <a:ext cx="7772400" cy="25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Использование воспитательных возможностей  содержания урока.</a:t>
            </a:r>
            <a:br>
              <a:rPr sz="36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Модуль «Школьный урок»»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46530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амолюк И.В., учитель начальных классов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пгт Излучинск 12.02.2021год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2843280" y="2805120"/>
            <a:ext cx="180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79280" y="115920"/>
          <a:ext cx="7921800" cy="6373800"/>
        </p:xfrm>
        <a:graphic>
          <a:graphicData uri="http://schemas.openxmlformats.org/drawingml/2006/table">
            <a:tbl>
              <a:tblPr/>
              <a:tblGrid>
                <a:gridCol w="2336760"/>
                <a:gridCol w="3046680"/>
                <a:gridCol w="914400"/>
                <a:gridCol w="1623960"/>
              </a:tblGrid>
              <a:tr h="6094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Воспитательный аспект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(использование воспитательных возможностей содержания учебного предмета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Предмет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Класс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 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663300"/>
                          </a:solidFill>
                          <a:latin typeface="Times New Roman"/>
                          <a:ea typeface="№Е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0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Использование воспитательного потенциала урока: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-привлечение внимания учащихся к ценностному аспекту изучаемых явлений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- демонстрация детям примеров ответственного, гражданского поведения, проявления человеколюбия и добросердечности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Литературное  чтение, окружающий мир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английский язык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узыка, ОРКСЭ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 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учителя-предметник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Проведение тематических уроков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Согласно  плана воспитательной работы, календаря знаменательных дат.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.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о предметам занимательных уроков и пятиминуток,  организация интеллектуальных игр, учебно-развлекательных мероприятий, стимулирующих познавательную мотивацию школьников, налаживание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Symbol"/>
                        </a:rPr>
                        <a:t>позитивных межличностных отношений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. русский язык,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литературное  чтение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кружающий мир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узыка, ОРКСЭ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к - деловая игра, урок – путешествие, урок мастер-класс, урок-исследование, квест, игра-провокация, игра-эксперимент, игра-демонстрация, игра-состязание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«Брейн-ринг», «Что? Где? Когда?» «Кто хочет стать миллионером?»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метный кроссворд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«Своя игра»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, учителя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Проведение предметных декад, месячников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лимпи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, научно-практических конференций, инициирующих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ую, проектную деятельность школьников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Математика, русский язык, английский язык, литературное чтение, окружающий мир, музыка, ИЗО, технология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учителя-предметник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(по плану методической работы)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рганизация 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№Е"/>
                        </a:rPr>
                        <a:t> шефства мотивированных и эрудированных учащихся над их неуспевающими одноклассниками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Все предметы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классные руководители, городовой класса</a:t>
                      </a:r>
                      <a:endParaRPr b="0" lang="en-US" sz="10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экскурсий в природе, по значимым местам посёлка, предприятиям посёлка.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Окружающий мир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1-4 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№Е"/>
                        </a:rPr>
                        <a:t>учителя, педагог-организатор.</a:t>
                      </a:r>
                      <a:endParaRPr b="0" lang="en-US" sz="1100" spc="-1" strike="noStrike">
                        <a:solidFill>
                          <a:srgbClr val="663300"/>
                        </a:solidFill>
                        <a:latin typeface="Times New Roman"/>
                      </a:endParaRPr>
                    </a:p>
                  </a:txBody>
                  <a:tcPr anchor="t" marL="33120" marR="33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bino1"/>
          <p:cNvPicPr/>
          <p:nvPr/>
        </p:nvPicPr>
        <p:blipFill>
          <a:blip r:embed="rId1"/>
          <a:srcRect l="0" t="0" r="0" b="14727"/>
          <a:stretch/>
        </p:blipFill>
        <p:spPr>
          <a:xfrm>
            <a:off x="5867280" y="4292640"/>
            <a:ext cx="2251080" cy="23032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офессионализм учителя заключается не столько в методической грамотности, сколько в умении отбирать материал к уроку, определять его образовательные и воспитательные возможности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Талант педагога - в тонком чувствовании возможностей своего предмета в формировании моральных, интеллектуальных, волевых, эмоциональных качеств личност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оспитательные требования к уроку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Постановка воспитательных задач урока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2. Формирование у обучающихся на основе приобретенных научных знаний  высоких моральных качеств и эстетических вкусов, обеспечение тесной связи обучения с жизнью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3. Формирование и развитие у обучающихся познавательных интересов, положительных мотивов учебно-познавательной деятельности, умений и навыков самостоятельного овладения знаниями переноса знаний, творческой инициативы и активности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4. Всестороннее изучение и учет уровня развития и психологических особенностей обучающихся (типа мышления, памяти, внимания, наличия эмоций, воображения и др.)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5. Соблюдение учителем педагогического такт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ВОСПИТЫВАЮЩЕЕ ОБУЧЕНИЕ -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52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ОБУЧЕНИЕ, В ПРОЦЕССЕ  КОТОРОГО ОРГАНИЗУЕТСЯ    ЦЕЛЕНАПРАВЛЕННОЕ ФОРМИРОВАНИЕ    ЗАПЛАНИРОВАННЫХ УЧИТЕЛЕМ    ОТНОШЕНИЙ ОБУЧАЮЩИХСЯ   К    РАЗЛИЧНЫМ ЯВЛЕНИЯМ    ОКРУЖАЮЩЕЙ    ЖИЗНИ, С   КОТОРЫМИ   УЧЕНИК   СТАЛКИВАЕТСЯ НА   УРОКЕ </a:t>
            </a: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Calibri"/>
              </a:rPr>
              <a:t>«...Нужно уметь сказать так, чтобы они (ученики.) в вашем слове почувствовали вашу волю, вашу культуру, вашу личность».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А.С. Макаренко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2860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не дано предугадать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наше слово отзовётся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еять в душах благод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ы, не всякий раз даётся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мы обязаны мечт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дивном времени, о веке,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гда цветком прекрасным стать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lnSpc>
                <a:spcPts val="1687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меет личность человека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5435640" y="1093680"/>
            <a:ext cx="2157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7417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168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«Хочешь наукой воспитать ученика -люби свою науку и знай ее, и ученики полюбят тебя и науку, и ты воспитаешь их, но если ты сам не любишь ее, сколь бы ты ни заставлял учить, наука не произведет воспитательного воздействия».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                                                                   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                                           </a:t>
            </a:r>
            <a:r>
              <a:rPr b="1" i="1" lang="ru-RU" sz="3200" spc="-1" strike="noStrike">
                <a:solidFill>
                  <a:srgbClr val="663300"/>
                </a:solidFill>
                <a:latin typeface="Calibri"/>
                <a:ea typeface="Times New Roman"/>
              </a:rPr>
              <a:t>Л. Н. Толстой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3635280" y="127080"/>
            <a:ext cx="1150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836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оспитание</a:t>
            </a: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 является одной из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важнейших составляющих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разовательного процесса наряду с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учением. Дополняя друг друга,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учение и 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оспитание служат единой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целостному развитию 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и 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ика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8" name="Picture 5" descr="LXpUc0778bDHQM"/>
          <p:cNvPicPr/>
          <p:nvPr/>
        </p:nvPicPr>
        <p:blipFill>
          <a:blip r:embed="rId1"/>
          <a:stretch/>
        </p:blipFill>
        <p:spPr>
          <a:xfrm>
            <a:off x="2771640" y="393372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«Мы учимся не для школы, а для жизни» 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1687"/>
              </a:lnSpc>
              <a:spcBef>
                <a:spcPts val="700"/>
              </a:spcBef>
              <a:buClr>
                <a:srgbClr val="0070c0"/>
              </a:buClr>
              <a:buFont typeface="Symbol" charset="2"/>
              <a:buChar char="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70c0"/>
                </a:solidFill>
                <a:uFillTx/>
                <a:latin typeface="Times New Roman"/>
                <a:ea typeface="№Е"/>
              </a:rPr>
              <a:t>установление доверительных отношений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между учителем и его учениками, способствующ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их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позитивному восприятию учащимися требова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ний и просьб учителя, привлечению их внимани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к обсуждаемой на уроке информации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ts val="1687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 </a:t>
            </a:r>
            <a:r>
              <a:rPr b="0" lang="pl-PL" sz="2800" spc="-1" strike="noStrike">
                <a:solidFill>
                  <a:srgbClr val="0070c0"/>
                </a:solidFill>
                <a:latin typeface="Times New Roman"/>
                <a:ea typeface="№Е"/>
              </a:rPr>
              <a:t>активизации их познавательной деятельности;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228600" y="189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обуждение школьников соблюдать на уроке общепринятые нормы поведения, правила общения со старшими (учителями) и сверстниками (школьниками), принципы учебной дисциплины и самоорганизации;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-</a:t>
            </a:r>
            <a:r>
              <a:rPr b="0" lang="pl-PL" sz="24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ривлечение внимания школьников к ценностному аспекту изучаемых на уроках явлений, организация их работы с получаемой на уроке социально значимой информацией – инициирование ее обсуждения, высказывания учащимися своего мнения по ее поводу, выработки своего к ней отношения; 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28600" y="11592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Symbol"/>
              </a:rPr>
              <a:t>использование воспитательных возможностей содержания учебного предмета через демонстрацию детям примеров ответственного, гражданского поведения, проявления человеколюбия и добросердечности, перевод содержания с уровня знаний на уровень личностных смыслов, восприятие ценностей через подбор соответствующих текстов для чтения, задач для решения, проблемных ситуаций для обсуждения в классе, анализ поступков людей, историй судеб, комментарии к происходящим в мире событиям, историческая справка «Лента времени», проведение Уроков мужества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28600" y="189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применение на уроке интерактивных форм работы учащихся: интеллектуальных игр, стимулирующих познавательную мотивацию школьников; дискуссий, которые дают учащимся возможность приобрести опыт ведения конструктивного диалога; групповой работы или работы в парах, которы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№Е"/>
              </a:rPr>
              <a:t>учат школьников командной работе и взаимодействию с другими детьми;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№Е"/>
              </a:rPr>
              <a:t>-включение в урок игровых процедур, которые помогают поддержать мотивацию детей к получению знаний, налаживанию позитивных межличностных отношений в классе, помогают установлению доброжелательной атмосферы во время урока;  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76360" y="4149720"/>
            <a:ext cx="2376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main"/>
          <p:cNvPicPr/>
          <p:nvPr/>
        </p:nvPicPr>
        <p:blipFill>
          <a:blip r:embed="rId1"/>
          <a:stretch/>
        </p:blipFill>
        <p:spPr>
          <a:xfrm>
            <a:off x="3492360" y="3506760"/>
            <a:ext cx="4464360" cy="3317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333360"/>
            <a:ext cx="751212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организация шефства мотивированных и эрудированных учащихся над их неуспевающими одноклассниками, дающ</a:t>
            </a: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его</a:t>
            </a:r>
            <a:r>
              <a:rPr b="0" lang="pl-PL" sz="32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 школьникам социально значимый опыт сотрудничества и взаимной помощи;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28600" y="691920"/>
            <a:ext cx="7772400" cy="60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2060"/>
                </a:solidFill>
                <a:uFillTx/>
                <a:latin typeface="Times New Roman"/>
                <a:ea typeface="№Е"/>
              </a:rPr>
              <a:t>инициирование и поддержка исследовательской деятельности школьников в рамках реализации ими индивидуальных и групповых исследовательских проектов, что даст школьникам возможность приобрести навык самостоятельного решения теоретической проблемы, навык генерирования и оформления собственных идей, навык уважительного отношения к чужим идеям, оформленным в работах других исследователей, навык публичного выступления перед аудиторией, аргументирования и отстаивания своей точки зрения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630360"/>
                <a:tab algn="l" pos="83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08" name="Рисунок 9" descr=""/>
          <p:cNvPicPr/>
          <p:nvPr/>
        </p:nvPicPr>
        <p:blipFill>
          <a:blip r:embed="rId1"/>
          <a:stretch/>
        </p:blipFill>
        <p:spPr>
          <a:xfrm>
            <a:off x="4645080" y="3718080"/>
            <a:ext cx="3041640" cy="217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"/>
          <p:cNvPicPr/>
          <p:nvPr/>
        </p:nvPicPr>
        <p:blipFill>
          <a:blip r:embed="rId2"/>
          <a:stretch/>
        </p:blipFill>
        <p:spPr>
          <a:xfrm>
            <a:off x="950760" y="3645000"/>
            <a:ext cx="302436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57:44Z</dcterms:created>
  <dc:creator>Teacher</dc:creator>
  <dc:description/>
  <cp:keywords/>
  <dc:language>en-US</dc:language>
  <cp:lastModifiedBy>User</cp:lastModifiedBy>
  <dcterms:modified xsi:type="dcterms:W3CDTF">2023-06-26T11:16:49Z</dcterms:modified>
  <cp:revision>26</cp:revision>
  <dc:subject/>
  <dc:title>Воспитательные возможности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