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988-5CC1-45D7-ACC4-D1EA8B58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4A1-F0CF-4262-83D6-36C954E8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5BC-AF3E-4D56-8253-30A45F7E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6A8-9C19-4C30-81C2-61254C54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68F5-5FB3-44CF-B7C6-8B301A6C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368D-A093-431E-A07B-BCEB3391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AC60-1236-4DBE-9E63-AD99B4A6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D64E-16C2-487A-92D9-90907E44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1D6F-5B4C-4A68-8758-4470247A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5573-24BB-48EE-AA6E-C1F4E83D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BAAA-6D9C-4997-8086-26D4C8F9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9EE-D3DE-4EEC-AC87-B495AA4F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F40A-414F-434C-820D-DC6E07E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9B9F-B272-4CF8-B361-A8E2354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8893-3FD3-4289-9AB1-CD4F110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A35A-6946-4F4B-886E-4C4E3F0C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0A3B-03F5-4459-A899-8DC2124A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E8D-635B-4DF1-A977-A1556A2A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FE7-C97F-44DB-AA88-90B9D99A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1BD-A182-46B9-A5F2-33F9FE12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708-89E3-439D-8643-07F2AF04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A0A-A08E-4CEE-AF49-60C331E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A84-38FE-41B0-A4E1-CABA2C3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F9F-1981-401B-B229-A6F9AB47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A1CF-0813-4F92-B20A-2E736CC1AD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0494-2586-4442-B41D-8A8D0628686F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60640"/>
            <a:ext cx="7772400" cy="25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«Использование воспитательных возможностей  содержания урока.</a:t>
            </a: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Модуль «Школьный урок»»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46530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амолюк И.В., учитель начальных классов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гт Излучинск 12.02.2021год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2843280" y="2805120"/>
            <a:ext cx="1800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79280" y="115920"/>
          <a:ext cx="7921800" cy="6373800"/>
        </p:xfrm>
        <a:graphic>
          <a:graphicData uri="http://schemas.openxmlformats.org/drawingml/2006/table">
            <a:tbl>
              <a:tblPr/>
              <a:tblGrid>
                <a:gridCol w="2336760"/>
                <a:gridCol w="3046680"/>
                <a:gridCol w="914400"/>
                <a:gridCol w="1623960"/>
              </a:tblGrid>
              <a:tr h="6094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Воспитательный аспект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ymbol"/>
                        </a:rPr>
                        <a:t>(использование воспитательных возможностей содержания учебного предмета)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Классы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 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Ответственные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00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Использование воспитательного потенциала урока: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-привлечение внимания учащихся к ценностному аспекту изучаемых явлений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ymbol"/>
                        </a:rPr>
                        <a:t>- демонстрация детям примеров ответственного, гражданского поведения, проявления человеколюбия и добросердечности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Литературное  чтение, окружающий мир,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 английский язык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узыка, ОРКСЭ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 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учителя, учителя-предметники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Проведение тематических уроков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Согласно  плана воспитательной работы, календаря знаменательных дат.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классные руководители.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о предметам занимательных уроков и пятиминуток,  организация интеллектуальных игр, учебно-развлекательных мероприятий, стимулирующих познавательную мотивацию школьников, налаживание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ymbol"/>
                        </a:rPr>
                        <a:t>позитивных межличностных отношений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. русский язык,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литературное  чтение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окружающий мир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узыка, ОРКСЭ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рок - деловая игра, урок – путешествие, урок мастер-класс, урок-исследование, квест, игра-провокация, игра-эксперимент, игра-демонстрация, игра-состязание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 «Брейн-ринг», «Что? Где? Когда?» «Кто хочет стать миллионером?»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метный кроссворд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«Своя игра»)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классные руководители, учителя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Проведение предметных декад, месячников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лимпи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, научно-практических конференций, инициирующих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ую, проектную деятельность школьников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Математика, русский язык, английский язык, литературное чтение, окружающий мир, музыка, ИЗО, технология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Учителя, учителя-предметники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(по плану методической работы)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Организация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№Е"/>
                        </a:rPr>
                        <a:t> шефства мотивированных и эрудированных учащихся над их неуспевающими одноклассниками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Все предметы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классные руководители, городовой класса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экскурсий в природе, по значимым местам посёлка, предприятиям посёлка.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Окружающий мир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учителя, педагог-организатор.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bino1"/>
          <p:cNvPicPr/>
          <p:nvPr/>
        </p:nvPicPr>
        <p:blipFill>
          <a:blip r:embed="rId1"/>
          <a:srcRect l="0" t="0" r="0" b="14727"/>
          <a:stretch/>
        </p:blipFill>
        <p:spPr>
          <a:xfrm>
            <a:off x="5867280" y="4292640"/>
            <a:ext cx="2251080" cy="2303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рофессионализм учителя заключается не столько в методической грамотности, сколько в умении отбирать материал к уроку, определять его образовательные и воспитательные возможности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Талант педагога - в тонком чувствовании возможностей своего предмета в формировании моральных, интеллектуальных, волевых, эмоциональных качеств личност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оспитательные требования к уроку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777240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остановка воспитательных задач урока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2. Формирование у обучающихся на основе приобретенных научных знаний  высоких моральных качеств и эстетических вкусов, обеспечение тесной связи обучения с жизнью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3. Формирование и развитие у обучающихся познавательных интересов, положительных мотивов учебно-познавательной деятельности, умений и навыков самостоятельного овладения знаниями переноса знаний, творческой инициативы и активности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4. Всестороннее изучение и учет уровня развития и психологических особенностей обучающихся (типа мышления, памяти, внимания, наличия эмоций, воображения и др.)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5. Соблюдение учителем педагогического такт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ВОСПИТЫВАЮЩЕЕ ОБУЧЕНИЕ -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52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ОБУЧЕНИЕ, В ПРОЦЕССЕ  КОТОРОГО ОРГАНИЗУЕТСЯ    ЦЕЛЕНАПРАВЛЕННОЕ ФОРМИРОВАНИЕ    ЗАПЛАНИРОВАННЫХ УЧИТЕЛЕМ    ОТНОШЕНИЙ ОБУЧАЮЩИХСЯ   К    РАЗЛИЧНЫМ ЯВЛЕНИЯМ    ОКРУЖАЮЩЕЙ    ЖИЗНИ, С   КОТОРЫМИ   УЧЕНИК   СТАЛКИВАЕТСЯ НА   УРОКЕ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Calibri"/>
              </a:rPr>
              <a:t>«...Нужно уметь сказать так, чтобы они (ученики.) в вашем слове почувствовали вашу волю, вашу культуру, вашу личность»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А.С. Макаренко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28600" y="134136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 не дано предугадать,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наше слово отзовётся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еять в душах благодат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ы, не всякий раз даётся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мы обязаны мечтат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дивном времени, о веке,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цветком прекрасным стат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меет личность человека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435640" y="1093680"/>
            <a:ext cx="2157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741708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16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«Хочешь наукой воспитать ученика -люби свою науку и знай ее, и ученики полюбят тебя и науку, и ты воспитаешь их, но если ты сам не любишь ее, сколь бы ты ни заставлял учить, наука не произведет воспитательного воздействия».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                                                                    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                                           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Л. Н. Толстой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635280" y="12708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600" y="836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Воспитание</a:t>
            </a:r>
            <a:r>
              <a:rPr b="0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 является одной из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важнейших составляющих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бразовательного процесса наряду с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бучением. Дополняя друг друга,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бучение и </a:t>
            </a: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оспитание служат единой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</a:t>
            </a: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целостному развитию 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ости 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ьника</a:t>
            </a: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8" name="Picture 5" descr="LXpUc0778bDHQM"/>
          <p:cNvPicPr/>
          <p:nvPr/>
        </p:nvPicPr>
        <p:blipFill>
          <a:blip r:embed="rId1"/>
          <a:stretch/>
        </p:blipFill>
        <p:spPr>
          <a:xfrm>
            <a:off x="2771640" y="393372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«Мы учимся не для школы, а для жизни» 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6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1687"/>
              </a:lnSpc>
              <a:spcBef>
                <a:spcPts val="700"/>
              </a:spcBef>
              <a:buClr>
                <a:srgbClr val="0070c0"/>
              </a:buClr>
              <a:buFont typeface="Symbol" charset="2"/>
              <a:buChar char="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70c0"/>
                </a:solidFill>
                <a:uFillTx/>
                <a:latin typeface="Times New Roman"/>
                <a:ea typeface="№Е"/>
              </a:rPr>
              <a:t>установление доверительных отношений</a:t>
            </a: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между учителем и его учениками, способствующ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их</a:t>
            </a: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 позитивному восприятию учащимися требова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ний и просьб учителя, привлечению их внимания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 </a:t>
            </a: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к обсуждаемой на уроке информации,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 </a:t>
            </a: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активизации их познавательной деятельности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28600" y="18900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побуждение школьников соблюдать на уроке общепринятые нормы поведения, правила общения со старшими (учителями) и сверстниками (школьниками), принципы учебной дисциплины и самоорганизации;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-</a:t>
            </a:r>
            <a:r>
              <a:rPr b="0" lang="pl-PL" sz="24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привлечение внимания школьников к ценностному аспекту изучаемых на уроках явлений, организация их работы с получаемой на уроке социально значимой информацией – инициирование ее обсуждения, высказывания учащимися своего мнения по ее поводу, выработки своего к ней отношения;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8600" y="11592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Symbol"/>
              </a:rPr>
              <a:t>использование воспитательных возможностей содержания учебного предмета через демонстрацию детям примеров ответственного, гражданского поведения, проявления человеколюбия и добросердечности, перевод содержания с уровня знаний на уровень личностных смыслов, восприятие ценностей через подбор соответствующих текстов для чтения, задач для решения, проблемных ситуаций для обсуждения в классе, анализ поступков людей, историй судеб, комментарии к происходящим в мире событиям, историческая справка «Лента времени», проведение Уроков мужества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28600" y="18900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применение на уроке интерактивных форм работы учащихся: интеллектуальных игр, стимулирующих познавательную мотивацию школьников; дискуссий, которые дают учащимся возможность приобрести опыт ведения конструктивного диалога; групповой работы или работы в парах, которы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№Е"/>
              </a:rPr>
              <a:t>учат школьников командной работе и взаимодействию с другими детьми;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№Е"/>
              </a:rPr>
              <a:t>-включение в урок игровых процедур, которые помогают поддержать мотивацию детей к получению знаний, налаживанию позитивных межличностных отношений в классе, помогают установлению доброжелательной атмосферы во время урока; 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76360" y="4149720"/>
            <a:ext cx="2376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main"/>
          <p:cNvPicPr/>
          <p:nvPr/>
        </p:nvPicPr>
        <p:blipFill>
          <a:blip r:embed="rId1"/>
          <a:stretch/>
        </p:blipFill>
        <p:spPr>
          <a:xfrm>
            <a:off x="3492360" y="3506760"/>
            <a:ext cx="4464360" cy="3317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333360"/>
            <a:ext cx="751212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организация шефства мотивированных и эрудированных учащихся над их неуспевающими одноклассниками, дающ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его</a:t>
            </a:r>
            <a:r>
              <a:rPr b="0" lang="pl-PL" sz="32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 школьникам социально значимый опыт сотрудничества и взаимной помощи;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600" y="691920"/>
            <a:ext cx="77724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инициирование и поддержка исследовательской деятельности школьников в рамках реализации ими индивидуальных и групповых исследовательских проектов, что даст школьникам возможность приобрести навык самостоятельного решения теоретической проблемы, навык генерирования и оформления собственных идей, навык уважительного отношения к чужим идеям, оформленным в работах других исследователей, навык публичного выступления перед аудиторией, аргументирования и отстаивания своей точки зрения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8" name="Рисунок 9" descr=""/>
          <p:cNvPicPr/>
          <p:nvPr/>
        </p:nvPicPr>
        <p:blipFill>
          <a:blip r:embed="rId1"/>
          <a:stretch/>
        </p:blipFill>
        <p:spPr>
          <a:xfrm>
            <a:off x="4645080" y="3718080"/>
            <a:ext cx="3041640" cy="2170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0" descr=""/>
          <p:cNvPicPr/>
          <p:nvPr/>
        </p:nvPicPr>
        <p:blipFill>
          <a:blip r:embed="rId2"/>
          <a:stretch/>
        </p:blipFill>
        <p:spPr>
          <a:xfrm>
            <a:off x="950760" y="3645000"/>
            <a:ext cx="30243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57:44Z</dcterms:created>
  <dc:creator>Teacher</dc:creator>
  <dc:description/>
  <cp:keywords/>
  <dc:language>en-US</dc:language>
  <cp:lastModifiedBy>User</cp:lastModifiedBy>
  <dcterms:modified xsi:type="dcterms:W3CDTF">2023-06-26T11:16:49Z</dcterms:modified>
  <cp:revision>26</cp:revision>
  <dc:subject/>
  <dc:title>Воспитательные возможности ур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