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8D7-31A3-4B9F-8DCA-3B74BAB8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147-62CE-4294-9C0A-5FDB88F9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34E-C3A6-4116-AB1D-35EE4167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FE0-F5A2-459B-9885-3C695302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02B-68FB-4F54-8EA4-14B53F03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C3C-77AD-40BA-B9B6-02833C65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315-78C2-426D-8637-33A90E7A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4E2-2F91-43A6-A3C1-FA59F198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EED-F23B-47C2-83FE-F45AEAF4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B63-68D1-4DB0-9A45-1A05406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C4E-8495-4541-ACC0-D620D5BC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81D-F3D6-4FEF-8D4C-B9B4C957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F02A-24E6-45CA-BB76-7396CAE29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Calibri"/>
              </a:rPr>
              <a:t>«Организация индивидуального сопровождения высокомотивированных школьников  начальной школ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3720" y="4723920"/>
            <a:ext cx="5334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Излучинская ОНШ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юк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-65160" y="15840"/>
            <a:ext cx="22622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конк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«Русский медвежонок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Кенгуру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Онлайн-олимпиады « Учи. ру»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ЯКласс», «Яндекс учебни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 ФГОС тест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В гостях у сказк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54061"/>
                </a:solidFill>
                <a:uFillTx/>
                <a:latin typeface="Times New Roman"/>
                <a:ea typeface="Times New Roman"/>
              </a:rPr>
              <a:t>Каждый педагог должен помнит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Цели, которые вы ставите в развитии способностей высокомотивированных  детей, – реальны. Главное- верьте и действуйте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39116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80"/>
                </a:solidFill>
                <a:latin typeface="Arial"/>
                <a:ea typeface="Times New Roman"/>
              </a:rPr>
              <a:t>«Давно замечено, что таланты являются всюду и всегда, где и когда существуют условия, благоприятные для их развития»</a:t>
            </a:r>
            <a:br>
              <a:rPr sz="3600"/>
            </a:b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                                            </a:t>
            </a:r>
            <a:r>
              <a:rPr b="0" lang="ru-RU" sz="44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                     </a:t>
            </a:r>
            <a:r>
              <a:rPr b="0" lang="ru-RU" sz="4400" spc="-1" strike="noStrike">
                <a:solidFill>
                  <a:srgbClr val="0070c0"/>
                </a:solidFill>
                <a:latin typeface="Arial"/>
                <a:ea typeface="Times New Roman"/>
              </a:rPr>
              <a:t>Г.В. Плеханов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14040" y="1519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98680"/>
                <a:tab algn="l" pos="2106720"/>
                <a:tab algn="l" pos="3355920"/>
                <a:tab algn="l" pos="4210200"/>
                <a:tab algn="l" pos="5397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мотивированный ребён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бёнок, у которого высоко развиты внутренняя и внешняя потребности быть успешными в определённой области знаний и деятельности. Мотивированные (способные) дети имеют более высокие по сравнению с большинством  интеллектуальные способности, восприимчивость к учению, творческие возможности и проявления; имеют  доминирующую активную, ненасыщенную познавательную потребность; испытывают радость от добывания знаний, умств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98680"/>
                <a:tab algn="l" pos="2106720"/>
                <a:tab algn="l" pos="3355920"/>
                <a:tab algn="l" pos="4210200"/>
                <a:tab algn="l" pos="5397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914400" y="228600"/>
            <a:ext cx="72388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рённых детей условно делю (по Б.М. Теплову) на 4 групп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высокими показателями интелл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высоким уровнем творческих способност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достигшие успехов в каких-либо областях деятельности (юные музыканты, художники, спортсмены и т. д.). Эту категорию чаще называют талантливы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, хорошо обучающиеся в школе (академическая одаренность).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User\Downloads\ocosonlj6qsbfxumwzxopxosaxbuypd6rc7qlvzhirohxhgtigkpukfrisk6uzc3-.jpg"/>
          <p:cNvPicPr/>
          <p:nvPr/>
        </p:nvPicPr>
        <p:blipFill>
          <a:blip r:embed="rId1"/>
          <a:stretch/>
        </p:blipFill>
        <p:spPr>
          <a:xfrm>
            <a:off x="2365200" y="3127320"/>
            <a:ext cx="5102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СНОВНЫЕ ПРИНЦИПЫ РАБОТЫ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 ВЫСОКОМОТИВИРОВАННЫМИ УЧЕНИКАМ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изация и дифференциация обу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ение и сохранение душевного здоровья и эмоционального благополучия учащихся как необходимого условия успешности люб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людение режима умственного труда и отдыха, достаточной физической актив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хранение высокой самооценки одарённого ребёнка, непосредственно связанной с развитием любознательности и в целом с развитием ли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развивающей среды, стимулирующей любознательность ребёнка и обеспечивающей возможность её удовлетворения (кружки, экскурсии, пример взрослых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ирокая реализация межпредметных связей в образовательном процессе и в индивидуальной работе с учащими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местная работа учеников над определённой проблемой при минимальном участии учи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бода выбора учащимися направлений внеурочн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альное разнообразие предоставляем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И ФОРМЫ РАБО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чны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индивидуального стиля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ая и дифференцированная направленность учебн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ие межпредметного подхода на основе интеграции тем и проблем, относящихся к различным областям зна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уровневое объяснение учебного матери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упповые формы работ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формы вовлечения учащихся в самостоятельную познавательную деяте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я творческого характ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неурочны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метные недел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ллектуальные олимпиады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акультативные занят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ужковые занят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курсы различной направлен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стема внеклассной воспитательной работ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4:54:06Z</dcterms:created>
  <dc:creator>Катенок</dc:creator>
  <dc:description/>
  <dc:language>en-US</dc:language>
  <cp:lastModifiedBy>User</cp:lastModifiedBy>
  <dcterms:modified xsi:type="dcterms:W3CDTF">2023-06-26T11:43:12Z</dcterms:modified>
  <cp:revision>26</cp:revision>
  <dc:subject/>
  <dc:title>Слайд 1</dc:title>
</cp:coreProperties>
</file>