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A9A-C7EA-4519-99F2-88BD64AF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D17-5140-483F-917F-B4CD9E6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208-DC4D-47A3-BEC9-F132D99B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914-B7F7-4F3C-9CAD-CAA66216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66B-2FD2-4CB8-989F-5B7F52A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79E-9948-40B4-BF0F-29D2FBF6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9B8-F220-42EE-BBD5-258EA563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A37-D0E0-49F6-81D0-D279F5B5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CB9-7F61-4299-A80C-BC61C29D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2E6-03B7-4BFA-8755-738EA8F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BF4-EB04-4480-A2EC-5CDDA34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ADC-FDF6-4726-BD18-4858415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069-0D60-4937-8C31-4EE127CB4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Calibri"/>
              </a:rPr>
              <a:t>«Организация индивидуального сопровождения высокомотивированных школьников  начально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3720" y="47239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Излучинская ОН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юк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-65160" y="15840"/>
            <a:ext cx="2262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усский медвежонок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Кенгуру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нлайн-олимпиады « Учи. ру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ЯКласс», «Яндекс учебн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 ФГОС тест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 гостях у сказ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Каждый педагог должен помни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Цели, которые вы ставите в развитии способностей высокомотивированных  детей, – реальны. Главное- верьте и действуйте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3911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  <a:ea typeface="Times New Roman"/>
              </a:rPr>
              <a:t>«Давно замечено, что таланты являются всюду и всегда, где и когда существуют условия, благоприятные для их развития»</a:t>
            </a:r>
            <a:br>
              <a:rPr sz="3600"/>
            </a:b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                                           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                    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Times New Roman"/>
              </a:rPr>
              <a:t>Г.В. Плехано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040" y="1519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98680"/>
                <a:tab algn="l" pos="2106720"/>
                <a:tab algn="l" pos="3355920"/>
                <a:tab algn="l" pos="4210200"/>
                <a:tab algn="l" pos="5397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тивированный ребён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бёнок, у которого высоко развиты внутренняя и внешняя потребности быть успешными в определённой области знаний и деятельности. Мотивированные (способные) дети имеют более высокие по сравнению с большинством  интеллектуальные способности, восприимчивость к учению, творческие возможности и проявления; имеют  доминирующую активную, ненасыщенную познавательную потребность; испытывают радость от добывания знаний, умств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98680"/>
                <a:tab algn="l" pos="2106720"/>
                <a:tab algn="l" pos="3355920"/>
                <a:tab algn="l" pos="4210200"/>
                <a:tab algn="l" pos="5397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914400" y="228600"/>
            <a:ext cx="7238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ых детей условно делю (по Б.М. Теплову) на 4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высокими показателями интелл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высоким уровнем творческих способ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достигшие успехов в каких-либо областях деятельности (юные музыканты, художники, спортсмены и т. д.). Эту категорию чаще называют талантливы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хорошо обучающиеся в школе (академическая одаренность).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User\Downloads\ocosonlj6qsbfxumwzxopxosaxbuypd6rc7qlvzhirohxhgtigkpukfrisk6uzc3-.jpg"/>
          <p:cNvPicPr/>
          <p:nvPr/>
        </p:nvPicPr>
        <p:blipFill>
          <a:blip r:embed="rId1"/>
          <a:stretch/>
        </p:blipFill>
        <p:spPr>
          <a:xfrm>
            <a:off x="2365200" y="3127320"/>
            <a:ext cx="5102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ЫЕ ПРИНЦИПЫ РАБОТ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 ВЫСОКОМОТИВИРОВАННЫМИ УЧЕНИК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изация и дифференциация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и сохранение душевного здоровья и эмоционального благополучия учащихся как необходимого условия успешности люб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режима умственного труда и отдыха, достаточной физической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ение высокой самооценки одарённого ребёнка, непосредственно связанной с развитием любознательности и в целом с развитием ли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развивающей среды, стимулирующей любознательность ребёнка и обеспечивающей возможность её удовлетворения (кружки, экскурсии, пример взрослых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окая реализация межпредметных связей в образовательном процессе и в индивидуальной работе с учащими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местная работа учеников над определённой проблемой при минимальном участии уч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а выбора учащимися направлений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ое разнообразие предоставляем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ФОРМЫ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чны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индивидуального стиля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ая и дифференцированная направленность учебн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межпредметного подхода на основе интеграции тем и проблем, относящихся к различным областям 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уровневое объяснение учебного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овые формы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формы вовлечения учащихся в самостоятельную познавательную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творческого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неурочн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метные недел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ллектуальные олимпиад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акультативные занят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ужковые занят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сы различной направлен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стема внеклассной воспитательной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User</cp:lastModifiedBy>
  <dcterms:modified xsi:type="dcterms:W3CDTF">2023-06-26T11:43:12Z</dcterms:modified>
  <cp:revision>26</cp:revision>
  <dc:subject/>
  <dc:title>Слайд 1</dc:title>
</cp:coreProperties>
</file>