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E981-7BD5-4D9B-B8C5-4A71B7C4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9C7C-A9EB-4F11-9D33-4C93D4E5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6C13-AC4B-4009-B85F-45D1B64E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DDBC-823A-4F88-A37C-67EF20B9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52BB-15B8-41F0-8BB6-9F47B238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6C20-EA7F-4BE6-B348-D1203EC7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2CC9-56DD-4065-814A-6F625371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DC64-54D6-4162-94D2-E2EFE487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DED4-1EF7-4C48-BBEA-74BE4A47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8BF2-3372-472C-AC49-91DC0A7F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476B-A261-4A84-8161-2B1BE1E7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CEE-A851-4696-ABDA-074FC5AA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23E2-2CFB-451A-9835-2843FE18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557F-8D75-47E9-BDD0-43318B27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B3DB-38EB-4E65-A130-E803CF1D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F2A5-A04A-4E17-9D04-E4F801AC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68CA-908F-4DB9-86E4-4E8E8BBA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06C7D-F22A-4B38-8E25-B9773B16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35075-A4DC-4249-81BF-6A241924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B07EA-D857-4012-A500-4F6CACF3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88C67-17E6-4F73-ABB6-224CC4FD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ED3E6-CA98-4F25-BD0F-D4EAB897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9FF8-487E-432F-AC0E-F80C2EE5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CF202-962C-4C40-8296-B94FD4B1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ECDEF-C23D-44BC-817D-78C507E1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FE677-CA6E-4EFF-BD32-25BC6868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1F259-4B45-42D5-B2D7-890FE592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3D573-CD17-47B2-9E38-37AB30D2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0BB85-E20D-451D-808B-8D4DC0AF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A7E96-9C73-4C3C-976E-886BC274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0DAF5-7469-4B2E-8CA3-BE1AE402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36426-333B-4DB6-9A4D-CE2C89D1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397FD-51BF-416E-AA9D-DAB13885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71A9-7314-4F88-BCCA-A86080DC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26633-8760-4C5C-BD1F-22C0D7CC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CBB04-1B14-4590-B5E2-16CBAF74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8F45A-9FC9-4C15-A1C1-10E5CDEF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0A892-1C90-4F6B-AF43-02FB71DF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A4DBE-7435-4AEB-BF38-4B3F452E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05F95-C3C0-4B82-889D-D8B1A569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4DB40-299B-4296-B25A-E8DF76CB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BD960-8817-4A2F-9808-7EE617D5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32996-7B7F-4168-A114-9FA271FD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254-B56E-4285-BA18-76BD9700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958F-C17C-4CF0-8E6D-E8642E5F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B440-6968-4DB6-8086-B754E5B8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9B48-9760-466A-BB54-03AAE931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FE2F-94F7-44F2-AD58-48D874AC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FBDA-585F-4D20-A535-3EE11697E853}" type="slidenum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37BE-B2B9-4263-8788-5F9B93C7C2A9}" type="slidenum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9681-2552-4B72-8612-8043F5586EE4}" type="slidenum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671C-C9BF-4AD3-B6EB-542479668C9C}" type="slidenum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15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16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217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18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19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  <p:pic>
        <p:nvPicPr>
          <p:cNvPr id="220" name="Заголовок 3" descr=""/>
          <p:cNvPicPr/>
          <p:nvPr/>
        </p:nvPicPr>
        <p:blipFill>
          <a:blip r:embed="rId3"/>
          <a:stretch/>
        </p:blipFill>
        <p:spPr>
          <a:xfrm>
            <a:off x="719280" y="5230800"/>
            <a:ext cx="6291000" cy="11574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4360" y="3906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04040" indent="0" algn="just">
              <a:lnSpc>
                <a:spcPct val="105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104040" indent="0" algn="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ff"/>
                </a:solidFill>
                <a:latin typeface="Trebuchet MS"/>
              </a:rPr>
              <a:t>Проектирование урока в соответствии с требованиями обновленных ФГОС.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Прямоугольник 1"/>
          <p:cNvSpPr/>
          <p:nvPr/>
        </p:nvSpPr>
        <p:spPr>
          <a:xfrm>
            <a:off x="2286000" y="2305080"/>
            <a:ext cx="4572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Franklin Gothic Demi"/>
              </a:rPr>
              <a:t>Основным элементом системы профессиональной деятельности учителя является образовательная деятельность, а её ведущей организационной формой –  </a:t>
            </a:r>
            <a:r>
              <a:rPr b="1" lang="ru-RU" sz="4000" spc="-1" strike="noStrike">
                <a:solidFill>
                  <a:srgbClr val="ff0000"/>
                </a:solidFill>
                <a:latin typeface="Franklin Gothic Demi"/>
              </a:rPr>
              <a:t>УРОК</a:t>
            </a: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93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94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295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96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97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2556000" y="1844640"/>
            <a:ext cx="4248000" cy="3225960"/>
          </a:xfrm>
          <a:custGeom>
            <a:avLst/>
            <a:gdLst>
              <a:gd name="textAreaLeft" fmla="*/ 969840 w 4248000"/>
              <a:gd name="textAreaRight" fmla="*/ 3278160 w 4248000"/>
              <a:gd name="textAreaTop" fmla="*/ 736200 h 3225960"/>
              <a:gd name="textAreaBottom" fmla="*/ 248976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5ff95"/>
              </a:gs>
              <a:gs pos="100000">
                <a:srgbClr val="ffe0b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4dc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Demi"/>
              </a:rPr>
              <a:t>Личностные УУД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5796000" y="983520"/>
            <a:ext cx="2808360" cy="917280"/>
          </a:xfrm>
          <a:prstGeom prst="wedgeRectCallout">
            <a:avLst>
              <a:gd name="adj1" fmla="val -67583"/>
              <a:gd name="adj2" fmla="val 18731"/>
            </a:avLst>
          </a:prstGeom>
          <a:gradFill rotWithShape="0">
            <a:gsLst>
              <a:gs pos="0">
                <a:srgbClr val="00ff00"/>
              </a:gs>
              <a:gs pos="100000">
                <a:srgbClr val="ffe0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Franklin Gothic Demi"/>
              </a:rPr>
              <a:t>Самоопределение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1" name="Freeform 5"/>
          <p:cNvSpPr/>
          <p:nvPr/>
        </p:nvSpPr>
        <p:spPr>
          <a:xfrm flipV="1" rot="19904400">
            <a:off x="6521040" y="2300760"/>
            <a:ext cx="2311560" cy="2732400"/>
          </a:xfrm>
          <a:custGeom>
            <a:avLst/>
            <a:gdLst/>
            <a:ahLst/>
            <a:rect l="l" t="t" r="r" b="b"/>
            <a:pathLst>
              <a:path w="1315" h="1653">
                <a:moveTo>
                  <a:pt x="501" y="217"/>
                </a:moveTo>
                <a:lnTo>
                  <a:pt x="519" y="220"/>
                </a:lnTo>
                <a:lnTo>
                  <a:pt x="543" y="224"/>
                </a:lnTo>
                <a:lnTo>
                  <a:pt x="567" y="230"/>
                </a:lnTo>
                <a:lnTo>
                  <a:pt x="584" y="234"/>
                </a:lnTo>
                <a:lnTo>
                  <a:pt x="604" y="239"/>
                </a:lnTo>
                <a:lnTo>
                  <a:pt x="623" y="245"/>
                </a:lnTo>
                <a:lnTo>
                  <a:pt x="643" y="251"/>
                </a:lnTo>
                <a:lnTo>
                  <a:pt x="661" y="256"/>
                </a:lnTo>
                <a:lnTo>
                  <a:pt x="682" y="264"/>
                </a:lnTo>
                <a:lnTo>
                  <a:pt x="706" y="274"/>
                </a:lnTo>
                <a:lnTo>
                  <a:pt x="727" y="282"/>
                </a:lnTo>
                <a:lnTo>
                  <a:pt x="747" y="291"/>
                </a:lnTo>
                <a:lnTo>
                  <a:pt x="770" y="301"/>
                </a:lnTo>
                <a:lnTo>
                  <a:pt x="792" y="312"/>
                </a:lnTo>
                <a:lnTo>
                  <a:pt x="812" y="322"/>
                </a:lnTo>
                <a:lnTo>
                  <a:pt x="831" y="334"/>
                </a:lnTo>
                <a:lnTo>
                  <a:pt x="848" y="344"/>
                </a:lnTo>
                <a:lnTo>
                  <a:pt x="865" y="356"/>
                </a:lnTo>
                <a:lnTo>
                  <a:pt x="884" y="367"/>
                </a:lnTo>
                <a:lnTo>
                  <a:pt x="905" y="382"/>
                </a:lnTo>
                <a:lnTo>
                  <a:pt x="924" y="396"/>
                </a:lnTo>
                <a:lnTo>
                  <a:pt x="942" y="410"/>
                </a:lnTo>
                <a:lnTo>
                  <a:pt x="959" y="422"/>
                </a:lnTo>
                <a:lnTo>
                  <a:pt x="986" y="445"/>
                </a:lnTo>
                <a:lnTo>
                  <a:pt x="1014" y="471"/>
                </a:lnTo>
                <a:lnTo>
                  <a:pt x="1036" y="491"/>
                </a:lnTo>
                <a:lnTo>
                  <a:pt x="1062" y="520"/>
                </a:lnTo>
                <a:lnTo>
                  <a:pt x="1080" y="541"/>
                </a:lnTo>
                <a:lnTo>
                  <a:pt x="1100" y="565"/>
                </a:lnTo>
                <a:lnTo>
                  <a:pt x="1122" y="592"/>
                </a:lnTo>
                <a:lnTo>
                  <a:pt x="1140" y="618"/>
                </a:lnTo>
                <a:lnTo>
                  <a:pt x="1158" y="647"/>
                </a:lnTo>
                <a:lnTo>
                  <a:pt x="1177" y="675"/>
                </a:lnTo>
                <a:lnTo>
                  <a:pt x="1193" y="705"/>
                </a:lnTo>
                <a:lnTo>
                  <a:pt x="1209" y="731"/>
                </a:lnTo>
                <a:lnTo>
                  <a:pt x="1224" y="763"/>
                </a:lnTo>
                <a:lnTo>
                  <a:pt x="1238" y="794"/>
                </a:lnTo>
                <a:lnTo>
                  <a:pt x="1250" y="826"/>
                </a:lnTo>
                <a:lnTo>
                  <a:pt x="1262" y="861"/>
                </a:lnTo>
                <a:lnTo>
                  <a:pt x="1277" y="904"/>
                </a:lnTo>
                <a:lnTo>
                  <a:pt x="1287" y="944"/>
                </a:lnTo>
                <a:lnTo>
                  <a:pt x="1297" y="985"/>
                </a:lnTo>
                <a:lnTo>
                  <a:pt x="1302" y="1025"/>
                </a:lnTo>
                <a:lnTo>
                  <a:pt x="1309" y="1072"/>
                </a:lnTo>
                <a:lnTo>
                  <a:pt x="1314" y="1131"/>
                </a:lnTo>
                <a:lnTo>
                  <a:pt x="1315" y="1176"/>
                </a:lnTo>
                <a:lnTo>
                  <a:pt x="1314" y="1221"/>
                </a:lnTo>
                <a:lnTo>
                  <a:pt x="1310" y="1263"/>
                </a:lnTo>
                <a:lnTo>
                  <a:pt x="1305" y="1303"/>
                </a:lnTo>
                <a:lnTo>
                  <a:pt x="1300" y="1345"/>
                </a:lnTo>
                <a:lnTo>
                  <a:pt x="1291" y="1388"/>
                </a:lnTo>
                <a:lnTo>
                  <a:pt x="1279" y="1434"/>
                </a:lnTo>
                <a:lnTo>
                  <a:pt x="1264" y="1482"/>
                </a:lnTo>
                <a:lnTo>
                  <a:pt x="1249" y="1526"/>
                </a:lnTo>
                <a:lnTo>
                  <a:pt x="1232" y="1569"/>
                </a:lnTo>
                <a:lnTo>
                  <a:pt x="1207" y="1611"/>
                </a:lnTo>
                <a:lnTo>
                  <a:pt x="1182" y="1653"/>
                </a:lnTo>
                <a:lnTo>
                  <a:pt x="795" y="1429"/>
                </a:lnTo>
                <a:lnTo>
                  <a:pt x="816" y="1387"/>
                </a:lnTo>
                <a:lnTo>
                  <a:pt x="830" y="1355"/>
                </a:lnTo>
                <a:lnTo>
                  <a:pt x="840" y="1320"/>
                </a:lnTo>
                <a:lnTo>
                  <a:pt x="849" y="1286"/>
                </a:lnTo>
                <a:lnTo>
                  <a:pt x="855" y="1255"/>
                </a:lnTo>
                <a:lnTo>
                  <a:pt x="857" y="1224"/>
                </a:lnTo>
                <a:lnTo>
                  <a:pt x="860" y="1194"/>
                </a:lnTo>
                <a:lnTo>
                  <a:pt x="860" y="1162"/>
                </a:lnTo>
                <a:lnTo>
                  <a:pt x="858" y="1125"/>
                </a:lnTo>
                <a:lnTo>
                  <a:pt x="853" y="1089"/>
                </a:lnTo>
                <a:lnTo>
                  <a:pt x="846" y="1049"/>
                </a:lnTo>
                <a:lnTo>
                  <a:pt x="837" y="1017"/>
                </a:lnTo>
                <a:lnTo>
                  <a:pt x="823" y="981"/>
                </a:lnTo>
                <a:lnTo>
                  <a:pt x="810" y="950"/>
                </a:lnTo>
                <a:lnTo>
                  <a:pt x="794" y="920"/>
                </a:lnTo>
                <a:lnTo>
                  <a:pt x="780" y="897"/>
                </a:lnTo>
                <a:lnTo>
                  <a:pt x="766" y="878"/>
                </a:lnTo>
                <a:lnTo>
                  <a:pt x="752" y="859"/>
                </a:lnTo>
                <a:lnTo>
                  <a:pt x="736" y="840"/>
                </a:lnTo>
                <a:lnTo>
                  <a:pt x="718" y="820"/>
                </a:lnTo>
                <a:lnTo>
                  <a:pt x="703" y="806"/>
                </a:lnTo>
                <a:lnTo>
                  <a:pt x="686" y="789"/>
                </a:lnTo>
                <a:lnTo>
                  <a:pt x="669" y="774"/>
                </a:lnTo>
                <a:lnTo>
                  <a:pt x="649" y="759"/>
                </a:lnTo>
                <a:lnTo>
                  <a:pt x="625" y="744"/>
                </a:lnTo>
                <a:lnTo>
                  <a:pt x="605" y="730"/>
                </a:lnTo>
                <a:lnTo>
                  <a:pt x="588" y="721"/>
                </a:lnTo>
                <a:lnTo>
                  <a:pt x="563" y="706"/>
                </a:lnTo>
                <a:lnTo>
                  <a:pt x="541" y="698"/>
                </a:lnTo>
                <a:lnTo>
                  <a:pt x="522" y="691"/>
                </a:lnTo>
                <a:lnTo>
                  <a:pt x="502" y="684"/>
                </a:lnTo>
                <a:lnTo>
                  <a:pt x="472" y="677"/>
                </a:lnTo>
                <a:lnTo>
                  <a:pt x="444" y="672"/>
                </a:lnTo>
                <a:lnTo>
                  <a:pt x="415" y="669"/>
                </a:lnTo>
                <a:lnTo>
                  <a:pt x="386" y="667"/>
                </a:lnTo>
                <a:lnTo>
                  <a:pt x="370" y="666"/>
                </a:lnTo>
                <a:lnTo>
                  <a:pt x="370" y="907"/>
                </a:lnTo>
                <a:lnTo>
                  <a:pt x="0" y="460"/>
                </a:lnTo>
                <a:lnTo>
                  <a:pt x="369" y="0"/>
                </a:lnTo>
                <a:lnTo>
                  <a:pt x="369" y="207"/>
                </a:lnTo>
                <a:lnTo>
                  <a:pt x="389" y="208"/>
                </a:lnTo>
                <a:lnTo>
                  <a:pt x="418" y="209"/>
                </a:lnTo>
                <a:lnTo>
                  <a:pt x="448" y="211"/>
                </a:lnTo>
                <a:lnTo>
                  <a:pt x="477" y="214"/>
                </a:lnTo>
                <a:lnTo>
                  <a:pt x="501" y="217"/>
                </a:lnTo>
                <a:close/>
              </a:path>
            </a:pathLst>
          </a:custGeom>
          <a:solidFill>
            <a:srgbClr val="009900"/>
          </a:solidFill>
          <a:ln w="19080">
            <a:solidFill>
              <a:srgbClr val="663300"/>
            </a:solidFill>
            <a:round/>
          </a:ln>
          <a:effectLst>
            <a:outerShdw dist="107932" dir="18900000" blurRad="0" rotWithShape="0">
              <a:srgbClr val="ffff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2771640" y="5445000"/>
            <a:ext cx="4104000" cy="1101960"/>
          </a:xfrm>
          <a:prstGeom prst="wedgeRectCallout">
            <a:avLst>
              <a:gd name="adj1" fmla="val -36652"/>
              <a:gd name="adj2" fmla="val -61458"/>
            </a:avLst>
          </a:prstGeom>
          <a:gradFill rotWithShape="0">
            <a:gsLst>
              <a:gs pos="0">
                <a:srgbClr val="00ff00"/>
              </a:gs>
              <a:gs pos="100000">
                <a:srgbClr val="ffe0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Franklin Gothic Demi"/>
              </a:rPr>
              <a:t>Смыслообразование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3" name="Freeform 3"/>
          <p:cNvSpPr/>
          <p:nvPr/>
        </p:nvSpPr>
        <p:spPr>
          <a:xfrm flipV="1" rot="379800">
            <a:off x="753840" y="2215440"/>
            <a:ext cx="1617480" cy="2683800"/>
          </a:xfrm>
          <a:custGeom>
            <a:avLst/>
            <a:gdLst/>
            <a:ahLst/>
            <a:rect l="l" t="t" r="r" b="b"/>
            <a:pathLst>
              <a:path w="885" h="1637">
                <a:moveTo>
                  <a:pt x="885" y="0"/>
                </a:moveTo>
                <a:lnTo>
                  <a:pt x="866" y="3"/>
                </a:lnTo>
                <a:lnTo>
                  <a:pt x="847" y="6"/>
                </a:lnTo>
                <a:lnTo>
                  <a:pt x="821" y="12"/>
                </a:lnTo>
                <a:lnTo>
                  <a:pt x="802" y="16"/>
                </a:lnTo>
                <a:lnTo>
                  <a:pt x="782" y="22"/>
                </a:lnTo>
                <a:lnTo>
                  <a:pt x="763" y="28"/>
                </a:lnTo>
                <a:lnTo>
                  <a:pt x="743" y="33"/>
                </a:lnTo>
                <a:lnTo>
                  <a:pt x="724" y="39"/>
                </a:lnTo>
                <a:lnTo>
                  <a:pt x="704" y="47"/>
                </a:lnTo>
                <a:lnTo>
                  <a:pt x="680" y="56"/>
                </a:lnTo>
                <a:lnTo>
                  <a:pt x="660" y="65"/>
                </a:lnTo>
                <a:lnTo>
                  <a:pt x="639" y="74"/>
                </a:lnTo>
                <a:lnTo>
                  <a:pt x="617" y="84"/>
                </a:lnTo>
                <a:lnTo>
                  <a:pt x="595" y="95"/>
                </a:lnTo>
                <a:lnTo>
                  <a:pt x="575" y="105"/>
                </a:lnTo>
                <a:lnTo>
                  <a:pt x="556" y="117"/>
                </a:lnTo>
                <a:lnTo>
                  <a:pt x="539" y="127"/>
                </a:lnTo>
                <a:lnTo>
                  <a:pt x="522" y="139"/>
                </a:lnTo>
                <a:lnTo>
                  <a:pt x="503" y="150"/>
                </a:lnTo>
                <a:lnTo>
                  <a:pt x="482" y="164"/>
                </a:lnTo>
                <a:lnTo>
                  <a:pt x="463" y="179"/>
                </a:lnTo>
                <a:lnTo>
                  <a:pt x="445" y="193"/>
                </a:lnTo>
                <a:lnTo>
                  <a:pt x="428" y="205"/>
                </a:lnTo>
                <a:lnTo>
                  <a:pt x="400" y="228"/>
                </a:lnTo>
                <a:lnTo>
                  <a:pt x="372" y="255"/>
                </a:lnTo>
                <a:lnTo>
                  <a:pt x="350" y="275"/>
                </a:lnTo>
                <a:lnTo>
                  <a:pt x="324" y="304"/>
                </a:lnTo>
                <a:lnTo>
                  <a:pt x="306" y="325"/>
                </a:lnTo>
                <a:lnTo>
                  <a:pt x="286" y="349"/>
                </a:lnTo>
                <a:lnTo>
                  <a:pt x="264" y="376"/>
                </a:lnTo>
                <a:lnTo>
                  <a:pt x="246" y="401"/>
                </a:lnTo>
                <a:lnTo>
                  <a:pt x="228" y="430"/>
                </a:lnTo>
                <a:lnTo>
                  <a:pt x="210" y="458"/>
                </a:lnTo>
                <a:lnTo>
                  <a:pt x="192" y="488"/>
                </a:lnTo>
                <a:lnTo>
                  <a:pt x="177" y="514"/>
                </a:lnTo>
                <a:lnTo>
                  <a:pt x="163" y="546"/>
                </a:lnTo>
                <a:lnTo>
                  <a:pt x="149" y="577"/>
                </a:lnTo>
                <a:lnTo>
                  <a:pt x="137" y="609"/>
                </a:lnTo>
                <a:lnTo>
                  <a:pt x="125" y="644"/>
                </a:lnTo>
                <a:lnTo>
                  <a:pt x="110" y="687"/>
                </a:lnTo>
                <a:lnTo>
                  <a:pt x="100" y="727"/>
                </a:lnTo>
                <a:lnTo>
                  <a:pt x="90" y="768"/>
                </a:lnTo>
                <a:lnTo>
                  <a:pt x="85" y="808"/>
                </a:lnTo>
                <a:lnTo>
                  <a:pt x="78" y="855"/>
                </a:lnTo>
                <a:lnTo>
                  <a:pt x="73" y="913"/>
                </a:lnTo>
                <a:lnTo>
                  <a:pt x="72" y="959"/>
                </a:lnTo>
                <a:lnTo>
                  <a:pt x="73" y="1004"/>
                </a:lnTo>
                <a:lnTo>
                  <a:pt x="77" y="1047"/>
                </a:lnTo>
                <a:lnTo>
                  <a:pt x="82" y="1087"/>
                </a:lnTo>
                <a:lnTo>
                  <a:pt x="87" y="1129"/>
                </a:lnTo>
                <a:lnTo>
                  <a:pt x="96" y="1172"/>
                </a:lnTo>
                <a:lnTo>
                  <a:pt x="108" y="1218"/>
                </a:lnTo>
                <a:lnTo>
                  <a:pt x="123" y="1265"/>
                </a:lnTo>
                <a:lnTo>
                  <a:pt x="138" y="1309"/>
                </a:lnTo>
                <a:lnTo>
                  <a:pt x="155" y="1352"/>
                </a:lnTo>
                <a:lnTo>
                  <a:pt x="175" y="1394"/>
                </a:lnTo>
                <a:lnTo>
                  <a:pt x="199" y="1434"/>
                </a:lnTo>
                <a:lnTo>
                  <a:pt x="0" y="1547"/>
                </a:lnTo>
                <a:lnTo>
                  <a:pt x="607" y="1637"/>
                </a:lnTo>
                <a:lnTo>
                  <a:pt x="830" y="1079"/>
                </a:lnTo>
                <a:lnTo>
                  <a:pt x="597" y="1204"/>
                </a:lnTo>
                <a:lnTo>
                  <a:pt x="574" y="1168"/>
                </a:lnTo>
                <a:lnTo>
                  <a:pt x="560" y="1136"/>
                </a:lnTo>
                <a:lnTo>
                  <a:pt x="547" y="1103"/>
                </a:lnTo>
                <a:lnTo>
                  <a:pt x="538" y="1070"/>
                </a:lnTo>
                <a:lnTo>
                  <a:pt x="532" y="1038"/>
                </a:lnTo>
                <a:lnTo>
                  <a:pt x="530" y="1007"/>
                </a:lnTo>
                <a:lnTo>
                  <a:pt x="527" y="976"/>
                </a:lnTo>
                <a:lnTo>
                  <a:pt x="527" y="945"/>
                </a:lnTo>
                <a:lnTo>
                  <a:pt x="529" y="908"/>
                </a:lnTo>
                <a:lnTo>
                  <a:pt x="533" y="872"/>
                </a:lnTo>
                <a:lnTo>
                  <a:pt x="541" y="832"/>
                </a:lnTo>
                <a:lnTo>
                  <a:pt x="550" y="800"/>
                </a:lnTo>
                <a:lnTo>
                  <a:pt x="564" y="764"/>
                </a:lnTo>
                <a:lnTo>
                  <a:pt x="576" y="733"/>
                </a:lnTo>
                <a:lnTo>
                  <a:pt x="593" y="703"/>
                </a:lnTo>
                <a:lnTo>
                  <a:pt x="607" y="680"/>
                </a:lnTo>
                <a:lnTo>
                  <a:pt x="621" y="661"/>
                </a:lnTo>
                <a:lnTo>
                  <a:pt x="635" y="642"/>
                </a:lnTo>
                <a:lnTo>
                  <a:pt x="651" y="623"/>
                </a:lnTo>
                <a:lnTo>
                  <a:pt x="668" y="603"/>
                </a:lnTo>
                <a:lnTo>
                  <a:pt x="683" y="589"/>
                </a:lnTo>
                <a:lnTo>
                  <a:pt x="700" y="571"/>
                </a:lnTo>
                <a:lnTo>
                  <a:pt x="717" y="557"/>
                </a:lnTo>
                <a:lnTo>
                  <a:pt x="737" y="542"/>
                </a:lnTo>
                <a:lnTo>
                  <a:pt x="761" y="526"/>
                </a:lnTo>
                <a:lnTo>
                  <a:pt x="781" y="513"/>
                </a:lnTo>
                <a:lnTo>
                  <a:pt x="798" y="503"/>
                </a:lnTo>
                <a:lnTo>
                  <a:pt x="823" y="489"/>
                </a:lnTo>
                <a:lnTo>
                  <a:pt x="847" y="479"/>
                </a:lnTo>
                <a:lnTo>
                  <a:pt x="885" y="468"/>
                </a:lnTo>
                <a:lnTo>
                  <a:pt x="885" y="0"/>
                </a:lnTo>
                <a:close/>
              </a:path>
            </a:pathLst>
          </a:custGeom>
          <a:solidFill>
            <a:srgbClr val="008000"/>
          </a:solidFill>
          <a:ln w="19080">
            <a:solidFill>
              <a:srgbClr val="663300"/>
            </a:solidFill>
            <a:round/>
          </a:ln>
          <a:effectLst>
            <a:outerShdw dist="107932" dir="18900000" blurRad="0" rotWithShape="0">
              <a:srgbClr val="ffff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4" name="AutoShape 2"/>
          <p:cNvSpPr/>
          <p:nvPr/>
        </p:nvSpPr>
        <p:spPr>
          <a:xfrm>
            <a:off x="1042920" y="553680"/>
            <a:ext cx="3241800" cy="1191600"/>
          </a:xfrm>
          <a:prstGeom prst="wedgeRectCallout">
            <a:avLst>
              <a:gd name="adj1" fmla="val 50384"/>
              <a:gd name="adj2" fmla="val 37435"/>
            </a:avLst>
          </a:prstGeom>
          <a:gradFill rotWithShape="0">
            <a:gsLst>
              <a:gs pos="0">
                <a:srgbClr val="00ff00"/>
              </a:gs>
              <a:gs pos="100000">
                <a:srgbClr val="ffe0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Franklin Gothic Demi"/>
              </a:rPr>
              <a:t>Нравственно-этическая 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Franklin Gothic Demi"/>
              </a:rPr>
              <a:t>ориентация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6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307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308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9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310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311" name="WordArt 2"/>
          <p:cNvSpPr txBox="1"/>
          <p:nvPr/>
        </p:nvSpPr>
        <p:spPr>
          <a:xfrm>
            <a:off x="1116000" y="1268280"/>
            <a:ext cx="4392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Регулятив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универсаль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учеб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действ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5508720" y="260280"/>
            <a:ext cx="266364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Century Schoolbook"/>
              </a:rPr>
              <a:t>Целеполагание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5940360" y="1844640"/>
            <a:ext cx="252108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Century Schoolbook"/>
              </a:rPr>
              <a:t>Планирование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4" name="Rectangle 14"/>
          <p:cNvSpPr/>
          <p:nvPr/>
        </p:nvSpPr>
        <p:spPr>
          <a:xfrm>
            <a:off x="4859280" y="3068640"/>
            <a:ext cx="306072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Century Schoolbook"/>
              </a:rPr>
              <a:t>Прогнозирование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5580000" y="4653000"/>
            <a:ext cx="273708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Century Schoolbook"/>
              </a:rPr>
              <a:t>Контроль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3564000" y="5805360"/>
            <a:ext cx="2376360" cy="72072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Century Schoolbook"/>
              </a:rPr>
              <a:t>Коррекция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7" name="Rectangle 17"/>
          <p:cNvSpPr/>
          <p:nvPr/>
        </p:nvSpPr>
        <p:spPr>
          <a:xfrm>
            <a:off x="900000" y="5516640"/>
            <a:ext cx="2160720" cy="72072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Century Schoolbook"/>
              </a:rPr>
              <a:t>Оценка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8" name="Rectangle 16"/>
          <p:cNvSpPr/>
          <p:nvPr/>
        </p:nvSpPr>
        <p:spPr>
          <a:xfrm>
            <a:off x="755640" y="4149720"/>
            <a:ext cx="2664000" cy="76824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cc00cc"/>
                </a:solidFill>
                <a:latin typeface="Century Schoolbook"/>
              </a:rPr>
              <a:t>Саморегуляция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0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321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322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3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324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325" name="Oval 4"/>
          <p:cNvSpPr/>
          <p:nvPr/>
        </p:nvSpPr>
        <p:spPr>
          <a:xfrm>
            <a:off x="2556000" y="2421000"/>
            <a:ext cx="3887640" cy="15318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entury Schoolbook"/>
              </a:rPr>
              <a:t>Познавательные УУД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5148360" y="836640"/>
            <a:ext cx="3485880" cy="1079640"/>
          </a:xfrm>
          <a:prstGeom prst="rect">
            <a:avLst/>
          </a:prstGeom>
          <a:solidFill>
            <a:srgbClr val="212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Century Schoolbook"/>
              </a:rPr>
              <a:t>Логические действия</a:t>
            </a:r>
            <a:r>
              <a:rPr b="1" lang="en-US" sz="2000" spc="-1" strike="noStrike">
                <a:solidFill>
                  <a:srgbClr val="9933ff"/>
                </a:solidFill>
                <a:latin typeface="Century Schoolbook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grpSp>
        <p:nvGrpSpPr>
          <p:cNvPr id="327" name="Group 14"/>
          <p:cNvGrpSpPr/>
          <p:nvPr/>
        </p:nvGrpSpPr>
        <p:grpSpPr>
          <a:xfrm>
            <a:off x="6300000" y="1874160"/>
            <a:ext cx="1975320" cy="2360520"/>
            <a:chOff x="6300000" y="1874160"/>
            <a:chExt cx="1975320" cy="2360520"/>
          </a:xfrm>
        </p:grpSpPr>
        <p:sp>
          <p:nvSpPr>
            <p:cNvPr id="328" name="Freeform 15"/>
            <p:cNvSpPr/>
            <p:nvPr/>
          </p:nvSpPr>
          <p:spPr>
            <a:xfrm rot="5971200">
              <a:off x="7013160" y="2100240"/>
              <a:ext cx="1243080" cy="107928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29" name="Freeform 16"/>
            <p:cNvSpPr/>
            <p:nvPr/>
          </p:nvSpPr>
          <p:spPr>
            <a:xfrm rot="5971200">
              <a:off x="6411600" y="3322800"/>
              <a:ext cx="643680" cy="771480"/>
            </a:xfrm>
            <a:custGeom>
              <a:avLst/>
              <a:gdLst>
                <a:gd name="textAreaLeft" fmla="*/ 0 w 643680"/>
                <a:gd name="textAreaRight" fmla="*/ 644040 w 64368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30" name="Freeform 17"/>
            <p:cNvSpPr/>
            <p:nvPr/>
          </p:nvSpPr>
          <p:spPr>
            <a:xfrm rot="5971200">
              <a:off x="6323760" y="2745720"/>
              <a:ext cx="769320" cy="480240"/>
            </a:xfrm>
            <a:custGeom>
              <a:avLst/>
              <a:gdLst>
                <a:gd name="textAreaLeft" fmla="*/ 0 w 769320"/>
                <a:gd name="textAreaRight" fmla="*/ 769680 w 76932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31" name="Freeform 18"/>
            <p:cNvSpPr/>
            <p:nvPr/>
          </p:nvSpPr>
          <p:spPr>
            <a:xfrm rot="5971200">
              <a:off x="6301800" y="2322360"/>
              <a:ext cx="2148120" cy="1463400"/>
            </a:xfrm>
            <a:custGeom>
              <a:avLst/>
              <a:gdLst>
                <a:gd name="textAreaLeft" fmla="*/ 0 w 2148120"/>
                <a:gd name="textAreaRight" fmla="*/ 2148480 w 2148120"/>
                <a:gd name="textAreaTop" fmla="*/ 0 h 1463400"/>
                <a:gd name="textAreaBottom" fmla="*/ 1463760 h 146340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332" name="Rectangle 8"/>
          <p:cNvSpPr/>
          <p:nvPr/>
        </p:nvSpPr>
        <p:spPr>
          <a:xfrm>
            <a:off x="2411280" y="5373720"/>
            <a:ext cx="4464360" cy="10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Century Schoolbook"/>
              </a:rPr>
              <a:t>Действия постановки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Century Schoolbook"/>
              </a:rPr>
              <a:t>и решения проблем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grpSp>
        <p:nvGrpSpPr>
          <p:cNvPr id="333" name="Group 19"/>
          <p:cNvGrpSpPr/>
          <p:nvPr/>
        </p:nvGrpSpPr>
        <p:grpSpPr>
          <a:xfrm>
            <a:off x="3708000" y="3861000"/>
            <a:ext cx="1904040" cy="1445400"/>
            <a:chOff x="3708000" y="3861000"/>
            <a:chExt cx="1904040" cy="1445400"/>
          </a:xfrm>
        </p:grpSpPr>
        <p:sp>
          <p:nvSpPr>
            <p:cNvPr id="334" name="Freeform 20"/>
            <p:cNvSpPr/>
            <p:nvPr/>
          </p:nvSpPr>
          <p:spPr>
            <a:xfrm rot="11936400">
              <a:off x="4469040" y="4543200"/>
              <a:ext cx="999360" cy="614520"/>
            </a:xfrm>
            <a:custGeom>
              <a:avLst/>
              <a:gdLst>
                <a:gd name="textAreaLeft" fmla="*/ 0 w 999360"/>
                <a:gd name="textAreaRight" fmla="*/ 999720 w 999360"/>
                <a:gd name="textAreaTop" fmla="*/ 0 h 614520"/>
                <a:gd name="textAreaBottom" fmla="*/ 614880 h 61452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35" name="Freeform 21"/>
            <p:cNvSpPr/>
            <p:nvPr/>
          </p:nvSpPr>
          <p:spPr>
            <a:xfrm rot="11936400">
              <a:off x="3926160" y="3933000"/>
              <a:ext cx="517680" cy="439200"/>
            </a:xfrm>
            <a:custGeom>
              <a:avLst/>
              <a:gdLst>
                <a:gd name="textAreaLeft" fmla="*/ 0 w 517680"/>
                <a:gd name="textAreaRight" fmla="*/ 518040 w 517680"/>
                <a:gd name="textAreaTop" fmla="*/ 0 h 439200"/>
                <a:gd name="textAreaBottom" fmla="*/ 439560 h 43920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36" name="Freeform 22"/>
            <p:cNvSpPr/>
            <p:nvPr/>
          </p:nvSpPr>
          <p:spPr>
            <a:xfrm rot="11936400">
              <a:off x="4441680" y="4123800"/>
              <a:ext cx="618480" cy="273240"/>
            </a:xfrm>
            <a:custGeom>
              <a:avLst/>
              <a:gdLst>
                <a:gd name="textAreaLeft" fmla="*/ 0 w 618480"/>
                <a:gd name="textAreaRight" fmla="*/ 618840 w 6184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37" name="Freeform 23"/>
            <p:cNvSpPr/>
            <p:nvPr/>
          </p:nvSpPr>
          <p:spPr>
            <a:xfrm rot="11936400">
              <a:off x="3796200" y="4215240"/>
              <a:ext cx="1727280" cy="833040"/>
            </a:xfrm>
            <a:custGeom>
              <a:avLst/>
              <a:gdLst>
                <a:gd name="textAreaLeft" fmla="*/ 0 w 1727280"/>
                <a:gd name="textAreaRight" fmla="*/ 1727640 w 1727280"/>
                <a:gd name="textAreaTop" fmla="*/ 0 h 833040"/>
                <a:gd name="textAreaBottom" fmla="*/ 833400 h 8330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338" name="Rectangle 5"/>
          <p:cNvSpPr/>
          <p:nvPr/>
        </p:nvSpPr>
        <p:spPr>
          <a:xfrm>
            <a:off x="971640" y="692280"/>
            <a:ext cx="358776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Century Schoolbook"/>
              </a:rPr>
              <a:t>Общеучебные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grpSp>
        <p:nvGrpSpPr>
          <p:cNvPr id="339" name="Group 9"/>
          <p:cNvGrpSpPr/>
          <p:nvPr/>
        </p:nvGrpSpPr>
        <p:grpSpPr>
          <a:xfrm>
            <a:off x="1332000" y="1844640"/>
            <a:ext cx="1584360" cy="1079280"/>
            <a:chOff x="1332000" y="1844640"/>
            <a:chExt cx="1584360" cy="1079280"/>
          </a:xfrm>
        </p:grpSpPr>
        <p:sp>
          <p:nvSpPr>
            <p:cNvPr id="340" name="Freeform 10"/>
            <p:cNvSpPr/>
            <p:nvPr/>
          </p:nvSpPr>
          <p:spPr>
            <a:xfrm>
              <a:off x="1333080" y="1847880"/>
              <a:ext cx="916920" cy="709200"/>
            </a:xfrm>
            <a:custGeom>
              <a:avLst/>
              <a:gdLst>
                <a:gd name="textAreaLeft" fmla="*/ 0 w 916920"/>
                <a:gd name="textAreaRight" fmla="*/ 917280 w 916920"/>
                <a:gd name="textAreaTop" fmla="*/ 0 h 709200"/>
                <a:gd name="textAreaBottom" fmla="*/ 709560 h 70920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41" name="Freeform 11"/>
            <p:cNvSpPr/>
            <p:nvPr/>
          </p:nvSpPr>
          <p:spPr>
            <a:xfrm>
              <a:off x="2441520" y="2417040"/>
              <a:ext cx="474840" cy="50688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506880"/>
                <a:gd name="textAreaBottom" fmla="*/ 507240 h 5068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42" name="Freeform 12"/>
            <p:cNvSpPr/>
            <p:nvPr/>
          </p:nvSpPr>
          <p:spPr>
            <a:xfrm>
              <a:off x="1872360" y="2607480"/>
              <a:ext cx="567360" cy="3153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43" name="Freeform 13"/>
            <p:cNvSpPr/>
            <p:nvPr/>
          </p:nvSpPr>
          <p:spPr>
            <a:xfrm>
              <a:off x="1332000" y="1844640"/>
              <a:ext cx="1584360" cy="961560"/>
            </a:xfrm>
            <a:custGeom>
              <a:avLst/>
              <a:gdLst>
                <a:gd name="textAreaLeft" fmla="*/ 0 w 1584360"/>
                <a:gd name="textAreaRight" fmla="*/ 1584720 w 1584360"/>
                <a:gd name="textAreaTop" fmla="*/ 0 h 961560"/>
                <a:gd name="textAreaBottom" fmla="*/ 961920 h 96156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5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346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347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8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349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350" name="Овал 12"/>
          <p:cNvSpPr/>
          <p:nvPr/>
        </p:nvSpPr>
        <p:spPr>
          <a:xfrm>
            <a:off x="2700360" y="2205000"/>
            <a:ext cx="3887640" cy="1584360"/>
          </a:xfrm>
          <a:prstGeom prst="ellipse">
            <a:avLst/>
          </a:prstGeom>
          <a:solidFill>
            <a:srgbClr val="ffb3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Franklin Gothic Demi"/>
              </a:rPr>
              <a:t>Коммуникативные УУД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51" name="Oval 5"/>
          <p:cNvSpPr/>
          <p:nvPr/>
        </p:nvSpPr>
        <p:spPr>
          <a:xfrm>
            <a:off x="5651640" y="189000"/>
            <a:ext cx="2665440" cy="129708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Постановка 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вопросов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grpSp>
        <p:nvGrpSpPr>
          <p:cNvPr id="352" name="Group 13"/>
          <p:cNvGrpSpPr/>
          <p:nvPr/>
        </p:nvGrpSpPr>
        <p:grpSpPr>
          <a:xfrm>
            <a:off x="6516720" y="1357920"/>
            <a:ext cx="2158560" cy="2135160"/>
            <a:chOff x="6516720" y="1357920"/>
            <a:chExt cx="2158560" cy="2135160"/>
          </a:xfrm>
        </p:grpSpPr>
        <p:sp>
          <p:nvSpPr>
            <p:cNvPr id="353" name="Freeform 14"/>
            <p:cNvSpPr/>
            <p:nvPr/>
          </p:nvSpPr>
          <p:spPr>
            <a:xfrm rot="3813000">
              <a:off x="7239240" y="1386720"/>
              <a:ext cx="832320" cy="1250280"/>
            </a:xfrm>
            <a:custGeom>
              <a:avLst/>
              <a:gdLst>
                <a:gd name="textAreaLeft" fmla="*/ 0 w 832320"/>
                <a:gd name="textAreaRight" fmla="*/ 832680 w 832320"/>
                <a:gd name="textAreaTop" fmla="*/ 0 h 1250280"/>
                <a:gd name="textAreaBottom" fmla="*/ 1250640 h 125028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54" name="Freeform 15"/>
            <p:cNvSpPr/>
            <p:nvPr/>
          </p:nvSpPr>
          <p:spPr>
            <a:xfrm rot="3813000">
              <a:off x="7059600" y="2654280"/>
              <a:ext cx="430920" cy="8935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55" name="Freeform 16"/>
            <p:cNvSpPr/>
            <p:nvPr/>
          </p:nvSpPr>
          <p:spPr>
            <a:xfrm rot="3813000">
              <a:off x="6657120" y="2472480"/>
              <a:ext cx="515160" cy="556200"/>
            </a:xfrm>
            <a:custGeom>
              <a:avLst/>
              <a:gdLst>
                <a:gd name="textAreaLeft" fmla="*/ 0 w 515160"/>
                <a:gd name="textAreaRight" fmla="*/ 515520 w 515160"/>
                <a:gd name="textAreaTop" fmla="*/ 0 h 556200"/>
                <a:gd name="textAreaBottom" fmla="*/ 556560 h 55620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56" name="Freeform 17"/>
            <p:cNvSpPr/>
            <p:nvPr/>
          </p:nvSpPr>
          <p:spPr>
            <a:xfrm rot="3813000">
              <a:off x="6876360" y="1531800"/>
              <a:ext cx="1438560" cy="1695240"/>
            </a:xfrm>
            <a:custGeom>
              <a:avLst/>
              <a:gdLst>
                <a:gd name="textAreaLeft" fmla="*/ 0 w 1438560"/>
                <a:gd name="textAreaRight" fmla="*/ 1438560 w 1438560"/>
                <a:gd name="textAreaTop" fmla="*/ 0 h 1695240"/>
                <a:gd name="textAreaBottom" fmla="*/ 1695600 h 16952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357" name="Oval 7"/>
          <p:cNvSpPr/>
          <p:nvPr/>
        </p:nvSpPr>
        <p:spPr>
          <a:xfrm>
            <a:off x="4788000" y="5229360"/>
            <a:ext cx="3529080" cy="127476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Лидерство и 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согласование действий 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с партнером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grpSp>
        <p:nvGrpSpPr>
          <p:cNvPr id="358" name="Group 18"/>
          <p:cNvGrpSpPr/>
          <p:nvPr/>
        </p:nvGrpSpPr>
        <p:grpSpPr>
          <a:xfrm>
            <a:off x="4356720" y="3979080"/>
            <a:ext cx="2257560" cy="1675800"/>
            <a:chOff x="4356720" y="3979080"/>
            <a:chExt cx="2257560" cy="1675800"/>
          </a:xfrm>
        </p:grpSpPr>
        <p:sp>
          <p:nvSpPr>
            <p:cNvPr id="359" name="Freeform 19"/>
            <p:cNvSpPr/>
            <p:nvPr/>
          </p:nvSpPr>
          <p:spPr>
            <a:xfrm rot="9519000">
              <a:off x="5370840" y="4409280"/>
              <a:ext cx="1141920" cy="758160"/>
            </a:xfrm>
            <a:custGeom>
              <a:avLst/>
              <a:gdLst>
                <a:gd name="textAreaLeft" fmla="*/ 0 w 1141920"/>
                <a:gd name="textAreaRight" fmla="*/ 1142280 w 1141920"/>
                <a:gd name="textAreaTop" fmla="*/ 0 h 758160"/>
                <a:gd name="textAreaBottom" fmla="*/ 758520 h 75816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60" name="Freeform 20"/>
            <p:cNvSpPr/>
            <p:nvPr/>
          </p:nvSpPr>
          <p:spPr>
            <a:xfrm rot="9519000">
              <a:off x="4434840" y="4453920"/>
              <a:ext cx="591120" cy="541800"/>
            </a:xfrm>
            <a:custGeom>
              <a:avLst/>
              <a:gdLst>
                <a:gd name="textAreaLeft" fmla="*/ 0 w 591120"/>
                <a:gd name="textAreaRight" fmla="*/ 591480 w 59112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61" name="Freeform 21"/>
            <p:cNvSpPr/>
            <p:nvPr/>
          </p:nvSpPr>
          <p:spPr>
            <a:xfrm rot="9519000">
              <a:off x="4946400" y="4224960"/>
              <a:ext cx="706680" cy="337320"/>
            </a:xfrm>
            <a:custGeom>
              <a:avLst/>
              <a:gdLst>
                <a:gd name="textAreaLeft" fmla="*/ 0 w 706680"/>
                <a:gd name="textAreaRight" fmla="*/ 707040 w 70668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62" name="Freeform 22"/>
            <p:cNvSpPr/>
            <p:nvPr/>
          </p:nvSpPr>
          <p:spPr>
            <a:xfrm rot="9519000">
              <a:off x="4521600" y="4302720"/>
              <a:ext cx="1973160" cy="1028160"/>
            </a:xfrm>
            <a:custGeom>
              <a:avLst/>
              <a:gdLst>
                <a:gd name="textAreaLeft" fmla="*/ 0 w 1973160"/>
                <a:gd name="textAreaRight" fmla="*/ 1973520 w 1973160"/>
                <a:gd name="textAreaTop" fmla="*/ 0 h 1028160"/>
                <a:gd name="textAreaBottom" fmla="*/ 1028520 h 102816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363" name="Oval 6"/>
          <p:cNvSpPr/>
          <p:nvPr/>
        </p:nvSpPr>
        <p:spPr>
          <a:xfrm>
            <a:off x="900000" y="4724280"/>
            <a:ext cx="3095640" cy="129708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Построение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речевых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высказываний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grpSp>
        <p:nvGrpSpPr>
          <p:cNvPr id="364" name="Group 24"/>
          <p:cNvGrpSpPr/>
          <p:nvPr/>
        </p:nvGrpSpPr>
        <p:grpSpPr>
          <a:xfrm>
            <a:off x="633600" y="2593800"/>
            <a:ext cx="2082960" cy="2156400"/>
            <a:chOff x="633600" y="2593800"/>
            <a:chExt cx="2082960" cy="2156400"/>
          </a:xfrm>
        </p:grpSpPr>
        <p:sp>
          <p:nvSpPr>
            <p:cNvPr id="365" name="Freeform 25"/>
            <p:cNvSpPr/>
            <p:nvPr/>
          </p:nvSpPr>
          <p:spPr>
            <a:xfrm rot="13719000">
              <a:off x="1342440" y="3369960"/>
              <a:ext cx="582480" cy="139320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1393200"/>
                <a:gd name="textAreaBottom" fmla="*/ 1393560 h 139320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66" name="Freeform 26"/>
            <p:cNvSpPr/>
            <p:nvPr/>
          </p:nvSpPr>
          <p:spPr>
            <a:xfrm rot="13719000">
              <a:off x="1800000" y="2538000"/>
              <a:ext cx="301680" cy="99540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995400"/>
                <a:gd name="textAreaBottom" fmla="*/ 995760 h 99540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67" name="Freeform 27"/>
            <p:cNvSpPr/>
            <p:nvPr/>
          </p:nvSpPr>
          <p:spPr>
            <a:xfrm rot="13719000">
              <a:off x="2130120" y="2852640"/>
              <a:ext cx="360360" cy="61992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619920"/>
                <a:gd name="textAreaBottom" fmla="*/ 620280 h 61992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68" name="Freeform 28"/>
            <p:cNvSpPr/>
            <p:nvPr/>
          </p:nvSpPr>
          <p:spPr>
            <a:xfrm rot="13719000">
              <a:off x="1171440" y="2803680"/>
              <a:ext cx="1006560" cy="188892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888920"/>
                <a:gd name="textAreaBottom" fmla="*/ 1889280 h 188892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369" name="Oval 4"/>
          <p:cNvSpPr/>
          <p:nvPr/>
        </p:nvSpPr>
        <p:spPr>
          <a:xfrm>
            <a:off x="826920" y="189000"/>
            <a:ext cx="2880000" cy="158436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Планирование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учебного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сотрудничества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grpSp>
        <p:nvGrpSpPr>
          <p:cNvPr id="370" name="Group 8"/>
          <p:cNvGrpSpPr/>
          <p:nvPr/>
        </p:nvGrpSpPr>
        <p:grpSpPr>
          <a:xfrm>
            <a:off x="3363480" y="621000"/>
            <a:ext cx="2913120" cy="1533960"/>
            <a:chOff x="3363480" y="621000"/>
            <a:chExt cx="2913120" cy="1533960"/>
          </a:xfrm>
        </p:grpSpPr>
        <p:sp>
          <p:nvSpPr>
            <p:cNvPr id="371" name="Freeform 9"/>
            <p:cNvSpPr/>
            <p:nvPr/>
          </p:nvSpPr>
          <p:spPr>
            <a:xfrm rot="390600">
              <a:off x="3437280" y="713880"/>
              <a:ext cx="1624680" cy="804240"/>
            </a:xfrm>
            <a:custGeom>
              <a:avLst/>
              <a:gdLst>
                <a:gd name="textAreaLeft" fmla="*/ 0 w 1624680"/>
                <a:gd name="textAreaRight" fmla="*/ 1625040 w 162468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72" name="Freeform 10"/>
            <p:cNvSpPr/>
            <p:nvPr/>
          </p:nvSpPr>
          <p:spPr>
            <a:xfrm rot="390600">
              <a:off x="5331240" y="1534320"/>
              <a:ext cx="841320" cy="57456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73" name="Freeform 11"/>
            <p:cNvSpPr/>
            <p:nvPr/>
          </p:nvSpPr>
          <p:spPr>
            <a:xfrm rot="390600">
              <a:off x="4316400" y="1644480"/>
              <a:ext cx="1005480" cy="357840"/>
            </a:xfrm>
            <a:custGeom>
              <a:avLst/>
              <a:gdLst>
                <a:gd name="textAreaLeft" fmla="*/ 0 w 1005480"/>
                <a:gd name="textAreaRight" fmla="*/ 1005840 w 100548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74" name="Freeform 12"/>
            <p:cNvSpPr/>
            <p:nvPr/>
          </p:nvSpPr>
          <p:spPr>
            <a:xfrm rot="390600">
              <a:off x="3416040" y="776520"/>
              <a:ext cx="2807640" cy="1090080"/>
            </a:xfrm>
            <a:custGeom>
              <a:avLst/>
              <a:gdLst>
                <a:gd name="textAreaLeft" fmla="*/ 0 w 2807640"/>
                <a:gd name="textAreaRight" fmla="*/ 2808000 w 2807640"/>
                <a:gd name="textAreaTop" fmla="*/ 0 h 1090080"/>
                <a:gd name="textAreaBottom" fmla="*/ 1090440 h 109008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76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377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378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79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380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12"/>
          <p:cNvSpPr/>
          <p:nvPr/>
        </p:nvSpPr>
        <p:spPr>
          <a:xfrm>
            <a:off x="971640" y="83664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Каким должен стать современный урок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 условиях введения ФГОС 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2" name="Прямоугольник 14"/>
          <p:cNvSpPr/>
          <p:nvPr/>
        </p:nvSpPr>
        <p:spPr>
          <a:xfrm>
            <a:off x="684360" y="1989000"/>
            <a:ext cx="7416720" cy="43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Arial"/>
                <a:ea typeface="Arial"/>
              </a:rPr>
              <a:t>иметь хорошее начало и хорошее окончание</a:t>
            </a:r>
            <a:endParaRPr b="1" lang="en-US" sz="22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четко сформулированы тема, цель и задачи урока</a:t>
            </a:r>
            <a:endParaRPr b="1" lang="en-US" sz="22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f0"/>
                </a:solidFill>
                <a:latin typeface="Arial"/>
                <a:ea typeface="Arial"/>
              </a:rPr>
              <a:t>учёт уровня и возможностей учащихся</a:t>
            </a:r>
            <a:endParaRPr b="1" lang="en-US" sz="22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Arial"/>
                <a:ea typeface="Arial"/>
              </a:rPr>
              <a:t>урок должен быт проблемным и развивающим</a:t>
            </a:r>
            <a:endParaRPr b="1" lang="en-US" sz="22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минимум репродукции и максимум творчества и сотворчества</a:t>
            </a:r>
            <a:endParaRPr b="1" lang="en-US" sz="22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f0"/>
                </a:solidFill>
                <a:latin typeface="Arial"/>
                <a:ea typeface="Arial"/>
              </a:rPr>
              <a:t>учитель активизирует деятельность учащихся</a:t>
            </a:r>
            <a:endParaRPr b="1" lang="en-US" sz="22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13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1306a"/>
                </a:solidFill>
                <a:latin typeface="Arial"/>
                <a:ea typeface="Arial"/>
              </a:rPr>
              <a:t>учёт время сбережения и здоровье сбережения</a:t>
            </a:r>
            <a:endParaRPr b="1" lang="en-US" sz="22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13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1306a"/>
                </a:solidFill>
                <a:latin typeface="Arial"/>
                <a:ea typeface="Arial"/>
              </a:rPr>
              <a:t>вывод делают сами учащиеся</a:t>
            </a:r>
            <a:endParaRPr b="1" lang="en-US" sz="22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13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4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385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386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7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388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1"/>
          <p:cNvSpPr/>
          <p:nvPr/>
        </p:nvSpPr>
        <p:spPr>
          <a:xfrm>
            <a:off x="971640" y="217800"/>
            <a:ext cx="7416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Calibri"/>
              </a:rPr>
              <a:t>Технологическая карта дает возможностью отразить взаимодействия учителя и ученика на уроке, что является актуальным, прежде всего, для развивающего образования.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Calibri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Calibri"/>
              </a:rPr>
              <a:t>Технологическая карта урока </a:t>
            </a:r>
            <a:r>
              <a:rPr b="1" lang="ru-RU" sz="2800" spc="-1" strike="noStrike">
                <a:solidFill>
                  <a:srgbClr val="00b0f0"/>
                </a:solidFill>
                <a:latin typeface="Franklin Gothic Demi"/>
                <a:ea typeface="Calibri"/>
              </a:rPr>
              <a:t>–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Calibri"/>
              </a:rPr>
              <a:t> обобщенно-графическое выражение сценария урока, основа его проектирования, средство представления индивидуальных методов работы. 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ff"/>
                </a:solidFill>
                <a:latin typeface="Times New Roman"/>
                <a:ea typeface="Calibri"/>
              </a:rPr>
              <a:t>Проект урока </a:t>
            </a:r>
            <a:r>
              <a:rPr b="1" lang="ru-RU" sz="2800" spc="-1" strike="noStrike">
                <a:solidFill>
                  <a:srgbClr val="ff66ff"/>
                </a:solidFill>
                <a:latin typeface="Franklin Gothic Demi"/>
                <a:ea typeface="Calibri"/>
              </a:rPr>
              <a:t>–</a:t>
            </a:r>
            <a:r>
              <a:rPr b="1" lang="ru-RU" sz="2800" spc="-1" strike="noStrike">
                <a:solidFill>
                  <a:srgbClr val="ff66ff"/>
                </a:solidFill>
                <a:latin typeface="Times New Roman"/>
                <a:ea typeface="Calibri"/>
              </a:rPr>
              <a:t> это представленный учителем план проведения урока с возможной корректировкой.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1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392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393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4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395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10"/>
          <p:cNvSpPr/>
          <p:nvPr/>
        </p:nvSpPr>
        <p:spPr>
          <a:xfrm>
            <a:off x="936360" y="-10440"/>
            <a:ext cx="72187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2000" spc="-1" strike="noStrike">
                <a:solidFill>
                  <a:srgbClr val="f14124"/>
                </a:solidFill>
                <a:latin typeface="Times New Roman"/>
                <a:ea typeface="Times New Roman"/>
              </a:rPr>
              <a:t>Технологическая карта урока</a:t>
            </a:r>
            <a:br>
              <a:rPr sz="1400"/>
            </a:br>
            <a:r>
              <a:rPr b="1" lang="ru-RU" sz="1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                      Учитель:</a:t>
            </a:r>
            <a:br>
              <a:rPr sz="1400"/>
            </a:br>
            <a:r>
              <a:rPr b="1" lang="ru-RU" sz="1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                       Предмет:                                                                     Тема занятия:</a:t>
            </a:r>
            <a:br>
              <a:rPr sz="1400"/>
            </a:br>
            <a:r>
              <a:rPr b="1" lang="ru-RU" sz="1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                       Класс:                                                                          Цели урока:</a:t>
            </a:r>
            <a:br>
              <a:rPr sz="1400"/>
            </a:br>
            <a:r>
              <a:rPr b="1" lang="ru-RU" sz="1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                       Дата:                                                                            Образовательные ресурсы:</a:t>
            </a:r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468360" y="1413000"/>
          <a:ext cx="8209080" cy="5168880"/>
        </p:xfrm>
        <a:graphic>
          <a:graphicData uri="http://schemas.openxmlformats.org/drawingml/2006/table">
            <a:tbl>
              <a:tblPr/>
              <a:tblGrid>
                <a:gridCol w="1485720"/>
                <a:gridCol w="817560"/>
                <a:gridCol w="1401840"/>
                <a:gridCol w="1452600"/>
                <a:gridCol w="1652760"/>
                <a:gridCol w="1398600"/>
              </a:tblGrid>
              <a:tr h="30492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Основные    этапы организации учебной деятельнос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Цель этап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Содержание педагогического взаимодейств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Деятельность обучающихс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знавательна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коммуникативна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регулятивна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ff"/>
                          </a:solidFill>
                          <a:latin typeface="Times New Roman"/>
                          <a:ea typeface="Calibri"/>
                        </a:rPr>
                        <a:t>1.Мотивация учебной деятельнос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ff"/>
                          </a:solidFill>
                          <a:latin typeface="Times New Roman"/>
                          <a:ea typeface="Calibri"/>
                        </a:rPr>
                        <a:t>2.Актуализация знаний. Постановка цели урок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ff"/>
                          </a:solidFill>
                          <a:latin typeface="Times New Roman"/>
                          <a:ea typeface="Calibri"/>
                        </a:rPr>
                        <a:t>3.Проблемное объяснение нового материал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ff"/>
                          </a:solidFill>
                          <a:latin typeface="Times New Roman"/>
                          <a:ea typeface="Calibri"/>
                        </a:rPr>
                        <a:t>4. Закрепле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ff"/>
                          </a:solidFill>
                          <a:latin typeface="Times New Roman"/>
                          <a:ea typeface="Calibri"/>
                        </a:rPr>
                        <a:t>5. Итог урока. Рефлек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9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400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401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2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403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11"/>
          <p:cNvSpPr/>
          <p:nvPr/>
        </p:nvSpPr>
        <p:spPr>
          <a:xfrm>
            <a:off x="704880" y="476280"/>
            <a:ext cx="7396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Franklin Gothic Demi"/>
              </a:rPr>
              <a:t>        </a:t>
            </a:r>
            <a:r>
              <a:rPr b="1" lang="ru-RU" sz="3200" spc="-1" strike="noStrike">
                <a:solidFill>
                  <a:srgbClr val="7030a0"/>
                </a:solidFill>
                <a:latin typeface="Franklin Gothic Demi"/>
              </a:rPr>
              <a:t>Алгоритм проектирования урока</a:t>
            </a:r>
            <a:endParaRPr b="1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5" name="Прямоугольник 12"/>
          <p:cNvSpPr/>
          <p:nvPr/>
        </p:nvSpPr>
        <p:spPr>
          <a:xfrm>
            <a:off x="611280" y="1825560"/>
            <a:ext cx="77058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.Определение места урока (тема).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2.Определение типа урока.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3.Определение цели и задач.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21a08"/>
                </a:solidFill>
                <a:latin typeface="Calibri"/>
              </a:rPr>
              <a:t>4.Отбор содержания учебного материала.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5.Подбор методов и приёмов обучения.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6.Определение форм организации деятельности учащихся.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7.Подбор материала для домашней работы учащихся.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21a08"/>
                </a:solidFill>
                <a:latin typeface="Calibri"/>
              </a:rPr>
              <a:t>8. Определение способов контроля и оценки.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9.Подбор вопросов для подведения итога урока.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489f"/>
                </a:solidFill>
                <a:latin typeface="Calibri"/>
              </a:rPr>
              <a:t>10.Подбор оборудования.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24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25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226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27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28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"/>
          <p:cNvSpPr/>
          <p:nvPr/>
        </p:nvSpPr>
        <p:spPr>
          <a:xfrm>
            <a:off x="826920" y="31680"/>
            <a:ext cx="7705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ектирование </a:t>
            </a:r>
            <a:r>
              <a:rPr b="1" lang="ru-RU" sz="2800" spc="-1" strike="noStrike">
                <a:solidFill>
                  <a:srgbClr val="ff0000"/>
                </a:solidFill>
                <a:latin typeface="Franklin Gothic Demi"/>
                <a:ea typeface="Calibri"/>
              </a:rPr>
              <a:t>–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это процесс создания                 проекта-прототипа, прообраза предполагаемого или возможного объекта. </a:t>
            </a:r>
            <a:r>
              <a:rPr b="1" lang="ru-RU" sz="2800" spc="-1" strike="noStrike">
                <a:solidFill>
                  <a:srgbClr val="4fadf3"/>
                </a:solidFill>
                <a:latin typeface="Times New Roman"/>
                <a:ea typeface="Calibri"/>
              </a:rPr>
              <a:t>Отсюда, </a:t>
            </a:r>
            <a:r>
              <a:rPr b="1" lang="ru-RU" sz="2800" spc="-1" strike="noStrike">
                <a:solidFill>
                  <a:srgbClr val="4fadf3"/>
                </a:solidFill>
                <a:latin typeface="Franklin Gothic Demi"/>
                <a:ea typeface="Calibri"/>
              </a:rPr>
              <a:t>«</a:t>
            </a:r>
            <a:r>
              <a:rPr b="1" lang="ru-RU" sz="2800" spc="-1" strike="noStrike">
                <a:solidFill>
                  <a:srgbClr val="4fadf3"/>
                </a:solidFill>
                <a:latin typeface="Times New Roman"/>
                <a:ea typeface="Calibri"/>
              </a:rPr>
              <a:t>педагогическое проектирование</a:t>
            </a:r>
            <a:r>
              <a:rPr b="1" lang="ru-RU" sz="2800" spc="-1" strike="noStrike">
                <a:solidFill>
                  <a:srgbClr val="4fadf3"/>
                </a:solidFill>
                <a:latin typeface="Franklin Gothic Demi"/>
                <a:ea typeface="Calibri"/>
              </a:rPr>
              <a:t>»</a:t>
            </a:r>
            <a:r>
              <a:rPr b="1" lang="ru-RU" sz="2800" spc="-1" strike="noStrike">
                <a:solidFill>
                  <a:srgbClr val="4fadf3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4fadf3"/>
                </a:solidFill>
                <a:latin typeface="Franklin Gothic Demi"/>
                <a:ea typeface="Calibri"/>
              </a:rPr>
              <a:t>–</a:t>
            </a:r>
            <a:r>
              <a:rPr b="1" lang="ru-RU" sz="2800" spc="-1" strike="noStrike">
                <a:solidFill>
                  <a:srgbClr val="4fadf3"/>
                </a:solidFill>
                <a:latin typeface="Times New Roman"/>
                <a:ea typeface="Calibri"/>
              </a:rPr>
              <a:t> это предварительная разработка основных деталей предстоящей деятельности учащихся и педагогов (урок)</a:t>
            </a:r>
            <a:r>
              <a:rPr b="1" lang="ru-RU" sz="2800" spc="-1" strike="noStrike">
                <a:solidFill>
                  <a:srgbClr val="4fadf3"/>
                </a:solidFill>
                <a:latin typeface="Franklin Gothic Demi"/>
                <a:ea typeface="Calibri"/>
              </a:rPr>
              <a:t>»</a:t>
            </a:r>
            <a:r>
              <a:rPr b="1" lang="ru-RU" sz="2800" spc="-1" strike="noStrike">
                <a:solidFill>
                  <a:srgbClr val="4fadf3"/>
                </a:solidFill>
                <a:latin typeface="Times New Roman"/>
                <a:ea typeface="Calibri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Calibri"/>
              </a:rPr>
              <a:t>Умение проектировать </a:t>
            </a:r>
            <a:r>
              <a:rPr b="1" lang="ru-RU" sz="2800" spc="-1" strike="noStrike">
                <a:solidFill>
                  <a:srgbClr val="00b050"/>
                </a:solidFill>
                <a:latin typeface="Franklin Gothic Demi"/>
                <a:ea typeface="Calibri"/>
              </a:rPr>
              <a:t>–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Calibri"/>
              </a:rPr>
              <a:t> это способность к целеполаганию и распределению целей, организации и анализу деятельности. 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Современный урок </a:t>
            </a:r>
            <a:r>
              <a:rPr b="1" lang="ru-RU" sz="2800" spc="-1" strike="noStrike">
                <a:solidFill>
                  <a:srgbClr val="7030a0"/>
                </a:solidFill>
                <a:latin typeface="Franklin Gothic Demi"/>
                <a:ea typeface="Calibri"/>
              </a:rPr>
              <a:t>–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урок  действенный, имеющий непосредственное отношение к интересам личности ребенка, его родителей, общества, государства.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3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553600" cy="22446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6840" y="206064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Определение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И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Отбор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ДЕРЖАНИЯ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Проектирование системы учебных задач/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ЧЕБНЫХ ЗАДАН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Выбор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ОРМ ОРГАНИЗАЦИИ УЧЕБНОЙ ДЕЯТЕЛЬНОСТИ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всех этапах учебного занятия</a:t>
            </a:r>
            <a:r>
              <a:rPr b="1" lang="ru-RU" sz="2400" spc="-1" strike="noStrike">
                <a:solidFill>
                  <a:srgbClr val="b4dcfa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00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00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489f"/>
                </a:solidFill>
                <a:latin typeface="Trebuchet MS"/>
              </a:rPr>
              <a:t>Цель учебного занятия проектируется в контексте: 1) целей изучения учебного предмета 2) планируемых результатов освоения учебного предме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276120" y="259920"/>
            <a:ext cx="8399520" cy="65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86e00"/>
                </a:solidFill>
                <a:latin typeface="Times New Roman"/>
                <a:ea typeface="Times New Roman"/>
              </a:rPr>
              <a:t>Типология уроков по ФГОС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34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35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236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37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38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332000" y="1341360"/>
          <a:ext cx="6553080" cy="5184720"/>
        </p:xfrm>
        <a:graphic>
          <a:graphicData uri="http://schemas.openxmlformats.org/drawingml/2006/table">
            <a:tbl>
              <a:tblPr/>
              <a:tblGrid>
                <a:gridCol w="6553080"/>
              </a:tblGrid>
              <a:tr h="81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ип урок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1323"/>
                          </a:solidFill>
                          <a:latin typeface="Times New Roman"/>
                          <a:ea typeface="Times New Roman"/>
                        </a:rPr>
                        <a:t>Урок открытия нового знан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85c00"/>
                          </a:solidFill>
                          <a:latin typeface="Times New Roman"/>
                          <a:ea typeface="Times New Roman"/>
                        </a:rPr>
                        <a:t>Урок рефлекс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Урок обобщения и систематизации знани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21a08"/>
                          </a:solidFill>
                          <a:latin typeface="Times New Roman"/>
                          <a:ea typeface="Times New Roman"/>
                        </a:rPr>
                        <a:t>Урок развивающего контрол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684000" y="23760"/>
            <a:ext cx="784836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Структура урока по ФГОС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42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43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244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45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46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10"/>
          <p:cNvSpPr/>
          <p:nvPr/>
        </p:nvSpPr>
        <p:spPr>
          <a:xfrm>
            <a:off x="684360" y="0"/>
            <a:ext cx="7920000" cy="67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Мотивирование (самоопределение) к учебной деятельности (организационный этап 1-2 минуты).</a:t>
            </a:r>
            <a:endParaRPr b="1" lang="en-US" sz="23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. Актуализация знаний и фиксирование индивидуального затруднения в пробном учебном действии 4-5 минут. </a:t>
            </a:r>
            <a:endParaRPr b="1" lang="en-US" sz="23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03e00"/>
                </a:solidFill>
                <a:latin typeface="Times New Roman"/>
                <a:ea typeface="Times New Roman"/>
              </a:rPr>
              <a:t>3. Выявление места и причины затруднения, постановка цели деятельности 4-5 минут. </a:t>
            </a:r>
            <a:endParaRPr b="1" lang="en-US" sz="23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. Построение проекта выхода из затруднения (открытие нового знания) 7-8 минут. </a:t>
            </a:r>
            <a:endParaRPr b="1" lang="en-US" sz="23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5. Реализация построенного проекта 4-5 минут. </a:t>
            </a:r>
            <a:endParaRPr b="1" lang="en-US" sz="23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 Первичное закрепление 4-5 минут. </a:t>
            </a:r>
            <a:endParaRPr b="1" lang="en-US" sz="23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7. Самостоятельная работа с самопроверкой по эталону (образцу) 4-5 минут. </a:t>
            </a:r>
            <a:endParaRPr b="1" lang="en-US" sz="23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03e00"/>
                </a:solidFill>
                <a:latin typeface="Times New Roman"/>
                <a:ea typeface="Times New Roman"/>
              </a:rPr>
              <a:t>8. Включение в систему знаний и повторение 7-8 минут.</a:t>
            </a:r>
            <a:endParaRPr b="1" lang="en-US" sz="23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9. Рефлексия учебной деятельности (итог урока) – 2-3 минуты. </a:t>
            </a:r>
            <a:endParaRPr b="1" lang="en-US" sz="23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971640" y="259920"/>
            <a:ext cx="7632720" cy="65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Arial Black"/>
              </a:rPr>
              <a:t>Универсальные учебные действия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Arial Black"/>
              </a:rPr>
              <a:t>(УУД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0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51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252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3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54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11"/>
          <p:cNvSpPr/>
          <p:nvPr/>
        </p:nvSpPr>
        <p:spPr>
          <a:xfrm>
            <a:off x="684360" y="119700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широком значении термин «универсальные учебные действия» означает умение учиться, т.е. способность к саморазвитию и самосовершенствованию путем сознательного и активного присвоения нового социального опыта. 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6" name="Прямоугольник 12"/>
          <p:cNvSpPr/>
          <p:nvPr/>
        </p:nvSpPr>
        <p:spPr>
          <a:xfrm>
            <a:off x="1116000" y="3213000"/>
            <a:ext cx="72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735d"/>
                </a:solidFill>
                <a:latin typeface="Times New Roman"/>
                <a:ea typeface="Times New Roman"/>
              </a:rPr>
              <a:t>В более узком смысле этот термин можно определить как совокупность способов действий учащегося, обеспечивающих его способность к самостоятельному усвоению новых знаний и умений, включая организацию этого процесса.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75760" y="23760"/>
            <a:ext cx="886788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1306a"/>
                </a:solidFill>
                <a:latin typeface="Arial"/>
              </a:rPr>
              <a:t>УУД направлены на достижение планируемых результато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Различают три группы планируемых результатов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100000"/>
              </a:lnSpc>
              <a:spcBef>
                <a:spcPts val="550"/>
              </a:spcBef>
              <a:buClr>
                <a:srgbClr val="c3260c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Arial"/>
              </a:rPr>
              <a:t>Предметные УУД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100000"/>
              </a:lnSpc>
              <a:spcBef>
                <a:spcPts val="550"/>
              </a:spcBef>
              <a:buClr>
                <a:srgbClr val="c3260c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Arial"/>
              </a:rPr>
              <a:t>Метапредметные УУД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100000"/>
              </a:lnSpc>
              <a:spcBef>
                <a:spcPts val="550"/>
              </a:spcBef>
              <a:buClr>
                <a:srgbClr val="c3260c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Личностные УУД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9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60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261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2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63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Line 32"/>
          <p:cNvSpPr/>
          <p:nvPr/>
        </p:nvSpPr>
        <p:spPr>
          <a:xfrm>
            <a:off x="4859280" y="2133720"/>
            <a:ext cx="1297080" cy="25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5" name="Line 31"/>
          <p:cNvSpPr/>
          <p:nvPr/>
        </p:nvSpPr>
        <p:spPr>
          <a:xfrm flipH="1">
            <a:off x="2556000" y="2205000"/>
            <a:ext cx="1728720" cy="25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6" name="AutoShape 17"/>
          <p:cNvSpPr/>
          <p:nvPr/>
        </p:nvSpPr>
        <p:spPr>
          <a:xfrm>
            <a:off x="1403280" y="333360"/>
            <a:ext cx="6408720" cy="16556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1489f"/>
                </a:solidFill>
                <a:latin typeface="Times New Roman"/>
              </a:rPr>
              <a:t>Виды универсальных </a:t>
            </a:r>
            <a:endParaRPr b="1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1489f"/>
                </a:solidFill>
                <a:latin typeface="Times New Roman"/>
              </a:rPr>
              <a:t>учебных действий</a:t>
            </a:r>
            <a:endParaRPr b="1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1489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7" name="AutoShape 24"/>
          <p:cNvSpPr/>
          <p:nvPr/>
        </p:nvSpPr>
        <p:spPr>
          <a:xfrm>
            <a:off x="1116000" y="2781360"/>
            <a:ext cx="3168720" cy="1130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Личностные </a:t>
            </a:r>
            <a:endParaRPr b="1" lang="en-US" sz="36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ействия</a:t>
            </a:r>
            <a:endParaRPr b="1" lang="en-US" sz="36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8" name="AutoShape 26"/>
          <p:cNvSpPr/>
          <p:nvPr/>
        </p:nvSpPr>
        <p:spPr>
          <a:xfrm>
            <a:off x="826920" y="4724280"/>
            <a:ext cx="3600720" cy="14194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Познавательные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действия</a:t>
            </a:r>
            <a:endParaRPr b="1" lang="en-US" sz="36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9" name="AutoShape 27"/>
          <p:cNvSpPr/>
          <p:nvPr/>
        </p:nvSpPr>
        <p:spPr>
          <a:xfrm>
            <a:off x="4788000" y="4797360"/>
            <a:ext cx="3600360" cy="1441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Times New Roman"/>
              </a:rPr>
              <a:t>Коммуникативные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Times New Roman"/>
              </a:rPr>
              <a:t>действия</a:t>
            </a:r>
            <a:endParaRPr b="1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70" name="AutoShape 28"/>
          <p:cNvSpPr/>
          <p:nvPr/>
        </p:nvSpPr>
        <p:spPr>
          <a:xfrm>
            <a:off x="4932360" y="2852640"/>
            <a:ext cx="3240000" cy="11318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Регулятивные</a:t>
            </a:r>
            <a:endParaRPr b="1" lang="en-US" sz="36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действия</a:t>
            </a:r>
            <a:endParaRPr b="1" lang="en-US" sz="36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71" name="Line 29"/>
          <p:cNvSpPr/>
          <p:nvPr/>
        </p:nvSpPr>
        <p:spPr>
          <a:xfrm flipH="1">
            <a:off x="2268000" y="2205000"/>
            <a:ext cx="1295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72" name="Line 30"/>
          <p:cNvSpPr/>
          <p:nvPr/>
        </p:nvSpPr>
        <p:spPr>
          <a:xfrm>
            <a:off x="5724360" y="2205000"/>
            <a:ext cx="1276560" cy="58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73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74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75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76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77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pic>
        <p:nvPicPr>
          <p:cNvPr id="278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Прямоугольник 4"/>
          <p:cNvGrpSpPr/>
          <p:nvPr/>
        </p:nvGrpSpPr>
        <p:grpSpPr>
          <a:xfrm>
            <a:off x="165240" y="171360"/>
            <a:ext cx="8813520" cy="6515280"/>
            <a:chOff x="165240" y="171360"/>
            <a:chExt cx="8813520" cy="6515280"/>
          </a:xfrm>
        </p:grpSpPr>
        <p:pic>
          <p:nvPicPr>
            <p:cNvPr id="280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65240" y="171360"/>
              <a:ext cx="8813520" cy="65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282" name="Line 12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442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3" name="Line 8"/>
          <p:cNvSpPr/>
          <p:nvPr/>
        </p:nvSpPr>
        <p:spPr>
          <a:xfrm flipV="1">
            <a:off x="0" y="0"/>
            <a:ext cx="9144000" cy="46080"/>
          </a:xfrm>
          <a:prstGeom prst="line">
            <a:avLst/>
          </a:prstGeom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4" name="Text Box 16"/>
          <p:cNvSpPr/>
          <p:nvPr/>
        </p:nvSpPr>
        <p:spPr>
          <a:xfrm>
            <a:off x="468360" y="4653000"/>
            <a:ext cx="345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мения САМОСТОЯТЕЛЬНО делать СВОЙ ВЫБОР в мире мыслей, чувств и ЦЕННОСТЕЙ и отвечать за этот выбор.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5" name="Text Box 17"/>
          <p:cNvSpPr/>
          <p:nvPr/>
        </p:nvSpPr>
        <p:spPr>
          <a:xfrm>
            <a:off x="6156360" y="1197000"/>
            <a:ext cx="22003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80a11"/>
                </a:solidFill>
                <a:latin typeface="Arial"/>
              </a:rPr>
              <a:t>Умение результативно МЫСЛИТЬ и работать с ИНФОРМАЦИЕЙ в современном мире.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6" name="Text Box 18"/>
          <p:cNvSpPr/>
          <p:nvPr/>
        </p:nvSpPr>
        <p:spPr>
          <a:xfrm>
            <a:off x="5435640" y="5373720"/>
            <a:ext cx="2903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Умения ОБЩАТЬСЯ, взаимодействовать с людьми.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7" name="Text Box 19"/>
          <p:cNvSpPr/>
          <p:nvPr/>
        </p:nvSpPr>
        <p:spPr>
          <a:xfrm>
            <a:off x="395280" y="1197000"/>
            <a:ext cx="25606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85c00"/>
                </a:solidFill>
                <a:latin typeface="Arial"/>
              </a:rPr>
              <a:t>Умения ОРГАНИЗОВАТЬ свою деятельность.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85c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8" name="Выноска со стрелкой вниз 26"/>
          <p:cNvSpPr/>
          <p:nvPr/>
        </p:nvSpPr>
        <p:spPr>
          <a:xfrm>
            <a:off x="611280" y="3645000"/>
            <a:ext cx="2376360" cy="907920"/>
          </a:xfrm>
          <a:prstGeom prst="downArrowCallout">
            <a:avLst>
              <a:gd name="adj1" fmla="val 25013"/>
              <a:gd name="adj2" fmla="val 24998"/>
              <a:gd name="adj3" fmla="val 25000"/>
              <a:gd name="adj4" fmla="val 64977"/>
            </a:avLst>
          </a:prstGeom>
          <a:solidFill>
            <a:srgbClr val="ffcc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ЛИЧНОСТНЫЕ 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9" name="Выноска со стрелкой вниз 27"/>
          <p:cNvSpPr/>
          <p:nvPr/>
        </p:nvSpPr>
        <p:spPr>
          <a:xfrm>
            <a:off x="539640" y="333360"/>
            <a:ext cx="2808360" cy="846000"/>
          </a:xfrm>
          <a:prstGeom prst="downArrowCallout">
            <a:avLst>
              <a:gd name="adj1" fmla="val 25022"/>
              <a:gd name="adj2" fmla="val 25004"/>
              <a:gd name="adj3" fmla="val 25000"/>
              <a:gd name="adj4" fmla="val 64977"/>
            </a:avLst>
          </a:prstGeom>
          <a:solidFill>
            <a:srgbClr val="ffffcc"/>
          </a:solidFill>
          <a:ln w="28440">
            <a:solidFill>
              <a:srgbClr val="c32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rebuchet MS"/>
              </a:rPr>
              <a:t>РЕГУЛЯТИВНЫЕ 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90" name="Выноска со стрелкой вниз 28"/>
          <p:cNvSpPr/>
          <p:nvPr/>
        </p:nvSpPr>
        <p:spPr>
          <a:xfrm>
            <a:off x="5435640" y="333360"/>
            <a:ext cx="3092400" cy="752400"/>
          </a:xfrm>
          <a:prstGeom prst="downArrowCallout">
            <a:avLst>
              <a:gd name="adj1" fmla="val 25005"/>
              <a:gd name="adj2" fmla="val 25003"/>
              <a:gd name="adj3" fmla="val 25000"/>
              <a:gd name="adj4" fmla="val 64977"/>
            </a:avLst>
          </a:prstGeom>
          <a:solidFill>
            <a:srgbClr val="ffe6d3"/>
          </a:solidFill>
          <a:ln w="28440">
            <a:solidFill>
              <a:srgbClr val="596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rebuchet MS"/>
              </a:rPr>
              <a:t>ПОЗНАВАТЕЛЬНЫЕ 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91" name="Выноска со стрелкой вниз 29"/>
          <p:cNvSpPr/>
          <p:nvPr/>
        </p:nvSpPr>
        <p:spPr>
          <a:xfrm>
            <a:off x="5292720" y="4508640"/>
            <a:ext cx="3476520" cy="680760"/>
          </a:xfrm>
          <a:prstGeom prst="downArrowCallout">
            <a:avLst>
              <a:gd name="adj1" fmla="val 25016"/>
              <a:gd name="adj2" fmla="val 25014"/>
              <a:gd name="adj3" fmla="val 25000"/>
              <a:gd name="adj4" fmla="val 75000"/>
            </a:avLst>
          </a:prstGeom>
          <a:solidFill>
            <a:srgbClr val="dcf7ba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Trebuchet MS"/>
              </a:rPr>
              <a:t>КОММУНИКАТИВНЫЕ</a:t>
            </a:r>
            <a:r>
              <a:rPr b="1" lang="ru-RU" sz="1600" spc="-1" strike="noStrike">
                <a:solidFill>
                  <a:srgbClr val="009900"/>
                </a:solidFill>
                <a:latin typeface="Trebuchet M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05:41:07Z</dcterms:created>
  <dc:creator>mmc</dc:creator>
  <dc:description/>
  <dc:language>en-US</dc:language>
  <cp:lastModifiedBy>User</cp:lastModifiedBy>
  <dcterms:modified xsi:type="dcterms:W3CDTF">2023-06-26T14:50:14Z</dcterms:modified>
  <cp:revision>359</cp:revision>
  <dc:subject/>
  <dc:title>Слайд 1</dc:title>
</cp:coreProperties>
</file>