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7.jpeg" ContentType="image/jpeg"/>
  <Override PartName="/ppt/media/image8.png" ContentType="image/png"/>
  <Override PartName="/ppt/media/image14.jpeg" ContentType="image/jpeg"/>
  <Override PartName="/ppt/media/image33.png" ContentType="image/pn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a5e6d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1751-249E-4761-94E2-1DF3A2C083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читайте углы и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C077-5AB7-42B9-A75B-CFC5E292C41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читайте с ребенком углы и стор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CDBE-EF84-4CFB-AF2E-C8F3F5B6694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жите ребенку противоположные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FA23-CC38-4B3E-80BB-EA978C20693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DD12-AF67-417B-AE40-715E5924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A51C-00F3-436F-A29D-472E8B0B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0BBB19-BD4D-417A-B934-B90BF514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2192F4-CC75-486A-BEAC-FF2587B8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88709-132F-42F5-8A38-66678C91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4902F-E6C4-4011-98F2-5442A3C0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A1D785-A888-4C69-8C95-6ED417BA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04B2C1-2436-4653-9C26-5D056D77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B8F914-95BC-434A-A1E7-87263B01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84529B-D7AB-4B45-8C69-5F7BD9F6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82B2D3-D8A9-4E9A-9D29-10B7EB36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76051A-AB47-42D0-850E-F0C5E786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2611-B5D3-4810-B115-EDCA96AB5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80D8B-B188-4321-8D12-BE50C516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899C1A-525E-49D4-8BA9-81EC0094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1CAFC-1CE3-4EBC-B2F7-61064D7F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EF2D40-3D98-4258-A5C0-FAF15DEC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20EB9E-BB69-411D-A97A-55A4E7C9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46C98-9FC7-4A85-BA91-A7FB32A3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35A616-0C9A-47AB-BE47-2F34B340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787A8A-D454-4DCD-86A7-BD938141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FB3691-2DDA-4BEE-A39B-EE3E51D7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BA0D6D-8D2B-40AE-92B9-30D38104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1FC5-0CB5-48D0-95D6-77A2FCE5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8F9DCF-9C80-491E-82D4-883A6D1D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5D667-C566-47C5-826E-02F1C2F7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26592-9B72-4E2D-8EE5-205A1D4F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66907-DB6E-4FF9-BB61-5C95972D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5C08D-AF1A-4DE4-8777-3CB412C4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24FF7-334D-4870-9C20-422E5E96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03167-E274-4581-906D-EFA1FAAD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C5308-6B96-4E53-A57B-B0D3EFFD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18C82-4D67-47B0-9EBC-82AAAA4F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39D62-9C6E-4ACC-B122-4A3A0DC7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C937-17C2-4B21-8DFC-F96C7F29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6B920-BF2A-4A59-8BA7-0D63E1C6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55A92-FB15-475A-93E0-8A02D383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948C2-8938-4921-A995-BE6CADFF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B4832C-EBC9-448E-9633-EDD76BAB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9805FC-11B4-448B-B6FD-593BEA46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C3A23-99DC-426A-B85D-207FE0BE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8F702D-1A58-4511-849E-1CB6141C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25317B-7BE5-4E83-A9D1-785039F1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77A837-E4FF-4909-A52C-C2E81F3C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3DFA5A-AB56-4ED4-A3C9-0A35EBA8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298E-299F-4513-8984-83A21655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97EDF1-E199-4058-946C-DC476116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488BAE-6EB6-4BF5-852B-EA3F5B75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ADDB2C-BF64-4104-BC42-0AA5900A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2D639-ACD1-4305-B762-09E6B20F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9FAAAC-31EE-4BF6-80A0-26B777FC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B9C7-37EC-4418-8BE0-86726DD9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16B0-A248-45C3-BE72-E1171C74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1092-982A-4178-91C3-B0670187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8BAB-8F13-47DD-B8A4-5A89A739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B7E0-F564-44BC-BD0F-D5263432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71D3-9BD5-4966-AD81-3765625D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F1D9-C141-4CEF-9F4F-6BC106F6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8811-DA42-4643-8C15-2E1EF2B6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72FB-3B11-49B7-89AE-9E8DE26C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C674-5593-4F27-A3F3-751EF6C6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458D-E73B-47AA-9FBF-B8E73C50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7D542-41EC-4F46-8470-2DBABBEE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CAD3A-3390-4B42-A1D1-DEC81EDB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4C49B-DD5C-406F-912E-36428E88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9E157-1C8F-4370-996E-D6354CD5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E96C2-56ED-480F-8B30-7AD848F6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6625-3E4D-46EB-86C6-73A134BD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68B33-3DB6-4627-9856-946B23C7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29DAF-8268-4DB6-8BCE-4F5C8287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4DFA8-EAF3-4822-B7D6-7B7EB22A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2B223-363E-4FDB-8EEC-25822AD5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B9535-DA8A-468D-A226-F2F82D24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66F66-8A4D-4139-9674-AF3DE8CF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BE549-4453-46BD-A022-5888AD67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BF970-8D0A-4E81-AAC7-604ACA8E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9A926-7112-47C6-B539-AA00AFF7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89CD5-6A79-44DE-8B1B-0A238AB2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0DE4-6768-40A4-99FE-A39275AB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39703-F7BD-4154-B61D-86DBE738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7D39C-EA5B-4882-98EE-3972830C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DCA17-AFD6-49D2-A9BB-5F814AA3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15512-55F9-4469-B391-009334E7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E9B7E-5CE1-4B9C-93F8-F53F26CF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BC4E8-88F4-4BB6-94B2-FE748866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B55D0-ECA8-4315-8737-B954D4A1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6960D-946E-49F5-B157-6EEFDBC4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3FCB0-BB2B-455B-882C-78DB75F8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33C82-118C-4528-AB33-95CA815E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E11-E572-45BA-89D9-C72D755B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0D7BA-ED7F-4503-A92E-9AC9A2CE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94AFD-60FB-4610-B211-BE5EE2DB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139A2-BBE4-4CC3-8935-273E6577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BE476-9B4B-4F90-BE08-DC67DD9D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E433F-02B1-40A9-9D01-0502029D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78B1E-9289-47CC-840F-22B78786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49F2A-0145-458E-8ECD-37832E0E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BA41D-C23F-4D47-910B-BE06B14F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BB0D8-7C63-4575-A6E4-0695F221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49AD6-2FC3-45F4-9AB5-530C6F7D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7B59-616F-400C-8E34-1B3615DF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92870-E68A-4B04-B8EA-240F434A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A6F17-8365-47A8-9499-2CA40E57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8EEA4-30BA-42CE-8D10-A8B9A741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579DF-0748-44F0-ADA2-CBEAB774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7DFF1-E3D5-4917-806B-E00E5A37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82B5C-D340-4FDF-B02F-47DDF4D4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8BF56-C1D7-4667-B2C4-2CB74EB4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E76C0-714A-48CA-9E65-93A7DBF5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BDD4A-8096-4E89-98B0-CCAEA87E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1C643-D6D1-4E6E-ACE5-FBD240B7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0139-9969-473B-BF7A-5243F426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C05E7-6A20-4C35-9B5D-BC2EE682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C4F03-793A-4925-85F2-550C991E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F2FAB-E253-4FE2-A1E2-E22C877E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8139C-861D-46C3-A1BA-29EF4B77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6A290-A982-4B42-8CE9-C7A7EAB4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0F7EB-025D-4A45-85EB-9954CCDD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A9989-9889-4C5F-B4EE-3C6159BA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6100B-816B-488A-9B32-A205F2EB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1391C-CF48-40F7-A769-4A81278F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056FE-1E1B-40C3-8E60-E984982A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D65-79F1-4D47-AC6B-C3ADC796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37A4F-7D2B-437D-939B-2E57A82F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F429E-BD02-4DB9-B197-21D1CE2B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151EA-0631-40D8-AB4C-75555DF3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E64D2-282D-4C11-816B-13BA7CE5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0002F-7817-4B66-A079-1A3B777D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57AD3-EC40-41F5-9C80-FFA0168C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5127E-CD3D-4B51-AFCA-F049489C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D24A9-868B-4D0C-B3B7-9EBDE032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AC4B3-6287-4824-BBF9-99960877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44E05-7DB1-4269-945B-DC56148C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DDB7-82C6-4B27-B595-34F0F25B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40CAB-B1C1-4581-91E0-0EE5AC6A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627E4-B645-45DB-B457-6B736E6B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96FAB-0298-4BC7-8F14-780D63F3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F72C7-374D-4F0A-8401-6E1EADCB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ECEC0-3766-42EC-A790-41EEC168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E57F6-2188-44F2-85A1-530EB9AC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6565F-9882-437C-8E74-27469CE6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26DD55-CF2B-40AF-A066-F2F2B829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75D007-DB72-4D13-AE5C-7227B7FA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113D42-FC44-40E0-8772-52D5DBD4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a5e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5e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F872-E97F-4503-BDD0-5CF831FC0FC4}" type="slidenum">
              <a:rPr b="0" lang="ru-RU" sz="1600" spc="-1" strike="noStrike">
                <a:solidFill>
                  <a:srgbClr val="ca5e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a5e6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60b5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66c7d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bb7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e8865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a5e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a5e6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60b5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66c7d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bb7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e8865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5e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4CA7-1A58-4C3F-B4A6-B2CFFBD851A3}" type="slidenum">
              <a:rPr b="0" lang="ru-RU" sz="1600" spc="-1" strike="noStrike">
                <a:solidFill>
                  <a:srgbClr val="ca5e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a5e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a5e6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60b5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66c7d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bb7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e8865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5e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4B46-8984-4BA1-94E4-587126843430}" type="slidenum">
              <a:rPr b="0" lang="ru-RU" sz="1600" spc="-1" strike="noStrike">
                <a:solidFill>
                  <a:srgbClr val="ca5e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ca5e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a5e6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60b5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66c7d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bb7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e8865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5e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4221-5C5B-4DA1-B3E4-D6B6729FE5AA}" type="slidenum">
              <a:rPr b="0" lang="ru-RU" sz="1600" spc="-1" strike="noStrike">
                <a:solidFill>
                  <a:srgbClr val="ca5e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ca5e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a5e6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60b5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66c7d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bb7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e8865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5e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852B-434D-4805-A4A3-2D223A7AFAB1}" type="slidenum">
              <a:rPr b="0" lang="ru-RU" sz="1600" spc="-1" strike="noStrike">
                <a:solidFill>
                  <a:srgbClr val="ca5e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a5e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a5e6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60b5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66c7d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bb7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e8865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5e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EA1C-84E9-47A4-AE0A-3D53EC5C3D03}" type="slidenum">
              <a:rPr b="0" lang="ru-RU" sz="1600" spc="-1" strike="noStrike">
                <a:solidFill>
                  <a:srgbClr val="ca5e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ca5e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a5e6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60b5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66c7d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bb7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e8865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5e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5924-3247-4902-9945-52C05A882F75}" type="slidenum">
              <a:rPr b="0" lang="ru-RU" sz="1600" spc="-1" strike="noStrike">
                <a:solidFill>
                  <a:srgbClr val="ca5e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a5e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5a637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a5e6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60b5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66c7d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bb7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e8865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5e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B97E-84D7-4D6A-8067-7D3054FCC697}" type="slidenum">
              <a:rPr b="0" lang="ru-RU" sz="1600" spc="-1" strike="noStrike">
                <a:solidFill>
                  <a:srgbClr val="ca5e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5a637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ca5e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a5e6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60b5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66c7d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bb7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e8865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5e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5F93-3468-486A-B3E0-272F192C64BA}" type="slidenum">
              <a:rPr b="0" lang="ru-RU" sz="1600" spc="-1" strike="noStrike">
                <a:solidFill>
                  <a:srgbClr val="ca5e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a5e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a5e6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60b5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66c7d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bb7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e8865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5e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9A55-7EFC-4CF9-AA9E-344B33CFE05E}" type="slidenum">
              <a:rPr b="0" lang="ru-RU" sz="1600" spc="-1" strike="noStrike">
                <a:solidFill>
                  <a:srgbClr val="ca5e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a5e6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60b5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66c7d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bb7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e8865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D1C2-5DCC-4EEB-A534-6760E84FF4D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a5e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a5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a5e6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60b5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e66c7d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bb7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e8865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5e6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0A79-6D92-41B9-B0DB-B08D36728E97}" type="slidenum">
              <a:rPr b="0" lang="ru-RU" sz="1600" spc="-1" strike="noStrike">
                <a:solidFill>
                  <a:srgbClr val="ca5e6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28480" y="2714400"/>
            <a:ext cx="6786360" cy="1471320"/>
          </a:xfrm>
          <a:prstGeom prst="rect">
            <a:avLst/>
          </a:prstGeom>
          <a:solidFill>
            <a:srgbClr val="f4ced2"/>
          </a:solidFill>
          <a:ln w="9360">
            <a:solidFill>
              <a:srgbClr val="e66c7d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еометрические фигуры </a:t>
            </a:r>
            <a:br>
              <a:rPr sz="3800"/>
            </a:br>
            <a:endParaRPr b="0" lang="en-US" sz="4800" spc="-1" strike="noStrike">
              <a:solidFill>
                <a:srgbClr val="ca5e6d"/>
              </a:solidFill>
              <a:latin typeface="Georgia"/>
            </a:endParaRPr>
          </a:p>
        </p:txBody>
      </p:sp>
      <p:grpSp>
        <p:nvGrpSpPr>
          <p:cNvPr id="614" name="Прямоугольник 5"/>
          <p:cNvGrpSpPr/>
          <p:nvPr/>
        </p:nvGrpSpPr>
        <p:grpSpPr>
          <a:xfrm>
            <a:off x="1285920" y="378000"/>
            <a:ext cx="2573280" cy="1579320"/>
            <a:chOff x="1285920" y="378000"/>
            <a:chExt cx="2573280" cy="1579320"/>
          </a:xfrm>
        </p:grpSpPr>
        <p:pic>
          <p:nvPicPr>
            <p:cNvPr id="615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1285920" y="378000"/>
              <a:ext cx="2573280" cy="15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1357200" y="428760"/>
              <a:ext cx="242892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7" name="Овал 7"/>
          <p:cNvSpPr/>
          <p:nvPr/>
        </p:nvSpPr>
        <p:spPr>
          <a:xfrm>
            <a:off x="4572000" y="1214280"/>
            <a:ext cx="1500120" cy="1428840"/>
          </a:xfrm>
          <a:prstGeom prst="ellipse">
            <a:avLst/>
          </a:prstGeom>
          <a:solidFill>
            <a:srgbClr val="60b5cc"/>
          </a:solidFill>
          <a:ln w="11520">
            <a:solidFill>
              <a:srgbClr val="44849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8" name="Равнобедренный треугольник 8"/>
          <p:cNvGrpSpPr/>
          <p:nvPr/>
        </p:nvGrpSpPr>
        <p:grpSpPr>
          <a:xfrm>
            <a:off x="6645240" y="304920"/>
            <a:ext cx="1432080" cy="1719000"/>
            <a:chOff x="6645240" y="304920"/>
            <a:chExt cx="1432080" cy="1719000"/>
          </a:xfrm>
        </p:grpSpPr>
        <p:pic>
          <p:nvPicPr>
            <p:cNvPr id="619" name="Равнобедренный треугольник 8" descr=""/>
            <p:cNvPicPr/>
            <p:nvPr/>
          </p:nvPicPr>
          <p:blipFill>
            <a:blip r:embed="rId2"/>
            <a:stretch/>
          </p:blipFill>
          <p:spPr>
            <a:xfrm>
              <a:off x="6645240" y="304920"/>
              <a:ext cx="1432080" cy="17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7037280" y="1143000"/>
              <a:ext cx="6429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Georgia"/>
              </a:rPr>
              <a:t>Многоугольники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2060"/>
                </a:solidFill>
                <a:latin typeface="Georgia"/>
              </a:rPr>
              <a:t>У многоугольников больше четырех углов и больше четырех сторо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4" name="Рисунок 3" descr=""/>
          <p:cNvPicPr/>
          <p:nvPr/>
        </p:nvPicPr>
        <p:blipFill>
          <a:blip r:embed="rId1"/>
          <a:stretch/>
        </p:blipFill>
        <p:spPr>
          <a:xfrm>
            <a:off x="2286000" y="2643120"/>
            <a:ext cx="4824360" cy="3349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Georgia"/>
              </a:rPr>
              <a:t>Объемные фигуры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pic>
        <p:nvPicPr>
          <p:cNvPr id="646" name="Объект 3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397560" cy="452592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56760" y="1071360"/>
            <a:ext cx="8534520" cy="75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2060"/>
                </a:solidFill>
                <a:latin typeface="Georgia"/>
              </a:rPr>
              <a:t>Объемные фигуры могут иметь углы, стороны и грани.</a:t>
            </a:r>
            <a:br>
              <a:rPr sz="2200"/>
            </a:br>
            <a:r>
              <a:rPr b="1" i="1" lang="ru-RU" sz="2200" spc="-1" strike="noStrike">
                <a:solidFill>
                  <a:srgbClr val="002060"/>
                </a:solidFill>
                <a:latin typeface="Georgia"/>
              </a:rPr>
              <a:t>Грани- это плоские геометрические фигуры.</a:t>
            </a:r>
            <a:br>
              <a:rPr sz="2200"/>
            </a:br>
            <a:r>
              <a:rPr b="1" i="1" lang="ru-RU" sz="2200" spc="-1" strike="noStrike">
                <a:solidFill>
                  <a:srgbClr val="002060"/>
                </a:solidFill>
                <a:latin typeface="Georgia"/>
              </a:rPr>
              <a:t>У шара нет углов, сторон и граней.</a:t>
            </a:r>
            <a:br>
              <a:rPr sz="2200"/>
            </a:br>
            <a:endParaRPr b="0" lang="en-US" sz="22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56760" y="17146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9" name="Рисунок 3" descr=""/>
          <p:cNvPicPr/>
          <p:nvPr/>
        </p:nvPicPr>
        <p:blipFill>
          <a:blip r:embed="rId1"/>
          <a:stretch/>
        </p:blipFill>
        <p:spPr>
          <a:xfrm>
            <a:off x="2666880" y="2997360"/>
            <a:ext cx="3810240" cy="28717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Объект 3" descr=""/>
          <p:cNvPicPr/>
          <p:nvPr/>
        </p:nvPicPr>
        <p:blipFill>
          <a:blip r:embed="rId1"/>
          <a:stretch/>
        </p:blipFill>
        <p:spPr>
          <a:xfrm>
            <a:off x="2689200" y="7920"/>
            <a:ext cx="3560760" cy="352728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pic>
        <p:nvPicPr>
          <p:cNvPr id="651" name="Рисунок 4" descr=""/>
          <p:cNvPicPr/>
          <p:nvPr/>
        </p:nvPicPr>
        <p:blipFill>
          <a:blip r:embed="rId2"/>
          <a:stretch/>
        </p:blipFill>
        <p:spPr>
          <a:xfrm>
            <a:off x="-17640" y="4338720"/>
            <a:ext cx="2438640" cy="243828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  <p:pic>
        <p:nvPicPr>
          <p:cNvPr id="652" name="Рисунок 5" descr=""/>
          <p:cNvPicPr/>
          <p:nvPr/>
        </p:nvPicPr>
        <p:blipFill>
          <a:blip r:embed="rId3"/>
          <a:stretch/>
        </p:blipFill>
        <p:spPr>
          <a:xfrm>
            <a:off x="6227640" y="1197000"/>
            <a:ext cx="2808360" cy="280836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pic>
        <p:nvPicPr>
          <p:cNvPr id="653" name="Рисунок 6" descr=""/>
          <p:cNvPicPr/>
          <p:nvPr/>
        </p:nvPicPr>
        <p:blipFill>
          <a:blip r:embed="rId4"/>
          <a:stretch/>
        </p:blipFill>
        <p:spPr>
          <a:xfrm>
            <a:off x="2432160" y="3213000"/>
            <a:ext cx="3241440" cy="2833920"/>
          </a:xfrm>
          <a:prstGeom prst="rect">
            <a:avLst/>
          </a:prstGeom>
          <a:ln w="38160">
            <a:solidFill>
              <a:srgbClr val="ffc000"/>
            </a:solidFill>
            <a:miter/>
          </a:ln>
        </p:spPr>
      </p:pic>
      <p:pic>
        <p:nvPicPr>
          <p:cNvPr id="654" name="Рисунок 7" descr=""/>
          <p:cNvPicPr/>
          <p:nvPr/>
        </p:nvPicPr>
        <p:blipFill>
          <a:blip r:embed="rId5"/>
          <a:stretch/>
        </p:blipFill>
        <p:spPr>
          <a:xfrm>
            <a:off x="90360" y="907920"/>
            <a:ext cx="2598840" cy="259092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  <p:pic>
        <p:nvPicPr>
          <p:cNvPr id="655" name="Рисунок 8" descr=""/>
          <p:cNvPicPr/>
          <p:nvPr/>
        </p:nvPicPr>
        <p:blipFill>
          <a:blip r:embed="rId6"/>
          <a:stretch/>
        </p:blipFill>
        <p:spPr>
          <a:xfrm>
            <a:off x="5662440" y="4437000"/>
            <a:ext cx="329904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Georgia"/>
              </a:rPr>
              <a:t>Куб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2060"/>
                </a:solidFill>
                <a:latin typeface="Georgia"/>
              </a:rPr>
              <a:t>У куба есть углы, стороны и гран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2060"/>
                </a:solidFill>
                <a:latin typeface="Georgia"/>
              </a:rPr>
              <a:t>Грань у куба – квадрат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8" name="Рисунок 3" descr=""/>
          <p:cNvPicPr/>
          <p:nvPr/>
        </p:nvPicPr>
        <p:blipFill>
          <a:blip r:embed="rId1"/>
          <a:stretch/>
        </p:blipFill>
        <p:spPr>
          <a:xfrm>
            <a:off x="395280" y="3462480"/>
            <a:ext cx="3384720" cy="2550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59" name="Рисунок 4" descr=""/>
          <p:cNvPicPr/>
          <p:nvPr/>
        </p:nvPicPr>
        <p:blipFill>
          <a:blip r:embed="rId2"/>
          <a:stretch/>
        </p:blipFill>
        <p:spPr>
          <a:xfrm>
            <a:off x="5219640" y="3462480"/>
            <a:ext cx="3384720" cy="2550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60" name="Стрелка вправо 6"/>
          <p:cNvSpPr/>
          <p:nvPr/>
        </p:nvSpPr>
        <p:spPr>
          <a:xfrm>
            <a:off x="2627280" y="4221000"/>
            <a:ext cx="396072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0ad00"/>
          </a:solidFill>
          <a:ln w="11520">
            <a:solidFill>
              <a:srgbClr val="b07e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Объект 3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4535640" cy="439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ca5e6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Объект 3" descr=""/>
          <p:cNvPicPr/>
          <p:nvPr/>
        </p:nvPicPr>
        <p:blipFill>
          <a:blip r:embed="rId1"/>
          <a:stretch/>
        </p:blipFill>
        <p:spPr>
          <a:xfrm>
            <a:off x="139680" y="-33480"/>
            <a:ext cx="5119560" cy="3990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64" name="Рисунок 4" descr=""/>
          <p:cNvPicPr/>
          <p:nvPr/>
        </p:nvPicPr>
        <p:blipFill>
          <a:blip r:embed="rId2"/>
          <a:stretch/>
        </p:blipFill>
        <p:spPr>
          <a:xfrm>
            <a:off x="5508720" y="3213000"/>
            <a:ext cx="3367080" cy="3527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65" name="Рисунок 5" descr=""/>
          <p:cNvPicPr/>
          <p:nvPr/>
        </p:nvPicPr>
        <p:blipFill>
          <a:blip r:embed="rId3"/>
          <a:stretch/>
        </p:blipFill>
        <p:spPr>
          <a:xfrm>
            <a:off x="250920" y="4086360"/>
            <a:ext cx="2771640" cy="2771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66" name="Рисунок 6" descr=""/>
          <p:cNvPicPr/>
          <p:nvPr/>
        </p:nvPicPr>
        <p:blipFill>
          <a:blip r:embed="rId4"/>
          <a:stretch/>
        </p:blipFill>
        <p:spPr>
          <a:xfrm>
            <a:off x="5830920" y="115920"/>
            <a:ext cx="3313080" cy="3313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67" name="Рисунок 7" descr=""/>
          <p:cNvPicPr/>
          <p:nvPr/>
        </p:nvPicPr>
        <p:blipFill>
          <a:blip r:embed="rId5"/>
          <a:stretch/>
        </p:blipFill>
        <p:spPr>
          <a:xfrm>
            <a:off x="3203640" y="3241800"/>
            <a:ext cx="3132000" cy="31305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Georgia"/>
              </a:rPr>
              <a:t>Цилиндр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Georgia"/>
              </a:rPr>
              <a:t>Его основания – круг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0" name="Объект 3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3810240" cy="2873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71" name="Рисунок 4" descr=""/>
          <p:cNvPicPr/>
          <p:nvPr/>
        </p:nvPicPr>
        <p:blipFill>
          <a:blip r:embed="rId2"/>
          <a:stretch/>
        </p:blipFill>
        <p:spPr>
          <a:xfrm>
            <a:off x="5148360" y="3151080"/>
            <a:ext cx="3809880" cy="2871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72" name="Развернутая стрелка 5"/>
          <p:cNvSpPr/>
          <p:nvPr/>
        </p:nvSpPr>
        <p:spPr>
          <a:xfrm>
            <a:off x="2489040" y="2630520"/>
            <a:ext cx="4641840" cy="877680"/>
          </a:xfrm>
          <a:custGeom>
            <a:avLst/>
            <a:gdLst/>
            <a:ahLst/>
            <a:rect l="l" t="t" r="r" b="b"/>
            <a:pathLst>
              <a:path w="4641850" h="877887">
                <a:moveTo>
                  <a:pt x="0" y="877887"/>
                </a:moveTo>
                <a:lnTo>
                  <a:pt x="0" y="384076"/>
                </a:lnTo>
                <a:cubicBezTo>
                  <a:pt x="0" y="171957"/>
                  <a:pt x="171957" y="0"/>
                  <a:pt x="384076" y="0"/>
                </a:cubicBezTo>
                <a:lnTo>
                  <a:pt x="4148039" y="0"/>
                </a:lnTo>
                <a:cubicBezTo>
                  <a:pt x="4360158" y="0"/>
                  <a:pt x="4532115" y="171957"/>
                  <a:pt x="4532115" y="384076"/>
                </a:cubicBezTo>
                <a:cubicBezTo>
                  <a:pt x="4532115" y="402365"/>
                  <a:pt x="4532114" y="420655"/>
                  <a:pt x="4532114" y="438944"/>
                </a:cubicBezTo>
                <a:lnTo>
                  <a:pt x="4641850" y="438944"/>
                </a:lnTo>
                <a:lnTo>
                  <a:pt x="4422378" y="658415"/>
                </a:lnTo>
                <a:lnTo>
                  <a:pt x="4202907" y="438944"/>
                </a:lnTo>
                <a:lnTo>
                  <a:pt x="4312642" y="438944"/>
                </a:lnTo>
                <a:lnTo>
                  <a:pt x="4312642" y="384076"/>
                </a:lnTo>
                <a:cubicBezTo>
                  <a:pt x="4312642" y="293168"/>
                  <a:pt x="4238946" y="219472"/>
                  <a:pt x="4148038" y="219472"/>
                </a:cubicBezTo>
                <a:lnTo>
                  <a:pt x="384076" y="219472"/>
                </a:lnTo>
                <a:cubicBezTo>
                  <a:pt x="293168" y="219472"/>
                  <a:pt x="219472" y="293168"/>
                  <a:pt x="219472" y="384076"/>
                </a:cubicBezTo>
                <a:lnTo>
                  <a:pt x="219472" y="877887"/>
                </a:lnTo>
                <a:lnTo>
                  <a:pt x="0" y="877887"/>
                </a:lnTo>
                <a:close/>
              </a:path>
            </a:pathLst>
          </a:custGeom>
          <a:solidFill>
            <a:srgbClr val="f0ad00"/>
          </a:solidFill>
          <a:ln w="11520">
            <a:solidFill>
              <a:srgbClr val="b07e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13840" y="8571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3000" spc="-1" strike="noStrike">
                <a:solidFill>
                  <a:srgbClr val="00b0f0"/>
                </a:solidFill>
                <a:latin typeface="Georgia"/>
              </a:rPr>
              <a:t>ШАР</a:t>
            </a:r>
            <a:br>
              <a:rPr sz="3000"/>
            </a:br>
            <a:endParaRPr b="0" lang="en-US" sz="3000" spc="-1" strike="noStrike">
              <a:solidFill>
                <a:srgbClr val="ca5e6d"/>
              </a:solidFill>
              <a:latin typeface="Georgia"/>
            </a:endParaRPr>
          </a:p>
        </p:txBody>
      </p:sp>
      <p:pic>
        <p:nvPicPr>
          <p:cNvPr id="674" name="Объект 3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4525920" cy="4525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Объект 3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2438280" cy="257940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pic>
        <p:nvPicPr>
          <p:cNvPr id="676" name="Рисунок 4" descr=""/>
          <p:cNvPicPr/>
          <p:nvPr/>
        </p:nvPicPr>
        <p:blipFill>
          <a:blip r:embed="rId2"/>
          <a:stretch/>
        </p:blipFill>
        <p:spPr>
          <a:xfrm>
            <a:off x="3110040" y="260280"/>
            <a:ext cx="5727600" cy="388152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  <p:pic>
        <p:nvPicPr>
          <p:cNvPr id="677" name="Рисунок 5" descr=""/>
          <p:cNvPicPr/>
          <p:nvPr/>
        </p:nvPicPr>
        <p:blipFill>
          <a:blip r:embed="rId3"/>
          <a:stretch/>
        </p:blipFill>
        <p:spPr>
          <a:xfrm>
            <a:off x="395280" y="3681360"/>
            <a:ext cx="3987720" cy="299088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pic>
        <p:nvPicPr>
          <p:cNvPr id="678" name="Рисунок 6" descr=""/>
          <p:cNvPicPr/>
          <p:nvPr/>
        </p:nvPicPr>
        <p:blipFill>
          <a:blip r:embed="rId4"/>
          <a:stretch/>
        </p:blipFill>
        <p:spPr>
          <a:xfrm>
            <a:off x="5219640" y="4292640"/>
            <a:ext cx="2305080" cy="230508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Геометрические фигуры – это весело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Ты можешь найти их вокруг себя, в самых          простых и известных тебе вещах и предметах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Вот это игра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Давай после занятия, ты попробуешь сам или вместе с мамой,  папой или бабушкой, или братом и сестричкой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поискать геометрические фигуры вокруг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в своей квартире или на улице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Итак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b0f0"/>
                </a:solidFill>
                <a:latin typeface="Georgia"/>
              </a:rPr>
              <a:t>Объемные фигуры – это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pic>
        <p:nvPicPr>
          <p:cNvPr id="680" name="Объект 3" descr=""/>
          <p:cNvPicPr/>
          <p:nvPr/>
        </p:nvPicPr>
        <p:blipFill>
          <a:blip r:embed="rId1"/>
          <a:stretch/>
        </p:blipFill>
        <p:spPr>
          <a:xfrm>
            <a:off x="2571840" y="2000160"/>
            <a:ext cx="5033880" cy="3205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b0f0"/>
                </a:solidFill>
                <a:latin typeface="Georgia"/>
              </a:rPr>
              <a:t>Посмотри 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pic>
        <p:nvPicPr>
          <p:cNvPr id="682" name="Объект 3" descr=""/>
          <p:cNvPicPr/>
          <p:nvPr/>
        </p:nvPicPr>
        <p:blipFill>
          <a:blip r:embed="rId1"/>
          <a:stretch/>
        </p:blipFill>
        <p:spPr>
          <a:xfrm>
            <a:off x="547560" y="1287360"/>
            <a:ext cx="3808440" cy="2692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83" name="Рисунок 4" descr=""/>
          <p:cNvPicPr/>
          <p:nvPr/>
        </p:nvPicPr>
        <p:blipFill>
          <a:blip r:embed="rId2"/>
          <a:stretch/>
        </p:blipFill>
        <p:spPr>
          <a:xfrm>
            <a:off x="1116000" y="3852720"/>
            <a:ext cx="4032360" cy="2548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84" name="Рисунок 5" descr=""/>
          <p:cNvPicPr/>
          <p:nvPr/>
        </p:nvPicPr>
        <p:blipFill>
          <a:blip r:embed="rId3"/>
          <a:stretch/>
        </p:blipFill>
        <p:spPr>
          <a:xfrm>
            <a:off x="4572000" y="1484280"/>
            <a:ext cx="4465800" cy="3183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70c0"/>
                </a:solidFill>
                <a:latin typeface="Georgia"/>
              </a:rPr>
              <a:t>Давай построим город!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pic>
        <p:nvPicPr>
          <p:cNvPr id="686" name="Объект 3" descr=""/>
          <p:cNvPicPr/>
          <p:nvPr/>
        </p:nvPicPr>
        <p:blipFill>
          <a:blip r:embed="rId1"/>
          <a:stretch/>
        </p:blipFill>
        <p:spPr>
          <a:xfrm>
            <a:off x="982800" y="1527120"/>
            <a:ext cx="7143480" cy="457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000"/>
                </a:solidFill>
                <a:latin typeface="Georgia"/>
              </a:rPr>
              <a:t>Рекомендации родителям</a:t>
            </a:r>
            <a:endParaRPr b="0" lang="en-US" sz="30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buClr>
                <a:srgbClr val="f0ad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Для того, чтобы ребенок лучше запомнил материал, поиграйте с ним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- поищите геометрические фигуры в предметах вокруг;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f0ad00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сравните плоские и объемные фигуры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Georgia"/>
              </a:rPr>
              <a:t>( плоские фигуры можно вырезать из бумаги, а объемные заменить предметами такой же формы): положите их на стол и отойдите на несколько шагов, вы увидите объемные фигуры, но не сможете увидеть плоских. Обратите внимание ребенка на это отличи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680" y="121392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Georgia"/>
              </a:rPr>
              <a:t>Плоские геометрические фигуры </a:t>
            </a:r>
            <a:br>
              <a:rPr sz="5400"/>
            </a:br>
            <a:endParaRPr b="0" lang="en-US" sz="5400" spc="-1" strike="noStrike">
              <a:solidFill>
                <a:srgbClr val="ca5e6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Georgia"/>
              </a:rPr>
              <a:t>Квадраты</a:t>
            </a:r>
            <a:r>
              <a:rPr b="0" i="1" lang="ru-RU" sz="3300" spc="-1" strike="noStrike">
                <a:solidFill>
                  <a:srgbClr val="00b050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                     </a:t>
            </a:r>
            <a:r>
              <a:rPr b="1" i="1" lang="ru-RU" sz="2700" spc="-1" strike="noStrike">
                <a:solidFill>
                  <a:srgbClr val="002060"/>
                </a:solidFill>
                <a:latin typeface="Georgia"/>
              </a:rPr>
              <a:t>Квадраты имеют       четыре угла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Georgia"/>
              </a:rPr>
              <a:t>и четыре сторон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2700" spc="-1" strike="noStrike">
                <a:solidFill>
                  <a:srgbClr val="002060"/>
                </a:solidFill>
                <a:latin typeface="Georgia"/>
              </a:rPr>
              <a:t>У все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ru-RU" sz="2700" spc="-1" strike="noStrike">
                <a:solidFill>
                  <a:srgbClr val="002060"/>
                </a:solidFill>
                <a:latin typeface="Georgia"/>
              </a:rPr>
              <a:t>сторон квадрата                                                             одинаковая длина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5" name="Рисунок 3" descr=""/>
          <p:cNvPicPr/>
          <p:nvPr/>
        </p:nvPicPr>
        <p:blipFill>
          <a:blip r:embed="rId1"/>
          <a:stretch/>
        </p:blipFill>
        <p:spPr>
          <a:xfrm>
            <a:off x="571680" y="2500200"/>
            <a:ext cx="3259080" cy="300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Georgia"/>
              </a:rPr>
              <a:t>Прямоугольники 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Georgia"/>
              </a:rPr>
              <a:t>У прямоугольников, как и у квадратов, четыре угла и четыре стороны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Georgia"/>
              </a:rPr>
              <a:t>Но одинаковую длину имеют только противоположные стороны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Рисунок 3" descr=""/>
          <p:cNvPicPr/>
          <p:nvPr/>
        </p:nvPicPr>
        <p:blipFill>
          <a:blip r:embed="rId1"/>
          <a:stretch/>
        </p:blipFill>
        <p:spPr>
          <a:xfrm>
            <a:off x="857160" y="1214280"/>
            <a:ext cx="5457960" cy="242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Georgia"/>
              </a:rPr>
              <a:t>Круги 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2060"/>
                </a:solidFill>
                <a:latin typeface="Georgia"/>
              </a:rPr>
              <a:t>Круг не имеет углов и сторо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Рисунок 4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761080" cy="396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Georgia"/>
              </a:rPr>
              <a:t>Треугольники 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2060"/>
                </a:solidFill>
                <a:latin typeface="Georgia"/>
              </a:rPr>
              <a:t>У треугольников есть три угла и три сторон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4" name="Рисунок 3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4680000" cy="351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Georgia"/>
              </a:rPr>
              <a:t>Овалы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68360" y="126828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2060"/>
                </a:solidFill>
                <a:latin typeface="Georgia"/>
              </a:rPr>
              <a:t>Овал похож на приплюснутый круг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2060"/>
                </a:solidFill>
                <a:latin typeface="Georgia"/>
              </a:rPr>
              <a:t>у него, как и у круга, нет углов и сторо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Рисунок 3" descr=""/>
          <p:cNvPicPr/>
          <p:nvPr/>
        </p:nvPicPr>
        <p:blipFill>
          <a:blip r:embed="rId1"/>
          <a:stretch/>
        </p:blipFill>
        <p:spPr>
          <a:xfrm>
            <a:off x="2286000" y="2714760"/>
            <a:ext cx="4950000" cy="3335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Georgia"/>
              </a:rPr>
              <a:t>Круг и овал</a:t>
            </a:r>
            <a:endParaRPr b="0" lang="en-US" sz="3300" spc="-1" strike="noStrike">
              <a:solidFill>
                <a:srgbClr val="ca5e6d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2060"/>
                </a:solidFill>
                <a:latin typeface="Georgia"/>
              </a:rPr>
              <a:t>Смотри как круг превращается в овал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0" name="Рисунок 4" descr=""/>
          <p:cNvPicPr/>
          <p:nvPr/>
        </p:nvPicPr>
        <p:blipFill>
          <a:blip r:embed="rId1"/>
          <a:stretch/>
        </p:blipFill>
        <p:spPr>
          <a:xfrm>
            <a:off x="512640" y="2646360"/>
            <a:ext cx="8118720" cy="3327480"/>
          </a:xfrm>
          <a:prstGeom prst="rect">
            <a:avLst/>
          </a:prstGeom>
          <a:ln w="0">
            <a:noFill/>
          </a:ln>
        </p:spPr>
      </p:pic>
      <p:sp>
        <p:nvSpPr>
          <p:cNvPr id="641" name="Стрелка вправо 5"/>
          <p:cNvSpPr/>
          <p:nvPr/>
        </p:nvSpPr>
        <p:spPr>
          <a:xfrm>
            <a:off x="3348000" y="3824280"/>
            <a:ext cx="977760" cy="485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0ad00"/>
          </a:solidFill>
          <a:ln w="11520">
            <a:solidFill>
              <a:srgbClr val="b07e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4T06:00:20Z</dcterms:created>
  <dc:creator>user</dc:creator>
  <dc:description/>
  <dc:language>en-US</dc:language>
  <cp:lastModifiedBy>Ольга Лаптиева</cp:lastModifiedBy>
  <dcterms:modified xsi:type="dcterms:W3CDTF">2023-06-27T10:57:53Z</dcterms:modified>
  <cp:revision>27</cp:revision>
  <dc:subject/>
  <dc:title>Домашние животные  часть 2</dc:title>
</cp:coreProperties>
</file>