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7.jpeg" ContentType="image/jpeg"/>
  <Override PartName="/ppt/media/image8.png" ContentType="image/png"/>
  <Override PartName="/ppt/media/image14.jpeg" ContentType="image/jpeg"/>
  <Override PartName="/ppt/media/image33.png" ContentType="image/pn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1.png" ContentType="image/png"/>
  <Override PartName="/ppt/media/image9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a5e6d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0BF3-6438-4467-B15A-71EF9CB2DA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читайте углы и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B6AD-28D8-4BC2-B623-B177E8F63B3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читайте с ребенком углы и стор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1A18-7F92-481E-97F9-FAB8F183A4B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жите ребенку противоположные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0D6B-1AA1-41CE-B52B-F28E2AFF933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0D74-ACD1-454A-A5F0-A008D39D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D5B2-1451-4AA3-B748-48C43A20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8CA0AF-4B0C-4ADD-B9B0-D40A424D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716E2D-097B-4BBF-BFD4-A849C40E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F9FF9C-2AD3-4E28-9F8A-8E7E69E0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E8A210-A6B1-4730-B966-D689402D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59819E-903D-4606-A6EA-E10BBA5B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7B1E9A-005B-40B0-BB0E-1D2D456C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B3E109-C881-4226-A9CA-7A710714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9165EB-39D9-437E-9062-20355C76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B40BC-6E75-4FA6-A3F9-68244E01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C56CEE-62B5-4CF1-B9A1-91743065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D79F-EF28-4913-82CC-1D084614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591CBE-664C-426D-A12A-AD5DD014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B82102-868E-4E40-8F65-928FA16B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B2741-C80B-4013-AE6F-A59978BE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847553-B2CD-4730-84C8-D3D7E007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819C3B-4346-4DB7-85D7-EA15D17F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8B26D0-72E0-4C15-A65A-F90CD2C4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1DF137-480F-4DEE-974F-EE9F7FB3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37CE58-9A55-41A9-8354-432696F5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CAD048-F411-4B32-BE39-D6AEC9AE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CE02AE-3B18-4F20-9AF7-B25904BE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E351-133C-43A3-A50B-B74C3799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568AE1-B605-4185-B36E-5BAC4AA4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396D1-B072-45D7-BC63-1959F40E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0C77E-1557-48B5-A1E0-CDC2A919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BA10B-DED4-4DB7-AFF6-6018D23B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9E922-53AF-4BFD-94AE-F61D84D7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53F1F-883E-40DD-B0CE-252B0027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47FCF-F989-495F-A41B-8B412409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14949-02B0-45FD-8459-4B379E50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0A3C8-30EC-4743-8007-EAF0F99E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7A668-C0A2-45EB-AFD8-498055FE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79B8-B63D-40F4-BD1C-98B70B27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17030-20FE-4750-B6B4-32659946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EBC07-0493-48DC-B0C7-300984D7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0958F-8479-4138-A7E9-3F650591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8CD127-6F46-4D57-845C-AA10982E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CEA46F-4C46-4EC9-ACA0-4698B744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3BE7C7-DA0F-4B27-B108-024EDA80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F04C16-9A22-45B9-9AF8-ADF75227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87EB41-9ADC-4443-9F51-96C539F5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FBCBD3-30A4-49D9-933E-C0E819AB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9AF5F0-5B20-4FEF-AB9E-C8527749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4A8F-EE34-4611-B095-B6AE93D1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36A451-92EA-4000-8597-865688EF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A8298B-F5BE-411F-B238-276BAE4B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E007E5-D5D5-4D25-9635-F1787E1B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2AEFFA-90EF-4ED2-B8E1-22297FC5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E589F1-5EE3-4A8B-9172-B5EE9CBC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481C-B5C1-47D7-BC7D-104BB44A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5C37-84C7-41D2-B2B4-27A39982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45A8-2FEF-4089-9498-2F430CA4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1B75-9039-41A7-823C-2328B741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D9AC-125B-4CE9-B8AF-C621AC83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64CE-224F-471A-9AC7-FD1C1AD3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8970-E359-41AA-9A67-60EC4951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E25E-64DE-4FE5-B015-2EEAE150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0606-F39E-4694-8051-CF8CAA0D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25E8-6423-4B3B-AA17-81B37D7F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CCA2-E3CC-4385-A1A6-65AE9260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D1E9D-3C54-49AC-B029-ADE9B0E8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FBE0D-3EB3-4271-A7BE-60ECF668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BBA15-E39D-41E2-9FDA-7FF604EF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BF7B3-95C5-49F6-AD00-2F1FAA1E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804B8-DBA0-470C-B8E1-A07D502B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0AD0-61C6-481D-98F2-3BE694DC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8FDFD-CD35-4D67-8935-E16C9831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AF52C-8678-45DF-B1A7-9DEE3F81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1E72C-B2AB-41AD-8C73-24D15C93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06D58-70BC-4F94-9EB4-59F32EEC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618C8-23EB-4AD0-88A9-F0235F2B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A55B5-6E12-495F-886F-7A51DF7C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AAFC7-BB77-4C6A-A642-FAD5AB4E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27357-D2CC-4B78-AB07-1EC57623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49845-5354-4AE3-9D31-CC759CA3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1FD74-F81E-45D8-8D17-942200AF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C344-8671-4C34-95F0-5EC0EAA3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012B6-AF65-44D4-9F6E-2F7F7AF6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1B057-5D1A-4E98-9E76-EE3C8613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EC739-2DF5-44ED-A258-4D6BDD30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C43F4-2945-414E-947F-F0315F39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262AC-6D0D-4F80-91D9-A7A6E04D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1B640-72C9-49C7-BF22-49F0F29C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3D2FC-BBBE-4D81-B6AD-296E8B97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F61F1-CBAE-4CAB-B817-E24B82E1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836D7-90E6-4774-BEA6-B856332F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5455A-8053-45AD-B045-A9B94E74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92AB-9BD8-4EC5-8DDD-F3A367EB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5BC66-BD24-4D55-829C-E550D585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3B943-4EE4-4C6C-9E87-A9E1BACF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042FA-157B-461D-86F5-54830057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A98A0-C212-4A42-A560-5436E8E7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DA072-B03C-49A4-8972-2E9A7B1E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25C6B-AD59-4B02-A183-D52850A7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759F4-5F3A-43B4-BD59-0C580E92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3CF12-7C59-41A3-B523-D2DC5028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46B6B-D4C2-42FD-A5A7-73A946F8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591CA-8F57-48C4-B64B-85DFD8C44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4982-9EE5-495E-836C-00DF0F04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1555C-2B52-43EE-938C-57E07452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7AEEE-6B72-432F-B1E7-53C21B77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538B0-05DA-4F76-8E83-A14931E1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19D87-5C1E-4EF9-9DD1-EDAE7262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D73FD-3EF1-459D-A469-F37B4BA9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862F8-5B37-4ABA-8DC6-AE496CFD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0CCE1-AA64-47E3-AD7C-204A505F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3BA5D-855E-4714-BE71-09E5A809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D0AD9-9E8A-49B9-B7F6-2AC3449F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E2A7D-FC29-4874-9B33-EE716E3C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967E-6D0A-493C-B7BE-6217C968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BE470-AC0A-4851-9AED-67B1EBFD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13087-5DEC-4F1D-A0BC-412505CC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899B4-FD85-4E82-9169-3330AB74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C0BB4-B3EE-4B2F-B482-3ED6D777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F3295-A564-4631-8432-032AAA8C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227FE-2489-47A0-B501-22517D95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71D8B-A793-4383-824A-F64C04A5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DD2D0-A59E-4ECE-91C7-184C0F4B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0AAB0-2D97-4F66-92F4-8AFFDEA7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D4794-E5E2-4911-A867-EF54EBBC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31E7-4046-4497-BA9B-AD188BFE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868BE-9E1F-4414-B441-1F3AA254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8B114-EA5E-4F8C-9A2D-24A4190B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46930-E199-4397-A0D5-4350D5E0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2F093-E82A-49C7-A367-DE444BFE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FDB71-BA7F-4274-B4BF-CE04C432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D8D29-41E4-4377-930C-C50B2034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A88D1-E729-4F83-8CEA-9D852D14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CAEC3-95D8-42FE-92CD-F8DCCA0D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8D2B2-1764-4028-9E13-F03B5DD0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5740A-C3F1-4998-B366-028F28B2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0FF2-CD58-4362-98E2-D3E1DAF6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47576-9D67-4952-BF8E-3EC5D767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7635E-2713-4DAB-9871-31539542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84E0C-D523-413C-8ECA-BE6651CA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A7FD6-170B-45FE-8476-97E9D592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3BE9A-11A1-4443-B456-8DE69161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129E4-3874-4290-9162-365A41B0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7C5F0-1573-4D99-B1E4-0BFD1F07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C6A836-DEF4-43CD-AB36-36BE7A57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46FEAE-837A-431E-9277-C9B3AD37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4ACD2F-9527-4BCC-A517-9B8CA81A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a5e6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5e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0D80-68F2-4EBC-9695-7418EC3AC53D}" type="slidenum">
              <a:rPr b="0" lang="ru-RU" sz="1600" spc="-1" strike="noStrike">
                <a:solidFill>
                  <a:srgbClr val="ca5e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a5e6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60b5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66c7d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bb7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e8865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a5e6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a5e6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60b5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66c7d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bb7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e8865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5e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6F17-2A59-4C9B-AF77-9C6E8E6899D3}" type="slidenum">
              <a:rPr b="0" lang="ru-RU" sz="1600" spc="-1" strike="noStrike">
                <a:solidFill>
                  <a:srgbClr val="ca5e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a5e6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a5e6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60b5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66c7d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bb7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e8865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5e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2D54-1A67-466F-8A59-0E62B952A60A}" type="slidenum">
              <a:rPr b="0" lang="ru-RU" sz="1600" spc="-1" strike="noStrike">
                <a:solidFill>
                  <a:srgbClr val="ca5e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ca5e6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a5e6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60b5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66c7d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bb7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e8865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5e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AC00-EB67-41CE-9099-64FB3ADB342D}" type="slidenum">
              <a:rPr b="0" lang="ru-RU" sz="1600" spc="-1" strike="noStrike">
                <a:solidFill>
                  <a:srgbClr val="ca5e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ca5e6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a5e6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60b5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66c7d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bb7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e8865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5e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9C0E-AE55-4C89-9ABA-4FCC7CCCC9A1}" type="slidenum">
              <a:rPr b="0" lang="ru-RU" sz="1600" spc="-1" strike="noStrike">
                <a:solidFill>
                  <a:srgbClr val="ca5e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a5e6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a5e6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60b5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66c7d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bb7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e8865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5e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C73D-71BE-4EE9-B979-F70F406CF108}" type="slidenum">
              <a:rPr b="0" lang="ru-RU" sz="1600" spc="-1" strike="noStrike">
                <a:solidFill>
                  <a:srgbClr val="ca5e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ca5e6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a5e6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60b5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66c7d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bb7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e8865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5e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7C8F-00A2-4A6C-9C6D-4F67FB5A1993}" type="slidenum">
              <a:rPr b="0" lang="ru-RU" sz="1600" spc="-1" strike="noStrike">
                <a:solidFill>
                  <a:srgbClr val="ca5e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a5e6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5a637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a5e6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60b5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66c7d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bb7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e8865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5e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FA4A-BB67-4580-ACA0-B7EDC9E80425}" type="slidenum">
              <a:rPr b="0" lang="ru-RU" sz="1600" spc="-1" strike="noStrike">
                <a:solidFill>
                  <a:srgbClr val="ca5e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5a637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ca5e6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a5e6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60b5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66c7d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bb7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e8865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5e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D24A-88C9-4C3C-A3FF-14D7C0CA4D96}" type="slidenum">
              <a:rPr b="0" lang="ru-RU" sz="1600" spc="-1" strike="noStrike">
                <a:solidFill>
                  <a:srgbClr val="ca5e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a5e6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a5e6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60b5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66c7d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bb7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e8865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5e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0007-0AF9-48C5-A937-C0D98CDC0F6C}" type="slidenum">
              <a:rPr b="0" lang="ru-RU" sz="1600" spc="-1" strike="noStrike">
                <a:solidFill>
                  <a:srgbClr val="ca5e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a5e6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60b5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66c7d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bb7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e8865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7A37-AF08-4522-8025-E3BA614C9A37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a5e6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a5e6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60b5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66c7d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bb7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e8865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5e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2F5F-902B-4897-81C2-F1DC7E940469}" type="slidenum">
              <a:rPr b="0" lang="ru-RU" sz="1600" spc="-1" strike="noStrike">
                <a:solidFill>
                  <a:srgbClr val="ca5e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28480" y="2714400"/>
            <a:ext cx="6786360" cy="1471320"/>
          </a:xfrm>
          <a:prstGeom prst="rect">
            <a:avLst/>
          </a:prstGeom>
          <a:solidFill>
            <a:srgbClr val="f4ced2"/>
          </a:solidFill>
          <a:ln w="9360">
            <a:solidFill>
              <a:srgbClr val="e66c7d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еометрические фигуры </a:t>
            </a:r>
            <a:br>
              <a:rPr sz="3800"/>
            </a:br>
            <a:endParaRPr b="0" lang="en-US" sz="4800" spc="-1" strike="noStrike">
              <a:solidFill>
                <a:srgbClr val="ca5e6d"/>
              </a:solidFill>
              <a:latin typeface="Georgia"/>
            </a:endParaRPr>
          </a:p>
        </p:txBody>
      </p:sp>
      <p:grpSp>
        <p:nvGrpSpPr>
          <p:cNvPr id="614" name="Прямоугольник 5"/>
          <p:cNvGrpSpPr/>
          <p:nvPr/>
        </p:nvGrpSpPr>
        <p:grpSpPr>
          <a:xfrm>
            <a:off x="1285920" y="378000"/>
            <a:ext cx="2573280" cy="1579320"/>
            <a:chOff x="1285920" y="378000"/>
            <a:chExt cx="2573280" cy="1579320"/>
          </a:xfrm>
        </p:grpSpPr>
        <p:pic>
          <p:nvPicPr>
            <p:cNvPr id="615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1285920" y="378000"/>
              <a:ext cx="2573280" cy="15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1357200" y="428760"/>
              <a:ext cx="242892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7" name="Овал 7"/>
          <p:cNvSpPr/>
          <p:nvPr/>
        </p:nvSpPr>
        <p:spPr>
          <a:xfrm>
            <a:off x="4572000" y="1214280"/>
            <a:ext cx="1500120" cy="1428840"/>
          </a:xfrm>
          <a:prstGeom prst="ellipse">
            <a:avLst/>
          </a:prstGeom>
          <a:solidFill>
            <a:srgbClr val="60b5cc"/>
          </a:solidFill>
          <a:ln w="11520">
            <a:solidFill>
              <a:srgbClr val="44849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8" name="Равнобедренный треугольник 8"/>
          <p:cNvGrpSpPr/>
          <p:nvPr/>
        </p:nvGrpSpPr>
        <p:grpSpPr>
          <a:xfrm>
            <a:off x="6645240" y="304920"/>
            <a:ext cx="1432080" cy="1719000"/>
            <a:chOff x="6645240" y="304920"/>
            <a:chExt cx="1432080" cy="1719000"/>
          </a:xfrm>
        </p:grpSpPr>
        <p:pic>
          <p:nvPicPr>
            <p:cNvPr id="619" name="Равнобедренный треугольник 8" descr=""/>
            <p:cNvPicPr/>
            <p:nvPr/>
          </p:nvPicPr>
          <p:blipFill>
            <a:blip r:embed="rId2"/>
            <a:stretch/>
          </p:blipFill>
          <p:spPr>
            <a:xfrm>
              <a:off x="6645240" y="304920"/>
              <a:ext cx="1432080" cy="17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7037280" y="1143000"/>
              <a:ext cx="64296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060"/>
                </a:solidFill>
                <a:latin typeface="Georgia"/>
              </a:rPr>
              <a:t>Многоугольники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2060"/>
                </a:solidFill>
                <a:latin typeface="Georgia"/>
              </a:rPr>
              <a:t>У многоугольников больше четырех углов и больше четырех сторо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4" name="Рисунок 3" descr=""/>
          <p:cNvPicPr/>
          <p:nvPr/>
        </p:nvPicPr>
        <p:blipFill>
          <a:blip r:embed="rId1"/>
          <a:stretch/>
        </p:blipFill>
        <p:spPr>
          <a:xfrm>
            <a:off x="2286000" y="2643120"/>
            <a:ext cx="4824360" cy="3349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060"/>
                </a:solidFill>
                <a:latin typeface="Georgia"/>
              </a:rPr>
              <a:t>Объемные фигуры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pic>
        <p:nvPicPr>
          <p:cNvPr id="646" name="Объект 3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397560" cy="4525920"/>
          </a:xfrm>
          <a:prstGeom prst="rect">
            <a:avLst/>
          </a:prstGeom>
          <a:ln w="2844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56760" y="1071360"/>
            <a:ext cx="8534520" cy="75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2060"/>
                </a:solidFill>
                <a:latin typeface="Georgia"/>
              </a:rPr>
              <a:t>Объемные фигуры могут иметь углы, стороны и грани.</a:t>
            </a:r>
            <a:br>
              <a:rPr sz="2200"/>
            </a:br>
            <a:r>
              <a:rPr b="1" i="1" lang="ru-RU" sz="2200" spc="-1" strike="noStrike">
                <a:solidFill>
                  <a:srgbClr val="002060"/>
                </a:solidFill>
                <a:latin typeface="Georgia"/>
              </a:rPr>
              <a:t>Грани- это плоские геометрические фигуры.</a:t>
            </a:r>
            <a:br>
              <a:rPr sz="2200"/>
            </a:br>
            <a:r>
              <a:rPr b="1" i="1" lang="ru-RU" sz="2200" spc="-1" strike="noStrike">
                <a:solidFill>
                  <a:srgbClr val="002060"/>
                </a:solidFill>
                <a:latin typeface="Georgia"/>
              </a:rPr>
              <a:t>У шара нет углов, сторон и граней.</a:t>
            </a:r>
            <a:br>
              <a:rPr sz="2200"/>
            </a:br>
            <a:endParaRPr b="0" lang="en-US" sz="22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56760" y="17146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9" name="Рисунок 3" descr=""/>
          <p:cNvPicPr/>
          <p:nvPr/>
        </p:nvPicPr>
        <p:blipFill>
          <a:blip r:embed="rId1"/>
          <a:stretch/>
        </p:blipFill>
        <p:spPr>
          <a:xfrm>
            <a:off x="2666880" y="2997360"/>
            <a:ext cx="3810240" cy="28717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Объект 3" descr=""/>
          <p:cNvPicPr/>
          <p:nvPr/>
        </p:nvPicPr>
        <p:blipFill>
          <a:blip r:embed="rId1"/>
          <a:stretch/>
        </p:blipFill>
        <p:spPr>
          <a:xfrm>
            <a:off x="2689200" y="7920"/>
            <a:ext cx="3560760" cy="35272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pic>
        <p:nvPicPr>
          <p:cNvPr id="651" name="Рисунок 4" descr=""/>
          <p:cNvPicPr/>
          <p:nvPr/>
        </p:nvPicPr>
        <p:blipFill>
          <a:blip r:embed="rId2"/>
          <a:stretch/>
        </p:blipFill>
        <p:spPr>
          <a:xfrm>
            <a:off x="-17640" y="4338720"/>
            <a:ext cx="2438640" cy="2438280"/>
          </a:xfrm>
          <a:prstGeom prst="rect">
            <a:avLst/>
          </a:prstGeom>
          <a:ln w="28440">
            <a:solidFill>
              <a:srgbClr val="ffc000"/>
            </a:solidFill>
            <a:miter/>
          </a:ln>
        </p:spPr>
      </p:pic>
      <p:pic>
        <p:nvPicPr>
          <p:cNvPr id="652" name="Рисунок 5" descr=""/>
          <p:cNvPicPr/>
          <p:nvPr/>
        </p:nvPicPr>
        <p:blipFill>
          <a:blip r:embed="rId3"/>
          <a:stretch/>
        </p:blipFill>
        <p:spPr>
          <a:xfrm>
            <a:off x="6227640" y="1197000"/>
            <a:ext cx="2808360" cy="280836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pic>
        <p:nvPicPr>
          <p:cNvPr id="653" name="Рисунок 6" descr=""/>
          <p:cNvPicPr/>
          <p:nvPr/>
        </p:nvPicPr>
        <p:blipFill>
          <a:blip r:embed="rId4"/>
          <a:stretch/>
        </p:blipFill>
        <p:spPr>
          <a:xfrm>
            <a:off x="2432160" y="3213000"/>
            <a:ext cx="3241440" cy="283392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pic>
        <p:nvPicPr>
          <p:cNvPr id="654" name="Рисунок 7" descr=""/>
          <p:cNvPicPr/>
          <p:nvPr/>
        </p:nvPicPr>
        <p:blipFill>
          <a:blip r:embed="rId5"/>
          <a:stretch/>
        </p:blipFill>
        <p:spPr>
          <a:xfrm>
            <a:off x="90360" y="907920"/>
            <a:ext cx="2598840" cy="2590920"/>
          </a:xfrm>
          <a:prstGeom prst="rect">
            <a:avLst/>
          </a:prstGeom>
          <a:ln w="28440">
            <a:solidFill>
              <a:srgbClr val="ffc000"/>
            </a:solidFill>
            <a:miter/>
          </a:ln>
        </p:spPr>
      </p:pic>
      <p:pic>
        <p:nvPicPr>
          <p:cNvPr id="655" name="Рисунок 8" descr=""/>
          <p:cNvPicPr/>
          <p:nvPr/>
        </p:nvPicPr>
        <p:blipFill>
          <a:blip r:embed="rId6"/>
          <a:stretch/>
        </p:blipFill>
        <p:spPr>
          <a:xfrm>
            <a:off x="5662440" y="4437000"/>
            <a:ext cx="329904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060"/>
                </a:solidFill>
                <a:latin typeface="Georgia"/>
              </a:rPr>
              <a:t>Куб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2060"/>
                </a:solidFill>
                <a:latin typeface="Georgia"/>
              </a:rPr>
              <a:t>У куба есть углы, стороны и гран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2060"/>
                </a:solidFill>
                <a:latin typeface="Georgia"/>
              </a:rPr>
              <a:t>Грань у куба – квадрат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8" name="Рисунок 3" descr=""/>
          <p:cNvPicPr/>
          <p:nvPr/>
        </p:nvPicPr>
        <p:blipFill>
          <a:blip r:embed="rId1"/>
          <a:stretch/>
        </p:blipFill>
        <p:spPr>
          <a:xfrm>
            <a:off x="395280" y="3462480"/>
            <a:ext cx="3384720" cy="2550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59" name="Рисунок 4" descr=""/>
          <p:cNvPicPr/>
          <p:nvPr/>
        </p:nvPicPr>
        <p:blipFill>
          <a:blip r:embed="rId2"/>
          <a:stretch/>
        </p:blipFill>
        <p:spPr>
          <a:xfrm>
            <a:off x="5219640" y="3462480"/>
            <a:ext cx="3384720" cy="2550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60" name="Стрелка вправо 6"/>
          <p:cNvSpPr/>
          <p:nvPr/>
        </p:nvSpPr>
        <p:spPr>
          <a:xfrm>
            <a:off x="2627280" y="4221000"/>
            <a:ext cx="396072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0ad00"/>
          </a:solidFill>
          <a:ln w="11520">
            <a:solidFill>
              <a:srgbClr val="b07e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Объект 3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4535640" cy="4392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ca5e6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Объект 3" descr=""/>
          <p:cNvPicPr/>
          <p:nvPr/>
        </p:nvPicPr>
        <p:blipFill>
          <a:blip r:embed="rId1"/>
          <a:stretch/>
        </p:blipFill>
        <p:spPr>
          <a:xfrm>
            <a:off x="139680" y="-33480"/>
            <a:ext cx="5119560" cy="3990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64" name="Рисунок 4" descr=""/>
          <p:cNvPicPr/>
          <p:nvPr/>
        </p:nvPicPr>
        <p:blipFill>
          <a:blip r:embed="rId2"/>
          <a:stretch/>
        </p:blipFill>
        <p:spPr>
          <a:xfrm>
            <a:off x="5508720" y="3213000"/>
            <a:ext cx="3367080" cy="3527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65" name="Рисунок 5" descr=""/>
          <p:cNvPicPr/>
          <p:nvPr/>
        </p:nvPicPr>
        <p:blipFill>
          <a:blip r:embed="rId3"/>
          <a:stretch/>
        </p:blipFill>
        <p:spPr>
          <a:xfrm>
            <a:off x="250920" y="4086360"/>
            <a:ext cx="2771640" cy="2771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66" name="Рисунок 6" descr=""/>
          <p:cNvPicPr/>
          <p:nvPr/>
        </p:nvPicPr>
        <p:blipFill>
          <a:blip r:embed="rId4"/>
          <a:stretch/>
        </p:blipFill>
        <p:spPr>
          <a:xfrm>
            <a:off x="5830920" y="115920"/>
            <a:ext cx="3313080" cy="3313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67" name="Рисунок 7" descr=""/>
          <p:cNvPicPr/>
          <p:nvPr/>
        </p:nvPicPr>
        <p:blipFill>
          <a:blip r:embed="rId5"/>
          <a:stretch/>
        </p:blipFill>
        <p:spPr>
          <a:xfrm>
            <a:off x="3203640" y="3241800"/>
            <a:ext cx="3132000" cy="31305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060"/>
                </a:solidFill>
                <a:latin typeface="Georgia"/>
              </a:rPr>
              <a:t>Цилиндр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Georgia"/>
              </a:rPr>
              <a:t>Его основания – круг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0" name="Объект 3" descr=""/>
          <p:cNvPicPr/>
          <p:nvPr/>
        </p:nvPicPr>
        <p:blipFill>
          <a:blip r:embed="rId1"/>
          <a:stretch/>
        </p:blipFill>
        <p:spPr>
          <a:xfrm>
            <a:off x="539640" y="3068640"/>
            <a:ext cx="3810240" cy="2873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71" name="Рисунок 4" descr=""/>
          <p:cNvPicPr/>
          <p:nvPr/>
        </p:nvPicPr>
        <p:blipFill>
          <a:blip r:embed="rId2"/>
          <a:stretch/>
        </p:blipFill>
        <p:spPr>
          <a:xfrm>
            <a:off x="5148360" y="3151080"/>
            <a:ext cx="3809880" cy="2871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72" name="Развернутая стрелка 5"/>
          <p:cNvSpPr/>
          <p:nvPr/>
        </p:nvSpPr>
        <p:spPr>
          <a:xfrm>
            <a:off x="2489040" y="2630520"/>
            <a:ext cx="4641840" cy="877680"/>
          </a:xfrm>
          <a:custGeom>
            <a:avLst/>
            <a:gdLst/>
            <a:ahLst/>
            <a:rect l="l" t="t" r="r" b="b"/>
            <a:pathLst>
              <a:path w="4641850" h="877887">
                <a:moveTo>
                  <a:pt x="0" y="877887"/>
                </a:moveTo>
                <a:lnTo>
                  <a:pt x="0" y="384076"/>
                </a:lnTo>
                <a:cubicBezTo>
                  <a:pt x="0" y="171957"/>
                  <a:pt x="171957" y="0"/>
                  <a:pt x="384076" y="0"/>
                </a:cubicBezTo>
                <a:lnTo>
                  <a:pt x="4148039" y="0"/>
                </a:lnTo>
                <a:cubicBezTo>
                  <a:pt x="4360158" y="0"/>
                  <a:pt x="4532115" y="171957"/>
                  <a:pt x="4532115" y="384076"/>
                </a:cubicBezTo>
                <a:cubicBezTo>
                  <a:pt x="4532115" y="402365"/>
                  <a:pt x="4532114" y="420655"/>
                  <a:pt x="4532114" y="438944"/>
                </a:cubicBezTo>
                <a:lnTo>
                  <a:pt x="4641850" y="438944"/>
                </a:lnTo>
                <a:lnTo>
                  <a:pt x="4422378" y="658415"/>
                </a:lnTo>
                <a:lnTo>
                  <a:pt x="4202907" y="438944"/>
                </a:lnTo>
                <a:lnTo>
                  <a:pt x="4312642" y="438944"/>
                </a:lnTo>
                <a:lnTo>
                  <a:pt x="4312642" y="384076"/>
                </a:lnTo>
                <a:cubicBezTo>
                  <a:pt x="4312642" y="293168"/>
                  <a:pt x="4238946" y="219472"/>
                  <a:pt x="4148038" y="219472"/>
                </a:cubicBezTo>
                <a:lnTo>
                  <a:pt x="384076" y="219472"/>
                </a:lnTo>
                <a:cubicBezTo>
                  <a:pt x="293168" y="219472"/>
                  <a:pt x="219472" y="293168"/>
                  <a:pt x="219472" y="384076"/>
                </a:cubicBezTo>
                <a:lnTo>
                  <a:pt x="219472" y="877887"/>
                </a:lnTo>
                <a:lnTo>
                  <a:pt x="0" y="877887"/>
                </a:lnTo>
                <a:close/>
              </a:path>
            </a:pathLst>
          </a:custGeom>
          <a:solidFill>
            <a:srgbClr val="f0ad00"/>
          </a:solidFill>
          <a:ln w="11520">
            <a:solidFill>
              <a:srgbClr val="b07e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13840" y="8571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3000" spc="-1" strike="noStrike">
                <a:solidFill>
                  <a:srgbClr val="00b0f0"/>
                </a:solidFill>
                <a:latin typeface="Georgia"/>
              </a:rPr>
              <a:t>ШАР</a:t>
            </a:r>
            <a:br>
              <a:rPr sz="3000"/>
            </a:br>
            <a:endParaRPr b="0" lang="en-US" sz="3000" spc="-1" strike="noStrike">
              <a:solidFill>
                <a:srgbClr val="ca5e6d"/>
              </a:solidFill>
              <a:latin typeface="Georgia"/>
            </a:endParaRPr>
          </a:p>
        </p:txBody>
      </p:sp>
      <p:pic>
        <p:nvPicPr>
          <p:cNvPr id="674" name="Объект 3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4525920" cy="4525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Объект 3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2438280" cy="257940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pic>
        <p:nvPicPr>
          <p:cNvPr id="676" name="Рисунок 4" descr=""/>
          <p:cNvPicPr/>
          <p:nvPr/>
        </p:nvPicPr>
        <p:blipFill>
          <a:blip r:embed="rId2"/>
          <a:stretch/>
        </p:blipFill>
        <p:spPr>
          <a:xfrm>
            <a:off x="3110040" y="260280"/>
            <a:ext cx="5727600" cy="388152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  <p:pic>
        <p:nvPicPr>
          <p:cNvPr id="677" name="Рисунок 5" descr=""/>
          <p:cNvPicPr/>
          <p:nvPr/>
        </p:nvPicPr>
        <p:blipFill>
          <a:blip r:embed="rId3"/>
          <a:stretch/>
        </p:blipFill>
        <p:spPr>
          <a:xfrm>
            <a:off x="395280" y="3681360"/>
            <a:ext cx="3987720" cy="299088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pic>
        <p:nvPicPr>
          <p:cNvPr id="678" name="Рисунок 6" descr=""/>
          <p:cNvPicPr/>
          <p:nvPr/>
        </p:nvPicPr>
        <p:blipFill>
          <a:blip r:embed="rId4"/>
          <a:stretch/>
        </p:blipFill>
        <p:spPr>
          <a:xfrm>
            <a:off x="5219640" y="4292640"/>
            <a:ext cx="2305080" cy="230508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Геометрические фигуры – это весело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Ты можешь найти их вокруг себя, в самых          простых и известных тебе вещах и предметах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Вот это игра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Давай после занятия, ты попробуешь сам или вместе с мамой,  папой или бабушкой, или братом и сестричкой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поискать геометрические фигуры вокруг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в своей квартире или на улице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Итак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b0f0"/>
                </a:solidFill>
                <a:latin typeface="Georgia"/>
              </a:rPr>
              <a:t>Объемные фигуры – это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pic>
        <p:nvPicPr>
          <p:cNvPr id="680" name="Объект 3" descr=""/>
          <p:cNvPicPr/>
          <p:nvPr/>
        </p:nvPicPr>
        <p:blipFill>
          <a:blip r:embed="rId1"/>
          <a:stretch/>
        </p:blipFill>
        <p:spPr>
          <a:xfrm>
            <a:off x="2571840" y="2000160"/>
            <a:ext cx="5033880" cy="3205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b0f0"/>
                </a:solidFill>
                <a:latin typeface="Georgia"/>
              </a:rPr>
              <a:t>Посмотри 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pic>
        <p:nvPicPr>
          <p:cNvPr id="682" name="Объект 3" descr=""/>
          <p:cNvPicPr/>
          <p:nvPr/>
        </p:nvPicPr>
        <p:blipFill>
          <a:blip r:embed="rId1"/>
          <a:stretch/>
        </p:blipFill>
        <p:spPr>
          <a:xfrm>
            <a:off x="547560" y="1287360"/>
            <a:ext cx="3808440" cy="2692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83" name="Рисунок 4" descr=""/>
          <p:cNvPicPr/>
          <p:nvPr/>
        </p:nvPicPr>
        <p:blipFill>
          <a:blip r:embed="rId2"/>
          <a:stretch/>
        </p:blipFill>
        <p:spPr>
          <a:xfrm>
            <a:off x="1116000" y="3852720"/>
            <a:ext cx="4032360" cy="2548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84" name="Рисунок 5" descr=""/>
          <p:cNvPicPr/>
          <p:nvPr/>
        </p:nvPicPr>
        <p:blipFill>
          <a:blip r:embed="rId3"/>
          <a:stretch/>
        </p:blipFill>
        <p:spPr>
          <a:xfrm>
            <a:off x="4572000" y="1484280"/>
            <a:ext cx="4465800" cy="3183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70c0"/>
                </a:solidFill>
                <a:latin typeface="Georgia"/>
              </a:rPr>
              <a:t>Давай построим город!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pic>
        <p:nvPicPr>
          <p:cNvPr id="686" name="Объект 3" descr=""/>
          <p:cNvPicPr/>
          <p:nvPr/>
        </p:nvPicPr>
        <p:blipFill>
          <a:blip r:embed="rId1"/>
          <a:stretch/>
        </p:blipFill>
        <p:spPr>
          <a:xfrm>
            <a:off x="982800" y="1527120"/>
            <a:ext cx="7143480" cy="457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000"/>
                </a:solidFill>
                <a:latin typeface="Georgia"/>
              </a:rPr>
              <a:t>Рекомендации родителям</a:t>
            </a:r>
            <a:endParaRPr b="0" lang="en-US" sz="30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buClr>
                <a:srgbClr val="f0ad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Для того, чтобы ребенок лучше запомнил материал, поиграйте с ним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- поищите геометрические фигуры в предметах вокруг;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f0ad00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сравните плоские и объемные фигуры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( плоские фигуры можно вырезать из бумаги, а объемные заменить предметами такой же формы): положите их на стол и отойдите на несколько шагов, вы увидите объемные фигуры, но не сможете увидеть плоских. Обратите внимание ребенка на это отличи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680" y="121392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Georgia"/>
              </a:rPr>
              <a:t>Плоские геометрические фигуры </a:t>
            </a:r>
            <a:br>
              <a:rPr sz="5400"/>
            </a:br>
            <a:endParaRPr b="0" lang="en-US" sz="5400" spc="-1" strike="noStrike">
              <a:solidFill>
                <a:srgbClr val="ca5e6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060"/>
                </a:solidFill>
                <a:latin typeface="Georgia"/>
              </a:rPr>
              <a:t>Квадраты</a:t>
            </a:r>
            <a:r>
              <a:rPr b="0" i="1" lang="ru-RU" sz="3300" spc="-1" strike="noStrike">
                <a:solidFill>
                  <a:srgbClr val="00b050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                      </a:t>
            </a:r>
            <a:r>
              <a:rPr b="1" i="1" lang="ru-RU" sz="2700" spc="-1" strike="noStrike">
                <a:solidFill>
                  <a:srgbClr val="002060"/>
                </a:solidFill>
                <a:latin typeface="Georgia"/>
              </a:rPr>
              <a:t>Квадраты имеют       четыре угла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Georgia"/>
              </a:rPr>
              <a:t>и четыре сторон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2700" spc="-1" strike="noStrike">
                <a:solidFill>
                  <a:srgbClr val="002060"/>
                </a:solidFill>
                <a:latin typeface="Georgia"/>
              </a:rPr>
              <a:t>У все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2700" spc="-1" strike="noStrike">
                <a:solidFill>
                  <a:srgbClr val="002060"/>
                </a:solidFill>
                <a:latin typeface="Georgia"/>
              </a:rPr>
              <a:t>сторон квадрата                                                             одинаковая длина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5" name="Рисунок 3" descr=""/>
          <p:cNvPicPr/>
          <p:nvPr/>
        </p:nvPicPr>
        <p:blipFill>
          <a:blip r:embed="rId1"/>
          <a:stretch/>
        </p:blipFill>
        <p:spPr>
          <a:xfrm>
            <a:off x="571680" y="2500200"/>
            <a:ext cx="3259080" cy="3000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060"/>
                </a:solidFill>
                <a:latin typeface="Georgia"/>
              </a:rPr>
              <a:t>Прямоугольники 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Georgia"/>
              </a:rPr>
              <a:t>У прямоугольников, как и у квадратов, четыре угла и четыре стороны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Georgia"/>
              </a:rPr>
              <a:t>Но одинаковую длину имеют только противоположные стороны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8" name="Рисунок 3" descr=""/>
          <p:cNvPicPr/>
          <p:nvPr/>
        </p:nvPicPr>
        <p:blipFill>
          <a:blip r:embed="rId1"/>
          <a:stretch/>
        </p:blipFill>
        <p:spPr>
          <a:xfrm>
            <a:off x="857160" y="1214280"/>
            <a:ext cx="5457960" cy="2425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060"/>
                </a:solidFill>
                <a:latin typeface="Georgia"/>
              </a:rPr>
              <a:t>Круги 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2060"/>
                </a:solidFill>
                <a:latin typeface="Georgia"/>
              </a:rPr>
              <a:t>Круг не имеет углов и сторо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1" name="Рисунок 4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5761080" cy="396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060"/>
                </a:solidFill>
                <a:latin typeface="Georgia"/>
              </a:rPr>
              <a:t>Треугольники 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2060"/>
                </a:solidFill>
                <a:latin typeface="Georgia"/>
              </a:rPr>
              <a:t>У треугольников есть три угла и три сторон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4" name="Рисунок 3" descr=""/>
          <p:cNvPicPr/>
          <p:nvPr/>
        </p:nvPicPr>
        <p:blipFill>
          <a:blip r:embed="rId1"/>
          <a:stretch/>
        </p:blipFill>
        <p:spPr>
          <a:xfrm>
            <a:off x="1428840" y="1143000"/>
            <a:ext cx="4680000" cy="351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060"/>
                </a:solidFill>
                <a:latin typeface="Georgia"/>
              </a:rPr>
              <a:t>Овалы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68360" y="1268280"/>
            <a:ext cx="822960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2060"/>
                </a:solidFill>
                <a:latin typeface="Georgia"/>
              </a:rPr>
              <a:t>Овал похож на приплюснутый круг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2060"/>
                </a:solidFill>
                <a:latin typeface="Georgia"/>
              </a:rPr>
              <a:t>у него, как и у круга, нет углов и сторо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Рисунок 3" descr=""/>
          <p:cNvPicPr/>
          <p:nvPr/>
        </p:nvPicPr>
        <p:blipFill>
          <a:blip r:embed="rId1"/>
          <a:stretch/>
        </p:blipFill>
        <p:spPr>
          <a:xfrm>
            <a:off x="2286000" y="2714760"/>
            <a:ext cx="4950000" cy="3335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060"/>
                </a:solidFill>
                <a:latin typeface="Georgia"/>
              </a:rPr>
              <a:t>Круг и овал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2060"/>
                </a:solidFill>
                <a:latin typeface="Georgia"/>
              </a:rPr>
              <a:t>Смотри как круг превращается в овал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0" name="Рисунок 4" descr=""/>
          <p:cNvPicPr/>
          <p:nvPr/>
        </p:nvPicPr>
        <p:blipFill>
          <a:blip r:embed="rId1"/>
          <a:stretch/>
        </p:blipFill>
        <p:spPr>
          <a:xfrm>
            <a:off x="512640" y="2646360"/>
            <a:ext cx="8118720" cy="3327480"/>
          </a:xfrm>
          <a:prstGeom prst="rect">
            <a:avLst/>
          </a:prstGeom>
          <a:ln w="0">
            <a:noFill/>
          </a:ln>
        </p:spPr>
      </p:pic>
      <p:sp>
        <p:nvSpPr>
          <p:cNvPr id="641" name="Стрелка вправо 5"/>
          <p:cNvSpPr/>
          <p:nvPr/>
        </p:nvSpPr>
        <p:spPr>
          <a:xfrm>
            <a:off x="3348000" y="3824280"/>
            <a:ext cx="977760" cy="4856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0ad00"/>
          </a:solidFill>
          <a:ln w="11520">
            <a:solidFill>
              <a:srgbClr val="b07e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4T06:00:20Z</dcterms:created>
  <dc:creator>user</dc:creator>
  <dc:description/>
  <dc:language>en-US</dc:language>
  <cp:lastModifiedBy>Ольга Лаптиева</cp:lastModifiedBy>
  <dcterms:modified xsi:type="dcterms:W3CDTF">2023-06-27T10:57:53Z</dcterms:modified>
  <cp:revision>27</cp:revision>
  <dc:subject/>
  <dc:title>Домашние животные  часть 2</dc:title>
</cp:coreProperties>
</file>