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247-6F34-4AA9-96AF-26C02E5C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8A2-5805-4044-B746-0DDD6206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E0F-ABA2-4745-922A-E58D4482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4AA-9E20-4789-858E-71989F47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F4E-2D6B-427C-946B-5FAB717A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3F6-6E55-4B18-8A45-234A15B8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AA1-4974-4867-B13A-2E8700C7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91E-8BFF-4F77-AC77-31EEC692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423-EF54-4F20-93C7-3E434099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9D2-7DC0-45FB-9C39-E8998FC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80A-07AF-4673-8A3F-5CE0F496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A57-1F81-4046-BFCC-5774065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ACD76A-42A0-4937-9159-33CACDBB62F0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1587960" y="597240"/>
            <a:ext cx="705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27200">
              <a:lnSpc>
                <a:spcPts val="4584"/>
              </a:lnSpc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Открытие 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84"/>
              </a:lnSpc>
              <a:spcBef>
                <a:spcPts val="694"/>
              </a:spcBef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«Живое русское сло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4"/>
          <p:cNvSpPr/>
          <p:nvPr/>
        </p:nvSpPr>
        <p:spPr>
          <a:xfrm>
            <a:off x="22496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5"/>
          <p:cNvSpPr/>
          <p:nvPr/>
        </p:nvSpPr>
        <p:spPr>
          <a:xfrm>
            <a:off x="1118520" y="2086560"/>
            <a:ext cx="75956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еликолепно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н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итерату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интересовался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еатром. Бол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ридцати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ет проработ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тербургской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убли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иблиотеке. Писал бас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6"/>
          <p:cNvSpPr/>
          <p:nvPr/>
        </p:nvSpPr>
        <p:spPr>
          <a:xfrm>
            <a:off x="4452480" y="5558040"/>
            <a:ext cx="2547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3"/>
          <p:cNvSpPr/>
          <p:nvPr/>
        </p:nvSpPr>
        <p:spPr>
          <a:xfrm>
            <a:off x="29480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1118520" y="2086560"/>
            <a:ext cx="809712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и он</a:t>
            </a:r>
            <a:r>
              <a:rPr b="1" lang="en-US" sz="3600" spc="897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ч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чинять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ы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всем маленьким.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рво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отворени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пис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-французски. Писал сказки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29480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5"/>
          <p:cNvSpPr/>
          <p:nvPr/>
        </p:nvSpPr>
        <p:spPr>
          <a:xfrm>
            <a:off x="1118520" y="2086560"/>
            <a:ext cx="80971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и он</a:t>
            </a:r>
            <a:r>
              <a:rPr b="1" lang="en-US" sz="3600" spc="897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ч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чинять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ы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всем маленьким.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рво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отворени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пис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-француз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6"/>
          <p:cNvSpPr/>
          <p:nvPr/>
        </p:nvSpPr>
        <p:spPr>
          <a:xfrm>
            <a:off x="3439800" y="5176800"/>
            <a:ext cx="26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3"/>
          <p:cNvSpPr/>
          <p:nvPr/>
        </p:nvSpPr>
        <p:spPr>
          <a:xfrm>
            <a:off x="287820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4"/>
          <p:cNvSpPr/>
          <p:nvPr/>
        </p:nvSpPr>
        <p:spPr>
          <a:xfrm>
            <a:off x="756720" y="1878480"/>
            <a:ext cx="702468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оевал на Кавказе, напис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рассказы об этих событ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мещик, имел креп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крестьян, о которых о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аботился: открывал школ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67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ольницы, помог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5"/>
          <p:cNvSpPr/>
          <p:nvPr/>
        </p:nvSpPr>
        <p:spPr>
          <a:xfrm>
            <a:off x="756720" y="5170320"/>
            <a:ext cx="38437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уждающим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287820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5"/>
          <p:cNvSpPr/>
          <p:nvPr/>
        </p:nvSpPr>
        <p:spPr>
          <a:xfrm>
            <a:off x="756720" y="1878480"/>
            <a:ext cx="702468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оевал на Кавказе, напис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рассказы об этих событ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мещик, имел креп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крестьян, о которых о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аботился: открывал школ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67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ольницы, помог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6"/>
          <p:cNvSpPr/>
          <p:nvPr/>
        </p:nvSpPr>
        <p:spPr>
          <a:xfrm>
            <a:off x="756720" y="5170320"/>
            <a:ext cx="38437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уждающим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7"/>
          <p:cNvSpPr/>
          <p:nvPr/>
        </p:nvSpPr>
        <p:spPr>
          <a:xfrm>
            <a:off x="4446000" y="5753160"/>
            <a:ext cx="258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3"/>
          <p:cNvSpPr/>
          <p:nvPr/>
        </p:nvSpPr>
        <p:spPr>
          <a:xfrm>
            <a:off x="2865600" y="99972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4"/>
          <p:cNvSpPr/>
          <p:nvPr/>
        </p:nvSpPr>
        <p:spPr>
          <a:xfrm>
            <a:off x="108000" y="1907280"/>
            <a:ext cx="960516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оенный, писатель, поэт, худож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924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ослан на Кавказ, где в то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100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шла война с горцами, в нака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за стихотворение «Смерть поэ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4"/>
          <p:cNvSpPr/>
          <p:nvPr/>
        </p:nvSpPr>
        <p:spPr>
          <a:xfrm>
            <a:off x="2865600" y="99972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5"/>
          <p:cNvSpPr/>
          <p:nvPr/>
        </p:nvSpPr>
        <p:spPr>
          <a:xfrm>
            <a:off x="108000" y="1907280"/>
            <a:ext cx="960516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оенный, писатель, поэт, худож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924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ослан на Кавказ, где в то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100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шла война с горцами, в нака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за стихотворение «Смерть поэ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6"/>
          <p:cNvSpPr/>
          <p:nvPr/>
        </p:nvSpPr>
        <p:spPr>
          <a:xfrm>
            <a:off x="2861640" y="5753160"/>
            <a:ext cx="332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М.Ю. Лермо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75800" y="2074680"/>
            <a:ext cx="45313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Арина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5"/>
          <p:cNvSpPr/>
          <p:nvPr/>
        </p:nvSpPr>
        <p:spPr>
          <a:xfrm>
            <a:off x="775800" y="3253320"/>
            <a:ext cx="5708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казка о царе</a:t>
            </a:r>
            <a:r>
              <a:rPr b="1" lang="en-US" sz="3200" spc="-6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Салт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Азб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6"/>
          <p:cNvSpPr/>
          <p:nvPr/>
        </p:nvSpPr>
        <p:spPr>
          <a:xfrm>
            <a:off x="775800" y="4431600"/>
            <a:ext cx="368820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4"/>
          <p:cNvSpPr/>
          <p:nvPr/>
        </p:nvSpPr>
        <p:spPr>
          <a:xfrm>
            <a:off x="775800" y="2074680"/>
            <a:ext cx="875412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етербургск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ублич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5"/>
          <p:cNvSpPr/>
          <p:nvPr/>
        </p:nvSpPr>
        <p:spPr>
          <a:xfrm>
            <a:off x="775800" y="3253320"/>
            <a:ext cx="417060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лон и Мось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6"/>
          <p:cNvSpPr/>
          <p:nvPr/>
        </p:nvSpPr>
        <p:spPr>
          <a:xfrm>
            <a:off x="775800" y="4431600"/>
            <a:ext cx="26564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Азб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"/>
          <p:cNvSpPr/>
          <p:nvPr/>
        </p:nvSpPr>
        <p:spPr>
          <a:xfrm>
            <a:off x="775800" y="5020920"/>
            <a:ext cx="57088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казка о царе</a:t>
            </a:r>
            <a:r>
              <a:rPr b="1" lang="en-US" sz="3200" spc="-6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Салт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4"/>
          <p:cNvSpPr/>
          <p:nvPr/>
        </p:nvSpPr>
        <p:spPr>
          <a:xfrm>
            <a:off x="775800" y="2074680"/>
            <a:ext cx="62607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5"/>
          <p:cNvSpPr/>
          <p:nvPr/>
        </p:nvSpPr>
        <p:spPr>
          <a:xfrm>
            <a:off x="775800" y="3253320"/>
            <a:ext cx="26078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6"/>
          <p:cNvSpPr/>
          <p:nvPr/>
        </p:nvSpPr>
        <p:spPr>
          <a:xfrm>
            <a:off x="775800" y="3842280"/>
            <a:ext cx="531972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Кавказский плен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Арина 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53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3"/>
          <p:cNvSpPr/>
          <p:nvPr/>
        </p:nvSpPr>
        <p:spPr>
          <a:xfrm>
            <a:off x="417600" y="88920"/>
            <a:ext cx="9540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редметная неделя «Живое русское сло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1440"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освящ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4"/>
          <p:cNvSpPr/>
          <p:nvPr/>
        </p:nvSpPr>
        <p:spPr>
          <a:xfrm>
            <a:off x="775800" y="2074680"/>
            <a:ext cx="39542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5"/>
          <p:cNvSpPr/>
          <p:nvPr/>
        </p:nvSpPr>
        <p:spPr>
          <a:xfrm>
            <a:off x="775800" y="2664000"/>
            <a:ext cx="34005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6"/>
          <p:cNvSpPr/>
          <p:nvPr/>
        </p:nvSpPr>
        <p:spPr>
          <a:xfrm>
            <a:off x="775800" y="3253320"/>
            <a:ext cx="81968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Санкт–Петербургск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офице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7"/>
          <p:cNvSpPr/>
          <p:nvPr/>
        </p:nvSpPr>
        <p:spPr>
          <a:xfrm>
            <a:off x="1382400" y="3746160"/>
            <a:ext cx="1820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8"/>
          <p:cNvSpPr/>
          <p:nvPr/>
        </p:nvSpPr>
        <p:spPr>
          <a:xfrm>
            <a:off x="775800" y="4330080"/>
            <a:ext cx="4815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Арина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3"/>
          <p:cNvSpPr/>
          <p:nvPr/>
        </p:nvSpPr>
        <p:spPr>
          <a:xfrm>
            <a:off x="822960" y="635760"/>
            <a:ext cx="86911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одходящие стро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247760"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каз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3"/>
          <p:cNvSpPr/>
          <p:nvPr/>
        </p:nvSpPr>
        <p:spPr>
          <a:xfrm>
            <a:off x="822960" y="635760"/>
            <a:ext cx="86911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одходящие стро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247760"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каз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3"/>
          <p:cNvSpPr/>
          <p:nvPr/>
        </p:nvSpPr>
        <p:spPr>
          <a:xfrm>
            <a:off x="822960" y="635760"/>
            <a:ext cx="86911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одходящие стро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247760"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каз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3"/>
          <p:cNvSpPr/>
          <p:nvPr/>
        </p:nvSpPr>
        <p:spPr>
          <a:xfrm>
            <a:off x="1274760" y="857160"/>
            <a:ext cx="7616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1" lang="en-US" sz="5400" spc="-1" strike="noStrike">
                <a:solidFill>
                  <a:srgbClr val="003399"/>
                </a:solidFill>
                <a:latin typeface="DJRUAQ+TimesNewRomanPS-BoldMT"/>
              </a:rPr>
              <a:t>Великий</a:t>
            </a:r>
            <a:r>
              <a:rPr b="1" lang="en-US" sz="5400" spc="135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5400" spc="-1" strike="noStrike">
                <a:solidFill>
                  <a:srgbClr val="003399"/>
                </a:solidFill>
                <a:latin typeface="DJRUAQ+TimesNewRomanPS-BoldMT"/>
              </a:rPr>
              <a:t>баснопис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4"/>
          <p:cNvSpPr/>
          <p:nvPr/>
        </p:nvSpPr>
        <p:spPr>
          <a:xfrm>
            <a:off x="779040" y="2073240"/>
            <a:ext cx="3458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Кто не слыхал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живого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5"/>
          <p:cNvSpPr/>
          <p:nvPr/>
        </p:nvSpPr>
        <p:spPr>
          <a:xfrm>
            <a:off x="779040" y="3015720"/>
            <a:ext cx="396648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Кто в жизни с ним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встретился сво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6"/>
          <p:cNvSpPr/>
          <p:nvPr/>
        </p:nvSpPr>
        <p:spPr>
          <a:xfrm>
            <a:off x="779040" y="3958200"/>
            <a:ext cx="265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Бессмер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7"/>
          <p:cNvSpPr/>
          <p:nvPr/>
        </p:nvSpPr>
        <p:spPr>
          <a:xfrm>
            <a:off x="1118520" y="4384800"/>
            <a:ext cx="360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творения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8"/>
          <p:cNvSpPr/>
          <p:nvPr/>
        </p:nvSpPr>
        <p:spPr>
          <a:xfrm>
            <a:off x="779040" y="4900320"/>
            <a:ext cx="40593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Мы с каждым г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любим все си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3"/>
          <p:cNvSpPr/>
          <p:nvPr/>
        </p:nvSpPr>
        <p:spPr>
          <a:xfrm>
            <a:off x="928440" y="893160"/>
            <a:ext cx="83973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Иван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Андреевич</a:t>
            </a:r>
            <a:r>
              <a:rPr b="1" lang="en-US" sz="4800" spc="11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Кры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1087920" y="941040"/>
            <a:ext cx="80323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какой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басни эта</a:t>
            </a:r>
            <a:r>
              <a:rPr b="1" lang="en-US" sz="4000" spc="1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мора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4"/>
          <p:cNvSpPr/>
          <p:nvPr/>
        </p:nvSpPr>
        <p:spPr>
          <a:xfrm>
            <a:off x="1925280" y="2793960"/>
            <a:ext cx="569880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«Уж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скольк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раз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твердили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ми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Чт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лесть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гнусна,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ред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н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тольк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сё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не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п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И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сердце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льстец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сегда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отыщ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угол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3"/>
          <p:cNvSpPr/>
          <p:nvPr/>
        </p:nvSpPr>
        <p:spPr>
          <a:xfrm>
            <a:off x="2340720" y="635760"/>
            <a:ext cx="53539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8480"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.А.Кры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«Ворона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 Лис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3"/>
          <p:cNvSpPr/>
          <p:nvPr/>
        </p:nvSpPr>
        <p:spPr>
          <a:xfrm>
            <a:off x="1476000" y="635760"/>
            <a:ext cx="71316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6080"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Кого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 великих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русск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исателей вы</a:t>
            </a:r>
            <a:r>
              <a:rPr b="1" lang="en-US" sz="4000" spc="9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3"/>
          <p:cNvSpPr/>
          <p:nvPr/>
        </p:nvSpPr>
        <p:spPr>
          <a:xfrm>
            <a:off x="485280" y="1440000"/>
            <a:ext cx="940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2.11 - Открытие</a:t>
            </a:r>
            <a:r>
              <a:rPr b="0" lang="en-US" sz="3200" spc="8119" strike="noStrike">
                <a:solidFill>
                  <a:srgbClr val="000000"/>
                </a:solidFill>
                <a:latin typeface="GVNWNS+TimesNewRomanPS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5.11 – Конкурс чте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предметной недели</a:t>
            </a:r>
            <a:r>
              <a:rPr b="0" lang="en-US" sz="3200" spc="5024" strike="noStrike">
                <a:solidFill>
                  <a:srgbClr val="000000"/>
                </a:solidFill>
                <a:latin typeface="GVNWNS+TimesNewRomanPS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«Стихи м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828360" y="2415600"/>
            <a:ext cx="3417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«Живое рус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сло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5"/>
          <p:cNvSpPr/>
          <p:nvPr/>
        </p:nvSpPr>
        <p:spPr>
          <a:xfrm>
            <a:off x="4933440" y="2415600"/>
            <a:ext cx="43070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Свидетели живые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к 200-летию Н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05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Некра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6"/>
          <p:cNvSpPr/>
          <p:nvPr/>
        </p:nvSpPr>
        <p:spPr>
          <a:xfrm>
            <a:off x="485280" y="3488400"/>
            <a:ext cx="3405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3.11 – Кон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7"/>
          <p:cNvSpPr/>
          <p:nvPr/>
        </p:nvSpPr>
        <p:spPr>
          <a:xfrm>
            <a:off x="828360" y="3976200"/>
            <a:ext cx="7721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каллиграфии «Я</a:t>
            </a:r>
            <a:r>
              <a:rPr b="0" lang="en-US" sz="3200" spc="6589" strike="noStrike">
                <a:solidFill>
                  <a:srgbClr val="000000"/>
                </a:solidFill>
                <a:latin typeface="GVNWNS+TimesNewRomanPS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6.11 – Закр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8"/>
          <p:cNvSpPr/>
          <p:nvPr/>
        </p:nvSpPr>
        <p:spPr>
          <a:xfrm>
            <a:off x="828360" y="4463640"/>
            <a:ext cx="3342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лиру посвя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народу свое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9"/>
          <p:cNvSpPr/>
          <p:nvPr/>
        </p:nvSpPr>
        <p:spPr>
          <a:xfrm>
            <a:off x="4933440" y="4463640"/>
            <a:ext cx="39747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предметной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«Живое рус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05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сло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0"/>
          <p:cNvSpPr/>
          <p:nvPr/>
        </p:nvSpPr>
        <p:spPr>
          <a:xfrm>
            <a:off x="485280" y="5536800"/>
            <a:ext cx="4056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4.11 – Экскурси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библиот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3"/>
          <p:cNvSpPr/>
          <p:nvPr/>
        </p:nvSpPr>
        <p:spPr>
          <a:xfrm>
            <a:off x="1122480" y="833040"/>
            <a:ext cx="848988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Великие русские</a:t>
            </a:r>
            <a:r>
              <a:rPr b="1" lang="en-US" sz="4800" spc="11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пис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2448360" y="2080080"/>
            <a:ext cx="549684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лександр Серг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5"/>
          <p:cNvSpPr/>
          <p:nvPr/>
        </p:nvSpPr>
        <p:spPr>
          <a:xfrm>
            <a:off x="2495160" y="3258360"/>
            <a:ext cx="478836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480"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Иван</a:t>
            </a:r>
            <a:r>
              <a:rPr b="1" lang="en-US" sz="3200" spc="80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ндр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….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995"/>
              </a:spcBef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Михаил Юрьевич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680">
              <a:lnSpc>
                <a:spcPts val="3334"/>
              </a:lnSpc>
              <a:spcBef>
                <a:spcPts val="5995"/>
              </a:spcBef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Лев Николаевич …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3"/>
          <p:cNvSpPr/>
          <p:nvPr/>
        </p:nvSpPr>
        <p:spPr>
          <a:xfrm>
            <a:off x="6102000" y="46440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4"/>
          <p:cNvSpPr/>
          <p:nvPr/>
        </p:nvSpPr>
        <p:spPr>
          <a:xfrm>
            <a:off x="1122480" y="1048680"/>
            <a:ext cx="848988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Великие русские</a:t>
            </a:r>
            <a:r>
              <a:rPr b="1" lang="en-US" sz="4800" spc="11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пис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5"/>
          <p:cNvSpPr/>
          <p:nvPr/>
        </p:nvSpPr>
        <p:spPr>
          <a:xfrm>
            <a:off x="2108520" y="2080080"/>
            <a:ext cx="627732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лександр Серг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290680" y="3258360"/>
            <a:ext cx="525168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Иван</a:t>
            </a:r>
            <a:r>
              <a:rPr b="1" lang="en-US" sz="3200" spc="80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ндр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Кры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7"/>
          <p:cNvSpPr/>
          <p:nvPr/>
        </p:nvSpPr>
        <p:spPr>
          <a:xfrm>
            <a:off x="1929960" y="4437000"/>
            <a:ext cx="611676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Михаил Юрьевич Лерм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840">
              <a:lnSpc>
                <a:spcPts val="3334"/>
              </a:lnSpc>
              <a:spcBef>
                <a:spcPts val="5995"/>
              </a:spcBef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Лев Николаевич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3"/>
          <p:cNvSpPr/>
          <p:nvPr/>
        </p:nvSpPr>
        <p:spPr>
          <a:xfrm>
            <a:off x="1969200" y="436680"/>
            <a:ext cx="6266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Узнай</a:t>
            </a:r>
            <a:r>
              <a:rPr b="1" lang="en-US" sz="5400" spc="135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портр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3"/>
          <p:cNvSpPr/>
          <p:nvPr/>
        </p:nvSpPr>
        <p:spPr>
          <a:xfrm>
            <a:off x="1896120" y="319680"/>
            <a:ext cx="7800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78960"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23"/>
              </a:lnSpc>
              <a:spcBef>
                <a:spcPts val="51"/>
              </a:spcBef>
            </a:pP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Узнай</a:t>
            </a:r>
            <a:r>
              <a:rPr b="1" lang="en-US" sz="5400" spc="135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портр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4"/>
          <p:cNvSpPr/>
          <p:nvPr/>
        </p:nvSpPr>
        <p:spPr>
          <a:xfrm>
            <a:off x="6474960" y="2362320"/>
            <a:ext cx="2830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5"/>
          <p:cNvSpPr/>
          <p:nvPr/>
        </p:nvSpPr>
        <p:spPr>
          <a:xfrm>
            <a:off x="2574360" y="2405880"/>
            <a:ext cx="2210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6"/>
          <p:cNvSpPr/>
          <p:nvPr/>
        </p:nvSpPr>
        <p:spPr>
          <a:xfrm>
            <a:off x="2646000" y="4809960"/>
            <a:ext cx="20653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И.А.Кры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7"/>
          <p:cNvSpPr/>
          <p:nvPr/>
        </p:nvSpPr>
        <p:spPr>
          <a:xfrm>
            <a:off x="6690960" y="4853880"/>
            <a:ext cx="22446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3"/>
          <p:cNvSpPr/>
          <p:nvPr/>
        </p:nvSpPr>
        <p:spPr>
          <a:xfrm>
            <a:off x="22496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4"/>
          <p:cNvSpPr/>
          <p:nvPr/>
        </p:nvSpPr>
        <p:spPr>
          <a:xfrm>
            <a:off x="1118520" y="2086560"/>
            <a:ext cx="75956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еликолепно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н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итерату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интересовался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еатром. Бол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ридцати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ет проработ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тербургской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убли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иблиотеке. Писал бас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dfcandle</dc:creator>
  <dc:description/>
  <dc:language>en-US</dc:language>
  <cp:lastModifiedBy>pdfcandle</cp:lastModifiedBy>
  <dcterms:modified xsi:type="dcterms:W3CDTF">2023-06-27T20:32:06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