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B12-9EB3-4FE8-9312-5C3E0291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7640" y="61459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04B-FF4D-4D02-BA2F-34DD2A25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00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A1F-186D-43D9-8179-37017B2B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588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412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764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588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412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724-CBF1-4F0D-ABA0-03A02096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140-BF13-46B1-B644-F4B00947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15D-6084-4724-91E4-68A425C7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F9E-A5ED-46BA-9626-2B89A43D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A9D-7D5A-4F29-8C26-9EBA13A5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7640" y="427680"/>
            <a:ext cx="6797520" cy="79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289-E7B7-4CE2-8CEA-57807F72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281-2AA4-44F4-BBC7-0F6DED02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00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36A-3238-4E26-85E0-D85E5C7A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E40-DE59-4E67-9115-8BC2F08A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88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45000"/>
            <a:ext cx="173700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68240" y="9945000"/>
            <a:ext cx="2416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520" y="9945000"/>
            <a:ext cx="173700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0358CC-E24F-4759-8F96-A200EF2E62A0}" type="slidenum">
              <a:rPr b="0" lang="en-US" sz="14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1587960" y="597240"/>
            <a:ext cx="705636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27200">
              <a:lnSpc>
                <a:spcPts val="4584"/>
              </a:lnSpc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Открытие не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84"/>
              </a:lnSpc>
              <a:spcBef>
                <a:spcPts val="694"/>
              </a:spcBef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«Живое русское сло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ject 3"/>
          <p:cNvSpPr/>
          <p:nvPr/>
        </p:nvSpPr>
        <p:spPr>
          <a:xfrm>
            <a:off x="6174720" y="319680"/>
            <a:ext cx="311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PWIQOM+TimesNewRomanPS-BoldItalicMT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ject 4"/>
          <p:cNvSpPr/>
          <p:nvPr/>
        </p:nvSpPr>
        <p:spPr>
          <a:xfrm>
            <a:off x="2249640" y="91728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ject 5"/>
          <p:cNvSpPr/>
          <p:nvPr/>
        </p:nvSpPr>
        <p:spPr>
          <a:xfrm>
            <a:off x="1118520" y="2086560"/>
            <a:ext cx="75956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40"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Великолепно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зна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литератур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интересовался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театром. Бол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тридцати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лет проработа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етербургской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убли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библиотеке. Писал бас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ject 6"/>
          <p:cNvSpPr/>
          <p:nvPr/>
        </p:nvSpPr>
        <p:spPr>
          <a:xfrm>
            <a:off x="4452480" y="5558040"/>
            <a:ext cx="2547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И.А.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bject 3"/>
          <p:cNvSpPr/>
          <p:nvPr/>
        </p:nvSpPr>
        <p:spPr>
          <a:xfrm>
            <a:off x="2948040" y="91728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ject 4"/>
          <p:cNvSpPr/>
          <p:nvPr/>
        </p:nvSpPr>
        <p:spPr>
          <a:xfrm>
            <a:off x="1118520" y="2086560"/>
            <a:ext cx="809712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7360"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тихи он</a:t>
            </a:r>
            <a:r>
              <a:rPr b="1" lang="en-US" sz="3600" spc="897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нача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очинять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бы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овсем маленьким.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ервое</a:t>
            </a:r>
            <a:r>
              <a:rPr b="1" lang="en-US" sz="3600" spc="894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тихотворение</a:t>
            </a:r>
            <a:r>
              <a:rPr b="1" lang="en-US" sz="3600" spc="894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напис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о-французски. Писал сказки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тих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bject 3"/>
          <p:cNvSpPr/>
          <p:nvPr/>
        </p:nvSpPr>
        <p:spPr>
          <a:xfrm>
            <a:off x="6174720" y="319680"/>
            <a:ext cx="311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PWIQOM+TimesNewRomanPS-BoldItalicMT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ject 4"/>
          <p:cNvSpPr/>
          <p:nvPr/>
        </p:nvSpPr>
        <p:spPr>
          <a:xfrm>
            <a:off x="2948040" y="91728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ject 5"/>
          <p:cNvSpPr/>
          <p:nvPr/>
        </p:nvSpPr>
        <p:spPr>
          <a:xfrm>
            <a:off x="1118520" y="2086560"/>
            <a:ext cx="809712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7360"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тихи он</a:t>
            </a:r>
            <a:r>
              <a:rPr b="1" lang="en-US" sz="3600" spc="897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нача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очинять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бы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овсем маленьким.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ервое</a:t>
            </a:r>
            <a:r>
              <a:rPr b="1" lang="en-US" sz="3600" spc="894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стихотворение</a:t>
            </a:r>
            <a:r>
              <a:rPr b="1" lang="en-US" sz="3600" spc="894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напис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о-французс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ject 6"/>
          <p:cNvSpPr/>
          <p:nvPr/>
        </p:nvSpPr>
        <p:spPr>
          <a:xfrm>
            <a:off x="3439800" y="5176800"/>
            <a:ext cx="268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ject 3"/>
          <p:cNvSpPr/>
          <p:nvPr/>
        </p:nvSpPr>
        <p:spPr>
          <a:xfrm>
            <a:off x="2878200" y="91728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ject 4"/>
          <p:cNvSpPr/>
          <p:nvPr/>
        </p:nvSpPr>
        <p:spPr>
          <a:xfrm>
            <a:off x="756720" y="1878480"/>
            <a:ext cx="7024680" cy="31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40"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Воевал на Кавказе, напис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рассказы об этих событ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омещик, имел крепос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крестьян, о которых оч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заботился: открывал школ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67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больницы, помог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ject 5"/>
          <p:cNvSpPr/>
          <p:nvPr/>
        </p:nvSpPr>
        <p:spPr>
          <a:xfrm>
            <a:off x="756720" y="5170320"/>
            <a:ext cx="38437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нуждающим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ject 3"/>
          <p:cNvSpPr/>
          <p:nvPr/>
        </p:nvSpPr>
        <p:spPr>
          <a:xfrm>
            <a:off x="6174720" y="319680"/>
            <a:ext cx="311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PWIQOM+TimesNewRomanPS-BoldItalicMT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ject 4"/>
          <p:cNvSpPr/>
          <p:nvPr/>
        </p:nvSpPr>
        <p:spPr>
          <a:xfrm>
            <a:off x="2878200" y="91728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ject 5"/>
          <p:cNvSpPr/>
          <p:nvPr/>
        </p:nvSpPr>
        <p:spPr>
          <a:xfrm>
            <a:off x="756720" y="1878480"/>
            <a:ext cx="7024680" cy="31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40"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Воевал на Кавказе, напис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рассказы об этих событ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омещик, имел крепос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крестьян, о которых оч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заботился: открывал школ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67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больницы, помог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ject 6"/>
          <p:cNvSpPr/>
          <p:nvPr/>
        </p:nvSpPr>
        <p:spPr>
          <a:xfrm>
            <a:off x="756720" y="5170320"/>
            <a:ext cx="38437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нуждающим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ject 7"/>
          <p:cNvSpPr/>
          <p:nvPr/>
        </p:nvSpPr>
        <p:spPr>
          <a:xfrm>
            <a:off x="4446000" y="5753160"/>
            <a:ext cx="2581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Л.Н.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3"/>
          <p:cNvSpPr/>
          <p:nvPr/>
        </p:nvSpPr>
        <p:spPr>
          <a:xfrm>
            <a:off x="2865600" y="99972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ject 4"/>
          <p:cNvSpPr/>
          <p:nvPr/>
        </p:nvSpPr>
        <p:spPr>
          <a:xfrm>
            <a:off x="108000" y="1907280"/>
            <a:ext cx="9605160" cy="32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Военный, писатель, поэт, художн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9240">
              <a:lnSpc>
                <a:spcPts val="4167"/>
              </a:lnSpc>
              <a:spcBef>
                <a:spcPts val="10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Сослан на Кавказ, где в то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1000">
              <a:lnSpc>
                <a:spcPts val="4167"/>
              </a:lnSpc>
              <a:spcBef>
                <a:spcPts val="10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шла война с горцами, в наказ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ts val="4167"/>
              </a:lnSpc>
              <a:spcBef>
                <a:spcPts val="10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за стихотворение «Смерть поэ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ject 3"/>
          <p:cNvSpPr/>
          <p:nvPr/>
        </p:nvSpPr>
        <p:spPr>
          <a:xfrm>
            <a:off x="6174720" y="319680"/>
            <a:ext cx="311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PWIQOM+TimesNewRomanPS-BoldItalicMT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ject 4"/>
          <p:cNvSpPr/>
          <p:nvPr/>
        </p:nvSpPr>
        <p:spPr>
          <a:xfrm>
            <a:off x="2865600" y="99972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bject 5"/>
          <p:cNvSpPr/>
          <p:nvPr/>
        </p:nvSpPr>
        <p:spPr>
          <a:xfrm>
            <a:off x="108000" y="1907280"/>
            <a:ext cx="9605160" cy="32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Военный, писатель, поэт, художн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9240">
              <a:lnSpc>
                <a:spcPts val="4167"/>
              </a:lnSpc>
              <a:spcBef>
                <a:spcPts val="10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Сослан на Кавказ, где в то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1000">
              <a:lnSpc>
                <a:spcPts val="4167"/>
              </a:lnSpc>
              <a:spcBef>
                <a:spcPts val="10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шла война с горцами, в наказ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9280">
              <a:lnSpc>
                <a:spcPts val="4167"/>
              </a:lnSpc>
              <a:spcBef>
                <a:spcPts val="10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за стихотворение «Смерть поэ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ject 6"/>
          <p:cNvSpPr/>
          <p:nvPr/>
        </p:nvSpPr>
        <p:spPr>
          <a:xfrm>
            <a:off x="2861640" y="5753160"/>
            <a:ext cx="332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М.Ю. Лермо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ject 3"/>
          <p:cNvSpPr/>
          <p:nvPr/>
        </p:nvSpPr>
        <p:spPr>
          <a:xfrm>
            <a:off x="1746000" y="893160"/>
            <a:ext cx="663156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Выбери</a:t>
            </a:r>
            <a:r>
              <a:rPr b="1" lang="en-US" sz="4800" spc="12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подходящ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ject 4"/>
          <p:cNvSpPr/>
          <p:nvPr/>
        </p:nvSpPr>
        <p:spPr>
          <a:xfrm>
            <a:off x="775800" y="2074680"/>
            <a:ext cx="45313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Арина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Родио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Тарх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ject 5"/>
          <p:cNvSpPr/>
          <p:nvPr/>
        </p:nvSpPr>
        <p:spPr>
          <a:xfrm>
            <a:off x="775800" y="3253320"/>
            <a:ext cx="57088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Сказка о царе</a:t>
            </a:r>
            <a:r>
              <a:rPr b="1" lang="en-US" sz="3200" spc="-6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Салта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Азб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ject 6"/>
          <p:cNvSpPr/>
          <p:nvPr/>
        </p:nvSpPr>
        <p:spPr>
          <a:xfrm>
            <a:off x="775800" y="4431600"/>
            <a:ext cx="368820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Ясная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Пол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ject 3"/>
          <p:cNvSpPr/>
          <p:nvPr/>
        </p:nvSpPr>
        <p:spPr>
          <a:xfrm>
            <a:off x="1746000" y="893160"/>
            <a:ext cx="663156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Выбери</a:t>
            </a:r>
            <a:r>
              <a:rPr b="1" lang="en-US" sz="4800" spc="12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подходящ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ject 4"/>
          <p:cNvSpPr/>
          <p:nvPr/>
        </p:nvSpPr>
        <p:spPr>
          <a:xfrm>
            <a:off x="775800" y="2074680"/>
            <a:ext cx="8754120" cy="14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Петербургская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публичная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Тарх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ject 5"/>
          <p:cNvSpPr/>
          <p:nvPr/>
        </p:nvSpPr>
        <p:spPr>
          <a:xfrm>
            <a:off x="775800" y="3253320"/>
            <a:ext cx="417060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Слон и Мось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Ясная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Пол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6"/>
          <p:cNvSpPr/>
          <p:nvPr/>
        </p:nvSpPr>
        <p:spPr>
          <a:xfrm>
            <a:off x="775800" y="4431600"/>
            <a:ext cx="265644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Азб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ject 7"/>
          <p:cNvSpPr/>
          <p:nvPr/>
        </p:nvSpPr>
        <p:spPr>
          <a:xfrm>
            <a:off x="775800" y="5020920"/>
            <a:ext cx="57088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Сказка о царе</a:t>
            </a:r>
            <a:r>
              <a:rPr b="1" lang="en-US" sz="3200" spc="-6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Салта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ject 3"/>
          <p:cNvSpPr/>
          <p:nvPr/>
        </p:nvSpPr>
        <p:spPr>
          <a:xfrm>
            <a:off x="1746000" y="893160"/>
            <a:ext cx="663156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Выбери</a:t>
            </a:r>
            <a:r>
              <a:rPr b="1" lang="en-US" sz="4800" spc="12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подходящ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4"/>
          <p:cNvSpPr/>
          <p:nvPr/>
        </p:nvSpPr>
        <p:spPr>
          <a:xfrm>
            <a:off x="775800" y="2074680"/>
            <a:ext cx="62607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Сказка о рыбаке и рыб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Ясная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Пол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5"/>
          <p:cNvSpPr/>
          <p:nvPr/>
        </p:nvSpPr>
        <p:spPr>
          <a:xfrm>
            <a:off x="775800" y="3253320"/>
            <a:ext cx="260784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Тарх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ject 6"/>
          <p:cNvSpPr/>
          <p:nvPr/>
        </p:nvSpPr>
        <p:spPr>
          <a:xfrm>
            <a:off x="775800" y="3842280"/>
            <a:ext cx="531972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Кавказский плен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Арина Родио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53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7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Ба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3"/>
          <p:cNvSpPr/>
          <p:nvPr/>
        </p:nvSpPr>
        <p:spPr>
          <a:xfrm>
            <a:off x="417600" y="88920"/>
            <a:ext cx="95400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Предметная неделя «Живое русское сло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1440">
              <a:lnSpc>
                <a:spcPts val="3334"/>
              </a:lnSpc>
              <a:spcBef>
                <a:spcPts val="556"/>
              </a:spcBef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посвяща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bject 3"/>
          <p:cNvSpPr/>
          <p:nvPr/>
        </p:nvSpPr>
        <p:spPr>
          <a:xfrm>
            <a:off x="1746000" y="893160"/>
            <a:ext cx="663156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Выбери</a:t>
            </a:r>
            <a:r>
              <a:rPr b="1" lang="en-US" sz="4800" spc="12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подходящ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ject 4"/>
          <p:cNvSpPr/>
          <p:nvPr/>
        </p:nvSpPr>
        <p:spPr>
          <a:xfrm>
            <a:off x="775800" y="2074680"/>
            <a:ext cx="395424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28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Ясная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Поля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ject 5"/>
          <p:cNvSpPr/>
          <p:nvPr/>
        </p:nvSpPr>
        <p:spPr>
          <a:xfrm>
            <a:off x="775800" y="2664000"/>
            <a:ext cx="34005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28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«Бороди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bject 6"/>
          <p:cNvSpPr/>
          <p:nvPr/>
        </p:nvSpPr>
        <p:spPr>
          <a:xfrm>
            <a:off x="775800" y="3253320"/>
            <a:ext cx="819684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28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Санкт–Петербургская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офице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ject 7"/>
          <p:cNvSpPr/>
          <p:nvPr/>
        </p:nvSpPr>
        <p:spPr>
          <a:xfrm>
            <a:off x="1382400" y="3746160"/>
            <a:ext cx="18208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ject 8"/>
          <p:cNvSpPr/>
          <p:nvPr/>
        </p:nvSpPr>
        <p:spPr>
          <a:xfrm>
            <a:off x="775800" y="4330080"/>
            <a:ext cx="48157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87"/>
              </a:lnSpc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28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Арина</a:t>
            </a:r>
            <a:r>
              <a:rPr b="1" lang="en-US" sz="3200" spc="8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Родио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87"/>
              </a:lnSpc>
              <a:spcBef>
                <a:spcPts val="1202"/>
              </a:spcBef>
            </a:pPr>
            <a:r>
              <a:rPr b="0" lang="en-US" sz="3250" spc="-1" strike="noStrike">
                <a:solidFill>
                  <a:srgbClr val="003399"/>
                </a:solidFill>
                <a:latin typeface="GVNWNS+TimesNewRomanPSMT"/>
              </a:rPr>
              <a:t>•</a:t>
            </a:r>
            <a:r>
              <a:rPr b="0" lang="en-US" sz="3250" spc="2824" strike="noStrike">
                <a:solidFill>
                  <a:srgbClr val="003399"/>
                </a:solidFill>
                <a:latin typeface="GVNWNS+TimesNewRomanPS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DJRUAQ+TimesNewRomanPS-BoldMT"/>
              </a:rPr>
              <a:t>Тарх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ject 3"/>
          <p:cNvSpPr/>
          <p:nvPr/>
        </p:nvSpPr>
        <p:spPr>
          <a:xfrm>
            <a:off x="822960" y="635760"/>
            <a:ext cx="869112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Вспомн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подходящие строк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247760">
              <a:lnSpc>
                <a:spcPts val="4167"/>
              </a:lnSpc>
              <a:spcBef>
                <a:spcPts val="63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сказк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А.С.Пуш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ject 3"/>
          <p:cNvSpPr/>
          <p:nvPr/>
        </p:nvSpPr>
        <p:spPr>
          <a:xfrm>
            <a:off x="822960" y="635760"/>
            <a:ext cx="869112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Вспомн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подходящие строк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247760">
              <a:lnSpc>
                <a:spcPts val="4167"/>
              </a:lnSpc>
              <a:spcBef>
                <a:spcPts val="63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сказк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А.С.Пуш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ject 3"/>
          <p:cNvSpPr/>
          <p:nvPr/>
        </p:nvSpPr>
        <p:spPr>
          <a:xfrm>
            <a:off x="822960" y="635760"/>
            <a:ext cx="869112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Вспомн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подходящие строк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247760">
              <a:lnSpc>
                <a:spcPts val="4167"/>
              </a:lnSpc>
              <a:spcBef>
                <a:spcPts val="63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сказки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А.С.Пушк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ject 3"/>
          <p:cNvSpPr/>
          <p:nvPr/>
        </p:nvSpPr>
        <p:spPr>
          <a:xfrm>
            <a:off x="1274760" y="857160"/>
            <a:ext cx="76168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627"/>
              </a:lnSpc>
            </a:pPr>
            <a:r>
              <a:rPr b="1" lang="en-US" sz="5400" spc="-1" strike="noStrike">
                <a:solidFill>
                  <a:srgbClr val="003399"/>
                </a:solidFill>
                <a:latin typeface="DJRUAQ+TimesNewRomanPS-BoldMT"/>
              </a:rPr>
              <a:t>Великий</a:t>
            </a:r>
            <a:r>
              <a:rPr b="1" lang="en-US" sz="5400" spc="135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5400" spc="-1" strike="noStrike">
                <a:solidFill>
                  <a:srgbClr val="003399"/>
                </a:solidFill>
                <a:latin typeface="DJRUAQ+TimesNewRomanPS-BoldMT"/>
              </a:rPr>
              <a:t>баснописе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ject 4"/>
          <p:cNvSpPr/>
          <p:nvPr/>
        </p:nvSpPr>
        <p:spPr>
          <a:xfrm>
            <a:off x="779040" y="2073240"/>
            <a:ext cx="345852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Кто не слыхал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живого с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ject 5"/>
          <p:cNvSpPr/>
          <p:nvPr/>
        </p:nvSpPr>
        <p:spPr>
          <a:xfrm>
            <a:off x="779040" y="3015720"/>
            <a:ext cx="396648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Кто в жизни с ним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встретился сво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ject 6"/>
          <p:cNvSpPr/>
          <p:nvPr/>
        </p:nvSpPr>
        <p:spPr>
          <a:xfrm>
            <a:off x="779040" y="3958200"/>
            <a:ext cx="265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Бессмер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ject 7"/>
          <p:cNvSpPr/>
          <p:nvPr/>
        </p:nvSpPr>
        <p:spPr>
          <a:xfrm>
            <a:off x="1118520" y="4384800"/>
            <a:ext cx="360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творения Кры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ject 8"/>
          <p:cNvSpPr/>
          <p:nvPr/>
        </p:nvSpPr>
        <p:spPr>
          <a:xfrm>
            <a:off x="779040" y="4900320"/>
            <a:ext cx="405936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17"/>
              </a:lnSpc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Мы с каждым г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>
              <a:lnSpc>
                <a:spcPts val="2917"/>
              </a:lnSpc>
              <a:spcBef>
                <a:spcPts val="493"/>
              </a:spcBef>
            </a:pPr>
            <a:r>
              <a:rPr b="1" lang="en-US" sz="2800" spc="-1" strike="noStrike">
                <a:solidFill>
                  <a:srgbClr val="003399"/>
                </a:solidFill>
                <a:latin typeface="DJRUAQ+TimesNewRomanPS-BoldMT"/>
              </a:rPr>
              <a:t>любим все силь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ject 3"/>
          <p:cNvSpPr/>
          <p:nvPr/>
        </p:nvSpPr>
        <p:spPr>
          <a:xfrm>
            <a:off x="928440" y="893160"/>
            <a:ext cx="83973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Иван</a:t>
            </a:r>
            <a:r>
              <a:rPr b="1" lang="en-US" sz="4800" spc="12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Андреевич</a:t>
            </a:r>
            <a:r>
              <a:rPr b="1" lang="en-US" sz="4800" spc="1194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DJRUAQ+TimesNewRomanPS-BoldMT"/>
              </a:rPr>
              <a:t>Кры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ject 3"/>
          <p:cNvSpPr/>
          <p:nvPr/>
        </p:nvSpPr>
        <p:spPr>
          <a:xfrm>
            <a:off x="1087920" y="941040"/>
            <a:ext cx="80323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Из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какой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басни эта</a:t>
            </a:r>
            <a:r>
              <a:rPr b="1" lang="en-US" sz="4000" spc="1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мора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ject 4"/>
          <p:cNvSpPr/>
          <p:nvPr/>
        </p:nvSpPr>
        <p:spPr>
          <a:xfrm>
            <a:off x="1925280" y="2793960"/>
            <a:ext cx="569880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«Уж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сколько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раз</a:t>
            </a:r>
            <a:r>
              <a:rPr b="1" lang="en-US" sz="2400" spc="596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твердили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мир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Что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лесть</a:t>
            </a:r>
            <a:r>
              <a:rPr b="1" lang="en-US" sz="2400" spc="596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гнусна,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вред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но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только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всё</a:t>
            </a:r>
            <a:r>
              <a:rPr b="1" lang="en-US" sz="2400" spc="596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не</a:t>
            </a:r>
            <a:r>
              <a:rPr b="1" lang="en-US" sz="2400" spc="596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впр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29"/>
              </a:spcBef>
            </a:pP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И</a:t>
            </a:r>
            <a:r>
              <a:rPr b="1" lang="en-US" sz="2400" spc="596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в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сердце</a:t>
            </a:r>
            <a:r>
              <a:rPr b="1" lang="en-US" sz="2400" spc="596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льстец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всегда</a:t>
            </a:r>
            <a:r>
              <a:rPr b="1" lang="en-US" sz="2400" spc="5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отыщ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spcBef>
                <a:spcPts val="380"/>
              </a:spcBef>
            </a:pPr>
            <a:r>
              <a:rPr b="1" lang="en-US" sz="2400" spc="-1" strike="noStrike">
                <a:solidFill>
                  <a:srgbClr val="003399"/>
                </a:solidFill>
                <a:latin typeface="DJRUAQ+TimesNewRomanPS-BoldMT"/>
              </a:rPr>
              <a:t>угол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ject 3"/>
          <p:cNvSpPr/>
          <p:nvPr/>
        </p:nvSpPr>
        <p:spPr>
          <a:xfrm>
            <a:off x="2340720" y="635760"/>
            <a:ext cx="53539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8480"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И.А.Кры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67"/>
              </a:lnSpc>
              <a:spcBef>
                <a:spcPts val="63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«Ворона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и Лис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ject 3"/>
          <p:cNvSpPr/>
          <p:nvPr/>
        </p:nvSpPr>
        <p:spPr>
          <a:xfrm>
            <a:off x="1476000" y="635760"/>
            <a:ext cx="713160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6080">
              <a:lnSpc>
                <a:spcPts val="4167"/>
              </a:lnSpc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Кого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из великих</a:t>
            </a:r>
            <a:r>
              <a:rPr b="1" lang="en-US" sz="4000" spc="999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русск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67"/>
              </a:lnSpc>
              <a:spcBef>
                <a:spcPts val="632"/>
              </a:spcBef>
            </a:pP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писателей вы</a:t>
            </a:r>
            <a:r>
              <a:rPr b="1" lang="en-US" sz="4000" spc="996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DJRUAQ+TimesNewRomanPS-BoldMT"/>
              </a:rPr>
              <a:t>вспомни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3"/>
          <p:cNvSpPr/>
          <p:nvPr/>
        </p:nvSpPr>
        <p:spPr>
          <a:xfrm>
            <a:off x="485280" y="1440000"/>
            <a:ext cx="940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22.11 - Открытие</a:t>
            </a:r>
            <a:r>
              <a:rPr b="0" lang="en-US" sz="3200" spc="8119" strike="noStrike">
                <a:solidFill>
                  <a:srgbClr val="000000"/>
                </a:solidFill>
                <a:latin typeface="GVNWNS+TimesNewRomanPS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25.11 – Конкурс чтец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ts val="3334"/>
              </a:lnSpc>
              <a:spcBef>
                <a:spcPts val="556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предметной недели</a:t>
            </a:r>
            <a:r>
              <a:rPr b="0" lang="en-US" sz="3200" spc="5024" strike="noStrike">
                <a:solidFill>
                  <a:srgbClr val="000000"/>
                </a:solidFill>
                <a:latin typeface="GVNWNS+TimesNewRomanPS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«Стихи м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4"/>
          <p:cNvSpPr/>
          <p:nvPr/>
        </p:nvSpPr>
        <p:spPr>
          <a:xfrm>
            <a:off x="828360" y="2415600"/>
            <a:ext cx="34174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«Живое рус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56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сло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5"/>
          <p:cNvSpPr/>
          <p:nvPr/>
        </p:nvSpPr>
        <p:spPr>
          <a:xfrm>
            <a:off x="4933440" y="2415600"/>
            <a:ext cx="430704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Свидетели живые 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56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к 200-летию Н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05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Некра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6"/>
          <p:cNvSpPr/>
          <p:nvPr/>
        </p:nvSpPr>
        <p:spPr>
          <a:xfrm>
            <a:off x="485280" y="3488400"/>
            <a:ext cx="3405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23.11 – Конк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7"/>
          <p:cNvSpPr/>
          <p:nvPr/>
        </p:nvSpPr>
        <p:spPr>
          <a:xfrm>
            <a:off x="828360" y="3976200"/>
            <a:ext cx="7721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каллиграфии «Я</a:t>
            </a:r>
            <a:r>
              <a:rPr b="0" lang="en-US" sz="3200" spc="6589" strike="noStrike">
                <a:solidFill>
                  <a:srgbClr val="000000"/>
                </a:solidFill>
                <a:latin typeface="GVNWNS+TimesNewRomanPS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26.11 – Закр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8"/>
          <p:cNvSpPr/>
          <p:nvPr/>
        </p:nvSpPr>
        <p:spPr>
          <a:xfrm>
            <a:off x="828360" y="4463640"/>
            <a:ext cx="3342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лиру посвя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56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народу своем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ject 9"/>
          <p:cNvSpPr/>
          <p:nvPr/>
        </p:nvSpPr>
        <p:spPr>
          <a:xfrm>
            <a:off x="4933440" y="4463640"/>
            <a:ext cx="39747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предметной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56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«Живое рус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05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сло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ject 10"/>
          <p:cNvSpPr/>
          <p:nvPr/>
        </p:nvSpPr>
        <p:spPr>
          <a:xfrm>
            <a:off x="485280" y="5536800"/>
            <a:ext cx="40564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24.11 – Экскурсия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ts val="3334"/>
              </a:lnSpc>
              <a:spcBef>
                <a:spcPts val="556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GVNWNS+TimesNewRomanPSMT"/>
              </a:rPr>
              <a:t>библиоте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ject 3"/>
          <p:cNvSpPr/>
          <p:nvPr/>
        </p:nvSpPr>
        <p:spPr>
          <a:xfrm>
            <a:off x="1122480" y="833040"/>
            <a:ext cx="848988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003399"/>
                </a:solidFill>
                <a:latin typeface="PWIQOM+TimesNewRomanPS-BoldItalicMT"/>
              </a:rPr>
              <a:t>Великие русские</a:t>
            </a:r>
            <a:r>
              <a:rPr b="1" lang="en-US" sz="4800" spc="1197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PWIQOM+TimesNewRomanPS-BoldItalicMT"/>
              </a:rPr>
              <a:t>писат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ject 4"/>
          <p:cNvSpPr/>
          <p:nvPr/>
        </p:nvSpPr>
        <p:spPr>
          <a:xfrm>
            <a:off x="2448360" y="2080080"/>
            <a:ext cx="549684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Александр Сергеевич</a:t>
            </a:r>
            <a:r>
              <a:rPr b="1" lang="en-US" sz="3200" spc="797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ject 5"/>
          <p:cNvSpPr/>
          <p:nvPr/>
        </p:nvSpPr>
        <p:spPr>
          <a:xfrm>
            <a:off x="2495160" y="3258360"/>
            <a:ext cx="478836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480">
              <a:lnSpc>
                <a:spcPts val="3334"/>
              </a:lnSpc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Иван</a:t>
            </a:r>
            <a:r>
              <a:rPr b="1" lang="en-US" sz="3200" spc="800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Андреевич</a:t>
            </a:r>
            <a:r>
              <a:rPr b="1" lang="en-US" sz="3200" spc="797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….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4"/>
              </a:lnSpc>
              <a:spcBef>
                <a:spcPts val="5995"/>
              </a:spcBef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Михаил Юрьевич 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680">
              <a:lnSpc>
                <a:spcPts val="3334"/>
              </a:lnSpc>
              <a:spcBef>
                <a:spcPts val="5995"/>
              </a:spcBef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Лев Николаевич …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3"/>
          <p:cNvSpPr/>
          <p:nvPr/>
        </p:nvSpPr>
        <p:spPr>
          <a:xfrm>
            <a:off x="6102000" y="464400"/>
            <a:ext cx="311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PWIQOM+TimesNewRomanPS-BoldItalicMT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ject 4"/>
          <p:cNvSpPr/>
          <p:nvPr/>
        </p:nvSpPr>
        <p:spPr>
          <a:xfrm>
            <a:off x="1122480" y="1048680"/>
            <a:ext cx="848988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00"/>
              </a:lnSpc>
            </a:pPr>
            <a:r>
              <a:rPr b="1" lang="en-US" sz="4800" spc="-1" strike="noStrike">
                <a:solidFill>
                  <a:srgbClr val="003399"/>
                </a:solidFill>
                <a:latin typeface="PWIQOM+TimesNewRomanPS-BoldItalicMT"/>
              </a:rPr>
              <a:t>Великие русские</a:t>
            </a:r>
            <a:r>
              <a:rPr b="1" lang="en-US" sz="4800" spc="1197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4800" spc="-1" strike="noStrike">
                <a:solidFill>
                  <a:srgbClr val="003399"/>
                </a:solidFill>
                <a:latin typeface="PWIQOM+TimesNewRomanPS-BoldItalicMT"/>
              </a:rPr>
              <a:t>писат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ject 5"/>
          <p:cNvSpPr/>
          <p:nvPr/>
        </p:nvSpPr>
        <p:spPr>
          <a:xfrm>
            <a:off x="2108520" y="2080080"/>
            <a:ext cx="627732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Александр Сергеевич</a:t>
            </a:r>
            <a:r>
              <a:rPr b="1" lang="en-US" sz="3200" spc="797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ject 6"/>
          <p:cNvSpPr/>
          <p:nvPr/>
        </p:nvSpPr>
        <p:spPr>
          <a:xfrm>
            <a:off x="2290680" y="3258360"/>
            <a:ext cx="525168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Иван</a:t>
            </a:r>
            <a:r>
              <a:rPr b="1" lang="en-US" sz="3200" spc="800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Андреевич</a:t>
            </a:r>
            <a:r>
              <a:rPr b="1" lang="en-US" sz="3200" spc="797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Кры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ject 7"/>
          <p:cNvSpPr/>
          <p:nvPr/>
        </p:nvSpPr>
        <p:spPr>
          <a:xfrm>
            <a:off x="1929960" y="4437000"/>
            <a:ext cx="611676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334"/>
              </a:lnSpc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Михаил Юрьевич Лермо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840">
              <a:lnSpc>
                <a:spcPts val="3334"/>
              </a:lnSpc>
              <a:spcBef>
                <a:spcPts val="5995"/>
              </a:spcBef>
            </a:pPr>
            <a:r>
              <a:rPr b="1" lang="en-US" sz="3200" spc="-1" strike="noStrike">
                <a:solidFill>
                  <a:srgbClr val="003399"/>
                </a:solidFill>
                <a:latin typeface="PWIQOM+TimesNewRomanPS-BoldItalicMT"/>
              </a:rPr>
              <a:t>Лев Николаевич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ject 3"/>
          <p:cNvSpPr/>
          <p:nvPr/>
        </p:nvSpPr>
        <p:spPr>
          <a:xfrm>
            <a:off x="1969200" y="436680"/>
            <a:ext cx="62665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627"/>
              </a:lnSpc>
            </a:pPr>
            <a:r>
              <a:rPr b="1" lang="en-US" sz="5400" spc="-1" strike="noStrike">
                <a:solidFill>
                  <a:srgbClr val="003399"/>
                </a:solidFill>
                <a:latin typeface="PWIQOM+TimesNewRomanPS-BoldItalicMT"/>
              </a:rPr>
              <a:t>Узнай</a:t>
            </a:r>
            <a:r>
              <a:rPr b="1" lang="en-US" sz="5400" spc="1350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5400" spc="-1" strike="noStrike">
                <a:solidFill>
                  <a:srgbClr val="003399"/>
                </a:solidFill>
                <a:latin typeface="PWIQOM+TimesNewRomanPS-BoldItalicMT"/>
              </a:rPr>
              <a:t>портрет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ject 3"/>
          <p:cNvSpPr/>
          <p:nvPr/>
        </p:nvSpPr>
        <p:spPr>
          <a:xfrm>
            <a:off x="1896120" y="319680"/>
            <a:ext cx="78001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278960">
              <a:lnSpc>
                <a:spcPts val="3334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PWIQOM+TimesNewRomanPS-BoldItalicMT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23"/>
              </a:lnSpc>
              <a:spcBef>
                <a:spcPts val="51"/>
              </a:spcBef>
            </a:pPr>
            <a:r>
              <a:rPr b="1" lang="en-US" sz="5400" spc="-1" strike="noStrike">
                <a:solidFill>
                  <a:srgbClr val="003399"/>
                </a:solidFill>
                <a:latin typeface="PWIQOM+TimesNewRomanPS-BoldItalicMT"/>
              </a:rPr>
              <a:t>Узнай</a:t>
            </a:r>
            <a:r>
              <a:rPr b="1" lang="en-US" sz="5400" spc="1350" strike="noStrike">
                <a:solidFill>
                  <a:srgbClr val="003399"/>
                </a:solidFill>
                <a:latin typeface="PWIQOM+TimesNewRomanPS-BoldItalicMT"/>
              </a:rPr>
              <a:t> </a:t>
            </a:r>
            <a:r>
              <a:rPr b="1" lang="en-US" sz="5400" spc="-1" strike="noStrike">
                <a:solidFill>
                  <a:srgbClr val="003399"/>
                </a:solidFill>
                <a:latin typeface="PWIQOM+TimesNewRomanPS-BoldItalicMT"/>
              </a:rPr>
              <a:t>портрет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ject 4"/>
          <p:cNvSpPr/>
          <p:nvPr/>
        </p:nvSpPr>
        <p:spPr>
          <a:xfrm>
            <a:off x="6474960" y="2362320"/>
            <a:ext cx="2830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3399"/>
                </a:solidFill>
                <a:latin typeface="PWIQOM+TimesNewRomanPS-BoldItalicMT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ject 5"/>
          <p:cNvSpPr/>
          <p:nvPr/>
        </p:nvSpPr>
        <p:spPr>
          <a:xfrm>
            <a:off x="2574360" y="2405880"/>
            <a:ext cx="2210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3399"/>
                </a:solidFill>
                <a:latin typeface="PWIQOM+TimesNewRomanPS-BoldItalicMT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ject 6"/>
          <p:cNvSpPr/>
          <p:nvPr/>
        </p:nvSpPr>
        <p:spPr>
          <a:xfrm>
            <a:off x="2646000" y="4809960"/>
            <a:ext cx="20653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3399"/>
                </a:solidFill>
                <a:latin typeface="PWIQOM+TimesNewRomanPS-BoldItalicMT"/>
              </a:rPr>
              <a:t>И.А.Кры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ject 7"/>
          <p:cNvSpPr/>
          <p:nvPr/>
        </p:nvSpPr>
        <p:spPr>
          <a:xfrm>
            <a:off x="6690960" y="4853880"/>
            <a:ext cx="22446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</a:pPr>
            <a:r>
              <a:rPr b="1" lang="en-US" sz="2400" spc="-1" strike="noStrike">
                <a:solidFill>
                  <a:srgbClr val="003399"/>
                </a:solidFill>
                <a:latin typeface="PWIQOM+TimesNewRomanPS-BoldItalicMT"/>
              </a:rPr>
              <a:t>Л.Н.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bject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ject 3"/>
          <p:cNvSpPr/>
          <p:nvPr/>
        </p:nvSpPr>
        <p:spPr>
          <a:xfrm>
            <a:off x="2249640" y="917280"/>
            <a:ext cx="5523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584"/>
              </a:lnSpc>
            </a:pP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О ком</a:t>
            </a:r>
            <a:r>
              <a:rPr b="1" lang="en-US" sz="4400" spc="1098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4400" spc="-1" strike="noStrike">
                <a:solidFill>
                  <a:srgbClr val="003399"/>
                </a:solidFill>
                <a:latin typeface="DJRUAQ+TimesNewRomanPS-BoldMT"/>
              </a:rPr>
              <a:t>говор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ject 4"/>
          <p:cNvSpPr/>
          <p:nvPr/>
        </p:nvSpPr>
        <p:spPr>
          <a:xfrm>
            <a:off x="1118520" y="2086560"/>
            <a:ext cx="7595640" cy="31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40">
              <a:lnSpc>
                <a:spcPts val="3750"/>
              </a:lnSpc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Великолепно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зна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литератур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интересовался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театром. Бол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тридцати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лет проработал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етербургской</a:t>
            </a:r>
            <a:r>
              <a:rPr b="1" lang="en-US" sz="3600" spc="900" strike="noStrike">
                <a:solidFill>
                  <a:srgbClr val="003399"/>
                </a:solidFill>
                <a:latin typeface="DJRUAQ+TimesNewRomanPS-BoldMT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публи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50"/>
              </a:lnSpc>
              <a:spcBef>
                <a:spcPts val="519"/>
              </a:spcBef>
            </a:pPr>
            <a:r>
              <a:rPr b="1" lang="en-US" sz="3600" spc="-1" strike="noStrike">
                <a:solidFill>
                  <a:srgbClr val="003399"/>
                </a:solidFill>
                <a:latin typeface="DJRUAQ+TimesNewRomanPS-BoldMT"/>
              </a:rPr>
              <a:t>библиотеке. Писал бас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heme Office">
  <a:themeElements>
    <a:clrScheme name="Standard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dfcandle</dc:creator>
  <dc:description/>
  <dc:language>en-US</dc:language>
  <cp:lastModifiedBy>pdfcandle</cp:lastModifiedBy>
  <dcterms:modified xsi:type="dcterms:W3CDTF">2023-06-27T20:32:06Z</dcterms:modified>
  <cp:revision>1</cp:revision>
  <dc:subject/>
  <dc:title>Pre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</Properties>
</file>