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B42-9E31-4A76-8B64-2B4F73B7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646-C85F-4C58-B0DD-1B69838C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89C-3EFC-4C9C-AC74-4EE5A077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AD9-554A-4E0C-8611-5B3B5139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B4E-4D85-4744-AE31-6DDE98DA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19D-60A1-49B3-A3B8-ED315B85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17B-519B-4EBB-A319-A5DADDB9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00F-06DE-4CA6-ABA5-253871E5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BCB-1662-45A5-B5F8-6D4C0CF2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C1B-C6E9-4CF5-8CF4-220DB51F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FA0-3654-41B3-A42B-71F49BF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229-7216-48E3-A8D0-309AD230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D907-4ABF-4730-BA1E-59141405F2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904760"/>
            <a:ext cx="7270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Муниципальное автономное дошкольное образовательное 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№</a:t>
            </a:r>
            <a:r>
              <a:rPr b="1" lang="ru-RU" sz="1600" spc="-1" strike="noStrike">
                <a:solidFill>
                  <a:srgbClr val="0066cc"/>
                </a:solidFill>
                <a:latin typeface="Arial"/>
              </a:rPr>
              <a:t>1 «Сказ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2555640" y="3246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 flipV="1">
            <a:off x="380880" y="73886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914400" y="1752480"/>
            <a:ext cx="7543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йная разрабо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тематическая знайк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ашева Лидия Нурим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br>
              <a:rPr sz="2400"/>
            </a:b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2.Основная часть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аём на первую ступеньку. Эта ступенька 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е зевай – на вопросы отвеча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спитатель  бросает мяч ребёнку и даё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аши ушки на макуш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зки широко откры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опросы отвечае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 минутки не теряе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соседей ве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 весенние месяцы по поря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пропущенный месяц: декабр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вра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пропущенный месяц: октябрь,    декаб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соседей  зи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осенние месяцы по поря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зимние месяцы по поряд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й месяц идёт после январ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 месяцы по порядку: сентябрь, …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, ребята! С первым заданием вы справили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выходят на середину зала и образуют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бёнок отвечает и  возвращает мяч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0988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3"/>
          <p:cNvSpPr/>
          <p:nvPr/>
        </p:nvSpPr>
        <p:spPr>
          <a:xfrm>
            <a:off x="4876920" y="5637240"/>
            <a:ext cx="3657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гровое упражнение  способствовало   уточнению изученного материала, развитию памяти, внима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8862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4343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163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нимаемся на  вторую ступеньку. О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ется 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равни числа»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/показ на экра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163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вайте вспомним, какие бывают знаки сравнения и расставим их правильно между   числами /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каз на доске 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63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но справились с зад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ти закрепили знаки сравнения, прояв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ктивность при сравнении чисел. 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особствовало развит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тематического мыш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95320" y="609480"/>
            <a:ext cx="449604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4648320" y="2286000"/>
            <a:ext cx="4190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казывают карточки со знаками  »,«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,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=«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и уточняют, что они обознач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тичка домик поверн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м, где больше вкусн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де меньше - отвернула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чего не скушал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клювик показывает на больш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о, а уголочек на меньшее чис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по очереди выходят к доске,    расставляют  знаки между числами, читают запись и обосновывают свой выбор. Остальные выполняют задание в тетрадя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  &lt;  10             7  &gt;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  &lt;    4             6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   =   8             5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   &lt;   8             4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вять меньше десяти на один.  И т. 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0384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            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нимаемся на третью ступеньку. Она называе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Укрепи здоровье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недельник я куп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 вторник – рисов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реду долго умывал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 четверг в футбол иг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ятницу я бегал, прыг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долго танцев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 субботу, воскресен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ый день я отдых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лодцы, ребята! Мы немного отдохнули, укрепили здоровье, продолжаем наше путешествие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выходят на середину зала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ображают куп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ображают рис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ображают ум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ег на ме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ыгают.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ужатся на ме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лопки в ладош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дятся на корт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инамическая пауза позволила снять       напряжение мышц, переключить внимание с  одной деятельности на другую, восстановить работоспособност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840" indent="-168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962160" cy="243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             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4343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жаем наше занятие. До какой ступеньки мы дошл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Составь и реши задач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ята, вспомните из скольких частей состоит задач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называется каждая часть задач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мотрите на  картинку и составьте задач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спитатель выслушивает составленные задачи и выбирает задачу для решения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4280" y="609480"/>
            <a:ext cx="4191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дошли до четвёртой ступень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состоит из четырёх ча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ловие, вопрос, решение, от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орзине лежали 2 подосиновика и 1подберёзовик. Сколько всего грибов в корзин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 flipV="1">
            <a:off x="892080" y="5852520"/>
            <a:ext cx="73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 flipV="1">
            <a:off x="990720" y="57870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                           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торите условие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торите вопрос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акого арифметического действия   вы будете решать задач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жите числа, которые вы будете склады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ите решение задачи в тетради. 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тя  выйдет работать к дос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прочитает решение задач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назовёт отв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! С заданием справились отлич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533160"/>
            <a:ext cx="43434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торяют условие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торяют вопрос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у будем решать с помощью сложения.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казывают знак «+»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Я - плюс. И этим я горжу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для сложения гожу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добрый знак соединен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 том моё предназначень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ют  числа 2 и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а плюс один  равно тр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рзине лежат 3 гри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ти  имеют чёткое представление 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уктуре задачи, умеют формировать арифметическое действие. Задание способствовало развитию слухового восприятия, повышению познавательного интереса к матема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ют  числа 2 и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двум прибавить один получится т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111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рзине лежат 3 гри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ти  имеют чёткое представление о структуре задачи, умеют формировать арифметическое действие. Задание способствовало развитию слухового восприятия, повышению познавательного интереса к матема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124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504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      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4267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нимаемся н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ледующую ступеньку. Задание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айди лишнюю фигур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ята, что вы види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й команде надо правильно назвать  геометрические фигуры и  найти лишнюю фигуру. Кто готов ответить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делятся на две команды. Выходят н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редину з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видим геометрически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чают дети первой коман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метрические фигуры называются –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/перечисляют п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черед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/ квадрат, прямоугольник, ромб, овал, трапе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лишняя фигура – овал, потому что  квадрат, прямоугольник, ромб и трапеция – четырёхугольники, у них 4 угла и 4 стороны. У овала углов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чают дети  второй коман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метрические фигуры называются - /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числяют п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череди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омб, трапеция, треугольник, квадрат, прямоугольник. Лишняя фигура –  треугольник, потому что у него 3 угла и 3 стороны. Все остальные фигуры – четырёхугольники.У них 4 угла, 4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тветы детей были полными, раскрывали знания по данной тематике. Задание способствовало развитию внимания, логического мышления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>
            <a:hlinkClick r:id="" action="ppaction://hlinkshowjump?jump=nextslide"/>
          </p:cNvPr>
          <p:cNvSpPr/>
          <p:nvPr/>
        </p:nvSpPr>
        <p:spPr>
          <a:xfrm>
            <a:off x="1066680" y="2514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>
            <a:hlinkClick r:id="" action="ppaction://hlinkshowjump?jump=lastslide"/>
          </p:cNvPr>
          <p:cNvSpPr/>
          <p:nvPr/>
        </p:nvSpPr>
        <p:spPr>
          <a:xfrm>
            <a:off x="2590920" y="3581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3794" y="17810"/>
                </a:lnTo>
                <a:lnTo>
                  <a:pt x="3794" y="3797"/>
                </a:lnTo>
                <a:close/>
              </a:path>
              <a:path fill="darken" w="21600" h="21607">
                <a:moveTo>
                  <a:pt x="16144" y="3797"/>
                </a:moveTo>
                <a:lnTo>
                  <a:pt x="16144" y="17810"/>
                </a:lnTo>
                <a:lnTo>
                  <a:pt x="17806" y="17810"/>
                </a:lnTo>
                <a:lnTo>
                  <a:pt x="17806" y="37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581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191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ходим на  последнюю ступеньку. Нас ждёт     путешествие по клеточкам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фический диктант «Ключ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ядьте ровно. Положите перед собой листы бумаги и возьмите каранда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ешествие начинается с красной точки. С этой точки подниметесь на 4 клеточки вверх, одну клеточку вправо. Две клеточки вниз, одну клеточку вправо. А теперь 2 клеточки вверх, одну – вправо. Две клеточки вниз, 8 клеток вправо, 4 – вверх. Будьте очень внимательны. 5 клеток вправо, 10 клеток вниз, 5 клеток влево, 4 клеток вверх и 11 клеток влево.  Всё. Положили карандаш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же  получилос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 помните, для чего он нам нуже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ьно! Со всеми заданиями вы справились и преодолели путь от детского сада до школы . Мы убедились, что у каждого из вас есть все необходимые знания, чтобы хорошо учиться в школе./Имитация открытия двери ключом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ери школы открыты!!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пишут графический дик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ас получился ключ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/Дети показывают свои работы/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юч нужен, чтобы  открыть дверь школ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и выполнении задания дети  показали умение ориентироваться на листе бумаги в клетку, самостоятельно применять накопленный опыт, проявили настойчивость, целеустремлённость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14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готовление цветка из  гофрированной бум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сентября дети идут в школу с красивыми цветами. Я предлагаю вам сделать цветы из гофрированной бумаг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/Показ образца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зовите инструменты и материалы, с которыми мы будем рабо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вайте вспомним порядок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ята, подойдите к экрану с цве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 когда же вы успели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внезапно повзрослели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а ждёт с цветами вас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астоящий первый класс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038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ски разрезаем « расчёской» /режем не до конца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ного завиваем конч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ручиваем разрезанную полоску на соломку, предварительно смазав кле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бель обмотаем полоской зелёной бум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мостоятельно выполняют работ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вучит музыка В.Шаинского.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страиваются перед экраном с        цве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дуктивная деятельность стимулировала развитие творческого мышления детей, доставила  удовольствие  от  самостоятельных трудовых  действий и, особенно, полученного результата (красивого цветк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809880" cy="2209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733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             </a:t>
            </a:r>
            <a:r>
              <a:rPr b="1" lang="ru-RU" sz="24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br>
              <a:rPr sz="2400"/>
            </a:b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Заключительная ч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ята, какое задание вам показалось наиболее интересны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какой  ступеньке  задания показались наиболее сложны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больше всего понравилось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мне больше всего понравилось, как вы сегодня все дружно, активно работали. И на память о необычном занятии  вам подарки: звездо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 красной звездочки означает - «считаю, что со всеми заданиями справился хорош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 зелёной - «считаю, что справился с заданиями хорошо, но при помощи воспитател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дцы! Так держать!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вучит музыка В. Шаинского «Учат в школ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837720"/>
            <a:ext cx="4190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делятся своими впечатления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выбирают звёздочку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 протяжении всей непосредственно образовательной деятельности дети  показали не только знания, полученные на занятиях по формированию элементарных математических представлений, но и умение последовательно и логически мыслить, догадываться, умственно напрягаться. Дети  планировали свои действия, обдумывали их, искали ответ, догадывались о результате, проявляя при этом  творче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акая работа активизировала мыслительную деятельность  дет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вивала у них качества, необходимые для обучения в шко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4114800" cy="2361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38102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cc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ть учить детей применять знания, полученные на занятиях по формированию у детей элементарных математических предст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a800"/>
                </a:solidFill>
                <a:latin typeface="Arial"/>
              </a:rPr>
              <a:t>Образовательны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ять умение детей самостоятельно составлять и решать задачи на сложение, учить выделять в задаче условие, вопрос, решение и отв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чнять знания последовательности  времен и месяцев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жнять в понимании отношений рядом стоящих чисел в пределах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ть умение правильно называть знакомые геометрические фигуры, видеть их характерные отлич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ять трудовые навыки и ум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работе с гофрированной бумаг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a800"/>
                </a:solidFill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 умение ориентироваться на листе бумаги в клетку, выполнять задания по словесной инстр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внимание,  память, логическое мыш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мелкую моторику пальцев ру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развитию конструкторских способ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a800"/>
                </a:solidFill>
                <a:latin typeface="Arial"/>
              </a:rPr>
              <a:t>Воспитательные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ть целеустремленность, устойчивый интерес к математическим зна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 позитивную мотивацию к обучению в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Интеграция образовательных обл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295280" y="2209680"/>
            <a:ext cx="2514600" cy="10670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о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048120" y="4038480"/>
            <a:ext cx="2514600" cy="1067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5105520" y="2133720"/>
            <a:ext cx="2438280" cy="10666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еств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те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1295280" y="342900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5943600" y="3505320"/>
            <a:ext cx="1447920" cy="11430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3"/>
          <p:cNvSpPr/>
          <p:nvPr/>
        </p:nvSpPr>
        <p:spPr>
          <a:xfrm>
            <a:off x="3581280" y="1295280"/>
            <a:ext cx="1752840" cy="533520"/>
          </a:xfrm>
          <a:custGeom>
            <a:avLst/>
            <a:gdLst>
              <a:gd name="textAreaLeft" fmla="*/ 306720 w 1752840"/>
              <a:gd name="textAreaRight" fmla="*/ 1270800 w 17528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Виды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304920" y="2057400"/>
            <a:ext cx="2590560" cy="762120"/>
          </a:xfrm>
          <a:prstGeom prst="roundRect">
            <a:avLst>
              <a:gd name="adj" fmla="val 16667"/>
            </a:avLst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ру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зличных матери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095880" y="2057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тельно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следователь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295280" y="3962520"/>
            <a:ext cx="2590920" cy="761760"/>
          </a:xfrm>
          <a:prstGeom prst="roundRect">
            <a:avLst>
              <a:gd name="adj" fmla="val 16667"/>
            </a:avLst>
          </a:prstGeom>
          <a:solidFill>
            <a:srgbClr val="8dc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257800" y="3962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8dc6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4495680" y="114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 flipH="1">
            <a:off x="1828440" y="12193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5410080" y="1219320"/>
            <a:ext cx="1752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 flipH="1">
            <a:off x="2590560" y="1295280"/>
            <a:ext cx="16002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4724280" y="1295280"/>
            <a:ext cx="14479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 flipV="1">
            <a:off x="304920" y="2359440"/>
            <a:ext cx="25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Материалы и оборудование.</a:t>
            </a:r>
            <a:br>
              <a:rPr sz="2800"/>
            </a:b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Демонстрационный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имедийные технологии: проектор, компьютер, экр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удиокассета с записью музыки В.Шаинского «Учат в школе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я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плаката с парами чисе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омас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обие, на котором изображена  корзи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гуры гри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 геометрических фиг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ец цветка; учебная до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Раздаточн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ые каранда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чие тетрад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ты в клетку для графического дикта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ноцветные полоски гофрированной бума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ей-карандаш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жниц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ктейльные солом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лфет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ёзд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56649_html_m7c14ae9"/>
          <p:cNvPicPr/>
          <p:nvPr/>
        </p:nvPicPr>
        <p:blipFill>
          <a:blip r:embed="rId1"/>
          <a:stretch/>
        </p:blipFill>
        <p:spPr>
          <a:xfrm>
            <a:off x="5638680" y="251460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Предвари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ние альбома «Школа – это так важн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еды на тему «Скоро в школ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дидактических игр и игровых упражнений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адывание загадок о цифрах, математических зна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учивание стихов о математических зна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графических дикта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готовление цветов из гофрированной бум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i?id=340959194-60-72&amp;n=21"/>
          <p:cNvPicPr/>
          <p:nvPr/>
        </p:nvPicPr>
        <p:blipFill>
          <a:blip r:embed="rId1"/>
          <a:stretch/>
        </p:blipFill>
        <p:spPr>
          <a:xfrm>
            <a:off x="4952880" y="3809880"/>
            <a:ext cx="358164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Picture 6" descr="i?id=678089198-70-72&amp;n=21"/>
          <p:cNvPicPr/>
          <p:nvPr/>
        </p:nvPicPr>
        <p:blipFill>
          <a:blip r:embed="rId2"/>
          <a:stretch/>
        </p:blipFill>
        <p:spPr>
          <a:xfrm>
            <a:off x="609480" y="3809880"/>
            <a:ext cx="365760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a8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1.Вводная ча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ведение в тему)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2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2.Основная част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актическая деятельность)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25мин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овое упражнение «Не зевай–на вопросы отвечай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«Сравни числа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еская пауза «Укрепи здоровье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«Составь и реши задачу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4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овое упражнение «Найди лишнюю фигуру» 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й диктант «Ключ» </a:t>
            </a:r>
            <a:r>
              <a:rPr b="0" lang="ru-RU" sz="1800" spc="-1" strike="noStrike">
                <a:solidFill>
                  <a:srgbClr val="00a8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е цветов из гофрированной бумаги –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5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.Заключительная ча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дведение итогов) –</a:t>
            </a: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3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229248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2"/>
          <a:stretch/>
        </p:blipFill>
        <p:spPr>
          <a:xfrm>
            <a:off x="0" y="3962520"/>
            <a:ext cx="3048120" cy="28954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8"/>
          <p:cNvSpPr/>
          <p:nvPr/>
        </p:nvSpPr>
        <p:spPr>
          <a:xfrm>
            <a:off x="2971800" y="6553080"/>
            <a:ext cx="6172200" cy="304920"/>
          </a:xfrm>
          <a:prstGeom prst="rect">
            <a:avLst/>
          </a:prstGeom>
          <a:solidFill>
            <a:srgbClr val="3486d9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3429000" y="6248520"/>
            <a:ext cx="5715000" cy="304560"/>
          </a:xfrm>
          <a:prstGeom prst="rect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1"/>
          <p:cNvSpPr/>
          <p:nvPr/>
        </p:nvSpPr>
        <p:spPr>
          <a:xfrm>
            <a:off x="3962520" y="5943600"/>
            <a:ext cx="5181480" cy="304920"/>
          </a:xfrm>
          <a:prstGeom prst="rect">
            <a:avLst/>
          </a:prstGeom>
          <a:solidFill>
            <a:srgbClr val="ffc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2"/>
          <p:cNvSpPr/>
          <p:nvPr/>
        </p:nvSpPr>
        <p:spPr>
          <a:xfrm>
            <a:off x="4495680" y="5638680"/>
            <a:ext cx="4648320" cy="304920"/>
          </a:xfrm>
          <a:prstGeom prst="rect">
            <a:avLst/>
          </a:prstGeom>
          <a:solidFill>
            <a:srgbClr val="00b05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3"/>
          <p:cNvSpPr/>
          <p:nvPr/>
        </p:nvSpPr>
        <p:spPr>
          <a:xfrm>
            <a:off x="5029200" y="5334120"/>
            <a:ext cx="4114800" cy="304560"/>
          </a:xfrm>
          <a:prstGeom prst="rect">
            <a:avLst/>
          </a:prstGeom>
          <a:solidFill>
            <a:srgbClr val="00b0f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4"/>
          <p:cNvSpPr/>
          <p:nvPr/>
        </p:nvSpPr>
        <p:spPr>
          <a:xfrm>
            <a:off x="5562720" y="5029200"/>
            <a:ext cx="3581280" cy="304920"/>
          </a:xfrm>
          <a:prstGeom prst="rect">
            <a:avLst/>
          </a:prstGeom>
          <a:solidFill>
            <a:srgbClr val="7030a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Структура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Методы и приё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Словес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просы, повторение, уточнение, напоминание, исправление ошибо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Наглядн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льтимедийные технологии, учебная дос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Практиче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математическ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жнений с использованием дидактического матери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Игров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овой сюжет «подъём по ступенькам от д/с до школы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Методы контр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выполненных заданий, самооценка детьми результат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0"/>
            <a:ext cx="3581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800"/>
                </a:solidFill>
                <a:latin typeface="Arial"/>
              </a:rPr>
              <a:t>Ввод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бята, пройдёт совсем немного времени и вы станете школьниками. Когда это случит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редлагаю вам поиграть в игру «Скоро в школу». Перед вами игровое поле /показ на экране/, на котором изображены детский сад и шко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ите месторасположение детского с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расположена школ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ильно! Нам необходимо преодолеть расстояние от детского сада до школы по ступенькам, на  которых даны задания. По пути к школе мы будем останавливаться на каждой ступеньке, выполнять задание и подниматься на следующую ступеньку. Если мы выполним все задания, то сможем  дойти до школы и  открыть дверь школы ключ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a8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28600" y="609480"/>
            <a:ext cx="4038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85800" y="1523880"/>
            <a:ext cx="3809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04920" y="685800"/>
            <a:ext cx="4190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685800"/>
            <a:ext cx="4419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3505320" y="11430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838080" y="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1936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cc"/>
                </a:solidFill>
                <a:uFillTx/>
                <a:latin typeface="Arial"/>
              </a:rPr>
              <a:t>Деятельность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ети  встают полукругом перед экра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вый день осени, 1 сентяб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ский сад находится в левом нижнем углу.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а  находится в  правом верхнем уг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водная часть непосредственной образовательной деятельности предполагала  организацию детей: переключение внимания на предстоящую деятельность, создание эмоционального настроя, объяснение. Для формирования целеполагания и интереса к предстоящей деятельности с помощью мультимедийных технологий был применён игровой приём (выполнение заданий по ступенькам от детского сада до школ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28600" y="5029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1143000" y="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990720" y="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43000" y="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6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80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4T00:58:52Z</dcterms:created>
  <dc:creator>Admin</dc:creator>
  <dc:description/>
  <dc:language>en-US</dc:language>
  <cp:lastModifiedBy>Лида</cp:lastModifiedBy>
  <dcterms:modified xsi:type="dcterms:W3CDTF">2023-06-27T17:56:03Z</dcterms:modified>
  <cp:revision>2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