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366-6F8D-4AB3-922B-5DE8B978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CF5-5E1A-461C-9881-6B853D8B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22F-8119-434B-A47A-868772B9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C67-49F4-42D1-961D-DE35FA12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FC2-0260-43A8-B67F-1A52E1F0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6DC-0879-4D24-87D6-A3CBF056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046-B9F7-468F-B21C-7571E8EB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E4C-2A16-425A-BAA5-BEC7536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EF0-6CE7-4E47-908F-AAAE60DC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E49-5B81-4BF0-A990-2F7F29E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C0B-B1D4-45FB-BE3B-A697F24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31D-9755-4AF0-9F6D-CC31939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C367-FBA7-4FEB-BC37-C2C843199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7270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Муниципальное автономное дошкольное образовательное 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№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1 «Сказ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255564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flipV="1">
            <a:off x="380880" y="7388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914400" y="1752480"/>
            <a:ext cx="7543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йная разрабо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тематическая знай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ашева Лидия Нурим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.Основная часть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ём на первую ступеньку. Эта ступенька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е зевай – на вопросы отвеча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спитатель  бросает мяч ребёнку и даё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ши ушки на мак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зки широко откр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просы отвеча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минутки не теряе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соседей в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 весен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пропущенный месяц: декабр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вра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пропущенный месяц: октябрь,    декаб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соседей  зи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осен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зим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й месяц идёт после январ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месяцы по порядку: сентябрь, …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, ребята! С первым заданием вы справили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выходят на середину зала и образуют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бёнок отвечает и  возвращает мяч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"/>
          <p:cNvSpPr/>
          <p:nvPr/>
        </p:nvSpPr>
        <p:spPr>
          <a:xfrm>
            <a:off x="4876920" y="5637240"/>
            <a:ext cx="365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гровое упражнение  способствовало   уточнению изученного материала, развитию памяти, вним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886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  вторую ступеньку. О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 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равни числа»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оказ на экра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вайте вспомним, какие бывают знаки сравнения и расставим их правильно между   числами 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 на доске 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но справились с зад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закрепили знаки сравнения, прояв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ость при сравнении чисел. 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собствовало развит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тематического мыш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95320" y="609480"/>
            <a:ext cx="449604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648320" y="2286000"/>
            <a:ext cx="4190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ывают карточки со знаками  »,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,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=«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и уточняют, что они обознач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тичка домик поверн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м, где больше вкус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де меньше - отвернула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чего не скушал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клювик показывает на больш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, а уголочек на меньшее чи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по очереди выходят к доске,    расставляют  знаки между числами, читают запись и обосновывают свой выбор. Остальные выполняют задание в тетрадя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  &lt;  10             7  &gt;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  &lt;    4             6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   =   8             5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   &lt;   8             4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ять меньше десяти на один.  И т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 третью ступеньку. Она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Укрепи здоровь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недельник я куп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 вторник – рисо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у долго умыва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четверг в футбол иг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ятницу я бегал, прыг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долго танце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субботу, воскресен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ый день я отдых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лодцы, ребята! Мы немного отдохнули, укрепили здоровье, продолжаем наше путешествие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выходят на середину зала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куп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рис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ум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ег на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ыгают.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ужатся на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лопки в ладо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дятся на кор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намическая пауза позволила снять       напряжение мышц, переключить внимание с  одной деятельности на другую, восстановить работоспособност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6216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4343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наше занятие. До какой ступеньки мы дош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оставь и реши задач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вспомните из скольких частей состоит задач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азывается каждая часть задач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мотрите на  картинку и составьте зада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спитатель выслушивает составленные задачи и выбирает задачу для решения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4280" y="6094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дошли до четвёртой ступень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состоит из четырёх ча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овие, вопрос, решение,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рзине лежали 2 подосиновика и 1подберёзовик. Сколько всего грибов в корзин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 flipV="1">
            <a:off x="892080" y="5852520"/>
            <a:ext cx="73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 flipV="1">
            <a:off x="990720" y="5787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ите услови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ите вопрос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акого арифметического действия   вы будете решать задач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 числа, которые вы будете склады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решение задачи в тетради. 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я  выйдет работать к до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прочитает решение задач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назовёт отв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 С заданием справились отлич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4343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яют услови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яют вопрос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у будем решать с помощью сложения.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ывают знак «+»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Я - плюс. И этим я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ля сложения гожу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обрый знак соединен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том моё предназначень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ют  числа 2 и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а плюс один  равно тр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рзине лежат 3 гри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 имеют чёткое представление 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уктуре задачи, умеют формировать арифметическое действие. Задание способствовало развитию слухового восприятия, повышению познавательного интереса к матема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ют  числа 2 и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двум прибавить один получится т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рзине лежат 3 гри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 имеют чёткое представление о структуре задачи, умеют формировать арифметическое действие. Задание способствовало развитию слухового восприятия, повышению познавательного интереса к матема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04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ледующую ступеньку. Задание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айди лишнюю фигур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что вы види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й команде надо правильно назвать  геометрические фигуры и  найти лишнюю фигуру. Кто готов ответит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делятся на две команды. Выходят н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редину з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идим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чают дети первой коман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ческие фигуры называются –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еречисляют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черед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 квадрат, прямоугольник, ромб, овал, трапе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лишняя фигура – овал, потому что  квадрат, прямоугольник, ромб и трапеция – четырёхугольники, у них 4 угла и 4 стороны. У овала углов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чают дети  второй коман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ческие фигуры называются - 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числяют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череди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омб, трапеция, треугольник, квадрат, прямоугольник. Лишняя фигура –  треугольник, потому что у него 3 угла и 3 стороны. Все остальные фигуры – четырёхугольники.У них 4 угла, 4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веты детей были полными, раскрывали знания по данной тематике. Задание способствовало развитию внимания, логического мышления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>
            <a:off x="1066680" y="2514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" action="ppaction://hlinkshowjump?jump=lastslide"/>
          </p:cNvPr>
          <p:cNvSpPr/>
          <p:nvPr/>
        </p:nvSpPr>
        <p:spPr>
          <a:xfrm>
            <a:off x="2590920" y="3581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581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ходим на  последнюю ступеньку. Нас ждёт     путешествие по клеточкам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ческий диктант «Ключ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ядьте ровно. Положите перед собой листы бумаги и возьмите каранд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ешествие начинается с красной точки. С этой точки подниметесь на 4 клеточки вверх, одну клеточку вправо. Две клеточки вниз, одну клеточку вправо. А теперь 2 клеточки вверх, одну – вправо. Две клеточки вниз, 8 клеток вправо, 4 – вверх. Будьте очень внимательны. 5 клеток вправо, 10 клеток вниз, 5 клеток влево, 4 клеток вверх и 11 клеток влево.  Всё. Положили каранда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же  получ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помните, для чего он нам нуже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! Со всеми заданиями вы справились и преодолели путь от детского сада до школы . Мы убедились, что у каждого из вас есть все необходимые знания, чтобы хорошо учиться в школе./Имитация открытия двери ключом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 школы открыты!!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пишут графический дик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ас получился ключ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/Дети показывают свои работы/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 нужен, чтобы  открыть дверь школ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 выполнении задания дети  показали умение ориентироваться на листе бумаги в клетку, самостоятельно применять накопленный опыт, проявили настойчивость, целеустремлённост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1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готовление цветка из  гофрированной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сентября дети идут в школу с красивыми цветами. Я предлагаю вам сделать цветы из гофрированной бумаг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оказ образца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зовите инструменты и материалы, с которыми мы будем рабо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вайте вспомним порядок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подойдите к экрану с цве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 когда же вы успел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внезапно повзрослели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а ждёт с цветами вас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стоящий первый класс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ски разрезаем « расчёской» /режем не до конца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ного завиваем конч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ручиваем разрезанную полоску на соломку, предварительно смазав кле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бель обмотаем полоской зелёной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мостоятельно выполняют рабо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вучит музыка В.Шаинского.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траиваются перед экраном с        цве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дуктивная деятельность стимулировала развитие творческого мышления детей, доставила  удовольствие  от  самостоятельных трудовых  действий и, особенно, полученного результата (красивого цветк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733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Заключительная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какое задание вам показалось наиболее интерес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какой  ступеньке  задания показались наиболее сложны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больше всего понравилось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мне больше всего понравилось, как вы сегодня все дружно, активно работали. И на память о необычном занятии  вам подарки: звезд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красной звездочки означает - «считаю, что со всеми заданиями справился хорош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зелёной - «считаю, что справился с заданиями хорошо, но при помощи воспитател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 Так держать!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вучит музыка В. Шаинского «Учат в школ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делятся своими впечатления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выбирают звёздочк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протяжении всей непосредственно образовательной деятельности дети  показали не только знания, полученные на занятиях по формированию элементарных математических представлений, но и умение последовательно и логически мыслить, догадываться, умственно напрягаться. Дети  планировали свои действия, обдумывали их, искали ответ, догадывались о результате, проявляя при этом  творч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кая работа активизировала мыслительную деятельность  дет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ла у них качества, необходимые для обучения в шко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810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ть учить детей применять знания, полученные на занятиях по формированию у детей элементарных 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Образовательны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ть умение детей самостоятельно составлять и решать задачи на сложение, учить выделять в задаче условие, вопрос, решение и от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ять знания последовательности  времен и месяцев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ять в понимании отношений рядом стоящих чисел в пределах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умение правильно называть знакомые геометрические фигуры, видеть их характерные отли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ть трудовые навыки и ум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работе с гофрированной бума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 умение ориентироваться на листе бумаги в клетку, выполнять задания по словесной и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внимание,  память, логическ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мелкую моторику пальцев ру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развитию конструкторских способ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Воспитательные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целеустремленность, устойчивый интерес к математическим зн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озитивную мотивацию к обучению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Интеграция образовательных обл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295280" y="2209680"/>
            <a:ext cx="2514600" cy="10670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о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048120" y="4038480"/>
            <a:ext cx="2514600" cy="1067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105520" y="213372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еств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т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295280" y="342900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5943600" y="3505320"/>
            <a:ext cx="1447920" cy="11430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3"/>
          <p:cNvSpPr/>
          <p:nvPr/>
        </p:nvSpPr>
        <p:spPr>
          <a:xfrm>
            <a:off x="3581280" y="1295280"/>
            <a:ext cx="1752840" cy="533520"/>
          </a:xfrm>
          <a:custGeom>
            <a:avLst/>
            <a:gdLst>
              <a:gd name="textAreaLeft" fmla="*/ 306720 w 1752840"/>
              <a:gd name="textAreaRight" fmla="*/ 1270800 w 17528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Виды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04920" y="2057400"/>
            <a:ext cx="2590560" cy="762120"/>
          </a:xfrm>
          <a:prstGeom prst="roundRect">
            <a:avLst>
              <a:gd name="adj" fmla="val 16667"/>
            </a:avLst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зличных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095880" y="2057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о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295280" y="39625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257800" y="3962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8dc6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495680" y="114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 flipH="1">
            <a:off x="1828440" y="12193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5410080" y="121932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 flipH="1">
            <a:off x="2590560" y="12952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4724280" y="1295280"/>
            <a:ext cx="1447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 flipV="1">
            <a:off x="304920" y="2359440"/>
            <a:ext cx="25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Материалы и оборудование.</a:t>
            </a:r>
            <a:br>
              <a:rPr sz="28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Демонстрационный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медийные технологии: проектор, компьютер, экр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удиокассета с записью музыки В.Шаинского «Учат в школе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плаката с парами чис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омас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обие, на котором изображена  корз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гуры гри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геометрических фиг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ец цветка; учебная д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Раздаточ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ые каранда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чие тетрад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ы в клетку для графического дик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цветные полоски гофрированной бума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ей-карандаш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ктейльные солом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лфе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ёзд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56649_html_m7c14ae9"/>
          <p:cNvPicPr/>
          <p:nvPr/>
        </p:nvPicPr>
        <p:blipFill>
          <a:blip r:embed="rId1"/>
          <a:stretch/>
        </p:blipFill>
        <p:spPr>
          <a:xfrm>
            <a:off x="5638680" y="25146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Предвари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альбома «Школа – это так важ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ы на тему «Скоро в школ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дидактических игр и игровых упражнений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ывание загадок о цифрах, математических зна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учивание стихов о математических зна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графических дикт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цветов из гофрированной бум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?id=340959194-60-72&amp;n=21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6" descr="i?id=678089198-70-72&amp;n=21"/>
          <p:cNvPicPr/>
          <p:nvPr/>
        </p:nvPicPr>
        <p:blipFill>
          <a:blip r:embed="rId2"/>
          <a:stretch/>
        </p:blipFill>
        <p:spPr>
          <a:xfrm>
            <a:off x="609480" y="3809880"/>
            <a:ext cx="365760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a8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1.Вводная ча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ведение в тему)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.Основная ча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актическая деятельность)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5мин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ое упражнение «Не зевай–на вопросы отвечай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«Сравни числа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ая пауза «Укрепи здоровье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«Составь и реши задачу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4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ое упражнение «Найди лишнюю фигуру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диктант «Ключ» 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цветов из гофрированной бумаги –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.Заключительная ч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дведение итогов) –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229248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0" y="396252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8"/>
          <p:cNvSpPr/>
          <p:nvPr/>
        </p:nvSpPr>
        <p:spPr>
          <a:xfrm>
            <a:off x="2971800" y="6553080"/>
            <a:ext cx="6172200" cy="304920"/>
          </a:xfrm>
          <a:prstGeom prst="rect">
            <a:avLst/>
          </a:prstGeom>
          <a:solidFill>
            <a:srgbClr val="3486d9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3429000" y="6248520"/>
            <a:ext cx="5715000" cy="304560"/>
          </a:xfrm>
          <a:prstGeom prst="rect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3962520" y="5943600"/>
            <a:ext cx="518148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4495680" y="5638680"/>
            <a:ext cx="464832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5029200" y="5334120"/>
            <a:ext cx="4114800" cy="3045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4"/>
          <p:cNvSpPr/>
          <p:nvPr/>
        </p:nvSpPr>
        <p:spPr>
          <a:xfrm>
            <a:off x="5562720" y="5029200"/>
            <a:ext cx="3581280" cy="304920"/>
          </a:xfrm>
          <a:prstGeom prst="rect">
            <a:avLst/>
          </a:prstGeom>
          <a:solidFill>
            <a:srgbClr val="7030a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труктур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Методы и приё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Словес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просы, повторение, уточнение, напоминание, исправление ошибо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Нагляд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льтимедийные технологии, учебная дос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Практи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математическ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й с использованием дидактическ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Игр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й сюжет «подъём по ступенькам от д/с до школы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Методы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ных заданий, самооценка детьми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Ввод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бята, пройдёт совсем немного времени и вы станете школьниками. Когда это случит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едлагаю вам поиграть в игру «Скоро в школу». Перед вами игровое поле /показ на экране/, на котором изображены детский сад и шк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е месторасположение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расположена шко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! Нам необходимо преодолеть расстояние от детского сада до школы по ступенькам, на  которых даны задания. По пути к школе мы будем останавливаться на каждой ступеньке, выполнять задание и подниматься на следующую ступеньку. Если мы выполним все задания, то сможем  дойти до школы и  открыть дверь школы ключ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a8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28600" y="609480"/>
            <a:ext cx="4038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5800" y="15238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04920" y="685800"/>
            <a:ext cx="4190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685800"/>
            <a:ext cx="4419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505320" y="11430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838080" y="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 встают полукругом перед экра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вый день осени, 1 сентяб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ский сад находится в левом нижнем углу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а  находится в  правом верхнем уг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водная часть непосредственной образовательной деятельности предполагала  организацию детей: переключение внимания на предстоящую деятельность, создание эмоционального настроя, объяснение. Для формирования целеполагания и интереса к предстоящей деятельности с помощью мультимедийных технологий был применён игровой приём (выполнение заданий по ступенькам от детского сада до школ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114300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99072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4300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6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80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4T00:58:52Z</dcterms:created>
  <dc:creator>Admin</dc:creator>
  <dc:description/>
  <dc:language>en-US</dc:language>
  <cp:lastModifiedBy>Лида</cp:lastModifiedBy>
  <dcterms:modified xsi:type="dcterms:W3CDTF">2023-06-27T17:56:03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