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863-7A42-41D0-BA64-41290AC9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2F2-A698-4EA7-96CC-FD59B2D0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B1B-EF6B-4FB2-BD3D-80420549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1FD-4BD2-4634-AFDC-0F403674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4A46-18FB-4C57-BECC-DFD6324B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D30-4793-479A-8AC7-15B887BE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7989-77C9-4ED2-B0E2-38460B4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2C11-F2B8-4634-ABB9-39245FB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9542-3464-491E-9799-6C532FA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A416-4043-4A8A-BEB8-90B191CC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B6AC-7268-4588-A78F-338F9CC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174-4E61-41E8-A925-596E0E8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060-8B60-4204-8966-74CE5EE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A8AB-E417-40DD-AD63-988FB7B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6576-B518-496E-A9D0-90DE130D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B52-8199-457C-86D4-98667648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88D3-9089-435C-974E-DB184CFF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C40-B729-4567-AA5D-0593531F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759-7328-40DA-AF1A-15CABB0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1A3-CDF4-42D5-9203-A92C5442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DF4-9CCE-4221-9B34-7F15742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01A-DD98-4858-8F61-1BF4284A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FEE-70B7-4054-8CF9-E618A03A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40B-D27D-4511-B705-1EFA525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ACD7-8BE8-4414-AC8D-B9F5EC37FC8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71D2-FB88-4568-A75B-045EDCCEBFE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775640" cy="180036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ФГОС: изменения в деятельности участников образовательного процесса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новление педагогической деятельности учителя в условиях введения ФГОС второго поко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6160" y="2646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551520"/>
            <a:ext cx="619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166240" cy="588960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моподготовку к деятельности в рамках нового стандарта можно условно разделить на три этап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комство с Федеральным государственным стандарт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владение умением планировать уроки, направленные на получение метапредметных и личностных результатов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владение умением конструировать уроки с использованием современных образовательных технологий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415360" cy="5502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яю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вательны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муникатив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регулятивные универсальные учебные      действ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9800" y="6858000"/>
            <a:ext cx="3771720" cy="10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4608360"/>
            <a:ext cx="17686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8748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7696080" cy="5759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ыми методическими принципами современного урока являют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убъектива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еник становится равноправным участником образовательного процесса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метапредмет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формируются универсальные учебные действия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деятельност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ащиеся самостоятельно добывают знания в ходе поисковой и исследовательской деятельности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ефлексивность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учащиеся становятся в ситуацию, когда необходимо проанализировать свою деятельность на уроке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мпровизацион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итель должен быть готов к изменениям и коррекции «хода урока» в процессе его проведения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476280"/>
            <a:ext cx="7993080" cy="561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рок должен включать следующие шесть основных этап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обилиз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осознание недостаточности         имеющихся знаний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оммуник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заимопроверка, взаимоконтроль;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• рефлек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1589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</cp:lastModifiedBy>
  <dcterms:modified xsi:type="dcterms:W3CDTF">2012-10-26T14:26:10Z</dcterms:modified>
  <cp:revision>8</cp:revision>
  <dc:subject/>
  <dc:title>PowerPoint Presentation</dc:title>
</cp:coreProperties>
</file>