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98D-446C-4983-B55C-AEF39B6C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533-99A5-48CE-A8B8-3A402E3A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619-6A86-49F2-9A1E-DA51E268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532-C48F-43EA-A84E-502B2FFD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691D-DACC-416F-B17F-87AB113C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8494-7ECA-446E-A922-D8284F13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FC6E-4B06-44C2-BE10-65A6FE53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A2F9-E279-48F1-9359-A217C92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D38-42D4-4C8F-9374-05B43EF7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F9FC-4BD3-4E9A-8699-C43B1F11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4BCC-DDDD-4655-AA99-61E6272A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656-5C5B-44DB-9BFF-F4FB5C3C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5791-4E71-4F89-A6E9-BE48E75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5CC-B8A1-476C-BB9F-81E6384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0A66-47EB-4CF5-8077-B1122FB6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37C1-BF09-4A21-BFA3-87A40092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E262-875A-410D-A34B-FEA46B31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926-AF93-4CB7-9EC9-3822FFD4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063-DC64-4887-B1FF-BECB038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BF0-5CD5-400A-B942-9E5D0C96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EF1-E1A7-4451-9D27-0D3803E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3F2-2E5B-47E3-9B90-4F37E54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69D-29DE-4B46-8386-662DB4B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4A5-7DC9-45A5-B498-8C26D2F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6B5-B32B-409B-8C40-05ED800D27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C5A-D692-45C9-AE38-A8537BAD47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775640" cy="180036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ФГОС: изменения в деятельности участников образовательного процесса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новление педагогической деятельности учителя в условиях введения ФГОС второго поко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6160" y="264636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551520"/>
            <a:ext cx="619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166240" cy="5889600"/>
          </a:xfrm>
          <a:prstGeom prst="rect">
            <a:avLst/>
          </a:prstGeom>
          <a:solidFill>
            <a:srgbClr val="ff9966"/>
          </a:solidFill>
          <a:ln w="9360">
            <a:solidFill>
              <a:srgbClr val="ff9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моподготовку к деятельности в рамках нового стандарта можно условно разделить на три этап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комство с Федеральным государственным стандарт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владение умением планировать уроки, направленные на получение метапредметных и личностных результатов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владение умением конструировать уроки с использованием современных образовательных технологий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415360" cy="5502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деляют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знавательны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ммуникативны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регулятивные универсальные учебные      действ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09800" y="6858000"/>
            <a:ext cx="3771720" cy="100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5880" y="4608360"/>
            <a:ext cx="17686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-8748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333000"/>
            <a:ext cx="7696080" cy="57596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новными методическими принципами современного урока являютс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убъективац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ченик становится равноправным участником образовательного процесса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метапредмет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формируются универсальные учебные действия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деятельност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чащиеся самостоятельно добывают знания в ходе поисковой и исследовательской деятельности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рефлексивность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учащиеся становятся в ситуацию, когда необходимо проанализировать свою деятельность на уроке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импровизацион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учитель должен быть готов к изменениям и коррекции «хода урока» в процессе его проведения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000" y="476280"/>
            <a:ext cx="7993080" cy="5616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рок должен включать следующие шесть основных этап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мобилизац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целеполаг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осознание недостаточности         имеющихся знаний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оммуникац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 •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заимопроверка, взаимоконтроль;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• рефлекс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15892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</cp:lastModifiedBy>
  <dcterms:modified xsi:type="dcterms:W3CDTF">2012-10-26T14:26:10Z</dcterms:modified>
  <cp:revision>8</cp:revision>
  <dc:subject/>
  <dc:title>PowerPoint Presentation</dc:title>
</cp:coreProperties>
</file>