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91A9-CE28-477F-B8AC-EBE885B7A4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объяснения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ет на прямоугольник «Алгоритм» – последовательно два раза. После появления первого прямоугольника нажимаем на него четыре раза, до полного построения графика.  Действия на слайде настроены в автоматическом режиме. После появления второго прямоугольника нажимаем один раз для визуализации наглядного ответа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41D-FAC2-4B0F-A99A-E7055FA16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201C-E2BE-4E6F-B8FB-1ACE115A5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02B-B4EF-4233-BC4E-09D324CA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38E-DFEE-4E72-8C17-3C9EFC14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902-FDC8-4142-A77A-A97FB0A1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E12-6328-4B20-AD3E-DDCF5009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61F9-B177-4B7B-82C9-9B129F0C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46E6-97C3-4254-9EF0-440E132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AF1-A41E-4B2E-B63A-90DFD793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A26-58E4-423D-8480-BF4EE841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594B-9B63-4380-9C2B-82C7BFB5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5D8-4A0B-4FF3-B984-B9210C3F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DFF8-6837-43FB-80AF-AAA76F5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B24-E13D-4DF0-9FA9-E911E5E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3B2F-740C-492A-A073-6B90B23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431-EDE4-4833-9401-4FDE4E9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B7A-B33D-4475-A10B-1C3F55B4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27DC-4FCC-442E-933F-DE524512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6D4E-B197-4234-959A-8B0C8706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46D0-2744-4BDF-B2B9-4D9723DB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83C6-AA41-466A-AC09-939EDE53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E22A7-5316-4D36-8051-ED70271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3805-74B1-475F-A3A7-622AB3A6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A09F-F45B-460E-90FC-3F34151B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A39-618B-4403-A1A0-7B8B7BBF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704F-0E85-4EAC-B64B-0397E3AF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46EB-D23A-4184-8A7C-29832E3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5ABB-D8F1-41AA-B890-9189807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43BDA-00AD-4368-B796-60EC9AE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170F-47C9-4746-A795-0E90E5C1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8EBB6-0853-4C32-93CF-02B6A6D8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335E-0CAA-4EC7-8989-87065A3A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1010-5B90-49F8-A4E8-27205E21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076F-7AF1-46EE-BAF1-42E4583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111D-F7E2-4F31-A745-A79CE37D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E5D-6694-4E41-BFCB-0370B4FA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C0CB-35D5-4E4E-9450-54E36DD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3EB3-4B6B-45BA-9EF2-7F9C3B8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5A2D-699C-4D50-9905-F9190C8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6945C-0BD2-4672-8AC5-1F47C0C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A338-1458-46D8-98C7-DB05860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82466-79BF-4991-9ACB-250A605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C23A-6EF2-441B-A825-F3B00CBF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53C5-7610-4ABC-9B19-C57E40BA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F081-4BED-4EB1-B2E9-0C87E29D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1033-9B25-470D-8741-9D43A466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E40-CFC3-4B28-BD69-D9CE724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A2E83-0360-4F5D-B757-EF41564A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E285B-D7A0-423B-AC05-ECF26949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E084-96BA-446A-B34B-432690E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D40B-30C5-4355-9FD6-5030CD8B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10B9-59EC-4980-A2B9-A2158C07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D16FB-C2DB-4352-A113-02DF2909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3D37E-CCD2-4D4C-842E-8D7C34D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52578-C11C-4024-ADFD-715B0AE9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18D4-892F-4398-BE03-50A8230B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69D0-E804-43FD-BAAA-3EA07E8E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A56-DAB9-4F9D-959E-5CCA623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4D48-3BFC-4C29-A73E-B153FB5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D18-F566-418C-AF1E-5B94326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8FE-AF51-482F-A109-1561981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905-4DA9-4094-ACC6-D75FFAF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3F6A-7456-4997-BF18-F9D82D037F4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EA6A-1DC8-459A-99EB-D5BF6722953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17D-183A-4E82-8D12-9513C4DB790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D716-BDD7-4AC3-8812-05D19EFF62A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AB0-DC2C-4682-83BB-E1C901144BE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" Target="slide2.xml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812880" y="13366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³+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25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50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1143000" y="39909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2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Левая круглая скобка 12"/>
          <p:cNvSpPr/>
          <p:nvPr/>
        </p:nvSpPr>
        <p:spPr>
          <a:xfrm>
            <a:off x="1143000" y="4133880"/>
            <a:ext cx="237960" cy="1417680"/>
          </a:xfrm>
          <a:custGeom>
            <a:avLst/>
            <a:gdLst>
              <a:gd name="textAreaLeft" fmla="*/ 69840 w 237960"/>
              <a:gd name="textAreaRight" fmla="*/ 238320 w 237960"/>
              <a:gd name="textAreaTop" fmla="*/ 9720 h 1417680"/>
              <a:gd name="textAreaBottom" fmla="*/ 1407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35120" y="5821200"/>
            <a:ext cx="49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5;-2;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2" descr=""/>
          <p:cNvPicPr/>
          <p:nvPr/>
        </p:nvPicPr>
        <p:blipFill>
          <a:blip r:embed="rId1"/>
          <a:stretch/>
        </p:blipFill>
        <p:spPr>
          <a:xfrm>
            <a:off x="31680" y="20520"/>
            <a:ext cx="6782040" cy="119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6"/>
          <p:cNvSpPr/>
          <p:nvPr/>
        </p:nvSpPr>
        <p:spPr>
          <a:xfrm>
            <a:off x="766800" y="208764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25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2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895320" y="2730600"/>
            <a:ext cx="46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 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25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820800" y="3300480"/>
            <a:ext cx="57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2)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 -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5)(х+5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1143000" y="44481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5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1143000" y="4878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5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Левая круглая скобка 20"/>
          <p:cNvSpPr/>
          <p:nvPr/>
        </p:nvSpPr>
        <p:spPr>
          <a:xfrm>
            <a:off x="3565440" y="4168800"/>
            <a:ext cx="238320" cy="141912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419120"/>
              <a:gd name="textAreaBottom" fmla="*/ 1409400 h 14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3639960" y="40622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-2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3627360" y="448164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3606840" y="49752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-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1114560" y="26049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1112760" y="29941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2604960" y="29908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7005600" y="26193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6978600" y="30304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38480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/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272120" y="298764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/(х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: вверх-вниз 14"/>
          <p:cNvSpPr/>
          <p:nvPr/>
        </p:nvSpPr>
        <p:spPr>
          <a:xfrm>
            <a:off x="6278400" y="2782800"/>
            <a:ext cx="122400" cy="652680"/>
          </a:xfrm>
          <a:prstGeom prst="upDownArrow">
            <a:avLst>
              <a:gd name="adj1" fmla="val 50000"/>
              <a:gd name="adj2" fmla="val 49941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6318360" y="27957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1722600" y="3440160"/>
            <a:ext cx="13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3024360" y="348156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4160880" y="358452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(x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6" descr=""/>
          <p:cNvPicPr/>
          <p:nvPr/>
        </p:nvPicPr>
        <p:blipFill>
          <a:blip r:embed="rId1"/>
          <a:stretch/>
        </p:blipFill>
        <p:spPr>
          <a:xfrm>
            <a:off x="15840" y="252360"/>
            <a:ext cx="9144000" cy="1174680"/>
          </a:xfrm>
          <a:prstGeom prst="rect">
            <a:avLst/>
          </a:prstGeom>
          <a:ln w="0">
            <a:noFill/>
          </a:ln>
        </p:spPr>
      </p:pic>
      <p:pic>
        <p:nvPicPr>
          <p:cNvPr id="303" name="TextBox 17" descr=""/>
          <p:cNvPicPr/>
          <p:nvPr/>
        </p:nvPicPr>
        <p:blipFill>
          <a:blip r:embed="rId2"/>
          <a:stretch/>
        </p:blipFill>
        <p:spPr>
          <a:xfrm>
            <a:off x="871560" y="3767040"/>
            <a:ext cx="5376960" cy="1201680"/>
          </a:xfrm>
          <a:prstGeom prst="rect">
            <a:avLst/>
          </a:prstGeom>
          <a:ln w="0">
            <a:noFill/>
          </a:ln>
        </p:spPr>
      </p:pic>
      <p:pic>
        <p:nvPicPr>
          <p:cNvPr id="304" name="TextBox 25" descr=""/>
          <p:cNvPicPr/>
          <p:nvPr/>
        </p:nvPicPr>
        <p:blipFill>
          <a:blip r:embed="rId3"/>
          <a:stretch/>
        </p:blipFill>
        <p:spPr>
          <a:xfrm>
            <a:off x="476280" y="5145120"/>
            <a:ext cx="9144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6"/>
          <p:cNvSpPr/>
          <p:nvPr/>
        </p:nvSpPr>
        <p:spPr>
          <a:xfrm>
            <a:off x="784080" y="331632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4x+336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784080" y="38894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(x-4)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Левая фигурная скобка 5"/>
          <p:cNvSpPr/>
          <p:nvPr/>
        </p:nvSpPr>
        <p:spPr>
          <a:xfrm>
            <a:off x="468360" y="3429000"/>
            <a:ext cx="315720" cy="1106640"/>
          </a:xfrm>
          <a:custGeom>
            <a:avLst/>
            <a:gdLst>
              <a:gd name="textAreaLeft" fmla="*/ 201600 w 315720"/>
              <a:gd name="textAreaRight" fmla="*/ 316080 w 315720"/>
              <a:gd name="textAreaTop" fmla="*/ 7920 h 1106640"/>
              <a:gd name="textAreaBottom" fmla="*/ 109872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Левая круглая скобка 6"/>
          <p:cNvSpPr/>
          <p:nvPr/>
        </p:nvSpPr>
        <p:spPr>
          <a:xfrm>
            <a:off x="765000" y="4995720"/>
            <a:ext cx="238320" cy="100836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008360"/>
              <a:gd name="textAreaBottom" fmla="*/ 9986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071720" y="48639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1003320" y="546732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-56 -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сторо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5286240" y="4506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TextBox 10" descr=""/>
          <p:cNvPicPr/>
          <p:nvPr/>
        </p:nvPicPr>
        <p:blipFill>
          <a:blip r:embed="rId1"/>
          <a:stretch/>
        </p:blipFill>
        <p:spPr>
          <a:xfrm>
            <a:off x="719280" y="407880"/>
            <a:ext cx="9144000" cy="140184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11" descr=""/>
          <p:cNvPicPr/>
          <p:nvPr/>
        </p:nvPicPr>
        <p:blipFill>
          <a:blip r:embed="rId2"/>
          <a:stretch/>
        </p:blipFill>
        <p:spPr>
          <a:xfrm>
            <a:off x="853920" y="1785960"/>
            <a:ext cx="51562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7"/>
          <p:cNvGraphicFramePr/>
          <p:nvPr/>
        </p:nvGraphicFramePr>
        <p:xfrm>
          <a:off x="5435640" y="2349360"/>
          <a:ext cx="3554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349360"/>
                    <a:ext cx="3554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7"/>
          <p:cNvGraphicFramePr/>
          <p:nvPr/>
        </p:nvGraphicFramePr>
        <p:xfrm>
          <a:off x="5435640" y="2349360"/>
          <a:ext cx="35542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349360"/>
                    <a:ext cx="3554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8"/>
          <p:cNvGraphicFramePr/>
          <p:nvPr/>
        </p:nvGraphicFramePr>
        <p:xfrm>
          <a:off x="5435640" y="2349360"/>
          <a:ext cx="3529080" cy="431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2349360"/>
                    <a:ext cx="3529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250920" y="1052640"/>
                <a:ext cx="2536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Прямоугольник 2"/>
          <p:cNvSpPr/>
          <p:nvPr/>
        </p:nvSpPr>
        <p:spPr>
          <a:xfrm>
            <a:off x="250920" y="260280"/>
            <a:ext cx="8642160" cy="792360"/>
          </a:xfrm>
          <a:prstGeom prst="rect">
            <a:avLst/>
          </a:prstGeom>
          <a:solidFill>
            <a:srgbClr val="0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ибольшее число общих точек может иметь график данной функции с прямой, параллельной оси абсци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1125360"/>
            <a:ext cx="649080" cy="57492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5186" y="3794"/>
                </a:moveTo>
                <a:lnTo>
                  <a:pt x="19199" y="10800"/>
                </a:lnTo>
                <a:lnTo>
                  <a:pt x="5186" y="17806"/>
                </a:lnTo>
                <a:close/>
              </a:path>
            </a:pathLst>
          </a:cu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4">
            <a:hlinkClick r:id="rId7" action="ppaction://hlinksldjump"/>
          </p:cNvPr>
          <p:cNvSpPr/>
          <p:nvPr/>
        </p:nvSpPr>
        <p:spPr>
          <a:xfrm>
            <a:off x="7451640" y="1125360"/>
            <a:ext cx="649440" cy="57492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5003640" y="1125360"/>
            <a:ext cx="2305080" cy="57492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лгоритм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50920" y="2421000"/>
                <a:ext cx="3644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х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3851280" y="3573360"/>
                <a:ext cx="708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Box 24"/>
          <p:cNvSpPr/>
          <p:nvPr/>
        </p:nvSpPr>
        <p:spPr>
          <a:xfrm>
            <a:off x="6303600" y="522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39"/>
          <p:cNvSpPr/>
          <p:nvPr/>
        </p:nvSpPr>
        <p:spPr>
          <a:xfrm flipV="1">
            <a:off x="6516720" y="5157720"/>
            <a:ext cx="14292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0"/>
          <p:cNvSpPr/>
          <p:nvPr/>
        </p:nvSpPr>
        <p:spPr>
          <a:xfrm>
            <a:off x="250920" y="5229360"/>
            <a:ext cx="4752720" cy="720720"/>
          </a:xfrm>
          <a:prstGeom prst="rect">
            <a:avLst/>
          </a:prstGeom>
          <a:solidFill>
            <a:srgbClr val="ffffcc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Определить наибольшее число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3"/>
          <p:cNvSpPr/>
          <p:nvPr/>
        </p:nvSpPr>
        <p:spPr>
          <a:xfrm>
            <a:off x="6952320" y="5229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5"/>
          <p:cNvSpPr/>
          <p:nvPr/>
        </p:nvSpPr>
        <p:spPr>
          <a:xfrm>
            <a:off x="77432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89c3e5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7"/>
          <p:cNvSpPr/>
          <p:nvPr/>
        </p:nvSpPr>
        <p:spPr>
          <a:xfrm>
            <a:off x="2771640" y="6093000"/>
            <a:ext cx="2232000" cy="576000"/>
          </a:xfrm>
          <a:prstGeom prst="rect">
            <a:avLst/>
          </a:prstGeom>
          <a:solidFill>
            <a:srgbClr val="006600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250920" y="1773360"/>
            <a:ext cx="7057800" cy="5760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остроить график функции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х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х –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179280" y="3500280"/>
                <a:ext cx="3757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ерши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Овал 33"/>
          <p:cNvSpPr/>
          <p:nvPr/>
        </p:nvSpPr>
        <p:spPr>
          <a:xfrm flipV="1">
            <a:off x="7885080" y="5157720"/>
            <a:ext cx="14292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5"/>
          <p:cNvSpPr/>
          <p:nvPr/>
        </p:nvSpPr>
        <p:spPr>
          <a:xfrm>
            <a:off x="7236000" y="2637000"/>
            <a:ext cx="0" cy="4221000"/>
          </a:xfrm>
          <a:prstGeom prst="line">
            <a:avLst/>
          </a:prstGeom>
          <a:ln w="34920">
            <a:solidFill>
              <a:srgbClr val="ff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250920" y="4195800"/>
                <a:ext cx="26654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2916360" y="4508640"/>
                <a:ext cx="122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Box 38"/>
          <p:cNvSpPr/>
          <p:nvPr/>
        </p:nvSpPr>
        <p:spPr>
          <a:xfrm>
            <a:off x="6161040" y="6093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41"/>
          <p:cNvSpPr/>
          <p:nvPr/>
        </p:nvSpPr>
        <p:spPr>
          <a:xfrm flipV="1">
            <a:off x="7164360" y="6165720"/>
            <a:ext cx="144360" cy="115920"/>
          </a:xfrm>
          <a:prstGeom prst="ellipse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826920" y="2997360"/>
                <a:ext cx="2443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Овал 23"/>
          <p:cNvSpPr/>
          <p:nvPr/>
        </p:nvSpPr>
        <p:spPr>
          <a:xfrm>
            <a:off x="611280" y="981000"/>
            <a:ext cx="2520720" cy="93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8"/>
          <p:cNvSpPr/>
          <p:nvPr/>
        </p:nvSpPr>
        <p:spPr>
          <a:xfrm>
            <a:off x="6304680" y="400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44"/>
          <p:cNvSpPr/>
          <p:nvPr/>
        </p:nvSpPr>
        <p:spPr>
          <a:xfrm>
            <a:off x="4788000" y="2997360"/>
            <a:ext cx="4068720" cy="0"/>
          </a:xfrm>
          <a:prstGeom prst="line">
            <a:avLst/>
          </a:prstGeom>
          <a:ln w="381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49"/>
          <p:cNvSpPr/>
          <p:nvPr/>
        </p:nvSpPr>
        <p:spPr>
          <a:xfrm flipV="1">
            <a:off x="6372360" y="4723560"/>
            <a:ext cx="71280" cy="189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50"/>
          <p:cNvSpPr/>
          <p:nvPr/>
        </p:nvSpPr>
        <p:spPr>
          <a:xfrm flipV="1">
            <a:off x="6659640" y="4724280"/>
            <a:ext cx="810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51"/>
          <p:cNvSpPr/>
          <p:nvPr/>
        </p:nvSpPr>
        <p:spPr>
          <a:xfrm flipV="1">
            <a:off x="7740720" y="4724280"/>
            <a:ext cx="792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52"/>
          <p:cNvSpPr/>
          <p:nvPr/>
        </p:nvSpPr>
        <p:spPr>
          <a:xfrm flipV="1">
            <a:off x="8028000" y="4724280"/>
            <a:ext cx="81000" cy="19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5.55556E-007 -0.2919 E">
                                      <p:cBhvr>
                                        <p:cTn id="29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6" dur="3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3333 L -0.00191 0.2625 E">
                                      <p:cBhvr>
                                        <p:cTn id="30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1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54" name="Freeform 22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4"/>
            <p:cNvSpPr/>
            <p:nvPr/>
          </p:nvSpPr>
          <p:spPr>
            <a:xfrm>
              <a:off x="9040320" y="540720"/>
              <a:ext cx="1440" cy="576396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5"/>
            <p:cNvSpPr/>
            <p:nvPr/>
          </p:nvSpPr>
          <p:spPr>
            <a:xfrm>
              <a:off x="129240" y="540720"/>
              <a:ext cx="16560" cy="576396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6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"/>
            <p:cNvSpPr/>
            <p:nvPr/>
          </p:nvSpPr>
          <p:spPr>
            <a:xfrm flipH="1">
              <a:off x="8627400" y="6275880"/>
              <a:ext cx="452880" cy="4863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8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4"/>
          <p:cNvSpPr/>
          <p:nvPr/>
        </p:nvSpPr>
        <p:spPr>
          <a:xfrm>
            <a:off x="4977360" y="3054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171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1"/>
          <p:cNvSpPr/>
          <p:nvPr/>
        </p:nvSpPr>
        <p:spPr>
          <a:xfrm>
            <a:off x="1439280" y="952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67"/>
          <p:cNvGrpSpPr/>
          <p:nvPr/>
        </p:nvGrpSpPr>
        <p:grpSpPr>
          <a:xfrm>
            <a:off x="615600" y="1502640"/>
            <a:ext cx="4427640" cy="3876120"/>
            <a:chOff x="615600" y="1502640"/>
            <a:chExt cx="4427640" cy="3876120"/>
          </a:xfrm>
        </p:grpSpPr>
        <p:sp>
          <p:nvSpPr>
            <p:cNvPr id="366" name="Freeform 8"/>
            <p:cNvSpPr/>
            <p:nvPr/>
          </p:nvSpPr>
          <p:spPr>
            <a:xfrm flipH="1" rot="7188000">
              <a:off x="1653840" y="1558080"/>
              <a:ext cx="239400" cy="259920"/>
            </a:xfrm>
            <a:custGeom>
              <a:avLst/>
              <a:gdLst/>
              <a:ahLst/>
              <a:rect l="l" t="t" r="r" b="b"/>
              <a:pathLst>
                <a:path w="175" h="197">
                  <a:moveTo>
                    <a:pt x="175" y="0"/>
                  </a:moveTo>
                  <a:lnTo>
                    <a:pt x="3" y="7"/>
                  </a:lnTo>
                  <a:lnTo>
                    <a:pt x="0" y="1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6"/>
            <p:cNvSpPr/>
            <p:nvPr/>
          </p:nvSpPr>
          <p:spPr>
            <a:xfrm flipH="1" rot="7188000">
              <a:off x="1679400" y="1547640"/>
              <a:ext cx="2298600" cy="3785760"/>
            </a:xfrm>
            <a:custGeom>
              <a:avLst/>
              <a:gdLst/>
              <a:ahLst/>
              <a:rect l="l" t="t" r="r" b="b"/>
              <a:pathLst>
                <a:path w="1688" h="2880">
                  <a:moveTo>
                    <a:pt x="8" y="2880"/>
                  </a:moveTo>
                  <a:lnTo>
                    <a:pt x="1688" y="2880"/>
                  </a:lnTo>
                  <a:lnTo>
                    <a:pt x="1640" y="0"/>
                  </a:lnTo>
                  <a:lnTo>
                    <a:pt x="0" y="28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69"/>
          <p:cNvSpPr/>
          <p:nvPr/>
        </p:nvSpPr>
        <p:spPr>
          <a:xfrm>
            <a:off x="2439360" y="335268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0"/>
          <p:cNvSpPr/>
          <p:nvPr/>
        </p:nvSpPr>
        <p:spPr>
          <a:xfrm>
            <a:off x="611280" y="19810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1"/>
          <p:cNvSpPr/>
          <p:nvPr/>
        </p:nvSpPr>
        <p:spPr>
          <a:xfrm>
            <a:off x="3398760" y="1905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3"/>
          <p:cNvGrpSpPr/>
          <p:nvPr/>
        </p:nvGrpSpPr>
        <p:grpSpPr>
          <a:xfrm>
            <a:off x="1055520" y="3200400"/>
            <a:ext cx="3084480" cy="970920"/>
            <a:chOff x="1055520" y="3200400"/>
            <a:chExt cx="3084480" cy="970920"/>
          </a:xfrm>
        </p:grpSpPr>
        <p:sp>
          <p:nvSpPr>
            <p:cNvPr id="372" name="Text Box 77"/>
            <p:cNvSpPr/>
            <p:nvPr/>
          </p:nvSpPr>
          <p:spPr>
            <a:xfrm>
              <a:off x="1055520" y="3314520"/>
              <a:ext cx="6058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4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8"/>
            <p:cNvSpPr/>
            <p:nvPr/>
          </p:nvSpPr>
          <p:spPr>
            <a:xfrm>
              <a:off x="3404520" y="3200400"/>
              <a:ext cx="7354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4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2"/>
          <p:cNvGrpSpPr/>
          <p:nvPr/>
        </p:nvGrpSpPr>
        <p:grpSpPr>
          <a:xfrm>
            <a:off x="1693440" y="1523880"/>
            <a:ext cx="461160" cy="1981440"/>
            <a:chOff x="1693440" y="1523880"/>
            <a:chExt cx="461160" cy="1981440"/>
          </a:xfrm>
        </p:grpSpPr>
        <p:grpSp>
          <p:nvGrpSpPr>
            <p:cNvPr id="375" name="Group 81"/>
            <p:cNvGrpSpPr/>
            <p:nvPr/>
          </p:nvGrpSpPr>
          <p:grpSpPr>
            <a:xfrm>
              <a:off x="1752480" y="1523880"/>
              <a:ext cx="304920" cy="1981440"/>
              <a:chOff x="1752480" y="1523880"/>
              <a:chExt cx="304920" cy="1981440"/>
            </a:xfrm>
          </p:grpSpPr>
          <p:sp>
            <p:nvSpPr>
              <p:cNvPr id="376" name="Line 75"/>
              <p:cNvSpPr/>
              <p:nvPr/>
            </p:nvSpPr>
            <p:spPr>
              <a:xfrm>
                <a:off x="1752480" y="1523880"/>
                <a:ext cx="1800" cy="198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6"/>
              <p:cNvSpPr/>
              <p:nvPr/>
            </p:nvSpPr>
            <p:spPr>
              <a:xfrm>
                <a:off x="1752480" y="320040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192" h="192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9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79"/>
            <p:cNvSpPr/>
            <p:nvPr/>
          </p:nvSpPr>
          <p:spPr>
            <a:xfrm>
              <a:off x="1693440" y="2182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Object 85"/>
              <p:cNvSpPr txBox="1"/>
              <p:nvPr/>
            </p:nvSpPr>
            <p:spPr>
              <a:xfrm>
                <a:off x="5095800" y="1260360"/>
                <a:ext cx="3571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0" name="AutoShape 87"/>
          <p:cNvSpPr/>
          <p:nvPr/>
        </p:nvSpPr>
        <p:spPr>
          <a:xfrm rot="16200000">
            <a:off x="2590560" y="1828440"/>
            <a:ext cx="457200" cy="4419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2" descr=""/>
          <p:cNvPicPr/>
          <p:nvPr/>
        </p:nvPicPr>
        <p:blipFill>
          <a:blip r:embed="rId1"/>
          <a:stretch/>
        </p:blipFill>
        <p:spPr>
          <a:xfrm>
            <a:off x="87480" y="3240"/>
            <a:ext cx="9144000" cy="96660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4"/>
          <p:cNvSpPr/>
          <p:nvPr/>
        </p:nvSpPr>
        <p:spPr>
          <a:xfrm>
            <a:off x="1650240" y="349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057320" y="28130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2343240" y="3471840"/>
            <a:ext cx="8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5737320" y="286056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V8*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5711760" y="3564000"/>
            <a:ext cx="29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V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5711760" y="4253040"/>
            <a:ext cx="29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b=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"/>
          <p:cNvSpPr/>
          <p:nvPr/>
        </p:nvSpPr>
        <p:spPr>
          <a:xfrm flipV="1">
            <a:off x="6937200" y="2976480"/>
            <a:ext cx="1276560" cy="223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44"/>
          <p:cNvSpPr/>
          <p:nvPr/>
        </p:nvSpPr>
        <p:spPr>
          <a:xfrm flipV="1">
            <a:off x="6872400" y="3664080"/>
            <a:ext cx="1276200" cy="2376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00018 0.0956 E">
                                      <p:cBhvr>
                                        <p:cTn id="351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2" descr=""/>
          <p:cNvPicPr/>
          <p:nvPr/>
        </p:nvPicPr>
        <p:blipFill>
          <a:blip r:embed="rId1"/>
          <a:stretch/>
        </p:blipFill>
        <p:spPr>
          <a:xfrm>
            <a:off x="0" y="131760"/>
            <a:ext cx="9144000" cy="80172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18"/>
          <p:cNvGrpSpPr/>
          <p:nvPr/>
        </p:nvGrpSpPr>
        <p:grpSpPr>
          <a:xfrm>
            <a:off x="1258560" y="2492280"/>
            <a:ext cx="6408720" cy="3101400"/>
            <a:chOff x="1258560" y="2492280"/>
            <a:chExt cx="6408720" cy="3101400"/>
          </a:xfrm>
        </p:grpSpPr>
        <p:sp>
          <p:nvSpPr>
            <p:cNvPr id="392" name="Line 5"/>
            <p:cNvSpPr/>
            <p:nvPr/>
          </p:nvSpPr>
          <p:spPr>
            <a:xfrm>
              <a:off x="2450880" y="2492280"/>
              <a:ext cx="327888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>
              <a:off x="1258920" y="5593680"/>
              <a:ext cx="640836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1258560" y="2492280"/>
              <a:ext cx="1191960" cy="31014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5730120" y="2492280"/>
              <a:ext cx="1936800" cy="310140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36"/>
          <p:cNvSpPr/>
          <p:nvPr/>
        </p:nvSpPr>
        <p:spPr>
          <a:xfrm>
            <a:off x="582480" y="5594400"/>
            <a:ext cx="23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1649520" y="1724040"/>
            <a:ext cx="233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6"/>
          <p:cNvSpPr/>
          <p:nvPr/>
        </p:nvSpPr>
        <p:spPr>
          <a:xfrm>
            <a:off x="5522760" y="1739880"/>
            <a:ext cx="233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7667640" y="557856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3"/>
          <p:cNvSpPr/>
          <p:nvPr/>
        </p:nvSpPr>
        <p:spPr>
          <a:xfrm flipV="1">
            <a:off x="1328760" y="2491920"/>
            <a:ext cx="4402080" cy="31086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5"/>
          <p:cNvSpPr/>
          <p:nvPr/>
        </p:nvSpPr>
        <p:spPr>
          <a:xfrm>
            <a:off x="2452680" y="2492280"/>
            <a:ext cx="5214960" cy="31021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3683160" y="362736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6"/>
          <p:cNvSpPr/>
          <p:nvPr/>
        </p:nvSpPr>
        <p:spPr>
          <a:xfrm>
            <a:off x="104760" y="27000"/>
            <a:ext cx="901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PR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S</a:t>
            </a:r>
            <a:r>
              <a:rPr b="1" lang="el-GR" sz="24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ST =0,5PT*R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20"/>
          <p:cNvSpPr/>
          <p:nvPr/>
        </p:nvSpPr>
        <p:spPr>
          <a:xfrm>
            <a:off x="2452680" y="2508120"/>
            <a:ext cx="0" cy="3070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1928880" y="559584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2452680" y="530208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25"/>
          <p:cNvSpPr/>
          <p:nvPr/>
        </p:nvSpPr>
        <p:spPr>
          <a:xfrm>
            <a:off x="5730840" y="2478240"/>
            <a:ext cx="0" cy="3068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5710320" y="528948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23760" y="587520"/>
            <a:ext cx="878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PR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M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00b05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PM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, S</a:t>
            </a:r>
            <a:r>
              <a:rPr b="1" lang="el-GR" sz="16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PS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ST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</a:rPr>
              <a:t>S</a:t>
            </a:r>
            <a:r>
              <a:rPr b="1" lang="el-GR" sz="2400" spc="-1" strike="noStrike">
                <a:solidFill>
                  <a:srgbClr val="00b050"/>
                </a:solidFill>
                <a:latin typeface="Tahoma"/>
              </a:rPr>
              <a:t>Δ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PM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6"/>
          <p:cNvSpPr/>
          <p:nvPr/>
        </p:nvSpPr>
        <p:spPr>
          <a:xfrm>
            <a:off x="0" y="1133640"/>
            <a:ext cx="878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ЛЕДОВАТЕЛЬНО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18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RM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=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el-GR" sz="1600" spc="-1" strike="noStrike">
                <a:solidFill>
                  <a:srgbClr val="ff0000"/>
                </a:solidFill>
                <a:latin typeface="Tahoma"/>
              </a:rPr>
              <a:t>Δ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9"/>
          <p:cNvSpPr/>
          <p:nvPr/>
        </p:nvSpPr>
        <p:spPr>
          <a:xfrm flipH="1">
            <a:off x="5263560" y="1217520"/>
            <a:ext cx="446040" cy="341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2:18Z</dcterms:modified>
  <cp:revision>68</cp:revision>
  <dc:subject/>
  <dc:title>Слайд 1</dc:title>
</cp:coreProperties>
</file>