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595-EAEF-4317-8EF4-D35E496C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A8E-DCD9-42ED-AA13-D17BF7AF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5E5-C299-4A5E-8201-C4DEBB85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42D-BCCB-4588-A4C1-C7AD98FF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52EB-4537-4F60-8DA6-E0A75826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7504-CE63-4049-AED6-1CBE42C2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6C05-6888-45B0-BBC0-54BFFF50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1776-CE44-4D89-B79F-F80796A6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FEBE-1A33-4A9E-BE4C-D215D1DC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1DA7-C9A0-4E5F-881A-EFF4B17E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61B3-4593-4F28-A2F5-7B3CCF69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83D-AE4F-42D9-A022-C6E3FD69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8425-A2E7-4EE2-8428-AD47454B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5E9F-8035-4834-9A4A-DEB8F352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EBAD-8C43-4829-84A8-B71BFCAB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47ED-5E94-4CEB-B384-D41A3DEF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7241-0155-4819-9EDB-483B7C61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B1877-CF19-4B07-9B0C-95650596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1B39-1446-458D-933A-3A44E465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EB9E2-FABB-4021-9F96-15B825CD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69A1-4DB3-4E32-9555-6601E4C5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B2266-68EA-4752-AF92-F7F11C2A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839-8190-4185-995F-998494B6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D035C-CD55-4D86-8EC0-BB629FDA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44BD8-8857-464F-AB4D-A44A6001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0558-596C-4CA3-9D7E-40A038F7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3F782-8D43-42F9-8AD4-4FFB916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AD43C-A7D3-4C31-B1C1-CE101146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F264A-2EF8-47D6-92FE-D3CA6E88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DF9D7-A338-4224-B256-F48C292D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37EEC-ACBA-40EC-A7C2-3ED7D3CE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52725-5D81-49CE-BF1A-42822EB4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CBEDE-7DFB-4C9E-815B-68FC5C24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C64-2FBA-4FD6-AC83-F6790F6D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F38D1-DA59-4C7F-9018-57420294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04679-501B-4A72-8CC1-9E9193E1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A3C22-2ACB-4482-8EAC-E8F62331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BE40D-7A35-4182-B0D0-CB75107B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3E290-1B2B-475B-BD3E-4A9D0E78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06E00-5AD9-45B3-A3B9-45A4CAFF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A7C5B-116C-4CAD-9C08-E7D725B0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2220C-C140-4A9F-9273-6861893A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792EF-C2CC-47C6-AE6E-58E664DB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AE9BC-35F3-4FC0-83F6-DC934DBE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0E8-07B3-481D-8EE5-8BD317CD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F65E4-76FB-4C74-875A-DA914118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53EA9-2CF5-407F-A2A8-4605FB7A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E0E3C-5E76-4F96-8162-013E921F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E760F-2969-4248-AAA9-9511802E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83886-41A1-45FF-922D-B41114A2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83AA7-8EDD-472C-8FFA-D9B8BD91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DB9AA-1837-4534-BB26-1555479A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58019-4437-459A-8D46-48BF7834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DA1EB-C953-4AA8-A461-161B7DAE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BBA11-F5E5-49A5-AF65-1D5ECC19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880-3F7A-4DDC-8A9C-C2D464AF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EE52A-F1A1-4E77-B7E8-7BAA19EB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3A22-17FE-4D21-91DF-FB69216F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46E3-B9B6-44EF-9857-3B09E33D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F88-D7CB-4309-9DBA-984FFE42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806B-C581-4A69-8D2D-5AF2F6D4A06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5749-D03F-4E44-9616-A5CED853A7E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78D2-BFE3-4BE7-8B6F-79F71D18840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3D50-7DAA-4CEA-992D-03C00B8A78E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4A4A-86BC-4FE5-8842-1854B2D4DFB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1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2" descr=""/>
          <p:cNvPicPr/>
          <p:nvPr/>
        </p:nvPicPr>
        <p:blipFill>
          <a:blip r:embed="rId2"/>
          <a:stretch/>
        </p:blipFill>
        <p:spPr>
          <a:xfrm>
            <a:off x="0" y="485460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6"/>
          <p:cNvSpPr/>
          <p:nvPr/>
        </p:nvSpPr>
        <p:spPr>
          <a:xfrm>
            <a:off x="8388360" y="27468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3851280" y="345600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5867280" y="25560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6"/>
          <p:cNvSpPr/>
          <p:nvPr/>
        </p:nvSpPr>
        <p:spPr>
          <a:xfrm>
            <a:off x="3975120" y="25560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3564000" y="626112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6"/>
          <p:cNvSpPr/>
          <p:nvPr/>
        </p:nvSpPr>
        <p:spPr>
          <a:xfrm>
            <a:off x="5272200" y="6284880"/>
            <a:ext cx="11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7061040" y="626112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Рисунок 2" descr=""/>
          <p:cNvPicPr/>
          <p:nvPr/>
        </p:nvPicPr>
        <p:blipFill>
          <a:blip r:embed="rId1"/>
          <a:stretch/>
        </p:blipFill>
        <p:spPr>
          <a:xfrm>
            <a:off x="28440" y="765000"/>
            <a:ext cx="9144000" cy="39340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ая соединительная линия 3"/>
          <p:cNvSpPr/>
          <p:nvPr/>
        </p:nvSpPr>
        <p:spPr>
          <a:xfrm flipV="1">
            <a:off x="755640" y="620640"/>
            <a:ext cx="0" cy="165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6"/>
          <p:cNvSpPr/>
          <p:nvPr/>
        </p:nvSpPr>
        <p:spPr>
          <a:xfrm>
            <a:off x="755640" y="1341360"/>
            <a:ext cx="136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9"/>
          <p:cNvSpPr/>
          <p:nvPr/>
        </p:nvSpPr>
        <p:spPr>
          <a:xfrm>
            <a:off x="7597800" y="1650960"/>
            <a:ext cx="28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10"/>
          <p:cNvSpPr/>
          <p:nvPr/>
        </p:nvSpPr>
        <p:spPr>
          <a:xfrm>
            <a:off x="-31680" y="3284640"/>
            <a:ext cx="468360" cy="28872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597800" y="3789360"/>
            <a:ext cx="28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2" descr=""/>
          <p:cNvPicPr/>
          <p:nvPr/>
        </p:nvPicPr>
        <p:blipFill>
          <a:blip r:embed="rId1"/>
          <a:stretch/>
        </p:blipFill>
        <p:spPr>
          <a:xfrm>
            <a:off x="38160" y="-25560"/>
            <a:ext cx="8820000" cy="6039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6"/>
          <p:cNvSpPr/>
          <p:nvPr/>
        </p:nvSpPr>
        <p:spPr>
          <a:xfrm>
            <a:off x="8388360" y="27468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6"/>
          <p:cNvSpPr/>
          <p:nvPr/>
        </p:nvSpPr>
        <p:spPr>
          <a:xfrm>
            <a:off x="3851280" y="345600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6"/>
          <p:cNvSpPr/>
          <p:nvPr/>
        </p:nvSpPr>
        <p:spPr>
          <a:xfrm>
            <a:off x="5867280" y="25560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6"/>
          <p:cNvSpPr/>
          <p:nvPr/>
        </p:nvSpPr>
        <p:spPr>
          <a:xfrm>
            <a:off x="3975120" y="25560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10" descr=""/>
          <p:cNvPicPr/>
          <p:nvPr/>
        </p:nvPicPr>
        <p:blipFill>
          <a:blip r:embed="rId2"/>
          <a:stretch/>
        </p:blipFill>
        <p:spPr>
          <a:xfrm>
            <a:off x="34920" y="5910120"/>
            <a:ext cx="9144000" cy="10828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ая соединительная линия 12"/>
          <p:cNvSpPr/>
          <p:nvPr/>
        </p:nvSpPr>
        <p:spPr>
          <a:xfrm>
            <a:off x="4213080" y="1268280"/>
            <a:ext cx="1654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6"/>
          <p:cNvSpPr/>
          <p:nvPr/>
        </p:nvSpPr>
        <p:spPr>
          <a:xfrm>
            <a:off x="4748040" y="61452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14"/>
          <p:cNvSpPr/>
          <p:nvPr/>
        </p:nvSpPr>
        <p:spPr>
          <a:xfrm flipV="1">
            <a:off x="4213080" y="1267920"/>
            <a:ext cx="0" cy="2187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6"/>
          <p:cNvSpPr/>
          <p:nvPr/>
        </p:nvSpPr>
        <p:spPr>
          <a:xfrm>
            <a:off x="3359160" y="203688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6"/>
          <p:cNvSpPr/>
          <p:nvPr/>
        </p:nvSpPr>
        <p:spPr>
          <a:xfrm>
            <a:off x="1244520" y="6324480"/>
            <a:ext cx="33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12+16=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7667640" y="629460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2" descr=""/>
          <p:cNvPicPr/>
          <p:nvPr/>
        </p:nvPicPr>
        <p:blipFill>
          <a:blip r:embed="rId1"/>
          <a:stretch/>
        </p:blipFill>
        <p:spPr>
          <a:xfrm>
            <a:off x="38160" y="-25560"/>
            <a:ext cx="8820000" cy="6039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6"/>
          <p:cNvSpPr/>
          <p:nvPr/>
        </p:nvSpPr>
        <p:spPr>
          <a:xfrm>
            <a:off x="8388360" y="27468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6"/>
          <p:cNvSpPr/>
          <p:nvPr/>
        </p:nvSpPr>
        <p:spPr>
          <a:xfrm>
            <a:off x="3851280" y="345600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5867280" y="25560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6"/>
          <p:cNvSpPr/>
          <p:nvPr/>
        </p:nvSpPr>
        <p:spPr>
          <a:xfrm>
            <a:off x="3975120" y="25560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2"/>
          <p:cNvSpPr/>
          <p:nvPr/>
        </p:nvSpPr>
        <p:spPr>
          <a:xfrm>
            <a:off x="4213080" y="1268280"/>
            <a:ext cx="1654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4748040" y="61452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4"/>
          <p:cNvSpPr/>
          <p:nvPr/>
        </p:nvSpPr>
        <p:spPr>
          <a:xfrm flipV="1">
            <a:off x="4213080" y="1267920"/>
            <a:ext cx="0" cy="2187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6"/>
          <p:cNvSpPr/>
          <p:nvPr/>
        </p:nvSpPr>
        <p:spPr>
          <a:xfrm>
            <a:off x="3359160" y="203688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2" descr=""/>
          <p:cNvPicPr/>
          <p:nvPr/>
        </p:nvPicPr>
        <p:blipFill>
          <a:blip r:embed="rId2"/>
          <a:stretch/>
        </p:blipFill>
        <p:spPr>
          <a:xfrm>
            <a:off x="38160" y="5872320"/>
            <a:ext cx="9144000" cy="9903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36"/>
          <p:cNvSpPr/>
          <p:nvPr/>
        </p:nvSpPr>
        <p:spPr>
          <a:xfrm>
            <a:off x="177840" y="6389640"/>
            <a:ext cx="64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12²+16²=144+256=400=20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7524720" y="611496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0"/>
          <p:cNvSpPr/>
          <p:nvPr/>
        </p:nvSpPr>
        <p:spPr>
          <a:xfrm flipV="1">
            <a:off x="4213080" y="1260000"/>
            <a:ext cx="1654200" cy="21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2" descr=""/>
          <p:cNvPicPr/>
          <p:nvPr/>
        </p:nvPicPr>
        <p:blipFill>
          <a:blip r:embed="rId1"/>
          <a:stretch/>
        </p:blipFill>
        <p:spPr>
          <a:xfrm>
            <a:off x="38160" y="-25560"/>
            <a:ext cx="8820000" cy="60390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6"/>
          <p:cNvSpPr/>
          <p:nvPr/>
        </p:nvSpPr>
        <p:spPr>
          <a:xfrm>
            <a:off x="8388360" y="27468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3851280" y="345600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6"/>
          <p:cNvSpPr/>
          <p:nvPr/>
        </p:nvSpPr>
        <p:spPr>
          <a:xfrm>
            <a:off x="5867280" y="25560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6"/>
          <p:cNvSpPr/>
          <p:nvPr/>
        </p:nvSpPr>
        <p:spPr>
          <a:xfrm>
            <a:off x="3975120" y="25560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2"/>
          <p:cNvSpPr/>
          <p:nvPr/>
        </p:nvSpPr>
        <p:spPr>
          <a:xfrm flipV="1">
            <a:off x="4213080" y="1252440"/>
            <a:ext cx="4175280" cy="1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6"/>
          <p:cNvSpPr/>
          <p:nvPr/>
        </p:nvSpPr>
        <p:spPr>
          <a:xfrm>
            <a:off x="6316560" y="63036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4"/>
          <p:cNvSpPr/>
          <p:nvPr/>
        </p:nvSpPr>
        <p:spPr>
          <a:xfrm flipV="1">
            <a:off x="4213080" y="1267920"/>
            <a:ext cx="0" cy="2187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6"/>
          <p:cNvSpPr/>
          <p:nvPr/>
        </p:nvSpPr>
        <p:spPr>
          <a:xfrm>
            <a:off x="3359160" y="203688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6"/>
          <p:cNvSpPr/>
          <p:nvPr/>
        </p:nvSpPr>
        <p:spPr>
          <a:xfrm>
            <a:off x="190440" y="4135320"/>
            <a:ext cx="6796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30²+16²=900+256=1156=34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6"/>
          <p:cNvSpPr/>
          <p:nvPr/>
        </p:nvSpPr>
        <p:spPr>
          <a:xfrm>
            <a:off x="160200" y="469440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34:40=0,85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20"/>
          <p:cNvSpPr/>
          <p:nvPr/>
        </p:nvSpPr>
        <p:spPr>
          <a:xfrm flipV="1">
            <a:off x="4141800" y="1252080"/>
            <a:ext cx="4246560" cy="2233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7" descr=""/>
          <p:cNvPicPr/>
          <p:nvPr/>
        </p:nvPicPr>
        <p:blipFill>
          <a:blip r:embed="rId2"/>
          <a:stretch/>
        </p:blipFill>
        <p:spPr>
          <a:xfrm>
            <a:off x="1440" y="5899320"/>
            <a:ext cx="9144000" cy="10746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ая соединительная линия 19"/>
          <p:cNvSpPr/>
          <p:nvPr/>
        </p:nvSpPr>
        <p:spPr>
          <a:xfrm flipV="1">
            <a:off x="223920" y="5626080"/>
            <a:ext cx="2619360" cy="1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21"/>
          <p:cNvSpPr/>
          <p:nvPr/>
        </p:nvSpPr>
        <p:spPr>
          <a:xfrm flipV="1">
            <a:off x="6199200" y="5373720"/>
            <a:ext cx="2619360" cy="1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6"/>
          <p:cNvSpPr/>
          <p:nvPr/>
        </p:nvSpPr>
        <p:spPr>
          <a:xfrm>
            <a:off x="3703680" y="4683240"/>
            <a:ext cx="187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0,85*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6"/>
          <p:cNvSpPr/>
          <p:nvPr/>
        </p:nvSpPr>
        <p:spPr>
          <a:xfrm>
            <a:off x="5575320" y="4694400"/>
            <a:ext cx="2820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=51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7597800" y="6303960"/>
            <a:ext cx="144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2" descr=""/>
          <p:cNvPicPr/>
          <p:nvPr/>
        </p:nvPicPr>
        <p:blipFill>
          <a:blip r:embed="rId1"/>
          <a:stretch/>
        </p:blipFill>
        <p:spPr>
          <a:xfrm>
            <a:off x="-3240" y="55080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6"/>
          <p:cNvSpPr/>
          <p:nvPr/>
        </p:nvSpPr>
        <p:spPr>
          <a:xfrm>
            <a:off x="3419640" y="22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5"/>
          <p:cNvSpPr/>
          <p:nvPr/>
        </p:nvSpPr>
        <p:spPr>
          <a:xfrm>
            <a:off x="3798720" y="5013360"/>
            <a:ext cx="1540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6"/>
          <p:cNvSpPr/>
          <p:nvPr/>
        </p:nvSpPr>
        <p:spPr>
          <a:xfrm>
            <a:off x="5148360" y="22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6"/>
          <p:cNvSpPr/>
          <p:nvPr/>
        </p:nvSpPr>
        <p:spPr>
          <a:xfrm>
            <a:off x="6732720" y="22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8280360" y="22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0"/>
          <p:cNvSpPr/>
          <p:nvPr/>
        </p:nvSpPr>
        <p:spPr>
          <a:xfrm>
            <a:off x="5624640" y="4976640"/>
            <a:ext cx="153972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6"/>
          <p:cNvSpPr/>
          <p:nvPr/>
        </p:nvSpPr>
        <p:spPr>
          <a:xfrm>
            <a:off x="3276720" y="26924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5003640" y="26924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6703920" y="2630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6"/>
          <p:cNvSpPr/>
          <p:nvPr/>
        </p:nvSpPr>
        <p:spPr>
          <a:xfrm>
            <a:off x="8396280" y="2639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15"/>
          <p:cNvSpPr/>
          <p:nvPr/>
        </p:nvSpPr>
        <p:spPr>
          <a:xfrm>
            <a:off x="7510320" y="5013360"/>
            <a:ext cx="154008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6"/>
          <p:cNvSpPr/>
          <p:nvPr/>
        </p:nvSpPr>
        <p:spPr>
          <a:xfrm>
            <a:off x="3351240" y="3198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6"/>
          <p:cNvSpPr/>
          <p:nvPr/>
        </p:nvSpPr>
        <p:spPr>
          <a:xfrm>
            <a:off x="5003640" y="32194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4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6738840" y="3152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8396280" y="3152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3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6"/>
          <p:cNvSpPr/>
          <p:nvPr/>
        </p:nvSpPr>
        <p:spPr>
          <a:xfrm>
            <a:off x="3260880" y="44179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ahoma"/>
              </a:rPr>
              <a:t>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6"/>
          <p:cNvSpPr/>
          <p:nvPr/>
        </p:nvSpPr>
        <p:spPr>
          <a:xfrm>
            <a:off x="4716360" y="43797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ahoma"/>
              </a:rPr>
              <a:t>6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6645240" y="4356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ahoma"/>
              </a:rPr>
              <a:t>6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8275680" y="44085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ahoma"/>
              </a:rPr>
              <a:t>5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6"/>
          <p:cNvSpPr/>
          <p:nvPr/>
        </p:nvSpPr>
        <p:spPr>
          <a:xfrm>
            <a:off x="7602480" y="54943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ahoma"/>
              </a:rPr>
              <a:t>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4" descr=""/>
          <p:cNvPicPr/>
          <p:nvPr/>
        </p:nvPicPr>
        <p:blipFill>
          <a:blip r:embed="rId1"/>
          <a:stretch/>
        </p:blipFill>
        <p:spPr>
          <a:xfrm>
            <a:off x="11160" y="260280"/>
            <a:ext cx="9144000" cy="53262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36"/>
          <p:cNvSpPr/>
          <p:nvPr/>
        </p:nvSpPr>
        <p:spPr>
          <a:xfrm>
            <a:off x="4356000" y="62064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\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5035680" y="6094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\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6"/>
          <p:cNvSpPr/>
          <p:nvPr/>
        </p:nvSpPr>
        <p:spPr>
          <a:xfrm>
            <a:off x="611280" y="990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1:(9/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6"/>
          <p:cNvSpPr/>
          <p:nvPr/>
        </p:nvSpPr>
        <p:spPr>
          <a:xfrm>
            <a:off x="1922400" y="10033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=1*(180/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6"/>
          <p:cNvSpPr/>
          <p:nvPr/>
        </p:nvSpPr>
        <p:spPr>
          <a:xfrm>
            <a:off x="3622680" y="1174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=1*2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7567560" y="357120"/>
            <a:ext cx="18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TextBox 11" descr=""/>
          <p:cNvPicPr/>
          <p:nvPr/>
        </p:nvPicPr>
        <p:blipFill>
          <a:blip r:embed="rId2"/>
          <a:stretch/>
        </p:blipFill>
        <p:spPr>
          <a:xfrm>
            <a:off x="2816280" y="2120760"/>
            <a:ext cx="652320" cy="409680"/>
          </a:xfrm>
          <a:prstGeom prst="rect">
            <a:avLst/>
          </a:prstGeom>
          <a:ln w="0">
            <a:noFill/>
          </a:ln>
        </p:spPr>
      </p:pic>
      <p:pic>
        <p:nvPicPr>
          <p:cNvPr id="301" name="TextBox 12" descr=""/>
          <p:cNvPicPr/>
          <p:nvPr/>
        </p:nvPicPr>
        <p:blipFill>
          <a:blip r:embed="rId3"/>
          <a:stretch/>
        </p:blipFill>
        <p:spPr>
          <a:xfrm>
            <a:off x="4254480" y="2066760"/>
            <a:ext cx="658800" cy="414360"/>
          </a:xfrm>
          <a:prstGeom prst="rect">
            <a:avLst/>
          </a:prstGeom>
          <a:ln w="0">
            <a:noFill/>
          </a:ln>
        </p:spPr>
      </p:pic>
      <p:pic>
        <p:nvPicPr>
          <p:cNvPr id="302" name="TextBox 13" descr=""/>
          <p:cNvPicPr/>
          <p:nvPr/>
        </p:nvPicPr>
        <p:blipFill>
          <a:blip r:embed="rId4"/>
          <a:stretch/>
        </p:blipFill>
        <p:spPr>
          <a:xfrm>
            <a:off x="5718240" y="2066760"/>
            <a:ext cx="658800" cy="414360"/>
          </a:xfrm>
          <a:prstGeom prst="rect">
            <a:avLst/>
          </a:prstGeom>
          <a:ln w="0">
            <a:noFill/>
          </a:ln>
        </p:spPr>
      </p:pic>
      <p:sp>
        <p:nvSpPr>
          <p:cNvPr id="303" name="Овал 15"/>
          <p:cNvSpPr/>
          <p:nvPr/>
        </p:nvSpPr>
        <p:spPr>
          <a:xfrm>
            <a:off x="2585880" y="1779480"/>
            <a:ext cx="836640" cy="41292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7731000" y="264168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TextBox 17" descr=""/>
          <p:cNvPicPr/>
          <p:nvPr/>
        </p:nvPicPr>
        <p:blipFill>
          <a:blip r:embed="rId5"/>
          <a:stretch/>
        </p:blipFill>
        <p:spPr>
          <a:xfrm>
            <a:off x="1054080" y="4078440"/>
            <a:ext cx="555480" cy="755640"/>
          </a:xfrm>
          <a:prstGeom prst="rect">
            <a:avLst/>
          </a:prstGeom>
          <a:ln w="0">
            <a:noFill/>
          </a:ln>
        </p:spPr>
      </p:pic>
      <p:pic>
        <p:nvPicPr>
          <p:cNvPr id="306" name="TextBox 18" descr=""/>
          <p:cNvPicPr/>
          <p:nvPr/>
        </p:nvPicPr>
        <p:blipFill>
          <a:blip r:embed="rId6"/>
          <a:stretch/>
        </p:blipFill>
        <p:spPr>
          <a:xfrm>
            <a:off x="1822320" y="4248000"/>
            <a:ext cx="860400" cy="439920"/>
          </a:xfrm>
          <a:prstGeom prst="rect">
            <a:avLst/>
          </a:prstGeom>
          <a:ln w="0">
            <a:noFill/>
          </a:ln>
        </p:spPr>
      </p:pic>
      <p:pic>
        <p:nvPicPr>
          <p:cNvPr id="307" name="TextBox 19" descr=""/>
          <p:cNvPicPr/>
          <p:nvPr/>
        </p:nvPicPr>
        <p:blipFill>
          <a:blip r:embed="rId7"/>
          <a:stretch/>
        </p:blipFill>
        <p:spPr>
          <a:xfrm>
            <a:off x="2762280" y="4280040"/>
            <a:ext cx="852480" cy="4381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6"/>
          <p:cNvSpPr/>
          <p:nvPr/>
        </p:nvSpPr>
        <p:spPr>
          <a:xfrm>
            <a:off x="3622680" y="427680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=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7483320" y="3922560"/>
            <a:ext cx="18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6"/>
          <p:cNvSpPr/>
          <p:nvPr/>
        </p:nvSpPr>
        <p:spPr>
          <a:xfrm>
            <a:off x="282600" y="5176800"/>
            <a:ext cx="52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5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2+4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+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12-4x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6"/>
          <p:cNvSpPr/>
          <p:nvPr/>
        </p:nvSpPr>
        <p:spPr>
          <a:xfrm>
            <a:off x="282600" y="5630760"/>
            <a:ext cx="52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5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+4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+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x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12-1+2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6"/>
          <p:cNvSpPr/>
          <p:nvPr/>
        </p:nvSpPr>
        <p:spPr>
          <a:xfrm>
            <a:off x="355680" y="6067440"/>
            <a:ext cx="52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x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6"/>
          <p:cNvSpPr/>
          <p:nvPr/>
        </p:nvSpPr>
        <p:spPr>
          <a:xfrm>
            <a:off x="2050920" y="6093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15: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3921120" y="60786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6"/>
          <p:cNvSpPr/>
          <p:nvPr/>
        </p:nvSpPr>
        <p:spPr>
          <a:xfrm>
            <a:off x="7608960" y="487980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Рисунок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164160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ая соединительная линия 3"/>
          <p:cNvSpPr/>
          <p:nvPr/>
        </p:nvSpPr>
        <p:spPr>
          <a:xfrm flipH="1">
            <a:off x="3348000" y="1197000"/>
            <a:ext cx="1881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6"/>
          <p:cNvSpPr/>
          <p:nvPr/>
        </p:nvSpPr>
        <p:spPr>
          <a:xfrm>
            <a:off x="127080" y="1197000"/>
            <a:ext cx="4228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3+4+3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0 -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6"/>
          <p:cNvSpPr/>
          <p:nvPr/>
        </p:nvSpPr>
        <p:spPr>
          <a:xfrm>
            <a:off x="100080" y="1627200"/>
            <a:ext cx="5840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+3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16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е из Норве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6"/>
          <p:cNvSpPr/>
          <p:nvPr/>
        </p:nvSpPr>
        <p:spPr>
          <a:xfrm>
            <a:off x="5464080" y="1627200"/>
            <a:ext cx="1424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6/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5808600" y="1459080"/>
            <a:ext cx="7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\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6748560" y="1635120"/>
            <a:ext cx="2081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=80/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6"/>
          <p:cNvSpPr/>
          <p:nvPr/>
        </p:nvSpPr>
        <p:spPr>
          <a:xfrm>
            <a:off x="7380360" y="895320"/>
            <a:ext cx="1262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0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Рисунок 11" descr=""/>
          <p:cNvPicPr/>
          <p:nvPr/>
        </p:nvPicPr>
        <p:blipFill>
          <a:blip r:embed="rId2"/>
          <a:stretch/>
        </p:blipFill>
        <p:spPr>
          <a:xfrm>
            <a:off x="-15840" y="2382840"/>
            <a:ext cx="9144000" cy="42940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36"/>
          <p:cNvSpPr/>
          <p:nvPr/>
        </p:nvSpPr>
        <p:spPr>
          <a:xfrm>
            <a:off x="1116000" y="6154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6"/>
          <p:cNvSpPr/>
          <p:nvPr/>
        </p:nvSpPr>
        <p:spPr>
          <a:xfrm>
            <a:off x="1424160" y="61545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6"/>
          <p:cNvSpPr/>
          <p:nvPr/>
        </p:nvSpPr>
        <p:spPr>
          <a:xfrm>
            <a:off x="1762200" y="6154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2" descr="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4583160"/>
          </a:xfrm>
          <a:prstGeom prst="rect">
            <a:avLst/>
          </a:prstGeom>
          <a:ln w="0">
            <a:noFill/>
          </a:ln>
        </p:spPr>
      </p:pic>
      <p:pic>
        <p:nvPicPr>
          <p:cNvPr id="329" name="TextBox 3" descr=""/>
          <p:cNvPicPr/>
          <p:nvPr/>
        </p:nvPicPr>
        <p:blipFill>
          <a:blip r:embed="rId2"/>
          <a:stretch/>
        </p:blipFill>
        <p:spPr>
          <a:xfrm>
            <a:off x="542880" y="1268280"/>
            <a:ext cx="1230480" cy="420840"/>
          </a:xfrm>
          <a:prstGeom prst="rect">
            <a:avLst/>
          </a:prstGeom>
          <a:ln w="0">
            <a:noFill/>
          </a:ln>
        </p:spPr>
      </p:pic>
      <p:pic>
        <p:nvPicPr>
          <p:cNvPr id="330" name="TextBox 4" descr=""/>
          <p:cNvPicPr/>
          <p:nvPr/>
        </p:nvPicPr>
        <p:blipFill>
          <a:blip r:embed="rId3"/>
          <a:stretch/>
        </p:blipFill>
        <p:spPr>
          <a:xfrm>
            <a:off x="2054160" y="1268280"/>
            <a:ext cx="1006560" cy="408240"/>
          </a:xfrm>
          <a:prstGeom prst="rect">
            <a:avLst/>
          </a:prstGeom>
          <a:ln w="0">
            <a:noFill/>
          </a:ln>
        </p:spPr>
      </p:pic>
      <p:sp>
        <p:nvSpPr>
          <p:cNvPr id="331" name="TextBox 5"/>
          <p:cNvSpPr/>
          <p:nvPr/>
        </p:nvSpPr>
        <p:spPr>
          <a:xfrm>
            <a:off x="3319560" y="1268280"/>
            <a:ext cx="87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=4,5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6"/>
          <p:cNvSpPr/>
          <p:nvPr/>
        </p:nvSpPr>
        <p:spPr>
          <a:xfrm>
            <a:off x="4292280" y="1268280"/>
            <a:ext cx="102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=2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7"/>
          <p:cNvSpPr/>
          <p:nvPr/>
        </p:nvSpPr>
        <p:spPr>
          <a:xfrm>
            <a:off x="7608600" y="857160"/>
            <a:ext cx="127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20,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Прямая со стрелкой 8"/>
          <p:cNvCxnSpPr/>
          <p:nvPr/>
        </p:nvCxnSpPr>
        <p:spPr>
          <a:xfrm>
            <a:off x="758520" y="2707920"/>
            <a:ext cx="35298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5" name="TextBox 9"/>
          <p:cNvSpPr/>
          <p:nvPr/>
        </p:nvSpPr>
        <p:spPr>
          <a:xfrm>
            <a:off x="1349640" y="273852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0"/>
          <p:cNvSpPr/>
          <p:nvPr/>
        </p:nvSpPr>
        <p:spPr>
          <a:xfrm>
            <a:off x="2890080" y="2774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олилиния: фигура 11"/>
          <p:cNvSpPr/>
          <p:nvPr/>
        </p:nvSpPr>
        <p:spPr>
          <a:xfrm>
            <a:off x="590400" y="2378160"/>
            <a:ext cx="973440" cy="365040"/>
          </a:xfrm>
          <a:custGeom>
            <a:avLst/>
            <a:gdLst/>
            <a:ahLst/>
            <a:rect l="l" t="t" r="r" b="b"/>
            <a:pathLst>
              <a:path w="972170" h="365760">
                <a:moveTo>
                  <a:pt x="0" y="98474"/>
                </a:moveTo>
                <a:cubicBezTo>
                  <a:pt x="28135" y="84406"/>
                  <a:pt x="56908" y="71548"/>
                  <a:pt x="84406" y="56271"/>
                </a:cubicBezTo>
                <a:cubicBezTo>
                  <a:pt x="99186" y="48060"/>
                  <a:pt x="110064" y="31618"/>
                  <a:pt x="126609" y="28135"/>
                </a:cubicBezTo>
                <a:cubicBezTo>
                  <a:pt x="200599" y="12558"/>
                  <a:pt x="276664" y="9378"/>
                  <a:pt x="351692" y="0"/>
                </a:cubicBezTo>
                <a:cubicBezTo>
                  <a:pt x="577136" y="20495"/>
                  <a:pt x="600481" y="3213"/>
                  <a:pt x="759655" y="56271"/>
                </a:cubicBezTo>
                <a:cubicBezTo>
                  <a:pt x="841047" y="83402"/>
                  <a:pt x="836223" y="88559"/>
                  <a:pt x="914400" y="140677"/>
                </a:cubicBezTo>
                <a:lnTo>
                  <a:pt x="956603" y="168812"/>
                </a:lnTo>
                <a:cubicBezTo>
                  <a:pt x="978948" y="280534"/>
                  <a:pt x="970671" y="215240"/>
                  <a:pt x="970671" y="365760"/>
                </a:cubicBezTo>
              </a:path>
            </a:pathLst>
          </a:custGeom>
          <a:noFill/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олилиния: фигура 12"/>
          <p:cNvSpPr/>
          <p:nvPr/>
        </p:nvSpPr>
        <p:spPr>
          <a:xfrm>
            <a:off x="1562040" y="2390760"/>
            <a:ext cx="1435320" cy="366840"/>
          </a:xfrm>
          <a:custGeom>
            <a:avLst/>
            <a:gdLst/>
            <a:ahLst/>
            <a:rect l="l" t="t" r="r" b="b"/>
            <a:pathLst>
              <a:path w="1434904" h="365760">
                <a:moveTo>
                  <a:pt x="0" y="295421"/>
                </a:moveTo>
                <a:cubicBezTo>
                  <a:pt x="4689" y="262596"/>
                  <a:pt x="1753" y="227733"/>
                  <a:pt x="14068" y="196947"/>
                </a:cubicBezTo>
                <a:cubicBezTo>
                  <a:pt x="33506" y="148352"/>
                  <a:pt x="102594" y="139303"/>
                  <a:pt x="140677" y="126609"/>
                </a:cubicBezTo>
                <a:cubicBezTo>
                  <a:pt x="168812" y="117231"/>
                  <a:pt x="198084" y="110746"/>
                  <a:pt x="225083" y="98474"/>
                </a:cubicBezTo>
                <a:cubicBezTo>
                  <a:pt x="276665" y="75028"/>
                  <a:pt x="327020" y="48671"/>
                  <a:pt x="379828" y="28135"/>
                </a:cubicBezTo>
                <a:cubicBezTo>
                  <a:pt x="411645" y="15762"/>
                  <a:pt x="445477" y="9378"/>
                  <a:pt x="478301" y="0"/>
                </a:cubicBezTo>
                <a:cubicBezTo>
                  <a:pt x="618978" y="9378"/>
                  <a:pt x="760903" y="7221"/>
                  <a:pt x="900332" y="28135"/>
                </a:cubicBezTo>
                <a:cubicBezTo>
                  <a:pt x="950278" y="35627"/>
                  <a:pt x="993096" y="68435"/>
                  <a:pt x="1041009" y="84406"/>
                </a:cubicBezTo>
                <a:cubicBezTo>
                  <a:pt x="1055077" y="89095"/>
                  <a:pt x="1069949" y="91842"/>
                  <a:pt x="1083212" y="98474"/>
                </a:cubicBezTo>
                <a:cubicBezTo>
                  <a:pt x="1192294" y="153015"/>
                  <a:pt x="1061539" y="105317"/>
                  <a:pt x="1167618" y="140677"/>
                </a:cubicBezTo>
                <a:cubicBezTo>
                  <a:pt x="1236454" y="209513"/>
                  <a:pt x="1177924" y="165459"/>
                  <a:pt x="1266092" y="196947"/>
                </a:cubicBezTo>
                <a:cubicBezTo>
                  <a:pt x="1313654" y="213933"/>
                  <a:pt x="1406769" y="253218"/>
                  <a:pt x="1406769" y="253218"/>
                </a:cubicBezTo>
                <a:cubicBezTo>
                  <a:pt x="1421775" y="358257"/>
                  <a:pt x="1397392" y="328245"/>
                  <a:pt x="1434904" y="365760"/>
                </a:cubicBezTo>
              </a:path>
            </a:pathLst>
          </a:custGeom>
          <a:noFill/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олилиния: фигура 13"/>
          <p:cNvSpPr/>
          <p:nvPr/>
        </p:nvSpPr>
        <p:spPr>
          <a:xfrm>
            <a:off x="3009960" y="2433600"/>
            <a:ext cx="1576440" cy="309600"/>
          </a:xfrm>
          <a:custGeom>
            <a:avLst/>
            <a:gdLst/>
            <a:ahLst/>
            <a:rect l="l" t="t" r="r" b="b"/>
            <a:pathLst>
              <a:path w="1575696" h="309489">
                <a:moveTo>
                  <a:pt x="0" y="309489"/>
                </a:moveTo>
                <a:cubicBezTo>
                  <a:pt x="43646" y="178555"/>
                  <a:pt x="-1989" y="262076"/>
                  <a:pt x="84406" y="182880"/>
                </a:cubicBezTo>
                <a:cubicBezTo>
                  <a:pt x="123514" y="147031"/>
                  <a:pt x="151679" y="98002"/>
                  <a:pt x="196948" y="70338"/>
                </a:cubicBezTo>
                <a:cubicBezTo>
                  <a:pt x="238722" y="44809"/>
                  <a:pt x="290833" y="42533"/>
                  <a:pt x="337625" y="28135"/>
                </a:cubicBezTo>
                <a:cubicBezTo>
                  <a:pt x="472476" y="-13358"/>
                  <a:pt x="294043" y="18833"/>
                  <a:pt x="633046" y="0"/>
                </a:cubicBezTo>
                <a:lnTo>
                  <a:pt x="1533379" y="14067"/>
                </a:lnTo>
                <a:cubicBezTo>
                  <a:pt x="1580031" y="15460"/>
                  <a:pt x="1575582" y="17784"/>
                  <a:pt x="1575582" y="42203"/>
                </a:cubicBezTo>
              </a:path>
            </a:pathLst>
          </a:custGeom>
          <a:noFill/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4"/>
          <p:cNvSpPr/>
          <p:nvPr/>
        </p:nvSpPr>
        <p:spPr>
          <a:xfrm>
            <a:off x="3608640" y="24084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5"/>
          <p:cNvSpPr/>
          <p:nvPr/>
        </p:nvSpPr>
        <p:spPr>
          <a:xfrm>
            <a:off x="4464360" y="15350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6"/>
          <p:cNvSpPr/>
          <p:nvPr/>
        </p:nvSpPr>
        <p:spPr>
          <a:xfrm>
            <a:off x="5240520" y="15350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7"/>
          <p:cNvSpPr/>
          <p:nvPr/>
        </p:nvSpPr>
        <p:spPr>
          <a:xfrm>
            <a:off x="4687920" y="190332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8"/>
          <p:cNvSpPr/>
          <p:nvPr/>
        </p:nvSpPr>
        <p:spPr>
          <a:xfrm>
            <a:off x="5492880" y="192240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3443400" y="240192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2094840" y="236052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1"/>
          <p:cNvSpPr/>
          <p:nvPr/>
        </p:nvSpPr>
        <p:spPr>
          <a:xfrm>
            <a:off x="914400" y="23763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Овал 22"/>
          <p:cNvSpPr/>
          <p:nvPr/>
        </p:nvSpPr>
        <p:spPr>
          <a:xfrm>
            <a:off x="5875200" y="1719360"/>
            <a:ext cx="533520" cy="36972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23"/>
          <p:cNvSpPr/>
          <p:nvPr/>
        </p:nvSpPr>
        <p:spPr>
          <a:xfrm>
            <a:off x="1603440" y="2552760"/>
            <a:ext cx="1371600" cy="149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5"/>
          <p:cNvSpPr/>
          <p:nvPr/>
        </p:nvSpPr>
        <p:spPr>
          <a:xfrm>
            <a:off x="7930800" y="2206800"/>
            <a:ext cx="311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6"/>
          <p:cNvSpPr/>
          <p:nvPr/>
        </p:nvSpPr>
        <p:spPr>
          <a:xfrm>
            <a:off x="412920" y="4307040"/>
            <a:ext cx="52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3+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+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+x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6"/>
          <p:cNvSpPr/>
          <p:nvPr/>
        </p:nvSpPr>
        <p:spPr>
          <a:xfrm>
            <a:off x="399960" y="4782960"/>
            <a:ext cx="52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3+4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=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399960" y="5164200"/>
            <a:ext cx="52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=35-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318960" y="5551560"/>
            <a:ext cx="52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6"/>
          <p:cNvSpPr/>
          <p:nvPr/>
        </p:nvSpPr>
        <p:spPr>
          <a:xfrm>
            <a:off x="412920" y="5931000"/>
            <a:ext cx="14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6"/>
          <p:cNvSpPr/>
          <p:nvPr/>
        </p:nvSpPr>
        <p:spPr>
          <a:xfrm>
            <a:off x="3970440" y="4479840"/>
            <a:ext cx="45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5+3=38 –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 9 ря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3279600" y="5011560"/>
            <a:ext cx="519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41, 44, 47, 50, 53, 56, 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33"/>
          <p:cNvSpPr/>
          <p:nvPr/>
        </p:nvSpPr>
        <p:spPr>
          <a:xfrm>
            <a:off x="8000640" y="3778200"/>
            <a:ext cx="622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2" descr=""/>
          <p:cNvPicPr/>
          <p:nvPr/>
        </p:nvPicPr>
        <p:blipFill>
          <a:blip r:embed="rId1"/>
          <a:stretch/>
        </p:blipFill>
        <p:spPr>
          <a:xfrm>
            <a:off x="31680" y="189000"/>
            <a:ext cx="9144000" cy="42163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36"/>
          <p:cNvSpPr/>
          <p:nvPr/>
        </p:nvSpPr>
        <p:spPr>
          <a:xfrm>
            <a:off x="1258920" y="18702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3348000" y="15764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50:2=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7601760" y="1270080"/>
            <a:ext cx="56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6"/>
          <p:cNvSpPr/>
          <p:nvPr/>
        </p:nvSpPr>
        <p:spPr>
          <a:xfrm>
            <a:off x="1835280" y="28764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3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6"/>
          <p:cNvSpPr/>
          <p:nvPr/>
        </p:nvSpPr>
        <p:spPr>
          <a:xfrm>
            <a:off x="2808360" y="363996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134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:2 =67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7887600" y="3301920"/>
            <a:ext cx="56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Рисунок 10" descr=""/>
          <p:cNvPicPr/>
          <p:nvPr/>
        </p:nvPicPr>
        <p:blipFill>
          <a:blip r:embed="rId2"/>
          <a:stretch/>
        </p:blipFill>
        <p:spPr>
          <a:xfrm>
            <a:off x="31680" y="440532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ая соединительная линия 11"/>
          <p:cNvSpPr/>
          <p:nvPr/>
        </p:nvSpPr>
        <p:spPr>
          <a:xfrm flipH="1" flipV="1">
            <a:off x="900000" y="4868640"/>
            <a:ext cx="1114560" cy="10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6"/>
          <p:cNvSpPr/>
          <p:nvPr/>
        </p:nvSpPr>
        <p:spPr>
          <a:xfrm>
            <a:off x="701640" y="53276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6"/>
          <p:cNvSpPr/>
          <p:nvPr/>
        </p:nvSpPr>
        <p:spPr>
          <a:xfrm>
            <a:off x="2882880" y="57276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48:2=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6"/>
          <p:cNvSpPr/>
          <p:nvPr/>
        </p:nvSpPr>
        <p:spPr>
          <a:xfrm>
            <a:off x="2970360" y="60944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74:2=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1440000" y="52084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6"/>
          <p:cNvSpPr/>
          <p:nvPr/>
        </p:nvSpPr>
        <p:spPr>
          <a:xfrm>
            <a:off x="1611360" y="47912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5148360" y="60944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74+37=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20"/>
          <p:cNvSpPr/>
          <p:nvPr/>
        </p:nvSpPr>
        <p:spPr>
          <a:xfrm>
            <a:off x="7661880" y="5419800"/>
            <a:ext cx="84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02:12Z</dcterms:created>
  <dc:creator>Надежда</dc:creator>
  <dc:description/>
  <cp:keywords>Галибихинская школа;подготовка к ГИА по математике</cp:keywords>
  <dc:language>en-US</dc:language>
  <cp:lastModifiedBy>leontieva_marina@mail.ru</cp:lastModifiedBy>
  <dcterms:modified xsi:type="dcterms:W3CDTF">2023-06-28T16:28:14Z</dcterms:modified>
  <cp:revision>100</cp:revision>
  <dc:subject/>
  <dc:title>Слайд 1</dc:title>
</cp:coreProperties>
</file>