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0CC-1D56-4D7C-8658-6F20D38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CB5-5E6F-4B6D-9CC6-097AD3FF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A83-17FE-4CA6-9DFC-DD70A365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AE7-F654-44CE-8839-6FBD544D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7E13-14A4-4871-BE4C-59BACF4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174-793E-4E67-901E-DAC6F9D4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7F8-B309-4B1E-9280-7E830AB8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A179-F3FC-4DC3-A5B4-8634B71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184C-333C-4C09-9693-6EC7939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E849-96A9-4EE2-871F-7DB789A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0460-F222-468A-BD6F-A5BE6A6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8B9-6C28-4C96-8937-D7AE1B1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4CCD-85E6-444C-9428-89C27434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F2CB-CC5A-475E-82E4-6D460351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AEB-1D8C-46ED-AB7F-76FF332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22A-C3A6-47B2-A7FB-082C7AB5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2535-9995-4566-96B2-B5B817F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60FF-6184-4A46-9C98-8364441F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0A9E-4B42-49FB-9ABE-D88B1599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68E4-C08E-4875-98EB-A51ACFE2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85A8-3BA9-4813-B921-5874304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74A93-F83F-4A6C-AA10-7E5B20E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912-D11D-47F8-98F0-0BC2C168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CA07-9F7A-4618-A612-FA28C902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3505-C069-4000-8AF7-387F9D1E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9A25-D393-4CEA-910D-55DDD63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C706B-FC7E-41FA-8F7A-FC4981D7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7AA7-70A5-43E2-B47A-383E614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86A1-420E-48F8-A529-C73C839A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F9E1-DA69-4E26-B6F8-5757E812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B3C7-DA00-4D02-9C4D-21F1BA9D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C301B-6600-499E-A02B-C11E0E9A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FE9D-C2A8-4B0C-8C75-1FBF217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79E-6C3B-43AD-8A63-2BF6D5F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3400-0856-42E7-A3E9-6F6CEA1B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C327-E68E-45DD-8574-D3854FE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BAB4-16C5-4571-9D05-DDF454F2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C3E2-E306-4CCA-ADB2-CA53BED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D39A-53E4-47A6-9FD0-6EB69958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8FD4-0725-407D-AF38-15EE322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4657F-11F8-4606-8FB7-BF626D7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65FD-9735-4B28-AB5F-798C3688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C7F8-61A3-4D5D-94FC-9037E64E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A67CC-0F53-42C1-B93D-CBBD336A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768-61D3-423F-A71D-E11B5902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0CD1-8C84-461A-9B11-9733F8D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E769D-5AA3-47A6-8CDF-128A075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FC40-5A3E-4687-8EF2-EC574D73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58B3-A2B3-4258-B744-CA15AB7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6233-A4C2-4080-A4F9-7857CBEF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F75F-08DC-49F4-A712-5CC4A7A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4FB6-42F1-421F-8D5B-A1A3365E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2BC10-C38A-4BA6-B8BE-8D84B53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41EB-5A14-451D-A2A8-C029DB33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356E-A9E3-4F6E-888C-FF0564E0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279-C528-4667-B185-E1A338D1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B5AAF-53EA-4526-A4AE-BBABCC5B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5F7-11D9-4D44-97C2-67EE350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29-2834-4CE9-856D-F6E5F23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113-7AA0-4CD3-B3E5-977F138A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76B9-125D-4DC8-9161-A8357BA2EB2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FB8-B310-4F71-977C-1375C306A88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330-B139-432D-82B8-E61D425FA05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94A5-EADB-4602-BBAE-59E967E4F0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924-97C5-4B7D-A8A6-3EE7D6EF9BE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"/>
          <p:cNvPicPr/>
          <p:nvPr/>
        </p:nvPicPr>
        <p:blipFill>
          <a:blip r:embed="rId2"/>
          <a:stretch/>
        </p:blipFill>
        <p:spPr>
          <a:xfrm>
            <a:off x="0" y="485460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3564000" y="62611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6"/>
          <p:cNvSpPr/>
          <p:nvPr/>
        </p:nvSpPr>
        <p:spPr>
          <a:xfrm>
            <a:off x="5272200" y="6284880"/>
            <a:ext cx="11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7061040" y="62611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Рисунок 2" descr=""/>
          <p:cNvPicPr/>
          <p:nvPr/>
        </p:nvPicPr>
        <p:blipFill>
          <a:blip r:embed="rId1"/>
          <a:stretch/>
        </p:blipFill>
        <p:spPr>
          <a:xfrm>
            <a:off x="28440" y="765000"/>
            <a:ext cx="9144000" cy="39340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ая соединительная линия 3"/>
          <p:cNvSpPr/>
          <p:nvPr/>
        </p:nvSpPr>
        <p:spPr>
          <a:xfrm flipV="1">
            <a:off x="755640" y="620640"/>
            <a:ext cx="0" cy="165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6"/>
          <p:cNvSpPr/>
          <p:nvPr/>
        </p:nvSpPr>
        <p:spPr>
          <a:xfrm>
            <a:off x="755640" y="1341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7597800" y="16509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10"/>
          <p:cNvSpPr/>
          <p:nvPr/>
        </p:nvSpPr>
        <p:spPr>
          <a:xfrm>
            <a:off x="-31680" y="328464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597800" y="378936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0" descr=""/>
          <p:cNvPicPr/>
          <p:nvPr/>
        </p:nvPicPr>
        <p:blipFill>
          <a:blip r:embed="rId2"/>
          <a:stretch/>
        </p:blipFill>
        <p:spPr>
          <a:xfrm>
            <a:off x="34920" y="5910120"/>
            <a:ext cx="9144000" cy="1082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12"/>
          <p:cNvSpPr/>
          <p:nvPr/>
        </p:nvSpPr>
        <p:spPr>
          <a:xfrm>
            <a:off x="4213080" y="1268280"/>
            <a:ext cx="1654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4748040" y="614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1244520" y="6324480"/>
            <a:ext cx="33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2+16=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667640" y="629460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2"/>
          <p:cNvSpPr/>
          <p:nvPr/>
        </p:nvSpPr>
        <p:spPr>
          <a:xfrm>
            <a:off x="4213080" y="1268280"/>
            <a:ext cx="1654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4748040" y="61452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2" descr=""/>
          <p:cNvPicPr/>
          <p:nvPr/>
        </p:nvPicPr>
        <p:blipFill>
          <a:blip r:embed="rId2"/>
          <a:stretch/>
        </p:blipFill>
        <p:spPr>
          <a:xfrm>
            <a:off x="38160" y="5872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6"/>
          <p:cNvSpPr/>
          <p:nvPr/>
        </p:nvSpPr>
        <p:spPr>
          <a:xfrm>
            <a:off x="177840" y="6389640"/>
            <a:ext cx="64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2²+16²=144+256=400=20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7524720" y="6114960"/>
            <a:ext cx="17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0"/>
          <p:cNvSpPr/>
          <p:nvPr/>
        </p:nvSpPr>
        <p:spPr>
          <a:xfrm flipV="1">
            <a:off x="4213080" y="1260000"/>
            <a:ext cx="1654200" cy="21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38160" y="-255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6"/>
          <p:cNvSpPr/>
          <p:nvPr/>
        </p:nvSpPr>
        <p:spPr>
          <a:xfrm>
            <a:off x="8388360" y="2746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П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3851280" y="34560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6"/>
          <p:cNvSpPr/>
          <p:nvPr/>
        </p:nvSpPr>
        <p:spPr>
          <a:xfrm>
            <a:off x="586728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3975120" y="255600"/>
            <a:ext cx="11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 flipV="1">
            <a:off x="4213080" y="1252440"/>
            <a:ext cx="417528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6316560" y="63036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4"/>
          <p:cNvSpPr/>
          <p:nvPr/>
        </p:nvSpPr>
        <p:spPr>
          <a:xfrm flipV="1">
            <a:off x="4213080" y="1267920"/>
            <a:ext cx="0" cy="2187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3359160" y="203688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90440" y="4135320"/>
            <a:ext cx="6796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0²+16²=900+256=1156=34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160200" y="4694400"/>
            <a:ext cx="29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4:40=0,85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20"/>
          <p:cNvSpPr/>
          <p:nvPr/>
        </p:nvSpPr>
        <p:spPr>
          <a:xfrm flipV="1">
            <a:off x="4141800" y="1252080"/>
            <a:ext cx="4246560" cy="2233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7" descr=""/>
          <p:cNvPicPr/>
          <p:nvPr/>
        </p:nvPicPr>
        <p:blipFill>
          <a:blip r:embed="rId2"/>
          <a:stretch/>
        </p:blipFill>
        <p:spPr>
          <a:xfrm>
            <a:off x="1440" y="5899320"/>
            <a:ext cx="9144000" cy="1074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ая соединительная линия 19"/>
          <p:cNvSpPr/>
          <p:nvPr/>
        </p:nvSpPr>
        <p:spPr>
          <a:xfrm flipV="1">
            <a:off x="223920" y="5626080"/>
            <a:ext cx="2619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1"/>
          <p:cNvSpPr/>
          <p:nvPr/>
        </p:nvSpPr>
        <p:spPr>
          <a:xfrm flipV="1">
            <a:off x="6199200" y="5373720"/>
            <a:ext cx="2619360" cy="1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3703680" y="4683240"/>
            <a:ext cx="187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0,85*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5575320" y="4694400"/>
            <a:ext cx="2820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51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597800" y="6303960"/>
            <a:ext cx="1440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1"/>
          <a:stretch/>
        </p:blipFill>
        <p:spPr>
          <a:xfrm>
            <a:off x="-3240" y="550800"/>
            <a:ext cx="9144000" cy="5886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6"/>
          <p:cNvSpPr/>
          <p:nvPr/>
        </p:nvSpPr>
        <p:spPr>
          <a:xfrm>
            <a:off x="341964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5"/>
          <p:cNvSpPr/>
          <p:nvPr/>
        </p:nvSpPr>
        <p:spPr>
          <a:xfrm>
            <a:off x="3798720" y="5013360"/>
            <a:ext cx="1540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5148360" y="22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673272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8280360" y="22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5624640" y="4976640"/>
            <a:ext cx="15397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3276720" y="2692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5003640" y="26924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6703920" y="2630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8396280" y="2639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5"/>
          <p:cNvSpPr/>
          <p:nvPr/>
        </p:nvSpPr>
        <p:spPr>
          <a:xfrm>
            <a:off x="7510320" y="5013360"/>
            <a:ext cx="154008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3351240" y="3198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5003640" y="3219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6738840" y="31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8396280" y="31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260880" y="4417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4716360" y="4379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6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6645240" y="4356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6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8275680" y="44085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7602480" y="5494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4" descr=""/>
          <p:cNvPicPr/>
          <p:nvPr/>
        </p:nvPicPr>
        <p:blipFill>
          <a:blip r:embed="rId1"/>
          <a:stretch/>
        </p:blipFill>
        <p:spPr>
          <a:xfrm>
            <a:off x="11160" y="260280"/>
            <a:ext cx="9144000" cy="5326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6"/>
          <p:cNvSpPr/>
          <p:nvPr/>
        </p:nvSpPr>
        <p:spPr>
          <a:xfrm>
            <a:off x="4356000" y="620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5035680" y="6094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611280" y="990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1:(9/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1922400" y="10033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=1*(180/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3622680" y="117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=1*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7567560" y="3571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TextBox 11" descr=""/>
          <p:cNvPicPr/>
          <p:nvPr/>
        </p:nvPicPr>
        <p:blipFill>
          <a:blip r:embed="rId2"/>
          <a:stretch/>
        </p:blipFill>
        <p:spPr>
          <a:xfrm>
            <a:off x="2816280" y="2120760"/>
            <a:ext cx="652320" cy="409680"/>
          </a:xfrm>
          <a:prstGeom prst="rect">
            <a:avLst/>
          </a:prstGeom>
          <a:ln w="0">
            <a:noFill/>
          </a:ln>
        </p:spPr>
      </p:pic>
      <p:pic>
        <p:nvPicPr>
          <p:cNvPr id="301" name="TextBox 12" descr=""/>
          <p:cNvPicPr/>
          <p:nvPr/>
        </p:nvPicPr>
        <p:blipFill>
          <a:blip r:embed="rId3"/>
          <a:stretch/>
        </p:blipFill>
        <p:spPr>
          <a:xfrm>
            <a:off x="4254480" y="2066760"/>
            <a:ext cx="658800" cy="41436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13" descr=""/>
          <p:cNvPicPr/>
          <p:nvPr/>
        </p:nvPicPr>
        <p:blipFill>
          <a:blip r:embed="rId4"/>
          <a:stretch/>
        </p:blipFill>
        <p:spPr>
          <a:xfrm>
            <a:off x="5718240" y="2066760"/>
            <a:ext cx="658800" cy="414360"/>
          </a:xfrm>
          <a:prstGeom prst="rect">
            <a:avLst/>
          </a:prstGeom>
          <a:ln w="0">
            <a:noFill/>
          </a:ln>
        </p:spPr>
      </p:pic>
      <p:sp>
        <p:nvSpPr>
          <p:cNvPr id="303" name="Овал 15"/>
          <p:cNvSpPr/>
          <p:nvPr/>
        </p:nvSpPr>
        <p:spPr>
          <a:xfrm>
            <a:off x="2585880" y="1779480"/>
            <a:ext cx="836640" cy="4129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7731000" y="264168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TextBox 17" descr=""/>
          <p:cNvPicPr/>
          <p:nvPr/>
        </p:nvPicPr>
        <p:blipFill>
          <a:blip r:embed="rId5"/>
          <a:stretch/>
        </p:blipFill>
        <p:spPr>
          <a:xfrm>
            <a:off x="1054080" y="4078440"/>
            <a:ext cx="5554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18" descr=""/>
          <p:cNvPicPr/>
          <p:nvPr/>
        </p:nvPicPr>
        <p:blipFill>
          <a:blip r:embed="rId6"/>
          <a:stretch/>
        </p:blipFill>
        <p:spPr>
          <a:xfrm>
            <a:off x="1822320" y="4248000"/>
            <a:ext cx="860400" cy="43992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19" descr=""/>
          <p:cNvPicPr/>
          <p:nvPr/>
        </p:nvPicPr>
        <p:blipFill>
          <a:blip r:embed="rId7"/>
          <a:stretch/>
        </p:blipFill>
        <p:spPr>
          <a:xfrm>
            <a:off x="2762280" y="4280040"/>
            <a:ext cx="852480" cy="4381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6"/>
          <p:cNvSpPr/>
          <p:nvPr/>
        </p:nvSpPr>
        <p:spPr>
          <a:xfrm>
            <a:off x="3622680" y="427680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=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7483320" y="392256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282600" y="517680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2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2-4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282600" y="563076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2-1+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355680" y="606744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2050920" y="6093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15: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3921120" y="60786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7608960" y="487980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16416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ая соединительная линия 3"/>
          <p:cNvSpPr/>
          <p:nvPr/>
        </p:nvSpPr>
        <p:spPr>
          <a:xfrm flipH="1">
            <a:off x="3348000" y="1197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6"/>
          <p:cNvSpPr/>
          <p:nvPr/>
        </p:nvSpPr>
        <p:spPr>
          <a:xfrm>
            <a:off x="127080" y="1197000"/>
            <a:ext cx="422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+4+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0 -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100080" y="1627200"/>
            <a:ext cx="5840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1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е из Норве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5464080" y="1627200"/>
            <a:ext cx="142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6/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5808600" y="14590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748560" y="1635120"/>
            <a:ext cx="2081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80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7380360" y="895320"/>
            <a:ext cx="1262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11" descr=""/>
          <p:cNvPicPr/>
          <p:nvPr/>
        </p:nvPicPr>
        <p:blipFill>
          <a:blip r:embed="rId2"/>
          <a:stretch/>
        </p:blipFill>
        <p:spPr>
          <a:xfrm>
            <a:off x="-15840" y="2382840"/>
            <a:ext cx="9144000" cy="42940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6"/>
          <p:cNvSpPr/>
          <p:nvPr/>
        </p:nvSpPr>
        <p:spPr>
          <a:xfrm>
            <a:off x="1116000" y="615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1424160" y="61545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6"/>
          <p:cNvSpPr/>
          <p:nvPr/>
        </p:nvSpPr>
        <p:spPr>
          <a:xfrm>
            <a:off x="1762200" y="6154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2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4583160"/>
          </a:xfrm>
          <a:prstGeom prst="rect">
            <a:avLst/>
          </a:prstGeom>
          <a:ln w="0">
            <a:noFill/>
          </a:ln>
        </p:spPr>
      </p:pic>
      <p:pic>
        <p:nvPicPr>
          <p:cNvPr id="329" name="TextBox 3" descr=""/>
          <p:cNvPicPr/>
          <p:nvPr/>
        </p:nvPicPr>
        <p:blipFill>
          <a:blip r:embed="rId2"/>
          <a:stretch/>
        </p:blipFill>
        <p:spPr>
          <a:xfrm>
            <a:off x="542880" y="1268280"/>
            <a:ext cx="1230480" cy="420840"/>
          </a:xfrm>
          <a:prstGeom prst="rect">
            <a:avLst/>
          </a:prstGeom>
          <a:ln w="0">
            <a:noFill/>
          </a:ln>
        </p:spPr>
      </p:pic>
      <p:pic>
        <p:nvPicPr>
          <p:cNvPr id="330" name="TextBox 4" descr=""/>
          <p:cNvPicPr/>
          <p:nvPr/>
        </p:nvPicPr>
        <p:blipFill>
          <a:blip r:embed="rId3"/>
          <a:stretch/>
        </p:blipFill>
        <p:spPr>
          <a:xfrm>
            <a:off x="2054160" y="1268280"/>
            <a:ext cx="1006560" cy="4082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"/>
          <p:cNvSpPr/>
          <p:nvPr/>
        </p:nvSpPr>
        <p:spPr>
          <a:xfrm>
            <a:off x="3319560" y="1268280"/>
            <a:ext cx="8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=4,5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6"/>
          <p:cNvSpPr/>
          <p:nvPr/>
        </p:nvSpPr>
        <p:spPr>
          <a:xfrm>
            <a:off x="4292280" y="1268280"/>
            <a:ext cx="102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=2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7"/>
          <p:cNvSpPr/>
          <p:nvPr/>
        </p:nvSpPr>
        <p:spPr>
          <a:xfrm>
            <a:off x="7608600" y="857160"/>
            <a:ext cx="127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Прямая со стрелкой 8"/>
          <p:cNvCxnSpPr/>
          <p:nvPr/>
        </p:nvCxnSpPr>
        <p:spPr>
          <a:xfrm>
            <a:off x="758520" y="270792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5" name="TextBox 9"/>
          <p:cNvSpPr/>
          <p:nvPr/>
        </p:nvSpPr>
        <p:spPr>
          <a:xfrm>
            <a:off x="1349640" y="273852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2890080" y="2774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олилиния: фигура 11"/>
          <p:cNvSpPr/>
          <p:nvPr/>
        </p:nvSpPr>
        <p:spPr>
          <a:xfrm>
            <a:off x="590400" y="2378160"/>
            <a:ext cx="973440" cy="365040"/>
          </a:xfrm>
          <a:custGeom>
            <a:avLst/>
            <a:gdLst/>
            <a:ahLst/>
            <a:rect l="l" t="t" r="r" b="b"/>
            <a:pathLst>
              <a:path w="972170" h="365760">
                <a:moveTo>
                  <a:pt x="0" y="98474"/>
                </a:moveTo>
                <a:cubicBezTo>
                  <a:pt x="28135" y="84406"/>
                  <a:pt x="56908" y="71548"/>
                  <a:pt x="84406" y="56271"/>
                </a:cubicBezTo>
                <a:cubicBezTo>
                  <a:pt x="99186" y="48060"/>
                  <a:pt x="110064" y="31618"/>
                  <a:pt x="126609" y="28135"/>
                </a:cubicBezTo>
                <a:cubicBezTo>
                  <a:pt x="200599" y="12558"/>
                  <a:pt x="276664" y="9378"/>
                  <a:pt x="351692" y="0"/>
                </a:cubicBezTo>
                <a:cubicBezTo>
                  <a:pt x="577136" y="20495"/>
                  <a:pt x="600481" y="3213"/>
                  <a:pt x="759655" y="56271"/>
                </a:cubicBezTo>
                <a:cubicBezTo>
                  <a:pt x="841047" y="83402"/>
                  <a:pt x="836223" y="88559"/>
                  <a:pt x="914400" y="140677"/>
                </a:cubicBezTo>
                <a:lnTo>
                  <a:pt x="956603" y="168812"/>
                </a:lnTo>
                <a:cubicBezTo>
                  <a:pt x="978948" y="280534"/>
                  <a:pt x="970671" y="215240"/>
                  <a:pt x="970671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олилиния: фигура 12"/>
          <p:cNvSpPr/>
          <p:nvPr/>
        </p:nvSpPr>
        <p:spPr>
          <a:xfrm>
            <a:off x="1562040" y="2390760"/>
            <a:ext cx="1435320" cy="366840"/>
          </a:xfrm>
          <a:custGeom>
            <a:avLst/>
            <a:gdLst/>
            <a:ahLst/>
            <a:rect l="l" t="t" r="r" b="b"/>
            <a:pathLst>
              <a:path w="1434904" h="365760">
                <a:moveTo>
                  <a:pt x="0" y="295421"/>
                </a:moveTo>
                <a:cubicBezTo>
                  <a:pt x="4689" y="262596"/>
                  <a:pt x="1753" y="227733"/>
                  <a:pt x="14068" y="196947"/>
                </a:cubicBezTo>
                <a:cubicBezTo>
                  <a:pt x="33506" y="148352"/>
                  <a:pt x="102594" y="139303"/>
                  <a:pt x="140677" y="126609"/>
                </a:cubicBezTo>
                <a:cubicBezTo>
                  <a:pt x="168812" y="117231"/>
                  <a:pt x="198084" y="110746"/>
                  <a:pt x="225083" y="98474"/>
                </a:cubicBezTo>
                <a:cubicBezTo>
                  <a:pt x="276665" y="75028"/>
                  <a:pt x="327020" y="48671"/>
                  <a:pt x="379828" y="28135"/>
                </a:cubicBezTo>
                <a:cubicBezTo>
                  <a:pt x="411645" y="15762"/>
                  <a:pt x="445477" y="9378"/>
                  <a:pt x="478301" y="0"/>
                </a:cubicBezTo>
                <a:cubicBezTo>
                  <a:pt x="618978" y="9378"/>
                  <a:pt x="760903" y="7221"/>
                  <a:pt x="900332" y="28135"/>
                </a:cubicBezTo>
                <a:cubicBezTo>
                  <a:pt x="950278" y="35627"/>
                  <a:pt x="993096" y="68435"/>
                  <a:pt x="1041009" y="84406"/>
                </a:cubicBezTo>
                <a:cubicBezTo>
                  <a:pt x="1055077" y="89095"/>
                  <a:pt x="1069949" y="91842"/>
                  <a:pt x="1083212" y="98474"/>
                </a:cubicBezTo>
                <a:cubicBezTo>
                  <a:pt x="1192294" y="153015"/>
                  <a:pt x="1061539" y="105317"/>
                  <a:pt x="1167618" y="140677"/>
                </a:cubicBezTo>
                <a:cubicBezTo>
                  <a:pt x="1236454" y="209513"/>
                  <a:pt x="1177924" y="165459"/>
                  <a:pt x="1266092" y="196947"/>
                </a:cubicBezTo>
                <a:cubicBezTo>
                  <a:pt x="1313654" y="213933"/>
                  <a:pt x="1406769" y="253218"/>
                  <a:pt x="1406769" y="253218"/>
                </a:cubicBezTo>
                <a:cubicBezTo>
                  <a:pt x="1421775" y="358257"/>
                  <a:pt x="1397392" y="328245"/>
                  <a:pt x="1434904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олилиния: фигура 13"/>
          <p:cNvSpPr/>
          <p:nvPr/>
        </p:nvSpPr>
        <p:spPr>
          <a:xfrm>
            <a:off x="3009960" y="2433600"/>
            <a:ext cx="1576440" cy="309600"/>
          </a:xfrm>
          <a:custGeom>
            <a:avLst/>
            <a:gdLst/>
            <a:ahLst/>
            <a:rect l="l" t="t" r="r" b="b"/>
            <a:pathLst>
              <a:path w="1575696" h="309489">
                <a:moveTo>
                  <a:pt x="0" y="309489"/>
                </a:moveTo>
                <a:cubicBezTo>
                  <a:pt x="43646" y="178555"/>
                  <a:pt x="-1989" y="262076"/>
                  <a:pt x="84406" y="182880"/>
                </a:cubicBezTo>
                <a:cubicBezTo>
                  <a:pt x="123514" y="147031"/>
                  <a:pt x="151679" y="98002"/>
                  <a:pt x="196948" y="70338"/>
                </a:cubicBezTo>
                <a:cubicBezTo>
                  <a:pt x="238722" y="44809"/>
                  <a:pt x="290833" y="42533"/>
                  <a:pt x="337625" y="28135"/>
                </a:cubicBezTo>
                <a:cubicBezTo>
                  <a:pt x="472476" y="-13358"/>
                  <a:pt x="294043" y="18833"/>
                  <a:pt x="633046" y="0"/>
                </a:cubicBezTo>
                <a:lnTo>
                  <a:pt x="1533379" y="14067"/>
                </a:lnTo>
                <a:cubicBezTo>
                  <a:pt x="1580031" y="15460"/>
                  <a:pt x="1575582" y="17784"/>
                  <a:pt x="1575582" y="42203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3608640" y="24084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4464360" y="15350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>
            <a:off x="5240520" y="15350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7"/>
          <p:cNvSpPr/>
          <p:nvPr/>
        </p:nvSpPr>
        <p:spPr>
          <a:xfrm>
            <a:off x="4687920" y="190332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5492880" y="19224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43400" y="240192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2094840" y="2360520"/>
            <a:ext cx="10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1"/>
          <p:cNvSpPr/>
          <p:nvPr/>
        </p:nvSpPr>
        <p:spPr>
          <a:xfrm>
            <a:off x="914400" y="237636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22"/>
          <p:cNvSpPr/>
          <p:nvPr/>
        </p:nvSpPr>
        <p:spPr>
          <a:xfrm>
            <a:off x="5875200" y="1719360"/>
            <a:ext cx="533520" cy="369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3"/>
          <p:cNvSpPr/>
          <p:nvPr/>
        </p:nvSpPr>
        <p:spPr>
          <a:xfrm>
            <a:off x="1603440" y="2552760"/>
            <a:ext cx="1371600" cy="14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5"/>
          <p:cNvSpPr/>
          <p:nvPr/>
        </p:nvSpPr>
        <p:spPr>
          <a:xfrm>
            <a:off x="7930800" y="2206800"/>
            <a:ext cx="311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412920" y="430704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3+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+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+x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399960" y="478296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3+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399960" y="5164200"/>
            <a:ext cx="52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5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318960" y="5551560"/>
            <a:ext cx="52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6"/>
          <p:cNvSpPr/>
          <p:nvPr/>
        </p:nvSpPr>
        <p:spPr>
          <a:xfrm>
            <a:off x="412920" y="5931000"/>
            <a:ext cx="14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3970440" y="4479840"/>
            <a:ext cx="45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5+3=38 –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9 ря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3279600" y="5011560"/>
            <a:ext cx="519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1, 44, 47, 50, 53, 56, 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3"/>
          <p:cNvSpPr/>
          <p:nvPr/>
        </p:nvSpPr>
        <p:spPr>
          <a:xfrm>
            <a:off x="8000640" y="3778200"/>
            <a:ext cx="622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"/>
          <p:cNvPicPr/>
          <p:nvPr/>
        </p:nvPicPr>
        <p:blipFill>
          <a:blip r:embed="rId1"/>
          <a:stretch/>
        </p:blipFill>
        <p:spPr>
          <a:xfrm>
            <a:off x="31680" y="189000"/>
            <a:ext cx="9144000" cy="42163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6"/>
          <p:cNvSpPr/>
          <p:nvPr/>
        </p:nvSpPr>
        <p:spPr>
          <a:xfrm>
            <a:off x="1258920" y="18702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3348000" y="15764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0:2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7601760" y="1270080"/>
            <a:ext cx="5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6"/>
          <p:cNvSpPr/>
          <p:nvPr/>
        </p:nvSpPr>
        <p:spPr>
          <a:xfrm>
            <a:off x="1835280" y="28764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3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6"/>
          <p:cNvSpPr/>
          <p:nvPr/>
        </p:nvSpPr>
        <p:spPr>
          <a:xfrm>
            <a:off x="2808360" y="363996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134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:2 =67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7887600" y="3301920"/>
            <a:ext cx="56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0" descr=""/>
          <p:cNvPicPr/>
          <p:nvPr/>
        </p:nvPicPr>
        <p:blipFill>
          <a:blip r:embed="rId2"/>
          <a:stretch/>
        </p:blipFill>
        <p:spPr>
          <a:xfrm>
            <a:off x="31680" y="440532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ая соединительная линия 11"/>
          <p:cNvSpPr/>
          <p:nvPr/>
        </p:nvSpPr>
        <p:spPr>
          <a:xfrm flipH="1" flipV="1">
            <a:off x="900000" y="4868640"/>
            <a:ext cx="111456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701640" y="5327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882880" y="57276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8:2=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2970360" y="6094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:2=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1440000" y="52084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6"/>
          <p:cNvSpPr/>
          <p:nvPr/>
        </p:nvSpPr>
        <p:spPr>
          <a:xfrm>
            <a:off x="1611360" y="4791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5148360" y="60944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74+37=1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0"/>
          <p:cNvSpPr/>
          <p:nvPr/>
        </p:nvSpPr>
        <p:spPr>
          <a:xfrm>
            <a:off x="7661880" y="5419800"/>
            <a:ext cx="84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8:14Z</dcterms:modified>
  <cp:revision>100</cp:revision>
  <dc:subject/>
  <dc:title>Слайд 1</dc:title>
</cp:coreProperties>
</file>