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2D2-B29C-4D62-9E61-8543C369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F79-C066-46B1-8751-B554AF8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54D-6B76-4680-A021-6914C3AF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C29-F69F-4C5C-84F3-7C6E0C4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8F8F-C027-4626-B957-9EB3D9B4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760-0DC4-41F4-90DA-107F013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14A9-24E1-4EE2-8E63-7EBF8BF7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4EBD-6033-4A33-9978-3FD9611C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087B-06A0-4E07-B976-FF25CFC7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E37F-8939-42ED-979E-519A91A4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23A0-43C8-49CF-A87B-096810E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C4C-D080-4EFF-BD6D-54F1F09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DD42-9630-4A6D-9274-8F64C65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5CBD-94ED-4FE3-8267-40FEFE42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12A9-1448-455B-9D02-139D768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C595-4768-4ED7-A4FB-2A3BFFF6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F98E-7215-44D4-909D-20340972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69D7-C3C8-4D69-B6E0-1718BF6C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7B18-52A5-46B3-825F-A5D11C8D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687A-BF67-40A2-BC22-B43A4981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F0F1-BB22-4758-AB6C-32D55D4E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B61B-86A3-42C2-8FD9-E2A3441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240-F8D6-46B6-BC62-4FC4698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87A3-F829-499C-B959-FABC84E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9BFE-43E9-42E6-882F-92547DD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014E9-9645-45CD-8910-6440785D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532F-4A63-44F5-B1FD-0C3D8F14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0E387-C207-4065-9BBE-90D12906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758B-33D8-42C6-8650-3D0D7363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8CF9-95E6-4E51-904A-4401FC1B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DA66-5720-43B3-96AF-393D6AA1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1473-3CE5-4CDC-8BFD-71656B32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2F60-9235-4CA8-9320-441896D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20-8A97-47D2-BA10-386683F3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976D-818B-4DB9-9481-CA9F250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46FA-F778-49D4-8847-3337DC93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A0EE-C185-4D9B-AA2A-ED7F9D9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103D-2753-4F1C-B899-7D552A5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DB07A-E10D-4855-8471-80AAB17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27A4-C94F-4FF8-B5C9-BA2F6F6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66653-58D9-4E88-A468-64C80B0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EBCD-5B9E-4137-888F-6727AA0C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5CF8-5C65-4650-B50F-7DC4E98E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78C4-870D-47D1-B201-275003C1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2D3-7AA0-4AB8-9F4C-C628D3C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1A14-4575-45B8-81B2-71FEC6E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80BC1-4A14-4EE9-A6B7-B57A0554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73FE-E0D8-46A1-8F0C-5F1A9603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9E03-DCDD-4400-B602-9BFF692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7FD5-EB04-4271-88EF-4E2F68B7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9EBF-E1FC-42F0-BE00-1BEA20D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76DF5-96A9-4439-A726-A472DE7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1966-B264-412D-B1A5-0A176CE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7DEF-F0AC-4459-B3EB-CB113D7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D3EC-00A9-4440-B27D-051541E0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E21-A7B7-4216-A997-F02BA602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CB13-6898-458F-8012-B891FFA1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F2A-DA76-4C96-8A40-1B1E2FC7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339-2D4C-4404-AB24-5168F948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BB5-89B0-4E5E-A7E2-A4567319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FDD-D890-47CF-A01F-A7A6878CB97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074-CE31-4422-BDE9-6A7BE8C6F52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F57E-5D39-42B9-89FB-21139272AC2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3CC7-3CDE-4A70-8B6C-F2E69B8C1C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B4E-E172-4B34-A6B0-A1A038C589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rcRect l="0" t="0" r="0" b="26901"/>
          <a:stretch/>
        </p:blipFill>
        <p:spPr>
          <a:xfrm>
            <a:off x="934920" y="0"/>
            <a:ext cx="7274160" cy="64990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>
            <a:off x="2627280" y="436572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6"/>
          <p:cNvSpPr/>
          <p:nvPr/>
        </p:nvSpPr>
        <p:spPr>
          <a:xfrm>
            <a:off x="4716360" y="602136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"/>
          <p:cNvSpPr/>
          <p:nvPr/>
        </p:nvSpPr>
        <p:spPr>
          <a:xfrm>
            <a:off x="2340000" y="134136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2484360" y="2060640"/>
            <a:ext cx="302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6"/>
          <p:cNvSpPr/>
          <p:nvPr/>
        </p:nvSpPr>
        <p:spPr>
          <a:xfrm>
            <a:off x="900000" y="1700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6"/>
          <p:cNvSpPr/>
          <p:nvPr/>
        </p:nvSpPr>
        <p:spPr>
          <a:xfrm>
            <a:off x="1623960" y="1700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TextBox 5" descr=""/>
          <p:cNvPicPr/>
          <p:nvPr/>
        </p:nvPicPr>
        <p:blipFill>
          <a:blip r:embed="rId2"/>
          <a:stretch/>
        </p:blipFill>
        <p:spPr>
          <a:xfrm>
            <a:off x="55440" y="122400"/>
            <a:ext cx="530280" cy="811080"/>
          </a:xfrm>
          <a:prstGeom prst="rect">
            <a:avLst/>
          </a:prstGeom>
          <a:ln w="0">
            <a:noFill/>
          </a:ln>
        </p:spPr>
      </p:pic>
      <p:pic>
        <p:nvPicPr>
          <p:cNvPr id="337" name="TextBox 6" descr=""/>
          <p:cNvPicPr/>
          <p:nvPr/>
        </p:nvPicPr>
        <p:blipFill>
          <a:blip r:embed="rId3"/>
          <a:stretch/>
        </p:blipFill>
        <p:spPr>
          <a:xfrm>
            <a:off x="695160" y="122400"/>
            <a:ext cx="968400" cy="80460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7" descr=""/>
          <p:cNvPicPr/>
          <p:nvPr/>
        </p:nvPicPr>
        <p:blipFill>
          <a:blip r:embed="rId4"/>
          <a:stretch/>
        </p:blipFill>
        <p:spPr>
          <a:xfrm>
            <a:off x="4718160" y="1700280"/>
            <a:ext cx="1719000" cy="804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ая соединительная линия 8"/>
          <p:cNvSpPr/>
          <p:nvPr/>
        </p:nvSpPr>
        <p:spPr>
          <a:xfrm flipH="1" flipV="1">
            <a:off x="5576760" y="1700280"/>
            <a:ext cx="465120" cy="82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6"/>
          <p:cNvSpPr/>
          <p:nvPr/>
        </p:nvSpPr>
        <p:spPr>
          <a:xfrm>
            <a:off x="5705640" y="151452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7520040" y="151596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2193840" y="-9360"/>
            <a:ext cx="723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лощади треугольников с общей высотой относятся как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1593720" y="28209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5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4"/>
          <p:cNvSpPr/>
          <p:nvPr/>
        </p:nvSpPr>
        <p:spPr>
          <a:xfrm flipH="1" flipV="1">
            <a:off x="1258920" y="2820960"/>
            <a:ext cx="365040" cy="752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3105000" y="33987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180-52):2=6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3105000" y="37479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0-64=2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7167600" y="316080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6"/>
          <p:cNvSpPr/>
          <p:nvPr/>
        </p:nvSpPr>
        <p:spPr>
          <a:xfrm>
            <a:off x="1666800" y="52848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801720" y="56847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4"/>
          <p:cNvSpPr/>
          <p:nvPr/>
        </p:nvSpPr>
        <p:spPr>
          <a:xfrm flipV="1">
            <a:off x="1332000" y="4341960"/>
            <a:ext cx="0" cy="1319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552600" y="5183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1182600" y="52671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1231920" y="3860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7434360" y="5261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ая соединительная линия 3"/>
          <p:cNvSpPr/>
          <p:nvPr/>
        </p:nvSpPr>
        <p:spPr>
          <a:xfrm flipH="1">
            <a:off x="468000" y="1413000"/>
            <a:ext cx="20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7380360" y="1536840"/>
            <a:ext cx="118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6"/>
          <p:cNvSpPr/>
          <p:nvPr/>
        </p:nvSpPr>
        <p:spPr>
          <a:xfrm>
            <a:off x="-54000" y="276228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7"/>
          <p:cNvSpPr/>
          <p:nvPr/>
        </p:nvSpPr>
        <p:spPr>
          <a:xfrm>
            <a:off x="0" y="3662280"/>
            <a:ext cx="468360" cy="28908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7740720" y="4630680"/>
            <a:ext cx="118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rcRect l="0" t="74152" r="0" b="0"/>
          <a:stretch/>
        </p:blipFill>
        <p:spPr>
          <a:xfrm>
            <a:off x="0" y="189000"/>
            <a:ext cx="9144000" cy="2889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0" y="3095640"/>
            <a:ext cx="9144000" cy="137016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4"/>
          <p:cNvSpPr/>
          <p:nvPr/>
        </p:nvSpPr>
        <p:spPr>
          <a:xfrm>
            <a:off x="7236000" y="765000"/>
            <a:ext cx="135540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5"/>
          <p:cNvCxnSpPr/>
          <p:nvPr/>
        </p:nvCxnSpPr>
        <p:spPr>
          <a:xfrm flipH="1">
            <a:off x="2267640" y="1988640"/>
            <a:ext cx="51728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Овал 6"/>
          <p:cNvSpPr/>
          <p:nvPr/>
        </p:nvSpPr>
        <p:spPr>
          <a:xfrm>
            <a:off x="1025640" y="1820880"/>
            <a:ext cx="135576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74404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"/>
          <p:cNvPicPr/>
          <p:nvPr/>
        </p:nvPicPr>
        <p:blipFill>
          <a:blip r:embed="rId1"/>
          <a:srcRect l="61368" t="28846" r="3480" b="47671"/>
          <a:stretch/>
        </p:blipFill>
        <p:spPr>
          <a:xfrm>
            <a:off x="-120600" y="1336680"/>
            <a:ext cx="4187880" cy="34196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"/>
          <p:cNvPicPr/>
          <p:nvPr/>
        </p:nvPicPr>
        <p:blipFill>
          <a:blip r:embed="rId2"/>
          <a:stretch/>
        </p:blipFill>
        <p:spPr>
          <a:xfrm>
            <a:off x="-108000" y="34920"/>
            <a:ext cx="9144000" cy="1336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6"/>
          <p:cNvSpPr/>
          <p:nvPr/>
        </p:nvSpPr>
        <p:spPr>
          <a:xfrm>
            <a:off x="4371840" y="13510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Диаметр диска не поменялся, поэтому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"/>
          <p:cNvSpPr/>
          <p:nvPr/>
        </p:nvSpPr>
        <p:spPr>
          <a:xfrm flipV="1">
            <a:off x="324000" y="2997000"/>
            <a:ext cx="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4373640" y="273528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1- 50%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 1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4089240" y="325908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1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50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*195:100=97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4371840" y="3848040"/>
            <a:ext cx="35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%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 2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3873600" y="4417920"/>
            <a:ext cx="45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=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*215:100=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1246320" y="540720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2-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 H1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= 129 – 97,5 =31,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308720" y="623880"/>
            <a:ext cx="20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31,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92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2"/>
          <a:srcRect l="61368" t="28846" r="3480" b="47671"/>
          <a:stretch/>
        </p:blipFill>
        <p:spPr>
          <a:xfrm>
            <a:off x="-27000" y="1052640"/>
            <a:ext cx="4187880" cy="34192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6"/>
          <p:cNvSpPr/>
          <p:nvPr/>
        </p:nvSpPr>
        <p:spPr>
          <a:xfrm flipV="1">
            <a:off x="468360" y="1391760"/>
            <a:ext cx="0" cy="2613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468360" y="8240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=d+2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924360" y="1285920"/>
            <a:ext cx="496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С завод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65/7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0*265:100=18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17=43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431,8+2*185,5=802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3889440" y="3803760"/>
            <a:ext cx="496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Замена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275/5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55*275:100=15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20=5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0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+2*15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=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41280" y="563724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 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02,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,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7626240" y="614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,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44000" cy="1089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2556000" y="220680"/>
            <a:ext cx="91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D=431,8+2*185,5=802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14400" y="1049400"/>
            <a:ext cx="9144000" cy="14652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6"/>
          <p:cNvSpPr/>
          <p:nvPr/>
        </p:nvSpPr>
        <p:spPr>
          <a:xfrm>
            <a:off x="250920" y="2655720"/>
            <a:ext cx="496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0*275:100=19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17=43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431,8+2*1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9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5=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" descr=""/>
          <p:cNvPicPr/>
          <p:nvPr/>
        </p:nvPicPr>
        <p:blipFill>
          <a:blip r:embed="rId3"/>
          <a:stretch/>
        </p:blipFill>
        <p:spPr>
          <a:xfrm>
            <a:off x="469800" y="4578480"/>
            <a:ext cx="4388040" cy="64584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9" descr=""/>
          <p:cNvPicPr/>
          <p:nvPr/>
        </p:nvPicPr>
        <p:blipFill>
          <a:blip r:embed="rId4"/>
          <a:stretch/>
        </p:blipFill>
        <p:spPr>
          <a:xfrm>
            <a:off x="444600" y="5254560"/>
            <a:ext cx="3841560" cy="646200"/>
          </a:xfrm>
          <a:prstGeom prst="rect">
            <a:avLst/>
          </a:prstGeom>
          <a:ln w="0">
            <a:noFill/>
          </a:ln>
        </p:spPr>
      </p:pic>
      <p:pic>
        <p:nvPicPr>
          <p:cNvPr id="255" name="TextBox 10" descr=""/>
          <p:cNvPicPr/>
          <p:nvPr/>
        </p:nvPicPr>
        <p:blipFill>
          <a:blip r:embed="rId5"/>
          <a:stretch/>
        </p:blipFill>
        <p:spPr>
          <a:xfrm>
            <a:off x="4956120" y="2505240"/>
            <a:ext cx="4389480" cy="645840"/>
          </a:xfrm>
          <a:prstGeom prst="rect">
            <a:avLst/>
          </a:prstGeom>
          <a:ln w="0">
            <a:noFill/>
          </a:ln>
        </p:spPr>
      </p:pic>
      <p:pic>
        <p:nvPicPr>
          <p:cNvPr id="256" name="TextBox 11" descr=""/>
          <p:cNvPicPr/>
          <p:nvPr/>
        </p:nvPicPr>
        <p:blipFill>
          <a:blip r:embed="rId6"/>
          <a:stretch/>
        </p:blipFill>
        <p:spPr>
          <a:xfrm>
            <a:off x="5767560" y="3103560"/>
            <a:ext cx="4394160" cy="65088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2" descr=""/>
          <p:cNvPicPr/>
          <p:nvPr/>
        </p:nvPicPr>
        <p:blipFill>
          <a:blip r:embed="rId7"/>
          <a:stretch/>
        </p:blipFill>
        <p:spPr>
          <a:xfrm>
            <a:off x="249120" y="5979960"/>
            <a:ext cx="56516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13"/>
          <p:cNvSpPr/>
          <p:nvPr/>
        </p:nvSpPr>
        <p:spPr>
          <a:xfrm flipV="1">
            <a:off x="1835280" y="5908680"/>
            <a:ext cx="14436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5"/>
          <p:cNvSpPr/>
          <p:nvPr/>
        </p:nvSpPr>
        <p:spPr>
          <a:xfrm flipV="1">
            <a:off x="5148360" y="5811840"/>
            <a:ext cx="14436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5767560" y="5945040"/>
            <a:ext cx="19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=1,74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7288200" y="1830240"/>
            <a:ext cx="19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1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3" descr=""/>
          <p:cNvPicPr/>
          <p:nvPr/>
        </p:nvPicPr>
        <p:blipFill>
          <a:blip r:embed="rId2"/>
          <a:stretch/>
        </p:blipFill>
        <p:spPr>
          <a:xfrm>
            <a:off x="109440" y="1260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4" descr=""/>
          <p:cNvPicPr/>
          <p:nvPr/>
        </p:nvPicPr>
        <p:blipFill>
          <a:blip r:embed="rId3"/>
          <a:stretch/>
        </p:blipFill>
        <p:spPr>
          <a:xfrm>
            <a:off x="1328760" y="12600"/>
            <a:ext cx="1407960" cy="809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5"/>
          <p:cNvSpPr/>
          <p:nvPr/>
        </p:nvSpPr>
        <p:spPr>
          <a:xfrm flipH="1" flipV="1">
            <a:off x="259920" y="100080"/>
            <a:ext cx="92700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450720" y="-15840"/>
            <a:ext cx="7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1184400" y="73980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Box 9" descr=""/>
          <p:cNvPicPr/>
          <p:nvPr/>
        </p:nvPicPr>
        <p:blipFill>
          <a:blip r:embed="rId4"/>
          <a:stretch/>
        </p:blipFill>
        <p:spPr>
          <a:xfrm>
            <a:off x="2895480" y="12600"/>
            <a:ext cx="1543320" cy="80964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0" descr=""/>
          <p:cNvPicPr/>
          <p:nvPr/>
        </p:nvPicPr>
        <p:blipFill>
          <a:blip r:embed="rId5"/>
          <a:stretch/>
        </p:blipFill>
        <p:spPr>
          <a:xfrm>
            <a:off x="4572000" y="-23760"/>
            <a:ext cx="1225440" cy="809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6"/>
          <p:cNvSpPr/>
          <p:nvPr/>
        </p:nvSpPr>
        <p:spPr>
          <a:xfrm>
            <a:off x="5981760" y="1000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253280" y="7714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3298680" y="227664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3665520" y="224784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5364000" y="224784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 flipH="1">
            <a:off x="1917360" y="23432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1077840" y="264780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1498680" y="264780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2471760" y="26686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865600" y="26686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971880" y="266868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307040" y="264780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7251840" y="313704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49360" y="4371840"/>
            <a:ext cx="10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6х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1484280" y="437184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6*3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2932200" y="443088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6*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216320" y="443088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7445520" y="40338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127080" y="545796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(7х+28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Левая круглая скобка 33"/>
          <p:cNvSpPr/>
          <p:nvPr/>
        </p:nvSpPr>
        <p:spPr>
          <a:xfrm>
            <a:off x="136440" y="5979960"/>
            <a:ext cx="192240" cy="81468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4680"/>
              <a:gd name="textAreaBottom" fmla="*/ 806760 h 8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355680" y="590544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301680" y="6342120"/>
            <a:ext cx="353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х+28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Левая круглая скобка 36"/>
          <p:cNvSpPr/>
          <p:nvPr/>
        </p:nvSpPr>
        <p:spPr>
          <a:xfrm>
            <a:off x="2260440" y="5970600"/>
            <a:ext cx="192240" cy="81432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4320"/>
              <a:gd name="textAreaBottom" fmla="*/ 806400 h 8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2467080" y="590724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2416320" y="6310440"/>
            <a:ext cx="1969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х=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Левая круглая скобка 39"/>
          <p:cNvSpPr/>
          <p:nvPr/>
        </p:nvSpPr>
        <p:spPr>
          <a:xfrm>
            <a:off x="4103640" y="5938920"/>
            <a:ext cx="192240" cy="81288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2880"/>
              <a:gd name="textAreaBottom" fmla="*/ 80496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395960" y="592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4238640" y="6380280"/>
            <a:ext cx="1969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7397640" y="5240160"/>
            <a:ext cx="196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87537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6"/>
          <p:cNvSpPr/>
          <p:nvPr/>
        </p:nvSpPr>
        <p:spPr>
          <a:xfrm>
            <a:off x="195120" y="907920"/>
            <a:ext cx="23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0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2627280" y="907920"/>
            <a:ext cx="142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7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2973240" y="858960"/>
            <a:ext cx="7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3859200" y="917640"/>
            <a:ext cx="2081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4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7370640" y="647640"/>
            <a:ext cx="1246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0,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10875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47636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176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3889440" y="4869000"/>
            <a:ext cx="269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100+4200*1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3827520" y="63961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100+6720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7093080" y="63961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330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"/>
          <p:cNvPicPr/>
          <p:nvPr/>
        </p:nvPicPr>
        <p:blipFill>
          <a:blip r:embed="rId1"/>
          <a:srcRect l="0" t="0" r="0" b="54997"/>
          <a:stretch/>
        </p:blipFill>
        <p:spPr>
          <a:xfrm>
            <a:off x="0" y="19080"/>
            <a:ext cx="9144000" cy="2376360"/>
          </a:xfrm>
          <a:prstGeom prst="rect">
            <a:avLst/>
          </a:prstGeom>
          <a:ln w="0">
            <a:noFill/>
          </a:ln>
        </p:spPr>
      </p:pic>
      <p:sp>
        <p:nvSpPr>
          <p:cNvPr id="312" name="Левая фигурная скобка 3"/>
          <p:cNvSpPr/>
          <p:nvPr/>
        </p:nvSpPr>
        <p:spPr>
          <a:xfrm>
            <a:off x="324000" y="2205000"/>
            <a:ext cx="287280" cy="936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936720"/>
              <a:gd name="textAreaBottom" fmla="*/ 9295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6"/>
                  <a:pt x="10800" y="552"/>
                </a:cubicBezTo>
                <a:lnTo>
                  <a:pt x="10800" y="10248"/>
                </a:lnTo>
                <a:cubicBezTo>
                  <a:pt x="10800" y="10524"/>
                  <a:pt x="5400" y="10800"/>
                  <a:pt x="0" y="10800"/>
                </a:cubicBezTo>
                <a:cubicBezTo>
                  <a:pt x="5400" y="10800"/>
                  <a:pt x="10800" y="11076"/>
                  <a:pt x="10800" y="11352"/>
                </a:cubicBezTo>
                <a:lnTo>
                  <a:pt x="10800" y="21048"/>
                </a:lnTo>
                <a:cubicBezTo>
                  <a:pt x="10800" y="213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11280" y="207648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4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9480" y="253692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4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lt;-5-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Левая фигурная скобка 6"/>
          <p:cNvSpPr/>
          <p:nvPr/>
        </p:nvSpPr>
        <p:spPr>
          <a:xfrm>
            <a:off x="465120" y="3516480"/>
            <a:ext cx="287280" cy="934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934920"/>
              <a:gd name="textAreaBottom" fmla="*/ 92772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3"/>
                </a:cubicBezTo>
                <a:lnTo>
                  <a:pt x="10800" y="10247"/>
                </a:lnTo>
                <a:cubicBezTo>
                  <a:pt x="10800" y="10524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3"/>
                </a:cubicBezTo>
                <a:lnTo>
                  <a:pt x="10800" y="21047"/>
                </a:lnTo>
                <a:cubicBezTo>
                  <a:pt x="10800" y="213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766800" y="348156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45: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636480" y="408456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-8:(-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Левая фигурная скобка 9"/>
          <p:cNvSpPr/>
          <p:nvPr/>
        </p:nvSpPr>
        <p:spPr>
          <a:xfrm>
            <a:off x="492120" y="4722840"/>
            <a:ext cx="289080" cy="93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936720"/>
              <a:gd name="textAreaBottom" fmla="*/ 9295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766800" y="47293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636480" y="517680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Прямая со стрелкой 12"/>
          <p:cNvCxnSpPr/>
          <p:nvPr/>
        </p:nvCxnSpPr>
        <p:spPr>
          <a:xfrm>
            <a:off x="3131640" y="351612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Text Box 36"/>
          <p:cNvSpPr/>
          <p:nvPr/>
        </p:nvSpPr>
        <p:spPr>
          <a:xfrm>
            <a:off x="5311800" y="361476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3889440" y="36147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5"/>
          <p:cNvSpPr/>
          <p:nvPr/>
        </p:nvSpPr>
        <p:spPr>
          <a:xfrm>
            <a:off x="5508720" y="3341520"/>
            <a:ext cx="1008000" cy="15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6"/>
          <p:cNvSpPr/>
          <p:nvPr/>
        </p:nvSpPr>
        <p:spPr>
          <a:xfrm>
            <a:off x="4192560" y="3540240"/>
            <a:ext cx="2468520" cy="12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7451640" y="18064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"/>
          <p:cNvPicPr/>
          <p:nvPr/>
        </p:nvPicPr>
        <p:blipFill>
          <a:blip r:embed="rId1"/>
          <a:srcRect l="0" t="47736" r="0" b="0"/>
          <a:stretch/>
        </p:blipFill>
        <p:spPr>
          <a:xfrm>
            <a:off x="108000" y="-34920"/>
            <a:ext cx="9144000" cy="27604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6"/>
          <p:cNvSpPr/>
          <p:nvPr/>
        </p:nvSpPr>
        <p:spPr>
          <a:xfrm>
            <a:off x="15840" y="2725560"/>
            <a:ext cx="925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2+3+3+4+4+5+5+6+6+7+7+8+8+9+9+10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15840" y="3716280"/>
            <a:ext cx="925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2+3+3+4+4+………..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219+219+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20+220=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0" y="4213080"/>
            <a:ext cx="925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3+4+5+………..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18+219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20=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(1+220)*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6224760" y="471024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221*11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7451640" y="20289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1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4:02Z</dcterms:modified>
  <cp:revision>85</cp:revision>
  <dc:subject/>
  <dc:title>Слайд 1</dc:title>
</cp:coreProperties>
</file>