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E1C-3600-4A9F-871A-E10EB2E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1C7-E848-4504-A94D-83B2F3C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C24-D86F-4596-8AAA-33D511B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42C-80D2-4905-8787-9D3B1A51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8D31-9FC2-4397-BFB1-0207839E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6CC-890A-474A-A245-5B941541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C298-E849-4D83-A53D-91575ED3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4D81-F9B2-429F-860E-EEAF64B1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5732-218E-4606-BD16-7EC85F1A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628B-D326-4EBA-92A6-1FDA5DC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0C7-15B8-4BA2-BE96-FB8E9F0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66C-2C08-4301-B6D7-459E6FA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E371-37E4-4062-B8E9-801D8CF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93D-BA1A-4741-B08A-78837D6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1593-D697-48D2-B64A-670360A6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1BF2-E98F-4102-A8F6-DDFC09C9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666-E25F-4B96-A4F4-91161D9A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F048-4960-4523-A294-64E0666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7D9A2-0D79-4E52-AA52-25B34715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FF48-2725-4EA2-8C96-8E1016C2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0092-70BB-4B02-80E5-92A19EF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7FBC-6CD4-48BC-BA6C-B108A58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E22-33E5-435A-97ED-4034FB57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6E9BD-7FAA-460E-A8D2-9C00E6D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6F7D-9D1B-4D1D-8600-EE76190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69BD-A688-4B0B-B07F-9E9A025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0967-925D-4DFF-8FAD-18EEF71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FD0DC-612F-4338-8292-11E60CA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368A-E0F4-44EE-AA81-4F2878BC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F697-F036-4885-94FD-1D97A7C0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B9585-662E-40FD-A3A6-9814E078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D2765-D942-4745-A17E-7B0EF05C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0DBC-B637-4691-8398-07E4466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AFD-D01B-4B83-A6B4-DECD672D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8BF1-D81B-4035-B7B5-42595E14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8ECF-6B85-4435-A187-2B31EB62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3D09E-450B-447F-896B-74456FE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CFE0-A310-4F54-BD70-D9B1CC8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564C-94CE-4B18-979A-3EBA4A8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7978C-47F8-4651-940E-FE694B9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3E40-F6F9-4F58-A552-267D449A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446F-52A1-4BB0-90B9-A41247B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437E-A04C-41D5-AB27-464217E5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CF7E-4F34-4011-833D-0ECAC2C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316-3086-4C23-AA8C-A8C06E9F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7B90-F7A7-4E9B-9FBE-9F00E65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417C-49F2-4A70-9871-C12C3C1A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BF2D-DC5F-4BB9-854C-F63515C8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3C75-2EEC-4083-AB65-5D583F33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1B3C-9FF4-4A65-8845-16700438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382CC-8D64-41AB-94AD-069589C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713B-DDD3-4DD1-81CA-FE41ED1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38EC-F1CA-4A4B-A2BE-773CC35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16FF-2684-4AAB-8DA4-0C096FC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25D5-739C-4627-8EB8-188F62BD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8E0-9383-4B6C-BE4F-25192D41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55B82-825A-40A6-B455-57FA4133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04E-3D99-4953-A904-FEB36F7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A53-6A35-44EE-83BD-3E968294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4C9-4375-4763-8EF5-6B00879B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1ECE-10AA-4BEA-A286-780DFB0BA26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35C-52DC-4475-93AC-4DA50F28D6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48B-F1AF-48D5-B6AA-53EC149823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3C03-8C71-4333-82B6-9BD9240B7E0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8524-A99F-4D98-A898-6E55C5CFE5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>
            <a:off x="2050920" y="2060640"/>
            <a:ext cx="5042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4" descr="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4" descr=""/>
          <p:cNvPicPr/>
          <p:nvPr/>
        </p:nvPicPr>
        <p:blipFill>
          <a:blip r:embed="rId2"/>
          <a:stretch/>
        </p:blipFill>
        <p:spPr>
          <a:xfrm>
            <a:off x="79200" y="42840"/>
            <a:ext cx="3090960" cy="43812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5" descr=""/>
          <p:cNvPicPr/>
          <p:nvPr/>
        </p:nvPicPr>
        <p:blipFill>
          <a:blip r:embed="rId3"/>
          <a:stretch/>
        </p:blipFill>
        <p:spPr>
          <a:xfrm>
            <a:off x="3200400" y="42840"/>
            <a:ext cx="244476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TextBox 6" descr=""/>
          <p:cNvPicPr/>
          <p:nvPr/>
        </p:nvPicPr>
        <p:blipFill>
          <a:blip r:embed="rId4"/>
          <a:stretch/>
        </p:blipFill>
        <p:spPr>
          <a:xfrm>
            <a:off x="5675400" y="42840"/>
            <a:ext cx="2017800" cy="433440"/>
          </a:xfrm>
          <a:prstGeom prst="rect">
            <a:avLst/>
          </a:prstGeom>
          <a:ln w="0">
            <a:noFill/>
          </a:ln>
        </p:spPr>
      </p:pic>
      <p:pic>
        <p:nvPicPr>
          <p:cNvPr id="297" name="TextBox 7" descr=""/>
          <p:cNvPicPr/>
          <p:nvPr/>
        </p:nvPicPr>
        <p:blipFill>
          <a:blip r:embed="rId5"/>
          <a:stretch/>
        </p:blipFill>
        <p:spPr>
          <a:xfrm>
            <a:off x="7491240" y="480960"/>
            <a:ext cx="1171800" cy="4334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6"/>
          <p:cNvSpPr/>
          <p:nvPr/>
        </p:nvSpPr>
        <p:spPr>
          <a:xfrm>
            <a:off x="2982960" y="150480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181480" y="149220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324000" y="195408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892080" y="195408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1763640" y="196704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2209680" y="195408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224160" y="19670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3646440" y="19670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4746600" y="19684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5243400" y="19828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7551720" y="218448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TextBox 19" descr=""/>
          <p:cNvPicPr/>
          <p:nvPr/>
        </p:nvPicPr>
        <p:blipFill>
          <a:blip r:embed="rId6"/>
          <a:stretch/>
        </p:blipFill>
        <p:spPr>
          <a:xfrm>
            <a:off x="324000" y="3376440"/>
            <a:ext cx="2193840" cy="100044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20" descr=""/>
          <p:cNvPicPr/>
          <p:nvPr/>
        </p:nvPicPr>
        <p:blipFill>
          <a:blip r:embed="rId7"/>
          <a:stretch/>
        </p:blipFill>
        <p:spPr>
          <a:xfrm>
            <a:off x="2560680" y="3700440"/>
            <a:ext cx="1414440" cy="42696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21" descr=""/>
          <p:cNvPicPr/>
          <p:nvPr/>
        </p:nvPicPr>
        <p:blipFill>
          <a:blip r:embed="rId8"/>
          <a:stretch/>
        </p:blipFill>
        <p:spPr>
          <a:xfrm>
            <a:off x="4017960" y="3621240"/>
            <a:ext cx="1785960" cy="622080"/>
          </a:xfrm>
          <a:prstGeom prst="rect">
            <a:avLst/>
          </a:prstGeom>
          <a:ln w="0">
            <a:noFill/>
          </a:ln>
        </p:spPr>
      </p:pic>
      <p:pic>
        <p:nvPicPr>
          <p:cNvPr id="312" name="TextBox 22" descr=""/>
          <p:cNvPicPr/>
          <p:nvPr/>
        </p:nvPicPr>
        <p:blipFill>
          <a:blip r:embed="rId9"/>
          <a:stretch/>
        </p:blipFill>
        <p:spPr>
          <a:xfrm>
            <a:off x="5846760" y="3608280"/>
            <a:ext cx="1365120" cy="62892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23" descr=""/>
          <p:cNvPicPr/>
          <p:nvPr/>
        </p:nvPicPr>
        <p:blipFill>
          <a:blip r:embed="rId10"/>
          <a:stretch/>
        </p:blipFill>
        <p:spPr>
          <a:xfrm>
            <a:off x="7254720" y="3517920"/>
            <a:ext cx="1108080" cy="8096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4"/>
          <p:cNvSpPr/>
          <p:nvPr/>
        </p:nvSpPr>
        <p:spPr>
          <a:xfrm>
            <a:off x="8472600" y="3660840"/>
            <a:ext cx="66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5"/>
          <p:cNvSpPr/>
          <p:nvPr/>
        </p:nvSpPr>
        <p:spPr>
          <a:xfrm>
            <a:off x="395280" y="5092560"/>
            <a:ext cx="27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x-19)(x+1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395280" y="5572080"/>
            <a:ext cx="136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-19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+19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Левая круглая скобка 27"/>
          <p:cNvSpPr/>
          <p:nvPr/>
        </p:nvSpPr>
        <p:spPr>
          <a:xfrm>
            <a:off x="287280" y="5572080"/>
            <a:ext cx="108000" cy="862200"/>
          </a:xfrm>
          <a:custGeom>
            <a:avLst/>
            <a:gdLst>
              <a:gd name="textAreaLeft" fmla="*/ 31680 w 108000"/>
              <a:gd name="textAreaRight" fmla="*/ 108360 w 108000"/>
              <a:gd name="textAreaTop" fmla="*/ 4320 h 862200"/>
              <a:gd name="textAreaBottom" fmla="*/ 857880 h 8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Левая круглая скобка 28"/>
          <p:cNvSpPr/>
          <p:nvPr/>
        </p:nvSpPr>
        <p:spPr>
          <a:xfrm>
            <a:off x="1801800" y="5626080"/>
            <a:ext cx="108000" cy="862200"/>
          </a:xfrm>
          <a:custGeom>
            <a:avLst/>
            <a:gdLst>
              <a:gd name="textAreaLeft" fmla="*/ 31680 w 108000"/>
              <a:gd name="textAreaRight" fmla="*/ 108360 w 108000"/>
              <a:gd name="textAreaTop" fmla="*/ 4320 h 862200"/>
              <a:gd name="textAreaBottom" fmla="*/ 857880 h 8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2089080" y="5637240"/>
            <a:ext cx="136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=1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=-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30"/>
          <p:cNvSpPr/>
          <p:nvPr/>
        </p:nvSpPr>
        <p:spPr>
          <a:xfrm>
            <a:off x="3738600" y="459900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7585200" y="4662360"/>
            <a:ext cx="66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2" descr=""/>
          <p:cNvPicPr/>
          <p:nvPr/>
        </p:nvPicPr>
        <p:blipFill>
          <a:blip r:embed="rId1"/>
          <a:stretch/>
        </p:blipFill>
        <p:spPr>
          <a:xfrm>
            <a:off x="23760" y="476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6"/>
          <p:cNvSpPr/>
          <p:nvPr/>
        </p:nvSpPr>
        <p:spPr>
          <a:xfrm>
            <a:off x="179280" y="13413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40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-(62+79+31)=68 синие +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241200" y="15890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8:2=34 синие,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98280" y="19051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2+34=96 красные +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TextBox 11" descr=""/>
          <p:cNvPicPr/>
          <p:nvPr/>
        </p:nvPicPr>
        <p:blipFill>
          <a:blip r:embed="rId2"/>
          <a:stretch/>
        </p:blipFill>
        <p:spPr>
          <a:xfrm>
            <a:off x="5340240" y="1468440"/>
            <a:ext cx="743040" cy="8110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ая соединительная линия 12"/>
          <p:cNvSpPr/>
          <p:nvPr/>
        </p:nvSpPr>
        <p:spPr>
          <a:xfrm flipH="1" flipV="1">
            <a:off x="5405040" y="1501920"/>
            <a:ext cx="60660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6"/>
          <p:cNvSpPr/>
          <p:nvPr/>
        </p:nvSpPr>
        <p:spPr>
          <a:xfrm>
            <a:off x="5867280" y="134136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6012000" y="194472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"/>
          <p:cNvSpPr/>
          <p:nvPr/>
        </p:nvSpPr>
        <p:spPr>
          <a:xfrm>
            <a:off x="7740720" y="1419120"/>
            <a:ext cx="93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1403280" y="53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971640" y="5337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6"/>
          <p:cNvSpPr/>
          <p:nvPr/>
        </p:nvSpPr>
        <p:spPr>
          <a:xfrm>
            <a:off x="1835280" y="53132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23464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4" descr=""/>
          <p:cNvPicPr/>
          <p:nvPr/>
        </p:nvPicPr>
        <p:blipFill>
          <a:blip r:embed="rId2"/>
          <a:stretch/>
        </p:blipFill>
        <p:spPr>
          <a:xfrm>
            <a:off x="15840" y="2938320"/>
            <a:ext cx="9144000" cy="3148200"/>
          </a:xfrm>
          <a:prstGeom prst="rect">
            <a:avLst/>
          </a:prstGeom>
          <a:ln w="0">
            <a:noFill/>
          </a:ln>
        </p:spPr>
      </p:pic>
      <p:pic>
        <p:nvPicPr>
          <p:cNvPr id="336" name="TextBox 5" descr=""/>
          <p:cNvPicPr/>
          <p:nvPr/>
        </p:nvPicPr>
        <p:blipFill>
          <a:blip r:embed="rId3"/>
          <a:stretch/>
        </p:blipFill>
        <p:spPr>
          <a:xfrm>
            <a:off x="682560" y="1835280"/>
            <a:ext cx="2590920" cy="8046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ая соединительная линия 6"/>
          <p:cNvSpPr/>
          <p:nvPr/>
        </p:nvSpPr>
        <p:spPr>
          <a:xfrm flipH="1" flipV="1">
            <a:off x="1547640" y="1833120"/>
            <a:ext cx="571680" cy="7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6"/>
          <p:cNvSpPr/>
          <p:nvPr/>
        </p:nvSpPr>
        <p:spPr>
          <a:xfrm>
            <a:off x="1547640" y="16336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6"/>
          <p:cNvSpPr/>
          <p:nvPr/>
        </p:nvSpPr>
        <p:spPr>
          <a:xfrm>
            <a:off x="2165400" y="25113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TextBox 11" descr=""/>
          <p:cNvPicPr/>
          <p:nvPr/>
        </p:nvPicPr>
        <p:blipFill>
          <a:blip r:embed="rId4"/>
          <a:stretch/>
        </p:blipFill>
        <p:spPr>
          <a:xfrm>
            <a:off x="2876400" y="1938240"/>
            <a:ext cx="2590920" cy="811440"/>
          </a:xfrm>
          <a:prstGeom prst="rect">
            <a:avLst/>
          </a:prstGeom>
          <a:ln w="0">
            <a:noFill/>
          </a:ln>
        </p:spPr>
      </p:pic>
      <p:pic>
        <p:nvPicPr>
          <p:cNvPr id="341" name="TextBox 12" descr=""/>
          <p:cNvPicPr/>
          <p:nvPr/>
        </p:nvPicPr>
        <p:blipFill>
          <a:blip r:embed="rId5"/>
          <a:stretch/>
        </p:blipFill>
        <p:spPr>
          <a:xfrm>
            <a:off x="4857840" y="2000160"/>
            <a:ext cx="2590560" cy="80964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ая соединительная линия 13"/>
          <p:cNvSpPr/>
          <p:nvPr/>
        </p:nvSpPr>
        <p:spPr>
          <a:xfrm flipH="1" flipV="1">
            <a:off x="5347800" y="2006640"/>
            <a:ext cx="60804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6019920" y="27496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183280" y="16365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6383160" y="223200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7191360" y="152568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5742000" y="300024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x(31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TextBox 21" descr=""/>
          <p:cNvPicPr/>
          <p:nvPr/>
        </p:nvPicPr>
        <p:blipFill>
          <a:blip r:embed="rId6"/>
          <a:stretch/>
        </p:blipFill>
        <p:spPr>
          <a:xfrm>
            <a:off x="7242120" y="3011400"/>
            <a:ext cx="469800" cy="4269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2"/>
          <p:cNvCxnSpPr/>
          <p:nvPr/>
        </p:nvCxnSpPr>
        <p:spPr>
          <a:xfrm>
            <a:off x="466200" y="422064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0" name="TextBox 23"/>
          <p:cNvSpPr/>
          <p:nvPr/>
        </p:nvSpPr>
        <p:spPr>
          <a:xfrm>
            <a:off x="1118160" y="4221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2705400" y="42559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олилиния: фигура 25"/>
          <p:cNvSpPr/>
          <p:nvPr/>
        </p:nvSpPr>
        <p:spPr>
          <a:xfrm>
            <a:off x="284040" y="3855960"/>
            <a:ext cx="973440" cy="365040"/>
          </a:xfrm>
          <a:custGeom>
            <a:avLst/>
            <a:gdLst/>
            <a:ahLst/>
            <a:rect l="l" t="t" r="r" b="b"/>
            <a:pathLst>
              <a:path w="972170" h="365760">
                <a:moveTo>
                  <a:pt x="0" y="98474"/>
                </a:moveTo>
                <a:cubicBezTo>
                  <a:pt x="28135" y="84406"/>
                  <a:pt x="56908" y="71548"/>
                  <a:pt x="84406" y="56271"/>
                </a:cubicBezTo>
                <a:cubicBezTo>
                  <a:pt x="99186" y="48060"/>
                  <a:pt x="110064" y="31618"/>
                  <a:pt x="126609" y="28135"/>
                </a:cubicBezTo>
                <a:cubicBezTo>
                  <a:pt x="200599" y="12558"/>
                  <a:pt x="276664" y="9378"/>
                  <a:pt x="351692" y="0"/>
                </a:cubicBezTo>
                <a:cubicBezTo>
                  <a:pt x="577136" y="20495"/>
                  <a:pt x="600481" y="3213"/>
                  <a:pt x="759655" y="56271"/>
                </a:cubicBezTo>
                <a:cubicBezTo>
                  <a:pt x="841047" y="83402"/>
                  <a:pt x="836223" y="88559"/>
                  <a:pt x="914400" y="140677"/>
                </a:cubicBezTo>
                <a:lnTo>
                  <a:pt x="956603" y="168812"/>
                </a:lnTo>
                <a:cubicBezTo>
                  <a:pt x="978948" y="280534"/>
                  <a:pt x="970671" y="215240"/>
                  <a:pt x="970671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лилиния: фигура 26"/>
          <p:cNvSpPr/>
          <p:nvPr/>
        </p:nvSpPr>
        <p:spPr>
          <a:xfrm>
            <a:off x="1289160" y="3890880"/>
            <a:ext cx="1434960" cy="366840"/>
          </a:xfrm>
          <a:custGeom>
            <a:avLst/>
            <a:gdLst/>
            <a:ahLst/>
            <a:rect l="l" t="t" r="r" b="b"/>
            <a:pathLst>
              <a:path w="1434904" h="365760">
                <a:moveTo>
                  <a:pt x="0" y="295421"/>
                </a:moveTo>
                <a:cubicBezTo>
                  <a:pt x="4689" y="262596"/>
                  <a:pt x="1753" y="227733"/>
                  <a:pt x="14068" y="196947"/>
                </a:cubicBezTo>
                <a:cubicBezTo>
                  <a:pt x="33506" y="148352"/>
                  <a:pt x="102594" y="139303"/>
                  <a:pt x="140677" y="126609"/>
                </a:cubicBezTo>
                <a:cubicBezTo>
                  <a:pt x="168812" y="117231"/>
                  <a:pt x="198084" y="110746"/>
                  <a:pt x="225083" y="98474"/>
                </a:cubicBezTo>
                <a:cubicBezTo>
                  <a:pt x="276665" y="75028"/>
                  <a:pt x="327020" y="48671"/>
                  <a:pt x="379828" y="28135"/>
                </a:cubicBezTo>
                <a:cubicBezTo>
                  <a:pt x="411645" y="15762"/>
                  <a:pt x="445477" y="9378"/>
                  <a:pt x="478301" y="0"/>
                </a:cubicBezTo>
                <a:cubicBezTo>
                  <a:pt x="618978" y="9378"/>
                  <a:pt x="760903" y="7221"/>
                  <a:pt x="900332" y="28135"/>
                </a:cubicBezTo>
                <a:cubicBezTo>
                  <a:pt x="950278" y="35627"/>
                  <a:pt x="993096" y="68435"/>
                  <a:pt x="1041009" y="84406"/>
                </a:cubicBezTo>
                <a:cubicBezTo>
                  <a:pt x="1055077" y="89095"/>
                  <a:pt x="1069949" y="91842"/>
                  <a:pt x="1083212" y="98474"/>
                </a:cubicBezTo>
                <a:cubicBezTo>
                  <a:pt x="1192294" y="153015"/>
                  <a:pt x="1061539" y="105317"/>
                  <a:pt x="1167618" y="140677"/>
                </a:cubicBezTo>
                <a:cubicBezTo>
                  <a:pt x="1236454" y="209513"/>
                  <a:pt x="1177924" y="165459"/>
                  <a:pt x="1266092" y="196947"/>
                </a:cubicBezTo>
                <a:cubicBezTo>
                  <a:pt x="1313654" y="213933"/>
                  <a:pt x="1406769" y="253218"/>
                  <a:pt x="1406769" y="253218"/>
                </a:cubicBezTo>
                <a:cubicBezTo>
                  <a:pt x="1421775" y="358257"/>
                  <a:pt x="1397392" y="328245"/>
                  <a:pt x="1434904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олилиния: фигура 27"/>
          <p:cNvSpPr/>
          <p:nvPr/>
        </p:nvSpPr>
        <p:spPr>
          <a:xfrm>
            <a:off x="2703600" y="3967200"/>
            <a:ext cx="1576440" cy="309600"/>
          </a:xfrm>
          <a:custGeom>
            <a:avLst/>
            <a:gdLst/>
            <a:ahLst/>
            <a:rect l="l" t="t" r="r" b="b"/>
            <a:pathLst>
              <a:path w="1575696" h="309489">
                <a:moveTo>
                  <a:pt x="0" y="309489"/>
                </a:moveTo>
                <a:cubicBezTo>
                  <a:pt x="43646" y="178555"/>
                  <a:pt x="-1989" y="262076"/>
                  <a:pt x="84406" y="182880"/>
                </a:cubicBezTo>
                <a:cubicBezTo>
                  <a:pt x="123514" y="147031"/>
                  <a:pt x="151679" y="98002"/>
                  <a:pt x="196948" y="70338"/>
                </a:cubicBezTo>
                <a:cubicBezTo>
                  <a:pt x="238722" y="44809"/>
                  <a:pt x="290833" y="42533"/>
                  <a:pt x="337625" y="28135"/>
                </a:cubicBezTo>
                <a:cubicBezTo>
                  <a:pt x="472476" y="-13358"/>
                  <a:pt x="294043" y="18833"/>
                  <a:pt x="633046" y="0"/>
                </a:cubicBezTo>
                <a:lnTo>
                  <a:pt x="1533379" y="14067"/>
                </a:lnTo>
                <a:cubicBezTo>
                  <a:pt x="1580031" y="15460"/>
                  <a:pt x="1575582" y="17784"/>
                  <a:pt x="1575582" y="42203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8"/>
          <p:cNvSpPr/>
          <p:nvPr/>
        </p:nvSpPr>
        <p:spPr>
          <a:xfrm>
            <a:off x="3187440" y="391176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9"/>
          <p:cNvSpPr/>
          <p:nvPr/>
        </p:nvSpPr>
        <p:spPr>
          <a:xfrm>
            <a:off x="5528880" y="289548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0"/>
          <p:cNvSpPr/>
          <p:nvPr/>
        </p:nvSpPr>
        <p:spPr>
          <a:xfrm>
            <a:off x="6767280" y="278460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1"/>
          <p:cNvSpPr/>
          <p:nvPr/>
        </p:nvSpPr>
        <p:spPr>
          <a:xfrm>
            <a:off x="5786640" y="33084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6616800" y="3244680"/>
            <a:ext cx="17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3"/>
          <p:cNvSpPr/>
          <p:nvPr/>
        </p:nvSpPr>
        <p:spPr>
          <a:xfrm>
            <a:off x="2995560" y="3767040"/>
            <a:ext cx="179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4"/>
          <p:cNvSpPr/>
          <p:nvPr/>
        </p:nvSpPr>
        <p:spPr>
          <a:xfrm>
            <a:off x="1862280" y="3754440"/>
            <a:ext cx="43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5"/>
          <p:cNvSpPr/>
          <p:nvPr/>
        </p:nvSpPr>
        <p:spPr>
          <a:xfrm>
            <a:off x="625320" y="3724200"/>
            <a:ext cx="43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36"/>
          <p:cNvSpPr/>
          <p:nvPr/>
        </p:nvSpPr>
        <p:spPr>
          <a:xfrm>
            <a:off x="7151760" y="3009960"/>
            <a:ext cx="561960" cy="439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1220760" y="4059360"/>
            <a:ext cx="1503360" cy="13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7578720" y="374652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96880" y="5500800"/>
            <a:ext cx="51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:6=7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раз уменьш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585720" y="602136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4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1427040" y="605304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325600" y="604368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6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3276720" y="60292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8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4035600" y="6016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6"/>
          <p:cNvSpPr/>
          <p:nvPr/>
        </p:nvSpPr>
        <p:spPr>
          <a:xfrm>
            <a:off x="4853160" y="6043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5597640" y="6043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6"/>
          <p:cNvSpPr/>
          <p:nvPr/>
        </p:nvSpPr>
        <p:spPr>
          <a:xfrm>
            <a:off x="7367760" y="524844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6"/>
          <p:cNvSpPr/>
          <p:nvPr/>
        </p:nvSpPr>
        <p:spPr>
          <a:xfrm>
            <a:off x="6361200" y="606744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2135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1403280" y="155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2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3132000" y="206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(180-112):2=3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6"/>
          <p:cNvSpPr/>
          <p:nvPr/>
        </p:nvSpPr>
        <p:spPr>
          <a:xfrm>
            <a:off x="7524720" y="17985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 flipV="1">
            <a:off x="1257480" y="3500280"/>
            <a:ext cx="533160" cy="49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1"/>
          <p:cNvSpPr/>
          <p:nvPr/>
        </p:nvSpPr>
        <p:spPr>
          <a:xfrm flipV="1">
            <a:off x="1790640" y="2924280"/>
            <a:ext cx="57636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 rot="18779400">
            <a:off x="1006560" y="29408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56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962000" y="319896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1619280" y="354636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2606760" y="384336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2905200" y="38433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x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3587760" y="388476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(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56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V2)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2606760" y="414648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2x²=56²*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5249880" y="39956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=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6"/>
          <p:cNvSpPr/>
          <p:nvPr/>
        </p:nvSpPr>
        <p:spPr>
          <a:xfrm>
            <a:off x="7415280" y="348624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2228760" y="54738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6"/>
          <p:cNvSpPr/>
          <p:nvPr/>
        </p:nvSpPr>
        <p:spPr>
          <a:xfrm>
            <a:off x="1790640" y="514368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7"/>
          <p:cNvSpPr/>
          <p:nvPr/>
        </p:nvSpPr>
        <p:spPr>
          <a:xfrm flipH="1" flipV="1">
            <a:off x="1547280" y="4731840"/>
            <a:ext cx="289080" cy="44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1195560" y="479124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127320" y="566100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14*6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7524720" y="52135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33"/>
          <p:cNvSpPr/>
          <p:nvPr/>
        </p:nvSpPr>
        <p:spPr>
          <a:xfrm flipV="1">
            <a:off x="1622520" y="3019320"/>
            <a:ext cx="141120" cy="193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7"/>
          <p:cNvSpPr/>
          <p:nvPr/>
        </p:nvSpPr>
        <p:spPr>
          <a:xfrm>
            <a:off x="4500720" y="3933720"/>
            <a:ext cx="2854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47563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3"/>
          <p:cNvSpPr/>
          <p:nvPr/>
        </p:nvSpPr>
        <p:spPr>
          <a:xfrm>
            <a:off x="826920" y="249228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6"/>
          <p:cNvSpPr/>
          <p:nvPr/>
        </p:nvSpPr>
        <p:spPr>
          <a:xfrm>
            <a:off x="3348000" y="22003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(8+4):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7380360" y="19065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8"/>
          <p:cNvSpPr/>
          <p:nvPr/>
        </p:nvSpPr>
        <p:spPr>
          <a:xfrm>
            <a:off x="0" y="3789360"/>
            <a:ext cx="611280" cy="3510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9"/>
          <p:cNvSpPr/>
          <p:nvPr/>
        </p:nvSpPr>
        <p:spPr>
          <a:xfrm>
            <a:off x="11160" y="4140360"/>
            <a:ext cx="611280" cy="3492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7451640" y="47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1"/>
          <p:cNvSpPr/>
          <p:nvPr/>
        </p:nvSpPr>
        <p:spPr>
          <a:xfrm>
            <a:off x="1042920" y="134136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4"/>
          <p:cNvSpPr/>
          <p:nvPr/>
        </p:nvSpPr>
        <p:spPr>
          <a:xfrm>
            <a:off x="684360" y="2297160"/>
            <a:ext cx="6578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4788000" y="2219400"/>
            <a:ext cx="144360" cy="1429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10"/>
          <p:cNvCxnSpPr/>
          <p:nvPr/>
        </p:nvCxnSpPr>
        <p:spPr>
          <a:xfrm>
            <a:off x="4858920" y="2290680"/>
            <a:ext cx="1080" cy="185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4"/>
          <p:cNvSpPr/>
          <p:nvPr/>
        </p:nvSpPr>
        <p:spPr>
          <a:xfrm>
            <a:off x="684360" y="1844640"/>
            <a:ext cx="6578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4202280" y="1795320"/>
            <a:ext cx="144360" cy="1429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10"/>
          <p:cNvCxnSpPr/>
          <p:nvPr/>
        </p:nvCxnSpPr>
        <p:spPr>
          <a:xfrm>
            <a:off x="4273200" y="1866600"/>
            <a:ext cx="1080" cy="2283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ая соединительная линия 4"/>
          <p:cNvSpPr/>
          <p:nvPr/>
        </p:nvSpPr>
        <p:spPr>
          <a:xfrm>
            <a:off x="690480" y="2492280"/>
            <a:ext cx="6578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8"/>
          <p:cNvSpPr/>
          <p:nvPr/>
        </p:nvSpPr>
        <p:spPr>
          <a:xfrm>
            <a:off x="5667480" y="2392200"/>
            <a:ext cx="144360" cy="14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10"/>
          <p:cNvCxnSpPr>
            <a:stCxn id="238" idx="4"/>
          </p:cNvCxnSpPr>
          <p:nvPr/>
        </p:nvCxnSpPr>
        <p:spPr>
          <a:xfrm>
            <a:off x="5738400" y="2536560"/>
            <a:ext cx="1080" cy="154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6580080" y="63644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ая соединительная линия 4"/>
          <p:cNvSpPr/>
          <p:nvPr/>
        </p:nvSpPr>
        <p:spPr>
          <a:xfrm>
            <a:off x="826920" y="3213000"/>
            <a:ext cx="6578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8"/>
          <p:cNvSpPr/>
          <p:nvPr/>
        </p:nvSpPr>
        <p:spPr>
          <a:xfrm>
            <a:off x="5364000" y="3186000"/>
            <a:ext cx="144720" cy="14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0"/>
          <p:cNvCxnSpPr>
            <a:stCxn id="246" idx="4"/>
          </p:cNvCxnSpPr>
          <p:nvPr/>
        </p:nvCxnSpPr>
        <p:spPr>
          <a:xfrm>
            <a:off x="5435280" y="3330360"/>
            <a:ext cx="1080" cy="819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8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6580080" y="63644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7693200" y="6364440"/>
            <a:ext cx="44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987880" y="4056120"/>
          <a:ext cx="3156120" cy="371520"/>
        </p:xfrm>
        <a:graphic>
          <a:graphicData uri="http://schemas.openxmlformats.org/drawingml/2006/table">
            <a:tbl>
              <a:tblPr/>
              <a:tblGrid>
                <a:gridCol w="525600"/>
                <a:gridCol w="527040"/>
                <a:gridCol w="525600"/>
                <a:gridCol w="525240"/>
                <a:gridCol w="527040"/>
                <a:gridCol w="525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6"/>
          <p:cNvSpPr/>
          <p:nvPr/>
        </p:nvSpPr>
        <p:spPr>
          <a:xfrm>
            <a:off x="6153120" y="405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6626160" y="404028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8"/>
          <p:cNvSpPr/>
          <p:nvPr/>
        </p:nvSpPr>
        <p:spPr>
          <a:xfrm>
            <a:off x="7238880" y="40100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7743960" y="4010040"/>
            <a:ext cx="44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8296200" y="39956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8815320" y="4025880"/>
            <a:ext cx="44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755640" y="14400"/>
            <a:ext cx="7149960" cy="5788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"/>
          <p:cNvPicPr/>
          <p:nvPr/>
        </p:nvPicPr>
        <p:blipFill>
          <a:blip r:embed="rId2"/>
          <a:stretch/>
        </p:blipFill>
        <p:spPr>
          <a:xfrm>
            <a:off x="20520" y="5799240"/>
            <a:ext cx="9144000" cy="1044360"/>
          </a:xfrm>
          <a:prstGeom prst="rect">
            <a:avLst/>
          </a:prstGeom>
          <a:ln w="0">
            <a:noFill/>
          </a:ln>
        </p:spPr>
      </p:pic>
      <p:cxnSp>
        <p:nvCxnSpPr>
          <p:cNvPr id="261" name="Прямая со стрелкой 6"/>
          <p:cNvCxnSpPr/>
          <p:nvPr/>
        </p:nvCxnSpPr>
        <p:spPr>
          <a:xfrm flipV="1">
            <a:off x="5651280" y="4076280"/>
            <a:ext cx="108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2" name="TextBox 10"/>
          <p:cNvSpPr/>
          <p:nvPr/>
        </p:nvSpPr>
        <p:spPr>
          <a:xfrm>
            <a:off x="6951600" y="29084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H="1">
            <a:off x="1979280" y="4076280"/>
            <a:ext cx="36727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Прямая со стрелкой 15"/>
          <p:cNvCxnSpPr/>
          <p:nvPr/>
        </p:nvCxnSpPr>
        <p:spPr>
          <a:xfrm flipV="1">
            <a:off x="5651280" y="3644280"/>
            <a:ext cx="1080" cy="16563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65" name="Прямая со стрелкой 17"/>
          <p:cNvCxnSpPr/>
          <p:nvPr/>
        </p:nvCxnSpPr>
        <p:spPr>
          <a:xfrm>
            <a:off x="5651280" y="3669840"/>
            <a:ext cx="93708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66" name="TextBox 19"/>
          <p:cNvSpPr/>
          <p:nvPr/>
        </p:nvSpPr>
        <p:spPr>
          <a:xfrm>
            <a:off x="6951600" y="351936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 Г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0"/>
          <p:cNvSpPr/>
          <p:nvPr/>
        </p:nvSpPr>
        <p:spPr>
          <a:xfrm>
            <a:off x="1692360" y="2908440"/>
            <a:ext cx="504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102520" cy="46083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6951600" y="29084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951600" y="34448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 Г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"/>
          <p:cNvPicPr/>
          <p:nvPr/>
        </p:nvPicPr>
        <p:blipFill>
          <a:blip r:embed="rId2"/>
          <a:stretch/>
        </p:blipFill>
        <p:spPr>
          <a:xfrm>
            <a:off x="31680" y="5608800"/>
            <a:ext cx="9144000" cy="104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ая соединительная линия 7"/>
          <p:cNvSpPr/>
          <p:nvPr/>
        </p:nvSpPr>
        <p:spPr>
          <a:xfrm>
            <a:off x="468360" y="76500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8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0"/>
          <p:cNvSpPr/>
          <p:nvPr/>
        </p:nvSpPr>
        <p:spPr>
          <a:xfrm>
            <a:off x="919080" y="1989000"/>
            <a:ext cx="691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1"/>
          <p:cNvSpPr/>
          <p:nvPr/>
        </p:nvSpPr>
        <p:spPr>
          <a:xfrm>
            <a:off x="3397320" y="45252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7527960" y="586908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755640" y="14400"/>
            <a:ext cx="7149960" cy="5788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"/>
          <p:cNvPicPr/>
          <p:nvPr/>
        </p:nvPicPr>
        <p:blipFill>
          <a:blip r:embed="rId2"/>
          <a:stretch/>
        </p:blipFill>
        <p:spPr>
          <a:xfrm>
            <a:off x="0" y="584028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279" name="Овал 8"/>
          <p:cNvSpPr/>
          <p:nvPr/>
        </p:nvSpPr>
        <p:spPr>
          <a:xfrm>
            <a:off x="5219640" y="2060640"/>
            <a:ext cx="144360" cy="14436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 стрелкой 9"/>
          <p:cNvCxnSpPr/>
          <p:nvPr/>
        </p:nvCxnSpPr>
        <p:spPr>
          <a:xfrm>
            <a:off x="5364000" y="2133360"/>
            <a:ext cx="122472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81" name="TextBox 11"/>
          <p:cNvSpPr/>
          <p:nvPr/>
        </p:nvSpPr>
        <p:spPr>
          <a:xfrm>
            <a:off x="7380360" y="632448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102520" cy="4608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743040" y="4500720"/>
            <a:ext cx="238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руб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>
            <a:off x="468360" y="76500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1"/>
          <p:cNvSpPr/>
          <p:nvPr/>
        </p:nvSpPr>
        <p:spPr>
          <a:xfrm>
            <a:off x="3397320" y="45252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3" descr=""/>
          <p:cNvPicPr/>
          <p:nvPr/>
        </p:nvPicPr>
        <p:blipFill>
          <a:blip r:embed="rId2"/>
          <a:stretch/>
        </p:blipFill>
        <p:spPr>
          <a:xfrm>
            <a:off x="14400" y="556740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4"/>
          <p:cNvSpPr/>
          <p:nvPr/>
        </p:nvSpPr>
        <p:spPr>
          <a:xfrm>
            <a:off x="495360" y="493092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50 руб – 1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3954600" y="434484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350*100: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3909960" y="482112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350*4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986280" y="520236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7380360" y="6256440"/>
            <a:ext cx="82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32:07Z</dcterms:modified>
  <cp:revision>121</cp:revision>
  <dc:subject/>
  <dc:title>Слайд 1</dc:title>
</cp:coreProperties>
</file>