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81BC-92C7-41F3-8567-9054EBB757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роверки правильности выполнения  решения задачи. Выполнена настройка триггеров, поэтому учитель сам может организовать сценарий решения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самому объяснить последовательно визуализируя этапы решения задачи, можно наводящими вопросами получить ответы от учеников, а можно предложить учащимся объяснить решение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 работы с тригг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ет на прямоугольник «Проверка» – последовательно три раза. После появления первого прямоугольника нажимаем на него один раз. Действия на слайде настроены в автоматическом режиме. После появления второго прямоугольника нажимаем до полного построения графика функции При появлении третьей подсказки нажимаем дважды для визуализации наглядного ответа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в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ценария урока возможно перейти к следующей задаче – по управляющей кнопке в правом верхнем углу слайда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уться на слайд выбора следующей за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62C5-D758-42F9-82CE-E3D7A7A011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E097-C833-4E64-A1D1-AD7BA97C72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FD1-4F82-4F9B-921D-8F496525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E30-6AE3-4274-A017-1020003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BE3-46F6-4D2C-9839-FB8996CA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5F9-0B2D-488D-A9FB-8BA6DD28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A81-EB80-410F-AF3E-2749CD8B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4454-B59B-419A-85BB-264B2940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23DA-14E6-4280-A327-3306DBA8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896A-8A23-4371-87AD-3535D9CA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7ACA-042F-4763-9FA1-E0577D11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D5F-243E-495C-9E4F-8A1B12A0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81CA-DAF9-42C1-9ECD-17E7E83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7C7-328D-4BBF-8A10-53EBDE75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2D04-B29E-4C8E-8297-8C6A1C0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F589-904F-4BF4-ADAE-50D19A82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3DC3-EB9B-4581-BA5C-7ED9FD7D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E209-4928-4E02-9F82-73C30E1D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F91F-9C0C-489F-9F2D-AF88B7F2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7C90-4680-4D8F-98AC-58A5B1E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8741-88ED-4230-8908-A9ADE704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F5E38-D287-413B-AACC-525E9BC2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0DC3-622A-4333-897C-A0913F94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DB93-BF80-46AE-A718-B69519A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68A-D9B6-4388-BC18-71DAC9B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C052-5D62-418D-B40D-E4117EB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6D0C8-6A27-4B45-B8CE-37DD9DF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4F37-81BD-4A56-82C5-10B7D3C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FE0F-BBA4-4C82-9E91-74575796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86BA-C3F9-4C8C-A0EB-5F018215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3EE9-56FB-4C89-B902-C09B1CED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EE54-C508-4B2A-BE6F-FD5D8DA3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A535-F612-4EF2-9C5D-35A91FDB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B600-4DB7-4BC6-AA2B-A836442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A3DE-C66A-4843-8D56-7D6F5B0D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2AC-4266-4A1A-8E72-5B11A28A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A4433-7CD7-431B-9B2C-60D5426B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4142-9D0C-47F1-8B15-C1CB3FEB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F3EE-E4C8-4637-8473-93322E7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A80D-A54D-459C-A64A-66CA8D6E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D921-6504-4EB9-9BA2-ED0C4BD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55DF-2A6B-4E2C-97CD-677D7998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E7D5-A777-4D77-98EC-9919F218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DEEA-F2F9-4F97-8E48-97AF514D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B300-3DF0-4D0A-AA08-0E2065EF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3998-7D77-475E-974F-EF91586A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662-A02F-4BAE-AA0B-73F5C646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DD5BE-8C26-43E5-B6F3-7591A726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8039B-4547-4D33-A646-A2239F50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FC772-7D25-43FE-8190-B20E5676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FD4BE-EA2D-4078-A771-1E7B2AAF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60FC-0607-4E89-8A07-5E10B8E9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706E-D832-4367-A302-1CEE9D9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6C4A-1F1F-4420-82A7-C04F1FC1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7BFB-C296-413E-9989-A26ADAF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06AF-1731-4630-9BDB-F5351B7F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00F31-DAE7-4B71-B5CE-5B0D595F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F1F-3E50-482F-B47A-2B30447B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2DB3-1DE3-4474-86F1-0D9609F8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5AF-89E5-4F74-8181-A3092C0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CCE-1B50-473B-B690-0C402FA9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30B-DE67-454F-91C9-2EE415D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51AB-8A7E-4B16-8CED-14A43864E7C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CCB-A561-471F-9A10-EF87E409128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B156-7E88-4454-9AFF-69DF35FA750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B2CC-BFC0-4662-A480-4E46260448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32D-0616-4C2A-8C58-118A82BA1F3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2" descr="https://im0-tub-ru.yandex.net/i?id=02b9414fa50bc0d19b9724fb93ce5c45-l&amp;n=13"/>
          <p:cNvPicPr/>
          <p:nvPr/>
        </p:nvPicPr>
        <p:blipFill>
          <a:blip r:embed="rId3"/>
          <a:srcRect l="0" t="4789" r="1036" b="81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79280" y="189000"/>
            <a:ext cx="8785440" cy="655308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" Target="slide2.xml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6"/>
          <p:cNvSpPr/>
          <p:nvPr/>
        </p:nvSpPr>
        <p:spPr>
          <a:xfrm>
            <a:off x="588960" y="211932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²+3t-10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Левая круглая скобка 15"/>
          <p:cNvSpPr/>
          <p:nvPr/>
        </p:nvSpPr>
        <p:spPr>
          <a:xfrm>
            <a:off x="758880" y="2952720"/>
            <a:ext cx="181080" cy="1305000"/>
          </a:xfrm>
          <a:custGeom>
            <a:avLst/>
            <a:gdLst>
              <a:gd name="textAreaLeft" fmla="*/ 53280 w 181080"/>
              <a:gd name="textAreaRight" fmla="*/ 181440 w 181080"/>
              <a:gd name="textAreaTop" fmla="*/ 7200 h 1305000"/>
              <a:gd name="textAreaBottom" fmla="*/ 129780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5"/>
                  <a:pt x="0" y="250"/>
                </a:cubicBezTo>
                <a:lnTo>
                  <a:pt x="0" y="21350"/>
                </a:lnTo>
                <a:cubicBezTo>
                  <a:pt x="0" y="21475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1068120" y="2778120"/>
            <a:ext cx="1200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t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3584520" y="5337000"/>
            <a:ext cx="3830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твет: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0,2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-0,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2" descr=""/>
          <p:cNvPicPr/>
          <p:nvPr/>
        </p:nvPicPr>
        <p:blipFill>
          <a:blip r:embed="rId1"/>
          <a:stretch/>
        </p:blipFill>
        <p:spPr>
          <a:xfrm>
            <a:off x="496800" y="-22320"/>
            <a:ext cx="6915240" cy="1638360"/>
          </a:xfrm>
          <a:prstGeom prst="rect">
            <a:avLst/>
          </a:prstGeom>
          <a:ln w="0">
            <a:noFill/>
          </a:ln>
        </p:spPr>
      </p:pic>
      <p:pic>
        <p:nvPicPr>
          <p:cNvPr id="276" name="TextBox 27" descr=""/>
          <p:cNvPicPr/>
          <p:nvPr/>
        </p:nvPicPr>
        <p:blipFill>
          <a:blip r:embed="rId2"/>
          <a:stretch/>
        </p:blipFill>
        <p:spPr>
          <a:xfrm>
            <a:off x="712800" y="1206360"/>
            <a:ext cx="3614760" cy="8845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8"/>
          <p:cNvSpPr/>
          <p:nvPr/>
        </p:nvSpPr>
        <p:spPr>
          <a:xfrm>
            <a:off x="1068840" y="3505320"/>
            <a:ext cx="1031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t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TextBox 29" descr=""/>
          <p:cNvPicPr/>
          <p:nvPr/>
        </p:nvPicPr>
        <p:blipFill>
          <a:blip r:embed="rId3"/>
          <a:stretch/>
        </p:blipFill>
        <p:spPr>
          <a:xfrm>
            <a:off x="853920" y="4456080"/>
            <a:ext cx="1408320" cy="88416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30" descr=""/>
          <p:cNvPicPr/>
          <p:nvPr/>
        </p:nvPicPr>
        <p:blipFill>
          <a:blip r:embed="rId4"/>
          <a:stretch/>
        </p:blipFill>
        <p:spPr>
          <a:xfrm>
            <a:off x="853920" y="5565600"/>
            <a:ext cx="1236960" cy="890640"/>
          </a:xfrm>
          <a:prstGeom prst="rect">
            <a:avLst/>
          </a:prstGeom>
          <a:ln w="0">
            <a:noFill/>
          </a:ln>
        </p:spPr>
      </p:pic>
      <p:sp>
        <p:nvSpPr>
          <p:cNvPr id="280" name="Левая круглая скобка 31"/>
          <p:cNvSpPr/>
          <p:nvPr/>
        </p:nvSpPr>
        <p:spPr>
          <a:xfrm>
            <a:off x="673200" y="4589640"/>
            <a:ext cx="180720" cy="1647720"/>
          </a:xfrm>
          <a:custGeom>
            <a:avLst/>
            <a:gdLst>
              <a:gd name="textAreaLeft" fmla="*/ 52920 w 180720"/>
              <a:gd name="textAreaRight" fmla="*/ 181080 w 180720"/>
              <a:gd name="textAreaTop" fmla="*/ 7200 h 1647720"/>
              <a:gd name="textAreaBottom" fmla="*/ 1640520 h 164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9"/>
                  <a:pt x="0" y="198"/>
                </a:cubicBezTo>
                <a:lnTo>
                  <a:pt x="0" y="21402"/>
                </a:lnTo>
                <a:cubicBezTo>
                  <a:pt x="0" y="21501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TextBox 32" descr=""/>
          <p:cNvPicPr/>
          <p:nvPr/>
        </p:nvPicPr>
        <p:blipFill>
          <a:blip r:embed="rId5"/>
          <a:stretch/>
        </p:blipFill>
        <p:spPr>
          <a:xfrm>
            <a:off x="5151600" y="2322360"/>
            <a:ext cx="1407960" cy="884520"/>
          </a:xfrm>
          <a:prstGeom prst="rect">
            <a:avLst/>
          </a:prstGeom>
          <a:ln w="0">
            <a:noFill/>
          </a:ln>
        </p:spPr>
      </p:pic>
      <p:pic>
        <p:nvPicPr>
          <p:cNvPr id="282" name="TextBox 33" descr=""/>
          <p:cNvPicPr/>
          <p:nvPr/>
        </p:nvPicPr>
        <p:blipFill>
          <a:blip r:embed="rId6"/>
          <a:stretch/>
        </p:blipFill>
        <p:spPr>
          <a:xfrm>
            <a:off x="5175360" y="3230640"/>
            <a:ext cx="1238040" cy="884160"/>
          </a:xfrm>
          <a:prstGeom prst="rect">
            <a:avLst/>
          </a:prstGeom>
          <a:ln w="0">
            <a:noFill/>
          </a:ln>
        </p:spPr>
      </p:pic>
      <p:sp>
        <p:nvSpPr>
          <p:cNvPr id="283" name="Левая круглая скобка 34"/>
          <p:cNvSpPr/>
          <p:nvPr/>
        </p:nvSpPr>
        <p:spPr>
          <a:xfrm>
            <a:off x="5164200" y="2395440"/>
            <a:ext cx="181080" cy="1646280"/>
          </a:xfrm>
          <a:custGeom>
            <a:avLst/>
            <a:gdLst>
              <a:gd name="textAreaLeft" fmla="*/ 53280 w 181080"/>
              <a:gd name="textAreaRight" fmla="*/ 181440 w 181080"/>
              <a:gd name="textAreaTop" fmla="*/ 7200 h 1646280"/>
              <a:gd name="textAreaBottom" fmla="*/ 1639080 h 164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9"/>
                  <a:pt x="0" y="198"/>
                </a:cubicBezTo>
                <a:lnTo>
                  <a:pt x="0" y="21402"/>
                </a:lnTo>
                <a:cubicBezTo>
                  <a:pt x="0" y="21501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473040" y="2309760"/>
          <a:ext cx="7850160" cy="1111320"/>
        </p:xfrm>
        <a:graphic>
          <a:graphicData uri="http://schemas.openxmlformats.org/drawingml/2006/table">
            <a:tbl>
              <a:tblPr/>
              <a:tblGrid>
                <a:gridCol w="1962360"/>
                <a:gridCol w="1963440"/>
                <a:gridCol w="1962360"/>
                <a:gridCol w="19620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12240">
                      <a:solidFill>
                        <a:srgbClr val="9f2936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1224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solidFill>
                      <a:srgbClr val="9f2936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f2936"/>
                      </a:solidFill>
                    </a:lnL>
                    <a:lnR w="5760">
                      <a:solidFill>
                        <a:srgbClr val="9f2936"/>
                      </a:solidFill>
                    </a:lnR>
                    <a:lnT w="5760">
                      <a:solidFill>
                        <a:srgbClr val="9f2936"/>
                      </a:solidFill>
                    </a:lnT>
                    <a:lnB w="5760">
                      <a:solidFill>
                        <a:srgbClr val="9f293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36"/>
          <p:cNvSpPr/>
          <p:nvPr/>
        </p:nvSpPr>
        <p:spPr>
          <a:xfrm>
            <a:off x="2851200" y="221940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/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5294160" y="218772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7015320" y="21877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(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6"/>
          <p:cNvSpPr/>
          <p:nvPr/>
        </p:nvSpPr>
        <p:spPr>
          <a:xfrm>
            <a:off x="919080" y="26352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6"/>
          <p:cNvSpPr/>
          <p:nvPr/>
        </p:nvSpPr>
        <p:spPr>
          <a:xfrm>
            <a:off x="974880" y="299412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946240" y="25542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6"/>
          <p:cNvSpPr/>
          <p:nvPr/>
        </p:nvSpPr>
        <p:spPr>
          <a:xfrm>
            <a:off x="3011400" y="29923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6969240" y="261936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6"/>
          <p:cNvSpPr/>
          <p:nvPr/>
        </p:nvSpPr>
        <p:spPr>
          <a:xfrm>
            <a:off x="6141960" y="3000240"/>
            <a:ext cx="24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0(х+13/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572000" y="2619360"/>
            <a:ext cx="19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4272120" y="2987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х+26/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14" descr=""/>
          <p:cNvPicPr/>
          <p:nvPr/>
        </p:nvPicPr>
        <p:blipFill>
          <a:blip r:embed="rId1"/>
          <a:stretch/>
        </p:blipFill>
        <p:spPr>
          <a:xfrm>
            <a:off x="93600" y="14400"/>
            <a:ext cx="8855280" cy="2259000"/>
          </a:xfrm>
          <a:prstGeom prst="rect">
            <a:avLst/>
          </a:prstGeom>
          <a:ln w="0">
            <a:noFill/>
          </a:ln>
        </p:spPr>
      </p:pic>
      <p:sp>
        <p:nvSpPr>
          <p:cNvPr id="297" name="Правая фигурная скобка 18"/>
          <p:cNvSpPr/>
          <p:nvPr/>
        </p:nvSpPr>
        <p:spPr>
          <a:xfrm>
            <a:off x="8194680" y="2460600"/>
            <a:ext cx="514440" cy="1111320"/>
          </a:xfrm>
          <a:custGeom>
            <a:avLst/>
            <a:gdLst>
              <a:gd name="textAreaLeft" fmla="*/ 0 w 514440"/>
              <a:gd name="textAreaRight" fmla="*/ 185760 w 514440"/>
              <a:gd name="textAreaTop" fmla="*/ 13320 h 1111320"/>
              <a:gd name="textAreaBottom" fmla="*/ 109800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7"/>
                  <a:pt x="10800" y="833"/>
                </a:cubicBezTo>
                <a:lnTo>
                  <a:pt x="10800" y="9967"/>
                </a:lnTo>
                <a:cubicBezTo>
                  <a:pt x="10800" y="10384"/>
                  <a:pt x="16200" y="10800"/>
                  <a:pt x="21600" y="10800"/>
                </a:cubicBezTo>
                <a:cubicBezTo>
                  <a:pt x="16200" y="10800"/>
                  <a:pt x="10800" y="11217"/>
                  <a:pt x="10800" y="11633"/>
                </a:cubicBezTo>
                <a:lnTo>
                  <a:pt x="10800" y="20767"/>
                </a:lnTo>
                <a:cubicBezTo>
                  <a:pt x="10800" y="2118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6"/>
          <p:cNvSpPr/>
          <p:nvPr/>
        </p:nvSpPr>
        <p:spPr>
          <a:xfrm>
            <a:off x="8483760" y="276228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923760" y="382104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21х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1965240" y="386064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30(х+13/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6"/>
          <p:cNvSpPr/>
          <p:nvPr/>
        </p:nvSpPr>
        <p:spPr>
          <a:xfrm>
            <a:off x="4248000" y="387684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= 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6"/>
          <p:cNvSpPr/>
          <p:nvPr/>
        </p:nvSpPr>
        <p:spPr>
          <a:xfrm>
            <a:off x="974880" y="4324320"/>
            <a:ext cx="39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21х + 30х + 13 = 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961920" y="4786200"/>
            <a:ext cx="39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51х = 217 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974880" y="52894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51х = 2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6"/>
          <p:cNvSpPr/>
          <p:nvPr/>
        </p:nvSpPr>
        <p:spPr>
          <a:xfrm>
            <a:off x="974880" y="57499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х = 204: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1044720" y="6135840"/>
            <a:ext cx="32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х = 4 – время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20"/>
          <p:cNvSpPr/>
          <p:nvPr/>
        </p:nvSpPr>
        <p:spPr>
          <a:xfrm>
            <a:off x="4521240" y="5248440"/>
            <a:ext cx="4106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4243320" y="4761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8097840" y="468324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трелка: вниз 24"/>
          <p:cNvSpPr/>
          <p:nvPr/>
        </p:nvSpPr>
        <p:spPr>
          <a:xfrm>
            <a:off x="5675400" y="4241880"/>
            <a:ext cx="245880" cy="9795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f07f09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4822920" y="522288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1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6335640" y="5272200"/>
            <a:ext cx="24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0(х+13/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4216320" y="586116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217-21*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5792760" y="5861160"/>
            <a:ext cx="31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= 217 – 84 = 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4896000" y="6365880"/>
            <a:ext cx="315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Ответ: 133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Object 16"/>
          <p:cNvGraphicFramePr/>
          <p:nvPr/>
        </p:nvGraphicFramePr>
        <p:xfrm>
          <a:off x="5148360" y="2205000"/>
          <a:ext cx="38512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8512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8"/>
          <p:cNvGraphicFramePr/>
          <p:nvPr/>
        </p:nvGraphicFramePr>
        <p:xfrm>
          <a:off x="5038560" y="2205000"/>
          <a:ext cx="3972240" cy="45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8560" y="2205000"/>
                    <a:ext cx="3972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0" name="Object 14"/>
              <p:cNvSpPr txBox="1"/>
              <p:nvPr/>
            </p:nvSpPr>
            <p:spPr>
              <a:xfrm>
                <a:off x="2709720" y="5300640"/>
                <a:ext cx="19954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2"/>
              <p:cNvSpPr txBox="1"/>
              <p:nvPr/>
            </p:nvSpPr>
            <p:spPr>
              <a:xfrm>
                <a:off x="338040" y="5373720"/>
                <a:ext cx="21844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4"/>
              <p:cNvSpPr txBox="1"/>
              <p:nvPr/>
            </p:nvSpPr>
            <p:spPr>
              <a:xfrm>
                <a:off x="428760" y="3573360"/>
                <a:ext cx="3975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х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0,5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58920" y="260280"/>
                <a:ext cx="3189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Прямоугольник 2"/>
          <p:cNvSpPr/>
          <p:nvPr/>
        </p:nvSpPr>
        <p:spPr>
          <a:xfrm>
            <a:off x="3635280" y="260280"/>
            <a:ext cx="5257800" cy="108108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каких значения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ям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имеет  с  графиком  ни одной общей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44000" y="141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3794"/>
                </a:moveTo>
                <a:lnTo>
                  <a:pt x="19176" y="10800"/>
                </a:lnTo>
                <a:lnTo>
                  <a:pt x="5163" y="17806"/>
                </a:lnTo>
                <a:close/>
              </a:path>
            </a:pathLst>
          </a:custGeom>
          <a:solidFill>
            <a:srgbClr val="f2ced2"/>
          </a:solidFill>
          <a:ln w="50760">
            <a:solidFill>
              <a:srgbClr val="274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4">
            <a:hlinkClick r:id="rId5" action="ppaction://hlinksldjump"/>
          </p:cNvPr>
          <p:cNvSpPr/>
          <p:nvPr/>
        </p:nvSpPr>
        <p:spPr>
          <a:xfrm>
            <a:off x="7451640" y="1413000"/>
            <a:ext cx="649440" cy="576000"/>
          </a:xfrm>
          <a:prstGeom prst="rect">
            <a:avLst/>
          </a:prstGeom>
          <a:solidFill>
            <a:srgbClr val="f2ced2"/>
          </a:solidFill>
          <a:ln w="50760">
            <a:solidFill>
              <a:srgbClr val="274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"/>
          <p:cNvSpPr/>
          <p:nvPr/>
        </p:nvSpPr>
        <p:spPr>
          <a:xfrm>
            <a:off x="250920" y="1484280"/>
            <a:ext cx="2305080" cy="576360"/>
          </a:xfrm>
          <a:prstGeom prst="rect">
            <a:avLst/>
          </a:prstGeom>
          <a:solidFill>
            <a:srgbClr val="d9ead5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Проверка (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6"/>
          <p:cNvSpPr/>
          <p:nvPr/>
        </p:nvSpPr>
        <p:spPr>
          <a:xfrm>
            <a:off x="2627280" y="1484280"/>
            <a:ext cx="4753080" cy="432000"/>
          </a:xfrm>
          <a:prstGeom prst="rect">
            <a:avLst/>
          </a:prstGeom>
          <a:solidFill>
            <a:srgbClr val="f2ced2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Упростить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53880" y="2133720"/>
                <a:ext cx="2202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2556000" y="2205000"/>
                <a:ext cx="21016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5</m:t>
                        </m:r>
                        <m:r>
                          <m:t xml:space="preserve">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3"/>
          <p:cNvSpPr/>
          <p:nvPr/>
        </p:nvSpPr>
        <p:spPr>
          <a:xfrm>
            <a:off x="250920" y="3068640"/>
            <a:ext cx="5976720" cy="504720"/>
          </a:xfrm>
          <a:prstGeom prst="rect">
            <a:avLst/>
          </a:prstGeom>
          <a:solidFill>
            <a:srgbClr val="f2ced2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Раскрываем модуль по определ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6"/>
          <p:cNvSpPr/>
          <p:nvPr/>
        </p:nvSpPr>
        <p:spPr>
          <a:xfrm>
            <a:off x="250920" y="6093000"/>
            <a:ext cx="2305080" cy="576000"/>
          </a:xfrm>
          <a:prstGeom prst="rect">
            <a:avLst/>
          </a:prstGeom>
          <a:solidFill>
            <a:srgbClr val="b3d6ac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7"/>
          <p:cNvSpPr/>
          <p:nvPr/>
        </p:nvSpPr>
        <p:spPr>
          <a:xfrm>
            <a:off x="2771640" y="6093000"/>
            <a:ext cx="2232000" cy="576000"/>
          </a:xfrm>
          <a:prstGeom prst="rect">
            <a:avLst/>
          </a:prstGeom>
          <a:solidFill>
            <a:srgbClr val="3b6431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0"/>
          <p:cNvSpPr/>
          <p:nvPr/>
        </p:nvSpPr>
        <p:spPr>
          <a:xfrm>
            <a:off x="250920" y="4724280"/>
            <a:ext cx="4752720" cy="576360"/>
          </a:xfrm>
          <a:prstGeom prst="rect">
            <a:avLst/>
          </a:prstGeom>
          <a:solidFill>
            <a:srgbClr val="f2ced2"/>
          </a:solidFill>
          <a:ln w="507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5435640" y="1989000"/>
                <a:ext cx="789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6"/>
              <p:cNvSpPr txBox="1"/>
              <p:nvPr/>
            </p:nvSpPr>
            <p:spPr>
              <a:xfrm>
                <a:off x="4643280" y="2421000"/>
                <a:ext cx="1097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х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0" name="Группа 35"/>
          <p:cNvGrpSpPr/>
          <p:nvPr/>
        </p:nvGrpSpPr>
        <p:grpSpPr>
          <a:xfrm>
            <a:off x="250920" y="1628640"/>
            <a:ext cx="2989080" cy="1224000"/>
            <a:chOff x="250920" y="1628640"/>
            <a:chExt cx="2989080" cy="1224000"/>
          </a:xfrm>
        </p:grpSpPr>
        <p:sp>
          <p:nvSpPr>
            <p:cNvPr id="341" name="Прямоугольная выноска 34"/>
            <p:cNvSpPr/>
            <p:nvPr/>
          </p:nvSpPr>
          <p:spPr>
            <a:xfrm>
              <a:off x="250920" y="1628640"/>
              <a:ext cx="2989080" cy="1224000"/>
            </a:xfrm>
            <a:prstGeom prst="wedgeRectCallout">
              <a:avLst>
                <a:gd name="adj1" fmla="val -30134"/>
                <a:gd name="adj2" fmla="val 82444"/>
              </a:avLst>
            </a:prstGeom>
            <a:solidFill>
              <a:srgbClr val="3b64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13"/>
                <p:cNvSpPr txBox="1"/>
                <p:nvPr/>
              </p:nvSpPr>
              <p:spPr>
                <a:xfrm>
                  <a:off x="394920" y="1772640"/>
                  <a:ext cx="2716560" cy="96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а</m:t>
                          </m:r>
                        </m:e>
                      </m:d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а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а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Стрелка вправо с вырезом 36"/>
          <p:cNvSpPr/>
          <p:nvPr/>
        </p:nvSpPr>
        <p:spPr>
          <a:xfrm>
            <a:off x="4643280" y="3933720"/>
            <a:ext cx="1266840" cy="484200"/>
          </a:xfrm>
          <a:custGeom>
            <a:avLst/>
            <a:gdLst>
              <a:gd name="textAreaLeft" fmla="*/ 296640 w 1266840"/>
              <a:gd name="textAreaRight" fmla="*/ 970200 w 126684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481" y="5400"/>
                </a:lnTo>
                <a:lnTo>
                  <a:pt x="11481" y="0"/>
                </a:lnTo>
                <a:lnTo>
                  <a:pt x="21600" y="10800"/>
                </a:lnTo>
                <a:lnTo>
                  <a:pt x="11481" y="21600"/>
                </a:lnTo>
                <a:lnTo>
                  <a:pt x="11481" y="16200"/>
                </a:lnTo>
                <a:lnTo>
                  <a:pt x="0" y="16200"/>
                </a:lnTo>
                <a:lnTo>
                  <a:pt x="50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7162920" y="2205000"/>
                <a:ext cx="9475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х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9"/>
              <p:cNvSpPr txBox="1"/>
              <p:nvPr/>
            </p:nvSpPr>
            <p:spPr>
              <a:xfrm>
                <a:off x="6143760" y="6021360"/>
                <a:ext cx="1058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х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TextBox 24"/>
          <p:cNvSpPr/>
          <p:nvPr/>
        </p:nvSpPr>
        <p:spPr>
          <a:xfrm>
            <a:off x="74548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32"/>
          <p:cNvSpPr/>
          <p:nvPr/>
        </p:nvSpPr>
        <p:spPr>
          <a:xfrm>
            <a:off x="7596360" y="4292640"/>
            <a:ext cx="0" cy="865080"/>
          </a:xfrm>
          <a:prstGeom prst="line">
            <a:avLst/>
          </a:prstGeom>
          <a:ln w="2556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43"/>
          <p:cNvSpPr/>
          <p:nvPr/>
        </p:nvSpPr>
        <p:spPr>
          <a:xfrm>
            <a:off x="6804000" y="5084640"/>
            <a:ext cx="71640" cy="122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Овал 45"/>
          <p:cNvSpPr/>
          <p:nvPr/>
        </p:nvSpPr>
        <p:spPr>
          <a:xfrm>
            <a:off x="7524720" y="4292640"/>
            <a:ext cx="142920" cy="1220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49"/>
          <p:cNvSpPr/>
          <p:nvPr/>
        </p:nvSpPr>
        <p:spPr>
          <a:xfrm>
            <a:off x="5940360" y="5805360"/>
            <a:ext cx="144360" cy="122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50"/>
          <p:cNvSpPr/>
          <p:nvPr/>
        </p:nvSpPr>
        <p:spPr>
          <a:xfrm>
            <a:off x="7956720" y="3284640"/>
            <a:ext cx="144360" cy="1220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39"/>
          <p:cNvSpPr/>
          <p:nvPr/>
        </p:nvSpPr>
        <p:spPr>
          <a:xfrm flipV="1">
            <a:off x="7524720" y="4292640"/>
            <a:ext cx="142920" cy="11736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53"/>
          <p:cNvSpPr/>
          <p:nvPr/>
        </p:nvSpPr>
        <p:spPr>
          <a:xfrm>
            <a:off x="5651640" y="4365720"/>
            <a:ext cx="3313080" cy="0"/>
          </a:xfrm>
          <a:prstGeom prst="line">
            <a:avLst/>
          </a:prstGeom>
          <a:ln w="381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0"/>
              <p:cNvSpPr txBox="1"/>
              <p:nvPr/>
            </p:nvSpPr>
            <p:spPr>
              <a:xfrm>
                <a:off x="8028000" y="3933720"/>
                <a:ext cx="8748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23"/>
          <p:cNvSpPr/>
          <p:nvPr/>
        </p:nvSpPr>
        <p:spPr>
          <a:xfrm>
            <a:off x="5148360" y="1844640"/>
            <a:ext cx="136836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35"/>
          <p:cNvSpPr/>
          <p:nvPr/>
        </p:nvSpPr>
        <p:spPr>
          <a:xfrm>
            <a:off x="1278000" y="2082960"/>
            <a:ext cx="2752560" cy="278892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1734" h="1757">
                <a:moveTo>
                  <a:pt x="525" y="16"/>
                </a:moveTo>
                <a:lnTo>
                  <a:pt x="0" y="1757"/>
                </a:lnTo>
                <a:lnTo>
                  <a:pt x="1074" y="1757"/>
                </a:lnTo>
                <a:lnTo>
                  <a:pt x="1734" y="1757"/>
                </a:lnTo>
                <a:lnTo>
                  <a:pt x="525" y="0"/>
                </a:lnTo>
              </a:path>
            </a:pathLst>
          </a:custGeom>
          <a:solidFill>
            <a:srgbClr val="cc0099">
              <a:alpha val="8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917640" y="2082960"/>
            <a:ext cx="3962160" cy="4012920"/>
          </a:xfrm>
          <a:custGeom>
            <a:avLst/>
            <a:gdLst>
              <a:gd name="textAreaLeft" fmla="*/ 0 w 3962160"/>
              <a:gd name="textAreaRight" fmla="*/ 3962520 w 3962160"/>
              <a:gd name="textAreaTop" fmla="*/ 0 h 4012920"/>
              <a:gd name="textAreaBottom" fmla="*/ 4013280 h 4012920"/>
            </a:gdLst>
            <a:ahLst/>
            <a:rect l="textAreaLeft" t="textAreaTop" r="textAreaRight" b="textAreaBottom"/>
            <a:pathLst>
              <a:path w="2496" h="2528">
                <a:moveTo>
                  <a:pt x="2496" y="2528"/>
                </a:moveTo>
                <a:lnTo>
                  <a:pt x="752" y="0"/>
                </a:lnTo>
                <a:lnTo>
                  <a:pt x="0" y="2528"/>
                </a:lnTo>
                <a:lnTo>
                  <a:pt x="2496" y="2528"/>
                </a:lnTo>
                <a:close/>
              </a:path>
            </a:pathLst>
          </a:custGeom>
          <a:solidFill>
            <a:srgbClr val="ffff00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77976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617840" y="1828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906000" y="441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6"/>
              <p:cNvSpPr txBox="1"/>
              <p:nvPr/>
            </p:nvSpPr>
            <p:spPr>
              <a:xfrm>
                <a:off x="736560" y="1028880"/>
                <a:ext cx="23097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общий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 Box 9"/>
          <p:cNvSpPr/>
          <p:nvPr/>
        </p:nvSpPr>
        <p:spPr>
          <a:xfrm>
            <a:off x="3360600" y="1717560"/>
            <a:ext cx="54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&lt;A=&lt;M –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соответственные при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ACIIMN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, секущей АВ. Из подобия треугольников следует пропорциональность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0"/>
          <p:cNvGrpSpPr/>
          <p:nvPr/>
        </p:nvGrpSpPr>
        <p:grpSpPr>
          <a:xfrm>
            <a:off x="3784680" y="1200240"/>
            <a:ext cx="4676760" cy="510480"/>
            <a:chOff x="3784680" y="1200240"/>
            <a:chExt cx="4676760" cy="510480"/>
          </a:xfrm>
        </p:grpSpPr>
        <mc:AlternateContent>
          <mc:Choice xmlns:a14="http://schemas.microsoft.com/office/drawing/2010/main" Requires="a14">
            <p:sp>
              <p:nvSpPr>
                <p:cNvPr id="366" name="Object 11"/>
                <p:cNvSpPr txBox="1"/>
                <p:nvPr/>
              </p:nvSpPr>
              <p:spPr>
                <a:xfrm>
                  <a:off x="3784680" y="12002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Text Box 12"/>
            <p:cNvSpPr/>
            <p:nvPr/>
          </p:nvSpPr>
          <p:spPr>
            <a:xfrm>
              <a:off x="4097160" y="1251000"/>
              <a:ext cx="436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MN         BAC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о двум уг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 rot="205800">
              <a:off x="4851000" y="1428840"/>
              <a:ext cx="381240" cy="1508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14"/>
                <p:cNvSpPr txBox="1"/>
                <p:nvPr/>
              </p:nvSpPr>
              <p:spPr>
                <a:xfrm>
                  <a:off x="5245200" y="12002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Text Box 15"/>
          <p:cNvSpPr/>
          <p:nvPr/>
        </p:nvSpPr>
        <p:spPr>
          <a:xfrm>
            <a:off x="504720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6"/>
          <p:cNvGrpSpPr/>
          <p:nvPr/>
        </p:nvGrpSpPr>
        <p:grpSpPr>
          <a:xfrm>
            <a:off x="5246280" y="3392640"/>
            <a:ext cx="654840" cy="953280"/>
            <a:chOff x="5246280" y="3392640"/>
            <a:chExt cx="654840" cy="953280"/>
          </a:xfrm>
        </p:grpSpPr>
        <p:sp>
          <p:nvSpPr>
            <p:cNvPr id="372" name="Text Box 17"/>
            <p:cNvSpPr/>
            <p:nvPr/>
          </p:nvSpPr>
          <p:spPr>
            <a:xfrm>
              <a:off x="5246280" y="339264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5259600" y="388620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9"/>
            <p:cNvSpPr/>
            <p:nvPr/>
          </p:nvSpPr>
          <p:spPr>
            <a:xfrm>
              <a:off x="5257440" y="3886200"/>
              <a:ext cx="53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20"/>
          <p:cNvGrpSpPr/>
          <p:nvPr/>
        </p:nvGrpSpPr>
        <p:grpSpPr>
          <a:xfrm>
            <a:off x="5868720" y="3352680"/>
            <a:ext cx="1000800" cy="953280"/>
            <a:chOff x="5868720" y="3352680"/>
            <a:chExt cx="1000800" cy="953280"/>
          </a:xfrm>
        </p:grpSpPr>
        <p:sp>
          <p:nvSpPr>
            <p:cNvPr id="376" name="Text Box 21"/>
            <p:cNvSpPr/>
            <p:nvPr/>
          </p:nvSpPr>
          <p:spPr>
            <a:xfrm>
              <a:off x="5868720" y="3657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22"/>
            <p:cNvGrpSpPr/>
            <p:nvPr/>
          </p:nvGrpSpPr>
          <p:grpSpPr>
            <a:xfrm>
              <a:off x="6252840" y="3352680"/>
              <a:ext cx="616680" cy="953280"/>
              <a:chOff x="6252840" y="3352680"/>
              <a:chExt cx="616680" cy="953280"/>
            </a:xfrm>
          </p:grpSpPr>
          <p:sp>
            <p:nvSpPr>
              <p:cNvPr id="378" name="Text Box 23"/>
              <p:cNvSpPr/>
              <p:nvPr/>
            </p:nvSpPr>
            <p:spPr>
              <a:xfrm>
                <a:off x="6252840" y="335268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24"/>
              <p:cNvSpPr/>
              <p:nvPr/>
            </p:nvSpPr>
            <p:spPr>
              <a:xfrm>
                <a:off x="6266520" y="3846240"/>
                <a:ext cx="60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5"/>
              <p:cNvSpPr/>
              <p:nvPr/>
            </p:nvSpPr>
            <p:spPr>
              <a:xfrm>
                <a:off x="6264000" y="3846240"/>
                <a:ext cx="5335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Text Box 26"/>
          <p:cNvSpPr/>
          <p:nvPr/>
        </p:nvSpPr>
        <p:spPr>
          <a:xfrm>
            <a:off x="7166880" y="3352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7141320" y="3809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8"/>
          <p:cNvGrpSpPr/>
          <p:nvPr/>
        </p:nvGrpSpPr>
        <p:grpSpPr>
          <a:xfrm>
            <a:off x="6859440" y="3581280"/>
            <a:ext cx="852120" cy="459720"/>
            <a:chOff x="6859440" y="3581280"/>
            <a:chExt cx="852120" cy="459720"/>
          </a:xfrm>
        </p:grpSpPr>
        <p:sp>
          <p:nvSpPr>
            <p:cNvPr id="384" name="Text Box 29"/>
            <p:cNvSpPr/>
            <p:nvPr/>
          </p:nvSpPr>
          <p:spPr>
            <a:xfrm>
              <a:off x="6859440" y="3581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0"/>
            <p:cNvSpPr/>
            <p:nvPr/>
          </p:nvSpPr>
          <p:spPr>
            <a:xfrm>
              <a:off x="7178400" y="3846240"/>
              <a:ext cx="533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31"/>
          <p:cNvSpPr/>
          <p:nvPr/>
        </p:nvSpPr>
        <p:spPr>
          <a:xfrm>
            <a:off x="1082520" y="48769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2"/>
          <p:cNvSpPr/>
          <p:nvPr/>
        </p:nvSpPr>
        <p:spPr>
          <a:xfrm>
            <a:off x="561960" y="6095880"/>
            <a:ext cx="4597560" cy="1800"/>
          </a:xfrm>
          <a:custGeom>
            <a:avLst/>
            <a:gdLst>
              <a:gd name="textAreaLeft" fmla="*/ 0 w 4597560"/>
              <a:gd name="textAreaRight" fmla="*/ 4597920 w 4597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96" h="1">
                <a:moveTo>
                  <a:pt x="0" y="0"/>
                </a:moveTo>
                <a:lnTo>
                  <a:pt x="28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33"/>
          <p:cNvSpPr/>
          <p:nvPr/>
        </p:nvSpPr>
        <p:spPr>
          <a:xfrm>
            <a:off x="2111400" y="2108160"/>
            <a:ext cx="2781360" cy="3987720"/>
          </a:xfrm>
          <a:custGeom>
            <a:avLst/>
            <a:gdLst>
              <a:gd name="textAreaLeft" fmla="*/ 0 w 2781360"/>
              <a:gd name="textAreaRight" fmla="*/ 2781720 w 2781360"/>
              <a:gd name="textAreaTop" fmla="*/ 0 h 3987720"/>
              <a:gd name="textAreaBottom" fmla="*/ 3988080 h 3987720"/>
            </a:gdLst>
            <a:ahLst/>
            <a:rect l="textAreaLeft" t="textAreaTop" r="textAreaRight" b="textAreaBottom"/>
            <a:pathLst>
              <a:path w="1752" h="2512">
                <a:moveTo>
                  <a:pt x="0" y="0"/>
                </a:moveTo>
                <a:lnTo>
                  <a:pt x="1752" y="25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4"/>
          <p:cNvSpPr/>
          <p:nvPr/>
        </p:nvSpPr>
        <p:spPr>
          <a:xfrm>
            <a:off x="917640" y="2108160"/>
            <a:ext cx="1190520" cy="3987720"/>
          </a:xfrm>
          <a:custGeom>
            <a:avLst/>
            <a:gdLst>
              <a:gd name="textAreaLeft" fmla="*/ 0 w 1190520"/>
              <a:gd name="textAreaRight" fmla="*/ 1190880 w 1190520"/>
              <a:gd name="textAreaTop" fmla="*/ 0 h 3987720"/>
              <a:gd name="textAreaBottom" fmla="*/ 3988080 h 3987720"/>
            </a:gdLst>
            <a:ahLst/>
            <a:rect l="textAreaLeft" t="textAreaTop" r="textAreaRight" b="textAreaBottom"/>
            <a:pathLst>
              <a:path w="750" h="2512">
                <a:moveTo>
                  <a:pt x="750" y="0"/>
                </a:moveTo>
                <a:lnTo>
                  <a:pt x="0" y="25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7"/>
          <p:cNvSpPr/>
          <p:nvPr/>
        </p:nvSpPr>
        <p:spPr>
          <a:xfrm>
            <a:off x="1987560" y="2475000"/>
            <a:ext cx="361800" cy="75960"/>
          </a:xfrm>
          <a:custGeom>
            <a:avLst/>
            <a:gdLst>
              <a:gd name="textAreaLeft" fmla="*/ 0 w 361800"/>
              <a:gd name="textAreaRight" fmla="*/ 362160 w 361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28" h="48">
                <a:moveTo>
                  <a:pt x="228" y="0"/>
                </a:moveTo>
                <a:cubicBezTo>
                  <a:pt x="209" y="8"/>
                  <a:pt x="150" y="42"/>
                  <a:pt x="112" y="45"/>
                </a:cubicBezTo>
                <a:cubicBezTo>
                  <a:pt x="74" y="48"/>
                  <a:pt x="23" y="23"/>
                  <a:pt x="0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857880" y="434340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9"/>
          <p:cNvGrpSpPr/>
          <p:nvPr/>
        </p:nvGrpSpPr>
        <p:grpSpPr>
          <a:xfrm>
            <a:off x="982800" y="4559400"/>
            <a:ext cx="633240" cy="1536120"/>
            <a:chOff x="982800" y="4559400"/>
            <a:chExt cx="633240" cy="1536120"/>
          </a:xfrm>
        </p:grpSpPr>
        <p:grpSp>
          <p:nvGrpSpPr>
            <p:cNvPr id="393" name="Group 40"/>
            <p:cNvGrpSpPr/>
            <p:nvPr/>
          </p:nvGrpSpPr>
          <p:grpSpPr>
            <a:xfrm>
              <a:off x="982800" y="5778360"/>
              <a:ext cx="252360" cy="317160"/>
              <a:chOff x="982800" y="5778360"/>
              <a:chExt cx="252360" cy="317160"/>
            </a:xfrm>
          </p:grpSpPr>
          <p:sp>
            <p:nvSpPr>
              <p:cNvPr id="394" name="Freeform 41"/>
              <p:cNvSpPr/>
              <p:nvPr/>
            </p:nvSpPr>
            <p:spPr>
              <a:xfrm>
                <a:off x="1012680" y="5778360"/>
                <a:ext cx="222480" cy="317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40" h="200">
                    <a:moveTo>
                      <a:pt x="0" y="0"/>
                    </a:moveTo>
                    <a:cubicBezTo>
                      <a:pt x="17" y="11"/>
                      <a:pt x="81" y="35"/>
                      <a:pt x="104" y="68"/>
                    </a:cubicBezTo>
                    <a:cubicBezTo>
                      <a:pt x="127" y="101"/>
                      <a:pt x="133" y="173"/>
                      <a:pt x="1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2"/>
              <p:cNvSpPr/>
              <p:nvPr/>
            </p:nvSpPr>
            <p:spPr>
              <a:xfrm>
                <a:off x="982800" y="5866920"/>
                <a:ext cx="155520" cy="2282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98" h="144">
                    <a:moveTo>
                      <a:pt x="0" y="0"/>
                    </a:moveTo>
                    <a:cubicBezTo>
                      <a:pt x="13" y="9"/>
                      <a:pt x="66" y="30"/>
                      <a:pt x="82" y="54"/>
                    </a:cubicBezTo>
                    <a:cubicBezTo>
                      <a:pt x="98" y="78"/>
                      <a:pt x="94" y="125"/>
                      <a:pt x="97" y="144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43"/>
            <p:cNvGrpSpPr/>
            <p:nvPr/>
          </p:nvGrpSpPr>
          <p:grpSpPr>
            <a:xfrm>
              <a:off x="1363680" y="4559400"/>
              <a:ext cx="252360" cy="317160"/>
              <a:chOff x="1363680" y="4559400"/>
              <a:chExt cx="252360" cy="317160"/>
            </a:xfrm>
          </p:grpSpPr>
          <p:sp>
            <p:nvSpPr>
              <p:cNvPr id="397" name="Freeform 44"/>
              <p:cNvSpPr/>
              <p:nvPr/>
            </p:nvSpPr>
            <p:spPr>
              <a:xfrm>
                <a:off x="1393560" y="4559400"/>
                <a:ext cx="222480" cy="3171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40" h="200">
                    <a:moveTo>
                      <a:pt x="0" y="0"/>
                    </a:moveTo>
                    <a:cubicBezTo>
                      <a:pt x="17" y="11"/>
                      <a:pt x="81" y="35"/>
                      <a:pt x="104" y="68"/>
                    </a:cubicBezTo>
                    <a:cubicBezTo>
                      <a:pt x="127" y="101"/>
                      <a:pt x="133" y="173"/>
                      <a:pt x="1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5"/>
              <p:cNvSpPr/>
              <p:nvPr/>
            </p:nvSpPr>
            <p:spPr>
              <a:xfrm>
                <a:off x="1363680" y="4647960"/>
                <a:ext cx="155520" cy="2282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98" h="144">
                    <a:moveTo>
                      <a:pt x="0" y="0"/>
                    </a:moveTo>
                    <a:cubicBezTo>
                      <a:pt x="13" y="9"/>
                      <a:pt x="66" y="30"/>
                      <a:pt x="82" y="54"/>
                    </a:cubicBezTo>
                    <a:cubicBezTo>
                      <a:pt x="98" y="78"/>
                      <a:pt x="94" y="125"/>
                      <a:pt x="97" y="144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Text Box 46"/>
          <p:cNvSpPr/>
          <p:nvPr/>
        </p:nvSpPr>
        <p:spPr>
          <a:xfrm>
            <a:off x="3126240" y="30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7"/>
          <p:cNvSpPr/>
          <p:nvPr/>
        </p:nvSpPr>
        <p:spPr>
          <a:xfrm>
            <a:off x="2696400" y="609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8"/>
          <p:cNvSpPr/>
          <p:nvPr/>
        </p:nvSpPr>
        <p:spPr>
          <a:xfrm>
            <a:off x="3125520" y="303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9"/>
          <p:cNvSpPr/>
          <p:nvPr/>
        </p:nvSpPr>
        <p:spPr>
          <a:xfrm>
            <a:off x="4512600" y="513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0"/>
          <p:cNvSpPr/>
          <p:nvPr/>
        </p:nvSpPr>
        <p:spPr>
          <a:xfrm>
            <a:off x="2431080" y="4800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1"/>
          <p:cNvSpPr/>
          <p:nvPr/>
        </p:nvSpPr>
        <p:spPr>
          <a:xfrm>
            <a:off x="2429640" y="4799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2"/>
          <p:cNvGrpSpPr/>
          <p:nvPr/>
        </p:nvGrpSpPr>
        <p:grpSpPr>
          <a:xfrm>
            <a:off x="5642640" y="4952880"/>
            <a:ext cx="545400" cy="953640"/>
            <a:chOff x="5642640" y="4952880"/>
            <a:chExt cx="545400" cy="953640"/>
          </a:xfrm>
        </p:grpSpPr>
        <p:sp>
          <p:nvSpPr>
            <p:cNvPr id="406" name="Text Box 53"/>
            <p:cNvSpPr/>
            <p:nvPr/>
          </p:nvSpPr>
          <p:spPr>
            <a:xfrm>
              <a:off x="564264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54"/>
            <p:cNvSpPr/>
            <p:nvPr/>
          </p:nvSpPr>
          <p:spPr>
            <a:xfrm>
              <a:off x="5658480" y="54468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55"/>
            <p:cNvSpPr/>
            <p:nvPr/>
          </p:nvSpPr>
          <p:spPr>
            <a:xfrm>
              <a:off x="5654520" y="5446800"/>
              <a:ext cx="53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56"/>
          <p:cNvGrpSpPr/>
          <p:nvPr/>
        </p:nvGrpSpPr>
        <p:grpSpPr>
          <a:xfrm>
            <a:off x="6173640" y="4916520"/>
            <a:ext cx="1268280" cy="953640"/>
            <a:chOff x="6173640" y="4916520"/>
            <a:chExt cx="1268280" cy="953640"/>
          </a:xfrm>
        </p:grpSpPr>
        <p:sp>
          <p:nvSpPr>
            <p:cNvPr id="410" name="Text Box 57"/>
            <p:cNvSpPr/>
            <p:nvPr/>
          </p:nvSpPr>
          <p:spPr>
            <a:xfrm>
              <a:off x="6173640" y="522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58"/>
            <p:cNvGrpSpPr/>
            <p:nvPr/>
          </p:nvGrpSpPr>
          <p:grpSpPr>
            <a:xfrm>
              <a:off x="6555960" y="4916520"/>
              <a:ext cx="885960" cy="953640"/>
              <a:chOff x="6555960" y="4916520"/>
              <a:chExt cx="885960" cy="953640"/>
            </a:xfrm>
          </p:grpSpPr>
          <p:sp>
            <p:nvSpPr>
              <p:cNvPr id="412" name="Text Box 59"/>
              <p:cNvSpPr/>
              <p:nvPr/>
            </p:nvSpPr>
            <p:spPr>
              <a:xfrm>
                <a:off x="6555960" y="49165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0"/>
              <p:cNvSpPr/>
              <p:nvPr/>
            </p:nvSpPr>
            <p:spPr>
              <a:xfrm>
                <a:off x="6575400" y="541044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+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61"/>
              <p:cNvSpPr/>
              <p:nvPr/>
            </p:nvSpPr>
            <p:spPr>
              <a:xfrm>
                <a:off x="6568920" y="5410440"/>
                <a:ext cx="5335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5" name="Рисунок 64" descr=""/>
          <p:cNvPicPr/>
          <p:nvPr/>
        </p:nvPicPr>
        <p:blipFill>
          <a:blip r:embed="rId1"/>
          <a:stretch/>
        </p:blipFill>
        <p:spPr>
          <a:xfrm>
            <a:off x="0" y="58680"/>
            <a:ext cx="8845560" cy="1036800"/>
          </a:xfrm>
          <a:prstGeom prst="rect">
            <a:avLst/>
          </a:prstGeom>
          <a:ln w="0">
            <a:noFill/>
          </a:ln>
        </p:spPr>
      </p:pic>
      <p:cxnSp>
        <p:nvCxnSpPr>
          <p:cNvPr id="416" name="Прямая со стрелкой 7"/>
          <p:cNvCxnSpPr>
            <a:stCxn id="406" idx="3"/>
            <a:endCxn id="413" idx="1"/>
          </p:cNvCxnSpPr>
          <p:nvPr/>
        </p:nvCxnSpPr>
        <p:spPr>
          <a:xfrm>
            <a:off x="6165720" y="5184720"/>
            <a:ext cx="403920" cy="456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7" name="Прямая со стрелкой 67"/>
          <p:cNvCxnSpPr/>
          <p:nvPr/>
        </p:nvCxnSpPr>
        <p:spPr>
          <a:xfrm flipH="1">
            <a:off x="6189120" y="5196960"/>
            <a:ext cx="516600" cy="467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8" name="Прямая соединительная линия 69"/>
          <p:cNvSpPr/>
          <p:nvPr/>
        </p:nvSpPr>
        <p:spPr>
          <a:xfrm flipH="1" flipV="1">
            <a:off x="5740200" y="4986360"/>
            <a:ext cx="314280" cy="922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6"/>
          <p:cNvSpPr/>
          <p:nvPr/>
        </p:nvSpPr>
        <p:spPr>
          <a:xfrm>
            <a:off x="5959440" y="47768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6041880" y="56358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96840" y="39600"/>
            <a:ext cx="253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3x+120 = 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6"/>
          <p:cNvSpPr/>
          <p:nvPr/>
        </p:nvSpPr>
        <p:spPr>
          <a:xfrm>
            <a:off x="96840" y="522360"/>
            <a:ext cx="253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20 = 7x -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11160" y="1028880"/>
            <a:ext cx="253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120 = 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6"/>
          <p:cNvSpPr/>
          <p:nvPr/>
        </p:nvSpPr>
        <p:spPr>
          <a:xfrm>
            <a:off x="96840" y="1477800"/>
            <a:ext cx="123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6"/>
          <p:cNvSpPr/>
          <p:nvPr/>
        </p:nvSpPr>
        <p:spPr>
          <a:xfrm>
            <a:off x="79200" y="2252520"/>
            <a:ext cx="167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Ответ: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ая соединительная линия 4"/>
          <p:cNvSpPr/>
          <p:nvPr/>
        </p:nvSpPr>
        <p:spPr>
          <a:xfrm>
            <a:off x="1332000" y="4508640"/>
            <a:ext cx="5688000" cy="12967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8"/>
          <p:cNvSpPr/>
          <p:nvPr/>
        </p:nvSpPr>
        <p:spPr>
          <a:xfrm flipV="1">
            <a:off x="1332000" y="2060640"/>
            <a:ext cx="2232000" cy="24480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2"/>
          <p:cNvSpPr/>
          <p:nvPr/>
        </p:nvSpPr>
        <p:spPr>
          <a:xfrm flipV="1">
            <a:off x="3564000" y="1915920"/>
            <a:ext cx="3456000" cy="1443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5"/>
          <p:cNvSpPr/>
          <p:nvPr/>
        </p:nvSpPr>
        <p:spPr>
          <a:xfrm>
            <a:off x="7020000" y="1916280"/>
            <a:ext cx="0" cy="38163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453960" y="4268880"/>
            <a:ext cx="87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008160" y="1335240"/>
            <a:ext cx="9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>
            <a:off x="6824520" y="1363680"/>
            <a:ext cx="9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6"/>
          <p:cNvSpPr/>
          <p:nvPr/>
        </p:nvSpPr>
        <p:spPr>
          <a:xfrm>
            <a:off x="6985080" y="5181480"/>
            <a:ext cx="9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22"/>
          <p:cNvSpPr/>
          <p:nvPr/>
        </p:nvSpPr>
        <p:spPr>
          <a:xfrm flipH="1">
            <a:off x="1332000" y="1916280"/>
            <a:ext cx="5688000" cy="25923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25"/>
          <p:cNvSpPr/>
          <p:nvPr/>
        </p:nvSpPr>
        <p:spPr>
          <a:xfrm flipH="1" flipV="1">
            <a:off x="3564000" y="2060640"/>
            <a:ext cx="3456000" cy="37447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6"/>
          <p:cNvSpPr/>
          <p:nvPr/>
        </p:nvSpPr>
        <p:spPr>
          <a:xfrm>
            <a:off x="3760920" y="3232080"/>
            <a:ext cx="95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Дуга 29"/>
          <p:cNvSpPr/>
          <p:nvPr/>
        </p:nvSpPr>
        <p:spPr>
          <a:xfrm>
            <a:off x="1878120" y="4159080"/>
            <a:ext cx="461880" cy="1243080"/>
          </a:xfrm>
          <a:custGeom>
            <a:avLst/>
            <a:gdLst/>
            <a:ahLst/>
            <a:rect l="l" t="t" r="r" b="b"/>
            <a:pathLst>
              <a:path stroke="0" w="461962" h="1243013">
                <a:moveTo>
                  <a:pt x="230981" y="0"/>
                </a:moveTo>
                <a:cubicBezTo>
                  <a:pt x="358548" y="0"/>
                  <a:pt x="461962" y="278258"/>
                  <a:pt x="461962" y="621507"/>
                </a:cubicBezTo>
                <a:lnTo>
                  <a:pt x="230981" y="621507"/>
                </a:lnTo>
                <a:lnTo>
                  <a:pt x="230981" y="0"/>
                </a:lnTo>
                <a:close/>
              </a:path>
              <a:path fill="none" w="461962" h="1243013">
                <a:moveTo>
                  <a:pt x="230981" y="0"/>
                </a:moveTo>
                <a:cubicBezTo>
                  <a:pt x="358548" y="0"/>
                  <a:pt x="461962" y="278258"/>
                  <a:pt x="461962" y="62150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Дуга 30"/>
          <p:cNvSpPr/>
          <p:nvPr/>
        </p:nvSpPr>
        <p:spPr>
          <a:xfrm rot="1749000">
            <a:off x="3557520" y="1952640"/>
            <a:ext cx="474840" cy="992160"/>
          </a:xfrm>
          <a:custGeom>
            <a:avLst/>
            <a:gdLst/>
            <a:ahLst/>
            <a:rect l="l" t="t" r="r" b="b"/>
            <a:pathLst>
              <a:path stroke="0" w="474662" h="992188">
                <a:moveTo>
                  <a:pt x="237331" y="0"/>
                </a:moveTo>
                <a:cubicBezTo>
                  <a:pt x="368405" y="0"/>
                  <a:pt x="474662" y="222109"/>
                  <a:pt x="474662" y="496094"/>
                </a:cubicBezTo>
                <a:lnTo>
                  <a:pt x="237331" y="496094"/>
                </a:lnTo>
                <a:lnTo>
                  <a:pt x="237331" y="0"/>
                </a:lnTo>
                <a:close/>
              </a:path>
              <a:path fill="none" w="474662" h="992188">
                <a:moveTo>
                  <a:pt x="237331" y="0"/>
                </a:moveTo>
                <a:cubicBezTo>
                  <a:pt x="368405" y="0"/>
                  <a:pt x="474662" y="222109"/>
                  <a:pt x="474662" y="49609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Дуга 31"/>
          <p:cNvSpPr/>
          <p:nvPr/>
        </p:nvSpPr>
        <p:spPr>
          <a:xfrm rot="19388400">
            <a:off x="4132080" y="2795400"/>
            <a:ext cx="685800" cy="684000"/>
          </a:xfrm>
          <a:custGeom>
            <a:avLst/>
            <a:gdLst/>
            <a:ahLst/>
            <a:rect l="l" t="t" r="r" b="b"/>
            <a:pathLst>
              <a:path stroke="0" w="685800" h="684212">
                <a:moveTo>
                  <a:pt x="342900" y="0"/>
                </a:moveTo>
                <a:cubicBezTo>
                  <a:pt x="532278" y="0"/>
                  <a:pt x="685800" y="153166"/>
                  <a:pt x="685800" y="342106"/>
                </a:cubicBezTo>
                <a:lnTo>
                  <a:pt x="342900" y="342106"/>
                </a:lnTo>
                <a:lnTo>
                  <a:pt x="342900" y="0"/>
                </a:lnTo>
                <a:close/>
              </a:path>
              <a:path fill="none" w="685800" h="684212">
                <a:moveTo>
                  <a:pt x="342900" y="0"/>
                </a:moveTo>
                <a:cubicBezTo>
                  <a:pt x="532278" y="0"/>
                  <a:pt x="685800" y="153166"/>
                  <a:pt x="685800" y="342106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Дуга 32"/>
          <p:cNvSpPr/>
          <p:nvPr/>
        </p:nvSpPr>
        <p:spPr>
          <a:xfrm rot="9282600">
            <a:off x="4200120" y="2688840"/>
            <a:ext cx="685800" cy="684360"/>
          </a:xfrm>
          <a:custGeom>
            <a:avLst/>
            <a:gdLst/>
            <a:ahLst/>
            <a:rect l="l" t="t" r="r" b="b"/>
            <a:pathLst>
              <a:path stroke="0" w="685800" h="684213">
                <a:moveTo>
                  <a:pt x="342900" y="0"/>
                </a:moveTo>
                <a:cubicBezTo>
                  <a:pt x="532278" y="0"/>
                  <a:pt x="685800" y="153167"/>
                  <a:pt x="685800" y="342107"/>
                </a:cubicBezTo>
                <a:lnTo>
                  <a:pt x="342900" y="342107"/>
                </a:lnTo>
                <a:lnTo>
                  <a:pt x="342900" y="0"/>
                </a:lnTo>
                <a:close/>
              </a:path>
              <a:path fill="none" w="685800" h="684213">
                <a:moveTo>
                  <a:pt x="342900" y="0"/>
                </a:moveTo>
                <a:cubicBezTo>
                  <a:pt x="532278" y="0"/>
                  <a:pt x="685800" y="153167"/>
                  <a:pt x="685800" y="342107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6"/>
          <p:cNvSpPr/>
          <p:nvPr/>
        </p:nvSpPr>
        <p:spPr>
          <a:xfrm>
            <a:off x="50760" y="44280"/>
            <a:ext cx="888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,</a:t>
            </a: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подобны по двум углам, т.к.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А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= 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C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по условию,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= &lt;B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 – вертикальные.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6"/>
          <p:cNvSpPr/>
          <p:nvPr/>
        </p:nvSpPr>
        <p:spPr>
          <a:xfrm>
            <a:off x="22320" y="77796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ледовательно их стороны пропорциональны, т.е. АО:ОВ=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OD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:ОС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6"/>
          <p:cNvSpPr/>
          <p:nvPr/>
        </p:nvSpPr>
        <p:spPr>
          <a:xfrm>
            <a:off x="-108000" y="5797440"/>
            <a:ext cx="88822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Δ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,</a:t>
            </a:r>
            <a:r>
              <a:rPr b="1" lang="el-GR" sz="2000" spc="-1" strike="noStrike">
                <a:solidFill>
                  <a:srgbClr val="002060"/>
                </a:solidFill>
                <a:latin typeface="Tahoma"/>
              </a:rPr>
              <a:t> Δ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подобны по двум пропорциональным сторонам и углу между ними, т.к.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= 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АО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 – вертикальные, АО:ОВ=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OD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:ОС.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ледовательно 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В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 &lt;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СА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уга 36"/>
          <p:cNvSpPr/>
          <p:nvPr/>
        </p:nvSpPr>
        <p:spPr>
          <a:xfrm rot="15868200">
            <a:off x="6750000" y="4619520"/>
            <a:ext cx="473040" cy="990720"/>
          </a:xfrm>
          <a:custGeom>
            <a:avLst/>
            <a:gdLst/>
            <a:ahLst/>
            <a:rect l="l" t="t" r="r" b="b"/>
            <a:pathLst>
              <a:path stroke="0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  <a:lnTo>
                  <a:pt x="236538" y="495300"/>
                </a:lnTo>
                <a:cubicBezTo>
                  <a:pt x="236538" y="330200"/>
                  <a:pt x="236537" y="165100"/>
                  <a:pt x="236537" y="0"/>
                </a:cubicBezTo>
                <a:close/>
              </a:path>
              <a:path fill="none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</a:path>
            </a:pathLst>
          </a:custGeom>
          <a:noFill/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Дуга 37"/>
          <p:cNvSpPr/>
          <p:nvPr/>
        </p:nvSpPr>
        <p:spPr>
          <a:xfrm rot="21373800">
            <a:off x="2098800" y="3471480"/>
            <a:ext cx="473040" cy="990720"/>
          </a:xfrm>
          <a:custGeom>
            <a:avLst/>
            <a:gdLst/>
            <a:ahLst/>
            <a:rect l="l" t="t" r="r" b="b"/>
            <a:pathLst>
              <a:path stroke="0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  <a:lnTo>
                  <a:pt x="236538" y="495300"/>
                </a:lnTo>
                <a:cubicBezTo>
                  <a:pt x="236538" y="330200"/>
                  <a:pt x="236537" y="165100"/>
                  <a:pt x="236537" y="0"/>
                </a:cubicBezTo>
                <a:close/>
              </a:path>
              <a:path fill="none" w="473075" h="990600">
                <a:moveTo>
                  <a:pt x="236537" y="0"/>
                </a:moveTo>
                <a:cubicBezTo>
                  <a:pt x="367173" y="0"/>
                  <a:pt x="473075" y="221753"/>
                  <a:pt x="473075" y="495300"/>
                </a:cubicBezTo>
              </a:path>
            </a:pathLst>
          </a:custGeom>
          <a:noFill/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8"/>
          <p:cNvSpPr/>
          <p:nvPr/>
        </p:nvSpPr>
        <p:spPr>
          <a:xfrm>
            <a:off x="6012000" y="6448320"/>
            <a:ext cx="241200" cy="258840"/>
          </a:xfrm>
          <a:prstGeom prst="rect">
            <a:avLst/>
          </a:prstGeom>
          <a:solidFill>
            <a:srgbClr val="002060"/>
          </a:solidFill>
          <a:ln w="42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7:02:12Z</dcterms:created>
  <dc:creator>Надежда</dc:creator>
  <dc:description/>
  <cp:keywords>Галибихинская школа;подготовка к ГИА по математике</cp:keywords>
  <dc:language>en-US</dc:language>
  <cp:lastModifiedBy>leontieva_marina@mail.ru</cp:lastModifiedBy>
  <dcterms:modified xsi:type="dcterms:W3CDTF">2023-06-28T16:29:44Z</dcterms:modified>
  <cp:revision>121</cp:revision>
  <dc:subject/>
  <dc:title>Слайд 1</dc:title>
</cp:coreProperties>
</file>