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8A5-EAB7-4814-AB94-B94BD3E9CE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бы прямая имела с построенным графиком одну общую точку, нужно чтобы  или прямая была касательной к графику (и точка касания не равна 2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ли прямая пересекает график в точке х= 2 и в какой-то второй точ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лучай касания реализуется когда дискриминант квадратного уравнения равен нул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лайд проверки правильности решения задачи. Выполнена настройка триггеров, поэтому учитель сам может организовать сценарий решения задач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жно самому объяснить последовательно визуализируя этапы решения задачи, можно наводящими вопросами получить ответы от учеников, а можно предложить учащимся объяснить решение задач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лгоритм работы с триггер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жимает на прямоугольник «Алгоритм» – последовательно два раза раза. После появления первого прямоугольника нажимаем на него – ТРИ нажатия, между ними все действия на слайде настроены автоматически.. Действия на слайде настроены в автоматическом режиме. После появления второго прямоугольника нажимаем до полной визуализации действ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Ответ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зависимости от сценария урока возможно перейти к следующей задаче – по управляющей кнопке в правом верхнем углу слайда ИЛ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ернуться на слайд выбора следующей задач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FD4B-37CF-4D3E-91F0-D4463D711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6B3-5965-466E-9FE6-DAD43DC4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8D3-0247-4609-9A8D-654EDD7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C74-59C2-461F-8545-DAAA7E3D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D83-48A0-439A-8666-60BF156D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D04C-13D3-4E03-AB74-17546823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E8C-27F3-4800-83A7-320968A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1BED-F13F-4FDE-AFA7-AD0B390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B82-00DE-485C-BD30-9AB9CF3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21D4-546D-416D-8DBC-9F4981A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1927-4E94-4B5B-A2BD-9E7867CA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C4B8-37EF-4E5C-923D-08FA9B0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931-268E-4A61-9519-FC4AA70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90BA-A20D-4F85-9E65-FBA73AE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368-20FB-41EE-B92D-DD0371F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2DC-0F3C-41DF-81B0-FEC5FD08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24D6-DE35-4BDD-8444-60AA9F32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CAC5-138F-4677-A945-D4118AEB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9888-FCC0-4587-B3BF-42B54BD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F5A0-FE21-4EB4-A397-7AB3DD38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1098-C0FC-4884-B38A-F0861ED0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62C5-2465-4044-9107-3A96312D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84ED-B102-4508-A944-0BFC035A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2FB-0B32-436B-BA35-EEB536E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1CBE-CA84-49F3-A7A2-2D9EB426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54DA-7EDD-40A0-9E5A-2ECC5B7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5336-655E-40DE-8AC5-37263EC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DAF9-A69B-47D4-962D-84CF934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A822-7C54-4B4F-A8DE-3256055A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B66E3-464E-4744-98C7-78914BE5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2315-AD31-4294-B107-9EAC2238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A3FC-F4AA-42D9-8231-6EDC81F5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56B5-42FB-4BCA-874C-4D138F8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E3DC0-8FDA-4D49-AFBD-495A63B2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BFC-B011-4409-9EE3-C35F953C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85820-4F67-40CB-8C4F-AC3E375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698A-0726-4826-8238-4B74205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68C28-44DD-471D-AC20-F1125B6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4598-9299-4BC3-AF25-0F01883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EC11-593E-4E05-951F-584E89E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284E-E7C9-45DA-916C-5BD878D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A08D-F788-4165-9FA2-48E1A77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C791-FC28-42E2-8A80-8E7E4B3C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E8AC-F02C-43E5-B028-68F7F201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1950-A2C0-4080-81F1-24FFA9F2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099-28B0-4D0D-887F-7523AD4F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05F0-FDE4-4EFE-898B-0FCCAADB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8EAD-6C3A-4FE1-B9E1-2D3F96C8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9CDFA-6722-497A-8171-ED7E6DA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030E5-9279-4EEE-B73F-5E1F1958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48C1-20CF-4F62-A8CE-BB0FD51E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D052-D96D-491A-AD2E-CFE4C77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34228-E3C0-45E2-96F9-76085E8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AE6D-C70C-4179-A50E-B7275153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C655-2ED4-4314-B59A-BEBCA2D7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38F03-3705-4761-9ADE-F4BBB7E6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9A4-E9AB-43B9-A6D3-C7BBBFF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9088-36A6-43F2-B9C5-F527B96D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D11-EC08-4E6F-BAB0-F2D71DF2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893-212A-4872-828B-FF994441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EC2-B441-4EE5-8F68-C446C56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5524-5993-4615-BE66-768389207F9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86E-4EC4-4EE4-828D-C9BDCBD6A01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12C7-1708-4CF0-8A43-5AB8820FE6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403-8594-407C-A37D-3C2CE3AFF81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7DE1-F192-4338-83E7-97C2A82B95B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https://im0-tub-ru.yandex.net/i?id=02b9414fa50bc0d19b9724fb93ce5c45-l&amp;n=13"/>
          <p:cNvPicPr/>
          <p:nvPr/>
        </p:nvPicPr>
        <p:blipFill>
          <a:blip r:embed="rId3"/>
          <a:srcRect l="0" t="4789" r="1036" b="8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6"/>
          <p:cNvSpPr/>
          <p:nvPr/>
        </p:nvSpPr>
        <p:spPr>
          <a:xfrm>
            <a:off x="250920" y="1082520"/>
            <a:ext cx="833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(х-6)(х+6)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(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6)(х-4))²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590400" y="386712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6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Левая круглая скобка 12"/>
          <p:cNvSpPr/>
          <p:nvPr/>
        </p:nvSpPr>
        <p:spPr>
          <a:xfrm>
            <a:off x="496800" y="3867120"/>
            <a:ext cx="238320" cy="141768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417680"/>
              <a:gd name="textAreaBottom" fmla="*/ 1407960 h 14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1"/>
                  <a:pt x="0" y="302"/>
                </a:cubicBezTo>
                <a:lnTo>
                  <a:pt x="0" y="21298"/>
                </a:lnTo>
                <a:cubicBezTo>
                  <a:pt x="0" y="21449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35120" y="5821200"/>
            <a:ext cx="49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403200" y="177804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6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6)²+(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-4)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293760" y="242892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х-6)²(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12х+36+х²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8х+16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41360" y="3060720"/>
            <a:ext cx="68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х-6)²(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4х+52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449280" y="4575240"/>
            <a:ext cx="43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4х+52=0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1100160" y="51786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27000" y="104760"/>
            <a:ext cx="785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473040" y="2309760"/>
          <a:ext cx="7850160" cy="1111320"/>
        </p:xfrm>
        <a:graphic>
          <a:graphicData uri="http://schemas.openxmlformats.org/drawingml/2006/table">
            <a:tbl>
              <a:tblPr/>
              <a:tblGrid>
                <a:gridCol w="1962360"/>
                <a:gridCol w="1963440"/>
                <a:gridCol w="1962360"/>
                <a:gridCol w="1962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36"/>
          <p:cNvSpPr/>
          <p:nvPr/>
        </p:nvSpPr>
        <p:spPr>
          <a:xfrm>
            <a:off x="2851200" y="221940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5294160" y="21877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7015320" y="21877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919080" y="26352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 т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974880" y="29941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 т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2946240" y="25542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3011400" y="29923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7005600" y="261936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6978600" y="30304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384800" y="2619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8/(х+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4272120" y="298764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/(х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278400" y="283356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1722600" y="3608280"/>
            <a:ext cx="13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3298680" y="333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862520" y="359568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²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16" descr=""/>
          <p:cNvPicPr/>
          <p:nvPr/>
        </p:nvPicPr>
        <p:blipFill>
          <a:blip r:embed="rId1"/>
          <a:stretch/>
        </p:blipFill>
        <p:spPr>
          <a:xfrm>
            <a:off x="15840" y="258840"/>
            <a:ext cx="9144000" cy="1079280"/>
          </a:xfrm>
          <a:prstGeom prst="rect">
            <a:avLst/>
          </a:prstGeom>
          <a:ln w="0">
            <a:noFill/>
          </a:ln>
        </p:spPr>
      </p:pic>
      <p:sp>
        <p:nvSpPr>
          <p:cNvPr id="298" name="Правая фигурная скобка 18"/>
          <p:cNvSpPr/>
          <p:nvPr/>
        </p:nvSpPr>
        <p:spPr>
          <a:xfrm>
            <a:off x="6135840" y="2709720"/>
            <a:ext cx="226800" cy="800280"/>
          </a:xfrm>
          <a:custGeom>
            <a:avLst/>
            <a:gdLst>
              <a:gd name="textAreaLeft" fmla="*/ 0 w 226800"/>
              <a:gd name="textAreaRight" fmla="*/ 81720 w 226800"/>
              <a:gd name="textAreaTop" fmla="*/ 5760 h 800280"/>
              <a:gd name="textAreaBottom" fmla="*/ 794520 h 8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6"/>
                  <a:pt x="10800" y="511"/>
                </a:cubicBezTo>
                <a:lnTo>
                  <a:pt x="10800" y="10289"/>
                </a:lnTo>
                <a:cubicBezTo>
                  <a:pt x="10800" y="10545"/>
                  <a:pt x="16200" y="10800"/>
                  <a:pt x="21600" y="10800"/>
                </a:cubicBezTo>
                <a:cubicBezTo>
                  <a:pt x="16200" y="10800"/>
                  <a:pt x="10800" y="11056"/>
                  <a:pt x="10800" y="11311"/>
                </a:cubicBezTo>
                <a:lnTo>
                  <a:pt x="10800" y="21089"/>
                </a:lnTo>
                <a:cubicBezTo>
                  <a:pt x="10800" y="2134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TextBox 24" descr=""/>
          <p:cNvPicPr/>
          <p:nvPr/>
        </p:nvPicPr>
        <p:blipFill>
          <a:blip r:embed="rId2"/>
          <a:stretch/>
        </p:blipFill>
        <p:spPr>
          <a:xfrm>
            <a:off x="1122480" y="3968640"/>
            <a:ext cx="4151160" cy="1163880"/>
          </a:xfrm>
          <a:prstGeom prst="rect">
            <a:avLst/>
          </a:prstGeom>
          <a:ln w="0">
            <a:noFill/>
          </a:ln>
        </p:spPr>
      </p:pic>
      <p:pic>
        <p:nvPicPr>
          <p:cNvPr id="300" name="TextBox 26" descr=""/>
          <p:cNvPicPr/>
          <p:nvPr/>
        </p:nvPicPr>
        <p:blipFill>
          <a:blip r:embed="rId3"/>
          <a:stretch/>
        </p:blipFill>
        <p:spPr>
          <a:xfrm>
            <a:off x="652320" y="5505480"/>
            <a:ext cx="7401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6"/>
          <p:cNvSpPr/>
          <p:nvPr/>
        </p:nvSpPr>
        <p:spPr>
          <a:xfrm>
            <a:off x="784080" y="331632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-18x-19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784080" y="38894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-25≠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Левая фигурная скобка 5"/>
          <p:cNvSpPr/>
          <p:nvPr/>
        </p:nvSpPr>
        <p:spPr>
          <a:xfrm>
            <a:off x="468360" y="3429000"/>
            <a:ext cx="315720" cy="1106640"/>
          </a:xfrm>
          <a:custGeom>
            <a:avLst/>
            <a:gdLst>
              <a:gd name="textAreaLeft" fmla="*/ 201600 w 315720"/>
              <a:gd name="textAreaRight" fmla="*/ 316080 w 315720"/>
              <a:gd name="textAreaTop" fmla="*/ 7920 h 1106640"/>
              <a:gd name="textAreaBottom" fmla="*/ 109872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Левая круглая скобка 6"/>
          <p:cNvSpPr/>
          <p:nvPr/>
        </p:nvSpPr>
        <p:spPr>
          <a:xfrm>
            <a:off x="765000" y="4995720"/>
            <a:ext cx="238320" cy="100836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008360"/>
              <a:gd name="textAreaBottom" fmla="*/ 99864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1071720" y="486396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1003320" y="546732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-1 -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сторо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4322880" y="445608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9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TextBox 12" descr=""/>
          <p:cNvPicPr/>
          <p:nvPr/>
        </p:nvPicPr>
        <p:blipFill>
          <a:blip r:embed="rId1"/>
          <a:stretch/>
        </p:blipFill>
        <p:spPr>
          <a:xfrm>
            <a:off x="450720" y="347760"/>
            <a:ext cx="7394760" cy="1152360"/>
          </a:xfrm>
          <a:prstGeom prst="rect">
            <a:avLst/>
          </a:prstGeom>
          <a:ln w="0">
            <a:noFill/>
          </a:ln>
        </p:spPr>
      </p:pic>
      <p:pic>
        <p:nvPicPr>
          <p:cNvPr id="309" name="TextBox 13" descr=""/>
          <p:cNvPicPr/>
          <p:nvPr/>
        </p:nvPicPr>
        <p:blipFill>
          <a:blip r:embed="rId2"/>
          <a:stretch/>
        </p:blipFill>
        <p:spPr>
          <a:xfrm>
            <a:off x="487440" y="1719360"/>
            <a:ext cx="4060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2162160" y="4076640"/>
                <a:ext cx="1135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2"/>
              <p:cNvSpPr txBox="1"/>
              <p:nvPr/>
            </p:nvSpPr>
            <p:spPr>
              <a:xfrm>
                <a:off x="380880" y="4076640"/>
                <a:ext cx="1484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4"/>
              <p:cNvSpPr txBox="1"/>
              <p:nvPr/>
            </p:nvSpPr>
            <p:spPr>
              <a:xfrm>
                <a:off x="2940120" y="2460600"/>
                <a:ext cx="1311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3"/>
              <p:cNvSpPr txBox="1"/>
              <p:nvPr/>
            </p:nvSpPr>
            <p:spPr>
              <a:xfrm>
                <a:off x="179280" y="2276640"/>
                <a:ext cx="27939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9280" y="255600"/>
                <a:ext cx="2880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Прямоугольник 2"/>
          <p:cNvSpPr/>
          <p:nvPr/>
        </p:nvSpPr>
        <p:spPr>
          <a:xfrm>
            <a:off x="3132000" y="260280"/>
            <a:ext cx="5761080" cy="108108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аких значениях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ямая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kx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ет  с  графиком  одну общую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119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fbcc9a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">
            <a:hlinkClick r:id="rId1" action="ppaction://hlinksldjump"/>
          </p:cNvPr>
          <p:cNvSpPr/>
          <p:nvPr/>
        </p:nvSpPr>
        <p:spPr>
          <a:xfrm>
            <a:off x="7524720" y="1197000"/>
            <a:ext cx="647640" cy="576360"/>
          </a:xfrm>
          <a:prstGeom prst="rect">
            <a:avLst/>
          </a:prstGeom>
          <a:solidFill>
            <a:srgbClr val="fbcc9a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5"/>
          <p:cNvSpPr/>
          <p:nvPr/>
        </p:nvSpPr>
        <p:spPr>
          <a:xfrm>
            <a:off x="250920" y="1484280"/>
            <a:ext cx="2305080" cy="576360"/>
          </a:xfrm>
          <a:prstGeom prst="rect">
            <a:avLst/>
          </a:prstGeom>
          <a:solidFill>
            <a:srgbClr val="d6d6d6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Проверка(</a:t>
            </a:r>
            <a:r>
              <a:rPr b="1" lang="en-US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7"/>
          <p:cNvGraphicFramePr/>
          <p:nvPr/>
        </p:nvGraphicFramePr>
        <p:xfrm>
          <a:off x="5521320" y="2133720"/>
          <a:ext cx="344340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1320" y="2133720"/>
                    <a:ext cx="34434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9"/>
          <p:cNvGraphicFramePr/>
          <p:nvPr/>
        </p:nvGraphicFramePr>
        <p:xfrm>
          <a:off x="5364000" y="2133720"/>
          <a:ext cx="3600720" cy="45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4000" y="2133720"/>
                    <a:ext cx="36007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78145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32"/>
          <p:cNvSpPr/>
          <p:nvPr/>
        </p:nvSpPr>
        <p:spPr>
          <a:xfrm>
            <a:off x="8028000" y="2852640"/>
            <a:ext cx="0" cy="2232000"/>
          </a:xfrm>
          <a:prstGeom prst="line">
            <a:avLst/>
          </a:prstGeom>
          <a:ln w="2556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39"/>
          <p:cNvSpPr/>
          <p:nvPr/>
        </p:nvSpPr>
        <p:spPr>
          <a:xfrm flipV="1">
            <a:off x="7956720" y="5013360"/>
            <a:ext cx="144360" cy="1159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3"/>
          <p:cNvSpPr/>
          <p:nvPr/>
        </p:nvSpPr>
        <p:spPr>
          <a:xfrm>
            <a:off x="2700360" y="1484280"/>
            <a:ext cx="4680000" cy="792360"/>
          </a:xfrm>
          <a:prstGeom prst="rect">
            <a:avLst/>
          </a:prstGeom>
          <a:solidFill>
            <a:srgbClr val="fde5cd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Упростить, построить граф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6"/>
          <p:cNvSpPr/>
          <p:nvPr/>
        </p:nvSpPr>
        <p:spPr>
          <a:xfrm>
            <a:off x="250920" y="6093000"/>
            <a:ext cx="2305080" cy="576000"/>
          </a:xfrm>
          <a:prstGeom prst="rect">
            <a:avLst/>
          </a:prstGeom>
          <a:solidFill>
            <a:srgbClr val="d6d6d6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1230480" y="4581360"/>
                <a:ext cx="1933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Стрелка вправо с вырезом 41"/>
          <p:cNvSpPr/>
          <p:nvPr/>
        </p:nvSpPr>
        <p:spPr>
          <a:xfrm>
            <a:off x="3564000" y="4149720"/>
            <a:ext cx="647640" cy="216000"/>
          </a:xfrm>
          <a:custGeom>
            <a:avLst/>
            <a:gdLst>
              <a:gd name="textAreaLeft" fmla="*/ 134280 w 647640"/>
              <a:gd name="textAreaRight" fmla="*/ 51336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643" y="5400"/>
                </a:lnTo>
                <a:lnTo>
                  <a:pt x="12643" y="0"/>
                </a:lnTo>
                <a:lnTo>
                  <a:pt x="21600" y="10800"/>
                </a:lnTo>
                <a:lnTo>
                  <a:pt x="12643" y="21600"/>
                </a:lnTo>
                <a:lnTo>
                  <a:pt x="12643" y="16200"/>
                </a:lnTo>
                <a:lnTo>
                  <a:pt x="0" y="16200"/>
                </a:lnTo>
                <a:lnTo>
                  <a:pt x="447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15"/>
              <p:cNvSpPr txBox="1"/>
              <p:nvPr/>
            </p:nvSpPr>
            <p:spPr>
              <a:xfrm>
                <a:off x="4202280" y="4076640"/>
                <a:ext cx="1190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Прямоугольник 40"/>
          <p:cNvSpPr/>
          <p:nvPr/>
        </p:nvSpPr>
        <p:spPr>
          <a:xfrm>
            <a:off x="250920" y="3357720"/>
            <a:ext cx="4752720" cy="576000"/>
          </a:xfrm>
          <a:prstGeom prst="rect">
            <a:avLst/>
          </a:prstGeom>
          <a:solidFill>
            <a:srgbClr val="fde5cd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Определит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34"/>
          <p:cNvSpPr/>
          <p:nvPr/>
        </p:nvSpPr>
        <p:spPr>
          <a:xfrm>
            <a:off x="7093080" y="5084640"/>
            <a:ext cx="934920" cy="0"/>
          </a:xfrm>
          <a:prstGeom prst="line">
            <a:avLst/>
          </a:prstGeom>
          <a:ln w="2556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7"/>
          <p:cNvSpPr/>
          <p:nvPr/>
        </p:nvSpPr>
        <p:spPr>
          <a:xfrm>
            <a:off x="6662520" y="486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8"/>
          <p:cNvSpPr/>
          <p:nvPr/>
        </p:nvSpPr>
        <p:spPr>
          <a:xfrm>
            <a:off x="258480" y="4653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и/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3348000" y="4581360"/>
                <a:ext cx="20876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6"/>
              <p:cNvSpPr txBox="1"/>
              <p:nvPr/>
            </p:nvSpPr>
            <p:spPr>
              <a:xfrm>
                <a:off x="4525920" y="2492280"/>
                <a:ext cx="787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Овал 23"/>
          <p:cNvSpPr/>
          <p:nvPr/>
        </p:nvSpPr>
        <p:spPr>
          <a:xfrm>
            <a:off x="4284720" y="2421000"/>
            <a:ext cx="1366920" cy="677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42"/>
          <p:cNvSpPr/>
          <p:nvPr/>
        </p:nvSpPr>
        <p:spPr>
          <a:xfrm>
            <a:off x="5867280" y="765000"/>
            <a:ext cx="2089440" cy="5032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250920" y="5084640"/>
                <a:ext cx="1044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7"/>
              <p:cNvSpPr txBox="1"/>
              <p:nvPr/>
            </p:nvSpPr>
            <p:spPr>
              <a:xfrm>
                <a:off x="1332000" y="5013360"/>
                <a:ext cx="1720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8"/>
              <p:cNvSpPr txBox="1"/>
              <p:nvPr/>
            </p:nvSpPr>
            <p:spPr>
              <a:xfrm>
                <a:off x="3203640" y="5013360"/>
                <a:ext cx="1504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Стрелка вправо с вырезом 45"/>
          <p:cNvSpPr/>
          <p:nvPr/>
        </p:nvSpPr>
        <p:spPr>
          <a:xfrm>
            <a:off x="4788000" y="5157720"/>
            <a:ext cx="647640" cy="216000"/>
          </a:xfrm>
          <a:custGeom>
            <a:avLst/>
            <a:gdLst>
              <a:gd name="textAreaLeft" fmla="*/ 134280 w 647640"/>
              <a:gd name="textAreaRight" fmla="*/ 51336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643" y="5400"/>
                </a:lnTo>
                <a:lnTo>
                  <a:pt x="12643" y="0"/>
                </a:lnTo>
                <a:lnTo>
                  <a:pt x="21600" y="10800"/>
                </a:lnTo>
                <a:lnTo>
                  <a:pt x="12643" y="21600"/>
                </a:lnTo>
                <a:lnTo>
                  <a:pt x="12643" y="16200"/>
                </a:lnTo>
                <a:lnTo>
                  <a:pt x="0" y="16200"/>
                </a:lnTo>
                <a:lnTo>
                  <a:pt x="447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9"/>
              <p:cNvSpPr txBox="1"/>
              <p:nvPr/>
            </p:nvSpPr>
            <p:spPr>
              <a:xfrm>
                <a:off x="1908000" y="5445000"/>
                <a:ext cx="150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7" name="Прямоугольник 50"/>
          <p:cNvSpPr/>
          <p:nvPr/>
        </p:nvSpPr>
        <p:spPr>
          <a:xfrm>
            <a:off x="5508720" y="6093000"/>
            <a:ext cx="503280" cy="576000"/>
          </a:xfrm>
          <a:prstGeom prst="rect">
            <a:avLst/>
          </a:prstGeom>
          <a:solidFill>
            <a:srgbClr val="b45f07"/>
          </a:solidFill>
          <a:ln w="507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9"/>
          <p:cNvSpPr/>
          <p:nvPr/>
        </p:nvSpPr>
        <p:spPr>
          <a:xfrm>
            <a:off x="4500720" y="6093000"/>
            <a:ext cx="1008000" cy="576000"/>
          </a:xfrm>
          <a:prstGeom prst="rect">
            <a:avLst/>
          </a:prstGeom>
          <a:solidFill>
            <a:srgbClr val="b45f07"/>
          </a:solidFill>
          <a:ln w="507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7"/>
          <p:cNvSpPr/>
          <p:nvPr/>
        </p:nvSpPr>
        <p:spPr>
          <a:xfrm>
            <a:off x="2771640" y="6093000"/>
            <a:ext cx="1800360" cy="576000"/>
          </a:xfrm>
          <a:prstGeom prst="rect">
            <a:avLst/>
          </a:prstGeom>
          <a:solidFill>
            <a:srgbClr val="b45f07"/>
          </a:solidFill>
          <a:ln w="507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5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33200"/>
            <a:ext cx="8208720" cy="12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Отрезки АВ и </a:t>
            </a: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CD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 являются хордами окружности. Найдите длину хорды </a:t>
            </a: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CD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, если АВ = 10 см, а расстояния от центра окружности до хорд АВ и </a:t>
            </a: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CD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 равны соответственно 12 см и 5 см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Овал 3"/>
          <p:cNvSpPr/>
          <p:nvPr/>
        </p:nvSpPr>
        <p:spPr>
          <a:xfrm>
            <a:off x="1143000" y="2428920"/>
            <a:ext cx="2879640" cy="287964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642960" y="45720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571920" y="4786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6"/>
          <p:cNvSpPr/>
          <p:nvPr/>
        </p:nvSpPr>
        <p:spPr>
          <a:xfrm>
            <a:off x="1414440" y="4700520"/>
            <a:ext cx="2144880" cy="2145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2214720" y="47149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500200" y="41432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235728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2585880" y="3602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2529000" y="3852720"/>
            <a:ext cx="34920" cy="349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2"/>
          <p:cNvSpPr/>
          <p:nvPr/>
        </p:nvSpPr>
        <p:spPr>
          <a:xfrm flipV="1">
            <a:off x="1371600" y="3868200"/>
            <a:ext cx="1176480" cy="8319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3"/>
          <p:cNvSpPr/>
          <p:nvPr/>
        </p:nvSpPr>
        <p:spPr>
          <a:xfrm flipH="1">
            <a:off x="2442960" y="3870360"/>
            <a:ext cx="98280" cy="9158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4"/>
          <p:cNvSpPr/>
          <p:nvPr/>
        </p:nvSpPr>
        <p:spPr>
          <a:xfrm>
            <a:off x="1565280" y="2851200"/>
            <a:ext cx="2363760" cy="577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6"/>
          <p:cNvSpPr/>
          <p:nvPr/>
        </p:nvSpPr>
        <p:spPr>
          <a:xfrm>
            <a:off x="1143000" y="24289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0"/>
          <p:cNvSpPr/>
          <p:nvPr/>
        </p:nvSpPr>
        <p:spPr>
          <a:xfrm>
            <a:off x="4000680" y="3071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21"/>
          <p:cNvSpPr/>
          <p:nvPr/>
        </p:nvSpPr>
        <p:spPr>
          <a:xfrm flipH="1">
            <a:off x="2556000" y="3143160"/>
            <a:ext cx="172800" cy="7016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24"/>
          <p:cNvSpPr/>
          <p:nvPr/>
        </p:nvSpPr>
        <p:spPr>
          <a:xfrm>
            <a:off x="1564560" y="2851200"/>
            <a:ext cx="963720" cy="1019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7"/>
          <p:cNvSpPr/>
          <p:nvPr/>
        </p:nvSpPr>
        <p:spPr>
          <a:xfrm>
            <a:off x="2120760" y="4997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8"/>
          <p:cNvSpPr/>
          <p:nvPr/>
        </p:nvSpPr>
        <p:spPr>
          <a:xfrm>
            <a:off x="2571840" y="2571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9"/>
          <p:cNvSpPr/>
          <p:nvPr/>
        </p:nvSpPr>
        <p:spPr>
          <a:xfrm>
            <a:off x="4888080" y="17938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Х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0"/>
          <p:cNvSpPr/>
          <p:nvPr/>
        </p:nvSpPr>
        <p:spPr>
          <a:xfrm>
            <a:off x="4602240" y="2424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т.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31"/>
              <p:cNvSpPr txBox="1"/>
              <p:nvPr/>
            </p:nvSpPr>
            <p:spPr>
              <a:xfrm>
                <a:off x="5603760" y="2995560"/>
                <a:ext cx="2468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TextBox 32"/>
          <p:cNvSpPr/>
          <p:nvPr/>
        </p:nvSpPr>
        <p:spPr>
          <a:xfrm>
            <a:off x="4643280" y="321948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3"/>
          <p:cNvSpPr/>
          <p:nvPr/>
        </p:nvSpPr>
        <p:spPr>
          <a:xfrm>
            <a:off x="4572000" y="386064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А = ОС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4"/>
          <p:cNvSpPr/>
          <p:nvPr/>
        </p:nvSpPr>
        <p:spPr>
          <a:xfrm>
            <a:off x="4786200" y="45306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т.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Объект 35"/>
              <p:cNvSpPr txBox="1"/>
              <p:nvPr/>
            </p:nvSpPr>
            <p:spPr>
              <a:xfrm>
                <a:off x="5702400" y="4956120"/>
                <a:ext cx="2455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TextBox 36"/>
          <p:cNvSpPr/>
          <p:nvPr/>
        </p:nvSpPr>
        <p:spPr>
          <a:xfrm>
            <a:off x="4602240" y="5078520"/>
            <a:ext cx="11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7"/>
          <p:cNvSpPr/>
          <p:nvPr/>
        </p:nvSpPr>
        <p:spPr>
          <a:xfrm>
            <a:off x="5065560" y="576576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18"/>
          <p:cNvGrpSpPr/>
          <p:nvPr/>
        </p:nvGrpSpPr>
        <p:grpSpPr>
          <a:xfrm>
            <a:off x="3844440" y="1341360"/>
            <a:ext cx="3710160" cy="4462920"/>
            <a:chOff x="3844440" y="1341360"/>
            <a:chExt cx="3710160" cy="4462920"/>
          </a:xfrm>
        </p:grpSpPr>
        <p:sp>
          <p:nvSpPr>
            <p:cNvPr id="379" name="Line 5"/>
            <p:cNvSpPr/>
            <p:nvPr/>
          </p:nvSpPr>
          <p:spPr>
            <a:xfrm>
              <a:off x="4534920" y="1341360"/>
              <a:ext cx="189828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3844800" y="5804280"/>
              <a:ext cx="370980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"/>
            <p:cNvSpPr/>
            <p:nvPr/>
          </p:nvSpPr>
          <p:spPr>
            <a:xfrm flipH="1">
              <a:off x="3844440" y="1341360"/>
              <a:ext cx="690120" cy="446292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8"/>
            <p:cNvSpPr/>
            <p:nvPr/>
          </p:nvSpPr>
          <p:spPr>
            <a:xfrm>
              <a:off x="6433200" y="1341360"/>
              <a:ext cx="1121400" cy="446292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36"/>
          <p:cNvSpPr/>
          <p:nvPr/>
        </p:nvSpPr>
        <p:spPr>
          <a:xfrm>
            <a:off x="3171960" y="5570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"/>
          <p:cNvSpPr/>
          <p:nvPr/>
        </p:nvSpPr>
        <p:spPr>
          <a:xfrm>
            <a:off x="4208400" y="733320"/>
            <a:ext cx="88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6502320" y="824040"/>
            <a:ext cx="18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7472520" y="5514840"/>
            <a:ext cx="89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3"/>
          <p:cNvSpPr/>
          <p:nvPr/>
        </p:nvSpPr>
        <p:spPr>
          <a:xfrm flipV="1">
            <a:off x="4224240" y="1391760"/>
            <a:ext cx="2239920" cy="2297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5"/>
          <p:cNvSpPr/>
          <p:nvPr/>
        </p:nvSpPr>
        <p:spPr>
          <a:xfrm>
            <a:off x="4168800" y="3689280"/>
            <a:ext cx="3252600" cy="2046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3473280" y="3252960"/>
            <a:ext cx="88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0"/>
          <p:cNvSpPr/>
          <p:nvPr/>
        </p:nvSpPr>
        <p:spPr>
          <a:xfrm flipV="1">
            <a:off x="4184640" y="3066840"/>
            <a:ext cx="2693880" cy="66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3765600" y="573552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4"/>
          <p:cNvSpPr/>
          <p:nvPr/>
        </p:nvSpPr>
        <p:spPr>
          <a:xfrm>
            <a:off x="4295880" y="5481720"/>
            <a:ext cx="290520" cy="280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5"/>
          <p:cNvSpPr/>
          <p:nvPr/>
        </p:nvSpPr>
        <p:spPr>
          <a:xfrm>
            <a:off x="4224240" y="3668760"/>
            <a:ext cx="50760" cy="20937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6"/>
          <p:cNvSpPr/>
          <p:nvPr/>
        </p:nvSpPr>
        <p:spPr>
          <a:xfrm rot="20666400">
            <a:off x="6638400" y="3130200"/>
            <a:ext cx="290520" cy="280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30" descr=""/>
          <p:cNvPicPr/>
          <p:nvPr/>
        </p:nvPicPr>
        <p:blipFill>
          <a:blip r:embed="rId1"/>
          <a:stretch/>
        </p:blipFill>
        <p:spPr>
          <a:xfrm>
            <a:off x="-17640" y="38160"/>
            <a:ext cx="9144000" cy="896760"/>
          </a:xfrm>
          <a:prstGeom prst="rect">
            <a:avLst/>
          </a:prstGeom>
          <a:ln w="0">
            <a:noFill/>
          </a:ln>
        </p:spPr>
      </p:pic>
      <p:sp>
        <p:nvSpPr>
          <p:cNvPr id="396" name="Дуга 38"/>
          <p:cNvSpPr/>
          <p:nvPr/>
        </p:nvSpPr>
        <p:spPr>
          <a:xfrm rot="16499400">
            <a:off x="6098040" y="5518440"/>
            <a:ext cx="1081080" cy="55260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Дуга 39"/>
          <p:cNvSpPr/>
          <p:nvPr/>
        </p:nvSpPr>
        <p:spPr>
          <a:xfrm rot="16499400">
            <a:off x="6660000" y="5105880"/>
            <a:ext cx="1081080" cy="55260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Дуга 40"/>
          <p:cNvSpPr/>
          <p:nvPr/>
        </p:nvSpPr>
        <p:spPr>
          <a:xfrm rot="13340400">
            <a:off x="5565600" y="1441080"/>
            <a:ext cx="1081440" cy="55260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Дуга 41"/>
          <p:cNvSpPr/>
          <p:nvPr/>
        </p:nvSpPr>
        <p:spPr>
          <a:xfrm rot="11287200">
            <a:off x="6098760" y="1603080"/>
            <a:ext cx="1081080" cy="55224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6"/>
          <p:cNvSpPr/>
          <p:nvPr/>
        </p:nvSpPr>
        <p:spPr>
          <a:xfrm>
            <a:off x="6721560" y="250020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6"/>
          <p:cNvSpPr/>
          <p:nvPr/>
        </p:nvSpPr>
        <p:spPr>
          <a:xfrm>
            <a:off x="-17640" y="-11736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DPE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DPH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по общей гипотенузе и острому углу, следовательно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PE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H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60"/>
          <p:cNvSpPr/>
          <p:nvPr/>
        </p:nvSpPr>
        <p:spPr>
          <a:xfrm flipV="1">
            <a:off x="1866960" y="1305000"/>
            <a:ext cx="2705040" cy="15840"/>
          </a:xfrm>
          <a:prstGeom prst="line">
            <a:avLst/>
          </a:prstGeom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62"/>
          <p:cNvSpPr/>
          <p:nvPr/>
        </p:nvSpPr>
        <p:spPr>
          <a:xfrm flipV="1">
            <a:off x="4181400" y="1362240"/>
            <a:ext cx="28800" cy="22716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66"/>
          <p:cNvSpPr/>
          <p:nvPr/>
        </p:nvSpPr>
        <p:spPr>
          <a:xfrm>
            <a:off x="4235400" y="1306440"/>
            <a:ext cx="290520" cy="28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81000" y="1528920"/>
            <a:ext cx="3655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E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по общей гипотенузе и острому углу, следовательно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6"/>
          <p:cNvSpPr/>
          <p:nvPr/>
        </p:nvSpPr>
        <p:spPr>
          <a:xfrm>
            <a:off x="3618000" y="66528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96840" y="4505400"/>
            <a:ext cx="36561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Получили К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Е=Р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1"/>
          <p:cNvSpPr/>
          <p:nvPr/>
        </p:nvSpPr>
        <p:spPr>
          <a:xfrm>
            <a:off x="1919160" y="5288040"/>
            <a:ext cx="290520" cy="280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4:49Z</dcterms:modified>
  <cp:revision>85</cp:revision>
  <dc:subject/>
  <dc:title>Слайд 1</dc:title>
</cp:coreProperties>
</file>