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3245-1818-48D8-82F9-8F0D8AC25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49D6-95F1-4B8D-A83A-2BD2918C60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FB19-8909-4528-B6FD-F1C4AABCAB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F337-0A20-48F1-BAAF-FB07F34EC8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81600" y="0"/>
            <a:ext cx="327672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a51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Arial Black"/>
              </a:rPr>
              <a:t>Проект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Arial Black"/>
              </a:rPr>
              <a:t>Страны Мира</a:t>
            </a:r>
            <a:br>
              <a:rPr sz="4200"/>
            </a:br>
            <a:r>
              <a:rPr b="1" lang="ru-RU" sz="4200" spc="-1" strike="noStrike">
                <a:solidFill>
                  <a:srgbClr val="00b0f0"/>
                </a:solidFill>
                <a:latin typeface="Arial Black"/>
              </a:rPr>
              <a:t>Бразилия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991120" y="5562720"/>
            <a:ext cx="28958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a51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л ученик: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2 «А» класс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ниченко Никита</a:t>
            </a:r>
            <a:endParaRPr b="0" lang="en-US" sz="2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Slide22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Slide27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Slide10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Slide17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Slide18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Slide20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Slide31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bestcube.space/wp-content/uploads/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182844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Slide5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Slide4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Slide23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Slide6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Slide22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Slide9.jpg"/>
          <p:cNvPicPr/>
          <p:nvPr/>
        </p:nvPicPr>
        <p:blipFill>
          <a:blip r:embed="rId1"/>
          <a:stretch/>
        </p:blipFill>
        <p:spPr>
          <a:xfrm>
            <a:off x="1778040" y="0"/>
            <a:ext cx="73659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777</cp:lastModifiedBy>
  <dcterms:modified xsi:type="dcterms:W3CDTF">2018-05-21T15:23:11Z</dcterms:modified>
  <cp:revision>162</cp:revision>
  <dc:subject/>
  <dc:title>Name of presentation</dc:title>
</cp:coreProperties>
</file>