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A673-6690-4EBA-AE30-1F1489FD9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AE65-41B2-4376-94A7-A502D6EA78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C79A-BA55-42FE-94A1-767C3ED189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E150-E79B-4BB0-93E9-D948EF3585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81600" y="0"/>
            <a:ext cx="327672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a51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Arial Black"/>
              </a:rPr>
              <a:t>Проект</a:t>
            </a:r>
            <a:br>
              <a:rPr sz="4200"/>
            </a:br>
            <a:r>
              <a:rPr b="1" lang="ru-RU" sz="4200" spc="-1" strike="noStrike">
                <a:solidFill>
                  <a:srgbClr val="ff0000"/>
                </a:solidFill>
                <a:latin typeface="Arial Black"/>
              </a:rPr>
              <a:t>Страны Мира</a:t>
            </a:r>
            <a:br>
              <a:rPr sz="4200"/>
            </a:br>
            <a:r>
              <a:rPr b="1" lang="ru-RU" sz="4200" spc="-1" strike="noStrike">
                <a:solidFill>
                  <a:srgbClr val="00b0f0"/>
                </a:solidFill>
                <a:latin typeface="Arial Black"/>
              </a:rPr>
              <a:t>Бразилия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991120" y="5562720"/>
            <a:ext cx="28958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a51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л ученик: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2 «А» класс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ниченко Никита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Slide22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Slide27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Slide10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Slide17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3" descr="Slide18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Slide20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Slide31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bestcube.space/wp-content/uploads/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182844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752480" y="0"/>
            <a:ext cx="7391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Slide5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3" descr="Slide4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Slide23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Slide6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Slide22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Slide9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777</cp:lastModifiedBy>
  <dcterms:modified xsi:type="dcterms:W3CDTF">2018-05-21T15:23:11Z</dcterms:modified>
  <cp:revision>162</cp:revision>
  <dc:subject/>
  <dc:title>Name of presentation</dc:title>
</cp:coreProperties>
</file>