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8.png" ContentType="image/png"/>
  <Override PartName="/ppt/media/image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5.png" ContentType="image/png"/>
  <Override PartName="/ppt/media/image42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EB1-9E62-4939-8F6C-9A96ECDE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C23-EB10-4243-8C74-E7CE6630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A29-91DC-428C-97AB-AD29E898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3EF-6CB1-4111-94EE-177B31BA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F0D-095D-4311-9AF4-238322B5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87C-F35A-4D76-944B-D704E6B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508-4AB8-4516-B2AB-CDFDDE0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20D-65F4-4AFB-949B-DA0B6619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A1C-17B5-4ADC-973C-D3AFF37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9A6-C522-44A9-921D-F9AC6F8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FC6-AB19-440F-BE83-CBA89D8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6E5-5504-4756-BA35-66ABF36A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B23-09FC-4935-8CC9-8B0DA3576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12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15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18.xml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" Target="slide18.xml"/><Relationship Id="rId9" Type="http://schemas.openxmlformats.org/officeDocument/2006/relationships/image" Target="../media/image21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" Target="slide18.xml"/><Relationship Id="rId13" Type="http://schemas.openxmlformats.org/officeDocument/2006/relationships/image" Target="../media/image21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" Target="slide18.xml"/><Relationship Id="rId17" Type="http://schemas.openxmlformats.org/officeDocument/2006/relationships/image" Target="../media/image21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" Target="slide18.xml"/><Relationship Id="rId21" Type="http://schemas.openxmlformats.org/officeDocument/2006/relationships/image" Target="../media/image21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" Target="slide18.xml"/><Relationship Id="rId25" Type="http://schemas.openxmlformats.org/officeDocument/2006/relationships/image" Target="../media/image21.png"/><Relationship Id="rId2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slide2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" Target="slide24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46815196_1246597850_flower_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Comic Sans MS"/>
              </a:rPr>
              <a:t>Игра – путешест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258920" y="2060640"/>
            <a:ext cx="70581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0033cc"/>
                    </a:gs>
                  </a:gsLst>
                  <a:lin ang="2700000"/>
                </a:gradFill>
                <a:latin typeface="Georgia"/>
              </a:rPr>
              <a:t>Я здоровье берегу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0033cc"/>
                  </a:gs>
                </a:gsLst>
                <a:lin ang="27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0033cc"/>
                    </a:gs>
                  </a:gsLst>
                  <a:lin ang="2700000"/>
                </a:gradFill>
                <a:latin typeface="Georgia"/>
              </a:rPr>
              <a:t>сам себе я помог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0033cc"/>
                  </a:gs>
                </a:gsLst>
                <a:lin ang="2700000"/>
              </a:gra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619696_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олотая середина и лучи идут кругом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то, может быть, картина –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лнце в небе голубом?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nextslide"/>
          </p:cNvPr>
          <p:cNvSpPr/>
          <p:nvPr/>
        </p:nvSpPr>
        <p:spPr>
          <a:xfrm>
            <a:off x="2268360" y="3284640"/>
            <a:ext cx="3888000" cy="865080"/>
          </a:xfrm>
          <a:custGeom>
            <a:avLst/>
            <a:gdLst>
              <a:gd name="textAreaLeft" fmla="*/ 55800 w 3888000"/>
              <a:gd name="textAreaRight" fmla="*/ 3832200 w 3888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97047" h="21600">
                <a:moveTo>
                  <a:pt x="0" y="0"/>
                </a:moveTo>
                <a:lnTo>
                  <a:pt x="97047" y="0"/>
                </a:lnTo>
                <a:lnTo>
                  <a:pt x="97047" y="21600"/>
                </a:lnTo>
                <a:lnTo>
                  <a:pt x="0" y="21600"/>
                </a:lnTo>
                <a:close/>
              </a:path>
              <a:path fill="lightenLess" w="97047" h="21600">
                <a:moveTo>
                  <a:pt x="0" y="0"/>
                </a:moveTo>
                <a:lnTo>
                  <a:pt x="97047" y="0"/>
                </a:lnTo>
                <a:lnTo>
                  <a:pt x="95647" y="1400"/>
                </a:lnTo>
                <a:lnTo>
                  <a:pt x="1400" y="1400"/>
                </a:lnTo>
                <a:close/>
              </a:path>
              <a:path fill="darken" w="97047" h="21600">
                <a:moveTo>
                  <a:pt x="97047" y="0"/>
                </a:moveTo>
                <a:lnTo>
                  <a:pt x="97047" y="21600"/>
                </a:lnTo>
                <a:lnTo>
                  <a:pt x="95647" y="20200"/>
                </a:lnTo>
                <a:lnTo>
                  <a:pt x="95647" y="1400"/>
                </a:lnTo>
                <a:close/>
              </a:path>
              <a:path fill="darkenLess" w="97047" h="21600">
                <a:moveTo>
                  <a:pt x="97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47" y="20200"/>
                </a:lnTo>
                <a:close/>
              </a:path>
              <a:path fill="lighten" w="97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а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>
            <a:hlinkClick r:id="rId3" action="ppaction://hlinksldjump"/>
          </p:cNvPr>
          <p:cNvSpPr/>
          <p:nvPr/>
        </p:nvSpPr>
        <p:spPr>
          <a:xfrm>
            <a:off x="3851280" y="4724280"/>
            <a:ext cx="3887640" cy="865440"/>
          </a:xfrm>
          <a:custGeom>
            <a:avLst/>
            <a:gdLst>
              <a:gd name="textAreaLeft" fmla="*/ 55800 w 3887640"/>
              <a:gd name="textAreaRight" fmla="*/ 3831840 w 3887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96998" h="21600">
                <a:moveTo>
                  <a:pt x="0" y="0"/>
                </a:moveTo>
                <a:lnTo>
                  <a:pt x="96998" y="0"/>
                </a:lnTo>
                <a:lnTo>
                  <a:pt x="96998" y="21600"/>
                </a:lnTo>
                <a:lnTo>
                  <a:pt x="0" y="21600"/>
                </a:lnTo>
                <a:close/>
              </a:path>
              <a:path fill="lightenLess" w="96998" h="21600">
                <a:moveTo>
                  <a:pt x="0" y="0"/>
                </a:moveTo>
                <a:lnTo>
                  <a:pt x="96998" y="0"/>
                </a:lnTo>
                <a:lnTo>
                  <a:pt x="95598" y="1400"/>
                </a:lnTo>
                <a:lnTo>
                  <a:pt x="1400" y="1400"/>
                </a:lnTo>
                <a:close/>
              </a:path>
              <a:path fill="darken" w="96998" h="21600">
                <a:moveTo>
                  <a:pt x="96998" y="0"/>
                </a:moveTo>
                <a:lnTo>
                  <a:pt x="96998" y="21600"/>
                </a:lnTo>
                <a:lnTo>
                  <a:pt x="95598" y="20200"/>
                </a:lnTo>
                <a:lnTo>
                  <a:pt x="95598" y="1400"/>
                </a:lnTo>
                <a:close/>
              </a:path>
              <a:path fill="darkenLess" w="96998" h="21600">
                <a:moveTo>
                  <a:pt x="9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598" y="20200"/>
                </a:lnTo>
                <a:close/>
              </a:path>
              <a:path fill="lighten" w="9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>
            <a:hlinkClick r:id="" action="ppaction://hlinkshowjump?jump=nextslide"/>
          </p:cNvPr>
          <p:cNvSpPr/>
          <p:nvPr/>
        </p:nvSpPr>
        <p:spPr>
          <a:xfrm>
            <a:off x="5256360" y="5992920"/>
            <a:ext cx="3887640" cy="865080"/>
          </a:xfrm>
          <a:custGeom>
            <a:avLst/>
            <a:gdLst>
              <a:gd name="textAreaLeft" fmla="*/ 55800 w 3887640"/>
              <a:gd name="textAreaRight" fmla="*/ 3831840 w 3887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97038" h="21600">
                <a:moveTo>
                  <a:pt x="0" y="0"/>
                </a:moveTo>
                <a:lnTo>
                  <a:pt x="97038" y="0"/>
                </a:lnTo>
                <a:lnTo>
                  <a:pt x="97038" y="21600"/>
                </a:lnTo>
                <a:lnTo>
                  <a:pt x="0" y="21600"/>
                </a:lnTo>
                <a:close/>
              </a:path>
              <a:path fill="lightenLess" w="97038" h="21600">
                <a:moveTo>
                  <a:pt x="0" y="0"/>
                </a:moveTo>
                <a:lnTo>
                  <a:pt x="97038" y="0"/>
                </a:lnTo>
                <a:lnTo>
                  <a:pt x="95638" y="1400"/>
                </a:lnTo>
                <a:lnTo>
                  <a:pt x="1400" y="1400"/>
                </a:lnTo>
                <a:close/>
              </a:path>
              <a:path fill="darken" w="97038" h="21600">
                <a:moveTo>
                  <a:pt x="97038" y="0"/>
                </a:moveTo>
                <a:lnTo>
                  <a:pt x="97038" y="21600"/>
                </a:lnTo>
                <a:lnTo>
                  <a:pt x="95638" y="20200"/>
                </a:lnTo>
                <a:lnTo>
                  <a:pt x="95638" y="1400"/>
                </a:lnTo>
                <a:close/>
              </a:path>
              <a:path fill="darkenLess" w="97038" h="21600">
                <a:moveTo>
                  <a:pt x="9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38" y="20200"/>
                </a:lnTo>
                <a:close/>
              </a:path>
              <a:path fill="lighten" w="9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подсолн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>
            <a:hlinkClick r:id="rId6" action="ppaction://hlinksldjump"/>
          </p:cNvPr>
          <p:cNvSpPr/>
          <p:nvPr/>
        </p:nvSpPr>
        <p:spPr>
          <a:xfrm>
            <a:off x="3851280" y="4724280"/>
            <a:ext cx="3887640" cy="865440"/>
          </a:xfrm>
          <a:custGeom>
            <a:avLst/>
            <a:gdLst>
              <a:gd name="textAreaLeft" fmla="*/ 55800 w 3887640"/>
              <a:gd name="textAreaRight" fmla="*/ 3831840 w 3887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96998" h="21600">
                <a:moveTo>
                  <a:pt x="0" y="0"/>
                </a:moveTo>
                <a:lnTo>
                  <a:pt x="96998" y="0"/>
                </a:lnTo>
                <a:lnTo>
                  <a:pt x="96998" y="21600"/>
                </a:lnTo>
                <a:lnTo>
                  <a:pt x="0" y="21600"/>
                </a:lnTo>
                <a:close/>
              </a:path>
              <a:path fill="lightenLess" w="96998" h="21600">
                <a:moveTo>
                  <a:pt x="0" y="0"/>
                </a:moveTo>
                <a:lnTo>
                  <a:pt x="96998" y="0"/>
                </a:lnTo>
                <a:lnTo>
                  <a:pt x="95598" y="1400"/>
                </a:lnTo>
                <a:lnTo>
                  <a:pt x="1400" y="1400"/>
                </a:lnTo>
                <a:close/>
              </a:path>
              <a:path fill="darken" w="96998" h="21600">
                <a:moveTo>
                  <a:pt x="96998" y="0"/>
                </a:moveTo>
                <a:lnTo>
                  <a:pt x="96998" y="21600"/>
                </a:lnTo>
                <a:lnTo>
                  <a:pt x="95598" y="20200"/>
                </a:lnTo>
                <a:lnTo>
                  <a:pt x="95598" y="1400"/>
                </a:lnTo>
                <a:close/>
              </a:path>
              <a:path fill="darkenLess" w="96998" h="21600">
                <a:moveTo>
                  <a:pt x="9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598" y="20200"/>
                </a:lnTo>
                <a:close/>
              </a:path>
              <a:path fill="lighten" w="9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>
            <a:hlinkClick r:id="" action="ppaction://hlinkshowjump?jump=previousslide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1246815150_1246597802_flower_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онкий стебель у дорожки,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а конце его серёжки.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а земле лежат листки –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Маленькие               лопушки.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Нам он, как                хороший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                                     друг,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Лечит ранки ног и рук.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" action="ppaction://hlinkshowjump?jump=nextslide"/>
          </p:cNvPr>
          <p:cNvSpPr/>
          <p:nvPr/>
        </p:nvSpPr>
        <p:spPr>
          <a:xfrm>
            <a:off x="395280" y="5084640"/>
            <a:ext cx="2808360" cy="1513080"/>
          </a:xfrm>
          <a:custGeom>
            <a:avLst/>
            <a:gdLst>
              <a:gd name="textAreaLeft" fmla="*/ 97920 w 2808360"/>
              <a:gd name="textAreaRight" fmla="*/ 2710440 w 280836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40086" h="21600">
                <a:moveTo>
                  <a:pt x="0" y="0"/>
                </a:moveTo>
                <a:lnTo>
                  <a:pt x="40086" y="0"/>
                </a:lnTo>
                <a:lnTo>
                  <a:pt x="40086" y="21600"/>
                </a:lnTo>
                <a:lnTo>
                  <a:pt x="0" y="21600"/>
                </a:lnTo>
                <a:close/>
              </a:path>
              <a:path fill="lightenLess" w="40086" h="21600">
                <a:moveTo>
                  <a:pt x="0" y="0"/>
                </a:moveTo>
                <a:lnTo>
                  <a:pt x="40086" y="0"/>
                </a:lnTo>
                <a:lnTo>
                  <a:pt x="38686" y="1400"/>
                </a:lnTo>
                <a:lnTo>
                  <a:pt x="1400" y="1400"/>
                </a:lnTo>
                <a:close/>
              </a:path>
              <a:path fill="darken" w="40086" h="21600">
                <a:moveTo>
                  <a:pt x="40086" y="0"/>
                </a:moveTo>
                <a:lnTo>
                  <a:pt x="40086" y="21600"/>
                </a:lnTo>
                <a:lnTo>
                  <a:pt x="38686" y="20200"/>
                </a:lnTo>
                <a:lnTo>
                  <a:pt x="38686" y="1400"/>
                </a:lnTo>
                <a:close/>
              </a:path>
              <a:path fill="darkenLess" w="40086" h="21600">
                <a:moveTo>
                  <a:pt x="40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6" y="20200"/>
                </a:lnTo>
                <a:close/>
              </a:path>
              <a:path fill="lighten" w="40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одува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" action="ppaction://hlinkshowjump?jump=nextslide"/>
          </p:cNvPr>
          <p:cNvSpPr/>
          <p:nvPr/>
        </p:nvSpPr>
        <p:spPr>
          <a:xfrm>
            <a:off x="3492360" y="5084640"/>
            <a:ext cx="2592360" cy="1511280"/>
          </a:xfrm>
          <a:custGeom>
            <a:avLst/>
            <a:gdLst>
              <a:gd name="textAreaLeft" fmla="*/ 97920 w 2592360"/>
              <a:gd name="textAreaRight" fmla="*/ 2494440 w 259236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37048" h="21600">
                <a:moveTo>
                  <a:pt x="0" y="0"/>
                </a:moveTo>
                <a:lnTo>
                  <a:pt x="37048" y="0"/>
                </a:lnTo>
                <a:lnTo>
                  <a:pt x="37048" y="21600"/>
                </a:lnTo>
                <a:lnTo>
                  <a:pt x="0" y="21600"/>
                </a:lnTo>
                <a:close/>
              </a:path>
              <a:path fill="lightenLess" w="37048" h="21600">
                <a:moveTo>
                  <a:pt x="0" y="0"/>
                </a:moveTo>
                <a:lnTo>
                  <a:pt x="37048" y="0"/>
                </a:lnTo>
                <a:lnTo>
                  <a:pt x="35648" y="1400"/>
                </a:lnTo>
                <a:lnTo>
                  <a:pt x="1400" y="1400"/>
                </a:lnTo>
                <a:close/>
              </a:path>
              <a:path fill="darken" w="37048" h="21600">
                <a:moveTo>
                  <a:pt x="37048" y="0"/>
                </a:moveTo>
                <a:lnTo>
                  <a:pt x="37048" y="21600"/>
                </a:lnTo>
                <a:lnTo>
                  <a:pt x="35648" y="20200"/>
                </a:lnTo>
                <a:lnTo>
                  <a:pt x="35648" y="1400"/>
                </a:lnTo>
                <a:close/>
              </a:path>
              <a:path fill="darkenLess" w="37048" h="21600">
                <a:moveTo>
                  <a:pt x="37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48" y="20200"/>
                </a:lnTo>
                <a:close/>
              </a:path>
              <a:path fill="lighten" w="37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тимоф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е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rId4" action="ppaction://hlinksldjump"/>
          </p:cNvPr>
          <p:cNvSpPr/>
          <p:nvPr/>
        </p:nvSpPr>
        <p:spPr>
          <a:xfrm>
            <a:off x="6372360" y="5157720"/>
            <a:ext cx="2340000" cy="1440000"/>
          </a:xfrm>
          <a:custGeom>
            <a:avLst/>
            <a:gdLst>
              <a:gd name="textAreaLeft" fmla="*/ 93240 w 2340000"/>
              <a:gd name="textAreaRight" fmla="*/ 2246760 w 234000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под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р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46815128_1246597836_flower_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Жжётся, а не огонь;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Злая, а людей лечит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11" name="AutoShape 5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6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>
              <a:hlinkClick r:id="rId4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3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15" name="AutoShape 14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5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">
              <a:hlinkClick r:id="rId8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7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19" name="AutoShape 18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9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0">
              <a:hlinkClick r:id="rId12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23" name="AutoShape 22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4">
              <a:hlinkClick r:id="rId16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5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27" name="AutoShape 26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7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8">
              <a:hlinkClick r:id="rId20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9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31" name="AutoShape 30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1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2">
              <a:hlinkClick r:id="rId24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рапи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1246815212_1246597888_flower_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Чай заварят ароматный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И целебный, и приятный.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Витаминами богат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  Нашей розы дикий брат.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468360" y="3429000"/>
            <a:ext cx="2735280" cy="1152360"/>
          </a:xfrm>
          <a:custGeom>
            <a:avLst/>
            <a:gdLst>
              <a:gd name="textAreaLeft" fmla="*/ 74520 w 2735280"/>
              <a:gd name="textAreaRight" fmla="*/ 2660760 w 273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51261" h="21600">
                <a:moveTo>
                  <a:pt x="0" y="0"/>
                </a:moveTo>
                <a:lnTo>
                  <a:pt x="51261" y="0"/>
                </a:lnTo>
                <a:lnTo>
                  <a:pt x="51261" y="21600"/>
                </a:lnTo>
                <a:lnTo>
                  <a:pt x="0" y="21600"/>
                </a:lnTo>
                <a:close/>
              </a:path>
              <a:path fill="lightenLess" w="51261" h="21600">
                <a:moveTo>
                  <a:pt x="0" y="0"/>
                </a:moveTo>
                <a:lnTo>
                  <a:pt x="51261" y="0"/>
                </a:lnTo>
                <a:lnTo>
                  <a:pt x="49861" y="1400"/>
                </a:lnTo>
                <a:lnTo>
                  <a:pt x="1400" y="1400"/>
                </a:lnTo>
                <a:close/>
              </a:path>
              <a:path fill="darken" w="51261" h="21600">
                <a:moveTo>
                  <a:pt x="51261" y="0"/>
                </a:moveTo>
                <a:lnTo>
                  <a:pt x="51261" y="21600"/>
                </a:lnTo>
                <a:lnTo>
                  <a:pt x="49861" y="20200"/>
                </a:lnTo>
                <a:lnTo>
                  <a:pt x="49861" y="1400"/>
                </a:lnTo>
                <a:close/>
              </a:path>
              <a:path fill="darkenLess" w="51261" h="21600">
                <a:moveTo>
                  <a:pt x="51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1" y="20200"/>
                </a:lnTo>
                <a:close/>
              </a:path>
              <a:path fill="lighten" w="51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гвозд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" action="ppaction://hlinkshowjump?jump=nextslide"/>
          </p:cNvPr>
          <p:cNvSpPr/>
          <p:nvPr/>
        </p:nvSpPr>
        <p:spPr>
          <a:xfrm>
            <a:off x="5940360" y="5445000"/>
            <a:ext cx="2665440" cy="1079640"/>
          </a:xfrm>
          <a:custGeom>
            <a:avLst/>
            <a:gdLst>
              <a:gd name="textAreaLeft" fmla="*/ 69840 w 2665440"/>
              <a:gd name="textAreaRight" fmla="*/ 2595600 w 26654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53316" h="21600">
                <a:moveTo>
                  <a:pt x="0" y="0"/>
                </a:moveTo>
                <a:lnTo>
                  <a:pt x="53316" y="0"/>
                </a:lnTo>
                <a:lnTo>
                  <a:pt x="53316" y="21600"/>
                </a:lnTo>
                <a:lnTo>
                  <a:pt x="0" y="21600"/>
                </a:lnTo>
                <a:close/>
              </a:path>
              <a:path fill="lightenLess" w="53316" h="21600">
                <a:moveTo>
                  <a:pt x="0" y="0"/>
                </a:moveTo>
                <a:lnTo>
                  <a:pt x="53316" y="0"/>
                </a:lnTo>
                <a:lnTo>
                  <a:pt x="51916" y="1400"/>
                </a:lnTo>
                <a:lnTo>
                  <a:pt x="1400" y="1400"/>
                </a:lnTo>
                <a:close/>
              </a:path>
              <a:path fill="darken" w="53316" h="21600">
                <a:moveTo>
                  <a:pt x="53316" y="0"/>
                </a:moveTo>
                <a:lnTo>
                  <a:pt x="53316" y="21600"/>
                </a:lnTo>
                <a:lnTo>
                  <a:pt x="51916" y="20200"/>
                </a:lnTo>
                <a:lnTo>
                  <a:pt x="51916" y="1400"/>
                </a:lnTo>
                <a:close/>
              </a:path>
              <a:path fill="darkenLess" w="53316" h="21600">
                <a:moveTo>
                  <a:pt x="53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916" y="20200"/>
                </a:lnTo>
                <a:close/>
              </a:path>
              <a:path fill="lighten" w="53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м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rId4" action="ppaction://hlinksldjump"/>
          </p:cNvPr>
          <p:cNvSpPr/>
          <p:nvPr/>
        </p:nvSpPr>
        <p:spPr>
          <a:xfrm>
            <a:off x="2627280" y="4869000"/>
            <a:ext cx="2951280" cy="963360"/>
          </a:xfrm>
          <a:custGeom>
            <a:avLst/>
            <a:gdLst>
              <a:gd name="textAreaLeft" fmla="*/ 62280 w 2951280"/>
              <a:gd name="textAreaRight" fmla="*/ 2889000 w 2951280"/>
              <a:gd name="textAreaTop" fmla="*/ 62280 h 963360"/>
              <a:gd name="textAreaBottom" fmla="*/ 901080 h 963360"/>
            </a:gdLst>
            <a:ahLst/>
            <a:rect l="textAreaLeft" t="textAreaTop" r="textAreaRight" b="textAreaBottom"/>
            <a:pathLst>
              <a:path w="66156" h="21600">
                <a:moveTo>
                  <a:pt x="0" y="0"/>
                </a:moveTo>
                <a:lnTo>
                  <a:pt x="66156" y="0"/>
                </a:lnTo>
                <a:lnTo>
                  <a:pt x="66156" y="21600"/>
                </a:lnTo>
                <a:lnTo>
                  <a:pt x="0" y="21600"/>
                </a:lnTo>
                <a:close/>
              </a:path>
              <a:path fill="lightenLess" w="66156" h="21600">
                <a:moveTo>
                  <a:pt x="0" y="0"/>
                </a:moveTo>
                <a:lnTo>
                  <a:pt x="66156" y="0"/>
                </a:lnTo>
                <a:lnTo>
                  <a:pt x="64756" y="1400"/>
                </a:lnTo>
                <a:lnTo>
                  <a:pt x="1400" y="1400"/>
                </a:lnTo>
                <a:close/>
              </a:path>
              <a:path fill="darken" w="66156" h="21600">
                <a:moveTo>
                  <a:pt x="66156" y="0"/>
                </a:moveTo>
                <a:lnTo>
                  <a:pt x="66156" y="21600"/>
                </a:lnTo>
                <a:lnTo>
                  <a:pt x="64756" y="20200"/>
                </a:lnTo>
                <a:lnTo>
                  <a:pt x="64756" y="1400"/>
                </a:lnTo>
                <a:close/>
              </a:path>
              <a:path fill="darkenLess" w="66156" h="21600">
                <a:moveTo>
                  <a:pt x="6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6" y="20200"/>
                </a:lnTo>
                <a:close/>
              </a:path>
              <a:path fill="lighten" w="6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шип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одуванч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ворить друг другу здравствуйте – это значит желать здоровья. Здравствуйте! Говорят при встречах, желая здоровь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е путешествие посвящено тому, как быть здоров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шипов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1246815143_1246597870_flower_21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рху листик – шёлковый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низу листик бархатный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сли кашель вас замучил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ружитесь со мной скоре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ещаю, всё пройдё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468360" y="5516640"/>
            <a:ext cx="3960720" cy="1009440"/>
          </a:xfrm>
          <a:custGeom>
            <a:avLst/>
            <a:gdLst>
              <a:gd name="textAreaLeft" fmla="*/ 65160 w 3960720"/>
              <a:gd name="textAreaRight" fmla="*/ 3895560 w 3960720"/>
              <a:gd name="textAreaTop" fmla="*/ 65160 h 1009440"/>
              <a:gd name="textAreaBottom" fmla="*/ 944280 h 1009440"/>
            </a:gdLst>
            <a:ahLst/>
            <a:rect l="textAreaLeft" t="textAreaTop" r="textAreaRight" b="textAreaBottom"/>
            <a:pathLst>
              <a:path w="84729" h="21600">
                <a:moveTo>
                  <a:pt x="0" y="0"/>
                </a:moveTo>
                <a:lnTo>
                  <a:pt x="84729" y="0"/>
                </a:lnTo>
                <a:lnTo>
                  <a:pt x="84729" y="21600"/>
                </a:lnTo>
                <a:lnTo>
                  <a:pt x="0" y="21600"/>
                </a:lnTo>
                <a:close/>
              </a:path>
              <a:path fill="lightenLess" w="84729" h="21600">
                <a:moveTo>
                  <a:pt x="0" y="0"/>
                </a:moveTo>
                <a:lnTo>
                  <a:pt x="84729" y="0"/>
                </a:lnTo>
                <a:lnTo>
                  <a:pt x="83329" y="1400"/>
                </a:lnTo>
                <a:lnTo>
                  <a:pt x="1400" y="1400"/>
                </a:lnTo>
                <a:close/>
              </a:path>
              <a:path fill="darken" w="84729" h="21600">
                <a:moveTo>
                  <a:pt x="84729" y="0"/>
                </a:moveTo>
                <a:lnTo>
                  <a:pt x="84729" y="21600"/>
                </a:lnTo>
                <a:lnTo>
                  <a:pt x="83329" y="20200"/>
                </a:lnTo>
                <a:lnTo>
                  <a:pt x="83329" y="1400"/>
                </a:lnTo>
                <a:close/>
              </a:path>
              <a:path fill="darkenLess" w="84729" h="21600">
                <a:moveTo>
                  <a:pt x="84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329" y="20200"/>
                </a:lnTo>
                <a:close/>
              </a:path>
              <a:path fill="lighten" w="84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душ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>
            <a:hlinkClick r:id="" action="ppaction://hlinkshowjump?jump=nextslide"/>
          </p:cNvPr>
          <p:cNvSpPr/>
          <p:nvPr/>
        </p:nvSpPr>
        <p:spPr>
          <a:xfrm>
            <a:off x="2556000" y="4076640"/>
            <a:ext cx="3960720" cy="936720"/>
          </a:xfrm>
          <a:custGeom>
            <a:avLst/>
            <a:gdLst>
              <a:gd name="textAreaLeft" fmla="*/ 60480 w 3960720"/>
              <a:gd name="textAreaRight" fmla="*/ 3900240 w 3960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1304" h="21600">
                <a:moveTo>
                  <a:pt x="0" y="0"/>
                </a:moveTo>
                <a:lnTo>
                  <a:pt x="91304" y="0"/>
                </a:lnTo>
                <a:lnTo>
                  <a:pt x="91304" y="21600"/>
                </a:lnTo>
                <a:lnTo>
                  <a:pt x="0" y="21600"/>
                </a:lnTo>
                <a:close/>
              </a:path>
              <a:path fill="lightenLess" w="91304" h="21600">
                <a:moveTo>
                  <a:pt x="0" y="0"/>
                </a:moveTo>
                <a:lnTo>
                  <a:pt x="91304" y="0"/>
                </a:lnTo>
                <a:lnTo>
                  <a:pt x="89904" y="1400"/>
                </a:lnTo>
                <a:lnTo>
                  <a:pt x="1400" y="1400"/>
                </a:lnTo>
                <a:close/>
              </a:path>
              <a:path fill="darken" w="91304" h="21600">
                <a:moveTo>
                  <a:pt x="91304" y="0"/>
                </a:moveTo>
                <a:lnTo>
                  <a:pt x="91304" y="21600"/>
                </a:lnTo>
                <a:lnTo>
                  <a:pt x="89904" y="20200"/>
                </a:lnTo>
                <a:lnTo>
                  <a:pt x="89904" y="1400"/>
                </a:lnTo>
                <a:close/>
              </a:path>
              <a:path fill="darkenLess" w="91304" h="21600">
                <a:moveTo>
                  <a:pt x="91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04" y="20200"/>
                </a:lnTo>
                <a:close/>
              </a:path>
              <a:path fill="lighten" w="91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>
            <a:hlinkClick r:id="rId4" action="ppaction://hlinksldjump"/>
          </p:cNvPr>
          <p:cNvSpPr/>
          <p:nvPr/>
        </p:nvSpPr>
        <p:spPr>
          <a:xfrm>
            <a:off x="4932360" y="5516640"/>
            <a:ext cx="3960720" cy="963360"/>
          </a:xfrm>
          <a:custGeom>
            <a:avLst/>
            <a:gdLst>
              <a:gd name="textAreaLeft" fmla="*/ 62280 w 3960720"/>
              <a:gd name="textAreaRight" fmla="*/ 3898440 w 3960720"/>
              <a:gd name="textAreaTop" fmla="*/ 62280 h 963360"/>
              <a:gd name="textAreaBottom" fmla="*/ 901080 h 963360"/>
            </a:gdLst>
            <a:ahLst/>
            <a:rect l="textAreaLeft" t="textAreaTop" r="textAreaRight" b="textAreaBottom"/>
            <a:pathLst>
              <a:path w="88780" h="21600">
                <a:moveTo>
                  <a:pt x="0" y="0"/>
                </a:moveTo>
                <a:lnTo>
                  <a:pt x="88780" y="0"/>
                </a:lnTo>
                <a:lnTo>
                  <a:pt x="88780" y="21600"/>
                </a:lnTo>
                <a:lnTo>
                  <a:pt x="0" y="21600"/>
                </a:lnTo>
                <a:close/>
              </a:path>
              <a:path fill="lightenLess" w="88780" h="21600">
                <a:moveTo>
                  <a:pt x="0" y="0"/>
                </a:moveTo>
                <a:lnTo>
                  <a:pt x="88780" y="0"/>
                </a:lnTo>
                <a:lnTo>
                  <a:pt x="87380" y="1400"/>
                </a:lnTo>
                <a:lnTo>
                  <a:pt x="1400" y="1400"/>
                </a:lnTo>
                <a:close/>
              </a:path>
              <a:path fill="darken" w="88780" h="21600">
                <a:moveTo>
                  <a:pt x="88780" y="0"/>
                </a:moveTo>
                <a:lnTo>
                  <a:pt x="88780" y="21600"/>
                </a:lnTo>
                <a:lnTo>
                  <a:pt x="87380" y="20200"/>
                </a:lnTo>
                <a:lnTo>
                  <a:pt x="87380" y="1400"/>
                </a:lnTo>
                <a:close/>
              </a:path>
              <a:path fill="darkenLess" w="88780" h="21600">
                <a:moveTo>
                  <a:pt x="88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80" y="20200"/>
                </a:lnTo>
                <a:close/>
              </a:path>
              <a:path fill="lighten" w="88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мать-и-мач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мать-и-мачех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шистым отваром из цветков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омашк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чат кашель, поласкают рот, когда болят дёсны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дорож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станавливает кровотечение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емена крапив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мешанные с мёдом надёжно лечат колики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стой шипов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ьют для профилактики простудных заболеваний. В нём содержится витамин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_16bdc_278cc13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161928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1" name="Picture 8" descr="0_16bdc_278cc133_XL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WordArt 9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173" name="WordArt 10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12" descr="0_16bdc_278cc133_XL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WordArt 13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177" name="WordArt 14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9" name="Picture 16" descr="0_16bdc_278cc133_XL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17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181" name="WordArt 18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82" name="Picture 20" descr="0_16bdc_278cc133_XL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21"/>
          <p:cNvSpPr txBox="1"/>
          <p:nvPr/>
        </p:nvSpPr>
        <p:spPr>
          <a:xfrm>
            <a:off x="468360" y="2421000"/>
            <a:ext cx="820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Спортивна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84" name="WordArt 22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23"/>
          <p:cNvSpPr txBox="1"/>
          <p:nvPr/>
        </p:nvSpPr>
        <p:spPr>
          <a:xfrm>
            <a:off x="468360" y="4508640"/>
            <a:ext cx="820728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адание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ыполнить физкультминутк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86" name="WordArt 24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2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WordArt 26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WordArt 27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WordArt 30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31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32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шипов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дание.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Выбер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2050920" y="90792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7"/>
          <p:cNvSpPr txBox="1"/>
          <p:nvPr/>
        </p:nvSpPr>
        <p:spPr>
          <a:xfrm>
            <a:off x="468360" y="2421000"/>
            <a:ext cx="820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Полезно - вред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590544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итать лёжа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истить зубы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ва раза в день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мотреть на яркий свет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берегать глаза от уда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5435640" y="170028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7380360" y="17002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7236000" y="62064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5508720" y="620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3" name="WordArt 12"/>
          <p:cNvSpPr txBox="1"/>
          <p:nvPr/>
        </p:nvSpPr>
        <p:spPr>
          <a:xfrm>
            <a:off x="7236000" y="350028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4" name="WordArt 13"/>
          <p:cNvSpPr txBox="1"/>
          <p:nvPr/>
        </p:nvSpPr>
        <p:spPr>
          <a:xfrm>
            <a:off x="5508720" y="350028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5" name="WordArt 14"/>
          <p:cNvSpPr txBox="1"/>
          <p:nvPr/>
        </p:nvSpPr>
        <p:spPr>
          <a:xfrm>
            <a:off x="5435640" y="537372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6" name="WordArt 15"/>
          <p:cNvSpPr txBox="1"/>
          <p:nvPr/>
        </p:nvSpPr>
        <p:spPr>
          <a:xfrm>
            <a:off x="7380360" y="537372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7" name="AutoShape 16">
            <a:hlinkClick r:id="rId2" action="ppaction://hlinksldjump"/>
          </p:cNvPr>
          <p:cNvSpPr/>
          <p:nvPr/>
        </p:nvSpPr>
        <p:spPr>
          <a:xfrm>
            <a:off x="7596360" y="616572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31725" y="10800"/>
                </a:lnTo>
                <a:lnTo>
                  <a:pt x="177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_16bdc_278cc13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61928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Picture 6" descr="0_16bdc_278cc133_XL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WordArt 8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54" name="WordArt 9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Picture 12" descr="0_16bdc_278cc133_XL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58" name="WordArt 14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Picture 16" descr="0_16bdc_278cc133_XL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WordArt 17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62" name="WordArt 18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 20" descr="0_16bdc_278cc133_XL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21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66" name="WordArt 22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79280" y="602136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5360"/>
                </a:moveTo>
                <a:lnTo>
                  <a:pt x="13376" y="7971"/>
                </a:ln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lnTo>
                  <a:pt x="17763" y="12323"/>
                </a:lnTo>
                <a:lnTo>
                  <a:pt x="16109" y="12323"/>
                </a:lnTo>
                <a:lnTo>
                  <a:pt x="16109" y="19512"/>
                </a:lnTo>
                <a:lnTo>
                  <a:pt x="5491" y="19512"/>
                </a:lnTo>
                <a:lnTo>
                  <a:pt x="5491" y="12323"/>
                </a:lnTo>
                <a:lnTo>
                  <a:pt x="3837" y="12323"/>
                </a:lnTo>
                <a:close/>
              </a:path>
              <a:path fill="darkenLess" w="21600" h="24646">
                <a:moveTo>
                  <a:pt x="13376" y="7971"/>
                </a:move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close/>
              </a:path>
              <a:path fill="darkenLess" w="21600" h="24646">
                <a:moveTo>
                  <a:pt x="9877" y="15822"/>
                </a:moveTo>
                <a:lnTo>
                  <a:pt x="11723" y="15822"/>
                </a:lnTo>
                <a:lnTo>
                  <a:pt x="11723" y="19512"/>
                </a:lnTo>
                <a:lnTo>
                  <a:pt x="16109" y="19512"/>
                </a:lnTo>
                <a:lnTo>
                  <a:pt x="16109" y="12323"/>
                </a:lnTo>
                <a:lnTo>
                  <a:pt x="5491" y="12323"/>
                </a:lnTo>
                <a:lnTo>
                  <a:pt x="5491" y="19512"/>
                </a:lnTo>
                <a:lnTo>
                  <a:pt x="9877" y="195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590544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мотреть близко телевизор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мывать по утрам глаза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реть глаза грязными руками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итать при хорошем освеще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5435640" y="227664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7380360" y="227664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7236000" y="62064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5508720" y="620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7236000" y="328464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5364000" y="3284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2" name="WordArt 10"/>
          <p:cNvSpPr txBox="1"/>
          <p:nvPr/>
        </p:nvSpPr>
        <p:spPr>
          <a:xfrm>
            <a:off x="5219640" y="530064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3" name="WordArt 11"/>
          <p:cNvSpPr txBox="1"/>
          <p:nvPr/>
        </p:nvSpPr>
        <p:spPr>
          <a:xfrm>
            <a:off x="7236000" y="5229360"/>
            <a:ext cx="158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4" name="AutoShape 12">
            <a:hlinkClick r:id="rId2" action="ppaction://hlinksldjump"/>
          </p:cNvPr>
          <p:cNvSpPr/>
          <p:nvPr/>
        </p:nvSpPr>
        <p:spPr>
          <a:xfrm>
            <a:off x="7596360" y="616572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31725" y="10800"/>
                </a:lnTo>
                <a:lnTo>
                  <a:pt x="177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229" name="WordArt 3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AutoShape 4">
            <a:hlinkClick r:id="rId2" action="ppaction://hlinksldjump"/>
          </p:cNvPr>
          <p:cNvSpPr/>
          <p:nvPr/>
        </p:nvSpPr>
        <p:spPr>
          <a:xfrm>
            <a:off x="179280" y="602136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5360"/>
                </a:moveTo>
                <a:lnTo>
                  <a:pt x="13376" y="7971"/>
                </a:ln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lnTo>
                  <a:pt x="17763" y="12323"/>
                </a:lnTo>
                <a:lnTo>
                  <a:pt x="16109" y="12323"/>
                </a:lnTo>
                <a:lnTo>
                  <a:pt x="16109" y="19512"/>
                </a:lnTo>
                <a:lnTo>
                  <a:pt x="5491" y="19512"/>
                </a:lnTo>
                <a:lnTo>
                  <a:pt x="5491" y="12323"/>
                </a:lnTo>
                <a:lnTo>
                  <a:pt x="3837" y="12323"/>
                </a:lnTo>
                <a:close/>
              </a:path>
              <a:path fill="darkenLess" w="21600" h="24646">
                <a:moveTo>
                  <a:pt x="13376" y="7971"/>
                </a:move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close/>
              </a:path>
              <a:path fill="darkenLess" w="21600" h="24646">
                <a:moveTo>
                  <a:pt x="9877" y="15822"/>
                </a:moveTo>
                <a:lnTo>
                  <a:pt x="11723" y="15822"/>
                </a:lnTo>
                <a:lnTo>
                  <a:pt x="11723" y="19512"/>
                </a:lnTo>
                <a:lnTo>
                  <a:pt x="16109" y="19512"/>
                </a:lnTo>
                <a:lnTo>
                  <a:pt x="16109" y="12323"/>
                </a:lnTo>
                <a:lnTo>
                  <a:pt x="5491" y="12323"/>
                </a:lnTo>
                <a:lnTo>
                  <a:pt x="5491" y="19512"/>
                </a:lnTo>
                <a:lnTo>
                  <a:pt x="9877" y="195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сто есть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ладкое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ушать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фрукты и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вощ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рызть ручки и карандаш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калять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4643280" y="3213000"/>
            <a:ext cx="194472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7020000" y="3213000"/>
            <a:ext cx="187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5" name="WordArt 6"/>
          <p:cNvSpPr txBox="1"/>
          <p:nvPr/>
        </p:nvSpPr>
        <p:spPr>
          <a:xfrm>
            <a:off x="7093080" y="620640"/>
            <a:ext cx="180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4932360" y="62064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7164360" y="5013360"/>
            <a:ext cx="180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5076720" y="5013360"/>
            <a:ext cx="1871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4572000" y="5950080"/>
            <a:ext cx="17287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6443640" y="59500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3794"/>
                </a:moveTo>
                <a:lnTo>
                  <a:pt x="22665" y="10800"/>
                </a:lnTo>
                <a:lnTo>
                  <a:pt x="865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79280" y="602136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5360"/>
                </a:moveTo>
                <a:lnTo>
                  <a:pt x="13376" y="7971"/>
                </a:ln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lnTo>
                  <a:pt x="17763" y="12323"/>
                </a:lnTo>
                <a:lnTo>
                  <a:pt x="16109" y="12323"/>
                </a:lnTo>
                <a:lnTo>
                  <a:pt x="16109" y="19512"/>
                </a:lnTo>
                <a:lnTo>
                  <a:pt x="5491" y="19512"/>
                </a:lnTo>
                <a:lnTo>
                  <a:pt x="5491" y="12323"/>
                </a:lnTo>
                <a:lnTo>
                  <a:pt x="3837" y="12323"/>
                </a:lnTo>
                <a:close/>
              </a:path>
              <a:path fill="darkenLess" w="21600" h="24646">
                <a:moveTo>
                  <a:pt x="13376" y="7971"/>
                </a:move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close/>
              </a:path>
              <a:path fill="darkenLess" w="21600" h="24646">
                <a:moveTo>
                  <a:pt x="9877" y="15822"/>
                </a:moveTo>
                <a:lnTo>
                  <a:pt x="11723" y="15822"/>
                </a:lnTo>
                <a:lnTo>
                  <a:pt x="11723" y="19512"/>
                </a:lnTo>
                <a:lnTo>
                  <a:pt x="16109" y="19512"/>
                </a:lnTo>
                <a:lnTo>
                  <a:pt x="16109" y="12323"/>
                </a:lnTo>
                <a:lnTo>
                  <a:pt x="5491" y="12323"/>
                </a:lnTo>
                <a:lnTo>
                  <a:pt x="5491" y="19512"/>
                </a:lnTo>
                <a:lnTo>
                  <a:pt x="9877" y="195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д сном много пить, ест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лять на свежем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дух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девать чужую одежду, обувь, головные уборы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огать п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4788000" y="242100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1" name="WordArt 5"/>
          <p:cNvSpPr txBox="1"/>
          <p:nvPr/>
        </p:nvSpPr>
        <p:spPr>
          <a:xfrm>
            <a:off x="7020000" y="2421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2" name="WordArt 6"/>
          <p:cNvSpPr txBox="1"/>
          <p:nvPr/>
        </p:nvSpPr>
        <p:spPr>
          <a:xfrm>
            <a:off x="7343640" y="620640"/>
            <a:ext cx="180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4932360" y="62064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6948360" y="3789360"/>
            <a:ext cx="180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5" name="WordArt 9"/>
          <p:cNvSpPr txBox="1"/>
          <p:nvPr/>
        </p:nvSpPr>
        <p:spPr>
          <a:xfrm>
            <a:off x="4788000" y="378936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6" name="WordArt 10"/>
          <p:cNvSpPr txBox="1"/>
          <p:nvPr/>
        </p:nvSpPr>
        <p:spPr>
          <a:xfrm>
            <a:off x="4211640" y="5373720"/>
            <a:ext cx="194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7" name="WordArt 11"/>
          <p:cNvSpPr txBox="1"/>
          <p:nvPr/>
        </p:nvSpPr>
        <p:spPr>
          <a:xfrm>
            <a:off x="6588000" y="5373720"/>
            <a:ext cx="21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крапи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4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24000" y="6021360"/>
            <a:ext cx="718920" cy="83664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135">
                <a:moveTo>
                  <a:pt x="0" y="0"/>
                </a:moveTo>
                <a:lnTo>
                  <a:pt x="21600" y="0"/>
                </a:lnTo>
                <a:lnTo>
                  <a:pt x="21600" y="25135"/>
                </a:lnTo>
                <a:lnTo>
                  <a:pt x="0" y="25135"/>
                </a:lnTo>
                <a:close/>
              </a:path>
              <a:path fill="lightenLess" w="21600" h="25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35">
                <a:moveTo>
                  <a:pt x="21600" y="0"/>
                </a:moveTo>
                <a:lnTo>
                  <a:pt x="21600" y="25135"/>
                </a:lnTo>
                <a:lnTo>
                  <a:pt x="20200" y="23735"/>
                </a:lnTo>
                <a:lnTo>
                  <a:pt x="20200" y="1400"/>
                </a:lnTo>
                <a:close/>
              </a:path>
              <a:path fill="darkenLess" w="21600" h="25135">
                <a:moveTo>
                  <a:pt x="21600" y="25135"/>
                </a:moveTo>
                <a:lnTo>
                  <a:pt x="0" y="25135"/>
                </a:lnTo>
                <a:lnTo>
                  <a:pt x="1400" y="23735"/>
                </a:lnTo>
                <a:lnTo>
                  <a:pt x="20200" y="23735"/>
                </a:lnTo>
                <a:close/>
              </a:path>
              <a:path fill="lighten" w="21600" h="25135">
                <a:moveTo>
                  <a:pt x="0" y="25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35"/>
                </a:lnTo>
                <a:close/>
              </a:path>
              <a:path fill="darken" w="21600" h="25135">
                <a:moveTo>
                  <a:pt x="10800" y="5605"/>
                </a:moveTo>
                <a:lnTo>
                  <a:pt x="13376" y="8216"/>
                </a:ln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lnTo>
                  <a:pt x="17763" y="12568"/>
                </a:lnTo>
                <a:lnTo>
                  <a:pt x="16109" y="12568"/>
                </a:lnTo>
                <a:lnTo>
                  <a:pt x="16109" y="19757"/>
                </a:lnTo>
                <a:lnTo>
                  <a:pt x="5491" y="19757"/>
                </a:lnTo>
                <a:lnTo>
                  <a:pt x="5491" y="12568"/>
                </a:lnTo>
                <a:lnTo>
                  <a:pt x="3837" y="12568"/>
                </a:lnTo>
                <a:close/>
              </a:path>
              <a:path fill="darkenLess" w="21600" h="25135">
                <a:moveTo>
                  <a:pt x="13376" y="8216"/>
                </a:move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close/>
              </a:path>
              <a:path fill="darkenLess" w="21600" h="25135">
                <a:moveTo>
                  <a:pt x="9877" y="16066"/>
                </a:moveTo>
                <a:lnTo>
                  <a:pt x="11723" y="16066"/>
                </a:lnTo>
                <a:lnTo>
                  <a:pt x="11723" y="19757"/>
                </a:lnTo>
                <a:lnTo>
                  <a:pt x="16109" y="19757"/>
                </a:lnTo>
                <a:lnTo>
                  <a:pt x="16109" y="12568"/>
                </a:lnTo>
                <a:lnTo>
                  <a:pt x="5491" y="12568"/>
                </a:lnTo>
                <a:lnTo>
                  <a:pt x="5491" y="19757"/>
                </a:lnTo>
                <a:lnTo>
                  <a:pt x="9877" y="1975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246815212_1246597888_flower_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ука, которая занимается сохранением и укреплением здоровья людей, лечением и предупреждением болезней -  называется </a:t>
            </a:r>
            <a:br>
              <a:rPr sz="4000"/>
            </a:br>
            <a:r>
              <a:rPr b="1" lang="ru-RU" sz="5400" spc="-1" strike="noStrike">
                <a:solidFill>
                  <a:srgbClr val="cc0066"/>
                </a:solidFill>
                <a:latin typeface="Times New Roman"/>
              </a:rPr>
              <a:t>…….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рызть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огти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таться н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ыжах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ыть уш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ждый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е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4284720" y="299736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69" name="WordArt 5"/>
          <p:cNvSpPr txBox="1"/>
          <p:nvPr/>
        </p:nvSpPr>
        <p:spPr>
          <a:xfrm>
            <a:off x="6732720" y="3068640"/>
            <a:ext cx="208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0" name="WordArt 6"/>
          <p:cNvSpPr txBox="1"/>
          <p:nvPr/>
        </p:nvSpPr>
        <p:spPr>
          <a:xfrm>
            <a:off x="6732720" y="981000"/>
            <a:ext cx="180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1" name="WordArt 7"/>
          <p:cNvSpPr txBox="1"/>
          <p:nvPr/>
        </p:nvSpPr>
        <p:spPr>
          <a:xfrm>
            <a:off x="4211640" y="90792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6659640" y="5589720"/>
            <a:ext cx="180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3" name="WordArt 9"/>
          <p:cNvSpPr txBox="1"/>
          <p:nvPr/>
        </p:nvSpPr>
        <p:spPr>
          <a:xfrm>
            <a:off x="4427640" y="544500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828036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12192" y="3837"/>
                </a:moveTo>
                <a:lnTo>
                  <a:pt x="14768" y="6448"/>
                </a:lnTo>
                <a:lnTo>
                  <a:pt x="14768" y="4707"/>
                </a:lnTo>
                <a:lnTo>
                  <a:pt x="16544" y="4707"/>
                </a:lnTo>
                <a:lnTo>
                  <a:pt x="16544" y="8224"/>
                </a:lnTo>
                <a:lnTo>
                  <a:pt x="19155" y="10800"/>
                </a:lnTo>
                <a:lnTo>
                  <a:pt x="17501" y="10800"/>
                </a:lnTo>
                <a:lnTo>
                  <a:pt x="17501" y="17989"/>
                </a:lnTo>
                <a:lnTo>
                  <a:pt x="6883" y="17989"/>
                </a:lnTo>
                <a:lnTo>
                  <a:pt x="6883" y="10800"/>
                </a:lnTo>
                <a:lnTo>
                  <a:pt x="5229" y="10800"/>
                </a:lnTo>
                <a:close/>
              </a:path>
              <a:path fill="darkenLess" w="24384" h="21600">
                <a:moveTo>
                  <a:pt x="14768" y="6448"/>
                </a:moveTo>
                <a:lnTo>
                  <a:pt x="14768" y="4707"/>
                </a:lnTo>
                <a:lnTo>
                  <a:pt x="16544" y="4707"/>
                </a:lnTo>
                <a:lnTo>
                  <a:pt x="16544" y="8224"/>
                </a:lnTo>
                <a:close/>
              </a:path>
              <a:path fill="darkenLess" w="24384" h="21600">
                <a:moveTo>
                  <a:pt x="11269" y="14299"/>
                </a:moveTo>
                <a:lnTo>
                  <a:pt x="13115" y="14299"/>
                </a:lnTo>
                <a:lnTo>
                  <a:pt x="13115" y="17989"/>
                </a:lnTo>
                <a:lnTo>
                  <a:pt x="17501" y="17989"/>
                </a:lnTo>
                <a:lnTo>
                  <a:pt x="17501" y="10800"/>
                </a:lnTo>
                <a:lnTo>
                  <a:pt x="6883" y="10800"/>
                </a:lnTo>
                <a:lnTo>
                  <a:pt x="6883" y="17989"/>
                </a:lnTo>
                <a:lnTo>
                  <a:pt x="11269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1246815154_1246597839_flower_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86" name="WordArt 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7" name="WordArt 6"/>
          <p:cNvSpPr txBox="1"/>
          <p:nvPr/>
        </p:nvSpPr>
        <p:spPr>
          <a:xfrm>
            <a:off x="468360" y="1916280"/>
            <a:ext cx="8207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Кто больше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468360" y="4292640"/>
            <a:ext cx="820728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адание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оедини начало и конец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оговорки о здоровье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мать-и-мачеха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то ходит больше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истота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ище мой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148360" y="1052640"/>
            <a:ext cx="3995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ы не бойся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роже золота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лог здоровья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т живё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льш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 rot="7918200">
            <a:off x="4177800" y="2363760"/>
            <a:ext cx="433440" cy="3709800"/>
          </a:xfrm>
          <a:prstGeom prst="upArrow">
            <a:avLst>
              <a:gd name="adj1" fmla="val 50000"/>
              <a:gd name="adj2" fmla="val 2139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"/>
          <p:cNvSpPr/>
          <p:nvPr/>
        </p:nvSpPr>
        <p:spPr>
          <a:xfrm rot="7405800">
            <a:off x="4678920" y="8640"/>
            <a:ext cx="433440" cy="2952720"/>
          </a:xfrm>
          <a:prstGeom prst="upArrow">
            <a:avLst>
              <a:gd name="adj1" fmla="val 50000"/>
              <a:gd name="adj2" fmla="val 170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 rot="4398600">
            <a:off x="4498560" y="2565360"/>
            <a:ext cx="433440" cy="3313080"/>
          </a:xfrm>
          <a:prstGeom prst="upArrow">
            <a:avLst>
              <a:gd name="adj1" fmla="val 50000"/>
              <a:gd name="adj2" fmla="val 19109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852600">
            <a:off x="5148360" y="404280"/>
            <a:ext cx="433440" cy="6048720"/>
          </a:xfrm>
          <a:prstGeom prst="upArrow">
            <a:avLst>
              <a:gd name="adj1" fmla="val 50000"/>
              <a:gd name="adj2" fmla="val 34887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одуванчик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475272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здоровом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тел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рано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стаёт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ист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788000" y="836640"/>
            <a:ext cx="4356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му голова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ух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лг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ёт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хвороб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бе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 rot="5881800">
            <a:off x="3885480" y="-493560"/>
            <a:ext cx="433440" cy="4103640"/>
          </a:xfrm>
          <a:prstGeom prst="upArrow">
            <a:avLst>
              <a:gd name="adj1" fmla="val 50000"/>
              <a:gd name="adj2" fmla="val 23669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 rot="2359800">
            <a:off x="4070160" y="523800"/>
            <a:ext cx="433080" cy="2397240"/>
          </a:xfrm>
          <a:prstGeom prst="upArrow">
            <a:avLst>
              <a:gd name="adj1" fmla="val 50000"/>
              <a:gd name="adj2" fmla="val 13838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 rot="4648800">
            <a:off x="3741480" y="3158640"/>
            <a:ext cx="433440" cy="2665440"/>
          </a:xfrm>
          <a:prstGeom prst="upArrow">
            <a:avLst>
              <a:gd name="adj1" fmla="val 50000"/>
              <a:gd name="adj2" fmla="val 15373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 rot="4780200">
            <a:off x="3851280" y="5031000"/>
            <a:ext cx="433440" cy="2303280"/>
          </a:xfrm>
          <a:prstGeom prst="upArrow">
            <a:avLst>
              <a:gd name="adj1" fmla="val 50000"/>
              <a:gd name="adj2" fmla="val 13284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1246815178_1246597837_flower_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07" name="WordArt 6"/>
          <p:cNvSpPr txBox="1"/>
          <p:nvPr/>
        </p:nvSpPr>
        <p:spPr>
          <a:xfrm>
            <a:off x="468360" y="3213000"/>
            <a:ext cx="842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Кафе "Робинзон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1246815178_1246597837_flower_208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29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все продукты, которыми  питается человек, полезны для здоровья. Правильное питание – условие здоровья, неправильное - приводит к болезн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2268360" y="26028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11" name="WordArt 6"/>
          <p:cNvSpPr txBox="1"/>
          <p:nvPr/>
        </p:nvSpPr>
        <p:spPr>
          <a:xfrm>
            <a:off x="539640" y="765000"/>
            <a:ext cx="820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Кафе "Робинзон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468360" y="4724280"/>
            <a:ext cx="8207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адание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тгадай ребус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Узнай полезные продукты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яблок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яблоко"/>
          <p:cNvPicPr/>
          <p:nvPr/>
        </p:nvPicPr>
        <p:blipFill>
          <a:blip r:embed="rId2"/>
          <a:stretch/>
        </p:blipFill>
        <p:spPr>
          <a:xfrm>
            <a:off x="0" y="1844640"/>
            <a:ext cx="1011708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молок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молоко"/>
          <p:cNvPicPr/>
          <p:nvPr/>
        </p:nvPicPr>
        <p:blipFill>
          <a:blip r:embed="rId2"/>
          <a:stretch/>
        </p:blipFill>
        <p:spPr>
          <a:xfrm>
            <a:off x="611280" y="1341360"/>
            <a:ext cx="853272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246815212_1246597888_flower_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ука, которая занимается сохранением и укреплением здоровья людей, лечением и предупреждением болезней -  называется </a:t>
            </a:r>
            <a:br>
              <a:rPr sz="4000"/>
            </a:br>
            <a:r>
              <a:rPr b="1" lang="ru-RU" sz="5400" spc="-1" strike="noStrike">
                <a:solidFill>
                  <a:srgbClr val="cc0066"/>
                </a:solidFill>
                <a:latin typeface="Times New Roman"/>
              </a:rPr>
              <a:t>медицина.</a:t>
            </a:r>
            <a:br>
              <a:rPr sz="5400"/>
            </a:b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едицина зародилась в Древней Греции более тысячи лет назад. Самым известным в то время врачом был Гиппократ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морков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морковь"/>
          <p:cNvPicPr/>
          <p:nvPr/>
        </p:nvPicPr>
        <p:blipFill>
          <a:blip r:embed="rId2"/>
          <a:stretch/>
        </p:blipFill>
        <p:spPr>
          <a:xfrm>
            <a:off x="0" y="1184400"/>
            <a:ext cx="11052000" cy="54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капус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капуста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1557360"/>
            <a:ext cx="9144000" cy="49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1246815211_1246597864_flower_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684360" y="2133720"/>
            <a:ext cx="7813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Здоровь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1246815211_1246597864_flower_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33" name="WordArt 5"/>
          <p:cNvSpPr txBox="1"/>
          <p:nvPr/>
        </p:nvSpPr>
        <p:spPr>
          <a:xfrm>
            <a:off x="2340000" y="549360"/>
            <a:ext cx="43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34" name="WordArt 6"/>
          <p:cNvSpPr txBox="1"/>
          <p:nvPr/>
        </p:nvSpPr>
        <p:spPr>
          <a:xfrm>
            <a:off x="1403280" y="112536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Здоровь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  <p:sp>
        <p:nvSpPr>
          <p:cNvPr id="335" name="WordArt 7"/>
          <p:cNvSpPr txBox="1"/>
          <p:nvPr/>
        </p:nvSpPr>
        <p:spPr>
          <a:xfrm>
            <a:off x="539640" y="2060640"/>
            <a:ext cx="820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omic Sans MS"/>
              </a:rPr>
              <a:t>Что значит быть здоровым?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omic Sans MS"/>
              <a:ea typeface="Comic Sans MS"/>
            </a:endParaRPr>
          </a:p>
        </p:txBody>
      </p:sp>
      <p:sp>
        <p:nvSpPr>
          <p:cNvPr id="336" name="WordArt 8"/>
          <p:cNvSpPr txBox="1"/>
          <p:nvPr/>
        </p:nvSpPr>
        <p:spPr>
          <a:xfrm>
            <a:off x="1332000" y="3645000"/>
            <a:ext cx="6983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адание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бери слова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характеризующие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дорового человека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1246815196_1246597850_flower_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40" name="WordArt 5"/>
          <p:cNvSpPr txBox="1"/>
          <p:nvPr/>
        </p:nvSpPr>
        <p:spPr>
          <a:xfrm>
            <a:off x="468360" y="333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omic Sans MS"/>
              </a:rPr>
              <a:t>Здоровый человек - это ... человек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omic Sans MS"/>
              <a:ea typeface="Comic Sans MS"/>
            </a:endParaRPr>
          </a:p>
        </p:txBody>
      </p:sp>
      <p:sp>
        <p:nvSpPr>
          <p:cNvPr id="341" name="WordArt 7"/>
          <p:cNvSpPr txBox="1"/>
          <p:nvPr/>
        </p:nvSpPr>
        <p:spPr>
          <a:xfrm>
            <a:off x="826920" y="148428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крепки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2" name="WordArt 8"/>
          <p:cNvSpPr txBox="1"/>
          <p:nvPr/>
        </p:nvSpPr>
        <p:spPr>
          <a:xfrm>
            <a:off x="3635280" y="270828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утул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3" name="WordArt 9"/>
          <p:cNvSpPr txBox="1"/>
          <p:nvPr/>
        </p:nvSpPr>
        <p:spPr>
          <a:xfrm>
            <a:off x="684360" y="407664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толст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3348000" y="5445000"/>
            <a:ext cx="41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ильн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5" name="WordArt 11"/>
          <p:cNvSpPr txBox="1"/>
          <p:nvPr/>
        </p:nvSpPr>
        <p:spPr>
          <a:xfrm>
            <a:off x="755640" y="155736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румян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6" name="WordArt 12"/>
          <p:cNvSpPr txBox="1"/>
          <p:nvPr/>
        </p:nvSpPr>
        <p:spPr>
          <a:xfrm>
            <a:off x="3708360" y="2565360"/>
            <a:ext cx="482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бледн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7" name="WordArt 13"/>
          <p:cNvSpPr txBox="1"/>
          <p:nvPr/>
        </p:nvSpPr>
        <p:spPr>
          <a:xfrm>
            <a:off x="900000" y="407664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неуклюжи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2627280" y="5445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ловки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04462 L 0.12222 -0.18359 E">
                                      <p:cBhvr>
                                        <p:cTn id="508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0.13785 0.17318 E">
                                      <p:cBhvr>
                                        <p:cTn id="51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шипов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WordArt 4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250920" y="5734080"/>
            <a:ext cx="720720" cy="863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63640"/>
              <a:gd name="textAreaBottom" fmla="*/ 817200 h 86364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10800" y="5978"/>
                </a:moveTo>
                <a:lnTo>
                  <a:pt x="13376" y="8589"/>
                </a:lnTo>
                <a:lnTo>
                  <a:pt x="13376" y="6848"/>
                </a:lnTo>
                <a:lnTo>
                  <a:pt x="15152" y="6848"/>
                </a:lnTo>
                <a:lnTo>
                  <a:pt x="15152" y="10364"/>
                </a:lnTo>
                <a:lnTo>
                  <a:pt x="17763" y="12941"/>
                </a:lnTo>
                <a:lnTo>
                  <a:pt x="16109" y="12941"/>
                </a:lnTo>
                <a:lnTo>
                  <a:pt x="16109" y="20130"/>
                </a:lnTo>
                <a:lnTo>
                  <a:pt x="5491" y="20130"/>
                </a:lnTo>
                <a:lnTo>
                  <a:pt x="5491" y="12941"/>
                </a:lnTo>
                <a:lnTo>
                  <a:pt x="3837" y="12941"/>
                </a:lnTo>
                <a:close/>
              </a:path>
              <a:path fill="darkenLess" w="21600" h="25881">
                <a:moveTo>
                  <a:pt x="13376" y="8589"/>
                </a:moveTo>
                <a:lnTo>
                  <a:pt x="13376" y="6848"/>
                </a:lnTo>
                <a:lnTo>
                  <a:pt x="15152" y="6848"/>
                </a:lnTo>
                <a:lnTo>
                  <a:pt x="15152" y="10364"/>
                </a:lnTo>
                <a:close/>
              </a:path>
              <a:path fill="darkenLess" w="21600" h="25881">
                <a:moveTo>
                  <a:pt x="9877" y="16439"/>
                </a:moveTo>
                <a:lnTo>
                  <a:pt x="11723" y="16439"/>
                </a:lnTo>
                <a:lnTo>
                  <a:pt x="11723" y="20130"/>
                </a:lnTo>
                <a:lnTo>
                  <a:pt x="16109" y="20130"/>
                </a:lnTo>
                <a:lnTo>
                  <a:pt x="16109" y="12941"/>
                </a:lnTo>
                <a:lnTo>
                  <a:pt x="5491" y="12941"/>
                </a:lnTo>
                <a:lnTo>
                  <a:pt x="5491" y="20130"/>
                </a:lnTo>
                <a:lnTo>
                  <a:pt x="9877" y="2013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мать-и-мачех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WordArt 5"/>
          <p:cNvSpPr txBox="1"/>
          <p:nvPr/>
        </p:nvSpPr>
        <p:spPr>
          <a:xfrm>
            <a:off x="684360" y="836640"/>
            <a:ext cx="781344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Будь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ЗДОРОВ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я не является авторским продуктом, использованы интернет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scale_1200-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2038210"/>
          <p:cNvPicPr/>
          <p:nvPr/>
        </p:nvPicPr>
        <p:blipFill>
          <a:blip r:embed="rId2"/>
          <a:stretch/>
        </p:blipFill>
        <p:spPr>
          <a:xfrm>
            <a:off x="7250040" y="0"/>
            <a:ext cx="189396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246815196_1246597850_flower_21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иппократа называют…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 Расшифруйте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 Т 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 М 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 И Ц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И Н 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Times New Roman"/>
              </a:rPr>
              <a:t>Отец медиц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246815153_1246597812_flower_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2050920" y="90792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468360" y="1989000"/>
            <a:ext cx="82072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Зелёная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аптека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246815153_1246597812_flower_21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ы поговорим о профилактике заболеваний и о том, как лекарственные растения могут заменить таблетки и уколы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Задание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Угадайте, о каких растениях, обладающих лечебными свойствами, говорится в загад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050920" y="404640"/>
            <a:ext cx="4321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468360" y="981000"/>
            <a:ext cx="820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Georgia"/>
              </a:rPr>
              <a:t>Зелёная апт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Georgia"/>
              <a:ea typeface="Georg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7:23Z</dcterms:created>
  <dc:creator>Admin</dc:creator>
  <dc:description/>
  <dc:language>en-US</dc:language>
  <cp:lastModifiedBy>Патимат</cp:lastModifiedBy>
  <dcterms:modified xsi:type="dcterms:W3CDTF">2023-06-27T21:05:49Z</dcterms:modified>
  <cp:revision>9</cp:revision>
  <dc:subject/>
  <dc:title>Золотая середина и лучи идут кругом. Это, может быть, картина – Солнце в небе голубом?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20000000000010243100207f6000400038000</vt:lpwstr>
  </property>
</Properties>
</file>