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3.jpeg" ContentType="image/jpeg"/>
  <Override PartName="/ppt/media/image39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7.wmf" ContentType="image/x-wmf"/>
  <Override PartName="/ppt/media/image20.jpeg" ContentType="image/jpeg"/>
  <Override PartName="/ppt/media/image54.jpeg" ContentType="image/jpeg"/>
  <Override PartName="/ppt/media/image47.jpeg" ContentType="image/jpeg"/>
  <Override PartName="/ppt/media/image55.png" ContentType="image/png"/>
  <Override PartName="/ppt/media/image56.png" ContentType="image/png"/>
  <Override PartName="/ppt/media/image32.jpeg" ContentType="image/jpeg"/>
  <Override PartName="/ppt/media/image31.jpeg" ContentType="image/jpeg"/>
  <Override PartName="/ppt/media/image8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wmf" ContentType="image/x-wmf"/>
  <Override PartName="/ppt/media/image11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B4E1AA-B5D3-4EAE-8248-3A16301D902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назвал все слова. 0,5 балла – не назвал 1-2 слова. 0 – не назвал 3-4 и бол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161726-D654-4BA8-A948-318827EDEE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правильно расставил все знаки. 0,5 балла – допустил 1-2 ошибки. 0 – допустил 3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D7064B-21DA-444F-9627-6A4F17B9A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все слова в парах. 0,5 – не смог вспомнить 1-2 слова. 0 – не смог вспомнить 3 – 4 и бол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3E1E09-22D3-48CD-9DBA-1E8D6216C2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самостоятельно и правильно назвал все предметы и их количество. 0.5 – допустил 1-2 ошибки. 0 – допустил 3-4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C1FF1-902A-489A-91C7-BF5DEA557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Называйте по 8 слов за один раз. Ребенок сразу должен их повтори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ребенок запомнил все 7 - 8 слов с первого раза (последовательность повторения слов может быть произвольной). 0.5 – запомнил 5-6 слов с первого раза. 0 – запомнил 3-4 и мен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10C11E-1359-4E8D-9C57-E06A4795BB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дословно повторил все предложения с 1-2 неточностями. 0.5 – не слог повторить 1-2 предложения или повторил все предложения, но с нето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0. – не смог запомнить большинство пред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3401F6-9799-4E7F-871F-D3FB9131E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назвал все отличия. 0.5 – не назвал 1-2 отличия. 0 – не назвал 3-4 и более отлич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E808B9-1573-472E-BD6F-ECEB1B5A1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Назови картинки. Запомни их. Закрой слайд и  постарайся вспомнить все предметы. 1балл – запомнил все предметы. 0,5 балла – не запомнил 1-2 предмета. 0 – не запомнил 3-4 предм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F89EE8-846C-4D0A-B703-29DF40C673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запомнил и назвал правильно предметы. 0.5 – допустил 1 ошибку или сделал задание с небольшой помощью взрослого. 0 – допустил 2-3 ошибки и не слог запомнить пред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FB74E-6F9E-419E-B44C-5306C1EC55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E2866F-DF7A-44FA-8C2B-1EE5611586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балл – запомнил все узоры, 0.5 – сделал 1-2 ошибки, 0 – допустил 3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459B9D-7987-421F-91E5-5AEE33010C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C36C8-4C21-4FE5-A67B-CC380E6353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запомнил и правильно разместил все картинки. 0,5 балла – допустил одну ошибку. 0 баллов – допустил 2 и более ошиб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F2A021-94F5-4A2F-A302-E5EB9612FE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все предметы. 0,5 балла – не запомнил 1-2 предмета. 0 – не запомнил 3-4 предм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94DF62-4C88-4166-99FC-A759379F98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повторил потешку без ошибок.. 0,5 балла – запомнил, но повторил с 1-2 неточностями. 0 – не смог запомнить потешку, при повторении допустил много неточ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D3A39-6227-48A5-87F7-6E9658FBD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расположение квадратов, и закрасил их правильно. 0,5 балла – допустил 1-2 ошибки. 0 баллов – допустил 3 и более ошиб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D8D443-6ADB-43DA-B506-712F0691FB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FFD4-3074-4E8E-B1DB-EFC35FB16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D3342-EC55-4FE2-B63A-AA156DE7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9BE28-D898-4FAD-A792-611CC25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76BB7-CD13-4FBD-B480-D7ABCAB2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B47A0-A1D3-4AA6-BA3A-2A5A1B1E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7CE78-A50F-4F63-9D3C-A4510F7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D8A1D-EAF0-4832-8709-12E49B79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555AC-545A-41CD-ADB2-15F6C418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9AE98-9294-4346-890C-63AAA1D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1AD42-1A51-4006-9D39-EE70DB9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F7419-BB21-48EB-A94B-864495B52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492A0-FA06-4F08-A1F3-CA09F0653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5A8E-A875-4B30-AB08-9C62851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0B4DCE-51E6-4173-941A-74D16E5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EEC7B-330F-439F-8FC2-C318FB03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2BD923-9F7E-45CA-9661-5C7EAB9B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0012A-05BD-48F5-A1EB-E8150C9A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399E0-B49E-4685-A5FF-898F2C21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0C69A-B514-49A8-8FD3-71087E0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070BDF-6BAB-46E1-A323-0C0173A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20F78E-5B3F-401A-BC7B-342A606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31AB3-0B92-4253-AEE2-9537CF7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4DE2A-26CB-47F9-8DE1-66A7A62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576F-E7AB-4024-9CE7-6B92B14AA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FE464F-1E6C-4C65-88FB-FBAD54477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97195-E88A-4FF2-B63A-862ADAB08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9110D-AB8B-430C-ABC6-05987E00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E2137-1585-4BDC-89B5-4F0FB50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38CA1-7BF8-46DB-B90B-2EF7CA75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5999EC-5958-4D39-8C74-EEB8C4D7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481DA-30EB-4AF4-A9EB-3AC8DD47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73067-1FBC-4139-BB97-1F34DBE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E2F129-4B61-4C94-863E-8B7A1DDD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AA26C1-ED8B-46AE-9326-5333C2B7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3410-C7EB-422F-861C-934073F7A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072F85-1CFD-4D48-BCDA-31CBFBEC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0EC03D-6D12-416F-8ED6-53B6BBF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26215B-2F3C-4FF5-9C02-D5D6F44A2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7A9F9-6E14-4B64-983B-14C4549C0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05BD0-9A18-4830-BE04-3BCF180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0814F-26DE-4233-A5A7-3ACA6BEB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96232-7235-4866-A733-6ED55A3B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F11353-F3D3-4D6E-ADC6-9177D88E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0EB62D-A866-46F2-9162-9501F38D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F34C6-4442-4D5D-8565-8EC274E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6F60-6309-4D5E-8929-EC169B87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4B23C9-5819-469A-AA1C-8D99BA9D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164CA-D9F2-425F-98B4-99E7563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EB280-20E5-4378-BAFB-84232D6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817939-F3F1-4DC6-A215-A4B04ADE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120C0-BA4D-4C31-984B-31BB929098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ACBD4-D97E-408A-8D80-BB93FDD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637D-302A-486F-A85B-B2E6F16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BF51F-77DB-4F2A-9584-F9CF6F36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A6B37-D79A-4F9E-B35D-19CD51BC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1146-2BB8-44F0-A154-E24A801C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60D2-D818-40BD-9072-03D3199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3AF6D-1988-449B-8B20-0F183EA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CD2DE-CF50-4567-BCC4-E65D09EC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D8E28-3587-456F-AE1A-F65F30C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48E03-6EC6-4B64-87E5-B7C74D4D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E046F-D648-4355-A93C-8FD67EE29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E8A4-C540-4FE4-95A9-55473F294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23C5-1263-4173-A264-17D333F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405-BB27-4607-8168-7A225A2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F91C-4017-4C87-BD99-A6EA4AB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C3E5-BBE4-4AD8-817D-3609AE72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DD22-33BF-4AAD-9813-1CD97CD7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FA1-7CC1-4245-9A6E-284295AA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06B-4D99-44B7-89C1-3982001D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D43E-0C35-47B1-9653-C8832AF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FA8E-05ED-4D50-A020-5F3FB20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339-F6D5-4881-BB49-0552444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0A80-DB17-46EA-ADCE-7CE29C9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F5D2-06A6-403C-9691-BFCA42566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B6A84-54C8-4A80-9857-F1B18ECAB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EFFE7-115E-47B5-B2C2-A92974E3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F7030-ECCF-4423-8456-245918D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487C-E2A5-4757-BC4E-A8F57A60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D89CA7-5521-4A0D-B333-46F23ED0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88414-247B-46E8-B0AE-19ED36B9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1FC8E-1A02-40FE-B76E-3D0C7F8D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6DDF9-DAC1-4685-BAB9-FD5B577A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ED39E-1DBC-4544-8D95-FD92156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577E4-FF39-4F5C-9B8F-5CB2B776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14044-6CD8-445E-AD60-69DDA48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4B62A-DB46-4F26-8743-4095983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896D0-1712-4226-9104-1BD606D61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E484C-8BEC-415F-8193-6DA787B4A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ED3A-E344-439A-8A60-1FEA24F6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87B40-8558-4A07-9EC3-7FCB7767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07529-A093-47D3-BE87-4FCB56C0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7AFBE-97BD-4DF9-A95A-278C320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CD7B3-E919-4680-8A9A-F501A4B1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0C707-1F33-442E-8724-C42B1673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D5955-63CE-468C-94F2-22CF043E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17664-6F77-4010-93CD-09511F94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855F4-7D8D-4826-9869-85E5D5EE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9751D-DF5E-4922-9EF9-29AC7A22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78A86-290C-453F-A183-38A1D75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18A4-4009-4A39-8ED9-47955DB8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0D0B5F-D5B6-43EB-9DA5-9A6979490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E600-B64C-465E-8109-7B53011BA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43CE-946C-4F04-8258-D855036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9670-722F-4513-ADFC-F61028A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9523-BEFD-48B5-AA95-6D29B046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796A-8071-4665-926F-AB795D59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018B-3DD5-4D4C-8E47-6EFBC669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C089C-702D-4AF2-86AA-DB0C6ECA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1D92-E8F8-4F45-B2A7-15037633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9F63-BAFD-435E-B827-E5FBF0B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7D41-3341-4BD6-BAC2-8F8DB9D5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F3E1-3652-4D63-8E3B-4292659B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0E07-F6E0-4635-8F47-132A4C3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4E60-F183-4583-AA94-9142E9B5E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05DFD-8ABE-4407-9917-19AA14070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FCA87-22B4-4490-A567-5E10AAF1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663B6-C01B-44DD-97C5-0E0F77C2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F6259-64EA-4785-BC64-325D1DE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A6539-978D-4355-BAB6-173E4208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1384D-7CD0-42FE-8A57-F53945C9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A56EA-FB6B-428C-A492-9A849438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AA54-31DE-4FFE-B416-C63B06D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A2C58-B2A4-4596-91FC-7092C3B6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F734C-411E-4393-94C8-EE06E8B0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FE681-1EEA-4F1B-BDE2-43CB09D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DD7B6-6B17-485E-AE17-E2A8332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3E1DC-BD0E-4CA7-B816-5164E8915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18DE3D-DD02-44CB-9064-9BABB205C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55F719-0F8D-4CDA-AAC5-4E453A7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374E4-4A28-400F-9152-F5174C4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70507-51FC-4BB8-A870-EEFCB92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960D5-F902-4A35-9C2E-63117AA8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ABD8-B933-48E5-B435-D3676B45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7681C-6BB8-4CB4-957E-369C98F6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13AC7-A134-4507-B6AA-8959A7A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422A2-02CE-4F2D-9DE9-8785C47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F31DB5-DFF3-4273-96AD-48541822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AE3C8-3A24-4DC5-B90B-48028BA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F7A685-64AE-492B-9AAA-9C346DE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AE6C0A-AAC1-4E95-8920-F933A212F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9A172-CBE6-4CED-8591-38A1A4622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A7429-283F-4652-A231-C63B03F6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2D8F7-2FA7-47C0-AF2C-5A61DDB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86848C-2EA9-47DC-9890-5A98461B2E5F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094F0F-EBF9-4A79-9773-82C6223023B2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808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B3C0BA-6B20-4F90-9761-220F7023D39E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8236DE-3CAF-49B6-BCEB-FBD5B6D0A12E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040" y="21981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9FEB7C-8E18-42F3-B03A-4758A63871E7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120" y="10267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6CB53F-5D31-4DF3-90DF-EFF0E86BCA69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040" y="21981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A485C7-0704-42C5-8C89-9D348DF2A46E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81120"/>
            <a:ext cx="9360" cy="481824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1320" y="640980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7F6291-322F-47C9-8418-8FBEB283D7A8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204640"/>
            <a:ext cx="1440" cy="418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040" y="10425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A1ED8F-2771-4B46-9E0A-0527F45AE2BD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040" y="103680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8058F6-5001-4BDC-871E-77716F7D223E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7080" y="6324120"/>
            <a:ext cx="60480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00251A-3180-4566-A4F6-EDC0E0D3DBB3}" type="slidenum">
              <a:rPr b="0" lang="ru-RU" sz="16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C057FF-CF98-47BA-AB68-7C8933E9D77B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4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5.pn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50920" y="642960"/>
            <a:ext cx="85662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иагностическое занятие на определение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ровн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развития памяти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 детей 7 лет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156360" y="2381400"/>
            <a:ext cx="26607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428760" y="6429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, запомни, доскаж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/>
          <p:nvPr/>
        </p:nvSpPr>
        <p:spPr>
          <a:xfrm>
            <a:off x="857160" y="1785960"/>
            <a:ext cx="3041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водная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селый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ворящий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сок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аленькая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ерн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итрая ... Широк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047760" cy="21574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499760" y="78588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значки в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"/>
          <p:cNvSpPr/>
          <p:nvPr/>
        </p:nvSpPr>
        <p:spPr>
          <a:xfrm>
            <a:off x="1428840" y="2071800"/>
            <a:ext cx="1571400" cy="10000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"/>
          <p:cNvSpPr/>
          <p:nvPr/>
        </p:nvSpPr>
        <p:spPr>
          <a:xfrm>
            <a:off x="3929040" y="1928880"/>
            <a:ext cx="1357200" cy="12142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"/>
          <p:cNvSpPr/>
          <p:nvPr/>
        </p:nvSpPr>
        <p:spPr>
          <a:xfrm>
            <a:off x="2357280" y="4000680"/>
            <a:ext cx="1643400" cy="1000080"/>
          </a:xfrm>
          <a:prstGeom prst="flowChartMagneticTap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"/>
          <p:cNvSpPr/>
          <p:nvPr/>
        </p:nvSpPr>
        <p:spPr>
          <a:xfrm>
            <a:off x="5286240" y="3857760"/>
            <a:ext cx="1285920" cy="10000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"/>
          <p:cNvSpPr/>
          <p:nvPr/>
        </p:nvSpPr>
        <p:spPr>
          <a:xfrm>
            <a:off x="6643800" y="214308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352160" y="785880"/>
            <a:ext cx="69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кие значки были в фигурах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"/>
          <p:cNvSpPr/>
          <p:nvPr/>
        </p:nvSpPr>
        <p:spPr>
          <a:xfrm>
            <a:off x="2428920" y="4143240"/>
            <a:ext cx="1571760" cy="1000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"/>
          <p:cNvSpPr/>
          <p:nvPr/>
        </p:nvSpPr>
        <p:spPr>
          <a:xfrm>
            <a:off x="6500880" y="2000160"/>
            <a:ext cx="1357200" cy="1214640"/>
          </a:xfrm>
          <a:custGeom>
            <a:avLst/>
            <a:gdLst/>
            <a:ahLst/>
            <a:rect l="l" t="t" r="r" b="b"/>
            <a:pathLst>
              <a:path w="1357322" h="1214446">
                <a:moveTo>
                  <a:pt x="0" y="303612"/>
                </a:moveTo>
                <a:lnTo>
                  <a:pt x="452437" y="303606"/>
                </a:lnTo>
                <a:lnTo>
                  <a:pt x="678661" y="0"/>
                </a:lnTo>
                <a:lnTo>
                  <a:pt x="904885" y="303606"/>
                </a:lnTo>
                <a:lnTo>
                  <a:pt x="1357322" y="303612"/>
                </a:lnTo>
                <a:lnTo>
                  <a:pt x="1131109" y="607223"/>
                </a:lnTo>
                <a:lnTo>
                  <a:pt x="1357322" y="910835"/>
                </a:lnTo>
                <a:lnTo>
                  <a:pt x="904885" y="910840"/>
                </a:lnTo>
                <a:lnTo>
                  <a:pt x="678661" y="1214446"/>
                </a:lnTo>
                <a:lnTo>
                  <a:pt x="452437" y="910840"/>
                </a:lnTo>
                <a:lnTo>
                  <a:pt x="0" y="910835"/>
                </a:lnTo>
                <a:lnTo>
                  <a:pt x="226213" y="607223"/>
                </a:lnTo>
                <a:lnTo>
                  <a:pt x="0" y="303612"/>
                </a:lnTo>
                <a:close/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"/>
          <p:cNvSpPr/>
          <p:nvPr/>
        </p:nvSpPr>
        <p:spPr>
          <a:xfrm>
            <a:off x="1500120" y="2143080"/>
            <a:ext cx="1643040" cy="1000080"/>
          </a:xfrm>
          <a:prstGeom prst="flowChartMagneticTap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"/>
          <p:cNvSpPr/>
          <p:nvPr/>
        </p:nvSpPr>
        <p:spPr>
          <a:xfrm>
            <a:off x="5286240" y="4071960"/>
            <a:ext cx="1285920" cy="1000080"/>
          </a:xfrm>
          <a:custGeom>
            <a:avLst/>
            <a:gdLst/>
            <a:ahLst/>
            <a:rect l="l" t="t" r="r" b="b"/>
            <a:pathLst>
              <a:path w="1285884" h="1000132">
                <a:moveTo>
                  <a:pt x="0" y="500066"/>
                </a:moveTo>
                <a:cubicBezTo>
                  <a:pt x="0" y="223887"/>
                  <a:pt x="287855" y="0"/>
                  <a:pt x="642942" y="0"/>
                </a:cubicBezTo>
                <a:lnTo>
                  <a:pt x="1285884" y="0"/>
                </a:lnTo>
                <a:lnTo>
                  <a:pt x="1285884" y="500066"/>
                </a:lnTo>
                <a:cubicBezTo>
                  <a:pt x="1285884" y="776245"/>
                  <a:pt x="998029" y="1000132"/>
                  <a:pt x="642942" y="1000132"/>
                </a:cubicBezTo>
                <a:cubicBezTo>
                  <a:pt x="287855" y="1000132"/>
                  <a:pt x="0" y="776245"/>
                  <a:pt x="0" y="500066"/>
                </a:cubicBezTo>
                <a:close/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"/>
          <p:cNvSpPr/>
          <p:nvPr/>
        </p:nvSpPr>
        <p:spPr>
          <a:xfrm>
            <a:off x="4357800" y="228600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357920" y="928800"/>
            <a:ext cx="61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Назови второе слово в пар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"/>
          <p:cNvSpPr/>
          <p:nvPr/>
        </p:nvSpPr>
        <p:spPr>
          <a:xfrm>
            <a:off x="1158840" y="1857240"/>
            <a:ext cx="215424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им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т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ч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фри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оун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ес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лет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веты 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4572000" y="1785960"/>
            <a:ext cx="2857680" cy="21906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6572160" y="3929040"/>
            <a:ext cx="1981440" cy="2005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4000680" y="428616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882360" y="7858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количество предмет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3017880" cy="208584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357120" y="379080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5286240" y="1428840"/>
            <a:ext cx="2482920" cy="31748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5286240" y="4071960"/>
            <a:ext cx="2857680" cy="22129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97520" y="4287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571680" y="1714680"/>
            <a:ext cx="5500440" cy="2786040"/>
          </a:xfrm>
          <a:prstGeom prst="pie">
            <a:avLst/>
          </a:prstGeom>
          <a:solidFill>
            <a:srgbClr val="e0e8ef"/>
          </a:solidFill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шка, ножницы, карандаш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елка, книга, солнце, ветер, улит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"/>
          <p:cNvSpPr/>
          <p:nvPr/>
        </p:nvSpPr>
        <p:spPr>
          <a:xfrm>
            <a:off x="680040" y="500040"/>
            <a:ext cx="4362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 слова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и повто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"/>
          <p:cNvSpPr/>
          <p:nvPr/>
        </p:nvSpPr>
        <p:spPr>
          <a:xfrm>
            <a:off x="3071880" y="3429000"/>
            <a:ext cx="5572080" cy="2857680"/>
          </a:xfrm>
          <a:prstGeom prst="pie">
            <a:avLst/>
          </a:prstGeom>
          <a:solidFill>
            <a:srgbClr val="e0e8ef"/>
          </a:solidFill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кно, корабль, телефон, дождь, газета, машина, яблоко, куриц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"/>
          <p:cNvSpPr/>
          <p:nvPr/>
        </p:nvSpPr>
        <p:spPr>
          <a:xfrm>
            <a:off x="7927200" y="5000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08200" y="785880"/>
            <a:ext cx="77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 и повтори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"/>
          <p:cNvSpPr/>
          <p:nvPr/>
        </p:nvSpPr>
        <p:spPr>
          <a:xfrm>
            <a:off x="751320" y="1571760"/>
            <a:ext cx="76478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таша рассказала сказку сестре про лису и ко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зимний морозный день появляются снежные узо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толе стоят красивый кувшин, чашка и блюдц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абушка испекла вкусные лепешки, калачи и пря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лужайке пасется овца с маленьким ягненк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7000920" y="4143240"/>
            <a:ext cx="1535040" cy="22161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357120" y="47149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643040" y="46432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4929120" y="4429080"/>
            <a:ext cx="1452600" cy="19368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97520" y="4287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71960" y="571680"/>
            <a:ext cx="4448160" cy="57528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184400" y="1428840"/>
            <a:ext cx="25916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ссмотр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 запомн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ртинк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"/>
          <p:cNvSpPr/>
          <p:nvPr/>
        </p:nvSpPr>
        <p:spPr>
          <a:xfrm>
            <a:off x="497520" y="5000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286160" y="428760"/>
            <a:ext cx="4448160" cy="575280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629640" y="1571760"/>
            <a:ext cx="3434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мотри, что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зменилось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256040" y="1143000"/>
            <a:ext cx="25916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ссмотр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 запомн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ртин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572160" y="785880"/>
            <a:ext cx="1666800" cy="15001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714680" cy="1575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6715080" y="2714760"/>
            <a:ext cx="1435320" cy="1660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4"/>
          <a:stretch/>
        </p:blipFill>
        <p:spPr>
          <a:xfrm>
            <a:off x="4214880" y="4643280"/>
            <a:ext cx="1547640" cy="16495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4286160" y="2714760"/>
            <a:ext cx="1357560" cy="192384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6"/>
          <a:stretch/>
        </p:blipFill>
        <p:spPr>
          <a:xfrm>
            <a:off x="4286160" y="785880"/>
            <a:ext cx="1928880" cy="17589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783360" y="6429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571680" y="52149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предметы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857920" y="3500280"/>
            <a:ext cx="1469880" cy="1428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285920" y="1000080"/>
            <a:ext cx="1357200" cy="144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286240" y="2428920"/>
            <a:ext cx="1143000" cy="1152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429240" y="121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2643120" y="2571840"/>
            <a:ext cx="1209600" cy="1104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47560" cy="1220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1571760" y="3559320"/>
            <a:ext cx="1158840" cy="1263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>
            <a:off x="3714840" y="857160"/>
            <a:ext cx="1904760" cy="1575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705960" y="500040"/>
            <a:ext cx="316008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редмет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были н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редыдущем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слайд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4643280" y="4786200"/>
            <a:ext cx="1714680" cy="15638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1667160" cy="15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6715080" y="2714760"/>
            <a:ext cx="1435320" cy="16603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4"/>
          <a:stretch/>
        </p:blipFill>
        <p:spPr>
          <a:xfrm>
            <a:off x="2786040" y="2786040"/>
            <a:ext cx="1548000" cy="16495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5"/>
          <a:stretch/>
        </p:blipFill>
        <p:spPr>
          <a:xfrm>
            <a:off x="6858000" y="4714920"/>
            <a:ext cx="1714680" cy="15746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6"/>
          <a:stretch/>
        </p:blipFill>
        <p:spPr>
          <a:xfrm>
            <a:off x="6572160" y="785880"/>
            <a:ext cx="1981440" cy="17762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7"/>
          <a:stretch/>
        </p:blipFill>
        <p:spPr>
          <a:xfrm>
            <a:off x="4429080" y="857160"/>
            <a:ext cx="193824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8"/>
          <a:stretch/>
        </p:blipFill>
        <p:spPr>
          <a:xfrm>
            <a:off x="2714760" y="4786200"/>
            <a:ext cx="1643040" cy="15843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9"/>
          <a:stretch/>
        </p:blipFill>
        <p:spPr>
          <a:xfrm>
            <a:off x="357120" y="4857840"/>
            <a:ext cx="1071720" cy="13968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0"/>
          <a:stretch/>
        </p:blipFill>
        <p:spPr>
          <a:xfrm>
            <a:off x="857160" y="3143160"/>
            <a:ext cx="135756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937680" y="2786040"/>
            <a:ext cx="47862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Ты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молодец !!!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3714840" y="4643280"/>
            <a:ext cx="5091120" cy="120996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50166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571760" y="357120"/>
            <a:ext cx="557208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дсчитаем балл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(только для взрослых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"/>
          <p:cNvSpPr/>
          <p:nvPr/>
        </p:nvSpPr>
        <p:spPr>
          <a:xfrm>
            <a:off x="214200" y="1285920"/>
            <a:ext cx="87948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2 – 15 баллов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сок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отлично стравился. Вы можете предлагать ему более сложные задания, что бы его развитие не стояло на мест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9 – 12 баллов – уровень выше среднего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справился с заданиями хорошо, но его потенциал не развит, можно предлагать ему подобные или немного более сложные зад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 – 9 баллов – средн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полнение заданий соответствует возрастным нормам, но это не повод, чтобы останавливаться на достигнутом. Предлагайте ему подобные задания и добивайтесь лучшего выполн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 – 6 – уровень ниже среднего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справился с заданиями недостаточно хорошо, заниматься с ним нужно немного больше, чем обычно. Предлагайте ребенку задания сначала более просты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 – 3 балла – низк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не справился с большинством заданий. Наберитесь терпения, вам предстоит потратить много времени и сил на занятия с ребенком. Обязательно обратитесь к специалист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57120" y="47149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узор на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"/>
          <p:cNvSpPr/>
          <p:nvPr/>
        </p:nvSpPr>
        <p:spPr>
          <a:xfrm>
            <a:off x="1857240" y="1285920"/>
            <a:ext cx="180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/>
          <p:nvPr/>
        </p:nvSpPr>
        <p:spPr>
          <a:xfrm>
            <a:off x="5143680" y="128592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/>
          <p:nvPr/>
        </p:nvSpPr>
        <p:spPr>
          <a:xfrm>
            <a:off x="3571920" y="1357200"/>
            <a:ext cx="1440" cy="314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/>
          <p:nvPr/>
        </p:nvSpPr>
        <p:spPr>
          <a:xfrm>
            <a:off x="1500120" y="2786040"/>
            <a:ext cx="5357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"/>
          <p:cNvSpPr/>
          <p:nvPr/>
        </p:nvSpPr>
        <p:spPr>
          <a:xfrm>
            <a:off x="2214720" y="1500120"/>
            <a:ext cx="857160" cy="9288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/>
          <p:nvPr/>
        </p:nvSpPr>
        <p:spPr>
          <a:xfrm>
            <a:off x="3929040" y="1500120"/>
            <a:ext cx="1000080" cy="928800"/>
          </a:xfrm>
          <a:custGeom>
            <a:avLst/>
            <a:gdLst/>
            <a:ahLst/>
            <a:rect l="l" t="t" r="r" b="b"/>
            <a:pathLst>
              <a:path w="1000132" h="928694">
                <a:moveTo>
                  <a:pt x="500066" y="232174"/>
                </a:moveTo>
                <a:cubicBezTo>
                  <a:pt x="708427" y="-309565"/>
                  <a:pt x="1521034" y="232174"/>
                  <a:pt x="500066" y="928694"/>
                </a:cubicBezTo>
                <a:cubicBezTo>
                  <a:pt x="-520902" y="232174"/>
                  <a:pt x="291705" y="-309565"/>
                  <a:pt x="500066" y="23217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/>
          <p:nvPr/>
        </p:nvSpPr>
        <p:spPr>
          <a:xfrm>
            <a:off x="5500800" y="1357200"/>
            <a:ext cx="714240" cy="928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/>
          <p:nvPr/>
        </p:nvSpPr>
        <p:spPr>
          <a:xfrm>
            <a:off x="5429160" y="3214800"/>
            <a:ext cx="785880" cy="928440"/>
          </a:xfrm>
          <a:prstGeom prst="plus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"/>
          <p:cNvSpPr/>
          <p:nvPr/>
        </p:nvSpPr>
        <p:spPr>
          <a:xfrm>
            <a:off x="6643800" y="135720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/>
          <p:nvPr/>
        </p:nvSpPr>
        <p:spPr>
          <a:xfrm>
            <a:off x="2143080" y="3214800"/>
            <a:ext cx="1000080" cy="928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/>
          <p:nvPr/>
        </p:nvSpPr>
        <p:spPr>
          <a:xfrm>
            <a:off x="4071960" y="3214800"/>
            <a:ext cx="571320" cy="928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57120" y="47149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узор на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/>
          <p:nvPr/>
        </p:nvSpPr>
        <p:spPr>
          <a:xfrm>
            <a:off x="1857240" y="1285920"/>
            <a:ext cx="180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"/>
          <p:cNvSpPr/>
          <p:nvPr/>
        </p:nvSpPr>
        <p:spPr>
          <a:xfrm>
            <a:off x="5143680" y="128592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"/>
          <p:cNvSpPr/>
          <p:nvPr/>
        </p:nvSpPr>
        <p:spPr>
          <a:xfrm>
            <a:off x="3571920" y="1357200"/>
            <a:ext cx="1440" cy="314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"/>
          <p:cNvSpPr/>
          <p:nvPr/>
        </p:nvSpPr>
        <p:spPr>
          <a:xfrm>
            <a:off x="1500120" y="2786040"/>
            <a:ext cx="5357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/>
          <p:nvPr/>
        </p:nvSpPr>
        <p:spPr>
          <a:xfrm>
            <a:off x="2214720" y="1500120"/>
            <a:ext cx="857160" cy="9288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"/>
          <p:cNvSpPr/>
          <p:nvPr/>
        </p:nvSpPr>
        <p:spPr>
          <a:xfrm>
            <a:off x="3929040" y="1500120"/>
            <a:ext cx="1000080" cy="928800"/>
          </a:xfrm>
          <a:custGeom>
            <a:avLst/>
            <a:gdLst/>
            <a:ahLst/>
            <a:rect l="l" t="t" r="r" b="b"/>
            <a:pathLst>
              <a:path w="1000132" h="928694">
                <a:moveTo>
                  <a:pt x="500066" y="232174"/>
                </a:moveTo>
                <a:cubicBezTo>
                  <a:pt x="708427" y="-309565"/>
                  <a:pt x="1521034" y="232174"/>
                  <a:pt x="500066" y="928694"/>
                </a:cubicBezTo>
                <a:cubicBezTo>
                  <a:pt x="-520902" y="232174"/>
                  <a:pt x="291705" y="-309565"/>
                  <a:pt x="500066" y="23217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"/>
          <p:cNvSpPr/>
          <p:nvPr/>
        </p:nvSpPr>
        <p:spPr>
          <a:xfrm>
            <a:off x="5500800" y="1357200"/>
            <a:ext cx="714240" cy="928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/>
          <p:nvPr/>
        </p:nvSpPr>
        <p:spPr>
          <a:xfrm>
            <a:off x="5429160" y="3214800"/>
            <a:ext cx="785880" cy="928440"/>
          </a:xfrm>
          <a:prstGeom prst="plus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"/>
          <p:cNvSpPr/>
          <p:nvPr/>
        </p:nvSpPr>
        <p:spPr>
          <a:xfrm>
            <a:off x="6643800" y="135720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"/>
          <p:cNvSpPr/>
          <p:nvPr/>
        </p:nvSpPr>
        <p:spPr>
          <a:xfrm>
            <a:off x="2143080" y="3214800"/>
            <a:ext cx="1000080" cy="92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"/>
          <p:cNvSpPr/>
          <p:nvPr/>
        </p:nvSpPr>
        <p:spPr>
          <a:xfrm>
            <a:off x="4071960" y="3214800"/>
            <a:ext cx="57132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, как расположены фигуры в таблиц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/>
          <p:nvPr/>
        </p:nvSpPr>
        <p:spPr>
          <a:xfrm>
            <a:off x="2571840" y="2214720"/>
            <a:ext cx="144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"/>
          <p:cNvSpPr/>
          <p:nvPr/>
        </p:nvSpPr>
        <p:spPr>
          <a:xfrm>
            <a:off x="5929200" y="2500200"/>
            <a:ext cx="180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"/>
          <p:cNvSpPr/>
          <p:nvPr/>
        </p:nvSpPr>
        <p:spPr>
          <a:xfrm>
            <a:off x="4214880" y="2500200"/>
            <a:ext cx="1440" cy="335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/>
          <p:nvPr/>
        </p:nvSpPr>
        <p:spPr>
          <a:xfrm>
            <a:off x="1214280" y="3857760"/>
            <a:ext cx="607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1428840" cy="14400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071720" y="4000680"/>
            <a:ext cx="1350720" cy="18493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357800" y="2286000"/>
            <a:ext cx="1357200" cy="145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6000840" y="4000680"/>
            <a:ext cx="1285920" cy="17017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571680" y="428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змести картинки по местам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"/>
          <p:cNvSpPr/>
          <p:nvPr/>
        </p:nvSpPr>
        <p:spPr>
          <a:xfrm>
            <a:off x="2571840" y="1500120"/>
            <a:ext cx="1440" cy="271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"/>
          <p:cNvSpPr/>
          <p:nvPr/>
        </p:nvSpPr>
        <p:spPr>
          <a:xfrm>
            <a:off x="1285920" y="2786040"/>
            <a:ext cx="5857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71720" y="4643280"/>
            <a:ext cx="1428480" cy="1440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3071880" y="4643280"/>
            <a:ext cx="1143000" cy="15652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357200" cy="1452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4786200" y="4643280"/>
            <a:ext cx="1216080" cy="1609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214880" y="1571760"/>
            <a:ext cx="1440" cy="27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"/>
          <p:cNvSpPr/>
          <p:nvPr/>
        </p:nvSpPr>
        <p:spPr>
          <a:xfrm>
            <a:off x="5857920" y="1571760"/>
            <a:ext cx="1440" cy="27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714240" y="14292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аких картинок не хватает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"/>
          <p:cNvSpPr/>
          <p:nvPr/>
        </p:nvSpPr>
        <p:spPr>
          <a:xfrm>
            <a:off x="4214880" y="785880"/>
            <a:ext cx="1440" cy="507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2286000"/>
            <a:ext cx="721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"/>
          <p:cNvSpPr/>
          <p:nvPr/>
        </p:nvSpPr>
        <p:spPr>
          <a:xfrm>
            <a:off x="500040" y="4286160"/>
            <a:ext cx="7572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643280" y="2428920"/>
            <a:ext cx="1214640" cy="17701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357800" y="4357800"/>
            <a:ext cx="1643040" cy="16002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4429080" y="785880"/>
            <a:ext cx="1643040" cy="14335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857160" y="250020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5"/>
          <a:stretch/>
        </p:blipFill>
        <p:spPr>
          <a:xfrm>
            <a:off x="928800" y="714240"/>
            <a:ext cx="1427040" cy="1214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71680" y="4357800"/>
            <a:ext cx="148428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0004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, запомни, повто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4857840" y="2143080"/>
            <a:ext cx="2460600" cy="37670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928800" y="2071800"/>
            <a:ext cx="410976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йчика – трусиш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полю бежа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огород забежа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рковку наше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пустку наше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идит, грыз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и прочь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озяин идет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1643040" y="2143080"/>
          <a:ext cx="150156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76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3714840" y="2143080"/>
          <a:ext cx="150120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6000840" y="2143080"/>
          <a:ext cx="1358280" cy="1287000"/>
        </p:xfrm>
        <a:graphic>
          <a:graphicData uri="http://schemas.openxmlformats.org/drawingml/2006/table">
            <a:tbl>
              <a:tblPr/>
              <a:tblGrid>
                <a:gridCol w="452880"/>
                <a:gridCol w="452520"/>
                <a:gridCol w="452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90" name=""/>
          <p:cNvSpPr/>
          <p:nvPr/>
        </p:nvSpPr>
        <p:spPr>
          <a:xfrm>
            <a:off x="1450440" y="571680"/>
            <a:ext cx="5590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расположе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крашенных квадрат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43040" y="4143240"/>
          <a:ext cx="1501560" cy="1288800"/>
        </p:xfrm>
        <a:graphic>
          <a:graphicData uri="http://schemas.openxmlformats.org/drawingml/2006/table">
            <a:tbl>
              <a:tblPr/>
              <a:tblGrid>
                <a:gridCol w="500400"/>
                <a:gridCol w="50076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3714840" y="4143240"/>
          <a:ext cx="1501200" cy="12888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6000840" y="4071960"/>
          <a:ext cx="150120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3251160" y="578628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рисуй так же вниз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2:03:08Z</dcterms:created>
  <dc:creator>1</dc:creator>
  <dc:description/>
  <dc:language>en-US</dc:language>
  <cp:lastModifiedBy/>
  <dcterms:modified xsi:type="dcterms:W3CDTF">2023-06-29T08:07:11Z</dcterms:modified>
  <cp:revision>5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567526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