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33.jpeg" ContentType="image/jpeg"/>
  <Override PartName="/ppt/media/image39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7.wmf" ContentType="image/x-wmf"/>
  <Override PartName="/ppt/media/image20.jpeg" ContentType="image/jpeg"/>
  <Override PartName="/ppt/media/image54.jpeg" ContentType="image/jpeg"/>
  <Override PartName="/ppt/media/image47.jpeg" ContentType="image/jpeg"/>
  <Override PartName="/ppt/media/image55.png" ContentType="image/png"/>
  <Override PartName="/ppt/media/image56.png" ContentType="image/png"/>
  <Override PartName="/ppt/media/image32.jpeg" ContentType="image/jpeg"/>
  <Override PartName="/ppt/media/image31.jpeg" ContentType="image/jpeg"/>
  <Override PartName="/ppt/media/image8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wmf" ContentType="image/x-wmf"/>
  <Override PartName="/ppt/media/image11.jpeg" ContentType="image/jpe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63D5BA-1413-4894-B1DF-6555A42314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назвал все слова. 0,5 балла – не назвал 1-2 слова. 0 – не назвал 3-4 и более с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024B5-91E4-401B-834A-5C5E032A59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правильно расставил все знаки. 0,5 балла – допустил 1-2 ошибки. 0 – допустил 3 и более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D90FD6-4F31-41A7-8C4E-C40FEB346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все слова в парах. 0,5 – не смог вспомнить 1-2 слова. 0 – не смог вспомнить 3 – 4 и более с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25CDEC-99B0-47F4-A186-5A7EFA493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самостоятельно и правильно назвал все предметы и их количество. 0.5 – допустил 1-2 ошибки. 0 – допустил 3-4 и более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E9406-0AFC-41EF-BC93-FAB660FD0E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Называйте по 8 слов за один раз. Ребенок сразу должен их повтори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ребенок запомнил все 7 - 8 слов с первого раза (последовательность повторения слов может быть произвольной). 0.5 – запомнил 5-6 слов с первого раза. 0 – запомнил 3-4 и менее с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70D532-31DB-4309-BEA5-41CD679199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дословно повторил все предложения с 1-2 неточностями. 0.5 – не слог повторить 1-2 предложения или повторил все предложения, но с нето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0. – не смог запомнить большинство пред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F44944-AD7B-4203-9E6C-84125829D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назвал все отличия. 0.5 – не назвал 1-2 отличия. 0 – не назвал 3-4 и более отлич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73F1AC-BE54-4371-9138-E9FF70B43F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Назови картинки. Запомни их. Закрой слайд и  постарайся вспомнить все предметы. 1балл – запомнил все предметы. 0,5 балла – не запомнил 1-2 предмета. 0 – не запомнил 3-4 предм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4AC4D5-C987-4D5E-A40F-B3F8436E63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запомнил и назвал правильно предметы. 0.5 – допустил 1 ошибку или сделал задание с небольшой помощью взрослого. 0 – допустил 2-3 ошибки и не слог запомнить пред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93B8A2-1E09-4435-9923-059A0E6F9B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C9F11-E91A-48E3-B4A2-C8815FE897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балл – запомнил все узоры, 0.5 – сделал 1-2 ошибки, 0 – допустил 3 и более ошиб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60CC6B-744C-49FD-AF1F-C4653824F3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B8B0E3-B317-46E2-ADC1-1FFC220EE8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 балл – запомнил и правильно разместил все картинки. 0,5 балла – допустил одну ошибку. 0 баллов – допустил 2 и более ошиб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889578-8044-4BFF-A20E-07DF8D5234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все предметы. 0,5 балла – не запомнил 1-2 предмета. 0 – не запомнил 3-4 предм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653FB0-D9A0-4766-AF54-143364ABB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и повторил потешку без ошибок.. 0,5 балла – запомнил, но повторил с 1-2 неточностями. 0 – не смог запомнить потешку, при повторении допустил много неточ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D80DA9-86D4-46D3-84A9-7BB286E461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WenQuanYi Micro Hei"/>
              </a:rPr>
              <a:t>1балл – запомнил расположение квадратов, и закрасил их правильно. 0,5 балла – допустил 1-2 ошибки. 0 баллов – допустил 3 и более ошиб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CD218C-DA4F-47B8-A237-786AA6B425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7304-9C51-4E78-B210-A03F91DDA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B5E3-D1A5-473E-B2C9-C386B851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F39E6-72FE-433F-80B5-8B37896B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E0A2C-ED7E-4AD4-95BC-B250E545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9B5CC-A13F-47C1-B94D-15CF4B13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0AE03-8799-4AC6-9943-6EDEF434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C6B11-15E0-4922-923D-73785BB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D5A27-576E-4AF6-A26C-D8C85A03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AB66D-6AC1-4716-BB5F-F042B94C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018BF-C33C-440B-950D-0EB0D49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10DF05-8986-40F3-A09F-0E3C27240A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44E99C-2702-455F-A92E-B6B74EBFC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60A1-F41E-4291-9768-235BE92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753764-DF42-445A-B6B9-08FC54F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99DD8-2BA1-4D88-AABB-C1C3BCC1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64D7E0-8394-4205-841E-A2413BFB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F4BFC3-6B13-42BB-801F-C86A86C2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271E6-CB2B-4D1B-A352-4EF7F8BA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E636F-1442-426E-A2C9-D424C4B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3C229D-9AB4-4B1E-87FA-E2CFD194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FD5164-925A-4D9B-AFE0-6114CE48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8DC9F-C8AC-48FB-8572-3EF33313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8C1014-2504-44FE-A4A2-333C761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7B94-E22C-4CA1-B5CC-9947FC493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80E01-35CE-4110-AC04-96CEFCD70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C9E00D-0942-462E-AC7D-87E20C2AF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BC4F3-540A-48D4-89B6-8B50AB19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B59B6-23B8-4986-9245-E8BBD029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0C2876-C960-497B-AA63-B932995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4E855-4595-45A1-B76C-318E4883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33951-732C-416C-959A-44918F80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FD30BB-44BE-4E07-901D-187C5F1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8DF879-3330-4C07-A334-D3E5CE74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F7CD63-76AD-497B-85BE-77512670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D08F0-E216-4B29-853B-8BCD9FF53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F2F782-74C8-4033-B2BB-8D9B2280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A410EC-2D0E-4BA7-BD28-00F8ABF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1AA655-73BD-47AF-851C-079F5BCF1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ACF81-77F3-43C8-AE8D-575C88A40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1F9748-2F09-4A1F-B228-9AFABA61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21C4DC-0A11-4D04-B67A-577C5830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83D54-E823-4814-AE52-087FBE6C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DA1B2-5CF3-44B3-AFDA-167FB1E2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851E8-73CA-43D1-B94F-2E30C94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E754A-6AC6-4CD1-8D09-CC515DA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BCFA-3AA9-4C51-B3B3-00421EE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8C669-7FF0-468C-A273-E7113FF2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15359-DAF0-461B-9CA5-65941F5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13B7B9-7E6C-4B61-94C8-26588D89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2594C-ED80-497F-AD41-DC2B62F8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E9A3F2-D516-4923-AE1C-0D81D41E3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84ECE-2521-47FB-B9AA-A02C5BAC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342E3-1243-4D3B-BED7-5F4145AE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89296-DFBC-4B4C-9057-59DD9E9A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B218A-CDAE-4173-9F90-BC728731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D434F-C6B1-4D3A-BAA9-F4E56024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0EE7-B7D7-4343-A936-F4FC21EE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90A46-0100-45F5-8594-3C55AF2E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D93EC-D221-47C4-975C-2A9238A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03B68-473F-4FCF-B604-2B2EFB1C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DA3D1-DD68-4539-A960-2A148322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19D2B-2099-443E-AED6-3884E8CAC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8BF-3E62-4B35-96DD-78AFC4C0C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2B4E-1DE6-4F1F-A92B-FEB80E2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FABD-24C8-4B43-88C1-27043F75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C7FA-CE01-4B67-BA26-7AA38F15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056-C45F-4F37-8FA7-CF129395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87E7-22AE-43ED-81DA-9E8FA2F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C200-08E3-427C-A78B-C0ECB1A2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A045-92A3-4FD5-BD95-385F5E56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3DF8-C891-4DC4-A228-112AE01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89DD-9D5C-493F-A84B-8118EC20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F08B-2D67-4F6F-BAF1-1C3E69C5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EB73-2930-4677-B9AF-47CCA9E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2256-851A-42D2-93AB-B645497561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6A7F0-93E7-4A85-BCE1-BF6785C77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17BF8-C8B9-43C9-978C-33EE95C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DC543-B949-4629-8BCE-3C488DD0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9048-0C3A-4052-A98F-B538930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68361-940C-44E3-9FB0-6D63DFE3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AFB54-6896-4725-AB5E-228ABB00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FD378-417E-4C60-8B2E-97A70B13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F719F-247B-4E73-8F5B-5BBD7DA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5D335-C408-4C8D-9C1A-4994027A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850A4-EBAD-4ADB-91ED-A370FD08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4A187-AEFD-4FA3-93D4-80B53B37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56595-FE49-4F08-872F-9D41A8C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D8039-020D-4D58-AA67-D0FDE1E33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2933C-7C20-46E3-9076-01ADA98F1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2B38-D8FE-4633-92E8-019C5591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5E2EC-7160-4019-99B3-ED275FE3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61CF7-7E8B-40FA-BD97-21160B2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2A691-9ADC-4C05-9B22-00BC843B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0DB1F-435C-4A76-8015-885A74E9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24944-41B0-4F1E-83D1-D1DEE729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F38DB-CCB6-472E-8E00-11B7404E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BE623-85D5-4039-8D22-8D81BC4A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8D3F8-84BC-4038-B97A-2F01EE74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A818C-1EF0-4918-8DAC-B89FD0C7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3F446-002C-4C89-8782-D38E2E3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50F2-AE97-4299-8B8A-CA75EE78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3595B-A894-4596-9754-7233E1714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F36A-6176-492E-85F1-58AF6D763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670E-14D9-4A9F-B133-A690AF88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6253E-454A-4A77-AC71-DF86A4B9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9875-36AC-4CB7-BFC2-D860DA9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548E-7439-4949-93A9-580E3035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B852-1192-447C-A8B5-3D6C844A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B24E-1092-40CB-A64F-6CE62B41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69C9-75C3-4AF7-8EA2-4698532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1FA5-B958-4907-9319-6DCE49C2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9FC7-1636-45C0-BDC3-CD30E342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2941-443A-4328-AC29-D568C7F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062C-9FA3-4200-A9A2-D7537D4E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5AC3-7896-455B-8169-62060F63B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A62ED-F9DB-4532-A245-81F97976A0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B5E21-C020-42B8-A797-C0783B93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D77FD-9CE7-4B67-B03E-9C71356B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F0CAF-8550-4692-B13F-A3AC0EB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E4A64-B3FB-4129-B650-16D89D8A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F0FB9-1C58-4C8E-9BB1-D2EA8BA4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703E1-9981-4C88-B2B5-F532F1E0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8C0B-DA75-4B16-9EFE-714A12BB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B441D-89E2-4074-BC18-DED42D49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63765-DC7A-4D64-8A9F-AEF58095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2D349-43E6-4083-B32D-629DDCC3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78E4E-5391-4C0A-8B54-DF1F9CA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690CE-E866-4AE4-987A-D89DEAA9A5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BF7251-ECE0-458D-B7DD-A9E0739D8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56959A-590B-4CF8-8343-2DBFEF81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25444-CCAD-44A4-9438-3638B2C1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B5562-EE91-45F7-89F3-5C742DE3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26AFF4-5BCE-4ECC-A9E2-4CD677FE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5A9C-CCF4-44AF-A2B0-126B9CBB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240"/>
            <a:ext cx="852948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E23432-FE85-43DE-B1D6-37770600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A8229-D11A-42D1-9023-B6804D7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649CFB-13D9-46A5-A296-18D9847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CDDE90-4325-4DB5-879C-60D687C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3640"/>
            <a:ext cx="85294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F40CD-1EEF-41F7-9518-BB09F7C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2080" y="152388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2080" y="3923640"/>
            <a:ext cx="416232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AEBD4-1AB9-4AD9-8346-926A9A2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492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68880" y="152388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492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68880" y="3923640"/>
            <a:ext cx="2746080" cy="21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18747-CA35-45E7-82F8-11A60F225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36B5E-E5E0-4290-8D3F-ED109E0C3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B24BF-D578-4206-BE7C-99B40B27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0A115-841C-4789-AA15-289C79CC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4343040" y="10393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073483-F50F-4F6C-96B2-BD902FFCB2EC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19"/>
          </p:nvPr>
        </p:nvSpPr>
        <p:spPr>
          <a:xfrm>
            <a:off x="1371240" y="31284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077722-F6A7-4F54-BC73-C28F4DB23B41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0"/>
          </p:nvPr>
        </p:nvSpPr>
        <p:spPr>
          <a:xfrm>
            <a:off x="578808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1680" y="6410160"/>
            <a:ext cx="35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2"/>
          </p:nvPr>
        </p:nvSpPr>
        <p:spPr>
          <a:xfrm>
            <a:off x="4343040" y="10393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DDF6E4-84A2-4DF8-B95F-3F65A885A693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"/>
          <p:cNvSpPr/>
          <p:nvPr/>
        </p:nvSpPr>
        <p:spPr>
          <a:xfrm>
            <a:off x="7143840" y="155520"/>
            <a:ext cx="1440" cy="624528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23"/>
          </p:nvPr>
        </p:nvSpPr>
        <p:spPr>
          <a:xfrm>
            <a:off x="6914880" y="300960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889C59-47ED-4663-A14E-42CD2BFBD47B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24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"/>
          <p:cNvSpPr/>
          <p:nvPr/>
        </p:nvSpPr>
        <p:spPr>
          <a:xfrm>
            <a:off x="155520" y="2419200"/>
            <a:ext cx="8832960" cy="180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4343040" y="21981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0C2E2-CD34-4E9A-8B2F-D4774B20B011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4362120" y="10267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234ECE-74E6-4914-913C-795F83EF2B55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2438280"/>
            <a:ext cx="8832960" cy="180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4343040" y="21981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3B4136-2D23-474F-B9DE-8EA21F941511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62640" y="1581120"/>
            <a:ext cx="9360" cy="481824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791320" y="640980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4343040" y="103932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704954-C6CB-44D1-8B20-1E44C600A17E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V="1">
            <a:off x="4572000" y="2204640"/>
            <a:ext cx="1440" cy="418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1279440"/>
            <a:ext cx="8832960" cy="180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410160"/>
            <a:ext cx="3581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2"/>
          </p:nvPr>
        </p:nvSpPr>
        <p:spPr>
          <a:xfrm>
            <a:off x="4343040" y="1042560"/>
            <a:ext cx="45252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68CDEE-0F0C-4397-B621-5BF464178829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4"/>
          </p:nvPr>
        </p:nvSpPr>
        <p:spPr>
          <a:xfrm>
            <a:off x="4343040" y="103680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C6B4E3-C85D-42BB-8EAD-D6E5720F1873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5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16"/>
          </p:nvPr>
        </p:nvSpPr>
        <p:spPr>
          <a:xfrm>
            <a:off x="4267080" y="6324120"/>
            <a:ext cx="604800" cy="43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649D46-5BDF-4086-9199-CD02246E0F2C}" type="slidenum">
              <a:rPr b="0" lang="ru-RU" sz="16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33520"/>
            <a:ext cx="8832960" cy="1440"/>
          </a:xfrm>
          <a:prstGeom prst="line">
            <a:avLst/>
          </a:prstGeom>
          <a:ln w="11520">
            <a:solidFill>
              <a:srgbClr val="567a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67a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638b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29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567a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67a9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880"/>
            <a:ext cx="85294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11"/>
              </a:spcBef>
              <a:spcAft>
                <a:spcPts val="3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711"/>
              </a:spcBef>
              <a:spcAft>
                <a:spcPts val="3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1371240" y="312840"/>
            <a:ext cx="452520" cy="43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565A05-BE8A-44BE-A10C-FAAA587EE5A0}" type="slidenum">
              <a:rPr b="0" lang="ru-RU" sz="1600" spc="-1" strike="noStrike">
                <a:solidFill>
                  <a:srgbClr val="567a98"/>
                </a:solidFill>
                <a:latin typeface="Tempora LGC Uni"/>
                <a:ea typeface="Open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18"/>
          </p:nvPr>
        </p:nvSpPr>
        <p:spPr>
          <a:xfrm>
            <a:off x="5791320" y="6405120"/>
            <a:ext cx="3039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7"/>
              </a:spcBef>
              <a:spcAft>
                <a:spcPts val="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empora LGC Uni"/>
                <a:ea typeface="Open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1680" y="641016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4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5.pn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image" Target="../media/image18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50920" y="642960"/>
            <a:ext cx="85662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Диагностическое занятие на определение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уровня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развития памяти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у детей 7 лет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156360" y="2381400"/>
            <a:ext cx="26607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428760" y="6429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, запомни, доскаж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"/>
          <p:cNvSpPr/>
          <p:nvPr/>
        </p:nvSpPr>
        <p:spPr>
          <a:xfrm>
            <a:off x="857160" y="1785960"/>
            <a:ext cx="3041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водная 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селый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ворящий 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сокая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аленькая 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ерная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итрая ... Широкая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047760" cy="21574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499760" y="78588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значки в фигура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"/>
          <p:cNvSpPr/>
          <p:nvPr/>
        </p:nvSpPr>
        <p:spPr>
          <a:xfrm>
            <a:off x="1428840" y="2071800"/>
            <a:ext cx="1571400" cy="1000080"/>
          </a:xfrm>
          <a:prstGeom prst="pi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"/>
          <p:cNvSpPr/>
          <p:nvPr/>
        </p:nvSpPr>
        <p:spPr>
          <a:xfrm>
            <a:off x="3929040" y="1928880"/>
            <a:ext cx="1357200" cy="1214280"/>
          </a:xfrm>
          <a:prstGeom prst="pi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"/>
          <p:cNvSpPr/>
          <p:nvPr/>
        </p:nvSpPr>
        <p:spPr>
          <a:xfrm>
            <a:off x="2357280" y="4000680"/>
            <a:ext cx="1643400" cy="1000080"/>
          </a:xfrm>
          <a:prstGeom prst="flowChartMagneticTap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"/>
          <p:cNvSpPr/>
          <p:nvPr/>
        </p:nvSpPr>
        <p:spPr>
          <a:xfrm>
            <a:off x="5286240" y="3857760"/>
            <a:ext cx="1285920" cy="1000080"/>
          </a:xfrm>
          <a:prstGeom prst="pi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"/>
          <p:cNvSpPr/>
          <p:nvPr/>
        </p:nvSpPr>
        <p:spPr>
          <a:xfrm>
            <a:off x="6643800" y="2143080"/>
            <a:ext cx="1071360" cy="9288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"/>
          <p:cNvSpPr/>
          <p:nvPr/>
        </p:nvSpPr>
        <p:spPr>
          <a:xfrm>
            <a:off x="40752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352160" y="785880"/>
            <a:ext cx="69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кие значки были в фигурах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"/>
          <p:cNvSpPr/>
          <p:nvPr/>
        </p:nvSpPr>
        <p:spPr>
          <a:xfrm>
            <a:off x="2428920" y="4143240"/>
            <a:ext cx="1571760" cy="1000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e0e8ef"/>
          </a:solidFill>
          <a:ln w="115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"/>
          <p:cNvSpPr/>
          <p:nvPr/>
        </p:nvSpPr>
        <p:spPr>
          <a:xfrm>
            <a:off x="6500880" y="2000160"/>
            <a:ext cx="1357200" cy="1214640"/>
          </a:xfrm>
          <a:custGeom>
            <a:avLst/>
            <a:gdLst/>
            <a:ahLst/>
            <a:rect l="l" t="t" r="r" b="b"/>
            <a:pathLst>
              <a:path w="1357322" h="1214446">
                <a:moveTo>
                  <a:pt x="0" y="303612"/>
                </a:moveTo>
                <a:lnTo>
                  <a:pt x="452437" y="303606"/>
                </a:lnTo>
                <a:lnTo>
                  <a:pt x="678661" y="0"/>
                </a:lnTo>
                <a:lnTo>
                  <a:pt x="904885" y="303606"/>
                </a:lnTo>
                <a:lnTo>
                  <a:pt x="1357322" y="303612"/>
                </a:lnTo>
                <a:lnTo>
                  <a:pt x="1131109" y="607223"/>
                </a:lnTo>
                <a:lnTo>
                  <a:pt x="1357322" y="910835"/>
                </a:lnTo>
                <a:lnTo>
                  <a:pt x="904885" y="910840"/>
                </a:lnTo>
                <a:lnTo>
                  <a:pt x="678661" y="1214446"/>
                </a:lnTo>
                <a:lnTo>
                  <a:pt x="452437" y="910840"/>
                </a:lnTo>
                <a:lnTo>
                  <a:pt x="0" y="910835"/>
                </a:lnTo>
                <a:lnTo>
                  <a:pt x="226213" y="607223"/>
                </a:lnTo>
                <a:lnTo>
                  <a:pt x="0" y="303612"/>
                </a:lnTo>
                <a:close/>
              </a:path>
            </a:pathLst>
          </a:custGeom>
          <a:solidFill>
            <a:srgbClr val="e0e8ef"/>
          </a:solidFill>
          <a:ln w="115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"/>
          <p:cNvSpPr/>
          <p:nvPr/>
        </p:nvSpPr>
        <p:spPr>
          <a:xfrm>
            <a:off x="1500120" y="2143080"/>
            <a:ext cx="1643040" cy="1000080"/>
          </a:xfrm>
          <a:prstGeom prst="flowChartMagneticTape">
            <a:avLst/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"/>
          <p:cNvSpPr/>
          <p:nvPr/>
        </p:nvSpPr>
        <p:spPr>
          <a:xfrm>
            <a:off x="5286240" y="4071960"/>
            <a:ext cx="1285920" cy="1000080"/>
          </a:xfrm>
          <a:custGeom>
            <a:avLst/>
            <a:gdLst/>
            <a:ahLst/>
            <a:rect l="l" t="t" r="r" b="b"/>
            <a:pathLst>
              <a:path w="1285884" h="1000132">
                <a:moveTo>
                  <a:pt x="0" y="500066"/>
                </a:moveTo>
                <a:cubicBezTo>
                  <a:pt x="0" y="223887"/>
                  <a:pt x="287855" y="0"/>
                  <a:pt x="642942" y="0"/>
                </a:cubicBezTo>
                <a:lnTo>
                  <a:pt x="1285884" y="0"/>
                </a:lnTo>
                <a:lnTo>
                  <a:pt x="1285884" y="500066"/>
                </a:lnTo>
                <a:cubicBezTo>
                  <a:pt x="1285884" y="776245"/>
                  <a:pt x="998029" y="1000132"/>
                  <a:pt x="642942" y="1000132"/>
                </a:cubicBezTo>
                <a:cubicBezTo>
                  <a:pt x="287855" y="1000132"/>
                  <a:pt x="0" y="776245"/>
                  <a:pt x="0" y="500066"/>
                </a:cubicBezTo>
                <a:close/>
              </a:path>
            </a:pathLst>
          </a:custGeom>
          <a:solidFill>
            <a:srgbClr val="e0e8ef"/>
          </a:solidFill>
          <a:ln w="1152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"/>
          <p:cNvSpPr/>
          <p:nvPr/>
        </p:nvSpPr>
        <p:spPr>
          <a:xfrm>
            <a:off x="4357800" y="2286000"/>
            <a:ext cx="1071360" cy="9288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e0e8ef"/>
          </a:solidFill>
          <a:ln w="115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357920" y="928800"/>
            <a:ext cx="61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Назови второе слово в пар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"/>
          <p:cNvSpPr/>
          <p:nvPr/>
        </p:nvSpPr>
        <p:spPr>
          <a:xfrm>
            <a:off x="1158840" y="1857240"/>
            <a:ext cx="215424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им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тк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учк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Африка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оун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ес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амолет –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веты 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4572000" y="1785960"/>
            <a:ext cx="2857680" cy="219060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6572160" y="3929040"/>
            <a:ext cx="1981440" cy="20052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4000680" y="428616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882360" y="7858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количество предмет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3017880" cy="208584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2"/>
          <a:stretch/>
        </p:blipFill>
        <p:spPr>
          <a:xfrm>
            <a:off x="357120" y="3790800"/>
            <a:ext cx="3786120" cy="25005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5286240" y="1428840"/>
            <a:ext cx="2482920" cy="31748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4"/>
          <a:stretch/>
        </p:blipFill>
        <p:spPr>
          <a:xfrm>
            <a:off x="5286240" y="4071960"/>
            <a:ext cx="2857680" cy="22129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97520" y="4287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571680" y="1714680"/>
            <a:ext cx="5500440" cy="2786040"/>
          </a:xfrm>
          <a:prstGeom prst="pie">
            <a:avLst/>
          </a:prstGeom>
          <a:solidFill>
            <a:srgbClr val="e0e8ef"/>
          </a:solidFill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шка, ножницы, карандаш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елка, книга, солнце, ветер, улит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"/>
          <p:cNvSpPr/>
          <p:nvPr/>
        </p:nvSpPr>
        <p:spPr>
          <a:xfrm>
            <a:off x="680040" y="500040"/>
            <a:ext cx="4362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 слова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и повтор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"/>
          <p:cNvSpPr/>
          <p:nvPr/>
        </p:nvSpPr>
        <p:spPr>
          <a:xfrm>
            <a:off x="3071880" y="3429000"/>
            <a:ext cx="5572080" cy="2857680"/>
          </a:xfrm>
          <a:prstGeom prst="pie">
            <a:avLst/>
          </a:prstGeom>
          <a:solidFill>
            <a:srgbClr val="e0e8ef"/>
          </a:solidFill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кно, корабль, телефон, дождь, газета, машина, яблоко, куриц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"/>
          <p:cNvSpPr/>
          <p:nvPr/>
        </p:nvSpPr>
        <p:spPr>
          <a:xfrm>
            <a:off x="7927200" y="5000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08200" y="785880"/>
            <a:ext cx="77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 и повтори предлож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"/>
          <p:cNvSpPr/>
          <p:nvPr/>
        </p:nvSpPr>
        <p:spPr>
          <a:xfrm>
            <a:off x="751320" y="1571760"/>
            <a:ext cx="76478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таша рассказала сказку сестре про лису и ко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зимний морозный день появляются снежные узо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столе стоят красивый кувшин, чашка и блюдц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абушка испекла вкусные лепешки, калачи и пря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лужайке пасется овца с маленьким ягненк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7000920" y="4143240"/>
            <a:ext cx="1535040" cy="22161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357120" y="47149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643040" y="4643280"/>
            <a:ext cx="3029040" cy="15145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4929120" y="4429080"/>
            <a:ext cx="1452600" cy="193680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97520" y="4287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71960" y="571680"/>
            <a:ext cx="4448160" cy="575280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184400" y="1428840"/>
            <a:ext cx="25916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ассмотр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и запомн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ртинк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"/>
          <p:cNvSpPr/>
          <p:nvPr/>
        </p:nvSpPr>
        <p:spPr>
          <a:xfrm>
            <a:off x="497520" y="5000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286160" y="428760"/>
            <a:ext cx="4448160" cy="575280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629640" y="1571760"/>
            <a:ext cx="3434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мотри, что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изменилось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256040" y="1143000"/>
            <a:ext cx="25916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ассмотри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и запомн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ртин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572160" y="785880"/>
            <a:ext cx="1666800" cy="15001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714680" cy="1575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3"/>
          <a:stretch/>
        </p:blipFill>
        <p:spPr>
          <a:xfrm>
            <a:off x="6715080" y="2714760"/>
            <a:ext cx="1435320" cy="1660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4"/>
          <a:stretch/>
        </p:blipFill>
        <p:spPr>
          <a:xfrm>
            <a:off x="4214880" y="4643280"/>
            <a:ext cx="1547640" cy="16495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5"/>
          <a:stretch/>
        </p:blipFill>
        <p:spPr>
          <a:xfrm>
            <a:off x="4286160" y="2714760"/>
            <a:ext cx="1357560" cy="192384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6"/>
          <a:stretch/>
        </p:blipFill>
        <p:spPr>
          <a:xfrm>
            <a:off x="4286160" y="785880"/>
            <a:ext cx="1928880" cy="17589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783360" y="64296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571680" y="52149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предметы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857920" y="3500280"/>
            <a:ext cx="1469880" cy="1428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1285920" y="1000080"/>
            <a:ext cx="1357200" cy="144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286240" y="2428920"/>
            <a:ext cx="1143000" cy="1152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429240" y="121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2643120" y="2571840"/>
            <a:ext cx="1209600" cy="1104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3857760" y="3714840"/>
            <a:ext cx="1447560" cy="1220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1571760" y="3559320"/>
            <a:ext cx="1158840" cy="12636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>
            <a:off x="3714840" y="857160"/>
            <a:ext cx="1904760" cy="1575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40752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705960" y="500040"/>
            <a:ext cx="316008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Как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редметы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были н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редыдущем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слайде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4643280" y="4786200"/>
            <a:ext cx="1714680" cy="156384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4643280" y="2928960"/>
            <a:ext cx="1667160" cy="15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6715080" y="2714760"/>
            <a:ext cx="1435320" cy="16603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4"/>
          <a:stretch/>
        </p:blipFill>
        <p:spPr>
          <a:xfrm>
            <a:off x="2786040" y="2786040"/>
            <a:ext cx="1548000" cy="16495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5"/>
          <a:stretch/>
        </p:blipFill>
        <p:spPr>
          <a:xfrm>
            <a:off x="6858000" y="4714920"/>
            <a:ext cx="1714680" cy="15746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6"/>
          <a:stretch/>
        </p:blipFill>
        <p:spPr>
          <a:xfrm>
            <a:off x="6572160" y="785880"/>
            <a:ext cx="1981440" cy="17762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7"/>
          <a:stretch/>
        </p:blipFill>
        <p:spPr>
          <a:xfrm>
            <a:off x="4429080" y="857160"/>
            <a:ext cx="193824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8"/>
          <a:stretch/>
        </p:blipFill>
        <p:spPr>
          <a:xfrm>
            <a:off x="2714760" y="4786200"/>
            <a:ext cx="1643040" cy="15843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9"/>
          <a:stretch/>
        </p:blipFill>
        <p:spPr>
          <a:xfrm>
            <a:off x="357120" y="4857840"/>
            <a:ext cx="1071720" cy="139680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0"/>
          <a:stretch/>
        </p:blipFill>
        <p:spPr>
          <a:xfrm>
            <a:off x="857160" y="3143160"/>
            <a:ext cx="135756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937680" y="2786040"/>
            <a:ext cx="47862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Ты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Georgia"/>
              </a:rPr>
              <a:t>молодец !!!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3714840" y="4643280"/>
            <a:ext cx="5091120" cy="120996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501660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571760" y="357120"/>
            <a:ext cx="557208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дсчитаем баллы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(только для взрослых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"/>
          <p:cNvSpPr/>
          <p:nvPr/>
        </p:nvSpPr>
        <p:spPr>
          <a:xfrm>
            <a:off x="214200" y="1285920"/>
            <a:ext cx="87948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2 – 15 баллов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сокий уровень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отлично стравился. Вы можете предлагать ему более сложные задания, что бы его развитие не стояло на мест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9 – 12 баллов – уровень выше среднего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справился с заданиями хорошо, но его потенциал не развит, можно предлагать ему подобные или немного более сложные зад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 – 9 баллов – средний уровень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полнение заданий соответствует возрастным нормам, но это не повод, чтобы останавливаться на достигнутом. Предлагайте ему подобные задания и добивайтесь лучшего выполн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 – 6 – уровень ниже среднего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справился с заданиями недостаточно хорошо, заниматься с ним нужно немного больше, чем обычно. Предлагайте ребенку задания сначала более просты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0 – 3 балла – низкий уровень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ебенок не справился с большинством заданий. Наберитесь терпения, вам предстоит потратить много времени и сил на занятия с ребенком. Обязательно обратитесь к специалист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57120" y="47149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узор на фигура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"/>
          <p:cNvSpPr/>
          <p:nvPr/>
        </p:nvSpPr>
        <p:spPr>
          <a:xfrm>
            <a:off x="1857240" y="1285920"/>
            <a:ext cx="180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"/>
          <p:cNvSpPr/>
          <p:nvPr/>
        </p:nvSpPr>
        <p:spPr>
          <a:xfrm>
            <a:off x="5143680" y="128592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"/>
          <p:cNvSpPr/>
          <p:nvPr/>
        </p:nvSpPr>
        <p:spPr>
          <a:xfrm>
            <a:off x="3571920" y="1357200"/>
            <a:ext cx="1440" cy="314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"/>
          <p:cNvSpPr/>
          <p:nvPr/>
        </p:nvSpPr>
        <p:spPr>
          <a:xfrm>
            <a:off x="1500120" y="2786040"/>
            <a:ext cx="5357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"/>
          <p:cNvSpPr/>
          <p:nvPr/>
        </p:nvSpPr>
        <p:spPr>
          <a:xfrm>
            <a:off x="2214720" y="1500120"/>
            <a:ext cx="857160" cy="9288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/>
          <p:nvPr/>
        </p:nvSpPr>
        <p:spPr>
          <a:xfrm>
            <a:off x="3929040" y="1500120"/>
            <a:ext cx="1000080" cy="928800"/>
          </a:xfrm>
          <a:custGeom>
            <a:avLst/>
            <a:gdLst/>
            <a:ahLst/>
            <a:rect l="l" t="t" r="r" b="b"/>
            <a:pathLst>
              <a:path w="1000132" h="928694">
                <a:moveTo>
                  <a:pt x="500066" y="232174"/>
                </a:moveTo>
                <a:cubicBezTo>
                  <a:pt x="708427" y="-309565"/>
                  <a:pt x="1521034" y="232174"/>
                  <a:pt x="500066" y="928694"/>
                </a:cubicBezTo>
                <a:cubicBezTo>
                  <a:pt x="-520902" y="232174"/>
                  <a:pt x="291705" y="-309565"/>
                  <a:pt x="500066" y="23217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/>
          <p:nvPr/>
        </p:nvSpPr>
        <p:spPr>
          <a:xfrm>
            <a:off x="5500800" y="1357200"/>
            <a:ext cx="714240" cy="9288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/>
          <p:nvPr/>
        </p:nvSpPr>
        <p:spPr>
          <a:xfrm>
            <a:off x="5429160" y="3214800"/>
            <a:ext cx="785880" cy="928440"/>
          </a:xfrm>
          <a:prstGeom prst="plus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"/>
          <p:cNvSpPr/>
          <p:nvPr/>
        </p:nvSpPr>
        <p:spPr>
          <a:xfrm>
            <a:off x="6643800" y="135720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"/>
          <p:cNvSpPr/>
          <p:nvPr/>
        </p:nvSpPr>
        <p:spPr>
          <a:xfrm>
            <a:off x="2143080" y="3214800"/>
            <a:ext cx="1000080" cy="9284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/>
          <p:nvPr/>
        </p:nvSpPr>
        <p:spPr>
          <a:xfrm>
            <a:off x="4071960" y="3214800"/>
            <a:ext cx="571320" cy="928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1520">
            <a:solidFill>
              <a:srgbClr val="5c93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357120" y="47149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узор на фигура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/>
          <p:nvPr/>
        </p:nvSpPr>
        <p:spPr>
          <a:xfrm>
            <a:off x="1857240" y="1285920"/>
            <a:ext cx="180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"/>
          <p:cNvSpPr/>
          <p:nvPr/>
        </p:nvSpPr>
        <p:spPr>
          <a:xfrm>
            <a:off x="5143680" y="128592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"/>
          <p:cNvSpPr/>
          <p:nvPr/>
        </p:nvSpPr>
        <p:spPr>
          <a:xfrm>
            <a:off x="3571920" y="1357200"/>
            <a:ext cx="1440" cy="314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"/>
          <p:cNvSpPr/>
          <p:nvPr/>
        </p:nvSpPr>
        <p:spPr>
          <a:xfrm>
            <a:off x="1500120" y="2786040"/>
            <a:ext cx="53578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/>
          <p:nvPr/>
        </p:nvSpPr>
        <p:spPr>
          <a:xfrm>
            <a:off x="2214720" y="1500120"/>
            <a:ext cx="857160" cy="9288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"/>
          <p:cNvSpPr/>
          <p:nvPr/>
        </p:nvSpPr>
        <p:spPr>
          <a:xfrm>
            <a:off x="3929040" y="1500120"/>
            <a:ext cx="1000080" cy="928800"/>
          </a:xfrm>
          <a:custGeom>
            <a:avLst/>
            <a:gdLst/>
            <a:ahLst/>
            <a:rect l="l" t="t" r="r" b="b"/>
            <a:pathLst>
              <a:path w="1000132" h="928694">
                <a:moveTo>
                  <a:pt x="500066" y="232174"/>
                </a:moveTo>
                <a:cubicBezTo>
                  <a:pt x="708427" y="-309565"/>
                  <a:pt x="1521034" y="232174"/>
                  <a:pt x="500066" y="928694"/>
                </a:cubicBezTo>
                <a:cubicBezTo>
                  <a:pt x="-520902" y="232174"/>
                  <a:pt x="291705" y="-309565"/>
                  <a:pt x="500066" y="23217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"/>
          <p:cNvSpPr/>
          <p:nvPr/>
        </p:nvSpPr>
        <p:spPr>
          <a:xfrm>
            <a:off x="5500800" y="1357200"/>
            <a:ext cx="714240" cy="928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"/>
          <p:cNvSpPr/>
          <p:nvPr/>
        </p:nvSpPr>
        <p:spPr>
          <a:xfrm>
            <a:off x="5429160" y="3214800"/>
            <a:ext cx="785880" cy="928440"/>
          </a:xfrm>
          <a:prstGeom prst="plus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"/>
          <p:cNvSpPr/>
          <p:nvPr/>
        </p:nvSpPr>
        <p:spPr>
          <a:xfrm>
            <a:off x="6643800" y="1357200"/>
            <a:ext cx="1440" cy="32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"/>
          <p:cNvSpPr/>
          <p:nvPr/>
        </p:nvSpPr>
        <p:spPr>
          <a:xfrm>
            <a:off x="2143080" y="3214800"/>
            <a:ext cx="1000080" cy="92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"/>
          <p:cNvSpPr/>
          <p:nvPr/>
        </p:nvSpPr>
        <p:spPr>
          <a:xfrm>
            <a:off x="4071960" y="3214800"/>
            <a:ext cx="571320" cy="92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, как расположены фигуры в таблиц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"/>
          <p:cNvSpPr/>
          <p:nvPr/>
        </p:nvSpPr>
        <p:spPr>
          <a:xfrm>
            <a:off x="2571840" y="2214720"/>
            <a:ext cx="1440" cy="36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"/>
          <p:cNvSpPr/>
          <p:nvPr/>
        </p:nvSpPr>
        <p:spPr>
          <a:xfrm>
            <a:off x="5929200" y="2500200"/>
            <a:ext cx="180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"/>
          <p:cNvSpPr/>
          <p:nvPr/>
        </p:nvSpPr>
        <p:spPr>
          <a:xfrm>
            <a:off x="4214880" y="2500200"/>
            <a:ext cx="1440" cy="335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/>
          <p:nvPr/>
        </p:nvSpPr>
        <p:spPr>
          <a:xfrm>
            <a:off x="1214280" y="3857760"/>
            <a:ext cx="6072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1428840" cy="14400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071720" y="4000680"/>
            <a:ext cx="1350720" cy="18493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357800" y="2286000"/>
            <a:ext cx="1357200" cy="145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6000840" y="4000680"/>
            <a:ext cx="1285920" cy="17017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571680" y="428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Размести картинки по местам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"/>
          <p:cNvSpPr/>
          <p:nvPr/>
        </p:nvSpPr>
        <p:spPr>
          <a:xfrm>
            <a:off x="2571840" y="1500120"/>
            <a:ext cx="1440" cy="271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"/>
          <p:cNvSpPr/>
          <p:nvPr/>
        </p:nvSpPr>
        <p:spPr>
          <a:xfrm>
            <a:off x="1285920" y="2786040"/>
            <a:ext cx="58579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71720" y="4643280"/>
            <a:ext cx="1428480" cy="1440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3071880" y="4643280"/>
            <a:ext cx="1143000" cy="15652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357200" cy="1452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4786200" y="4643280"/>
            <a:ext cx="1216080" cy="1609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4214880" y="1571760"/>
            <a:ext cx="1440" cy="27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"/>
          <p:cNvSpPr/>
          <p:nvPr/>
        </p:nvSpPr>
        <p:spPr>
          <a:xfrm>
            <a:off x="5857920" y="1571760"/>
            <a:ext cx="1440" cy="27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714240" y="14292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Georgia"/>
              </a:rPr>
              <a:t>Каких картинок не хватает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"/>
          <p:cNvSpPr/>
          <p:nvPr/>
        </p:nvSpPr>
        <p:spPr>
          <a:xfrm>
            <a:off x="4214880" y="785880"/>
            <a:ext cx="1440" cy="507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2286000"/>
            <a:ext cx="7215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"/>
          <p:cNvSpPr/>
          <p:nvPr/>
        </p:nvSpPr>
        <p:spPr>
          <a:xfrm>
            <a:off x="500040" y="4286160"/>
            <a:ext cx="7572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4643280" y="2428920"/>
            <a:ext cx="1214640" cy="17701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4357800" y="4357800"/>
            <a:ext cx="1643040" cy="16002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4429080" y="785880"/>
            <a:ext cx="1643040" cy="14335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857160" y="250020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5"/>
          <a:stretch/>
        </p:blipFill>
        <p:spPr>
          <a:xfrm>
            <a:off x="928800" y="714240"/>
            <a:ext cx="1427040" cy="1214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6"/>
          <a:stretch/>
        </p:blipFill>
        <p:spPr>
          <a:xfrm>
            <a:off x="571680" y="4357800"/>
            <a:ext cx="148428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00040" y="10000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Послушай, запомни, повтор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4857840" y="2143080"/>
            <a:ext cx="2460600" cy="376704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928800" y="2071800"/>
            <a:ext cx="410976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йчика – трусишк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полю бежа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 огород забежа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рковку наше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пустку нашел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идит, грыз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ди прочь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озяин идет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"/>
          <p:cNvSpPr/>
          <p:nvPr/>
        </p:nvSpPr>
        <p:spPr>
          <a:xfrm>
            <a:off x="47916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1643040" y="2143080"/>
          <a:ext cx="1501560" cy="1287000"/>
        </p:xfrm>
        <a:graphic>
          <a:graphicData uri="http://schemas.openxmlformats.org/drawingml/2006/table">
            <a:tbl>
              <a:tblPr/>
              <a:tblGrid>
                <a:gridCol w="500400"/>
                <a:gridCol w="50076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3714840" y="2143080"/>
          <a:ext cx="1501200" cy="1287000"/>
        </p:xfrm>
        <a:graphic>
          <a:graphicData uri="http://schemas.openxmlformats.org/drawingml/2006/table">
            <a:tbl>
              <a:tblPr/>
              <a:tblGrid>
                <a:gridCol w="500400"/>
                <a:gridCol w="50040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9" name=""/>
          <p:cNvGraphicFramePr/>
          <p:nvPr/>
        </p:nvGraphicFramePr>
        <p:xfrm>
          <a:off x="6000840" y="2143080"/>
          <a:ext cx="1358280" cy="1287000"/>
        </p:xfrm>
        <a:graphic>
          <a:graphicData uri="http://schemas.openxmlformats.org/drawingml/2006/table">
            <a:tbl>
              <a:tblPr/>
              <a:tblGrid>
                <a:gridCol w="452880"/>
                <a:gridCol w="452520"/>
                <a:gridCol w="452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90" name=""/>
          <p:cNvSpPr/>
          <p:nvPr/>
        </p:nvSpPr>
        <p:spPr>
          <a:xfrm>
            <a:off x="1450440" y="571680"/>
            <a:ext cx="5590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помни расположе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Georgia"/>
              </a:rPr>
              <a:t>закрашенных квадрат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43040" y="4143240"/>
          <a:ext cx="1501560" cy="1288800"/>
        </p:xfrm>
        <a:graphic>
          <a:graphicData uri="http://schemas.openxmlformats.org/drawingml/2006/table">
            <a:tbl>
              <a:tblPr/>
              <a:tblGrid>
                <a:gridCol w="500400"/>
                <a:gridCol w="50076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2" name=""/>
          <p:cNvGraphicFramePr/>
          <p:nvPr/>
        </p:nvGraphicFramePr>
        <p:xfrm>
          <a:off x="3714840" y="4143240"/>
          <a:ext cx="1501200" cy="1288800"/>
        </p:xfrm>
        <a:graphic>
          <a:graphicData uri="http://schemas.openxmlformats.org/drawingml/2006/table">
            <a:tbl>
              <a:tblPr/>
              <a:tblGrid>
                <a:gridCol w="500400"/>
                <a:gridCol w="50040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6000840" y="4071960"/>
          <a:ext cx="1501200" cy="1287000"/>
        </p:xfrm>
        <a:graphic>
          <a:graphicData uri="http://schemas.openxmlformats.org/drawingml/2006/table">
            <a:tbl>
              <a:tblPr/>
              <a:tblGrid>
                <a:gridCol w="500400"/>
                <a:gridCol w="500400"/>
                <a:gridCol w="50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7"/>
                        </a:spcBef>
                        <a:spcAft>
                          <a:spcPts val="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3251160" y="5786280"/>
            <a:ext cx="27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рисуй так же вниз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"/>
          <p:cNvSpPr/>
          <p:nvPr/>
        </p:nvSpPr>
        <p:spPr>
          <a:xfrm>
            <a:off x="407520" y="4287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2:03:08Z</dcterms:created>
  <dc:creator>1</dc:creator>
  <dc:description/>
  <dc:language>en-US</dc:language>
  <cp:lastModifiedBy/>
  <dcterms:modified xsi:type="dcterms:W3CDTF">2023-06-29T08:07:11Z</dcterms:modified>
  <cp:revision>57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5675260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