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73FC-96F3-4DDD-A34D-AD9383D7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3BE0-D304-4803-ABB3-181B854A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8D58-3B7A-4A9E-9E2E-0C97CC34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5141-1E7A-4586-998B-00FDE2F3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6E6B-D7AE-4CA4-B211-CE7B2A38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45EA-B540-4192-B1BA-B32F95DC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6E2A-5D72-4453-B9B3-9B015D66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297B-7D31-49D8-B9A8-209F8E52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E0BC-8CF1-4C4E-A7B9-6A6BCC6E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F223-23C5-4795-A386-C0984300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047D-AFDA-4F5E-B5C4-A4F73AF1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5BF2-D6E6-4887-9F9A-A2EF0386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3C99-6B7A-4812-BE4A-F3D54E34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8BC5-90F2-400C-BAF6-ABBE8D92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084D-01F3-48CD-8669-E3CFCE5F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C11C-6E9A-4645-846E-3E05B033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748E-5F4F-4E25-BD92-4B92B35E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228E-6C54-4BB5-89F0-94115BDC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FC98-550D-44C2-B6DE-2CBA4167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98E0-CC64-427F-9A12-B8145AF4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5ABE-6AB8-4235-9041-9384B03A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09DB-4C85-4207-8980-01E45151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892D-0524-4B63-BC2F-E9009478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4258-740E-41E7-A1FE-3137BD4F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6E74-1052-4B7B-BEEA-417E6275BA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0028-59EB-4026-9607-3DC22801E8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ГОБПОУ «Елецкий колледж инновационных технологий»</a:t>
            </a:r>
            <a:br>
              <a:rPr sz="2800"/>
            </a:br>
            <a:br>
              <a:rPr sz="5400"/>
            </a:br>
            <a:r>
              <a:rPr b="1" lang="ru-RU" sz="5400" spc="-1" strike="noStrike">
                <a:solidFill>
                  <a:srgbClr val="800000"/>
                </a:solidFill>
                <a:latin typeface="Times New Roman"/>
              </a:rPr>
              <a:t>Тема:</a:t>
            </a: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800000"/>
                </a:solidFill>
                <a:latin typeface="Times New Roman"/>
              </a:rPr>
              <a:t>«Химическая завивка волос»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800000"/>
                </a:solidFill>
                <a:latin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Выполнила: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                                                       мастер п/о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                                                                    Курдюмова О.А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Правила нанесения состава на волосы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нести состав на волосы можно двумя способами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аппликатором – капельно в 2-3 прием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губкой – состав в неметаллической посуде взбивается губкой и наносится на коклюш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Правила накручивания на коклюшки</a:t>
            </a:r>
            <a:br>
              <a:rPr sz="40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Ширина отделяемой пряди должна быть немного меньше длины коклюш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олщина отделяемой пряди должна быть равна диаметру коклюш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ыделенную прядь необходимо оттягивать перпендикулярно голов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 всей пряди должно быть равномерное натяж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и накручивании волос на коклюшки необходимо концы волос обернуть специальной бумагой для предотвращения от залом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Технология выполнения химической завивки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крутить волосы согласно схем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лее по периметру головы под коклюшки подкладывается  ватный жгут для защиты от протекания состав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Волосы пропитываются химическим составом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носить состав начинаем с ВЗз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носится состав на волосы при помощи губки или аппликатор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имический состав наносится в несколько этапов. Первый раз немного смачиваем волосы, второй раз выполняем контрольное пропитывание волос составом (для равномерной пропитки волос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истечении времени выдержки состава проверяем качество завитка, для этого на разных зонах раскручиваем по 1 коклюшке, но раскручиваем не полностью, а на несколько оборотов, если образовалось четка волна смываем состав, если волна слабая на 5 минут увеличиваем время выдержк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ремя выдержки состава не должно превышать 45 мину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Технология выполнения химической завивки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Если завиток готов клиента приглашают к мойке, предварительно сняв ватный жгу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е раскручивая коклюшек теплой проточной водой смывают состав в течение 5-7 минут, без применения средств (шампуня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оклюшки тщательно промокнуть полотенцем, чтобы удалить лишнюю влаг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д коклюшки опять подложить   ватный жгут (для защиты от протекания состава) и выполнить процедуру фиксаж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олосы пропитать фиксажем. Время воздействия 5-7 минут (в зависимости от длины волос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алее коклюшки раскручиваем и еще раз на волосы наносим фиксаж на 3-5 мину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олосы тщательно вымыть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сле выполнения нейтрализации при необходимости провести процедуру лечения по восстановлению структуры волос, специальными средствами, средствами для волос после химической завив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сле завивки выполняем стрижку волос, а по желанию клиента еще и укладк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Ошибки допускаемые при выполнении химической завивки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Слабые локоны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е учтено состояние волос клиент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еправильно подобран состав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еправильно рассчитано количество состава (волосы не пропитались составом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использован просроченный состав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е соблюдены правила при накручивании на коклюшки (отделены слишком толстые пряди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выбраны коклюшки большого диаметр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лишком плотное накручивание (состав не впитался в волосы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Появилось раздражение на коже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е сделали биопробу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е учтено состояние здоровья клиент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использовано большое кол-во состав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После химической завивки волосы обламываются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превышено время выдержки состав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е соблюдена технология нанесений фиксаж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Наличие металлосодержащих красителей в волос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Смылся цвет волос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превышено время выдержки фиксаж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перед фиксацией плохо смыт состав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произошла реакция с металлом (металлосодержащие красители в волосах, использование металлических инструментов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Уход за волосами после химической завивк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оздействие химических препаратов на волосы приводит к их ослаблению, поэтому желательно провести лечебные процедуры по их восстановлени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Правила удода за волосам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сле мытья головы  волосы необходимо вытирать аккуратно, промокающими движениями (тереть волосы нельзя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олосы расчесывать расческой с редкими зубьям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сле химической завивки использовать массажную щетку не рекомендуется (она травмирует волосы и растягивает завиток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хаживать за волосами рекомендуется средствами по уходу за волосами после химической завивк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ля укладки желательно использовать средства после химической завив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Общие сведения о химической завивк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имическая завивка – это укладка волос, в результате которой волосы приобретают пышность и податливос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химической завивке волосы приобретают пышность, становятся податливы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еткие геометрические стрижки выполняются до химической завивки. При этом учитывается длина волос (после выполнения завивки волосы будут короче примерно на 2 см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аметр завитка зависит от диаметра коклюш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бор коклюшек зависит от пожелания клиента, структуры, текстуры и длины воло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имическую завивку выполняют в перчатк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носить состав можно двумя способами: капельно – аппликатором (в 2-3 приема) или пропитывая волосы губкой (предварительно вспенив состав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77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Причины которые могут помешать выполнению химической завивки.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Если волосы окрашены, то цвет волос смоется составо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и окраске волос хной и басмой завивка может не получитьс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и металлосодержащих красителях химическая завивка противопоказан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и проведении процедур по лечению и защите волос завиток может быть не равномерным, так как может присутствовать поверхностная, защитная плен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олосы в плохом состоянии -  ломкие и сухие (необходимо их сначала восстановить)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По состоянию здоровья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-  аллергия или дерматит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ыпадение волос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критические дни, гормональные изменения в организме – некачественная химическая завивка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 период беременности, кормления грудью (лактация) – завивка может не получиться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овышенное давление может привести к гипертоническому кризу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Болезнь или восстановление после болезни, наличие инфекции – завиток может не получитьс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ием сильно действующих препаратов (антибиотики, гормональные средства, препараты, в составе которых есть морфий) зававка не получитьс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Выбор препарата относительно типа волос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анный процесс индивидуален, поскольку необходимо учитывать тип волос и их состоя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ип волос и их состояние влияют на время выдержки и концентрацию выбранного состав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оставы разработаны непосредственно для каждого типа волос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Типы волос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нормальные волосы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трудно поддающиеся волосы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окрашенные, волосы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бесцвеченные частично и полность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Чем хуже качество волос, тем слабее состав, и используются специальные средства защиты (той же фирмы производителя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5182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епараты фирмы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cep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 – для нормальных воло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 – для осветленных и ослабленных воло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 – для труднозавивающихся воло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м хуже качество волос, тем слабее состав, и используются специальные средства защит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Этапы выполнения химической завивки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дготовительные рабо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ехнологический проце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аключительные рабо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дготовительные работы при химической завивке волос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дготовить рабочее место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игласить клиента в кресло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ымыть руки и продезинфицировать инструмент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ыяснить что хочет клиент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еред началом процедуры необходимо расчесать волосы и  провести тщательную диагностику состояния волос и кожи головы, при порезах и ранках процедуру выполнять нельз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пределить тип волос и подобрать состав для выполнения хими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овести тест на чувствительность (биопроба): на кожу за ухом или сгиб локтя ватным тампоном нанести препарат на 15-20 минут. При покраснении завивку не выполнят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иготовить приспособления: коклюшки, неметаллические мисочки, губки, мерный стаканчи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ыполнить  мытье головы шампунем глубокой очистк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анести на волосы Протектор – средство для выравнивания поврежденной структуры волос (крем уход для волос до и после химической завивки) (если это средство представлено производителем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крыть клиента бельем: воротничок и одноразовый пеньюа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Правила выполнения химической завивк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и необходимости волосы обрабатываются специальным и защитными средствам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Далее выбирается способ накрутки и диаметр коклюшек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пособ накрутки волос зависит от длины волос и желания клиен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Коклюшки накручивают на влажные волосы (согласно схеме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Существует два способа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непрямой способ – предназначен для волос, которые имеют длину до 20 см. волосы накручивают на коклюшки и пропитывают составом. При этом способе все волосы хорошо пропитываются, а завиток получается качественным по всей длин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ямой способ – предназначен для волос, имеющих длину более 20 см. для равномерного и качественного завитка состав необходимо нанести на длину и концы, отступая от корней на 15-20 см, выполнить накручивание на коклюшки нужного диаметра и еще раз пропитать волосы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Расход количества состава зависит от длины и густоты волос – от 50  до 120 мл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ремя выдержки состава определяется инструкцией производителя конкретного соста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Время выдержки для нормальных волос 15-20 минут, для жестких волос может увеличиваться до 30 минут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и тонких, сухих и частично обесцвеченных волосах время выдержки 10-15 минут, при сильно обесцвеченных волосах 7 – 10 мину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16T04:59:48Z</dcterms:created>
  <dc:creator>Ольга</dc:creator>
  <dc:description/>
  <dc:language>en-US</dc:language>
  <cp:lastModifiedBy>Kurdysha@outlook.com</cp:lastModifiedBy>
  <dcterms:modified xsi:type="dcterms:W3CDTF">2023-06-29T20:39:23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