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B66-8650-470A-833A-C3F8122D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6341-D3BF-4768-B0AF-D3E2C024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5E86-0280-48FA-8C9D-CCDAFAF5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7C56-BA7E-402C-8C36-C96DB578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90AD-67DA-489A-959A-BA8234D0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C339-ADAB-49A7-A8B2-55114360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E3B6-3988-4E46-AFD9-2FCDA58C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3925-C3FF-4E3C-ADEF-31E1450F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D9DA-EC6A-41DE-8BE8-872298CA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DD18-CC6E-42FB-B0C3-4BFD6AFC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FF9D-6D36-4175-AB8C-E96FBCEB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5510-75F4-4116-9B1E-7E369A0F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6F1E-95C2-4E41-98B8-44831B8F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77DF-A4AA-4DD7-9F37-B55D9C0C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B403-1453-4E3A-B3EE-6F2F84EE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657F-039A-421A-90DC-C57A8258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A90F-B3F0-4DD1-B040-79602013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D890-8CA5-418E-81D5-F35C149E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3A2-E0CD-47F4-A29E-00459B1D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D2C-538F-4884-9B88-B3142B58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0DD0-C909-4EC7-B1E4-5337D437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C83-005E-49EC-8940-50F29725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83E-D10D-4BFA-BD02-AA87AE8F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F0A-A4CF-43B6-9B5D-051129F6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77D2-9531-4FC2-B2A2-0C8C91CDE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7CDA-073B-4B04-8D64-05C9BE89B5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ГОБПОУ «Елецкий колледж инновационных технологий»</a:t>
            </a:r>
            <a:br>
              <a:rPr sz="2800"/>
            </a:br>
            <a:br>
              <a:rPr sz="5400"/>
            </a:b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Тема:</a:t>
            </a: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«Химическая завивка волос»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Выполнила: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      мастер п/о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                 Курдюмова О.А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Правила нанесения состава на волосы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нести состав на волосы можно двумя способами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аппликатором – капельно в 2-3 прием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губкой – состав в неметаллической посуде взбивается губкой и наносится на коклюш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Правила накручивания на коклюшки</a:t>
            </a:r>
            <a:br>
              <a:rPr sz="40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Ширина отделяемой пряди должна быть немного меньше длины коклюш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олщина отделяемой пряди должна быть равна диаметру коклюш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ыделенную прядь необходимо оттягивать перпендикулярно голов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 всей пряди должно быть равномерное натяж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и накручивании волос на коклюшки необходимо концы волос обернуть специальной бумагой для предотвращения от залом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Технология выполнения химической завивки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крутить волосы согласно схем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лее по периметру головы под коклюшки подкладывается  ватный жгут для защиты от протекания состав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олосы пропитываются химическим составом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носить состав начинаем с ВЗз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носится состав на волосы при помощи губки или аппликатор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имический состав наносится в несколько этапов. Первый раз немного смачиваем волосы, второй раз выполняем контрольное пропитывание волос составом (для равномерной пропитки волос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истечении времени выдержки состава проверяем качество завитка, для этого на разных зонах раскручиваем по 1 коклюшке, но раскручиваем не полностью, а на несколько оборотов, если образовалось четка волна смываем состав, если волна слабая на 5 минут увеличиваем время выдерж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ремя выдержки состава не должно превышать 45 мину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Технология выполнения химической завивки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сли завиток готов клиента приглашают к мойке, предварительно сняв ватный жгу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е раскручивая коклюшек теплой проточной водой смывают состав в течение 5-7 минут, без применения средств (шампуня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оклюшки тщательно промокнуть полотенцем, чтобы удалить лишнюю влаг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д коклюшки опять подложить   ватный жгут (для защиты от протекания состава) и выполнить процедуру фикса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олосы пропитать фиксажем. Время воздействия 5-7 минут (в зависимости от длины волос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алее коклюшки раскручиваем и еще раз на волосы наносим фиксаж на 3-5 мину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олосы тщательно вымыть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сле выполнения нейтрализации при необходимости провести процедуру лечения по восстановлению структуры волос, специальными средствами, средствами для волос после химической завив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сле завивки выполняем стрижку волос, а по желанию клиента еще и укладк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Ошибки допускаемые при выполнении химической завивки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Слабые локоны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е учтено состояние волос клиент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еправильно подобран соста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еправильно рассчитано количество состава (волосы не пропитались составом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использован просроченный соста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е соблюдены правила при накручивании на коклюшки (отделены слишком толстые пряд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ыбраны коклюшки большого диамет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лишком плотное накручивание (состав не впитался в волосы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Появилось раздражение на коже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е сделали биопробу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е учтено состояние здоровья клиент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использовано большое кол-во состав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После химической завивки волосы обламываются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ревышено время выдержки состав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е соблюдена технология нанесений фиксаж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аличие металлосодержащих красителей в волос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Смылся цвет волос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ревышено время выдержки фиксаж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еред фиксацией плохо смыт соста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роизошла реакция с металлом (металлосодержащие красители в волосах, использование металлических инструментов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Уход за волосами после химической завивк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оздействие химических препаратов на волосы приводит к их ослаблению, поэтому желательно провести лечебные процедуры по их восстановлени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Правила удода за волосам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сле мытья головы  волосы необходимо вытирать аккуратно, промокающими движениями (тереть волосы нельзя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олосы расчесывать расческой с редкими зубьям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сле химической завивки использовать массажную щетку не рекомендуется (она травмирует волосы и растягивает завиток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хаживать за волосами рекомендуется средствами по уходу за волосами после химической завивк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ля укладки желательно использовать средства после химической завив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Общие сведения о химической завивк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имическая завивка – это укладка волос, в результате которой волосы приобретают пышность и податлив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химической завивке волосы приобретают пышность, становятся податливы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ткие геометрические стрижки выполняются до химической завивки. При этом учитывается длина волос (после выполнения завивки волосы будут короче примерно на 2 см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аметр завитка зависит от диаметра коклюш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бор коклюшек зависит от пожелания клиента, структуры, текстуры и длины воло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имическую завивку выполняют в перчатк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носить состав можно двумя способами: капельно – аппликатором (в 2-3 приема) или пропитывая волосы губкой (предварительно вспенив состав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77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Причины которые могут помешать выполнению химической завивки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Если волосы окрашены, то цвет волос смоется составо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и окраске волос хной и басмой завивка может не получитьс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и металлосодержащих красителях химическая завивка противопоказан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и проведении процедур по лечению и защите волос завиток может быть не равномерным, так как может присутствовать поверхностная, защитная плен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олосы в плохом состоянии -  ломкие и сухие (необходимо их сначала восстановить)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о состоянию здоровь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  аллергия или дерматит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ыпадение волос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критические дни, гормональные изменения в организме – некачественная химическая завивка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 период беременности, кормления грудью (лактация) – завивка может не получиться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овышенное давление может привести к гипертоническому кризу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Болезнь или восстановление после болезни, наличие инфекции – завиток может не получитьс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ием сильно действующих препаратов (антибиотики, гормональные средства, препараты, в составе которых есть морфий) зававка не получитьс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Выбор препарата относительно типа волос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анный процесс индивидуален, поскольку необходимо учитывать тип волос и их состоя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ип волос и их состояние влияют на время выдержки и концентрацию выбранного состав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оставы разработаны непосредственно для каждого типа воло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ипы волос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нормальные волосы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трудно поддающиеся волосы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окрашенные, волосы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бесцвеченные частично и полность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Чем хуже качество волос, тем слабее состав, и используются специальные средства защиты (той же фирмы производителя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5182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епараты фирмы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cep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 – для нормальных воло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 – для осветленных и ослабленных воло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 – для труднозавивающихся воло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м хуже качество волос, тем слабее состав, и используются специальные средства защи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Этапы выполнения химической завивки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дготовительные рабо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ехнологический проце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ключительные рабо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дготовительные работы при химической завивке волос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дготовить рабочее место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игласить клиента в кресло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ымыть руки и продезинфицировать инструмент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ыяснить что хочет клиент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еред началом процедуры необходимо расчесать волосы и  провести тщательную диагностику состояния волос и кожи головы, при порезах и ранках процедуру выполнять нельз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пределить тип волос и подобрать состав для выполнения хим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овести тест на чувствительность (биопроба): на кожу за ухом или сгиб локтя ватным тампоном нанести препарат на 15-20 минут. При покраснении завивку не выполнят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иготовить приспособления: коклюшки, неметаллические мисочки, губки, мерный стаканчи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ыполнить  мытье головы шампунем глубокой очистк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анести на волосы Протектор – средство для выравнивания поврежденной структуры волос (крем уход для волос до и после химической завивки) (если это средство представлено производителем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крыть клиента бельем: воротничок и одноразовый пеньюа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Правила выполнения химической завивк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и необходимости волосы обрабатываются специальным и защитными средствам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Далее выбирается способ накрутки и диаметр коклюшек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пособ накрутки волос зависит от длины волос и желания клиен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Коклюшки накручивают на влажные волосы (согласно схеме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Существует два способ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непрямой способ – предназначен для волос, которые имеют длину до 20 см. волосы накручивают на коклюшки и пропитывают составом. При этом способе все волосы хорошо пропитываются, а завиток получается качественным по всей длин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ямой способ – предназначен для волос, имеющих длину более 20 см. для равномерного и качественного завитка состав необходимо нанести на длину и концы, отступая от корней на 15-20 см, выполнить накручивание на коклюшки нужного диаметра и еще раз пропитать волосы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асход количества состава зависит от длины и густоты волос – от 50  до 120 м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ремя выдержки состава определяется инструкцией производителя конкретного соста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ремя выдержки для нормальных волос 15-20 минут, для жестких волос может увеличиваться до 30 минут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и тонких, сухих и частично обесцвеченных волосах время выдержки 10-15 минут, при сильно обесцвеченных волосах 7 – 10 мину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16T04:59:48Z</dcterms:created>
  <dc:creator>Ольга</dc:creator>
  <dc:description/>
  <dc:language>en-US</dc:language>
  <cp:lastModifiedBy>Kurdysha@outlook.com</cp:lastModifiedBy>
  <dcterms:modified xsi:type="dcterms:W3CDTF">2023-06-29T20:39:23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