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164-B5F0-498B-9FF6-5069E20A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10D-1A16-4B0E-9366-7AC99FB8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09D-F734-4BD5-9AF8-80EEB9B7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712-8DA5-4CC0-B131-05A29C19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3C69-C913-4A87-AB66-30B97801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2815-28D6-4C97-9CA8-4951B9FD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E1E8-EDCB-4B46-AE7A-5FD26D85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5D35-3306-4198-B454-38E75DC4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FCFB-E78C-4326-86D6-F314BB2A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554D-E637-4884-9966-44C57F6F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1DAA-DEFF-44D7-941F-45A64EBF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C16-132B-4768-BAB4-2009DE42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B014-BC46-4EA6-A02A-C98FB8D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44CD-EA62-4B7E-AADE-37CAE2EA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F281-5C04-4AE6-A273-2A1D7279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7D5C-6DAE-49E3-9CD6-AF19C1FB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5E10-DE3C-4E65-B285-3F6642A7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528-99ED-421D-9B76-5BA69D13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3E5-06FC-4F9A-9252-3846F389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9C4-D8E2-4F80-A0F1-016B8AA7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FB6-49B2-4167-A82E-09F9D38B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9FB-0E40-4600-BFC4-107346F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6AF-3E88-4D4D-B108-435DB98F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F37-4637-45E3-BCE2-BF8A72BA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3E01-2AD4-4297-83D7-1373F840A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9037-90A5-4D46-A80B-B3E4B87DB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700360" y="620640"/>
            <a:ext cx="6265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ость, время, расстояние  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5148360" y="2637000"/>
            <a:ext cx="37152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3573360"/>
            <a:ext cx="85327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а дорожного движения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659640" y="4737240"/>
            <a:ext cx="230508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тоциклист едет со скоростью 75км/ч, а скорость велосипедиста в 6 раз меньше. На сколько километров скорость велосипедиста меньше чем у мотоциклист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Тормозной пут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1176480"/>
          <a:ext cx="8229600" cy="5681520"/>
        </p:xfrm>
        <a:graphic>
          <a:graphicData uri="http://schemas.openxmlformats.org/drawingml/2006/table">
            <a:tbl>
              <a:tblPr/>
              <a:tblGrid>
                <a:gridCol w="1800000"/>
                <a:gridCol w="1492560"/>
                <a:gridCol w="1644480"/>
                <a:gridCol w="1542960"/>
                <a:gridCol w="17496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км/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хая доро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края дорог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,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а льд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,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rcRect l="-2251" t="2901" r="0" b="0"/>
          <a:stretch/>
        </p:blipFill>
        <p:spPr>
          <a:xfrm>
            <a:off x="6129360" y="2205000"/>
            <a:ext cx="3014640" cy="465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112536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6443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уть торможения по сухому асфальту составляет 26% от скорости. На расстоянии  14 метров шофер заметил опасность и нажал на тормоз. Можно ли избежать опасности в этом случае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3357360"/>
            <a:ext cx="8064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  <a:ea typeface="Arial"/>
              </a:rPr>
              <a:t>3)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14 – 10,4 =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3,6 (м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расстояние до опасност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476280"/>
            <a:ext cx="9972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1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40 : 100 • 26 = 0, 0104 (км) путь тормож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52360" y="2276640"/>
            <a:ext cx="7416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Arial"/>
              </a:rPr>
              <a:t>2)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0,0104 км = 10,4 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корость  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76360" y="1989000"/>
            <a:ext cx="61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ремя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350028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уть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4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Хочешь найти расстояние, путь?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Скорость на время умножь, не забудь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411280" y="422100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4508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4292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4437000"/>
            <a:ext cx="2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4076640"/>
            <a:ext cx="72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 Narrow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Если же скорость захочешь найти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То расстояние на время дел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9280" y="4508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95640" y="4221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77800" y="4437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11640" y="429264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4221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4005360"/>
            <a:ext cx="100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Если же время ты должен найти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То расстояние на скорость дел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3933720"/>
            <a:ext cx="9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3440" y="422100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140360" y="4076640"/>
            <a:ext cx="457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4076640"/>
            <a:ext cx="3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000" y="407664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anlighta.gif"/>
          <p:cNvPicPr/>
          <p:nvPr/>
        </p:nvPicPr>
        <p:blipFill>
          <a:blip r:embed="rId1"/>
          <a:stretch/>
        </p:blipFill>
        <p:spPr>
          <a:xfrm>
            <a:off x="0" y="-963720"/>
            <a:ext cx="1992240" cy="4419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35280" y="0"/>
            <a:ext cx="66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Для чего нужны светофоры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0285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Ширина дороги 15 метров. Зеленый сигнал светофора горит 20 секунд. С какой скоростью должен идти пешеход с момента загорания светофора, чтобы благополучно перейти дорог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Какое главное правило при переходе улицы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8036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очему нельзя перебегать дорогу перед близко идущим транспортом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30751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8.09249E-007 L 0.19027 -0.00231 E">
                                      <p:cBhvr>
                                        <p:cTn id="6" dur="3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8:17:29Z</dcterms:created>
  <dc:creator>ADIO</dc:creator>
  <dc:description/>
  <dc:language>en-US</dc:language>
  <cp:lastModifiedBy>ADIO</cp:lastModifiedBy>
  <dcterms:modified xsi:type="dcterms:W3CDTF">2009-10-14T03:25:00Z</dcterms:modified>
  <cp:revision>6</cp:revision>
  <dc:subject/>
  <dc:title>Слайд 1</dc:title>
</cp:coreProperties>
</file>