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548-C13B-46F3-ADE7-9E9BDF31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8D9-C812-4907-94AA-D1D9ABB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128-E645-4D89-AF59-C22AE9C7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57C-F148-45E0-8AE6-B788E3F4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AE3A-F353-4286-B4A0-3B86E374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A057-BDD6-4991-9315-2BA9D650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110-558D-4F0E-B966-036ABB5E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F68-B62A-459B-8AF0-CC945898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D819-6818-49D6-9DE9-E6A2CCD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681D-F912-4B07-8D9B-E6D5B154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DECC-2008-4029-87DF-B4547B6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DA7-DACA-47FA-847A-5109C2BC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2E4D-61DD-4B3A-A5E1-0A16D446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D90-FA7D-4A85-9093-96026528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2941-3A3E-4B2F-9057-69709146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51D6-AAF9-4B93-B54D-24012724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6B2B-38E1-429F-9088-DAB9DA04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6EB-D567-4044-B7E1-64091E38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187-DFBA-4576-B24B-F3B00DA4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C36-A8DD-45E1-9800-7A641E72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6AC-9BD2-46DC-95B9-09BAF7B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B62-E179-4FA0-B9C2-F52FED7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8C5-E6F8-4050-A98C-9F48DA2A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C8E-13CC-4148-AFD0-0B820264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9E01-3641-4FDB-AE06-1408CF80D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4E23-F3CA-4B9A-A0F5-35F2E2F1F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00360" y="620640"/>
            <a:ext cx="6265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сть, время, расстояние  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5148360" y="2637000"/>
            <a:ext cx="37152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3573360"/>
            <a:ext cx="85327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дорожного движен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59640" y="4737240"/>
            <a:ext cx="23050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тоциклист едет со скоростью 75км/ч, а скорость велосипедиста в 6 раз меньше. На сколько километров скорость велосипедиста меньше чем у мотоциклис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Тормозной пу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176480"/>
          <a:ext cx="8229600" cy="5681520"/>
        </p:xfrm>
        <a:graphic>
          <a:graphicData uri="http://schemas.openxmlformats.org/drawingml/2006/table">
            <a:tbl>
              <a:tblPr/>
              <a:tblGrid>
                <a:gridCol w="1800000"/>
                <a:gridCol w="1492560"/>
                <a:gridCol w="1644480"/>
                <a:gridCol w="1542960"/>
                <a:gridCol w="17496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х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кр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а льд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-2251" t="2901" r="0" b="0"/>
          <a:stretch/>
        </p:blipFill>
        <p:spPr>
          <a:xfrm>
            <a:off x="6129360" y="2205000"/>
            <a:ext cx="3014640" cy="46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125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6443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ть торможения по сухому асфальту составляет 26% от скорости. На расстоянии  14 метров шофер заметил опасность и нажал на тормоз. Можно ли избежать опасности в этом случа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064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  <a:ea typeface="Arial"/>
              </a:rPr>
              <a:t>3)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14 – 10,4 =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3,6 (м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асстояние до опасно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476280"/>
            <a:ext cx="9972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1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40 : 100 • 26 = 0, 0104 (км) путь тормож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52360" y="2276640"/>
            <a:ext cx="741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0,0104 км = 10,4 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корость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6360" y="198900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ремя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350028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уть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Хочешь найти расстояние, путь?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Скорость на время умножь, не забудь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411280" y="422100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450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292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4437000"/>
            <a:ext cx="2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407664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скорость захочешь найти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время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4508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4221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7800" y="4437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11640" y="4292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4221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4005360"/>
            <a:ext cx="100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время ты должен найти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скорость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3933720"/>
            <a:ext cx="9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3440" y="4221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140360" y="4076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076640"/>
            <a:ext cx="3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4076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anlighta.gif"/>
          <p:cNvPicPr/>
          <p:nvPr/>
        </p:nvPicPr>
        <p:blipFill>
          <a:blip r:embed="rId1"/>
          <a:stretch/>
        </p:blipFill>
        <p:spPr>
          <a:xfrm>
            <a:off x="0" y="-963720"/>
            <a:ext cx="1992240" cy="4419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35280" y="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Для чего нужны светофор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ирина дороги 15 метров. Зеленый сигнал светофора горит 20 секунд. С какой скоростью должен идти пешеход с момента загорания светофора, чтобы благополучно перейти дорог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акое главное правило при переходе улицы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8036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нельзя перебегать дорогу перед близко идущим транспортом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3075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09249E-007 L 0.19027 -0.00231 E">
                                      <p:cBhvr>
                                        <p:cTn id="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8:17:29Z</dcterms:created>
  <dc:creator>ADIO</dc:creator>
  <dc:description/>
  <dc:language>en-US</dc:language>
  <cp:lastModifiedBy>ADIO</cp:lastModifiedBy>
  <dcterms:modified xsi:type="dcterms:W3CDTF">2009-10-14T03:25:00Z</dcterms:modified>
  <cp:revision>6</cp:revision>
  <dc:subject/>
  <dc:title>Слайд 1</dc:title>
</cp:coreProperties>
</file>