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732-C1C5-442E-9E71-71AABA66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C50-475C-4C46-A4C2-81D1C1B3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184-CA6F-449A-9F36-282A4DAC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49F-776D-4473-8092-BC31F8A9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FD3-5A6B-45DC-9571-3625C8B9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F71-6C0B-4634-BE90-FB3BBB02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34B-B858-4604-8F6C-9897A032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409-D20D-4DE8-87F4-5C4E9026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336A-0150-438B-BFE9-4D4A1548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48C-2C8C-43BA-9BD9-E6AF676E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DE7-F367-4D05-A6AC-0ACE94C4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1AC-0440-4CF3-B230-1CAE9445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Open Sans"/>
              </a:defRPr>
            </a:lvl1pPr>
          </a:lstStyle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Open Sans"/>
              </a:rPr>
              <a:t>28.06.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Open Sans"/>
              </a:defRPr>
            </a:lvl1pPr>
          </a:lstStyle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Open Sans"/>
              </a:rPr>
              <a:t>Коммерческое использование и тирожирование запрещ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Open Sans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24C88B-22A4-458A-946A-F39188830D1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8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34.png"/><Relationship Id="rId28" Type="http://schemas.openxmlformats.org/officeDocument/2006/relationships/image" Target="../media/image37.png"/><Relationship Id="rId29" Type="http://schemas.openxmlformats.org/officeDocument/2006/relationships/image" Target="../media/image29.png"/><Relationship Id="rId3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3.png"/><Relationship Id="rId20" Type="http://schemas.openxmlformats.org/officeDocument/2006/relationships/image" Target="../media/image3.png"/><Relationship Id="rId21" Type="http://schemas.openxmlformats.org/officeDocument/2006/relationships/image" Target="../media/image35.png"/><Relationship Id="rId22" Type="http://schemas.openxmlformats.org/officeDocument/2006/relationships/image" Target="../media/image35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4.png"/><Relationship Id="rId28" Type="http://schemas.openxmlformats.org/officeDocument/2006/relationships/image" Target="../media/image12.png"/><Relationship Id="rId29" Type="http://schemas.openxmlformats.org/officeDocument/2006/relationships/image" Target="../media/image14.png"/><Relationship Id="rId3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41.png"/><Relationship Id="rId17" Type="http://schemas.openxmlformats.org/officeDocument/2006/relationships/image" Target="../media/image31.png"/><Relationship Id="rId18" Type="http://schemas.openxmlformats.org/officeDocument/2006/relationships/image" Target="../media/image31.png"/><Relationship Id="rId19" Type="http://schemas.openxmlformats.org/officeDocument/2006/relationships/image" Target="../media/image13.png"/><Relationship Id="rId20" Type="http://schemas.openxmlformats.org/officeDocument/2006/relationships/image" Target="../media/image16.png"/><Relationship Id="rId21" Type="http://schemas.openxmlformats.org/officeDocument/2006/relationships/image" Target="../media/image38.png"/><Relationship Id="rId22" Type="http://schemas.openxmlformats.org/officeDocument/2006/relationships/image" Target="../media/image13.png"/><Relationship Id="rId23" Type="http://schemas.openxmlformats.org/officeDocument/2006/relationships/image" Target="../media/image38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41.png"/><Relationship Id="rId29" Type="http://schemas.openxmlformats.org/officeDocument/2006/relationships/image" Target="../media/image16.png"/><Relationship Id="rId3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29.png"/><Relationship Id="rId17" Type="http://schemas.openxmlformats.org/officeDocument/2006/relationships/image" Target="../media/image27.png"/><Relationship Id="rId18" Type="http://schemas.openxmlformats.org/officeDocument/2006/relationships/image" Target="../media/image31.png"/><Relationship Id="rId19" Type="http://schemas.openxmlformats.org/officeDocument/2006/relationships/image" Target="../media/image33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8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35.png"/><Relationship Id="rId28" Type="http://schemas.openxmlformats.org/officeDocument/2006/relationships/image" Target="../media/image38.png"/><Relationship Id="rId29" Type="http://schemas.openxmlformats.org/officeDocument/2006/relationships/image" Target="../media/image31.png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6.png"/><Relationship Id="rId22" Type="http://schemas.openxmlformats.org/officeDocument/2006/relationships/image" Target="../media/image2.png"/><Relationship Id="rId23" Type="http://schemas.openxmlformats.org/officeDocument/2006/relationships/image" Target="../media/image8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6.png"/><Relationship Id="rId21" Type="http://schemas.openxmlformats.org/officeDocument/2006/relationships/image" Target="../media/image2.png"/><Relationship Id="rId22" Type="http://schemas.openxmlformats.org/officeDocument/2006/relationships/image" Target="../media/image8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7.png"/><Relationship Id="rId29" Type="http://schemas.openxmlformats.org/officeDocument/2006/relationships/image" Target="../media/image4.png"/><Relationship Id="rId3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7.png"/><Relationship Id="rId28" Type="http://schemas.openxmlformats.org/officeDocument/2006/relationships/image" Target="../media/image6.png"/><Relationship Id="rId29" Type="http://schemas.openxmlformats.org/officeDocument/2006/relationships/image" Target="../media/image4.png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3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4.png"/><Relationship Id="rId29" Type="http://schemas.openxmlformats.org/officeDocument/2006/relationships/image" Target="../media/image18.png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5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4.png"/><Relationship Id="rId21" Type="http://schemas.openxmlformats.org/officeDocument/2006/relationships/image" Target="../media/image6.png"/><Relationship Id="rId22" Type="http://schemas.openxmlformats.org/officeDocument/2006/relationships/image" Target="../media/image9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2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4.png"/><Relationship Id="rId21" Type="http://schemas.openxmlformats.org/officeDocument/2006/relationships/image" Target="../media/image6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2.png"/><Relationship Id="rId27" Type="http://schemas.openxmlformats.org/officeDocument/2006/relationships/image" Target="../media/image5.png"/><Relationship Id="rId28" Type="http://schemas.openxmlformats.org/officeDocument/2006/relationships/image" Target="../media/image6.png"/><Relationship Id="rId29" Type="http://schemas.openxmlformats.org/officeDocument/2006/relationships/image" Target="../media/image2.png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5760" y="2133720"/>
            <a:ext cx="840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Развиваем логическое мышление и в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«Новогодние логические цепоч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80400" y="4002120"/>
            <a:ext cx="1015920" cy="165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04000" y="444600"/>
            <a:ext cx="1368360" cy="153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6610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Рабату подготовила педагог-психолог: Барсукова С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71640" y="806400"/>
            <a:ext cx="707760" cy="115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00360" y="3936960"/>
            <a:ext cx="114768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720" cy="10954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140360" y="620640"/>
            <a:ext cx="718920" cy="1095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692360" y="620640"/>
            <a:ext cx="823680" cy="11304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5219640" y="549360"/>
            <a:ext cx="824040" cy="11300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2916360" y="549360"/>
            <a:ext cx="857160" cy="11811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539640" y="2060640"/>
            <a:ext cx="885960" cy="12762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7"/>
          <a:stretch/>
        </p:blipFill>
        <p:spPr>
          <a:xfrm>
            <a:off x="8101080" y="5084640"/>
            <a:ext cx="885600" cy="12765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8"/>
          <a:stretch/>
        </p:blipFill>
        <p:spPr>
          <a:xfrm>
            <a:off x="1763640" y="2133720"/>
            <a:ext cx="762120" cy="1057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9"/>
          <a:stretch/>
        </p:blipFill>
        <p:spPr>
          <a:xfrm>
            <a:off x="5292720" y="2133720"/>
            <a:ext cx="762120" cy="10573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0"/>
          <a:stretch/>
        </p:blipFill>
        <p:spPr>
          <a:xfrm>
            <a:off x="2916360" y="2060640"/>
            <a:ext cx="809640" cy="10954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1"/>
          <a:stretch/>
        </p:blipFill>
        <p:spPr>
          <a:xfrm>
            <a:off x="6443640" y="2060640"/>
            <a:ext cx="809640" cy="10954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2"/>
          <a:stretch/>
        </p:blipFill>
        <p:spPr>
          <a:xfrm>
            <a:off x="539640" y="3500280"/>
            <a:ext cx="863640" cy="1067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3"/>
          <a:stretch/>
        </p:blipFill>
        <p:spPr>
          <a:xfrm>
            <a:off x="7956720" y="189000"/>
            <a:ext cx="863280" cy="10666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4"/>
          <a:stretch/>
        </p:blipFill>
        <p:spPr>
          <a:xfrm>
            <a:off x="4067280" y="3573360"/>
            <a:ext cx="865080" cy="10670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5"/>
          <a:stretch/>
        </p:blipFill>
        <p:spPr>
          <a:xfrm>
            <a:off x="5292720" y="3645000"/>
            <a:ext cx="762120" cy="10285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6"/>
          <a:stretch/>
        </p:blipFill>
        <p:spPr>
          <a:xfrm>
            <a:off x="2843280" y="3573360"/>
            <a:ext cx="933480" cy="1067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7"/>
          <a:stretch/>
        </p:blipFill>
        <p:spPr>
          <a:xfrm>
            <a:off x="6372360" y="3573360"/>
            <a:ext cx="933480" cy="10670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8"/>
          <a:stretch/>
        </p:blipFill>
        <p:spPr>
          <a:xfrm>
            <a:off x="611280" y="4941720"/>
            <a:ext cx="792000" cy="12668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9"/>
          <a:stretch/>
        </p:blipFill>
        <p:spPr>
          <a:xfrm>
            <a:off x="4067280" y="4941720"/>
            <a:ext cx="792000" cy="12668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0"/>
          <a:stretch/>
        </p:blipFill>
        <p:spPr>
          <a:xfrm>
            <a:off x="1908000" y="4941720"/>
            <a:ext cx="495360" cy="11066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1"/>
          <a:stretch/>
        </p:blipFill>
        <p:spPr>
          <a:xfrm>
            <a:off x="2987640" y="4941720"/>
            <a:ext cx="639720" cy="11923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2"/>
          <a:stretch/>
        </p:blipFill>
        <p:spPr>
          <a:xfrm>
            <a:off x="6516720" y="4941720"/>
            <a:ext cx="638280" cy="11923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3"/>
          <a:stretch/>
        </p:blipFill>
        <p:spPr>
          <a:xfrm>
            <a:off x="5292720" y="5013360"/>
            <a:ext cx="574560" cy="10047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4"/>
          <a:stretch/>
        </p:blipFill>
        <p:spPr>
          <a:xfrm>
            <a:off x="1835280" y="3573360"/>
            <a:ext cx="576000" cy="10033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5"/>
          <a:stretch/>
        </p:blipFill>
        <p:spPr>
          <a:xfrm>
            <a:off x="4140360" y="2060640"/>
            <a:ext cx="576000" cy="10047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6"/>
          <a:stretch/>
        </p:blipFill>
        <p:spPr>
          <a:xfrm>
            <a:off x="6443640" y="69228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7"/>
          <a:stretch/>
        </p:blipFill>
        <p:spPr>
          <a:xfrm>
            <a:off x="8028000" y="2708280"/>
            <a:ext cx="762120" cy="10285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8"/>
          <a:stretch/>
        </p:blipFill>
        <p:spPr>
          <a:xfrm>
            <a:off x="8244000" y="3860640"/>
            <a:ext cx="496800" cy="1108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524720" y="404640"/>
            <a:ext cx="14292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9"/>
          <a:stretch/>
        </p:blipFill>
        <p:spPr>
          <a:xfrm>
            <a:off x="8028000" y="1413000"/>
            <a:ext cx="857160" cy="118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1.85185E-006 L -0.16528 -0.14699 E">
                                      <p:cBhvr>
                                        <p:cTn id="282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22222E-006 L -0.44097 -0.45139 E">
                                      <p:cBhvr>
                                        <p:cTn id="290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01181 L -0.67153 0.12477 E">
                                      <p:cBhvr>
                                        <p:cTn id="298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1 -0.02824 L -0.30261 0.16088 E">
                                      <p:cBhvr>
                                        <p:cTn id="306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619200" cy="1008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1692360" y="620640"/>
            <a:ext cx="869760" cy="1058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916360" y="620640"/>
            <a:ext cx="784080" cy="10494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4211640" y="620640"/>
            <a:ext cx="619200" cy="1008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2771640" y="1989000"/>
            <a:ext cx="792360" cy="10083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>
            <a:off x="5219640" y="620640"/>
            <a:ext cx="870120" cy="10587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7"/>
          <a:stretch/>
        </p:blipFill>
        <p:spPr>
          <a:xfrm>
            <a:off x="8028000" y="189000"/>
            <a:ext cx="784080" cy="10494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468360" y="2060640"/>
            <a:ext cx="782640" cy="10494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547640" y="5084640"/>
            <a:ext cx="816120" cy="9734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0"/>
          <a:stretch/>
        </p:blipFill>
        <p:spPr>
          <a:xfrm>
            <a:off x="5219640" y="2060640"/>
            <a:ext cx="816120" cy="9730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1"/>
          <a:stretch/>
        </p:blipFill>
        <p:spPr>
          <a:xfrm>
            <a:off x="395280" y="3500280"/>
            <a:ext cx="758880" cy="11289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2"/>
          <a:stretch/>
        </p:blipFill>
        <p:spPr>
          <a:xfrm>
            <a:off x="8028000" y="2492280"/>
            <a:ext cx="758880" cy="11289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13"/>
          <a:stretch/>
        </p:blipFill>
        <p:spPr>
          <a:xfrm>
            <a:off x="1547640" y="3573360"/>
            <a:ext cx="825840" cy="10033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14"/>
          <a:stretch/>
        </p:blipFill>
        <p:spPr>
          <a:xfrm>
            <a:off x="5148360" y="3500280"/>
            <a:ext cx="825480" cy="10051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5"/>
          <a:stretch/>
        </p:blipFill>
        <p:spPr>
          <a:xfrm>
            <a:off x="468360" y="4941720"/>
            <a:ext cx="542880" cy="11638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6"/>
          <a:stretch/>
        </p:blipFill>
        <p:spPr>
          <a:xfrm>
            <a:off x="4284720" y="4941720"/>
            <a:ext cx="542880" cy="11638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7"/>
          <a:stretch/>
        </p:blipFill>
        <p:spPr>
          <a:xfrm>
            <a:off x="6516720" y="3500280"/>
            <a:ext cx="792000" cy="11271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8"/>
          <a:stretch/>
        </p:blipFill>
        <p:spPr>
          <a:xfrm>
            <a:off x="2843280" y="3429000"/>
            <a:ext cx="792000" cy="1125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9"/>
          <a:stretch/>
        </p:blipFill>
        <p:spPr>
          <a:xfrm>
            <a:off x="3995640" y="1989000"/>
            <a:ext cx="784440" cy="10494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0"/>
          <a:stretch/>
        </p:blipFill>
        <p:spPr>
          <a:xfrm>
            <a:off x="6443640" y="206064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1"/>
          <a:stretch/>
        </p:blipFill>
        <p:spPr>
          <a:xfrm>
            <a:off x="2771640" y="4941720"/>
            <a:ext cx="933480" cy="10670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2"/>
          <a:stretch/>
        </p:blipFill>
        <p:spPr>
          <a:xfrm>
            <a:off x="6372360" y="5013360"/>
            <a:ext cx="933480" cy="10666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3"/>
          <a:stretch/>
        </p:blipFill>
        <p:spPr>
          <a:xfrm>
            <a:off x="6443640" y="620640"/>
            <a:ext cx="576360" cy="10051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4"/>
          <a:stretch/>
        </p:blipFill>
        <p:spPr>
          <a:xfrm>
            <a:off x="5364000" y="501336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5"/>
          <a:stretch/>
        </p:blipFill>
        <p:spPr>
          <a:xfrm>
            <a:off x="4211640" y="3500280"/>
            <a:ext cx="576360" cy="10051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6"/>
          <a:stretch/>
        </p:blipFill>
        <p:spPr>
          <a:xfrm>
            <a:off x="1692360" y="2060640"/>
            <a:ext cx="576000" cy="10047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7"/>
          <a:stretch/>
        </p:blipFill>
        <p:spPr>
          <a:xfrm>
            <a:off x="7956720" y="1341360"/>
            <a:ext cx="815760" cy="971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8"/>
          <a:stretch/>
        </p:blipFill>
        <p:spPr>
          <a:xfrm>
            <a:off x="8028000" y="5084640"/>
            <a:ext cx="869760" cy="1060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451640" y="404640"/>
            <a:ext cx="14472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9"/>
          <a:stretch/>
        </p:blipFill>
        <p:spPr>
          <a:xfrm>
            <a:off x="7885080" y="3933720"/>
            <a:ext cx="81612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02847 L -0.16875 0.05995 E">
                                      <p:cBhvr>
                                        <p:cTn id="316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6296E-006 L -0.67726 0.10509 E">
                                      <p:cBhvr>
                                        <p:cTn id="324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6 -0.01921 L -0.43524 0.1382 E">
                                      <p:cBhvr>
                                        <p:cTn id="332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-0.27552 0.17847 E">
                                      <p:cBhvr>
                                        <p:cTn id="340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495360" cy="11062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5508720" y="549360"/>
            <a:ext cx="495360" cy="1106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059280" y="1989000"/>
            <a:ext cx="649080" cy="12225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443640" y="1989000"/>
            <a:ext cx="649440" cy="12225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1835280" y="4941720"/>
            <a:ext cx="653760" cy="12081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5364000" y="4941720"/>
            <a:ext cx="654120" cy="12081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140360" y="549360"/>
            <a:ext cx="677880" cy="11509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611280" y="549360"/>
            <a:ext cx="677880" cy="11509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8101080" y="5013360"/>
            <a:ext cx="677880" cy="1152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539640" y="2060640"/>
            <a:ext cx="865440" cy="11221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1"/>
          <a:stretch/>
        </p:blipFill>
        <p:spPr>
          <a:xfrm>
            <a:off x="8028000" y="2708280"/>
            <a:ext cx="865080" cy="11224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2"/>
          <a:stretch/>
        </p:blipFill>
        <p:spPr>
          <a:xfrm>
            <a:off x="2916360" y="4941720"/>
            <a:ext cx="718920" cy="1089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3"/>
          <a:stretch/>
        </p:blipFill>
        <p:spPr>
          <a:xfrm>
            <a:off x="6516720" y="4941720"/>
            <a:ext cx="719280" cy="1089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4"/>
          <a:stretch/>
        </p:blipFill>
        <p:spPr>
          <a:xfrm>
            <a:off x="4211640" y="4941720"/>
            <a:ext cx="663480" cy="11988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5"/>
          <a:stretch/>
        </p:blipFill>
        <p:spPr>
          <a:xfrm>
            <a:off x="8028000" y="3860640"/>
            <a:ext cx="663480" cy="11988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6"/>
          <a:stretch/>
        </p:blipFill>
        <p:spPr>
          <a:xfrm>
            <a:off x="2916360" y="549360"/>
            <a:ext cx="733320" cy="11365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7"/>
          <a:stretch/>
        </p:blipFill>
        <p:spPr>
          <a:xfrm>
            <a:off x="1763640" y="2133720"/>
            <a:ext cx="762120" cy="10573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8"/>
          <a:stretch/>
        </p:blipFill>
        <p:spPr>
          <a:xfrm>
            <a:off x="5292720" y="2060640"/>
            <a:ext cx="762120" cy="10573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9"/>
          <a:stretch/>
        </p:blipFill>
        <p:spPr>
          <a:xfrm>
            <a:off x="468360" y="3573360"/>
            <a:ext cx="782640" cy="10479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0"/>
          <a:stretch/>
        </p:blipFill>
        <p:spPr>
          <a:xfrm>
            <a:off x="1692360" y="3500280"/>
            <a:ext cx="823680" cy="10051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1"/>
          <a:stretch/>
        </p:blipFill>
        <p:spPr>
          <a:xfrm>
            <a:off x="2987640" y="3500280"/>
            <a:ext cx="639720" cy="11941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2"/>
          <a:stretch/>
        </p:blipFill>
        <p:spPr>
          <a:xfrm>
            <a:off x="4067280" y="3573360"/>
            <a:ext cx="784080" cy="10479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3"/>
          <a:stretch/>
        </p:blipFill>
        <p:spPr>
          <a:xfrm>
            <a:off x="6516720" y="3429000"/>
            <a:ext cx="638280" cy="11923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4"/>
          <a:stretch/>
        </p:blipFill>
        <p:spPr>
          <a:xfrm>
            <a:off x="684360" y="5013360"/>
            <a:ext cx="574560" cy="1004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5"/>
          <a:stretch/>
        </p:blipFill>
        <p:spPr>
          <a:xfrm>
            <a:off x="5364000" y="3500280"/>
            <a:ext cx="576360" cy="10051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6"/>
          <a:stretch/>
        </p:blipFill>
        <p:spPr>
          <a:xfrm>
            <a:off x="4284720" y="1989000"/>
            <a:ext cx="574560" cy="10051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7"/>
          <a:stretch/>
        </p:blipFill>
        <p:spPr>
          <a:xfrm>
            <a:off x="6588000" y="47628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8"/>
          <a:stretch/>
        </p:blipFill>
        <p:spPr>
          <a:xfrm>
            <a:off x="8101080" y="189000"/>
            <a:ext cx="733320" cy="11365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9"/>
          <a:stretch/>
        </p:blipFill>
        <p:spPr>
          <a:xfrm>
            <a:off x="7956720" y="1484280"/>
            <a:ext cx="825480" cy="10047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7524720" y="404640"/>
            <a:ext cx="14292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29 0.0118 L -0.18177 0.06435 E">
                                      <p:cBhvr>
                                        <p:cTn id="350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dur="indefinite" fill="hold">
                      <p:stCondLst>
                        <p:cond delay="indefinite"/>
                      </p:stCondLst>
                      <p:childTnLst>
                        <p:par>
                          <p:cTn id="3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7 L -0.41736 -0.10509 E">
                                      <p:cBhvr>
                                        <p:cTn id="35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dur="indefinite" fill="hold">
                      <p:stCondLst>
                        <p:cond delay="indefinite"/>
                      </p:stCondLst>
                      <p:childTnLst>
                        <p:par>
                          <p:cTn id="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22222E-006 L -0.2757 0.3044 E">
                                      <p:cBhvr>
                                        <p:cTn id="366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4.07407E-006 L -0.79532 0.16805 E">
                                      <p:cBhvr>
                                        <p:cTn id="374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720" cy="10954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720720" cy="1095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4140360" y="620640"/>
            <a:ext cx="718920" cy="10954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2916360" y="549360"/>
            <a:ext cx="857160" cy="11811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539640" y="2060640"/>
            <a:ext cx="885960" cy="12762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6"/>
          <a:stretch/>
        </p:blipFill>
        <p:spPr>
          <a:xfrm>
            <a:off x="4067280" y="2060640"/>
            <a:ext cx="885600" cy="12762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7"/>
          <a:stretch/>
        </p:blipFill>
        <p:spPr>
          <a:xfrm>
            <a:off x="1763640" y="2133720"/>
            <a:ext cx="762120" cy="10573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8"/>
          <a:stretch/>
        </p:blipFill>
        <p:spPr>
          <a:xfrm>
            <a:off x="2916360" y="2060640"/>
            <a:ext cx="761760" cy="10573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9"/>
          <a:stretch/>
        </p:blipFill>
        <p:spPr>
          <a:xfrm>
            <a:off x="468360" y="3573360"/>
            <a:ext cx="863640" cy="10670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0"/>
          <a:stretch/>
        </p:blipFill>
        <p:spPr>
          <a:xfrm>
            <a:off x="7956720" y="5157720"/>
            <a:ext cx="863280" cy="10670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11"/>
          <a:stretch/>
        </p:blipFill>
        <p:spPr>
          <a:xfrm>
            <a:off x="1692360" y="3573360"/>
            <a:ext cx="863640" cy="10670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2"/>
          <a:stretch/>
        </p:blipFill>
        <p:spPr>
          <a:xfrm>
            <a:off x="2843280" y="3500280"/>
            <a:ext cx="933480" cy="1067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3"/>
          <a:stretch/>
        </p:blipFill>
        <p:spPr>
          <a:xfrm>
            <a:off x="6372360" y="3573360"/>
            <a:ext cx="933480" cy="10670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4"/>
          <a:stretch/>
        </p:blipFill>
        <p:spPr>
          <a:xfrm>
            <a:off x="684360" y="4941720"/>
            <a:ext cx="495000" cy="11066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5"/>
          <a:stretch/>
        </p:blipFill>
        <p:spPr>
          <a:xfrm>
            <a:off x="1763640" y="4941720"/>
            <a:ext cx="639720" cy="11923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6"/>
          <a:stretch/>
        </p:blipFill>
        <p:spPr>
          <a:xfrm>
            <a:off x="7812000" y="1484280"/>
            <a:ext cx="857160" cy="11811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7"/>
          <a:stretch/>
        </p:blipFill>
        <p:spPr>
          <a:xfrm>
            <a:off x="5292720" y="620640"/>
            <a:ext cx="719280" cy="10954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8"/>
          <a:stretch/>
        </p:blipFill>
        <p:spPr>
          <a:xfrm>
            <a:off x="6372360" y="2133720"/>
            <a:ext cx="761760" cy="10573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9"/>
          <a:stretch/>
        </p:blipFill>
        <p:spPr>
          <a:xfrm>
            <a:off x="5219640" y="3573360"/>
            <a:ext cx="865080" cy="10670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0"/>
          <a:stretch/>
        </p:blipFill>
        <p:spPr>
          <a:xfrm>
            <a:off x="4284720" y="5013360"/>
            <a:ext cx="495360" cy="11062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1"/>
          <a:stretch/>
        </p:blipFill>
        <p:spPr>
          <a:xfrm>
            <a:off x="6443640" y="4941720"/>
            <a:ext cx="639720" cy="11923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2"/>
          <a:stretch/>
        </p:blipFill>
        <p:spPr>
          <a:xfrm>
            <a:off x="5292720" y="4941720"/>
            <a:ext cx="638280" cy="11923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3"/>
          <a:stretch/>
        </p:blipFill>
        <p:spPr>
          <a:xfrm>
            <a:off x="6443640" y="549360"/>
            <a:ext cx="576360" cy="10033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4"/>
          <a:stretch/>
        </p:blipFill>
        <p:spPr>
          <a:xfrm>
            <a:off x="3059280" y="4941720"/>
            <a:ext cx="576000" cy="10033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5"/>
          <a:stretch/>
        </p:blipFill>
        <p:spPr>
          <a:xfrm>
            <a:off x="4140360" y="3500280"/>
            <a:ext cx="576000" cy="10051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6"/>
          <a:stretch/>
        </p:blipFill>
        <p:spPr>
          <a:xfrm>
            <a:off x="5435640" y="2133720"/>
            <a:ext cx="576360" cy="10033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7"/>
          <a:stretch/>
        </p:blipFill>
        <p:spPr>
          <a:xfrm>
            <a:off x="7812000" y="333360"/>
            <a:ext cx="933480" cy="10666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8"/>
          <a:stretch/>
        </p:blipFill>
        <p:spPr>
          <a:xfrm>
            <a:off x="7956720" y="2781360"/>
            <a:ext cx="639720" cy="1192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7524720" y="476280"/>
            <a:ext cx="14292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9"/>
          <a:stretch/>
        </p:blipFill>
        <p:spPr>
          <a:xfrm>
            <a:off x="7885080" y="4005360"/>
            <a:ext cx="762120" cy="10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dur="indefinite" fill="hold">
                      <p:stCondLst>
                        <p:cond delay="indefinite"/>
                      </p:stCondLst>
                      <p:childTnLst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2963 L -0.16494 -0.13843 E">
                                      <p:cBhvr>
                                        <p:cTn id="384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dur="indefinite" fill="hold">
                      <p:stCondLst>
                        <p:cond delay="indefinite"/>
                      </p:stCondLst>
                      <p:childTnLst>
                        <p:par>
                          <p:cTn id="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-0.2757 -0.28356 E">
                                      <p:cBhvr>
                                        <p:cTn id="392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dur="indefinite" fill="hold">
                      <p:stCondLst>
                        <p:cond delay="indefinite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0602 L -0.42517 -0.24583 E">
                                      <p:cBhvr>
                                        <p:cTn id="400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dur="indefinite" fill="hold">
                      <p:stCondLst>
                        <p:cond delay="indefinite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-0.03426 L -0.53888 0.32269 E">
                                      <p:cBhvr>
                                        <p:cTn id="408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96516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40000" y="620640"/>
            <a:ext cx="866880" cy="905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427640" y="620640"/>
            <a:ext cx="868320" cy="905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332000" y="54936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3419640" y="549360"/>
            <a:ext cx="865080" cy="100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79280" y="1989000"/>
            <a:ext cx="960480" cy="107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411280" y="1989000"/>
            <a:ext cx="936720" cy="1052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4427640" y="1989000"/>
            <a:ext cx="936360" cy="1052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1403280" y="1916280"/>
            <a:ext cx="835200" cy="127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5580000" y="1773360"/>
            <a:ext cx="83520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179280" y="3573360"/>
            <a:ext cx="932040" cy="1108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7308720" y="333360"/>
            <a:ext cx="860400" cy="1022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4284720" y="3500280"/>
            <a:ext cx="1076400" cy="1171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1332000" y="3500280"/>
            <a:ext cx="839880" cy="1144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3276720" y="3500280"/>
            <a:ext cx="91116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324000" y="4941720"/>
            <a:ext cx="863280" cy="1057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2484360" y="4941720"/>
            <a:ext cx="863640" cy="105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7524720" y="3933720"/>
            <a:ext cx="86364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1332000" y="5013360"/>
            <a:ext cx="828720" cy="966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3564000" y="5013360"/>
            <a:ext cx="828720" cy="966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7524720" y="515772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7380360" y="1484280"/>
            <a:ext cx="936720" cy="1052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580000" y="3429000"/>
            <a:ext cx="936720" cy="1276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5651640" y="5013360"/>
            <a:ext cx="828360" cy="966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5"/>
          <a:stretch/>
        </p:blipFill>
        <p:spPr>
          <a:xfrm>
            <a:off x="5651640" y="549360"/>
            <a:ext cx="576000" cy="100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6"/>
          <a:stretch/>
        </p:blipFill>
        <p:spPr>
          <a:xfrm>
            <a:off x="3635280" y="1989000"/>
            <a:ext cx="576360" cy="100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7"/>
          <a:stretch/>
        </p:blipFill>
        <p:spPr>
          <a:xfrm>
            <a:off x="4643280" y="4941720"/>
            <a:ext cx="576360" cy="1003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8"/>
          <a:stretch/>
        </p:blipFill>
        <p:spPr>
          <a:xfrm>
            <a:off x="2484360" y="3573360"/>
            <a:ext cx="574920" cy="1003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9"/>
          <a:stretch/>
        </p:blipFill>
        <p:spPr>
          <a:xfrm>
            <a:off x="7451640" y="2565360"/>
            <a:ext cx="835200" cy="127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948360" y="404640"/>
            <a:ext cx="14472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6296E-006 L -0.21267 -0.66134 E">
                                      <p:cBhvr>
                                        <p:cTn id="1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7 L -0.43941 -0.1037 E">
                                      <p:cBhvr>
                                        <p:cTn id="18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5434 0.47268 E">
                                      <p:cBhvr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-0.31493 0.15371 E">
                                      <p:cBhvr>
                                        <p:cTn id="3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965160" cy="100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340000" y="620640"/>
            <a:ext cx="866880" cy="905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284720" y="620640"/>
            <a:ext cx="866880" cy="905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332000" y="54936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5508720" y="47628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179280" y="1989000"/>
            <a:ext cx="960480" cy="1079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2411280" y="1989000"/>
            <a:ext cx="936720" cy="1052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1403280" y="1916280"/>
            <a:ext cx="835200" cy="1279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5508720" y="1916280"/>
            <a:ext cx="834840" cy="127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179280" y="3483000"/>
            <a:ext cx="1008000" cy="119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7380360" y="5157720"/>
            <a:ext cx="936720" cy="1112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4284720" y="3500280"/>
            <a:ext cx="1076400" cy="1171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7308720" y="260280"/>
            <a:ext cx="838440" cy="1144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4"/>
          <a:stretch/>
        </p:blipFill>
        <p:spPr>
          <a:xfrm>
            <a:off x="3348000" y="3500280"/>
            <a:ext cx="911160" cy="1243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5"/>
          <a:stretch/>
        </p:blipFill>
        <p:spPr>
          <a:xfrm>
            <a:off x="324000" y="4941720"/>
            <a:ext cx="863280" cy="1057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6"/>
          <a:stretch/>
        </p:blipFill>
        <p:spPr>
          <a:xfrm>
            <a:off x="2484360" y="4941720"/>
            <a:ext cx="863640" cy="1057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7"/>
          <a:stretch/>
        </p:blipFill>
        <p:spPr>
          <a:xfrm>
            <a:off x="4572000" y="4924440"/>
            <a:ext cx="936720" cy="1147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8"/>
          <a:stretch/>
        </p:blipFill>
        <p:spPr>
          <a:xfrm>
            <a:off x="1332000" y="5013360"/>
            <a:ext cx="828720" cy="966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9"/>
          <a:stretch/>
        </p:blipFill>
        <p:spPr>
          <a:xfrm>
            <a:off x="7451640" y="4076640"/>
            <a:ext cx="828720" cy="966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0"/>
          <a:stretch/>
        </p:blipFill>
        <p:spPr>
          <a:xfrm>
            <a:off x="7451640" y="2852640"/>
            <a:ext cx="865440" cy="100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1"/>
          <a:stretch/>
        </p:blipFill>
        <p:spPr>
          <a:xfrm>
            <a:off x="7380360" y="1484280"/>
            <a:ext cx="936720" cy="1052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2"/>
          <a:stretch/>
        </p:blipFill>
        <p:spPr>
          <a:xfrm>
            <a:off x="5580000" y="3429000"/>
            <a:ext cx="936720" cy="127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3"/>
          <a:stretch/>
        </p:blipFill>
        <p:spPr>
          <a:xfrm>
            <a:off x="5651640" y="5013360"/>
            <a:ext cx="828360" cy="966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4"/>
          <a:stretch/>
        </p:blipFill>
        <p:spPr>
          <a:xfrm>
            <a:off x="3419640" y="549360"/>
            <a:ext cx="576000" cy="1003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5"/>
          <a:stretch/>
        </p:blipFill>
        <p:spPr>
          <a:xfrm>
            <a:off x="4572000" y="191628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6"/>
          <a:stretch/>
        </p:blipFill>
        <p:spPr>
          <a:xfrm>
            <a:off x="3635280" y="501336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7"/>
          <a:stretch/>
        </p:blipFill>
        <p:spPr>
          <a:xfrm>
            <a:off x="1476360" y="3573360"/>
            <a:ext cx="574560" cy="100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8"/>
          <a:stretch/>
        </p:blipFill>
        <p:spPr>
          <a:xfrm>
            <a:off x="3492360" y="1989000"/>
            <a:ext cx="835200" cy="1279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9"/>
          <a:stretch/>
        </p:blipFill>
        <p:spPr>
          <a:xfrm>
            <a:off x="2124000" y="3500280"/>
            <a:ext cx="1076400" cy="1171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75640" y="404640"/>
            <a:ext cx="14436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-0.44878 -0.32523 E">
                                      <p:cBhvr>
                                        <p:cTn id="4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-0.32292 0.08403 E">
                                      <p:cBhvr>
                                        <p:cTn id="5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L -0.65226 0.47314 E">
                                      <p:cBhvr>
                                        <p:cTn id="6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42517 0.15741 E">
                                      <p:cBhvr>
                                        <p:cTn id="6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66880" cy="905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866520" cy="905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843280" y="5013360"/>
            <a:ext cx="865080" cy="100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630440" y="5013360"/>
            <a:ext cx="925560" cy="10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843280" y="692280"/>
            <a:ext cx="869760" cy="977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4067280" y="692280"/>
            <a:ext cx="869760" cy="977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1763640" y="1989000"/>
            <a:ext cx="835200" cy="1279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7885080" y="2708280"/>
            <a:ext cx="790560" cy="1214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539640" y="2060640"/>
            <a:ext cx="860400" cy="1023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4067280" y="2060640"/>
            <a:ext cx="860400" cy="1023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1"/>
          <a:stretch/>
        </p:blipFill>
        <p:spPr>
          <a:xfrm>
            <a:off x="539640" y="3500280"/>
            <a:ext cx="839880" cy="1144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2"/>
          <a:stretch/>
        </p:blipFill>
        <p:spPr>
          <a:xfrm>
            <a:off x="480960" y="4941720"/>
            <a:ext cx="922320" cy="1130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3"/>
          <a:stretch/>
        </p:blipFill>
        <p:spPr>
          <a:xfrm>
            <a:off x="4067280" y="5013360"/>
            <a:ext cx="865080" cy="1058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4"/>
          <a:stretch/>
        </p:blipFill>
        <p:spPr>
          <a:xfrm>
            <a:off x="2916360" y="3645000"/>
            <a:ext cx="828720" cy="966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5"/>
          <a:stretch/>
        </p:blipFill>
        <p:spPr>
          <a:xfrm>
            <a:off x="6443640" y="3573360"/>
            <a:ext cx="828720" cy="966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6"/>
          <a:stretch/>
        </p:blipFill>
        <p:spPr>
          <a:xfrm>
            <a:off x="6372360" y="5084640"/>
            <a:ext cx="863640" cy="1008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7"/>
          <a:stretch/>
        </p:blipFill>
        <p:spPr>
          <a:xfrm>
            <a:off x="4067280" y="3500280"/>
            <a:ext cx="839520" cy="1144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8"/>
          <a:stretch/>
        </p:blipFill>
        <p:spPr>
          <a:xfrm>
            <a:off x="5219640" y="765000"/>
            <a:ext cx="866880" cy="90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9"/>
          <a:stretch/>
        </p:blipFill>
        <p:spPr>
          <a:xfrm>
            <a:off x="7740720" y="476280"/>
            <a:ext cx="866880" cy="906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0"/>
          <a:stretch/>
        </p:blipFill>
        <p:spPr>
          <a:xfrm>
            <a:off x="5219640" y="1916280"/>
            <a:ext cx="835200" cy="1279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1"/>
          <a:stretch/>
        </p:blipFill>
        <p:spPr>
          <a:xfrm>
            <a:off x="5148360" y="3500280"/>
            <a:ext cx="839520" cy="1144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2"/>
          <a:stretch/>
        </p:blipFill>
        <p:spPr>
          <a:xfrm>
            <a:off x="8101080" y="5157720"/>
            <a:ext cx="766800" cy="1046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3"/>
          <a:stretch/>
        </p:blipFill>
        <p:spPr>
          <a:xfrm>
            <a:off x="5292720" y="5084640"/>
            <a:ext cx="574560" cy="100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4"/>
          <a:stretch/>
        </p:blipFill>
        <p:spPr>
          <a:xfrm>
            <a:off x="1835280" y="3573360"/>
            <a:ext cx="576000" cy="1003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5"/>
          <a:stretch/>
        </p:blipFill>
        <p:spPr>
          <a:xfrm>
            <a:off x="3059280" y="2133720"/>
            <a:ext cx="576000" cy="1003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6"/>
          <a:stretch/>
        </p:blipFill>
        <p:spPr>
          <a:xfrm>
            <a:off x="6443640" y="69228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7"/>
          <a:stretch/>
        </p:blipFill>
        <p:spPr>
          <a:xfrm>
            <a:off x="6227640" y="1916280"/>
            <a:ext cx="835200" cy="1279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8"/>
          <a:stretch/>
        </p:blipFill>
        <p:spPr>
          <a:xfrm>
            <a:off x="7812000" y="155736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9"/>
          <a:stretch/>
        </p:blipFill>
        <p:spPr>
          <a:xfrm>
            <a:off x="7812000" y="4076640"/>
            <a:ext cx="936720" cy="1019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451640" y="333360"/>
            <a:ext cx="144720" cy="5759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7.40741E-007 L -0.14965 0.04213 E">
                                      <p:cBhvr>
                                        <p:cTn id="78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8.67362E-019 L -0.52761 -0.11551 E">
                                      <p:cBhvr>
                                        <p:cTn id="8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-0.68507 -0.23102 E">
                                      <p:cBhvr>
                                        <p:cTn id="9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2106 L -0.27552 0.51459 E">
                                      <p:cBhvr>
                                        <p:cTn id="10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619200" cy="100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92360" y="620640"/>
            <a:ext cx="869760" cy="1058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784440" cy="1047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292720" y="620640"/>
            <a:ext cx="619200" cy="100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916360" y="69228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067280" y="620640"/>
            <a:ext cx="869760" cy="1058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8028000" y="5013360"/>
            <a:ext cx="869760" cy="1058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2916360" y="2133720"/>
            <a:ext cx="784080" cy="1047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1692360" y="2133720"/>
            <a:ext cx="815760" cy="971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4067280" y="2133720"/>
            <a:ext cx="817560" cy="971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611280" y="3500280"/>
            <a:ext cx="758880" cy="1128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8101080" y="3789360"/>
            <a:ext cx="757080" cy="1128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3"/>
          <a:stretch/>
        </p:blipFill>
        <p:spPr>
          <a:xfrm>
            <a:off x="5219640" y="3500280"/>
            <a:ext cx="758880" cy="1128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1692360" y="3573360"/>
            <a:ext cx="823680" cy="1003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5"/>
          <a:stretch/>
        </p:blipFill>
        <p:spPr>
          <a:xfrm>
            <a:off x="4067280" y="3500280"/>
            <a:ext cx="825480" cy="1005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6"/>
          <a:stretch/>
        </p:blipFill>
        <p:spPr>
          <a:xfrm>
            <a:off x="6443640" y="3573360"/>
            <a:ext cx="825480" cy="1003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7"/>
          <a:stretch/>
        </p:blipFill>
        <p:spPr>
          <a:xfrm>
            <a:off x="684360" y="4941720"/>
            <a:ext cx="542880" cy="1163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8"/>
          <a:stretch/>
        </p:blipFill>
        <p:spPr>
          <a:xfrm>
            <a:off x="2987640" y="4941720"/>
            <a:ext cx="5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9"/>
          <a:stretch/>
        </p:blipFill>
        <p:spPr>
          <a:xfrm>
            <a:off x="8028000" y="260280"/>
            <a:ext cx="544680" cy="1165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0"/>
          <a:stretch/>
        </p:blipFill>
        <p:spPr>
          <a:xfrm>
            <a:off x="1763640" y="4941720"/>
            <a:ext cx="792360" cy="1125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1"/>
          <a:stretch/>
        </p:blipFill>
        <p:spPr>
          <a:xfrm>
            <a:off x="4067280" y="5013360"/>
            <a:ext cx="792000" cy="1125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2"/>
          <a:stretch/>
        </p:blipFill>
        <p:spPr>
          <a:xfrm>
            <a:off x="6443640" y="4941720"/>
            <a:ext cx="792360" cy="1125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3"/>
          <a:stretch/>
        </p:blipFill>
        <p:spPr>
          <a:xfrm>
            <a:off x="8028000" y="1484280"/>
            <a:ext cx="784080" cy="1049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4"/>
          <a:stretch/>
        </p:blipFill>
        <p:spPr>
          <a:xfrm>
            <a:off x="6372360" y="620640"/>
            <a:ext cx="576000" cy="1005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5"/>
          <a:stretch/>
        </p:blipFill>
        <p:spPr>
          <a:xfrm>
            <a:off x="5292720" y="4941720"/>
            <a:ext cx="574560" cy="1003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6"/>
          <a:stretch/>
        </p:blipFill>
        <p:spPr>
          <a:xfrm>
            <a:off x="2987640" y="3573360"/>
            <a:ext cx="576360" cy="1003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7"/>
          <a:stretch/>
        </p:blipFill>
        <p:spPr>
          <a:xfrm>
            <a:off x="5364000" y="206064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8"/>
          <a:stretch/>
        </p:blipFill>
        <p:spPr>
          <a:xfrm>
            <a:off x="8028000" y="2708280"/>
            <a:ext cx="816120" cy="973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596360" y="404640"/>
            <a:ext cx="14436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9"/>
          <a:stretch/>
        </p:blipFill>
        <p:spPr>
          <a:xfrm>
            <a:off x="6227640" y="2060640"/>
            <a:ext cx="816120" cy="9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11111E-006 L -0.19687 -0.66134 E">
                                      <p:cBhvr>
                                        <p:cTn id="11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77778E-006 L -0.30712 0.10487 E">
                                      <p:cBhvr>
                                        <p:cTn id="12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48148E-006 L -0.58281 -0.05255 E">
                                      <p:cBhvr>
                                        <p:cTn id="12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-0.26771 0.66134 E">
                                      <p:cBhvr>
                                        <p:cTn id="13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619200" cy="100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692360" y="620640"/>
            <a:ext cx="869760" cy="1058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11280" y="2133720"/>
            <a:ext cx="784080" cy="1047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8244000" y="5084640"/>
            <a:ext cx="620640" cy="10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2916360" y="69228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4067280" y="620640"/>
            <a:ext cx="869760" cy="1058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6372360" y="620640"/>
            <a:ext cx="869760" cy="1058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2916360" y="2133720"/>
            <a:ext cx="784080" cy="1047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5292720" y="2060640"/>
            <a:ext cx="782640" cy="1049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6443640" y="2133720"/>
            <a:ext cx="816120" cy="971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4067280" y="2133720"/>
            <a:ext cx="817560" cy="971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611280" y="3500280"/>
            <a:ext cx="758880" cy="1128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3"/>
          <a:stretch/>
        </p:blipFill>
        <p:spPr>
          <a:xfrm>
            <a:off x="2987640" y="3500280"/>
            <a:ext cx="758880" cy="1128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4"/>
          <a:stretch/>
        </p:blipFill>
        <p:spPr>
          <a:xfrm>
            <a:off x="5219640" y="3500280"/>
            <a:ext cx="758880" cy="1128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5"/>
          <a:stretch/>
        </p:blipFill>
        <p:spPr>
          <a:xfrm>
            <a:off x="1692360" y="3573360"/>
            <a:ext cx="823680" cy="1003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6"/>
          <a:stretch/>
        </p:blipFill>
        <p:spPr>
          <a:xfrm>
            <a:off x="4067280" y="3500280"/>
            <a:ext cx="825480" cy="1005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7"/>
          <a:stretch/>
        </p:blipFill>
        <p:spPr>
          <a:xfrm>
            <a:off x="8028000" y="1341360"/>
            <a:ext cx="825480" cy="1003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8"/>
          <a:stretch/>
        </p:blipFill>
        <p:spPr>
          <a:xfrm>
            <a:off x="684360" y="4941720"/>
            <a:ext cx="542880" cy="1163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9"/>
          <a:stretch/>
        </p:blipFill>
        <p:spPr>
          <a:xfrm>
            <a:off x="5364000" y="4941720"/>
            <a:ext cx="5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0"/>
          <a:stretch/>
        </p:blipFill>
        <p:spPr>
          <a:xfrm>
            <a:off x="8244000" y="2492280"/>
            <a:ext cx="544320" cy="1165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1"/>
          <a:stretch/>
        </p:blipFill>
        <p:spPr>
          <a:xfrm>
            <a:off x="1763640" y="4941720"/>
            <a:ext cx="792360" cy="1125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2"/>
          <a:stretch/>
        </p:blipFill>
        <p:spPr>
          <a:xfrm>
            <a:off x="4067280" y="5013360"/>
            <a:ext cx="792000" cy="1125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3"/>
          <a:stretch/>
        </p:blipFill>
        <p:spPr>
          <a:xfrm>
            <a:off x="6443640" y="4941720"/>
            <a:ext cx="792360" cy="1125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4"/>
          <a:stretch/>
        </p:blipFill>
        <p:spPr>
          <a:xfrm>
            <a:off x="6516720" y="3500280"/>
            <a:ext cx="576360" cy="1005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5"/>
          <a:stretch/>
        </p:blipFill>
        <p:spPr>
          <a:xfrm>
            <a:off x="2987640" y="501336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6"/>
          <a:stretch/>
        </p:blipFill>
        <p:spPr>
          <a:xfrm>
            <a:off x="1835280" y="2133720"/>
            <a:ext cx="576000" cy="1003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7"/>
          <a:stretch/>
        </p:blipFill>
        <p:spPr>
          <a:xfrm>
            <a:off x="5292720" y="620640"/>
            <a:ext cx="574560" cy="1005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8"/>
          <a:stretch/>
        </p:blipFill>
        <p:spPr>
          <a:xfrm>
            <a:off x="8028000" y="189000"/>
            <a:ext cx="816120" cy="973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9"/>
          <a:stretch/>
        </p:blipFill>
        <p:spPr>
          <a:xfrm>
            <a:off x="8101080" y="3860640"/>
            <a:ext cx="792000" cy="1127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596360" y="404640"/>
            <a:ext cx="14436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-0.32292 -0.65116 E">
                                      <p:cBhvr>
                                        <p:cTn id="14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02 -0.01829 L -0.67448 0.28611 E">
                                      <p:cBhvr>
                                        <p:cTn id="15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 L -0.17101 0.32569 E">
                                      <p:cBhvr>
                                        <p:cTn id="162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6 -0.03241 L -0.55729 0.35625 E">
                                      <p:cBhvr>
                                        <p:cTn id="17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18920" cy="1152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27280" y="549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028000" y="1413000"/>
            <a:ext cx="677880" cy="1152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3924360" y="549360"/>
            <a:ext cx="677880" cy="1150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885080" y="5084640"/>
            <a:ext cx="833400" cy="1165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95280" y="2060640"/>
            <a:ext cx="865080" cy="1122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2627280" y="2060640"/>
            <a:ext cx="865080" cy="1122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956720" y="189000"/>
            <a:ext cx="865080" cy="1120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1619280" y="1989000"/>
            <a:ext cx="663480" cy="1198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3995640" y="1989000"/>
            <a:ext cx="663840" cy="1198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6227640" y="1989000"/>
            <a:ext cx="663840" cy="1198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468360" y="3500280"/>
            <a:ext cx="695160" cy="1136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8028000" y="2637000"/>
            <a:ext cx="695160" cy="1135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148360" y="3500280"/>
            <a:ext cx="695160" cy="1136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1619280" y="3500280"/>
            <a:ext cx="757080" cy="1167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3924360" y="3500280"/>
            <a:ext cx="755640" cy="1167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7"/>
          <a:stretch/>
        </p:blipFill>
        <p:spPr>
          <a:xfrm>
            <a:off x="6443640" y="3500280"/>
            <a:ext cx="757440" cy="1167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8"/>
          <a:stretch/>
        </p:blipFill>
        <p:spPr>
          <a:xfrm>
            <a:off x="8101080" y="3860640"/>
            <a:ext cx="582480" cy="1186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9"/>
          <a:stretch/>
        </p:blipFill>
        <p:spPr>
          <a:xfrm>
            <a:off x="2843280" y="4941720"/>
            <a:ext cx="584280" cy="1186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0"/>
          <a:stretch/>
        </p:blipFill>
        <p:spPr>
          <a:xfrm>
            <a:off x="5219640" y="4941720"/>
            <a:ext cx="584280" cy="1186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1"/>
          <a:stretch/>
        </p:blipFill>
        <p:spPr>
          <a:xfrm>
            <a:off x="1619280" y="5013360"/>
            <a:ext cx="720720" cy="1089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2"/>
          <a:stretch/>
        </p:blipFill>
        <p:spPr>
          <a:xfrm>
            <a:off x="3924360" y="4941720"/>
            <a:ext cx="718920" cy="1089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3"/>
          <a:stretch/>
        </p:blipFill>
        <p:spPr>
          <a:xfrm>
            <a:off x="6443640" y="5013360"/>
            <a:ext cx="720720" cy="1089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4"/>
          <a:stretch/>
        </p:blipFill>
        <p:spPr>
          <a:xfrm>
            <a:off x="684360" y="5013360"/>
            <a:ext cx="574560" cy="1004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5"/>
          <a:stretch/>
        </p:blipFill>
        <p:spPr>
          <a:xfrm>
            <a:off x="2843280" y="3573360"/>
            <a:ext cx="576360" cy="10033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6"/>
          <a:stretch/>
        </p:blipFill>
        <p:spPr>
          <a:xfrm>
            <a:off x="5076720" y="2060640"/>
            <a:ext cx="574920" cy="10047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7"/>
          <a:stretch/>
        </p:blipFill>
        <p:spPr>
          <a:xfrm>
            <a:off x="1547640" y="620640"/>
            <a:ext cx="576360" cy="1005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8"/>
          <a:stretch/>
        </p:blipFill>
        <p:spPr>
          <a:xfrm>
            <a:off x="5003640" y="549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9"/>
          <a:stretch/>
        </p:blipFill>
        <p:spPr>
          <a:xfrm>
            <a:off x="6156360" y="549360"/>
            <a:ext cx="67788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451640" y="404640"/>
            <a:ext cx="14472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48148E-006 L -0.68507 -0.13658 E">
                                      <p:cBhvr>
                                        <p:cTn id="180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85185E-006 L -0.30712 0.2625 E">
                                      <p:cBhvr>
                                        <p:cTn id="188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-0.55121 0.12593 E">
                                      <p:cBhvr>
                                        <p:cTn id="196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-0.01274 L -0.81146 0.16574 E">
                                      <p:cBhvr>
                                        <p:cTn id="204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66880" cy="905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067280" y="765000"/>
            <a:ext cx="868320" cy="905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476360" y="3645000"/>
            <a:ext cx="866880" cy="906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1692360" y="69228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219640" y="692280"/>
            <a:ext cx="865080" cy="1008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2843280" y="692280"/>
            <a:ext cx="869760" cy="9777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7864560" y="2852640"/>
            <a:ext cx="960480" cy="1081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2679840" y="2133720"/>
            <a:ext cx="960120" cy="1079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1547640" y="1989000"/>
            <a:ext cx="835200" cy="1279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7885080" y="1413000"/>
            <a:ext cx="835200" cy="1279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250920" y="2060640"/>
            <a:ext cx="969840" cy="1152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3924360" y="2133720"/>
            <a:ext cx="934920" cy="1112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1692360" y="5013360"/>
            <a:ext cx="860400" cy="1079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4"/>
          <a:stretch/>
        </p:blipFill>
        <p:spPr>
          <a:xfrm>
            <a:off x="395280" y="3573360"/>
            <a:ext cx="839880" cy="1144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7812000" y="260280"/>
            <a:ext cx="839880" cy="1144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6"/>
          <a:stretch/>
        </p:blipFill>
        <p:spPr>
          <a:xfrm>
            <a:off x="539640" y="5013360"/>
            <a:ext cx="863640" cy="1058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7"/>
          <a:stretch/>
        </p:blipFill>
        <p:spPr>
          <a:xfrm>
            <a:off x="3924360" y="5013360"/>
            <a:ext cx="863640" cy="1058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8"/>
          <a:stretch/>
        </p:blipFill>
        <p:spPr>
          <a:xfrm>
            <a:off x="2700360" y="3645000"/>
            <a:ext cx="828720" cy="966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9"/>
          <a:stretch/>
        </p:blipFill>
        <p:spPr>
          <a:xfrm>
            <a:off x="6227640" y="3645000"/>
            <a:ext cx="973440" cy="1135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0"/>
          <a:stretch/>
        </p:blipFill>
        <p:spPr>
          <a:xfrm>
            <a:off x="5076720" y="5013360"/>
            <a:ext cx="858960" cy="1079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1"/>
          <a:stretch/>
        </p:blipFill>
        <p:spPr>
          <a:xfrm>
            <a:off x="6372360" y="5084640"/>
            <a:ext cx="863640" cy="1008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2"/>
          <a:stretch/>
        </p:blipFill>
        <p:spPr>
          <a:xfrm>
            <a:off x="8028000" y="5084640"/>
            <a:ext cx="865080" cy="1059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3"/>
          <a:stretch/>
        </p:blipFill>
        <p:spPr>
          <a:xfrm>
            <a:off x="2916360" y="5013360"/>
            <a:ext cx="576000" cy="1004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4"/>
          <a:stretch/>
        </p:blipFill>
        <p:spPr>
          <a:xfrm>
            <a:off x="3995640" y="3573360"/>
            <a:ext cx="576360" cy="1003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5"/>
          <a:stretch/>
        </p:blipFill>
        <p:spPr>
          <a:xfrm>
            <a:off x="5219640" y="2133720"/>
            <a:ext cx="576360" cy="10033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6"/>
          <a:stretch/>
        </p:blipFill>
        <p:spPr>
          <a:xfrm>
            <a:off x="6372360" y="692280"/>
            <a:ext cx="576000" cy="10047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7"/>
          <a:stretch/>
        </p:blipFill>
        <p:spPr>
          <a:xfrm>
            <a:off x="6156360" y="2133720"/>
            <a:ext cx="960480" cy="1079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8"/>
          <a:stretch/>
        </p:blipFill>
        <p:spPr>
          <a:xfrm>
            <a:off x="4932360" y="3716280"/>
            <a:ext cx="965160" cy="1008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9"/>
          <a:stretch/>
        </p:blipFill>
        <p:spPr>
          <a:xfrm>
            <a:off x="7956720" y="4005360"/>
            <a:ext cx="863280" cy="100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451640" y="404640"/>
            <a:ext cx="14472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4.07407E-006 L -0.1684 -0.32014 E">
                                      <p:cBhvr>
                                        <p:cTn id="214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85185E-006 L -0.30711 0.10509 E">
                                      <p:cBhvr>
                                        <p:cTn id="22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6 L -0.43159 0.47314 E">
                                      <p:cBhvr>
                                        <p:cTn id="230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5185E-006 L -0.55121 0.1574 E">
                                      <p:cBhvr>
                                        <p:cTn id="23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66880" cy="905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067280" y="765000"/>
            <a:ext cx="868320" cy="9050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1476360" y="3645000"/>
            <a:ext cx="866880" cy="906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692360" y="69228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7885080" y="285264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2843280" y="692280"/>
            <a:ext cx="869760" cy="977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6156360" y="620640"/>
            <a:ext cx="960480" cy="1079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2679840" y="2133720"/>
            <a:ext cx="960120" cy="1079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1547640" y="1989000"/>
            <a:ext cx="835200" cy="1279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0"/>
          <a:stretch/>
        </p:blipFill>
        <p:spPr>
          <a:xfrm>
            <a:off x="5148360" y="1989000"/>
            <a:ext cx="834840" cy="12798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1"/>
          <a:stretch/>
        </p:blipFill>
        <p:spPr>
          <a:xfrm>
            <a:off x="250920" y="2060640"/>
            <a:ext cx="969840" cy="1152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2"/>
          <a:stretch/>
        </p:blipFill>
        <p:spPr>
          <a:xfrm>
            <a:off x="7740720" y="1557360"/>
            <a:ext cx="934920" cy="1112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3"/>
          <a:stretch/>
        </p:blipFill>
        <p:spPr>
          <a:xfrm>
            <a:off x="1547640" y="5013360"/>
            <a:ext cx="860760" cy="1079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4"/>
          <a:stretch/>
        </p:blipFill>
        <p:spPr>
          <a:xfrm>
            <a:off x="395280" y="3573360"/>
            <a:ext cx="839880" cy="11448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5"/>
          <a:stretch/>
        </p:blipFill>
        <p:spPr>
          <a:xfrm>
            <a:off x="3851280" y="3573360"/>
            <a:ext cx="839880" cy="1144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6"/>
          <a:stretch/>
        </p:blipFill>
        <p:spPr>
          <a:xfrm>
            <a:off x="395280" y="4941720"/>
            <a:ext cx="863640" cy="10573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7"/>
          <a:stretch/>
        </p:blipFill>
        <p:spPr>
          <a:xfrm>
            <a:off x="8028000" y="3933720"/>
            <a:ext cx="865080" cy="10573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8"/>
          <a:stretch/>
        </p:blipFill>
        <p:spPr>
          <a:xfrm>
            <a:off x="7740720" y="404640"/>
            <a:ext cx="828720" cy="966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9"/>
          <a:stretch/>
        </p:blipFill>
        <p:spPr>
          <a:xfrm>
            <a:off x="6227640" y="3645000"/>
            <a:ext cx="973440" cy="1135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0"/>
          <a:stretch/>
        </p:blipFill>
        <p:spPr>
          <a:xfrm>
            <a:off x="4932360" y="5013360"/>
            <a:ext cx="860400" cy="1079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1"/>
          <a:stretch/>
        </p:blipFill>
        <p:spPr>
          <a:xfrm>
            <a:off x="6372360" y="5084640"/>
            <a:ext cx="863640" cy="1008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2"/>
          <a:stretch/>
        </p:blipFill>
        <p:spPr>
          <a:xfrm>
            <a:off x="3995640" y="501336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3"/>
          <a:stretch/>
        </p:blipFill>
        <p:spPr>
          <a:xfrm>
            <a:off x="2843280" y="3573360"/>
            <a:ext cx="576360" cy="1003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4"/>
          <a:stretch/>
        </p:blipFill>
        <p:spPr>
          <a:xfrm>
            <a:off x="4140360" y="2133720"/>
            <a:ext cx="576000" cy="10033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5"/>
          <a:stretch/>
        </p:blipFill>
        <p:spPr>
          <a:xfrm>
            <a:off x="5219640" y="69228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6"/>
          <a:stretch/>
        </p:blipFill>
        <p:spPr>
          <a:xfrm>
            <a:off x="6156360" y="2133720"/>
            <a:ext cx="960480" cy="10792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7"/>
          <a:stretch/>
        </p:blipFill>
        <p:spPr>
          <a:xfrm>
            <a:off x="4932360" y="3716280"/>
            <a:ext cx="965160" cy="1008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8"/>
          <a:stretch/>
        </p:blipFill>
        <p:spPr>
          <a:xfrm>
            <a:off x="2700360" y="5013360"/>
            <a:ext cx="863640" cy="100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451640" y="404640"/>
            <a:ext cx="14472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9"/>
          <a:stretch/>
        </p:blipFill>
        <p:spPr>
          <a:xfrm>
            <a:off x="7885080" y="5084640"/>
            <a:ext cx="868320" cy="97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0023 L -0.29149 -0.32523 E">
                                      <p:cBhvr>
                                        <p:cTn id="248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1111E-006 L -0.42517 0.09445 E">
                                      <p:cBhvr>
                                        <p:cTn id="256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-0.5592 0.46203 E">
                                      <p:cBhvr>
                                        <p:cTn id="264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79 -0.01412 L -0.44097 0.15394 E">
                                      <p:cBhvr>
                                        <p:cTn id="27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0T09:36:19Z</dcterms:created>
  <dc:creator>Windows User</dc:creator>
  <dc:description/>
  <dc:language>en-US</dc:language>
  <cp:lastModifiedBy>Родионова Ирина Георгиевна</cp:lastModifiedBy>
  <dcterms:modified xsi:type="dcterms:W3CDTF">2023-06-28T10:31:41Z</dcterms:modified>
  <cp:revision>122</cp:revision>
  <dc:subject/>
  <dc:title>Слайд 1</dc:title>
</cp:coreProperties>
</file>