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431-0595-4787-8C57-AD44EC47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F5B-7E7D-4A6B-8322-8440291D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D99-59DD-402A-BE83-A35EDE95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BB3-4C13-4E17-92B3-D2054A94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E93-ED3A-46EF-89F8-3722BC77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853-186D-4897-A882-32F4D34C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637-32E4-4BF7-AB2F-F3A0F98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54D-0FA5-4793-890B-E628F54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8E9-92C4-4B4C-B50E-77315D8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953-A4A3-43DE-A74D-E2045A14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99E-C5EB-40BF-9C0C-40878A04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F79-5CC6-4E6D-9A0C-6B446A30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Open Sans"/>
              </a:defRPr>
            </a:lvl1pPr>
          </a:lstStyle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Open Sans"/>
              </a:rPr>
              <a:t>28.06.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Open Sans"/>
              </a:defRPr>
            </a:lvl1pPr>
          </a:lstStyle>
          <a:p>
            <a:pPr indent="0" algn="ct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Open Sans"/>
              </a:rPr>
              <a:t>Коммерческое использование и тирожирование запрещ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Open Sans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ED507E-694D-4A47-9363-338D594480A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34.png"/><Relationship Id="rId28" Type="http://schemas.openxmlformats.org/officeDocument/2006/relationships/image" Target="../media/image37.png"/><Relationship Id="rId29" Type="http://schemas.openxmlformats.org/officeDocument/2006/relationships/image" Target="../media/image29.png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3.png"/><Relationship Id="rId20" Type="http://schemas.openxmlformats.org/officeDocument/2006/relationships/image" Target="../media/image3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4.png"/><Relationship Id="rId28" Type="http://schemas.openxmlformats.org/officeDocument/2006/relationships/image" Target="../media/image12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41.png"/><Relationship Id="rId17" Type="http://schemas.openxmlformats.org/officeDocument/2006/relationships/image" Target="../media/image31.png"/><Relationship Id="rId18" Type="http://schemas.openxmlformats.org/officeDocument/2006/relationships/image" Target="../media/image31.png"/><Relationship Id="rId19" Type="http://schemas.openxmlformats.org/officeDocument/2006/relationships/image" Target="../media/image13.png"/><Relationship Id="rId20" Type="http://schemas.openxmlformats.org/officeDocument/2006/relationships/image" Target="../media/image16.png"/><Relationship Id="rId21" Type="http://schemas.openxmlformats.org/officeDocument/2006/relationships/image" Target="../media/image38.png"/><Relationship Id="rId22" Type="http://schemas.openxmlformats.org/officeDocument/2006/relationships/image" Target="../media/image13.png"/><Relationship Id="rId23" Type="http://schemas.openxmlformats.org/officeDocument/2006/relationships/image" Target="../media/image38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41.png"/><Relationship Id="rId29" Type="http://schemas.openxmlformats.org/officeDocument/2006/relationships/image" Target="../media/image16.png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29.png"/><Relationship Id="rId17" Type="http://schemas.openxmlformats.org/officeDocument/2006/relationships/image" Target="../media/image27.png"/><Relationship Id="rId18" Type="http://schemas.openxmlformats.org/officeDocument/2006/relationships/image" Target="../media/image31.png"/><Relationship Id="rId19" Type="http://schemas.openxmlformats.org/officeDocument/2006/relationships/image" Target="../media/image33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35.png"/><Relationship Id="rId28" Type="http://schemas.openxmlformats.org/officeDocument/2006/relationships/image" Target="../media/image38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6.png"/><Relationship Id="rId22" Type="http://schemas.openxmlformats.org/officeDocument/2006/relationships/image" Target="../media/image2.png"/><Relationship Id="rId23" Type="http://schemas.openxmlformats.org/officeDocument/2006/relationships/image" Target="../media/image8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7.pn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6.png"/><Relationship Id="rId21" Type="http://schemas.openxmlformats.org/officeDocument/2006/relationships/image" Target="../media/image2.png"/><Relationship Id="rId22" Type="http://schemas.openxmlformats.org/officeDocument/2006/relationships/image" Target="../media/image8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7.png"/><Relationship Id="rId29" Type="http://schemas.openxmlformats.org/officeDocument/2006/relationships/image" Target="../media/image4.png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7.png"/><Relationship Id="rId28" Type="http://schemas.openxmlformats.org/officeDocument/2006/relationships/image" Target="../media/image6.png"/><Relationship Id="rId29" Type="http://schemas.openxmlformats.org/officeDocument/2006/relationships/image" Target="../media/image4.png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3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4.png"/><Relationship Id="rId29" Type="http://schemas.openxmlformats.org/officeDocument/2006/relationships/image" Target="../media/image18.png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4.png"/><Relationship Id="rId21" Type="http://schemas.openxmlformats.org/officeDocument/2006/relationships/image" Target="../media/image6.png"/><Relationship Id="rId22" Type="http://schemas.openxmlformats.org/officeDocument/2006/relationships/image" Target="../media/image9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2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4.png"/><Relationship Id="rId21" Type="http://schemas.openxmlformats.org/officeDocument/2006/relationships/image" Target="../media/image6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2.png"/><Relationship Id="rId27" Type="http://schemas.openxmlformats.org/officeDocument/2006/relationships/image" Target="../media/image5.png"/><Relationship Id="rId28" Type="http://schemas.openxmlformats.org/officeDocument/2006/relationships/image" Target="../media/image6.png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760" y="2133720"/>
            <a:ext cx="840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Развиваем логическое мышление и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15968"/>
                </a:solidFill>
                <a:latin typeface="Calibri"/>
              </a:rPr>
              <a:t>«Новогодни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80400" y="4002120"/>
            <a:ext cx="1015920" cy="165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04000" y="444600"/>
            <a:ext cx="1368360" cy="15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Calibri"/>
              </a:rPr>
              <a:t>Рабату подготовила педагог-психолог: Барсукова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71640" y="806400"/>
            <a:ext cx="70776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00360" y="3936960"/>
            <a:ext cx="114768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720" cy="1095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718920" cy="1095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692360" y="620640"/>
            <a:ext cx="823680" cy="1130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219640" y="549360"/>
            <a:ext cx="824040" cy="1130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2916360" y="549360"/>
            <a:ext cx="857160" cy="1181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539640" y="2060640"/>
            <a:ext cx="885960" cy="1276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8101080" y="5084640"/>
            <a:ext cx="885600" cy="1276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"/>
          <a:stretch/>
        </p:blipFill>
        <p:spPr>
          <a:xfrm>
            <a:off x="176364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9"/>
          <a:stretch/>
        </p:blipFill>
        <p:spPr>
          <a:xfrm>
            <a:off x="529272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2916360" y="2060640"/>
            <a:ext cx="809640" cy="10954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/>
          <a:stretch/>
        </p:blipFill>
        <p:spPr>
          <a:xfrm>
            <a:off x="6443640" y="2060640"/>
            <a:ext cx="809640" cy="1095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2"/>
          <a:stretch/>
        </p:blipFill>
        <p:spPr>
          <a:xfrm>
            <a:off x="539640" y="350028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3"/>
          <a:stretch/>
        </p:blipFill>
        <p:spPr>
          <a:xfrm>
            <a:off x="7956720" y="189000"/>
            <a:ext cx="863280" cy="10666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4"/>
          <a:stretch/>
        </p:blipFill>
        <p:spPr>
          <a:xfrm>
            <a:off x="4067280" y="3573360"/>
            <a:ext cx="865080" cy="1067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5"/>
          <a:stretch/>
        </p:blipFill>
        <p:spPr>
          <a:xfrm>
            <a:off x="5292720" y="3645000"/>
            <a:ext cx="762120" cy="1028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6"/>
          <a:stretch/>
        </p:blipFill>
        <p:spPr>
          <a:xfrm>
            <a:off x="2843280" y="357336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7"/>
          <a:stretch/>
        </p:blipFill>
        <p:spPr>
          <a:xfrm>
            <a:off x="6372360" y="357336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8"/>
          <a:stretch/>
        </p:blipFill>
        <p:spPr>
          <a:xfrm>
            <a:off x="611280" y="4941720"/>
            <a:ext cx="792000" cy="1266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9"/>
          <a:stretch/>
        </p:blipFill>
        <p:spPr>
          <a:xfrm>
            <a:off x="4067280" y="4941720"/>
            <a:ext cx="792000" cy="12668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0"/>
          <a:stretch/>
        </p:blipFill>
        <p:spPr>
          <a:xfrm>
            <a:off x="1908000" y="4941720"/>
            <a:ext cx="495360" cy="11066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1"/>
          <a:stretch/>
        </p:blipFill>
        <p:spPr>
          <a:xfrm>
            <a:off x="2987640" y="4941720"/>
            <a:ext cx="639720" cy="1192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2"/>
          <a:stretch/>
        </p:blipFill>
        <p:spPr>
          <a:xfrm>
            <a:off x="6516720" y="4941720"/>
            <a:ext cx="638280" cy="1192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3"/>
          <a:stretch/>
        </p:blipFill>
        <p:spPr>
          <a:xfrm>
            <a:off x="5292720" y="5013360"/>
            <a:ext cx="574560" cy="1004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4"/>
          <a:stretch/>
        </p:blipFill>
        <p:spPr>
          <a:xfrm>
            <a:off x="1835280" y="3573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5"/>
          <a:stretch/>
        </p:blipFill>
        <p:spPr>
          <a:xfrm>
            <a:off x="4140360" y="206064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6"/>
          <a:stretch/>
        </p:blipFill>
        <p:spPr>
          <a:xfrm>
            <a:off x="6443640" y="692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7"/>
          <a:stretch/>
        </p:blipFill>
        <p:spPr>
          <a:xfrm>
            <a:off x="8028000" y="2708280"/>
            <a:ext cx="762120" cy="1028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8"/>
          <a:stretch/>
        </p:blipFill>
        <p:spPr>
          <a:xfrm>
            <a:off x="8244000" y="3860640"/>
            <a:ext cx="496800" cy="1108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524720" y="404640"/>
            <a:ext cx="1429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9"/>
          <a:stretch/>
        </p:blipFill>
        <p:spPr>
          <a:xfrm>
            <a:off x="8028000" y="1413000"/>
            <a:ext cx="857160" cy="118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1.85185E-006 L -0.16528 -0.14699 E">
                                      <p:cBhvr>
                                        <p:cTn id="28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44097 -0.45139 E">
                                      <p:cBhvr>
                                        <p:cTn id="29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1181 L -0.67153 0.12477 E">
                                      <p:cBhvr>
                                        <p:cTn id="298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-0.02824 L -0.30261 0.16088 E">
                                      <p:cBhvr>
                                        <p:cTn id="30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916360" y="620640"/>
            <a:ext cx="784080" cy="1049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421164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2771640" y="1989000"/>
            <a:ext cx="792360" cy="10083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5219640" y="620640"/>
            <a:ext cx="870120" cy="1058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8028000" y="189000"/>
            <a:ext cx="784080" cy="10494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468360" y="2060640"/>
            <a:ext cx="782640" cy="1049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547640" y="5084640"/>
            <a:ext cx="816120" cy="9734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0"/>
          <a:stretch/>
        </p:blipFill>
        <p:spPr>
          <a:xfrm>
            <a:off x="5219640" y="2060640"/>
            <a:ext cx="816120" cy="9730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1"/>
          <a:stretch/>
        </p:blipFill>
        <p:spPr>
          <a:xfrm>
            <a:off x="39528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2"/>
          <a:stretch/>
        </p:blipFill>
        <p:spPr>
          <a:xfrm>
            <a:off x="8028000" y="2492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3"/>
          <a:stretch/>
        </p:blipFill>
        <p:spPr>
          <a:xfrm>
            <a:off x="1547640" y="3573360"/>
            <a:ext cx="825840" cy="1003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4"/>
          <a:stretch/>
        </p:blipFill>
        <p:spPr>
          <a:xfrm>
            <a:off x="5148360" y="3500280"/>
            <a:ext cx="825480" cy="1005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5"/>
          <a:stretch/>
        </p:blipFill>
        <p:spPr>
          <a:xfrm>
            <a:off x="46836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6"/>
          <a:stretch/>
        </p:blipFill>
        <p:spPr>
          <a:xfrm>
            <a:off x="428472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7"/>
          <a:stretch/>
        </p:blipFill>
        <p:spPr>
          <a:xfrm>
            <a:off x="6516720" y="3500280"/>
            <a:ext cx="792000" cy="11271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8"/>
          <a:stretch/>
        </p:blipFill>
        <p:spPr>
          <a:xfrm>
            <a:off x="2843280" y="342900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9"/>
          <a:stretch/>
        </p:blipFill>
        <p:spPr>
          <a:xfrm>
            <a:off x="3995640" y="1989000"/>
            <a:ext cx="784440" cy="1049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0"/>
          <a:stretch/>
        </p:blipFill>
        <p:spPr>
          <a:xfrm>
            <a:off x="6443640" y="206064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1"/>
          <a:stretch/>
        </p:blipFill>
        <p:spPr>
          <a:xfrm>
            <a:off x="2771640" y="494172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2"/>
          <a:stretch/>
        </p:blipFill>
        <p:spPr>
          <a:xfrm>
            <a:off x="6372360" y="501336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3"/>
          <a:stretch/>
        </p:blipFill>
        <p:spPr>
          <a:xfrm>
            <a:off x="6443640" y="62064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4"/>
          <a:stretch/>
        </p:blipFill>
        <p:spPr>
          <a:xfrm>
            <a:off x="536400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5"/>
          <a:stretch/>
        </p:blipFill>
        <p:spPr>
          <a:xfrm>
            <a:off x="4211640" y="350028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6"/>
          <a:stretch/>
        </p:blipFill>
        <p:spPr>
          <a:xfrm>
            <a:off x="1692360" y="206064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7"/>
          <a:stretch/>
        </p:blipFill>
        <p:spPr>
          <a:xfrm>
            <a:off x="7956720" y="1341360"/>
            <a:ext cx="815760" cy="971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8"/>
          <a:stretch/>
        </p:blipFill>
        <p:spPr>
          <a:xfrm>
            <a:off x="8028000" y="5084640"/>
            <a:ext cx="869760" cy="1060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9"/>
          <a:stretch/>
        </p:blipFill>
        <p:spPr>
          <a:xfrm>
            <a:off x="7885080" y="3933720"/>
            <a:ext cx="81612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2847 L -0.16875 0.05995 E">
                                      <p:cBhvr>
                                        <p:cTn id="31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-0.67726 0.10509 E">
                                      <p:cBhvr>
                                        <p:cTn id="3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6 -0.01921 L -0.43524 0.1382 E">
                                      <p:cBhvr>
                                        <p:cTn id="33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27552 0.17847 E">
                                      <p:cBhvr>
                                        <p:cTn id="340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495360" cy="1106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495360" cy="1106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059280" y="1989000"/>
            <a:ext cx="649080" cy="1222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443640" y="1989000"/>
            <a:ext cx="649440" cy="12225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1835280" y="4941720"/>
            <a:ext cx="653760" cy="1208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5364000" y="4941720"/>
            <a:ext cx="654120" cy="1208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140360" y="549360"/>
            <a:ext cx="677880" cy="11509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11280" y="549360"/>
            <a:ext cx="677880" cy="1150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8101080" y="5013360"/>
            <a:ext cx="677880" cy="1152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539640" y="2060640"/>
            <a:ext cx="865440" cy="11221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1"/>
          <a:stretch/>
        </p:blipFill>
        <p:spPr>
          <a:xfrm>
            <a:off x="8028000" y="2708280"/>
            <a:ext cx="865080" cy="11224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tretch/>
        </p:blipFill>
        <p:spPr>
          <a:xfrm>
            <a:off x="2916360" y="4941720"/>
            <a:ext cx="718920" cy="10893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6516720" y="4941720"/>
            <a:ext cx="719280" cy="10893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4"/>
          <a:stretch/>
        </p:blipFill>
        <p:spPr>
          <a:xfrm>
            <a:off x="4211640" y="4941720"/>
            <a:ext cx="663480" cy="1198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5"/>
          <a:stretch/>
        </p:blipFill>
        <p:spPr>
          <a:xfrm>
            <a:off x="8028000" y="3860640"/>
            <a:ext cx="663480" cy="11988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6"/>
          <a:stretch/>
        </p:blipFill>
        <p:spPr>
          <a:xfrm>
            <a:off x="2916360" y="549360"/>
            <a:ext cx="733320" cy="11365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7"/>
          <a:stretch/>
        </p:blipFill>
        <p:spPr>
          <a:xfrm>
            <a:off x="176364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8"/>
          <a:stretch/>
        </p:blipFill>
        <p:spPr>
          <a:xfrm>
            <a:off x="5292720" y="206064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9"/>
          <a:stretch/>
        </p:blipFill>
        <p:spPr>
          <a:xfrm>
            <a:off x="468360" y="3573360"/>
            <a:ext cx="782640" cy="10479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0"/>
          <a:stretch/>
        </p:blipFill>
        <p:spPr>
          <a:xfrm>
            <a:off x="1692360" y="3500280"/>
            <a:ext cx="823680" cy="1005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1"/>
          <a:stretch/>
        </p:blipFill>
        <p:spPr>
          <a:xfrm>
            <a:off x="2987640" y="3500280"/>
            <a:ext cx="639720" cy="1194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2"/>
          <a:stretch/>
        </p:blipFill>
        <p:spPr>
          <a:xfrm>
            <a:off x="4067280" y="3573360"/>
            <a:ext cx="784080" cy="1047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3"/>
          <a:stretch/>
        </p:blipFill>
        <p:spPr>
          <a:xfrm>
            <a:off x="6516720" y="3429000"/>
            <a:ext cx="638280" cy="11923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4"/>
          <a:stretch/>
        </p:blipFill>
        <p:spPr>
          <a:xfrm>
            <a:off x="684360" y="5013360"/>
            <a:ext cx="574560" cy="1004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5"/>
          <a:stretch/>
        </p:blipFill>
        <p:spPr>
          <a:xfrm>
            <a:off x="5364000" y="350028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6"/>
          <a:stretch/>
        </p:blipFill>
        <p:spPr>
          <a:xfrm>
            <a:off x="4284720" y="1989000"/>
            <a:ext cx="574560" cy="10051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7"/>
          <a:stretch/>
        </p:blipFill>
        <p:spPr>
          <a:xfrm>
            <a:off x="6588000" y="476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8"/>
          <a:stretch/>
        </p:blipFill>
        <p:spPr>
          <a:xfrm>
            <a:off x="8101080" y="189000"/>
            <a:ext cx="733320" cy="1136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9"/>
          <a:stretch/>
        </p:blipFill>
        <p:spPr>
          <a:xfrm>
            <a:off x="7956720" y="1484280"/>
            <a:ext cx="825480" cy="10047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7524720" y="404640"/>
            <a:ext cx="1429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118 L -0.18177 0.06435 E">
                                      <p:cBhvr>
                                        <p:cTn id="35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0.41736 -0.10509 E">
                                      <p:cBhvr>
                                        <p:cTn id="35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-0.2757 0.3044 E">
                                      <p:cBhvr>
                                        <p:cTn id="36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4.07407E-006 L -0.79532 0.16805 E">
                                      <p:cBhvr>
                                        <p:cTn id="37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720" cy="10954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720720" cy="1095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4140360" y="620640"/>
            <a:ext cx="718920" cy="10954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857160" cy="11811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539640" y="2060640"/>
            <a:ext cx="885960" cy="12762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4067280" y="2060640"/>
            <a:ext cx="885600" cy="1276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1763640" y="2133720"/>
            <a:ext cx="762120" cy="10573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8"/>
          <a:stretch/>
        </p:blipFill>
        <p:spPr>
          <a:xfrm>
            <a:off x="2916360" y="2060640"/>
            <a:ext cx="761760" cy="10573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9"/>
          <a:stretch/>
        </p:blipFill>
        <p:spPr>
          <a:xfrm>
            <a:off x="468360" y="357336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10"/>
          <a:stretch/>
        </p:blipFill>
        <p:spPr>
          <a:xfrm>
            <a:off x="7956720" y="5157720"/>
            <a:ext cx="863280" cy="10670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1692360" y="357336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2843280" y="350028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3"/>
          <a:stretch/>
        </p:blipFill>
        <p:spPr>
          <a:xfrm>
            <a:off x="6372360" y="357336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684360" y="4941720"/>
            <a:ext cx="495000" cy="1106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5"/>
          <a:stretch/>
        </p:blipFill>
        <p:spPr>
          <a:xfrm>
            <a:off x="1763640" y="4941720"/>
            <a:ext cx="639720" cy="1192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6"/>
          <a:stretch/>
        </p:blipFill>
        <p:spPr>
          <a:xfrm>
            <a:off x="7812000" y="1484280"/>
            <a:ext cx="857160" cy="118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7"/>
          <a:stretch/>
        </p:blipFill>
        <p:spPr>
          <a:xfrm>
            <a:off x="5292720" y="620640"/>
            <a:ext cx="719280" cy="10954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8"/>
          <a:stretch/>
        </p:blipFill>
        <p:spPr>
          <a:xfrm>
            <a:off x="6372360" y="2133720"/>
            <a:ext cx="761760" cy="10573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9"/>
          <a:stretch/>
        </p:blipFill>
        <p:spPr>
          <a:xfrm>
            <a:off x="5219640" y="3573360"/>
            <a:ext cx="865080" cy="10670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0"/>
          <a:stretch/>
        </p:blipFill>
        <p:spPr>
          <a:xfrm>
            <a:off x="4284720" y="5013360"/>
            <a:ext cx="495360" cy="11062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1"/>
          <a:stretch/>
        </p:blipFill>
        <p:spPr>
          <a:xfrm>
            <a:off x="6443640" y="4941720"/>
            <a:ext cx="639720" cy="11923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2"/>
          <a:stretch/>
        </p:blipFill>
        <p:spPr>
          <a:xfrm>
            <a:off x="5292720" y="4941720"/>
            <a:ext cx="638280" cy="1192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3"/>
          <a:stretch/>
        </p:blipFill>
        <p:spPr>
          <a:xfrm>
            <a:off x="6443640" y="549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4"/>
          <a:stretch/>
        </p:blipFill>
        <p:spPr>
          <a:xfrm>
            <a:off x="3059280" y="4941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5"/>
          <a:stretch/>
        </p:blipFill>
        <p:spPr>
          <a:xfrm>
            <a:off x="4140360" y="3500280"/>
            <a:ext cx="576000" cy="1005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6"/>
          <a:stretch/>
        </p:blipFill>
        <p:spPr>
          <a:xfrm>
            <a:off x="5435640" y="213372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7"/>
          <a:stretch/>
        </p:blipFill>
        <p:spPr>
          <a:xfrm>
            <a:off x="7812000" y="33336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8"/>
          <a:stretch/>
        </p:blipFill>
        <p:spPr>
          <a:xfrm>
            <a:off x="7956720" y="2781360"/>
            <a:ext cx="639720" cy="1192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24720" y="476280"/>
            <a:ext cx="1429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9"/>
          <a:stretch/>
        </p:blipFill>
        <p:spPr>
          <a:xfrm>
            <a:off x="7885080" y="4005360"/>
            <a:ext cx="7621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2963 L -0.16494 -0.13843 E">
                                      <p:cBhvr>
                                        <p:cTn id="384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-0.2757 -0.28356 E">
                                      <p:cBhvr>
                                        <p:cTn id="392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02 L -0.42517 -0.24583 E">
                                      <p:cBhvr>
                                        <p:cTn id="400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3426 L -0.53888 0.32269 E">
                                      <p:cBhvr>
                                        <p:cTn id="408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868320" cy="9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419640" y="54936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9280" y="1989000"/>
            <a:ext cx="9604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4427640" y="1989000"/>
            <a:ext cx="936360" cy="105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140328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5580000" y="177336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179280" y="3573360"/>
            <a:ext cx="932040" cy="110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7308720" y="333360"/>
            <a:ext cx="860400" cy="1022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4284720" y="3500280"/>
            <a:ext cx="1076400" cy="117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332000" y="350028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3276720" y="3500280"/>
            <a:ext cx="91116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24000" y="4941720"/>
            <a:ext cx="863280" cy="105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2484360" y="4941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524720" y="3933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1332000" y="501336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564000" y="501336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524720" y="5157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7380360" y="148428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580000" y="342900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651640" y="5013360"/>
            <a:ext cx="828360" cy="96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5"/>
          <a:stretch/>
        </p:blipFill>
        <p:spPr>
          <a:xfrm>
            <a:off x="5651640" y="549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6"/>
          <a:stretch/>
        </p:blipFill>
        <p:spPr>
          <a:xfrm>
            <a:off x="3635280" y="198900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7"/>
          <a:stretch/>
        </p:blipFill>
        <p:spPr>
          <a:xfrm>
            <a:off x="4643280" y="494172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8"/>
          <a:stretch/>
        </p:blipFill>
        <p:spPr>
          <a:xfrm>
            <a:off x="2484360" y="3573360"/>
            <a:ext cx="574920" cy="1003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9"/>
          <a:stretch/>
        </p:blipFill>
        <p:spPr>
          <a:xfrm>
            <a:off x="7451640" y="2565360"/>
            <a:ext cx="835200" cy="127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4836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21267 -0.66134 E">
                                      <p:cBhvr>
                                        <p:cTn id="1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-0.43941 -0.1037 E">
                                      <p:cBhvr>
                                        <p:cTn id="18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5434 0.47268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-0.31493 0.15371 E">
                                      <p:cBhvr>
                                        <p:cTn id="3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340000" y="62064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84720" y="62064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332000" y="549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5508720" y="476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79280" y="1989000"/>
            <a:ext cx="960480" cy="107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140328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5508720" y="1916280"/>
            <a:ext cx="834840" cy="127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79280" y="3483000"/>
            <a:ext cx="1008000" cy="11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7380360" y="5157720"/>
            <a:ext cx="936720" cy="111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284720" y="3500280"/>
            <a:ext cx="10764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7308720" y="260280"/>
            <a:ext cx="838440" cy="114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>
            <a:off x="3348000" y="3500280"/>
            <a:ext cx="911160" cy="124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>
            <a:off x="324000" y="4941720"/>
            <a:ext cx="863280" cy="1057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>
            <a:off x="2484360" y="4941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>
            <a:off x="4572000" y="4924440"/>
            <a:ext cx="936720" cy="1147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1332000" y="501336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>
            <a:off x="7451640" y="4076640"/>
            <a:ext cx="828720" cy="966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>
            <a:off x="7451640" y="2852640"/>
            <a:ext cx="865440" cy="100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>
            <a:off x="7380360" y="1484280"/>
            <a:ext cx="936720" cy="10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2"/>
          <a:stretch/>
        </p:blipFill>
        <p:spPr>
          <a:xfrm>
            <a:off x="5580000" y="342900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3"/>
          <a:stretch/>
        </p:blipFill>
        <p:spPr>
          <a:xfrm>
            <a:off x="5651640" y="5013360"/>
            <a:ext cx="828360" cy="96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4"/>
          <a:stretch/>
        </p:blipFill>
        <p:spPr>
          <a:xfrm>
            <a:off x="3419640" y="549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5"/>
          <a:stretch/>
        </p:blipFill>
        <p:spPr>
          <a:xfrm>
            <a:off x="4572000" y="1916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6"/>
          <a:stretch/>
        </p:blipFill>
        <p:spPr>
          <a:xfrm>
            <a:off x="363528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7"/>
          <a:stretch/>
        </p:blipFill>
        <p:spPr>
          <a:xfrm>
            <a:off x="1476360" y="3573360"/>
            <a:ext cx="574560" cy="100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8"/>
          <a:stretch/>
        </p:blipFill>
        <p:spPr>
          <a:xfrm>
            <a:off x="349236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9"/>
          <a:stretch/>
        </p:blipFill>
        <p:spPr>
          <a:xfrm>
            <a:off x="2124000" y="3500280"/>
            <a:ext cx="1076400" cy="11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75640" y="404640"/>
            <a:ext cx="14436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-0.44878 -0.32523 E">
                                      <p:cBhvr>
                                        <p:cTn id="4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32292 0.08403 E">
                                      <p:cBhvr>
                                        <p:cTn id="5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-0.65226 0.47314 E">
                                      <p:cBhvr>
                                        <p:cTn id="6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42517 0.15741 E">
                                      <p:cBhvr>
                                        <p:cTn id="6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866520" cy="90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30440" y="5013360"/>
            <a:ext cx="925560" cy="10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843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4067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176364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7885080" y="2708280"/>
            <a:ext cx="790560" cy="1214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539640" y="2060640"/>
            <a:ext cx="860400" cy="1023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4067280" y="2060640"/>
            <a:ext cx="860400" cy="1023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539640" y="350028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480960" y="4941720"/>
            <a:ext cx="922320" cy="11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3"/>
          <a:stretch/>
        </p:blipFill>
        <p:spPr>
          <a:xfrm>
            <a:off x="4067280" y="5013360"/>
            <a:ext cx="865080" cy="1058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4"/>
          <a:stretch/>
        </p:blipFill>
        <p:spPr>
          <a:xfrm>
            <a:off x="2916360" y="364500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5"/>
          <a:stretch/>
        </p:blipFill>
        <p:spPr>
          <a:xfrm>
            <a:off x="6443640" y="3573360"/>
            <a:ext cx="828720" cy="966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6"/>
          <a:stretch/>
        </p:blipFill>
        <p:spPr>
          <a:xfrm>
            <a:off x="6372360" y="508464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4067280" y="3500280"/>
            <a:ext cx="839520" cy="1144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521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7740720" y="47628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0"/>
          <a:stretch/>
        </p:blipFill>
        <p:spPr>
          <a:xfrm>
            <a:off x="521964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1"/>
          <a:stretch/>
        </p:blipFill>
        <p:spPr>
          <a:xfrm>
            <a:off x="5148360" y="3500280"/>
            <a:ext cx="839520" cy="114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2"/>
          <a:stretch/>
        </p:blipFill>
        <p:spPr>
          <a:xfrm>
            <a:off x="8101080" y="5157720"/>
            <a:ext cx="766800" cy="104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3"/>
          <a:stretch/>
        </p:blipFill>
        <p:spPr>
          <a:xfrm>
            <a:off x="5292720" y="5084640"/>
            <a:ext cx="574560" cy="100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4"/>
          <a:stretch/>
        </p:blipFill>
        <p:spPr>
          <a:xfrm>
            <a:off x="1835280" y="357336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5"/>
          <a:stretch/>
        </p:blipFill>
        <p:spPr>
          <a:xfrm>
            <a:off x="3059280" y="2133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6"/>
          <a:stretch/>
        </p:blipFill>
        <p:spPr>
          <a:xfrm>
            <a:off x="6443640" y="692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7"/>
          <a:stretch/>
        </p:blipFill>
        <p:spPr>
          <a:xfrm>
            <a:off x="6227640" y="191628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8"/>
          <a:stretch/>
        </p:blipFill>
        <p:spPr>
          <a:xfrm>
            <a:off x="7812000" y="155736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9"/>
          <a:stretch/>
        </p:blipFill>
        <p:spPr>
          <a:xfrm>
            <a:off x="7812000" y="4076640"/>
            <a:ext cx="9367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451640" y="333360"/>
            <a:ext cx="144720" cy="575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40741E-007 L -0.14965 0.04213 E">
                                      <p:cBhvr>
                                        <p:cTn id="7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8.67362E-019 L -0.52761 -0.11551 E">
                                      <p:cBhvr>
                                        <p:cTn id="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-0.68507 -0.23102 E">
                                      <p:cBhvr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2106 L -0.27552 0.51459 E">
                                      <p:cBhvr>
                                        <p:cTn id="10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784440" cy="1047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9272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916360" y="69228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06728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8028000" y="501336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2916360" y="2133720"/>
            <a:ext cx="784080" cy="1047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692360" y="2133720"/>
            <a:ext cx="815760" cy="97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4067280" y="2133720"/>
            <a:ext cx="817560" cy="971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61128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8101080" y="3789360"/>
            <a:ext cx="757080" cy="1128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521964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1692360" y="3573360"/>
            <a:ext cx="823680" cy="1003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4067280" y="3500280"/>
            <a:ext cx="825480" cy="1005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6443640" y="3573360"/>
            <a:ext cx="825480" cy="1003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68436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2987640" y="4941720"/>
            <a:ext cx="5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8028000" y="260280"/>
            <a:ext cx="544680" cy="1165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0"/>
          <a:stretch/>
        </p:blipFill>
        <p:spPr>
          <a:xfrm>
            <a:off x="176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4067280" y="501336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2"/>
          <a:stretch/>
        </p:blipFill>
        <p:spPr>
          <a:xfrm>
            <a:off x="644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3"/>
          <a:stretch/>
        </p:blipFill>
        <p:spPr>
          <a:xfrm>
            <a:off x="8028000" y="1484280"/>
            <a:ext cx="78408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6372360" y="620640"/>
            <a:ext cx="576000" cy="100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5"/>
          <a:stretch/>
        </p:blipFill>
        <p:spPr>
          <a:xfrm>
            <a:off x="5292720" y="4941720"/>
            <a:ext cx="574560" cy="1003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6"/>
          <a:stretch/>
        </p:blipFill>
        <p:spPr>
          <a:xfrm>
            <a:off x="298764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7"/>
          <a:stretch/>
        </p:blipFill>
        <p:spPr>
          <a:xfrm>
            <a:off x="5364000" y="206064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8"/>
          <a:stretch/>
        </p:blipFill>
        <p:spPr>
          <a:xfrm>
            <a:off x="8028000" y="2708280"/>
            <a:ext cx="816120" cy="973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96360" y="404640"/>
            <a:ext cx="14436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6227640" y="2060640"/>
            <a:ext cx="816120" cy="9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11111E-006 L -0.19687 -0.66134 E">
                                      <p:cBhvr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77778E-006 L -0.30712 0.10487 E">
                                      <p:cBhvr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-0.58281 -0.05255 E">
                                      <p:cBhvr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26771 0.66134 E">
                                      <p:cBhvr>
                                        <p:cTn id="13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619200" cy="100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1280" y="2133720"/>
            <a:ext cx="784080" cy="1047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244000" y="5084640"/>
            <a:ext cx="620640" cy="10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916360" y="69228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406728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6372360" y="620640"/>
            <a:ext cx="869760" cy="1058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916360" y="2133720"/>
            <a:ext cx="784080" cy="1047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5292720" y="2060640"/>
            <a:ext cx="782640" cy="1049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6443640" y="2133720"/>
            <a:ext cx="816120" cy="97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4067280" y="2133720"/>
            <a:ext cx="817560" cy="97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61128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3"/>
          <a:stretch/>
        </p:blipFill>
        <p:spPr>
          <a:xfrm>
            <a:off x="298764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4"/>
          <a:stretch/>
        </p:blipFill>
        <p:spPr>
          <a:xfrm>
            <a:off x="5219640" y="3500280"/>
            <a:ext cx="758880" cy="11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1692360" y="3573360"/>
            <a:ext cx="823680" cy="1003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6"/>
          <a:stretch/>
        </p:blipFill>
        <p:spPr>
          <a:xfrm>
            <a:off x="4067280" y="3500280"/>
            <a:ext cx="825480" cy="1005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7"/>
          <a:stretch/>
        </p:blipFill>
        <p:spPr>
          <a:xfrm>
            <a:off x="8028000" y="1341360"/>
            <a:ext cx="825480" cy="1003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8"/>
          <a:stretch/>
        </p:blipFill>
        <p:spPr>
          <a:xfrm>
            <a:off x="684360" y="4941720"/>
            <a:ext cx="542880" cy="1163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9"/>
          <a:stretch/>
        </p:blipFill>
        <p:spPr>
          <a:xfrm>
            <a:off x="5364000" y="4941720"/>
            <a:ext cx="5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0"/>
          <a:stretch/>
        </p:blipFill>
        <p:spPr>
          <a:xfrm>
            <a:off x="8244000" y="2492280"/>
            <a:ext cx="544320" cy="116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1"/>
          <a:stretch/>
        </p:blipFill>
        <p:spPr>
          <a:xfrm>
            <a:off x="176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2"/>
          <a:stretch/>
        </p:blipFill>
        <p:spPr>
          <a:xfrm>
            <a:off x="4067280" y="501336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3"/>
          <a:stretch/>
        </p:blipFill>
        <p:spPr>
          <a:xfrm>
            <a:off x="6443640" y="4941720"/>
            <a:ext cx="792360" cy="1125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4"/>
          <a:stretch/>
        </p:blipFill>
        <p:spPr>
          <a:xfrm>
            <a:off x="6516720" y="350028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5"/>
          <a:stretch/>
        </p:blipFill>
        <p:spPr>
          <a:xfrm>
            <a:off x="298764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6"/>
          <a:stretch/>
        </p:blipFill>
        <p:spPr>
          <a:xfrm>
            <a:off x="1835280" y="2133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7"/>
          <a:stretch/>
        </p:blipFill>
        <p:spPr>
          <a:xfrm>
            <a:off x="5292720" y="620640"/>
            <a:ext cx="574560" cy="100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8"/>
          <a:stretch/>
        </p:blipFill>
        <p:spPr>
          <a:xfrm>
            <a:off x="8028000" y="189000"/>
            <a:ext cx="816120" cy="97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9"/>
          <a:stretch/>
        </p:blipFill>
        <p:spPr>
          <a:xfrm>
            <a:off x="8101080" y="3860640"/>
            <a:ext cx="792000" cy="1127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596360" y="404640"/>
            <a:ext cx="14436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32292 -0.65116 E">
                                      <p:cBhvr>
                                        <p:cTn id="146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2 -0.01829 L -0.67448 0.28611 E">
                                      <p:cBhvr>
                                        <p:cTn id="15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-0.17101 0.32569 E">
                                      <p:cBhvr>
                                        <p:cTn id="16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06 -0.03241 L -0.55729 0.35625 E">
                                      <p:cBhvr>
                                        <p:cTn id="17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18920" cy="115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627280" y="549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028000" y="1413000"/>
            <a:ext cx="677880" cy="115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3924360" y="549360"/>
            <a:ext cx="677880" cy="115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5084640"/>
            <a:ext cx="833400" cy="1165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95280" y="2060640"/>
            <a:ext cx="865080" cy="112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2627280" y="2060640"/>
            <a:ext cx="865080" cy="112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956720" y="189000"/>
            <a:ext cx="865080" cy="1120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619280" y="1989000"/>
            <a:ext cx="663480" cy="119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3995640" y="1989000"/>
            <a:ext cx="663840" cy="119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6227640" y="1989000"/>
            <a:ext cx="663840" cy="1198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468360" y="3500280"/>
            <a:ext cx="695160" cy="1136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8028000" y="2637000"/>
            <a:ext cx="695160" cy="1135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148360" y="3500280"/>
            <a:ext cx="695160" cy="113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1619280" y="3500280"/>
            <a:ext cx="757080" cy="1167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3924360" y="3500280"/>
            <a:ext cx="755640" cy="1167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7"/>
          <a:stretch/>
        </p:blipFill>
        <p:spPr>
          <a:xfrm>
            <a:off x="6443640" y="3500280"/>
            <a:ext cx="757440" cy="1167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8"/>
          <a:stretch/>
        </p:blipFill>
        <p:spPr>
          <a:xfrm>
            <a:off x="8101080" y="3860640"/>
            <a:ext cx="582480" cy="1186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9"/>
          <a:stretch/>
        </p:blipFill>
        <p:spPr>
          <a:xfrm>
            <a:off x="2843280" y="4941720"/>
            <a:ext cx="584280" cy="1186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0"/>
          <a:stretch/>
        </p:blipFill>
        <p:spPr>
          <a:xfrm>
            <a:off x="5219640" y="4941720"/>
            <a:ext cx="584280" cy="118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1"/>
          <a:stretch/>
        </p:blipFill>
        <p:spPr>
          <a:xfrm>
            <a:off x="1619280" y="5013360"/>
            <a:ext cx="720720" cy="108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2"/>
          <a:stretch/>
        </p:blipFill>
        <p:spPr>
          <a:xfrm>
            <a:off x="3924360" y="4941720"/>
            <a:ext cx="718920" cy="1089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3"/>
          <a:stretch/>
        </p:blipFill>
        <p:spPr>
          <a:xfrm>
            <a:off x="6443640" y="5013360"/>
            <a:ext cx="720720" cy="1089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4"/>
          <a:stretch/>
        </p:blipFill>
        <p:spPr>
          <a:xfrm>
            <a:off x="684360" y="5013360"/>
            <a:ext cx="574560" cy="1004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5"/>
          <a:stretch/>
        </p:blipFill>
        <p:spPr>
          <a:xfrm>
            <a:off x="284328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6"/>
          <a:stretch/>
        </p:blipFill>
        <p:spPr>
          <a:xfrm>
            <a:off x="5076720" y="2060640"/>
            <a:ext cx="574920" cy="10047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7"/>
          <a:stretch/>
        </p:blipFill>
        <p:spPr>
          <a:xfrm>
            <a:off x="1547640" y="620640"/>
            <a:ext cx="576360" cy="100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8"/>
          <a:stretch/>
        </p:blipFill>
        <p:spPr>
          <a:xfrm>
            <a:off x="5003640" y="549360"/>
            <a:ext cx="72072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9"/>
          <a:stretch/>
        </p:blipFill>
        <p:spPr>
          <a:xfrm>
            <a:off x="6156360" y="549360"/>
            <a:ext cx="67788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-0.68507 -0.13658 E">
                                      <p:cBhvr>
                                        <p:cTn id="18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85185E-006 L -0.30712 0.2625 E">
                                      <p:cBhvr>
                                        <p:cTn id="18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55121 0.12593 E">
                                      <p:cBhvr>
                                        <p:cTn id="19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-0.01274 L -0.81146 0.16574 E">
                                      <p:cBhvr>
                                        <p:cTn id="20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67280" y="765000"/>
            <a:ext cx="868320" cy="905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692360" y="692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5219640" y="692280"/>
            <a:ext cx="865080" cy="100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2843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864560" y="2852640"/>
            <a:ext cx="960480" cy="1081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2679840" y="2133720"/>
            <a:ext cx="960120" cy="107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154764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885080" y="1413000"/>
            <a:ext cx="835200" cy="1279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250920" y="2060640"/>
            <a:ext cx="969840" cy="115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3924360" y="2133720"/>
            <a:ext cx="934920" cy="1112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692360" y="5013360"/>
            <a:ext cx="860400" cy="1079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395280" y="357336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7812000" y="26028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539640" y="5013360"/>
            <a:ext cx="863640" cy="1058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3924360" y="5013360"/>
            <a:ext cx="863640" cy="1058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2700360" y="3645000"/>
            <a:ext cx="828720" cy="966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6227640" y="3645000"/>
            <a:ext cx="973440" cy="1135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5076720" y="5013360"/>
            <a:ext cx="85896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6372360" y="508464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028000" y="5084640"/>
            <a:ext cx="865080" cy="1059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2916360" y="501336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399564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5219640" y="213372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6372360" y="692280"/>
            <a:ext cx="576000" cy="1004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6156360" y="2133720"/>
            <a:ext cx="960480" cy="107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4932360" y="371628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7956720" y="4005360"/>
            <a:ext cx="863280" cy="100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4.07407E-006 L -0.1684 -0.32014 E">
                                      <p:cBhvr>
                                        <p:cTn id="21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30711 0.10509 E">
                                      <p:cBhvr>
                                        <p:cTn id="2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-0.43159 0.47314 E">
                                      <p:cBhvr>
                                        <p:cTn id="2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55121 0.1574 E"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66880" cy="905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067280" y="765000"/>
            <a:ext cx="868320" cy="905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866880" cy="9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692360" y="692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7885080" y="285264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2843280" y="692280"/>
            <a:ext cx="869760" cy="977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6156360" y="620640"/>
            <a:ext cx="960480" cy="1079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2679840" y="2133720"/>
            <a:ext cx="960120" cy="1079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547640" y="1989000"/>
            <a:ext cx="835200" cy="1279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0"/>
          <a:stretch/>
        </p:blipFill>
        <p:spPr>
          <a:xfrm>
            <a:off x="5148360" y="1989000"/>
            <a:ext cx="834840" cy="1279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1"/>
          <a:stretch/>
        </p:blipFill>
        <p:spPr>
          <a:xfrm>
            <a:off x="250920" y="2060640"/>
            <a:ext cx="969840" cy="1152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934920" cy="1112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3"/>
          <a:stretch/>
        </p:blipFill>
        <p:spPr>
          <a:xfrm>
            <a:off x="1547640" y="5013360"/>
            <a:ext cx="860760" cy="10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4"/>
          <a:stretch/>
        </p:blipFill>
        <p:spPr>
          <a:xfrm>
            <a:off x="395280" y="357336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5"/>
          <a:stretch/>
        </p:blipFill>
        <p:spPr>
          <a:xfrm>
            <a:off x="3851280" y="3573360"/>
            <a:ext cx="839880" cy="1144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6"/>
          <a:stretch/>
        </p:blipFill>
        <p:spPr>
          <a:xfrm>
            <a:off x="395280" y="4941720"/>
            <a:ext cx="863640" cy="1057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7"/>
          <a:stretch/>
        </p:blipFill>
        <p:spPr>
          <a:xfrm>
            <a:off x="8028000" y="3933720"/>
            <a:ext cx="865080" cy="1057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8"/>
          <a:stretch/>
        </p:blipFill>
        <p:spPr>
          <a:xfrm>
            <a:off x="7740720" y="404640"/>
            <a:ext cx="828720" cy="966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9"/>
          <a:stretch/>
        </p:blipFill>
        <p:spPr>
          <a:xfrm>
            <a:off x="6227640" y="3645000"/>
            <a:ext cx="973440" cy="1135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0"/>
          <a:stretch/>
        </p:blipFill>
        <p:spPr>
          <a:xfrm>
            <a:off x="4932360" y="5013360"/>
            <a:ext cx="860400" cy="1079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1"/>
          <a:stretch/>
        </p:blipFill>
        <p:spPr>
          <a:xfrm>
            <a:off x="6372360" y="508464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2"/>
          <a:stretch/>
        </p:blipFill>
        <p:spPr>
          <a:xfrm>
            <a:off x="3995640" y="501336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3"/>
          <a:stretch/>
        </p:blipFill>
        <p:spPr>
          <a:xfrm>
            <a:off x="2843280" y="3573360"/>
            <a:ext cx="576360" cy="1003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4"/>
          <a:stretch/>
        </p:blipFill>
        <p:spPr>
          <a:xfrm>
            <a:off x="4140360" y="2133720"/>
            <a:ext cx="576000" cy="1003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5"/>
          <a:stretch/>
        </p:blipFill>
        <p:spPr>
          <a:xfrm>
            <a:off x="5219640" y="692280"/>
            <a:ext cx="576360" cy="1004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6"/>
          <a:stretch/>
        </p:blipFill>
        <p:spPr>
          <a:xfrm>
            <a:off x="6156360" y="2133720"/>
            <a:ext cx="960480" cy="1079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7"/>
          <a:stretch/>
        </p:blipFill>
        <p:spPr>
          <a:xfrm>
            <a:off x="4932360" y="371628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8"/>
          <a:stretch/>
        </p:blipFill>
        <p:spPr>
          <a:xfrm>
            <a:off x="2700360" y="501336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451640" y="404640"/>
            <a:ext cx="144720" cy="57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9"/>
          <a:stretch/>
        </p:blipFill>
        <p:spPr>
          <a:xfrm>
            <a:off x="7885080" y="5084640"/>
            <a:ext cx="868320" cy="9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0023 L -0.29149 -0.32523 E">
                                      <p:cBhvr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0.42517 0.09445 E">
                                      <p:cBhvr>
                                        <p:cTn id="25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-0.5592 0.46203 E">
                                      <p:cBhvr>
                                        <p:cTn id="26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9 -0.01412 L -0.44097 0.15394 E">
                                      <p:cBhvr>
                                        <p:cTn id="27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0T09:36:19Z</dcterms:created>
  <dc:creator>Windows User</dc:creator>
  <dc:description/>
  <dc:language>en-US</dc:language>
  <cp:lastModifiedBy>Родионова Ирина Георгиевна</cp:lastModifiedBy>
  <dcterms:modified xsi:type="dcterms:W3CDTF">2023-06-28T10:31:41Z</dcterms:modified>
  <cp:revision>122</cp:revision>
  <dc:subject/>
  <dc:title>Слайд 1</dc:title>
</cp:coreProperties>
</file>