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dt" idx="7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sldNum" idx="7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EA08-F4FE-4B87-AD89-B3C216D2B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222F-328E-483F-998F-DF7ECF3F2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24A9-FF2F-4076-BAD1-37E493325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896A4-CA13-4463-BE38-46326EF440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51223-A560-4C73-8D07-C577F6BFD4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6CCDC-A8C0-41D0-B4D2-6CB37722E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F972-BBC7-43D8-BFD3-1F7E360292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4CA03-BC5F-4188-8A47-BC4D79289F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468F9-01D8-47FE-AC7A-BDA06F2D6D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183D5-CEB3-4466-B742-606055CD8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DECEF-0A25-4867-BFB4-D51220089F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CE646-DF8E-41E2-859F-06D2F56AD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11ED-4FFA-426C-BC33-E59FB3368C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60966-9A11-4720-8E74-BAE46FC0D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16229-E615-4A16-A83D-6CF2243FC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C1B74-52DA-4F1B-8F2F-3BA61612A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DC7E6-4E8C-4176-90D7-84B836EF0E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33A6-6145-44C1-969B-94D3797D95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94B5-799C-420B-BA25-E27A0A9B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08F5-7C0F-43BF-BEBB-F123A1B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F5E4-05E5-41EC-8B82-EEE85A6D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AA8CA-DA79-4282-BE82-41F655F7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71BE9-EF15-4D1B-8B83-2E8AF47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EC7E-8A73-4300-A064-9EC7D93C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3DBC-B853-4BA7-9018-7AF493F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DC33-979F-439A-B9B5-52743F1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938BF-3284-4114-9AFC-22909AF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455B-7ACD-440C-9C69-E79393250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10531-B48D-480E-B19B-51CB0935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98D5-EA89-4628-9530-4B06C0E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21C8-3EC4-4C0A-958A-3A5A684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31BCA-C245-436B-962F-7225227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E38A-CFE5-4F0B-86BF-1859917D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4FCED-6AB9-488E-A3C4-3B2CD790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2207-3456-4F79-A34A-62EE13A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11EC5-1489-41E0-9D07-1B80967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F5F83-D6CF-4A43-8849-D457051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8CAC-9675-411B-B6AB-5EB6380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E4C6-686F-4657-A1EE-C10ABC94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8F5F1-1308-4779-8CCC-AE437352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7939-7636-40E2-879D-BF298E959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2269B-1B29-4594-ACDC-0BD4B9DB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292F9-3F56-42F4-8E9E-EDDEF232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0AB6B-9FFD-4B3D-8DF7-6D6EF16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D0EF-9654-40EA-BA0B-79D9C15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E2FD-FC74-4AE5-B110-3A65DA66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8AA22-05F9-4129-924A-F146FF9A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BBA6-81A6-44AC-85AF-89390F2E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4401D-6254-4FF4-894A-BC690E0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CC7E2-8190-414A-AB22-7036466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2CB2F-663E-4A60-B3E6-DD51675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5703F-BC6F-4290-B597-F24CE3EB3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3DB65-366E-4F49-B476-6FE8CF7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6D95-4F70-43AB-B29A-973AFB5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1A618-EB7D-4E7D-913D-013681C2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4005-BFD6-46FC-ABD2-E9AE5C40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1FBB1-0F24-4FD4-A8A2-C848DE35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2711C-DB56-43A9-9F6A-F341D047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C793B-BA39-436E-9E3B-4664F32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1D8C-971D-4F9F-A155-E262BF3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21310-D8A2-44AB-8711-EDD5BB6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125ED-6C62-4627-93EC-86011BC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EB0BA-B672-466F-A03B-194432F5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B5D2D-7D02-4333-A282-9688B4F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E15C-2D4F-4242-BAC9-0311953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CB2FB-A434-410A-B3BD-14F1E1C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BFCA9-0E24-44F4-AC19-11D328FC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36283-09FC-4390-BF49-6D9C35F0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CF63C-A184-42B5-BF5B-40DF07A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D54B0-0EF7-4EA3-8C10-9E50282F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DDDEF-1DA8-4372-9E76-94457CC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86755-7A72-40B0-AA58-B503130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40841-2436-4128-9116-7080C09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AD6D1-F642-4EA5-9289-B067BAE1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42496-DE09-43FE-9CCD-354453B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C88DC-0474-4578-B9CB-494A27A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C48AC-8352-426F-9B98-AA42C33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55F34-3948-4A2A-92AB-E4938FA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7DD78-6EF3-4EEE-AC12-8526195D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E7B8F-AEBE-4390-9F60-AB8AE712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BB595-3007-4F87-B18E-9E5F758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DA3DC-53A9-4428-906D-7C08A7B3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54FA-B39E-43AF-A518-3249F8F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1EFD7-BB70-4C93-BBCD-430B4E9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CB010-0C84-4FB2-AC1A-D146F02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6EBC7-9DD9-4016-8015-8B1AF8A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E0921-149B-4221-8754-C1CE486D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79CAB-CA68-4B18-AA11-1C7B547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9F98E-B2B2-4757-9C90-3EB4CD8E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F56C6-23E9-4B5F-84F6-92E6E41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9E6B6-5F4A-4A86-8D7E-7FED08C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DBF70-ED17-4B84-9CCF-5738D4FC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10183-64F4-4B11-AE63-B442CDD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7C3D-5084-4CE8-A3E8-631AD770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E59C0-7BED-4225-9F47-90C41133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AC03D-3FAC-471A-AD1B-7C917478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1AF9B-AAC4-4D1A-8B20-80B124FA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DDF63-2DE8-42CB-88CF-929145A6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84062-3BB0-4183-B1DA-785B3333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6D82F-34EB-4240-BC02-FE27568C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79A8-9853-494A-8B51-3C701A3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DB4A8-750A-4977-8812-03C66B2F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E90D-66B4-4178-8DA1-020ECDA8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28DC4-8131-44BB-97A6-E2D4BBD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84136-E0C5-4A5C-AE8B-A9D3579C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A0D05-F335-460F-90F0-10A8D012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9B3A-4554-499A-8FE3-7F8AF6CC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BF375-A577-46F5-A618-2C24A1F7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915DC-F1DE-4B34-AECC-0C41C868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A6F81-2A57-4E9C-AF98-0915512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1ACB5-FACB-4094-8344-C553DF2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C48EC-8623-4D97-BE65-FB7EB2E6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5EF90-C08E-4594-8D54-99078B5D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EB0EB-29A7-4664-8BA8-02F6623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E19A8-7AD6-461E-863B-C2C3D8ED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9A3B4-B08F-4623-B8EB-978C784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E110B-D883-4F53-8D73-67FDE74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E4948-18B1-49EB-B487-AD50BAB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F83F7-ABA3-407F-B3A5-A2342A8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B8554-303D-40DC-9C4F-66BF0EA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D49DF-EF58-4BD5-B7A1-037E7A21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00767-012B-44C9-991C-CC39797F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94B5B-949B-44B8-8DEE-35B47871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FD5E2-0C4D-4561-9B65-EEB41FA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7AFCF-7B8C-4820-9E7E-2953FFB6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4265D-516C-4A28-9717-5A3803B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9F3D6-B898-45B0-A7B7-54B7F83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A436F-FF09-4CE6-9CC7-398DC4A2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7C55-7B5A-4B2F-9547-923DFFDA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DF109-13A3-43A5-B8B4-F994E61C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80107-5B37-4320-8E8A-B99619D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47373-23D5-4C49-BD9B-46394C1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C10C9-FF81-4EB1-86C5-9A6FE51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DEEE5-FF28-44B2-A2A9-578FC1B2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AC22D-EC6B-43C3-AF6C-F0B7B5A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B9A16-8957-4AAC-A859-4E396E9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9F9C1-0A5B-42AB-B9A3-D4BD2382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7555F-F48E-4910-B4FF-F8DA2E0C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5B33F-40A6-4F27-9B0E-D31E78A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6FF29-BD56-4058-9443-BD3DEC3D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AA710-BBF6-40E3-8534-1DEE153E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EF317-B1F6-43E9-8CAE-64B95A2A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F83B0-5607-47C6-BD04-73F3840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424A8-7C8C-437C-87EA-FA4CB08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41412-5403-4D32-BC61-633F04F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6CB28-3133-4460-96A5-79760AD2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3CF8E-16F1-4683-AE2E-4FC957C3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DC763-39FE-4685-99D1-377E4D93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F941B-B2DD-419B-9D45-96DA0582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EFA57-2EE7-469E-9C84-432FA4E7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8A70D-827A-414A-96BB-2C28037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0DBB9-4B5E-43F4-B196-60315906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8384F-E706-48CA-ABAE-5EFD564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F1533-3AEF-4530-9782-FE529E27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C4EC1-E735-4FA6-8977-800A834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C7B4-5917-4B0F-9223-6DC82D5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D085E-195F-45C7-BEE1-AFAA9C5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73B4B-7FF0-4941-89CD-1999F07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055D5-77D1-41F8-AA3B-4A470D4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27721-D30C-4168-B06D-5FC81F8E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748F4-24C2-4146-A8DC-C171F955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4EF795-B50E-4DC7-B409-9A779257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7A8B1-88EE-4DDF-B25F-1713A7A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22E8AA-E6E0-4B0D-AC7F-C837F16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A23C9B-CEC9-4231-82B4-E9D103F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A3CF38-F05B-4336-B666-97C7499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DE6946-AE9C-4FA9-9B7D-21870F83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9D916A-CACD-495E-83A2-8E21831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0F4337-C8D6-496A-89CC-FAD0C64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EDF3C2-2245-4DAE-B854-9688B21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AA2038-CC9F-400E-8D09-267DA1A8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52C61E-5725-4186-88B4-D144B181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02255E-479E-44D0-BD0E-49BCFE56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B09A-AD93-4918-84DA-44AF3178E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7C0FC2-B25F-466F-86A8-4BA878BA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565A8-2462-4B88-94C3-3BAA30D4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0C308-6E40-4A8C-944A-6AD15B0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05D2B-C33A-4158-AA5E-C61981E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EFF78-B181-4416-99D6-0075BB34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47B2A-EBB7-49DD-B38E-B276DD1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0E047-11A3-4CD1-BDC8-49DC7055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6CA5A-6A5C-4FF5-BAEF-D2B0496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A636E-9FD2-4FED-996D-1B3BF94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35F00-4C33-44E5-8789-FA9062F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EBB5-AEB0-43F6-93C1-9BE3DE07B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A34A1-E26C-4BEE-8516-26B6793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7F5E2F-9358-4BD1-87CE-DA42C99E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7002D4-83D3-40C9-99DA-0871A9D9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3C186-6138-4A60-9678-D12510F5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C671C-5E13-4D84-AF26-342B7CAA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06D11-2D77-4F77-B47C-6436BFC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A4002-0BAA-44C9-BAC2-A2AD19F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125BEC-E099-4788-98A1-4299A481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FE6B8-FAED-412C-BB61-BFFC5412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48084-6ABC-423F-B712-76E6011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1465-6CF3-4F5B-BACA-FDE11827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3AA7C-D38F-4DBD-BBD4-0CF5123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5FBBA-96CA-41EB-ADA0-BB30A679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43E9E-5A85-44FF-ADC6-2B56D739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72666-BE97-4B4F-B6EA-4D3FE87E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39EC0-4F83-4A19-85A4-E91867D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9697E-0A47-4B97-8EF8-4F13B5B8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B1DDA-B9A5-4D4D-A07F-78774AA6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F1709-4277-40F0-8888-2A5A864A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2C447-DDCD-455B-A524-44064B1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36639F-C118-442B-9CFE-E32EC855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CADF-2A50-4B57-86B8-E79A24E2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B9E1F-AB25-4E7E-AEBE-3279601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A358BC-1E91-4948-A609-AF103BF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8AE76-3902-4D6D-A3A9-4A40969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26F67-8332-42AC-9449-1138D58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4C15B-7A38-41F9-A214-DC7D019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91FCB-EAA7-4A20-8D25-3F04A476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77FAD-516D-4407-9CF4-1F3BCFF3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6BD52-89AE-401E-8B83-40DC4FAF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958B9-0722-4D12-B868-5DF00204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AF389-7A0C-4006-A9AD-E57B4065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E726-1286-4B27-AB77-6D52E4B6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8E7A1-68CB-42C6-B2C8-A7F9ECF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F24033-C53A-4CBF-9C12-3497B3CF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B89C4-6436-48B5-B10F-62095B31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261105-27D3-4E1C-845F-7003167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3E302-C64A-4C63-9474-4722EEA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0DA47-C147-4785-8F1C-D2C48C8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77568-2527-4A0C-BE43-0DE3E7A3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96CD1-F0B1-48BD-9043-BC86AF97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14403-B073-44F8-8A71-F175BCC6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AB9C8-CF3C-47B1-9BA2-24A45FAB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4444-B8FC-44E1-9D3E-41A9B849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6CEB3E-50EA-4DF3-ACB9-42C412E7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4E92A-A00C-4986-ADF2-870C700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804471-F89B-4688-8A79-93D3C91D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B1656-022D-46F9-9162-91AC90D8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5F3D1C-1DB0-4B20-AF26-D20DEB7D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D2544-B4E6-4A1D-98BB-C0CF5E5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38402B-7805-4C2C-88A8-9E4CC41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740E26-B893-4B62-AA46-6C03136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1C2844-6E53-4186-A928-A88B07AB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9A431B-21F2-4E9E-8FF1-E3A75591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5F6F-BDA8-4F98-BF69-24986234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20C2-D3FE-4E40-9CD0-26A7F134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EF042F-C710-4361-AA16-2E06D856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D0D8AA-4E34-4A97-8C6E-98ED9EAD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E99AD0-4358-4AC3-A999-71087A1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87A631-6CC6-415A-B6F4-2A13A79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DBC878-0435-45AE-9DAC-9644A05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17592A-6ED0-40F0-8C92-091E6A04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65F6FA-A717-467C-8AC5-2846AFF4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2A5F60-2F9C-40CC-A2C9-CABE4AD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8E7FC-69C6-48CA-80B1-2CD6123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4181A-8E66-4908-BCB9-E40CD5E3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247-D744-428C-A681-96932755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55DBC9-172D-4E5F-A5FB-DD2AD15E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9EA0D-8E31-47CE-99E7-49CF91FA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AE1F9-3D26-401E-9766-CA752D35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8F3959-780E-4952-B7B2-E05787FF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D64C81-293B-4632-9C35-3629CE9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64E7AB-7E9C-4BEA-9B24-8AEB2ABF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10C347-F9D0-42E1-9ADD-DE903BB5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9AAF32-CCC8-444B-967D-0B954E0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1DE57B-37CF-48D0-9FE7-DA01CB9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5B8704-B84F-4505-84C4-4CD7D87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C0E-68AE-4B88-A45B-2C18BD6D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15CA13-CDFC-46A4-9F75-BEC9DDC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AA505C-61D2-4377-A515-6FBB4883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D7919F6-C090-4336-A63D-71EFFFA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2CC89B-4066-493A-80FE-507A63D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E724820-2F6C-4D5A-960A-BEB7B2AC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080BC4-F2F7-4F05-A753-50059FE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71E7B-EB0D-443F-B05B-A37EAB1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C5C00-F27F-40AF-9AD2-FEBCE03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89721D-50E3-4621-B234-E64F0E17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695387-C8C2-417F-91A7-F5F4C09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F23C-750A-4BA4-BB31-D56DC01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2CF2A7-190B-4C40-B4D0-4A3AB8C9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D182A0-1490-49D2-9671-C69B894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D07A66-B22E-4BC6-B3DC-F2E7561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C5B737-9829-43C6-9680-E095896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ABEFB0-31D3-4EFD-ADD1-F3A3847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A59EAD-C05B-418B-90D6-7E9CD6AC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13DF98-030E-4DF2-9268-76546254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23C9-195E-4C05-9EB6-8C3B8D1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2CAB-F58A-4228-A89C-3EDC9B0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C11E-D658-4C29-B5EC-8D49579D5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A187E-D161-4919-853E-ACD84FE92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FE435-ED7E-4CFB-BCF5-9B43006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89CC6-D0D6-406D-9A50-CBBDCD6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A563-8DD2-49AE-86C0-B02EDFE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20ED0-9317-46D0-B846-6D033BD7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11C27-6AC8-4855-92AD-5CDFF555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28F08-EFD7-4B38-8AC8-6A02E603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42C85-69E4-481D-AC00-A5B25C77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629FB-5FFE-4859-B002-9E4C62C8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8B9AE-050A-41BF-840F-AFC33C64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C9FC4-B310-46F9-BC9F-AEE651D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5A66A-C0E5-49C0-8D4F-17F2E2B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7EDC8-E491-4306-B662-942638401D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C5AB79-8537-42C5-A1DE-A7D9A67F7F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BC6B-0532-4B93-AD8C-332FE7EE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0BE98-007D-4E81-ADF4-75ED8D4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F4E10-4645-4EAA-B484-58BFDF0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AE27B-B39D-44DE-81A3-AAF28C7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C48DD-F3AC-410F-BEC7-16AE0599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39EC7-1237-4F85-938A-D6A50A4F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3C048C-1048-4D06-9D07-E063D9FA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A73BA-A4E3-4CC2-B9A2-1CB5CCF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477E5-951E-4798-BCC2-113B68E2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3AE2B-2E2C-44A1-BFD6-549B411A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19C8B-45D9-41B5-B886-1FC99534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077C-45A7-4EF9-A0D8-7F3D6B8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B8E60-CA38-498A-A9CC-3563DD2E6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DFDA-7F1A-4C77-969F-AAFA169CC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1B6F-8286-4427-B53A-4FD3D27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D9258-F490-4283-978F-B872289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158E-D06D-4ED9-BF7C-D4AD891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5B5F-2DEC-4A92-86BD-ECC8FEFE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49DB-D4A3-41DC-9610-1883FAF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71A9-DF62-4BCA-B3DB-9EDD2074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A972-52B6-48D7-84E3-CD9E95F3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AFF7-BBE4-47CF-AC04-3681E664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0E10-C9FF-472C-A20A-813C50A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18A6-8E57-450E-B08B-2B694BE3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535B-7EDB-457F-915D-1F41624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6B111-6B09-4A25-9E8D-49E8FAD32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C153F-ADFD-465C-B467-57A34A95EC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4D941-5CF7-46FB-BADD-0C5FD2DB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8458A-8310-4CF9-A0CC-180B593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C0CB7-2E7B-4C6C-8644-78073602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13874-5605-4F8F-8F78-BB72ACE7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11538-3B97-4857-B625-3CA1122C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3EBEE-DA9E-42CC-B3BA-B222DCF1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32B2-C213-4582-A18F-1784B30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4FA33-738C-463E-8A05-6D5FEFB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FA5FE-900D-4917-8E96-647C4CE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7699A-1049-4E32-A8D1-CACDD298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9AC1F-6B8A-4735-9567-5CC46F0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CF940-CF5F-4609-B46A-DEDA0F395E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E2C02-C10B-4118-A238-B3ED73E4F2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67EF3-BB6F-4F46-97C8-2FB97B75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4AA775-48B4-4EED-AFFD-0931B0DA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7E52D-58C2-4C4D-BDFD-CE60CAE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86DD9-24CA-4E7B-BB71-DA0EC8C8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EAF3-67DD-454F-81C0-7D6A36E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C9FD36-E4EB-484F-884C-7B141E51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A7A82-1248-4F3A-837B-63366DB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3CAC4-0755-46F6-854C-C9EEDB5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746B7-C031-4D7F-A231-28A63BD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01FF9E-44AF-4297-B754-13E22BF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6155E5-A8A3-4E40-9BB9-274807B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C9CD9-518B-46D4-BD7C-C4B2568B8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E66EB-9B21-4A92-8CED-BF733CC9C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A422-2179-4AAE-82D0-CB2AD78D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241B-18BE-4FB8-B4AC-536BCB1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94F8F5-F244-49C7-934A-176BEAFC72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18E518-307C-4EF4-8BF3-3CCC27CB072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1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94B0C8-927F-45EF-83ED-1713875145E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5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2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05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7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D933BA-7917-4E0A-9476-FE68F1AEA889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555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AE35DF-903E-4013-94EB-E4D6878EC6A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602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D3437A-8A5A-4A2B-AE32-77ECA2B8D65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51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210C3B-4546-4623-B331-CF42C7FCC05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9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A027E7-3E6D-436E-A1D9-ECF5A226DB6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45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3C0EBD-5EDB-474B-8CB2-D2692FF57BB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0502F0-CEBB-43F7-860E-7CD782897ED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83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5A9F28-8946-4849-A709-6E59660F1DA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728270-8664-4773-BB8C-F57FA7C78F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88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D591FC-5C08-45F8-A2F7-92228A0F642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931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3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995AD-D105-4423-B31C-118A6829397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3041C5-5843-4A1F-BCD6-626770F8B6F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02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02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0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185156-54A9-4CD2-8988-236FD821E87C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3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7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FF3FF6-FEE4-4F53-8C5B-27F2D713F70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1E783B-F0D6-49C5-8230-9F40C6A5323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5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166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32DF84-E262-4A85-BECE-C35D1145233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1213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D9C323-3805-4DEE-A77B-C8F3F59E50E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24C7BB-DF25-4BD7-A143-912BDF2D68A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C0EC2DE-31AA-475C-B770-DC113C4B84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2BD39F8-7D36-49D3-A45C-C8ABFA4EF3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D0DC79E-87B6-40C6-8BD3-B0929AF705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BB7805-B4A8-4FF4-B6B7-C83E88CBEF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296A3D-57C3-4AA0-8A3D-27F2C45CD87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8CE5DB-BA9E-41BB-B6F6-0C466C5E4C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7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0555C1-9D1B-4D92-A139-77532FD15C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Прямоугольник 1"/>
          <p:cNvSpPr/>
          <p:nvPr/>
        </p:nvSpPr>
        <p:spPr>
          <a:xfrm>
            <a:off x="1619280" y="2133720"/>
            <a:ext cx="595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езентация к ур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862110"/>
                </a:solidFill>
                <a:latin typeface="Century Schoolbook"/>
              </a:rPr>
              <a:t>«РЕШЕНИЕ ЛОГАРИФМИЧЕСКИХ УРАВНЕНИ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Прямоугольник 2"/>
          <p:cNvSpPr/>
          <p:nvPr/>
        </p:nvSpPr>
        <p:spPr>
          <a:xfrm>
            <a:off x="2564280" y="765000"/>
            <a:ext cx="43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Нагорьевская средняя шк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Прямоугольник 3"/>
          <p:cNvSpPr/>
          <p:nvPr/>
        </p:nvSpPr>
        <p:spPr>
          <a:xfrm>
            <a:off x="3851280" y="458136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ла учитель мате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ушкина Л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Прямоугольник 4"/>
          <p:cNvSpPr/>
          <p:nvPr/>
        </p:nvSpPr>
        <p:spPr>
          <a:xfrm>
            <a:off x="3503880" y="6021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1"/>
          <p:cNvSpPr/>
          <p:nvPr/>
        </p:nvSpPr>
        <p:spPr>
          <a:xfrm>
            <a:off x="2320200" y="76500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Введение новой переменной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8" name="Picture 2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38036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1"/>
          <p:cNvSpPr/>
          <p:nvPr/>
        </p:nvSpPr>
        <p:spPr>
          <a:xfrm>
            <a:off x="611280" y="765000"/>
            <a:ext cx="8028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1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 =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ОД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ём новую переменну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примет ви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 =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корн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2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1"/>
          <p:cNvSpPr/>
          <p:nvPr/>
        </p:nvSpPr>
        <p:spPr>
          <a:xfrm>
            <a:off x="611280" y="3224160"/>
            <a:ext cx="792144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нёмся к первоначальной переменн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–2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а знач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довлетворя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и допустимых значений данного уравнения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&gt;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,01;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Object 3"/>
              <p:cNvSpPr txBox="1"/>
              <p:nvPr/>
            </p:nvSpPr>
            <p:spPr>
              <a:xfrm>
                <a:off x="1905120" y="4199040"/>
                <a:ext cx="338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ли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1"/>
          <p:cNvSpPr/>
          <p:nvPr/>
        </p:nvSpPr>
        <p:spPr>
          <a:xfrm>
            <a:off x="1763640" y="69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2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3780000" y="549360"/>
                <a:ext cx="41176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Object 11"/>
              <p:cNvSpPr txBox="1"/>
              <p:nvPr/>
            </p:nvSpPr>
            <p:spPr>
              <a:xfrm>
                <a:off x="1801800" y="1557360"/>
                <a:ext cx="5303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Object 12"/>
              <p:cNvSpPr txBox="1"/>
              <p:nvPr/>
            </p:nvSpPr>
            <p:spPr>
              <a:xfrm>
                <a:off x="1763640" y="2276640"/>
                <a:ext cx="4345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3"/>
              <p:cNvSpPr txBox="1"/>
              <p:nvPr/>
            </p:nvSpPr>
            <p:spPr>
              <a:xfrm>
                <a:off x="2093760" y="2997360"/>
                <a:ext cx="6570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 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4"/>
              <p:cNvSpPr txBox="1"/>
              <p:nvPr/>
            </p:nvSpPr>
            <p:spPr>
              <a:xfrm>
                <a:off x="4932360" y="3789360"/>
                <a:ext cx="321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5"/>
              <p:cNvSpPr txBox="1"/>
              <p:nvPr/>
            </p:nvSpPr>
            <p:spPr>
              <a:xfrm>
                <a:off x="4932360" y="4797360"/>
                <a:ext cx="9604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1835280" y="5732640"/>
                <a:ext cx="23763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братно: 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Text Box 1"/>
          <p:cNvSpPr/>
          <p:nvPr/>
        </p:nvSpPr>
        <p:spPr>
          <a:xfrm>
            <a:off x="123516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Метод логарифм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1" name="Picture 2" descr=""/>
          <p:cNvPicPr/>
          <p:nvPr/>
        </p:nvPicPr>
        <p:blipFill>
          <a:blip r:embed="rId2"/>
          <a:stretch/>
        </p:blipFill>
        <p:spPr>
          <a:xfrm>
            <a:off x="677880" y="1278000"/>
            <a:ext cx="7380360" cy="13683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3" descr=""/>
          <p:cNvPicPr/>
          <p:nvPr/>
        </p:nvPicPr>
        <p:blipFill>
          <a:blip r:embed="rId3"/>
          <a:stretch/>
        </p:blipFill>
        <p:spPr>
          <a:xfrm>
            <a:off x="677880" y="2637000"/>
            <a:ext cx="7308720" cy="1001520"/>
          </a:xfrm>
          <a:prstGeom prst="rect">
            <a:avLst/>
          </a:prstGeom>
          <a:ln w="0">
            <a:noFill/>
          </a:ln>
        </p:spPr>
      </p:pic>
      <p:sp>
        <p:nvSpPr>
          <p:cNvPr id="1363" name="Text Box 4"/>
          <p:cNvSpPr/>
          <p:nvPr/>
        </p:nvSpPr>
        <p:spPr>
          <a:xfrm>
            <a:off x="650880" y="3789360"/>
            <a:ext cx="8209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ЕСЛИ В ПОКАЗАТЕЛЕ СТЕПЕНИ СОДЕРЖИТСЯ ЛОГАРИФМ, ТО ОБЕ ЧАСТИ УРАВНЕНИЯ ЛОГАРИФМИРУЮТ ПО ТОМУ ОСНОВАНИЮ, КОТОРОЕ СОДЕРЖИТСЯ В ОСНОВАНИИ ЛОГАРИФМА, НАХОДЯЩЕГОСЯ В ПОКАЗАТЕЛЕ СТЕПЕНИ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"/>
          <p:cNvSpPr/>
          <p:nvPr/>
        </p:nvSpPr>
        <p:spPr>
          <a:xfrm>
            <a:off x="1763640" y="5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Object 2"/>
              <p:cNvSpPr txBox="1"/>
              <p:nvPr/>
            </p:nvSpPr>
            <p:spPr>
              <a:xfrm>
                <a:off x="3635280" y="476280"/>
                <a:ext cx="208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Object 4"/>
              <p:cNvSpPr txBox="1"/>
              <p:nvPr/>
            </p:nvSpPr>
            <p:spPr>
              <a:xfrm>
                <a:off x="6084720" y="765000"/>
                <a:ext cx="2401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x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Object 5"/>
              <p:cNvSpPr txBox="1"/>
              <p:nvPr/>
            </p:nvSpPr>
            <p:spPr>
              <a:xfrm>
                <a:off x="1763640" y="1393920"/>
                <a:ext cx="71294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огарифмируем обе части уравнения по основанию 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6"/>
              <p:cNvSpPr txBox="1"/>
              <p:nvPr/>
            </p:nvSpPr>
            <p:spPr>
              <a:xfrm>
                <a:off x="3059280" y="1773360"/>
                <a:ext cx="2520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7"/>
              <p:cNvSpPr txBox="1"/>
              <p:nvPr/>
            </p:nvSpPr>
            <p:spPr>
              <a:xfrm>
                <a:off x="2987640" y="2349360"/>
                <a:ext cx="27669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8"/>
              <p:cNvSpPr txBox="1"/>
              <p:nvPr/>
            </p:nvSpPr>
            <p:spPr>
              <a:xfrm>
                <a:off x="3059280" y="2781360"/>
                <a:ext cx="286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x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Object 9"/>
              <p:cNvSpPr txBox="1"/>
              <p:nvPr/>
            </p:nvSpPr>
            <p:spPr>
              <a:xfrm>
                <a:off x="1908000" y="3213000"/>
                <a:ext cx="531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t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+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0"/>
              <p:cNvSpPr txBox="1"/>
              <p:nvPr/>
            </p:nvSpPr>
            <p:spPr>
              <a:xfrm>
                <a:off x="5364000" y="3716280"/>
                <a:ext cx="1974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Object 11"/>
              <p:cNvSpPr txBox="1"/>
              <p:nvPr/>
            </p:nvSpPr>
            <p:spPr>
              <a:xfrm>
                <a:off x="1763640" y="4221000"/>
                <a:ext cx="5386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братная замена: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или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Object 12"/>
              <p:cNvSpPr txBox="1"/>
              <p:nvPr/>
            </p:nvSpPr>
            <p:spPr>
              <a:xfrm>
                <a:off x="4427640" y="4653000"/>
                <a:ext cx="26463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x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1"/>
          <p:cNvSpPr/>
          <p:nvPr/>
        </p:nvSpPr>
        <p:spPr>
          <a:xfrm>
            <a:off x="1908000" y="6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Object 2"/>
              <p:cNvSpPr txBox="1"/>
              <p:nvPr/>
            </p:nvSpPr>
            <p:spPr>
              <a:xfrm>
                <a:off x="3564000" y="692280"/>
                <a:ext cx="16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Object 4"/>
              <p:cNvSpPr txBox="1"/>
              <p:nvPr/>
            </p:nvSpPr>
            <p:spPr>
              <a:xfrm>
                <a:off x="6300720" y="549360"/>
                <a:ext cx="241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: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Object 5"/>
              <p:cNvSpPr txBox="1"/>
              <p:nvPr/>
            </p:nvSpPr>
            <p:spPr>
              <a:xfrm>
                <a:off x="1763640" y="1413000"/>
                <a:ext cx="720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ологарифмируем по основанию 2: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Object 6"/>
              <p:cNvSpPr txBox="1"/>
              <p:nvPr/>
            </p:nvSpPr>
            <p:spPr>
              <a:xfrm>
                <a:off x="3851280" y="1989000"/>
                <a:ext cx="3154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Object 7"/>
              <p:cNvSpPr txBox="1"/>
              <p:nvPr/>
            </p:nvSpPr>
            <p:spPr>
              <a:xfrm>
                <a:off x="3851280" y="2492280"/>
                <a:ext cx="2503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Object 8"/>
              <p:cNvSpPr txBox="1"/>
              <p:nvPr/>
            </p:nvSpPr>
            <p:spPr>
              <a:xfrm>
                <a:off x="3780000" y="2997360"/>
                <a:ext cx="3779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Object 11"/>
              <p:cNvSpPr txBox="1"/>
              <p:nvPr/>
            </p:nvSpPr>
            <p:spPr>
              <a:xfrm>
                <a:off x="3851280" y="3573360"/>
                <a:ext cx="2865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Object 12"/>
              <p:cNvSpPr txBox="1"/>
              <p:nvPr/>
            </p:nvSpPr>
            <p:spPr>
              <a:xfrm>
                <a:off x="2987640" y="4437000"/>
                <a:ext cx="4152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усть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t,</m:t>
                    </m:r>
                    <m:r>
                      <m:rPr>
                        <m:lit/>
                        <m:nor/>
                      </m:rPr>
                      <m:t xml:space="preserve"> тогда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Object 13"/>
              <p:cNvSpPr txBox="1"/>
              <p:nvPr/>
            </p:nvSpPr>
            <p:spPr>
              <a:xfrm>
                <a:off x="5508720" y="486900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5" name="Object 14"/>
              <p:cNvSpPr txBox="1"/>
              <p:nvPr/>
            </p:nvSpPr>
            <p:spPr>
              <a:xfrm>
                <a:off x="2916360" y="5300640"/>
                <a:ext cx="4446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братно: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или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15"/>
              <p:cNvSpPr txBox="1"/>
              <p:nvPr/>
            </p:nvSpPr>
            <p:spPr>
              <a:xfrm>
                <a:off x="4519440" y="5805360"/>
                <a:ext cx="2352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  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7" name="Object 1"/>
              <p:cNvSpPr txBox="1"/>
              <p:nvPr/>
            </p:nvSpPr>
            <p:spPr>
              <a:xfrm>
                <a:off x="1908000" y="907920"/>
                <a:ext cx="2710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5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2"/>
              <p:cNvSpPr txBox="1"/>
              <p:nvPr/>
            </p:nvSpPr>
            <p:spPr>
              <a:xfrm>
                <a:off x="4788000" y="1557360"/>
                <a:ext cx="4133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x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9" name="Rectangle 3"/>
          <p:cNvSpPr/>
          <p:nvPr/>
        </p:nvSpPr>
        <p:spPr>
          <a:xfrm>
            <a:off x="1908000" y="220500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g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0" name="Object 5"/>
              <p:cNvSpPr txBox="1"/>
              <p:nvPr/>
            </p:nvSpPr>
            <p:spPr>
              <a:xfrm>
                <a:off x="1835280" y="3429000"/>
                <a:ext cx="2912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Object 6"/>
              <p:cNvSpPr txBox="1"/>
              <p:nvPr/>
            </p:nvSpPr>
            <p:spPr>
              <a:xfrm>
                <a:off x="5940360" y="2708280"/>
                <a:ext cx="186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1"/>
          <p:cNvSpPr/>
          <p:nvPr/>
        </p:nvSpPr>
        <p:spPr>
          <a:xfrm>
            <a:off x="1258920" y="155736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методы решения логарифмических уравнений существу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логарифмические уравнения можно решить методом подстанов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ущность метода логарифмирования? Каким образом определяем основание логариф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Прямоугольник 1"/>
          <p:cNvSpPr/>
          <p:nvPr/>
        </p:nvSpPr>
        <p:spPr>
          <a:xfrm>
            <a:off x="2195640" y="549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Рефлекс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2843280" y="404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Monotype Corsiv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92"/>
          <p:cNvSpPr/>
          <p:nvPr/>
        </p:nvSpPr>
        <p:spPr>
          <a:xfrm>
            <a:off x="0" y="3300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93"/>
          <p:cNvSpPr/>
          <p:nvPr/>
        </p:nvSpPr>
        <p:spPr>
          <a:xfrm>
            <a:off x="0" y="3309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7" name="Picture 133" descr=""/>
          <p:cNvPicPr/>
          <p:nvPr/>
        </p:nvPicPr>
        <p:blipFill>
          <a:blip r:embed="rId2"/>
          <a:stretch/>
        </p:blipFill>
        <p:spPr>
          <a:xfrm>
            <a:off x="468360" y="949320"/>
            <a:ext cx="7940520" cy="4724280"/>
          </a:xfrm>
          <a:prstGeom prst="rect">
            <a:avLst/>
          </a:prstGeom>
          <a:ln w="0">
            <a:noFill/>
          </a:ln>
        </p:spPr>
      </p:pic>
      <p:sp>
        <p:nvSpPr>
          <p:cNvPr id="1398" name="Text Box 14"/>
          <p:cNvSpPr/>
          <p:nvPr/>
        </p:nvSpPr>
        <p:spPr>
          <a:xfrm>
            <a:off x="453960" y="5837400"/>
            <a:ext cx="84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ок: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1;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2;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5»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3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763640" y="69228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2"/>
          <p:cNvSpPr/>
          <p:nvPr/>
        </p:nvSpPr>
        <p:spPr>
          <a:xfrm>
            <a:off x="468360" y="519120"/>
            <a:ext cx="828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УСТНАЯ РАБО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684360" y="1197000"/>
            <a:ext cx="426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Я ВЫ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4"/>
              <p:cNvSpPr txBox="1"/>
              <p:nvPr/>
            </p:nvSpPr>
            <p:spPr>
              <a:xfrm>
                <a:off x="1763640" y="2035080"/>
                <a:ext cx="1471680" cy="459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10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g1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9" name="TextBox 6"/>
          <p:cNvSpPr/>
          <p:nvPr/>
        </p:nvSpPr>
        <p:spPr>
          <a:xfrm>
            <a:off x="4944960" y="1341360"/>
            <a:ext cx="35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ШИТЕ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0" name="Object 7"/>
              <p:cNvSpPr txBox="1"/>
              <p:nvPr/>
            </p:nvSpPr>
            <p:spPr>
              <a:xfrm>
                <a:off x="5651640" y="2205000"/>
                <a:ext cx="315108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1" name="Object 1"/>
              <p:cNvSpPr txBox="1"/>
              <p:nvPr/>
            </p:nvSpPr>
            <p:spPr>
              <a:xfrm>
                <a:off x="5292720" y="620640"/>
                <a:ext cx="3124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a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b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c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2" name="Text Box 2"/>
          <p:cNvSpPr/>
          <p:nvPr/>
        </p:nvSpPr>
        <p:spPr>
          <a:xfrm>
            <a:off x="826920" y="69228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 Gothic"/>
              </a:rPr>
              <a:t>Свойства логариф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826920" y="1341360"/>
          <a:ext cx="7453440" cy="3740400"/>
        </p:xfrm>
        <a:graphic>
          <a:graphicData uri="http://schemas.openxmlformats.org/drawingml/2006/table">
            <a:tbl>
              <a:tblPr/>
              <a:tblGrid>
                <a:gridCol w="487440"/>
                <a:gridCol w="3835440"/>
                <a:gridCol w="3130560"/>
              </a:tblGrid>
              <a:tr h="3794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Форму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е логарифмическое тожд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един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числа а по основанию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произ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част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степ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24" name="Object 87"/>
              <p:cNvSpPr txBox="1"/>
              <p:nvPr/>
            </p:nvSpPr>
            <p:spPr>
              <a:xfrm>
                <a:off x="6804000" y="1844640"/>
                <a:ext cx="1447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ct 88"/>
              <p:cNvSpPr txBox="1"/>
              <p:nvPr/>
            </p:nvSpPr>
            <p:spPr>
              <a:xfrm>
                <a:off x="6875640" y="2349360"/>
                <a:ext cx="1218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Text Box 1"/>
          <p:cNvSpPr/>
          <p:nvPr/>
        </p:nvSpPr>
        <p:spPr>
          <a:xfrm>
            <a:off x="684360" y="534960"/>
            <a:ext cx="792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Schoolbook"/>
              </a:rPr>
              <a:t>Найдите ошибку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7" name="Picture 2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59600" cy="53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1"/>
          <p:cNvSpPr/>
          <p:nvPr/>
        </p:nvSpPr>
        <p:spPr>
          <a:xfrm>
            <a:off x="900000" y="536400"/>
            <a:ext cx="7772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9" name="Object 2"/>
              <p:cNvSpPr txBox="1"/>
              <p:nvPr/>
            </p:nvSpPr>
            <p:spPr>
              <a:xfrm>
                <a:off x="755640" y="1916280"/>
                <a:ext cx="3745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0" name="Object 11"/>
              <p:cNvSpPr txBox="1"/>
              <p:nvPr/>
            </p:nvSpPr>
            <p:spPr>
              <a:xfrm>
                <a:off x="468360" y="2492280"/>
                <a:ext cx="5527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1" name="Text Box 12"/>
          <p:cNvSpPr/>
          <p:nvPr/>
        </p:nvSpPr>
        <p:spPr>
          <a:xfrm>
            <a:off x="1258920" y="98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1 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Прямоугольник 13"/>
          <p:cNvSpPr/>
          <p:nvPr/>
        </p:nvSpPr>
        <p:spPr>
          <a:xfrm>
            <a:off x="6163560" y="32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3" name="Object 14"/>
              <p:cNvSpPr txBox="1"/>
              <p:nvPr/>
            </p:nvSpPr>
            <p:spPr>
              <a:xfrm>
                <a:off x="4716360" y="3789360"/>
                <a:ext cx="3924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-5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Object 3"/>
              <p:cNvSpPr txBox="1"/>
              <p:nvPr/>
            </p:nvSpPr>
            <p:spPr>
              <a:xfrm>
                <a:off x="826920" y="1413000"/>
                <a:ext cx="3597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-2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15"/>
              <p:cNvSpPr txBox="1"/>
              <p:nvPr/>
            </p:nvSpPr>
            <p:spPr>
              <a:xfrm>
                <a:off x="4716360" y="4437000"/>
                <a:ext cx="346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Object 16"/>
              <p:cNvSpPr txBox="1"/>
              <p:nvPr/>
            </p:nvSpPr>
            <p:spPr>
              <a:xfrm>
                <a:off x="3780000" y="5157720"/>
                <a:ext cx="5209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1"/>
          <p:cNvSpPr/>
          <p:nvPr/>
        </p:nvSpPr>
        <p:spPr>
          <a:xfrm>
            <a:off x="1554120" y="754200"/>
            <a:ext cx="608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ПРОВЕР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063800" y="1844640"/>
          <a:ext cx="7057800" cy="2416320"/>
        </p:xfrm>
        <a:graphic>
          <a:graphicData uri="http://schemas.openxmlformats.org/drawingml/2006/table">
            <a:tbl>
              <a:tblPr/>
              <a:tblGrid>
                <a:gridCol w="3530520"/>
                <a:gridCol w="3527280"/>
              </a:tblGrid>
              <a:tr h="5011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;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;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39" name="Object 48"/>
              <p:cNvSpPr txBox="1"/>
              <p:nvPr/>
            </p:nvSpPr>
            <p:spPr>
              <a:xfrm>
                <a:off x="2771640" y="1844640"/>
                <a:ext cx="289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Text Box 1"/>
          <p:cNvSpPr/>
          <p:nvPr/>
        </p:nvSpPr>
        <p:spPr>
          <a:xfrm>
            <a:off x="1332000" y="333360"/>
            <a:ext cx="641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ОПРЕДЕ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 Box 2"/>
          <p:cNvSpPr/>
          <p:nvPr/>
        </p:nvSpPr>
        <p:spPr>
          <a:xfrm>
            <a:off x="1116000" y="1600200"/>
            <a:ext cx="7416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я, содержащие неизвестное под знаком логарифма или в основании логарифма называются 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логарифм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Object 3"/>
              <p:cNvSpPr txBox="1"/>
              <p:nvPr/>
            </p:nvSpPr>
            <p:spPr>
              <a:xfrm>
                <a:off x="3348000" y="3357720"/>
                <a:ext cx="30243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b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b=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Прямоугольник 1"/>
          <p:cNvSpPr/>
          <p:nvPr/>
        </p:nvSpPr>
        <p:spPr>
          <a:xfrm>
            <a:off x="900000" y="1700280"/>
            <a:ext cx="777564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 логариф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уравнение 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 &gt; 0, а≠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) имеет решение  х = 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ункционально-графический мет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етод потенцир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,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(х) =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х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f(х) = g(х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f(х)&gt;0, g(х)&gt;0 , а &gt; 0, а≠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 введение новой перем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 подстановк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тод логарифмирования обеих частей урав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Прямоугольник 2"/>
          <p:cNvSpPr/>
          <p:nvPr/>
        </p:nvSpPr>
        <p:spPr>
          <a:xfrm>
            <a:off x="1042920" y="404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Основные методы  решения логарифмически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1"/>
          <p:cNvSpPr/>
          <p:nvPr/>
        </p:nvSpPr>
        <p:spPr>
          <a:xfrm>
            <a:off x="1908000" y="333360"/>
            <a:ext cx="60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Этапы решения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2"/>
          <p:cNvSpPr/>
          <p:nvPr/>
        </p:nvSpPr>
        <p:spPr>
          <a:xfrm>
            <a:off x="971640" y="1268280"/>
            <a:ext cx="727236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бласть допустимых значений (ОДЗ)  перемен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, выбрав метод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найденные корни  непосредственной           подстановкой в исходное уравнение или    выяснить, удовлетворяют  ли они условиям ОД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4:55:30Z</dcterms:created>
  <dc:creator>Астахова В.Г.</dc:creator>
  <dc:description/>
  <dc:language>en-US</dc:language>
  <cp:lastModifiedBy>Мать Паисия</cp:lastModifiedBy>
  <dcterms:modified xsi:type="dcterms:W3CDTF">2023-06-29T15:20:33Z</dcterms:modified>
  <cp:revision>131</cp:revision>
  <dc:subject/>
  <dc:title>Логарифмические уравнения</dc:title>
</cp:coreProperties>
</file>