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dt" idx="76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sldNum" idx="77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B94ED-B546-45DF-929D-6907A895FF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01D8-8B9A-436E-9081-382863AF2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836C6-65D1-492B-8F41-B3B64E237E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DF54-B252-4382-B10E-333D72D2F3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2FF8C-8DDA-4B22-87AC-E4A56A6A8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34B80-1157-4CD2-A3C0-195CE02D57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C6288-884F-4F0E-817E-961AB4F79B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AD63-95FC-4145-8D11-25802A5F02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D3C3F-747F-4560-9F05-83C6DD5C19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12D38-1354-431E-A21F-584AC8E59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9570-27D8-40F2-B06B-22A99E589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8662-9EAE-467A-84B9-86F69A215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C075-7D17-4986-BE72-18380A2F7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030D6-C139-4B0A-BD95-02165D4C3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857B-F991-46F1-A397-E3B3979FA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D2459-8666-4FB8-A1A2-33E0DD86B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8525C-BA5A-40C4-9185-21768BCB68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0ED5-6CF6-492A-83F3-E27940F1B6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6245-3A95-442C-A2C8-CD2D1467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3E0B-24E6-4D29-B056-B8A2B599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305BD-F80D-4DE7-83EE-219267A3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5D95-295C-419D-932A-DC02998B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5CF0-B54A-4590-9EA1-F7F0BD91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17E8C-9963-4709-B3FC-F3F61E2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B97B-E573-429A-8CC6-969D43A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6C17-1A33-4D36-8297-88DCE1D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BD24-4911-450C-9883-9D25D7F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863C-7844-48BF-BE64-0E8267109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DB0E6-66E3-49CD-9BB4-3E2DD668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1C6E-DE6E-40FE-BD34-35CA460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8418-28D2-407C-8620-58C6FD3F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37BF-702E-40E3-90A0-18CEF37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B851-94AB-410E-B450-4DC966C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142B7-0C6D-4755-8ABF-7FC5BB5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401EE-4336-4362-BB4F-5BE2E6FA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2137D-80B4-4150-8CB5-10B23681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EC951-C587-41FE-B805-0AB107E7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DB2E1-6C5A-4310-AEBC-A6124F6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832D8-B8B9-4FD7-9ABA-B6C31C49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4ED2B-6B2A-4BAA-9F81-74BC21C2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185DA-820F-4461-98F6-19D73DFAF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26EE2-2C4B-4221-88B6-EF50DBCA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F4A8-B059-4B9F-8101-7E07ECDD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8D6AD-2D97-459D-BE53-7943C98E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D17EE-B2A6-4E31-9F2B-7570609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22F33-0599-4937-951D-EB939AC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9B3A7-692C-4FE0-838B-5236CC9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AB5B8-E0C6-410A-9538-F9FBC22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3510E-E731-4937-A779-280C83CA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2F62A-D74D-4D3A-A9B9-131A4BE5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0B027-5377-47CF-BD4A-AB1530A4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CB60F-7AD5-4D76-89F7-B8AD9982B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5C4EC-602C-4022-9654-0D313B8B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B81F-6F7F-467C-BB6A-53B849AA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C07A-65FE-4D32-8837-B2784183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E0983-F319-4381-B853-5F556B86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EC1F5-4199-4FAF-B163-0741B3B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E444C-47D4-4D09-8CA8-FEEB0D9B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C63D8-63B8-45AF-A8F5-0556BF5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79CFD-08E4-4176-B35E-004592D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26FB1-2DE7-4878-90FE-DA67CDC0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6960C-F622-4C4B-AF1D-405C9045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3E366-D152-4349-933A-991C7B5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E3FFB-F431-4AF2-9C7D-5B6E109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9788-3B36-470E-9247-38C5697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E86FF-9C75-4F94-A50E-8A3121FE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838B8-2869-4C6F-B045-2BCE73C1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1571E-A564-4F1B-8740-111AA498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4DAE-A351-43F5-A815-552DED42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C27B-0829-4AEB-8F36-DF8B42A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7B13-9CE3-4C33-BBA5-06FFE58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1352B-5767-46A6-9AE3-40A9E8B0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2CCD0-AEFB-4DD9-9F92-329B346A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6FF07-40EC-4290-9C5B-A1863E4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CD001-0EFF-4F34-AA51-579EE1E9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E4A42-52C3-458B-8685-362B3770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B9F65-94AD-4482-A80D-BB82C29C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2B65A-2BA7-4EC2-A0B2-F4DDF824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8BCBC-4C25-4BD6-AB0F-DE476A45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BCBB-89A4-455E-964A-1EC2180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3574-920C-4E92-BE22-6AC3B67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9AE88-9043-4A42-B864-BEFA6924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3D03-8918-4FF9-85A0-D27EB248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AC15-DF21-4A96-82BA-5FD4A582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67BB9-1DC5-42CF-AC39-64B595F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700DC-8427-4D1B-B3B8-F15AD623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A067-24FB-49DF-AF16-D4FF763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3F87A-E9D2-4249-BEBD-AA6AF958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2BA23-C8A9-446D-81F4-DE39062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3684-BAE0-4C99-8D3E-3CD80ED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B936-8D8A-468E-B2ED-9F03278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40893-DAE9-4B44-934E-1166D7C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75AD9-0CC3-4661-8E75-4B6B718A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29D1A-320C-4916-85F5-D175107A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F9008-50FF-4294-BB13-40BFE787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68F5-3336-4BE7-BCD1-70BC8244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74FB3-84AB-4AC1-B408-5CB7469A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5E9B5-4E97-4167-ACDF-DE2984AF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4356F-F9DA-477F-95C4-A0CD48FB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6B377-1954-42B0-B7A2-B182BAD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D5C4C-188C-4F3B-94F8-28E84B13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45A0E-B842-4F94-9943-E05A9F3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3BEA3-7870-4EF9-8A69-454FB77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B503B-8BBC-465D-B48C-0B8B2827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E2B7C-CA6F-4096-ADFD-F643CBC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8E002-E4EE-4323-9124-815706E4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52B4B-0560-4B98-AD55-205311ED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BCD46-B241-40A9-9046-BC97C44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67752-4777-4C5C-A164-BDCE276F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A8DED-8697-4DB9-BCB3-C2886122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86D76-0C78-4503-BC76-17B485C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2536E-9E54-4925-90C6-1824039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181AF-1A93-4121-91AC-09628C38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735F5-DF4E-40DB-90D9-F588C47D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DD308-C539-4F6F-99D9-3BD2058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5F559-3850-4C24-95F9-280F467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0B655-8989-4B68-BBD9-212D7EF5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07D3-D283-498D-A613-5CD2FAE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EF94C-F66B-45C1-8ECD-592288D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BFF01-9475-452B-934E-C4B2065E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0CA0C-D591-4340-8A51-A43ACA13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0634E-CDFF-4476-B1B6-CF92E755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D0E3D-8F23-4121-9E29-FBC52551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E0A40-0EF7-4B83-986A-CB11379F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A7DCE-EBE6-489B-9E52-18DD517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3ABAA-FAF1-4174-8C8D-E2FB31C6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9894C-7831-497D-AC91-34DD93EE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4BCBA-8644-4CB2-82F3-14F10B2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1E1A-B386-4C97-B067-AD03CB6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46236-FF46-4402-BD24-575E0A4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0C617-8002-4528-A43D-4D6541B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9C9E6-4591-469C-BEFC-A6441FA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61EA5-8982-4EAF-BF33-35E7908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151DE-525E-4CD8-8F78-DDB0192D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AC32F-332D-41A6-A955-B805DFA1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6B16D-FB17-4FD1-AD00-C2A9AD36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207F3-8259-4B40-8CE7-43076494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EC939-04CF-4E34-9726-CF254A4A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64EED-D0B8-42EC-9381-E70FE09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18AB8-3E35-43FA-9E87-15EA365A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9C78-0DAB-41C8-ABD1-C373D6E1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D85D4-08E7-4C0C-BAF7-2C80D1C2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61A0C-2247-41C1-A83B-A23E6E0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11A7B-65BE-498A-8BC6-B277409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58077-E116-4C99-97A6-DEB7D9D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9CE8E-BBF2-4677-9DE1-20229C3E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45A1C-12E3-47A6-BD57-076524ED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69F4A-4F26-4295-8A81-3C17D3E5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CAE7D-EE2E-49D6-B825-0A7A80E8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4AE57-DF4C-4BCA-AF52-30D9702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AD3C2-BE6A-4EDA-B230-480E57D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AC091-D0C3-48E5-B876-24B4D03F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38309-77D0-435B-A3DE-3F14EDD2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68525-47C7-4847-83F3-4861192A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CFDD0-73C9-4662-B668-E67BB1D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D62E0-5176-42CE-8AFF-717AD39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35F67-3613-475C-B421-F08F6E6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47E01-5B97-427C-811D-19C2D9C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C6B4C-FAB4-4B90-9ECC-06062E91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CE68E-9D65-401F-92F6-474E9FF6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9D1AA-6BFE-456D-B025-D7E1861A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418589-F8B1-403C-AB78-46278D99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55F57-1506-4DD9-943A-E6CE53B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CB5451-FFDF-452E-8889-E3054113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EA0E6D-DFAE-4606-BBE2-0503844E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42B7599-2A18-4546-9614-80D91FF5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7674CD-EDBA-4425-AFFE-C527E84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71BC7C-1ADD-46F2-8407-ABF42384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BCF82B-C3A7-4895-BA7D-A6AE208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0FC8E1-4CDD-4B32-9B9C-A80822F9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6273EB-210E-4BE2-A559-0482E36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3DDC7B-791D-4481-BAB0-E827BAE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96387D-52CB-431C-A226-AEB22B28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786AD-C910-4F32-94F6-B2016F6BD5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F828E5-B75C-44A1-A38E-C23ADC3A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886E8-325A-45C0-9F9A-C38C0DB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EC1E3-71A7-4889-966A-E74ACEC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866DB-7BCE-4072-BCB7-4185A07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61E3C-DD76-4383-969E-8B0D667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FAB59-3904-4984-8313-A2486D4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87436-A9A0-4BF7-A516-15C0897A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066E2-B2BD-48A3-9CFC-26B1C20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3C7FB-759E-4328-A073-F41A8E2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69605-9ADF-4B4C-B4B1-568B78C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19A-AEF4-4D6A-8CBA-2BDBD433B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F9E75-F4B5-4618-AAFB-738421A4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101010-5A42-4D9B-8CD6-4F4CFD27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07397-D4C5-4A21-BB8C-19F14871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80D68-5995-44AC-A1B7-72870802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9B7B8-D66B-4334-9C15-4092B77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AC872-694F-4BB4-9DB5-E88DBB0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AD1FB-C66A-4634-96FC-A9F3493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B97D1A-8F1F-4B01-9151-A396DA02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4377EA-C5ED-483A-9115-C98DF59A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C5617-D63A-406F-978E-C7F65563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B62E-47D5-4D29-809A-B87EA06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4FE1E-653D-45D4-BB0A-82737F5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03CED-F2BF-48CB-A34E-4C8DC16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3B117-46AD-43F3-B415-025A3898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C0528-33B5-4376-8C29-E0E4C3C5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6947B-6B3B-4A1F-AEB7-26B12614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215B4E-57E6-4053-A1B8-560F37FE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68006-B77E-4899-95DD-60F2A715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B8B641-8BA0-4899-83AA-56AA4522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5F0FFD-F0EB-4D94-89A0-9E5158E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31560-C40E-4120-903F-B579419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FDF6-A8F6-4CFB-8161-22732A18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B11B5-0D8F-4026-B4AF-E85182B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27CB8-F86D-4812-A04B-DEDF17F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C6628-410B-44D9-B5D0-3F3D0FE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AB28C-440E-4F5D-99A4-06EBB09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C8094-0326-48C2-A92C-5813F726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E51B8-81F7-42A2-8B20-63797BC6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55EC7-5493-418A-AE3C-130AE6B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836540-2210-40E9-BE03-906164D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C1786-D1EF-47A3-B18D-2CC1645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48528-1C3D-4D1E-9981-31281CFA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500-3214-480E-9C62-64E562F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1F0EEB-8170-46C0-ABD6-68E4BB8D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6716B9-F08C-4A6D-9901-5EE5A04B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A32C7-4379-480D-B65E-8FE484D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7EEE8-C90C-4255-BEA4-8BD7232B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0D575-55A6-4D4B-9553-E5D36E5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FA0EB-4C6A-48F8-BE33-72148656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DBF38-B76D-4913-9FA3-C958DA9B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7FF09-96C2-498B-A3AA-E70D7AEE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390AF-1F20-4809-9CCA-1242C19F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1BD43-3E09-417E-B09C-7AD33497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607-7590-4B80-BFFB-F6A5893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C391C-A098-4D4B-84DF-CC6BA6CF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0AC88B-4C32-489B-80EC-B413910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96F4F1-E276-4098-A10E-D4345262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9DFD91-5896-48E6-B591-8B4E0761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6E573-47D5-45AD-A6A8-970F2503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EE23C-C46A-4094-A0CB-119077F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21386-2765-499B-B20B-BB5CC90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DF7EF-4300-4B96-B367-EAB35DC8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64EBAC-530C-4C49-8C9E-00337B1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AA866A-F44D-4A3E-9A2D-6139E302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09CB-8313-48C9-B8DD-3A043520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C073-EFD3-40F7-AF67-76202CAD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6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DC84D-36A6-4665-AFCD-8375FFEE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89CE6E-2D3D-46F3-8E9B-8BD3095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A76254-A48A-498E-A289-A322149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AAEF60-D447-4444-A8C4-427EF732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D62A2-E9A3-413B-8993-0E58D7B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78549A-DE71-4A10-BA3F-7BF5DF62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2FB9A6-8404-4564-A14A-0F5FCEFA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5F058-F73B-497F-8F8D-F51377D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196B65-9BDA-49C9-A072-7DDCE10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EFC18-D9AB-4D25-AEE1-A98E3A6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901-63D0-4268-9448-FCE7AC9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3B899-AEDB-4510-9FBE-6D5A65F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5AF51-7EEC-49EF-9A1F-81759484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05AC7C-68E8-4529-B727-CB4E1039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7BC814-8AF9-4413-AA82-2BEC0115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63401B-DC39-4245-BABE-35EAD26C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53995BA-0687-41AC-B128-052568C2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76D939-5625-476A-BA6B-1D41E8A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8B258B-275E-4299-BB5F-76F1E2DB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A5114F-6E69-4AFF-A562-F6A88D6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3F9F50-B3CD-412B-A514-D7F6DDBC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8E4-0CD5-4C49-8D26-E645A1AB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CD53F8-0F2B-43B0-B1C3-1F6C84D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0FC358-016B-4059-A764-303446F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0E33A4F-B97E-4221-BF78-6FE918BB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256E4A-AE8B-427E-AFA0-58B60BF6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CA7A79-3488-4992-8C69-1C638FF5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A0852B-9E49-48F9-A325-A5D3C7F3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5B206-8140-4B43-86CD-74672FEC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B28287-07A3-4127-BE37-BC2275B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B631F3-AA0C-499B-B635-0130D25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F13510-AB15-4ABB-995F-2796C9E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B865-4457-4ACE-A7E8-E45E74F8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98D40C-F71A-4ABE-98C9-3C458FBD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ADEEC8-3E7A-459D-ABA1-6A870C4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1E77BC-DF24-4924-963A-7A378FC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27E5AD-4C16-47D7-84E0-B38F5627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6E909-FA87-4F09-B937-2A582C3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864836-E530-4862-A57C-D3BB2F28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9869BC-8618-4ECC-BB16-E83CBF17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E35-B69F-41EE-BD6B-2F405AC5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DFB-B263-4B45-B5FA-BB5E74C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87F-668D-47FA-BEE8-F86029272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81A91-0E92-4100-8566-C5918AB38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6B787-737F-4551-9879-44B4D8B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9931-E26F-4B1A-BBFD-1BFF3187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0140-8103-4F0B-97F6-98AB7503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33D28-34BF-42D6-AA29-D50B899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D7D46-A6DB-42B3-8856-02349CF4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4010C-6751-45DE-B3FD-8F1E6F95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1182B-B36B-4D24-83CC-7CA3732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63CA-C609-4370-92DD-5F15A98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55494-70A5-4D63-B411-4F92EA1D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EEBA3-AE13-49C2-B607-8B826CA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37A66-4A4E-4005-BE84-D5B4D214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F23F9-C7CA-4B6F-A618-BA39FFAD3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61810-6470-4BB9-89EE-6F93D0B4A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0B41-4A9A-41C4-9BEE-6EB5A9D4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5CCFD-938C-4E89-9D29-8C03B4C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CD241-D524-4231-A160-9A57F2C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0184C-1C65-4461-96CB-03E0A206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FF93C-0EEA-4F62-A084-A98EEACF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C2E83-3454-40A6-A491-776E0ECC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4C3C9-27B3-4772-AA24-1B3C91E2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C435D-1A6F-4862-99A0-2B7427DE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1BE58-06A8-4A2F-8DDC-CA99141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5F7B9-1989-4A88-AAA4-4887D95B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B4FC1-705C-4C3A-92D7-104028A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7D3A-09B6-487D-891F-1E7E3000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1C2E4-5558-4C2A-938D-CBD54F3D4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D9B3-ACD7-4D64-9062-D36896FAC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F0E4-61BB-475A-867B-CAFB7A0D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9D66-1F85-4DE1-B820-6F6F4A3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DF1C-0067-4F21-B7DE-63503BD9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94A2-2818-4F42-91A7-2EF194C3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27CB9-0585-437C-940F-370102BE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ED51-19E0-4E05-828C-3C261E9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7AD6-3456-4CDA-806D-9709057A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93C2-5962-4242-8177-0D53BF9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90E6-ADFD-4675-9723-8575E0DE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AD85-7305-4EC8-A95C-330615DB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6D946-0A89-4490-8899-E1200BD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EEAB-3D0B-4F95-BCF9-60ED165DD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22FE4-0F5C-4BB0-8B99-2B22167C7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8D60F-A398-4AD3-A3D1-0F20E2F3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82ED3-613E-4E37-B45E-D41D4395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3D1A4-B293-4F4F-A328-B81906C9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FAE08-043A-46AB-AC7D-12296172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48BE7-3F2E-4E0B-BABF-D8C72214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14D86-0C77-47F6-A789-3524BD8B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4505C-2EE0-4597-9922-F17C149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FB2A8-ACD6-42D4-95D0-927C64C8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960AA-F81D-4AE6-B832-A66B5ED8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91F79-EA38-4D89-AB98-43CD4FD7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6AC17-82EB-4399-9F0A-E9A8EDBD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6918A-5992-4850-AF3D-068057FEE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66B07-5C7A-49D7-A2E6-E389A3569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AD3C7-CAA4-4BF5-B58F-17B803DF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10494C-859B-439E-9A01-DE4B892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BFE9B-6750-4AA3-A42F-33CD7AC0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89079-DF48-4AE7-9A69-B9EE119F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9735-3888-4416-82FB-F7F73094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1840FF-4F0A-4CD2-882E-D1042412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28C4F2-6B27-47FA-8EAC-C59A3623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65A2F-488E-49D3-98BC-72575740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065CA-F601-47D3-9EBD-F2BCD03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F2C48-497A-4BA8-A4E6-09653537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9A7A7-EEFD-4A10-9182-BD8A409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D78C3-AFF6-4647-8243-E691CA6F2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8C658-5D6F-4C4A-ACB2-84F77C42F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496A-686F-4A3E-AB2C-818F5EAA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D1D0A-FDF7-442B-942A-51141010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43BF63-9C49-40F7-897D-28A9B976F6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923AB8-B1BB-446E-ACEA-42787C71E37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1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534D3A-D67D-48B4-8021-4AE128F724A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5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1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2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05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7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2F33D2-2A3D-4B15-9B1A-8EF7949A7870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555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7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632C2A-8AF1-4CE4-9DE4-510C12273B5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602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8C331D-6E81-46C8-9B3A-265CB1CF686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51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510813-8A24-48F3-A8CD-EAAC0D577F8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98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060057-6A67-46A6-B5FF-47EC59D24436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45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025BE2-BF6B-4587-A838-20DA38E19FA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846CA8-F6E5-40EE-AA94-A2B71C1A318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83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763808-DD52-4709-B3EE-882968DDC66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C47AC7E-D1B5-48F3-9C97-AC4BC4DA65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88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35C168-959A-46AB-9125-5E3C8915008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0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931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3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234002-4ECC-4B3B-9611-CE0A4AACB7B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D874B7-6B91-4876-80AE-1CDC12FBFB2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021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3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024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6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60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BF8F47-205C-44CC-A1B3-5C5DA4E22127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3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7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D51A3A-D0BB-435D-B4E9-D3AB6B47586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1C2C56-FDA1-4226-AB28-F8225B7F2509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5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166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8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D236C-CA05-4AA6-B687-3FB96E2D997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1213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5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302109-FB05-4640-BE40-4CD0D71D6D9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F96ECA-AEC4-43BA-B287-4C5ADEB4A19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392478-5756-496B-97C8-E3F40EC5D1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8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EA6ADA3-4956-484A-A8DE-E2C219FD411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A33CAD3-C833-45F9-9FBE-5AFFCD7096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7CBCD6A-A968-41F6-8728-4A4549B8C5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E4136C9-7261-4764-AA5E-F36B78E68C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BB879AF-505C-4052-9F21-2D0D52287B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7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A28D469-1191-43E1-B593-687764B6E71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8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Прямоугольник 1"/>
          <p:cNvSpPr/>
          <p:nvPr/>
        </p:nvSpPr>
        <p:spPr>
          <a:xfrm>
            <a:off x="1619280" y="2133720"/>
            <a:ext cx="595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езентация к ур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862110"/>
                </a:solidFill>
                <a:latin typeface="Century Schoolbook"/>
              </a:rPr>
              <a:t>«РЕШЕНИЕ ЛОГАРИФМИЧЕСКИХ УРАВНЕНИ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Прямоугольник 2"/>
          <p:cNvSpPr/>
          <p:nvPr/>
        </p:nvSpPr>
        <p:spPr>
          <a:xfrm>
            <a:off x="2564280" y="765000"/>
            <a:ext cx="43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Нагорьевская средняя шк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Прямоугольник 3"/>
          <p:cNvSpPr/>
          <p:nvPr/>
        </p:nvSpPr>
        <p:spPr>
          <a:xfrm>
            <a:off x="3851280" y="4581360"/>
            <a:ext cx="45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ла учитель мате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пушкина Л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Прямоугольник 4"/>
          <p:cNvSpPr/>
          <p:nvPr/>
        </p:nvSpPr>
        <p:spPr>
          <a:xfrm>
            <a:off x="3503880" y="6021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1"/>
          <p:cNvSpPr/>
          <p:nvPr/>
        </p:nvSpPr>
        <p:spPr>
          <a:xfrm>
            <a:off x="2320200" y="76500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Введение новой переменной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8" name="Picture 2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38036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1"/>
          <p:cNvSpPr/>
          <p:nvPr/>
        </p:nvSpPr>
        <p:spPr>
          <a:xfrm>
            <a:off x="611280" y="765000"/>
            <a:ext cx="8028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1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 =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ОДЗ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ём новую переменну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примет ви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6 =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корн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2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1"/>
          <p:cNvSpPr/>
          <p:nvPr/>
        </p:nvSpPr>
        <p:spPr>
          <a:xfrm>
            <a:off x="611280" y="3224160"/>
            <a:ext cx="792144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нёмся к первоначальной переменн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–2 и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а значени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довлетворя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ласти допустимых значений данного уравнения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&gt;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0,01;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1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Object 3"/>
              <p:cNvSpPr txBox="1"/>
              <p:nvPr/>
            </p:nvSpPr>
            <p:spPr>
              <a:xfrm>
                <a:off x="1905120" y="4199040"/>
                <a:ext cx="3387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ли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1"/>
          <p:cNvSpPr/>
          <p:nvPr/>
        </p:nvSpPr>
        <p:spPr>
          <a:xfrm>
            <a:off x="1763640" y="69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 2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3780000" y="549360"/>
                <a:ext cx="41176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Object 11"/>
              <p:cNvSpPr txBox="1"/>
              <p:nvPr/>
            </p:nvSpPr>
            <p:spPr>
              <a:xfrm>
                <a:off x="1801800" y="1557360"/>
                <a:ext cx="53038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Object 12"/>
              <p:cNvSpPr txBox="1"/>
              <p:nvPr/>
            </p:nvSpPr>
            <p:spPr>
              <a:xfrm>
                <a:off x="1763640" y="2276640"/>
                <a:ext cx="43452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Object 13"/>
              <p:cNvSpPr txBox="1"/>
              <p:nvPr/>
            </p:nvSpPr>
            <p:spPr>
              <a:xfrm>
                <a:off x="2093760" y="2997360"/>
                <a:ext cx="6570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 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Object 14"/>
              <p:cNvSpPr txBox="1"/>
              <p:nvPr/>
            </p:nvSpPr>
            <p:spPr>
              <a:xfrm>
                <a:off x="4932360" y="3789360"/>
                <a:ext cx="321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Object 15"/>
              <p:cNvSpPr txBox="1"/>
              <p:nvPr/>
            </p:nvSpPr>
            <p:spPr>
              <a:xfrm>
                <a:off x="4932360" y="4797360"/>
                <a:ext cx="9604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Object 16"/>
              <p:cNvSpPr txBox="1"/>
              <p:nvPr/>
            </p:nvSpPr>
            <p:spPr>
              <a:xfrm>
                <a:off x="1835280" y="5732640"/>
                <a:ext cx="23763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братно: 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Text Box 1"/>
          <p:cNvSpPr/>
          <p:nvPr/>
        </p:nvSpPr>
        <p:spPr>
          <a:xfrm>
            <a:off x="123516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Метод логарифм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1" name="Picture 2" descr=""/>
          <p:cNvPicPr/>
          <p:nvPr/>
        </p:nvPicPr>
        <p:blipFill>
          <a:blip r:embed="rId2"/>
          <a:stretch/>
        </p:blipFill>
        <p:spPr>
          <a:xfrm>
            <a:off x="677880" y="1278000"/>
            <a:ext cx="7380360" cy="136836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3" descr=""/>
          <p:cNvPicPr/>
          <p:nvPr/>
        </p:nvPicPr>
        <p:blipFill>
          <a:blip r:embed="rId3"/>
          <a:stretch/>
        </p:blipFill>
        <p:spPr>
          <a:xfrm>
            <a:off x="677880" y="2637000"/>
            <a:ext cx="7308720" cy="1001520"/>
          </a:xfrm>
          <a:prstGeom prst="rect">
            <a:avLst/>
          </a:prstGeom>
          <a:ln w="0">
            <a:noFill/>
          </a:ln>
        </p:spPr>
      </p:pic>
      <p:sp>
        <p:nvSpPr>
          <p:cNvPr id="1363" name="Text Box 4"/>
          <p:cNvSpPr/>
          <p:nvPr/>
        </p:nvSpPr>
        <p:spPr>
          <a:xfrm>
            <a:off x="650880" y="3789360"/>
            <a:ext cx="8209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Schoolbook"/>
              </a:rPr>
              <a:t>ЕСЛИ В ПОКАЗАТЕЛЕ СТЕПЕНИ СОДЕРЖИТСЯ ЛОГАРИФМ, ТО ОБЕ ЧАСТИ УРАВНЕНИЯ ЛОГАРИФМИРУЮТ ПО ТОМУ ОСНОВАНИЮ, КОТОРОЕ СОДЕРЖИТСЯ В ОСНОВАНИИ ЛОГАРИФМА, НАХОДЯЩЕГОСЯ В ПОКАЗАТЕЛЕ СТЕПЕНИ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"/>
          <p:cNvSpPr/>
          <p:nvPr/>
        </p:nvSpPr>
        <p:spPr>
          <a:xfrm>
            <a:off x="1763640" y="549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Object 2"/>
              <p:cNvSpPr txBox="1"/>
              <p:nvPr/>
            </p:nvSpPr>
            <p:spPr>
              <a:xfrm>
                <a:off x="3635280" y="476280"/>
                <a:ext cx="208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Object 4"/>
              <p:cNvSpPr txBox="1"/>
              <p:nvPr/>
            </p:nvSpPr>
            <p:spPr>
              <a:xfrm>
                <a:off x="6084720" y="765000"/>
                <a:ext cx="2401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x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Object 5"/>
              <p:cNvSpPr txBox="1"/>
              <p:nvPr/>
            </p:nvSpPr>
            <p:spPr>
              <a:xfrm>
                <a:off x="1763640" y="1393920"/>
                <a:ext cx="71294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огарифмируем обе части уравнения по основанию 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6"/>
              <p:cNvSpPr txBox="1"/>
              <p:nvPr/>
            </p:nvSpPr>
            <p:spPr>
              <a:xfrm>
                <a:off x="3059280" y="1773360"/>
                <a:ext cx="2520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7"/>
              <p:cNvSpPr txBox="1"/>
              <p:nvPr/>
            </p:nvSpPr>
            <p:spPr>
              <a:xfrm>
                <a:off x="2987640" y="2349360"/>
                <a:ext cx="27669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Object 8"/>
              <p:cNvSpPr txBox="1"/>
              <p:nvPr/>
            </p:nvSpPr>
            <p:spPr>
              <a:xfrm>
                <a:off x="3059280" y="2781360"/>
                <a:ext cx="286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x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Object 9"/>
              <p:cNvSpPr txBox="1"/>
              <p:nvPr/>
            </p:nvSpPr>
            <p:spPr>
              <a:xfrm>
                <a:off x="1908000" y="3213000"/>
                <a:ext cx="5313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пусть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t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+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Object 10"/>
              <p:cNvSpPr txBox="1"/>
              <p:nvPr/>
            </p:nvSpPr>
            <p:spPr>
              <a:xfrm>
                <a:off x="5364000" y="3716280"/>
                <a:ext cx="1974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Object 11"/>
              <p:cNvSpPr txBox="1"/>
              <p:nvPr/>
            </p:nvSpPr>
            <p:spPr>
              <a:xfrm>
                <a:off x="1763640" y="4221000"/>
                <a:ext cx="5386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братная замена: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или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Object 12"/>
              <p:cNvSpPr txBox="1"/>
              <p:nvPr/>
            </p:nvSpPr>
            <p:spPr>
              <a:xfrm>
                <a:off x="4427640" y="4653000"/>
                <a:ext cx="264636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x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x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Text Box 1"/>
          <p:cNvSpPr/>
          <p:nvPr/>
        </p:nvSpPr>
        <p:spPr>
          <a:xfrm>
            <a:off x="1908000" y="6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Object 2"/>
              <p:cNvSpPr txBox="1"/>
              <p:nvPr/>
            </p:nvSpPr>
            <p:spPr>
              <a:xfrm>
                <a:off x="3564000" y="692280"/>
                <a:ext cx="16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Object 4"/>
              <p:cNvSpPr txBox="1"/>
              <p:nvPr/>
            </p:nvSpPr>
            <p:spPr>
              <a:xfrm>
                <a:off x="6300720" y="549360"/>
                <a:ext cx="241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: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Object 5"/>
              <p:cNvSpPr txBox="1"/>
              <p:nvPr/>
            </p:nvSpPr>
            <p:spPr>
              <a:xfrm>
                <a:off x="1763640" y="1413000"/>
                <a:ext cx="720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ологарифмируем по основанию 2: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Object 6"/>
              <p:cNvSpPr txBox="1"/>
              <p:nvPr/>
            </p:nvSpPr>
            <p:spPr>
              <a:xfrm>
                <a:off x="3851280" y="1989000"/>
                <a:ext cx="3154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Object 7"/>
              <p:cNvSpPr txBox="1"/>
              <p:nvPr/>
            </p:nvSpPr>
            <p:spPr>
              <a:xfrm>
                <a:off x="3851280" y="2492280"/>
                <a:ext cx="2503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Object 8"/>
              <p:cNvSpPr txBox="1"/>
              <p:nvPr/>
            </p:nvSpPr>
            <p:spPr>
              <a:xfrm>
                <a:off x="3780000" y="2997360"/>
                <a:ext cx="3779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Object 11"/>
              <p:cNvSpPr txBox="1"/>
              <p:nvPr/>
            </p:nvSpPr>
            <p:spPr>
              <a:xfrm>
                <a:off x="3851280" y="3573360"/>
                <a:ext cx="2865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Object 12"/>
              <p:cNvSpPr txBox="1"/>
              <p:nvPr/>
            </p:nvSpPr>
            <p:spPr>
              <a:xfrm>
                <a:off x="2987640" y="4437000"/>
                <a:ext cx="4152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усть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t,</m:t>
                    </m:r>
                    <m:r>
                      <m:rPr>
                        <m:lit/>
                        <m:nor/>
                      </m:rPr>
                      <m:t xml:space="preserve"> тогда 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Object 13"/>
              <p:cNvSpPr txBox="1"/>
              <p:nvPr/>
            </p:nvSpPr>
            <p:spPr>
              <a:xfrm>
                <a:off x="5508720" y="486900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5" name="Object 14"/>
              <p:cNvSpPr txBox="1"/>
              <p:nvPr/>
            </p:nvSpPr>
            <p:spPr>
              <a:xfrm>
                <a:off x="2916360" y="5300640"/>
                <a:ext cx="4446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Обратно: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 или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Object 15"/>
              <p:cNvSpPr txBox="1"/>
              <p:nvPr/>
            </p:nvSpPr>
            <p:spPr>
              <a:xfrm>
                <a:off x="4519440" y="5805360"/>
                <a:ext cx="2352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  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7" name="Object 1"/>
              <p:cNvSpPr txBox="1"/>
              <p:nvPr/>
            </p:nvSpPr>
            <p:spPr>
              <a:xfrm>
                <a:off x="1908000" y="907920"/>
                <a:ext cx="2710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5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2"/>
              <p:cNvSpPr txBox="1"/>
              <p:nvPr/>
            </p:nvSpPr>
            <p:spPr>
              <a:xfrm>
                <a:off x="4788000" y="1557360"/>
                <a:ext cx="4133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x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x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9" name="Rectangle 3"/>
          <p:cNvSpPr/>
          <p:nvPr/>
        </p:nvSpPr>
        <p:spPr>
          <a:xfrm>
            <a:off x="1908000" y="2205000"/>
            <a:ext cx="28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lg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0" name="Object 5"/>
              <p:cNvSpPr txBox="1"/>
              <p:nvPr/>
            </p:nvSpPr>
            <p:spPr>
              <a:xfrm>
                <a:off x="1835280" y="3429000"/>
                <a:ext cx="2912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1" name="Object 6"/>
              <p:cNvSpPr txBox="1"/>
              <p:nvPr/>
            </p:nvSpPr>
            <p:spPr>
              <a:xfrm>
                <a:off x="5940360" y="2708280"/>
                <a:ext cx="1863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1"/>
          <p:cNvSpPr/>
          <p:nvPr/>
        </p:nvSpPr>
        <p:spPr>
          <a:xfrm>
            <a:off x="1258920" y="155736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методы решения логарифмических уравнений существу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логарифмические уравнения можно решить методом подстанов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ущность метода логарифмирования? Каким образом определяем основание логариф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Прямоугольник 1"/>
          <p:cNvSpPr/>
          <p:nvPr/>
        </p:nvSpPr>
        <p:spPr>
          <a:xfrm>
            <a:off x="2195640" y="5493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Рефлекс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2843280" y="404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Monotype Corsiv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92"/>
          <p:cNvSpPr/>
          <p:nvPr/>
        </p:nvSpPr>
        <p:spPr>
          <a:xfrm>
            <a:off x="0" y="3300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93"/>
          <p:cNvSpPr/>
          <p:nvPr/>
        </p:nvSpPr>
        <p:spPr>
          <a:xfrm>
            <a:off x="0" y="33098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7" name="Picture 133" descr=""/>
          <p:cNvPicPr/>
          <p:nvPr/>
        </p:nvPicPr>
        <p:blipFill>
          <a:blip r:embed="rId2"/>
          <a:stretch/>
        </p:blipFill>
        <p:spPr>
          <a:xfrm>
            <a:off x="468360" y="949320"/>
            <a:ext cx="7940520" cy="4724280"/>
          </a:xfrm>
          <a:prstGeom prst="rect">
            <a:avLst/>
          </a:prstGeom>
          <a:ln w="0">
            <a:noFill/>
          </a:ln>
        </p:spPr>
      </p:pic>
      <p:sp>
        <p:nvSpPr>
          <p:cNvPr id="1398" name="Text Box 14"/>
          <p:cNvSpPr/>
          <p:nvPr/>
        </p:nvSpPr>
        <p:spPr>
          <a:xfrm>
            <a:off x="453960" y="5837400"/>
            <a:ext cx="84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ок: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1;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2;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5»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4a4800"/>
                </a:solidFill>
                <a:latin typeface="Arial"/>
              </a:rPr>
              <a:t>уровень 3</a:t>
            </a:r>
            <a:r>
              <a:rPr b="0" lang="ru-RU" sz="1800" spc="-1" strike="noStrike">
                <a:solidFill>
                  <a:srgbClr val="4a48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1"/>
          <p:cNvSpPr/>
          <p:nvPr/>
        </p:nvSpPr>
        <p:spPr>
          <a:xfrm>
            <a:off x="1763640" y="69228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2"/>
          <p:cNvSpPr/>
          <p:nvPr/>
        </p:nvSpPr>
        <p:spPr>
          <a:xfrm>
            <a:off x="468360" y="519120"/>
            <a:ext cx="828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УСТНАЯ РАБО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684360" y="1197000"/>
            <a:ext cx="426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ЫЧИСЛИТЕ ЗНАЧЕНИЯ ВЫ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8" name="Object 4"/>
              <p:cNvSpPr txBox="1"/>
              <p:nvPr/>
            </p:nvSpPr>
            <p:spPr>
              <a:xfrm>
                <a:off x="1763640" y="2035080"/>
                <a:ext cx="1471680" cy="459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10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g1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9" name="TextBox 6"/>
          <p:cNvSpPr/>
          <p:nvPr/>
        </p:nvSpPr>
        <p:spPr>
          <a:xfrm>
            <a:off x="4944960" y="1341360"/>
            <a:ext cx="35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ЕШИТЕ УРАВ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0" name="Object 7"/>
              <p:cNvSpPr txBox="1"/>
              <p:nvPr/>
            </p:nvSpPr>
            <p:spPr>
              <a:xfrm>
                <a:off x="5651640" y="2205000"/>
                <a:ext cx="315108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1" name="Object 1"/>
              <p:cNvSpPr txBox="1"/>
              <p:nvPr/>
            </p:nvSpPr>
            <p:spPr>
              <a:xfrm>
                <a:off x="5292720" y="620640"/>
                <a:ext cx="3124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a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b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c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2" name="Text Box 2"/>
          <p:cNvSpPr/>
          <p:nvPr/>
        </p:nvSpPr>
        <p:spPr>
          <a:xfrm>
            <a:off x="826920" y="69228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 Gothic"/>
              </a:rPr>
              <a:t>Свойства логариф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826920" y="1341360"/>
          <a:ext cx="7453440" cy="3740400"/>
        </p:xfrm>
        <a:graphic>
          <a:graphicData uri="http://schemas.openxmlformats.org/drawingml/2006/table">
            <a:tbl>
              <a:tblPr/>
              <a:tblGrid>
                <a:gridCol w="487440"/>
                <a:gridCol w="3835440"/>
                <a:gridCol w="3130560"/>
              </a:tblGrid>
              <a:tr h="37944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Форму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4320">
                      <a:solidFill>
                        <a:srgbClr val="747338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е логарифмическое тожд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8352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единиц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числа а по основанию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произ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част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01880" bIns="46800" anchor="t">
                      <a:noAutofit/>
                    </a:bodyPr>
                    <a:p>
                      <a:pPr algn="ctr"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47338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1880" bIns="46800" anchor="t">
                      <a:noAutofit/>
                    </a:bodyPr>
                    <a:p>
                      <a:pPr>
                        <a:lnSpc>
                          <a:spcPct val="84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гарифм степе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21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747338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24" name="Object 87"/>
              <p:cNvSpPr txBox="1"/>
              <p:nvPr/>
            </p:nvSpPr>
            <p:spPr>
              <a:xfrm>
                <a:off x="6804000" y="1844640"/>
                <a:ext cx="1447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ct 88"/>
              <p:cNvSpPr txBox="1"/>
              <p:nvPr/>
            </p:nvSpPr>
            <p:spPr>
              <a:xfrm>
                <a:off x="6875640" y="2349360"/>
                <a:ext cx="1218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Text Box 1"/>
          <p:cNvSpPr/>
          <p:nvPr/>
        </p:nvSpPr>
        <p:spPr>
          <a:xfrm>
            <a:off x="684360" y="534960"/>
            <a:ext cx="792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Schoolbook"/>
              </a:rPr>
              <a:t>Найдите ошибку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7" name="Picture 2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59600" cy="53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1"/>
          <p:cNvSpPr/>
          <p:nvPr/>
        </p:nvSpPr>
        <p:spPr>
          <a:xfrm>
            <a:off x="900000" y="536400"/>
            <a:ext cx="7772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Самостоятель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9" name="Object 2"/>
              <p:cNvSpPr txBox="1"/>
              <p:nvPr/>
            </p:nvSpPr>
            <p:spPr>
              <a:xfrm>
                <a:off x="755640" y="1916280"/>
                <a:ext cx="3745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0" name="Object 11"/>
              <p:cNvSpPr txBox="1"/>
              <p:nvPr/>
            </p:nvSpPr>
            <p:spPr>
              <a:xfrm>
                <a:off x="468360" y="2492280"/>
                <a:ext cx="5527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1" name="Text Box 12"/>
          <p:cNvSpPr/>
          <p:nvPr/>
        </p:nvSpPr>
        <p:spPr>
          <a:xfrm>
            <a:off x="1258920" y="98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1 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Прямоугольник 13"/>
          <p:cNvSpPr/>
          <p:nvPr/>
        </p:nvSpPr>
        <p:spPr>
          <a:xfrm>
            <a:off x="6163560" y="32846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3" name="Object 14"/>
              <p:cNvSpPr txBox="1"/>
              <p:nvPr/>
            </p:nvSpPr>
            <p:spPr>
              <a:xfrm>
                <a:off x="4716360" y="3789360"/>
                <a:ext cx="3924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-5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Object 3"/>
              <p:cNvSpPr txBox="1"/>
              <p:nvPr/>
            </p:nvSpPr>
            <p:spPr>
              <a:xfrm>
                <a:off x="826920" y="1413000"/>
                <a:ext cx="35974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9-2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Object 15"/>
              <p:cNvSpPr txBox="1"/>
              <p:nvPr/>
            </p:nvSpPr>
            <p:spPr>
              <a:xfrm>
                <a:off x="4716360" y="4437000"/>
                <a:ext cx="346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Object 16"/>
              <p:cNvSpPr txBox="1"/>
              <p:nvPr/>
            </p:nvSpPr>
            <p:spPr>
              <a:xfrm>
                <a:off x="3780000" y="5157720"/>
                <a:ext cx="5209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Text Box 1"/>
          <p:cNvSpPr/>
          <p:nvPr/>
        </p:nvSpPr>
        <p:spPr>
          <a:xfrm>
            <a:off x="1554120" y="754200"/>
            <a:ext cx="6089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ПРОВЕРК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063800" y="1844640"/>
          <a:ext cx="7057800" cy="2416320"/>
        </p:xfrm>
        <a:graphic>
          <a:graphicData uri="http://schemas.openxmlformats.org/drawingml/2006/table">
            <a:tbl>
              <a:tblPr/>
              <a:tblGrid>
                <a:gridCol w="3530520"/>
                <a:gridCol w="3527280"/>
              </a:tblGrid>
              <a:tr h="5011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; 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;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160" bIns="4680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39" name="Object 48"/>
              <p:cNvSpPr txBox="1"/>
              <p:nvPr/>
            </p:nvSpPr>
            <p:spPr>
              <a:xfrm>
                <a:off x="2771640" y="1844640"/>
                <a:ext cx="289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Text Box 1"/>
          <p:cNvSpPr/>
          <p:nvPr/>
        </p:nvSpPr>
        <p:spPr>
          <a:xfrm>
            <a:off x="1332000" y="333360"/>
            <a:ext cx="641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ОПРЕДЕ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 Box 2"/>
          <p:cNvSpPr/>
          <p:nvPr/>
        </p:nvSpPr>
        <p:spPr>
          <a:xfrm>
            <a:off x="1116000" y="1600200"/>
            <a:ext cx="7416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я, содержащие неизвестное под знаком логарифма или в основании логарифма называются </a:t>
            </a:r>
            <a:r>
              <a:rPr b="1" lang="ru-RU" sz="2400" spc="-1" strike="noStrike">
                <a:solidFill>
                  <a:srgbClr val="00b050"/>
                </a:solidFill>
                <a:latin typeface="Century Schoolbook"/>
              </a:rPr>
              <a:t>логарифмичес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Object 3"/>
              <p:cNvSpPr txBox="1"/>
              <p:nvPr/>
            </p:nvSpPr>
            <p:spPr>
              <a:xfrm>
                <a:off x="3348000" y="3357720"/>
                <a:ext cx="30243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b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b=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Прямоугольник 1"/>
          <p:cNvSpPr/>
          <p:nvPr/>
        </p:nvSpPr>
        <p:spPr>
          <a:xfrm>
            <a:off x="900000" y="1700280"/>
            <a:ext cx="777564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 логариф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уравнение 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 &gt; 0, а≠ 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 ) имеет решение  х = а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функционально-графический мет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етод потенцир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,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(х) = log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(х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f(х) = g(х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f(х)&gt;0, g(х)&gt;0 , а &gt; 0, а≠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 введение новой перем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од подстановк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тод логарифмирования обеих частей урав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Прямоугольник 2"/>
          <p:cNvSpPr/>
          <p:nvPr/>
        </p:nvSpPr>
        <p:spPr>
          <a:xfrm>
            <a:off x="1042920" y="404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Основные методы  решения логарифмически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1"/>
          <p:cNvSpPr/>
          <p:nvPr/>
        </p:nvSpPr>
        <p:spPr>
          <a:xfrm>
            <a:off x="1908000" y="333360"/>
            <a:ext cx="60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  <a:ea typeface="Times New Roman"/>
              </a:rPr>
              <a:t>Этапы решения урав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2"/>
          <p:cNvSpPr/>
          <p:nvPr/>
        </p:nvSpPr>
        <p:spPr>
          <a:xfrm>
            <a:off x="971640" y="1268280"/>
            <a:ext cx="727236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бласть допустимых значений (ОДЗ)  перемен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ь уравнение, выбрав метод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найденные корни  непосредственной           подстановкой в исходное уравнение или    выяснить, удовлетворяют  ли они условиям ОД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14:55:30Z</dcterms:created>
  <dc:creator>Астахова В.Г.</dc:creator>
  <dc:description/>
  <dc:language>en-US</dc:language>
  <cp:lastModifiedBy>Мать Паисия</cp:lastModifiedBy>
  <dcterms:modified xsi:type="dcterms:W3CDTF">2023-06-29T15:20:33Z</dcterms:modified>
  <cp:revision>131</cp:revision>
  <dc:subject/>
  <dc:title>Логарифмические уравнения</dc:title>
</cp:coreProperties>
</file>