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E53-CD72-4BC5-8774-3327A8E4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8F3-2A3A-4150-A7E2-24127BB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B361E-1BF8-437D-A396-50A2E65A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3BE0-3702-4F19-A04D-AACDE5C9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CA6B6-0DA2-4F31-B737-A697731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1ED41-39CA-4D33-9756-EFC424B7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C70A5-7762-40A7-AEDB-0346F80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71798-5CAB-422D-9D3E-9315920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D1C6-5B0C-4D69-ACC0-F4DDD21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58EA3-E9BF-41A9-884C-89A5A2A4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6507E-7E1F-47E8-A570-3FDC56CE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8EDA5-975D-450C-BFB1-8965AF81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8F0-A472-4182-9AF1-A919A770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4DBC5-C92F-4453-83AC-E8C18CE3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068F0-C7F4-49E5-A934-ED1E790F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909EB-BAB7-4A22-B22B-6F0ACBE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F4460-6933-4BA4-968F-CCCB66A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AE06E-2A1C-4A95-8028-48B4AE7D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48DC9-BB14-425C-AE93-5523FA5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EEDE5-6C01-46FE-8EBF-B7FCA7A9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04AE7-D796-4810-907C-37CB353A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9D9E5-BD8E-44B1-81B1-D526724B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D7F38-14BE-4269-9E86-7BFD3D90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071-29B5-40DD-A562-6FC7EFD5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0A499-C35F-42A7-9016-5891DB76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273F9-E61F-41E2-9638-551F26DF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65B6E-4C59-40BA-9A9A-4C39B178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2F753-3704-4079-B883-7FDD143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4113E-4A15-4D4F-962D-85B64E08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36CD8-0B7A-4366-9B77-29E04074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D93B5-10D6-4562-9954-2C627B0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F1752-8B2B-4B2A-A271-70F5C140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0A1E2-02A3-45D3-82D3-6BB2FADF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C0856-3B65-4266-8599-74FFA4D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3B52-EBE9-4352-8FC8-D27DF918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80416-DA2B-4F2F-8A5F-E9C2769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7D8E6-7491-41E4-B3C6-72C7AD56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19203-A328-4A75-A548-8C607F84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A77A8-72E7-4003-8F88-42FFCB20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62D58-3791-48CA-9F00-95FCF282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6BD42-3D3A-4D83-A0C7-0324FA41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D8275-B2CB-48C2-8441-A4372C6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9B78C-A8AA-48CC-8420-42F3297F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8BF25-B0D2-4D8C-92D2-FD51954B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EF37A-BEDA-4095-877B-248EDAC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A011-EF40-4D88-84C0-8F0C50C6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D0E38-7378-4126-BCD3-E92EE9FE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34948-A56B-4F95-BF79-E593452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0E386-0C59-411D-B8CC-43FE49D1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518C7-5595-4707-9F81-180B5607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BF922-079D-4C80-9774-43B9A7CD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AD625-6936-4A1B-A3AF-343F01CE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D015F-8C10-4701-9E95-9BD34CE5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24572-FEDD-4266-A14C-252EA9A6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0A86F-A039-4CBE-A3FA-18A1BFB3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1872C-09E0-4EEF-973D-6C88FA31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4E1-39FD-45C2-8627-D87F8BA7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7A81F-8C0F-4E7F-8666-FF3B4650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4EE9F-8E44-41CA-890A-D4CA507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D9E13-01EB-4474-9AB3-FB31AEBE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CE567-4497-486A-99D8-510EB2A9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5E0E0-FBC5-4F80-855C-293061CD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4B9F4-8E78-4BC1-AEF0-14134549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29E63-7E5C-45B8-9716-B1D53B06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33DCA-4E18-43E6-B432-5E9D2AD7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DB179-206A-4785-9B28-194B7ED4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696B8-C436-4B3D-A7A2-69606396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72C0-F7CB-49A5-9B75-C056E287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0A32A-1BE2-4B20-BC01-89DD50DF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DF0AD-0854-4F75-AB18-E8676912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261D5-2A60-4E1C-ABC2-078B83B6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F5BB9-FE48-4B8D-BD83-9A8869FB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3D448-3C99-4648-ADDD-220628B0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63D20-2448-4B9C-83B9-5541414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95A92-8D13-48D9-A84C-322138AB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9C717-B6E0-4421-A387-A184FDC4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9D89F-8D5B-44D8-AD7A-78F78567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479CD-E88B-471F-9815-6F72A5D5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FC15-AD79-459B-9736-57D82AC8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5F5B4-4414-43ED-996B-4084919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3E697-CB2B-4E23-8D54-2DFAD76A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E0600-77A3-4B61-B526-0B77949D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D0E01-5021-45D2-876F-27CAEEC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F5DAF-E0B7-42FA-8D1B-A5D34141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DF826-E0FE-4509-BEC5-CFB5F94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C8FE4E-38B4-4EB3-93E4-CCEEB82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E4397-034C-4C99-9011-51D68C47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654A6-6D61-4091-AF68-9352F1FD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6B835-20E6-4C94-AC76-F7641489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561C-CDB2-4337-95D7-595AEA9D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CC458-6AB5-4585-9B4A-70A8DBAE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DA5F0-9A10-492E-9E08-3669C6EC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8C941-CEF1-4A0D-BFAC-F230AE63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D0CFB-E343-4179-9396-9B31A56A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CBB87-E2C4-4950-84D7-7293D726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85928-70B1-414A-B0D2-1015AE66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B7920-F738-4A9C-8F58-2CC7242E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589F5-2816-4952-A500-2C1C18E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351A6-FF63-4203-AAF2-78E2744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F17BC-58B9-4A3B-99C2-A8FE849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1DA9-B89C-464B-9F58-075D727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8DA94-AA49-413B-9CA7-F3938E88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6297C-11E8-41DE-ADB8-EC26DA41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4A05A5-9CDE-42E1-AEDB-10FF73D4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4DD8A-5B64-47A5-9351-651EB2DA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8A4E0-51EB-430D-847A-C3208908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CF357-95EE-4568-BD6D-0EABF974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17874-3069-4F59-A2A0-5943187B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3A579-C70C-4959-B6DC-AD0E721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D774B4-CB98-4E61-BCDB-121165DD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5AAE9-67E9-43A8-85D4-2EEBE15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37B-A227-4A4C-956D-29E4352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AD01-791B-4D27-B9A4-E791A7D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A0D1CD-69D8-423F-8865-7917526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8D062-861F-4CB9-9434-94011435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8D36E5-F842-4E1A-A045-4A05E23D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B9017-F663-484C-A50F-3410FFDD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4513A-1F5B-4D9C-9E25-0078797A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0F12-AE7F-44B8-8684-C52BAD0A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B30B-7CB6-4599-877F-CCB8A32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B2D6-17C5-4A6E-935A-23D1B5D1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FD1D-72EC-4C49-A4A6-7932F907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1A40-3FD9-4409-AC72-90764715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A76E-DC24-499B-B73F-11D211AA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C6C5-A567-448A-B544-921B5784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2457-05AD-4981-A35C-BACC2DBF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B7ED-45CB-4CB1-A798-1C361109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2AF-FF5D-4457-8FB7-BC117659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1ADB-2484-4D8B-99F6-706A0824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18BF-4B53-4828-A102-3214F11A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FACA-12E5-4A88-8942-D8511DE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2607-9658-4B2C-A29E-B064583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9176-7807-48AF-BE53-58A23F8B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8CA8-9931-4D7E-AF24-314C68A4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6130-E381-47D5-B6D3-63054908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7D233-919B-49E1-9212-55D6AE6F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7019-7A0D-4DE9-9F7D-D4BA849D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5117A-7152-459E-B029-D59D8F83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D89-746D-4622-AB11-B9D5C340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3DE7-AE35-421C-9536-40DDD2F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24C90-3A4A-4D12-92CC-89EB8E4C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7628-A433-4001-AB3D-ABDEA02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2176-B200-4F91-AB72-79C0A80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7326B-744F-4D77-9F9C-F19BF00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F113-0219-4EFA-9D16-A3B8EB8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AE07-871B-406B-A84C-4120BFE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5D27-2509-47AB-90E0-E6F7BE1C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7C56-7B27-4BC0-8439-258547E1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1AC6-DAE6-4130-B1D0-E9FD0FF3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D50-D017-4F08-87C2-6FC58FA5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FC6BC-D9A2-4134-96C6-600699E9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9426C-F2A0-4A93-BF30-C4A62E63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DF428-2D6B-41DD-9D48-66C3D5F8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2799-1871-4132-B789-91DC516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A1CE-C55F-4ED8-82A5-AF1BF978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742D-BA8A-444F-87E0-788CDDF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BB45-CCC8-4C52-BCC2-4596495B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D0095-4AC0-4DC8-B538-B3880C72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28AA-61B3-448F-9BAA-88BD4394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53DC-2A73-49D1-A2D6-832F3C21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279-819B-4111-9F7A-D2A78332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19E0-A118-431A-A716-2D6E2498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3DD2C-AF9F-496A-9952-F991EC85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25393-364B-469A-B852-9E1463CF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69B8-945D-4816-B310-AD75E886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966E0-EC5F-49D4-AF56-D9674A98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0224-D11B-4632-953D-5315E865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323F0-CFD8-4AF3-A54D-41A46DAD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C0DBB-0DF1-48AF-841A-F85E3EB3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2165-4EF6-40C9-BF5D-2856F2F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93799-0506-4844-A46C-D81E6854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230-349F-432F-88C8-A7D8FE4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533AF-9C82-4F3A-BDE1-B505D8F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B456B-9BE3-4BB4-95F2-D03DDF21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C5E9-7E3F-487D-8818-01682652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59DEF-514F-48AA-AAAF-3FE9A60F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CEEB1-3A3D-4671-B44B-646CF49D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A9693-7295-4CC9-80AC-E30B6137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27815-076E-42DE-8067-590ADBD3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C876-DC70-4E2F-98D3-386A35FF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AFF5C-47FA-4D5B-9A4E-5B068B4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EB904-75A9-4F4C-9D3F-BE6464D7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38D-A373-4723-AEF2-4499A09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D0457-3EF8-47DD-96CB-F274B9A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C7F3B-0A75-4FAF-98B1-72F4936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1619D-DEC1-4C54-8357-41B6C63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6D64C-578C-441A-92B1-31F12874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FB39-EA60-4E7A-A7B6-36C9C4C4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BA029-2F17-4132-8D3A-7FA24D30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FCE48-4E3E-4457-B7DA-D9E77CF6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887C4-A3E2-4B11-8A9A-14C9636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521B3-90DA-450F-8186-423506F2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71009-D4F3-4999-B98F-3618AD1C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B0A-005B-4719-A5FC-AC0E6176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F6F20-6B50-4B7F-B53B-989ECBAB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6C8AB-3E40-4066-A1C2-FFA1841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16853-9692-437A-9767-3F93038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7B3D4-697B-431E-BF77-B1A5937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FFC1E-FE10-402F-AECC-B188CDB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33ED0-745B-471F-9104-AB3B9F4D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F9EBA-F9C9-4516-B186-D6039394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3664F-19E5-4785-AFB1-B6A89F46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84DC9-3F4F-49CC-8CBB-21CB612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95488-1FC7-46CD-A93F-DB8022AE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B1155-7720-42E6-B116-19A442289D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02290-0C52-4208-ABA2-0C7BF76A89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9C20B-F0FE-4491-8C3C-AB16820C6B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7D71A-6AF6-4E1B-B063-87D9844F18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48173-6F77-421F-B9AF-495BC3BFAB2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A7B44-CF84-4B4A-A9DD-12B59398D9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42DEB-C799-4595-A0E7-5B2C11CF2C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0FA3F-1444-4A23-BDBF-02179A4C7F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C8949-2FCC-4FB7-871D-09F919D344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D5C64-1C97-4BEF-BA08-504ABC47F3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A0FB0-4721-452B-940B-E1EA1EBCFD7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D5272-8934-41BD-A6D9-482B25120B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A5F7A-4B19-46FF-A10A-DA1075E19F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D6AAA-34EE-4800-9344-B50A484EE43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EC40E-82B8-4CE5-B81C-DBE982D38C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956D9-AF1C-4FE6-8A84-4D61E114FC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720"/>
                <a:gd name="textAreaBottom" fmla="*/ 4402080 h 44017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600"/>
                <a:gd name="textAreaBottom" fmla="*/ 3027960 h 302760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7280"/>
                <a:gd name="textAreaBottom" fmla="*/ 2717640 h 271728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BFAE7-10D9-4DCE-86F3-F5E3586392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 txBox="1"/>
          <p:nvPr/>
        </p:nvSpPr>
        <p:spPr>
          <a:xfrm>
            <a:off x="684000" y="155700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ЛИЯНИЕ РАЗЛИЧНЫХ ДВИГАТЕЛЬНЫХ РЕЖИМОВ НА ФИЗИЧЕСКОЕ РАЗВИТИЕ СТАРШИХ ШКОЛЬНИКОВ </a:t>
            </a:r>
            <a:endParaRPr b="0" lang="en-US" sz="31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60000"/>
              </a:lnSpc>
              <a:spcBef>
                <a:spcPts val="638"/>
              </a:spcBef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оярова Ирина Владимировна 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Century Gothic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стов-на-Дону - 2022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2756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98" name="Объект 3"/>
          <p:cNvGraphicFramePr/>
          <p:nvPr/>
        </p:nvGraphicFramePr>
        <p:xfrm>
          <a:off x="1550880" y="136224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136224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Прямоугольник 4"/>
          <p:cNvSpPr/>
          <p:nvPr/>
        </p:nvSpPr>
        <p:spPr>
          <a:xfrm>
            <a:off x="2268360" y="5211720"/>
            <a:ext cx="575964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4 – Сравнительные показатели функциональных проб с задержкой дыхания у девушек контрольной и экспериментальной групп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025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202" name="Объект 3"/>
          <p:cNvGraphicFramePr/>
          <p:nvPr/>
        </p:nvGraphicFramePr>
        <p:xfrm>
          <a:off x="1295280" y="136224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6224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4" name="Прямоугольник 4"/>
          <p:cNvSpPr/>
          <p:nvPr/>
        </p:nvSpPr>
        <p:spPr>
          <a:xfrm>
            <a:off x="2266920" y="5384880"/>
            <a:ext cx="567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5 – Сравнительные показатели комплексной оценки здоровья обучающихс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Выводы</a:t>
            </a:r>
            <a:r>
              <a:rPr b="0" lang="ru-RU" sz="36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684360" y="764640"/>
            <a:ext cx="8208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 algn="just">
              <a:lnSpc>
                <a:spcPct val="100000"/>
              </a:lnSpc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1.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Двигательная активность, являясь незаменимым фактором жизнедеятельности человека, оказывает наиболее благоприятное воздействие на растущий организм только в пределах оптимальных величин. Как недостаток, так и избыток движений приводит к патологическим сдвигам в организме, в результате чего возникает гипокинезия или гиперкинези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Оптимальная величина двигательной активности меняется в зависимости от возраста и пола детей и подростков, поскольку биологическая потребность в движениях у них различная. Потребность в движениях подвержена колебаниям на протяжении года. Число естественных локомоций у подростков в осенний и особенно зимний период снижается, а весной и особенно летом - значительно возрастает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Суточная двигательная активность тесно связана с биологическими ритмами, в соответствии с которыми периоды наибольшей двигательной активности наблюдаются между 9 и 12 часами и между 15 и 18 часами. Иными словами, функциональное состояние организма представляет собой двугорбую кривую с подъемом в указанные часы. Для большей эффективности тренировки целесообразно планировать в указанные периоды времен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По результатам собственных исследований увеличение двигательного режима обучающихся старших классов до 5 часов вместо обычных 3-х часов при занятиях физкультурой в школе за счет факультативных занятий, предусматривающих ежедневное проведение на большой перемене подвижных игр, повышает резистентность организма к неблагоприятным факторам и улучшает показатели физической подготовленност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457200" algn="just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Практические  рекомендации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610920" y="1197000"/>
            <a:ext cx="82818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362160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404040"/>
                </a:solidFill>
                <a:latin typeface="Calibri"/>
                <a:ea typeface="Calibri"/>
              </a:rPr>
              <a:t> </a:t>
            </a:r>
            <a:endParaRPr b="0" lang="en-US" sz="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Для удовлетворения потребностей детей в движениях и обеспечения быстрого включения их в активную работу на уроках, учебным занятиям в школе должна предшествовать гигиеническая гимнастика, продолжительность которой должна составлять 6-10 минут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Занятия физической культурой в школе целесообразно проводить после третьего урока, когда возникает все нарастающее умственное утомление после длительного пребывания школьников в статическом положени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Физическая нагрузка на уроках физкультуры должна быть наиболее интенсивной в первую половину дня и составлять 20-30% суточного объема, движений. Это первая «вершина» двигательной активности на протяжении суток. Вторая и наибольшая - спортивные занятия или физический труд после школы (между 16-18 часами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Занятия физическими упражнениями, виды мышечной деятельности должны быть разнообразными, но сбалансированными в количественном отношении с потребностями и возможностями растущего организм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для профилактики гипокинезии необходимо увеличение динамического компонента в основных формах физического воспитания и трудового обучения, а также внедрение внеурочных форм физического воспитания, таких как, в частности, подвижные игры на большой перемене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 algn="just">
              <a:lnSpc>
                <a:spcPct val="100000"/>
              </a:lnSpc>
              <a:buClr>
                <a:srgbClr val="000000"/>
              </a:buClr>
              <a:buSzPct val="81000"/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Courier New"/>
              </a:rPr>
              <a:t>Привлечение к спортивно-массовой работе и общественно полезному труду подростков должно осуществляться с учетом возрастно-половых особенностей их организма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85680" indent="362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812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1581aa"/>
                </a:solidFill>
                <a:latin typeface="Times New Roman"/>
                <a:ea typeface="Times New Roman"/>
              </a:rPr>
              <a:t>Благодарю за внимание </a:t>
            </a:r>
            <a:r>
              <a:rPr b="0" lang="ru-RU" sz="3600" spc="-1" strike="noStrike">
                <a:solidFill>
                  <a:srgbClr val="1581aa"/>
                </a:solidFill>
                <a:latin typeface="Century Gothic"/>
              </a:rPr>
              <a:t>!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Объект исследования: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учебно-образовательный процесс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Предмет исследования: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двигательные режимы физической активности старших школьник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Цель исследования: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 дать характеристику факторам, влияющим на двигательную активность школьников старшего возраста и определить влияние различных двигательных режимов на физическое состояние и здоровье обучающихс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1786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98392"/>
                </a:solidFill>
                <a:latin typeface="Times New Roman"/>
                <a:ea typeface="Times New Roman"/>
              </a:rPr>
              <a:t>Задачи исследования</a:t>
            </a:r>
            <a:br>
              <a:rPr sz="4000"/>
            </a:br>
            <a:endParaRPr b="0" lang="en-US" sz="40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971280" y="1000080"/>
            <a:ext cx="78483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353535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Провести анализ литературных источников по теме исследования и факторы, влияющие на двигательную активность школьник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353535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Изучить функциональное состояние и физическую подготовленность обучающихся при различных двигательных режимах по данным литературных источников и собственных наблюдени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30000"/>
              </a:lnSpc>
              <a:spcBef>
                <a:spcPts val="1001"/>
              </a:spcBef>
              <a:buClr>
                <a:srgbClr val="353535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Calibri"/>
              </a:rPr>
              <a:t>Дать комплексную оценку состояния здоровья школьников старшего возраста с различными двигательными режимам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Прямоугольник 1"/>
          <p:cNvSpPr/>
          <p:nvPr/>
        </p:nvSpPr>
        <p:spPr>
          <a:xfrm>
            <a:off x="611280" y="765000"/>
            <a:ext cx="777708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98392"/>
                </a:solidFill>
                <a:latin typeface="Times New Roman"/>
                <a:ea typeface="Calibri"/>
              </a:rPr>
              <a:t>Гипотеза исследования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ционализация двигательного режима, гигиенического нормирования суточной величины двигательной активности, будет содействовать укреплению состояния здоровья и профилактики гипокинезии и гиперкинезии в подростковом возрасте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02920" y="623520"/>
            <a:ext cx="7131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Century Gothic"/>
              </a:rPr>
              <a:t>Организация исследования</a:t>
            </a:r>
            <a:endParaRPr b="0" lang="en-US" sz="32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1115640" y="2133360"/>
            <a:ext cx="7418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целью изучения воздействия различных двигательных режимов на состояние здоровья были проведены исследования, в которых принимали участие школьники 16-17 лет МБОУ «Школа № 16» г. Ростова-на-Дону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ервой группе (контрольной) было 9 мальчиков и 13 девочек, во 2-ой группе (экспериментальной) - соответственно 10 мальчиков и 11 девоче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331640" y="623880"/>
            <a:ext cx="720252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581aa"/>
                </a:solidFill>
                <a:latin typeface="Century Gothic"/>
              </a:rPr>
              <a:t>Организация исследова</a:t>
            </a:r>
            <a:r>
              <a:rPr b="1" lang="ru-RU" sz="3600" spc="-1" strike="noStrike">
                <a:solidFill>
                  <a:srgbClr val="1581aa"/>
                </a:solidFill>
                <a:latin typeface="Century Gothic"/>
              </a:rPr>
              <a:t>ния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826920" y="1412640"/>
            <a:ext cx="7707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еся 1-ой группы (контрольной) занимались физической культурой по школьной программе без использования дополнительных занятий физическими упражнениями. Двигательная плотность урока составляла 50-60%, средняя частота сердечных сокращений (ЧСС) - 120-130 в минут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вигательный режим 2-ой группы (экспериментальной), включал помимо 3-х уроков физкультуры в неделю, ежедневное проведение на большой перемене (20-25 мин.) подвижных игр умеренной и большой интенсивности. В недельном цикле эта форма занятий составила 135 мин. или 3 ч. 15 мин. С учетом 3-х уроков физкультуры недельный цикл занятий во 2-ой группе составил больше 5 часов организованных занятий физическими упражнениями. Следует отметить, что уроки физкультуры в данной группе имели повышенную двигательную активность (70%) и включали беговые и прыжковые упражнения. Средняя ЧСС на уроках и занятиях играми равнялась 140-150 в минут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86" name="Объект 3"/>
          <p:cNvGraphicFramePr/>
          <p:nvPr/>
        </p:nvGraphicFramePr>
        <p:xfrm>
          <a:off x="1928880" y="1419120"/>
          <a:ext cx="6656400" cy="45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419120"/>
                    <a:ext cx="66564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Прямоугольник 1"/>
          <p:cNvSpPr/>
          <p:nvPr/>
        </p:nvSpPr>
        <p:spPr>
          <a:xfrm>
            <a:off x="2644920" y="5535720"/>
            <a:ext cx="62658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1 – Сравнительные показатели физической подготовленности юношей контрольной и экспериментальной групп в начале и в конце педагогического эксперимент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025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90" name="Объект 3"/>
          <p:cNvGraphicFramePr/>
          <p:nvPr/>
        </p:nvGraphicFramePr>
        <p:xfrm>
          <a:off x="806400" y="1217520"/>
          <a:ext cx="7807320" cy="424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17520"/>
                    <a:ext cx="7807320" cy="42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Прямоугольник 4"/>
          <p:cNvSpPr/>
          <p:nvPr/>
        </p:nvSpPr>
        <p:spPr>
          <a:xfrm>
            <a:off x="1908000" y="5229360"/>
            <a:ext cx="626436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2 – Сравнительные показатели физической подготовленности девушек контрольной и экспериментальной групп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58980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581aa"/>
                </a:solidFill>
                <a:latin typeface="Century Gothic"/>
              </a:rPr>
              <a:t>Результаты исследования и их обсуждение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graphicFrame>
        <p:nvGraphicFramePr>
          <p:cNvPr id="1194" name="Объект 3"/>
          <p:cNvGraphicFramePr/>
          <p:nvPr/>
        </p:nvGraphicFramePr>
        <p:xfrm>
          <a:off x="1136520" y="150660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50660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6" name="Прямоугольник 4"/>
          <p:cNvSpPr/>
          <p:nvPr/>
        </p:nvSpPr>
        <p:spPr>
          <a:xfrm>
            <a:off x="1979640" y="5153040"/>
            <a:ext cx="568800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в начале                в конц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Рисунок 3 – Сравнительные показатели функциональных проб с задержкой дыхания у юношей контрольной и экспериментальной групп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19:02:14Z</dcterms:created>
  <dc:creator>Viktoriya</dc:creator>
  <dc:description/>
  <dc:language>en-US</dc:language>
  <cp:lastModifiedBy>Администратор</cp:lastModifiedBy>
  <dcterms:modified xsi:type="dcterms:W3CDTF">2023-06-30T11:23:36Z</dcterms:modified>
  <cp:revision>150</cp:revision>
  <dc:subject/>
  <dc:title>Особенности тренировочного процесса обучающихся в группе начальной подготовке гребцов-каноистов .</dc:title>
</cp:coreProperties>
</file>