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_rels/presentation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embeddings/oleObject1.xlsx" ContentType="application/vnd.openxmlformats-officedocument.spreadsheetml.shee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  <p:sldId id="266" r:id="rId29"/>
    <p:sldId id="267" r:id="rId30"/>
    <p:sldId id="268" r:id="rId31"/>
    <p:sldId id="269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slide" Target="slides/slide11.xml"/><Relationship Id="rId30" Type="http://schemas.openxmlformats.org/officeDocument/2006/relationships/slide" Target="slides/slide12.xml"/><Relationship Id="rId31" Type="http://schemas.openxmlformats.org/officeDocument/2006/relationships/slide" Target="slides/slide13.xml"/><Relationship Id="rId32" Type="http://schemas.openxmlformats.org/officeDocument/2006/relationships/slide" Target="slides/slide14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90DA3-AB2E-4DE8-B5DB-EB5B40CF9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CE361-7CD1-4724-B1D0-7E90AD1CF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634D96-3BF7-4A64-9A86-422CB6A24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208B5D-5C59-4E69-86DB-5450D9F8F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F9F6F8-930C-42BC-8078-C8FE8DB71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C97F5D-9DE6-452A-B9BC-F24D42446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DADE67-28E0-4BD1-A46D-457A28C52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FA75AB-9B84-4230-AF19-8E030138D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115BDA-F56E-4B56-BF69-B5BA47C91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73FF0E-2FBC-4CE9-8986-AFEAFAA0F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8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9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A70ED2-F8F5-4E23-B17A-CD065FDD3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662E6C-81B1-4241-83F2-E0C57CE8E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30AAD-2D17-4121-97D8-7659FCF72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944599-05EC-4B23-B486-8D777DB73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B4761E-7C5F-4F0B-985F-FC8207B96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9E9123-93B9-4789-884D-C9A8226AA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FD1B41-BDC9-4823-88A9-B065F7343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607949-157E-4135-9B05-7E80C3EB2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C79864-8032-4551-8823-078CA8E68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73A1F2-41A6-438F-8C81-79EBEC498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0A225A-D858-45DC-B90D-06429E9B5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6DD196-6F0F-4721-93CE-ACB81604C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95833B-39B8-4C22-B5C1-A7BF52C46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EBDF0-C847-4227-8883-B3AA3D65D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7F588C-6F09-42DA-8563-C449E6581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315CE6-417D-4647-B55A-985087568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958ACD-AF81-4122-BC61-020F1CE9F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82C5F1-CA3D-45FA-B3A4-D63A6A74A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BEA5EC-515B-48A3-9903-4A900A491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4E6E48-2798-4BC5-AF48-452B5A5CF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BA4742-D386-482F-9962-B89723B47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8B85AE-E3B6-470B-8F3A-CDFBFD730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FA8099-30E5-41E9-8219-8F2CEE7A4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21A12C-9A10-4A37-9457-C00B81A92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97276-8953-4207-A154-9609D9084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F45453-3CAC-40AD-B61D-485846656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3B4292-FAE2-4CC4-A96F-3E6D2AC9B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E8900E-D688-4944-AE4D-F292B2580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FCBAB8-54F4-4327-AB2D-676AEBA2C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3852D3-E598-4EB2-878E-FDED8E036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D4D90E-8155-4741-BA77-DEE0CF3EA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900472-2C4D-4607-98D7-EA485C7C3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377636-BDBF-4CB7-A9C8-D1E080637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FF2E2E-576A-4427-991F-42FF7712A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6FD97E-B84C-436F-B36B-D2FA9E73E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7390A-2465-4141-8006-3124E7B99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7B7D21-1F16-4654-8073-6547AB8A2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41EFD3-CC9C-422F-993D-EF809E968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8E6175-E389-4735-BBF2-50596928E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95919B-B777-4831-BD2B-47DF22DE6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427F14-1850-4D82-9BE6-17CAC0742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9A001FA-1314-4603-BDB7-7850F5B24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CDFB7A3-DB00-48A6-AD45-BF1476C83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96919A6-B365-424E-9102-7C7ADD913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8B764A8-9D39-432C-A0D0-26DE642AB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012C8A5-2375-4DD1-AFAC-8C7023426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53E3C-19CA-46FD-A168-108CEA507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84F60E7-9C06-4001-ACE1-B55F3C816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D239DBA-7134-4688-A542-397ACEAC2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5A5EB84-CF1B-436C-A2DF-FA3FC00FB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A733196-90CF-46DA-8235-AFEAF1E73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A5C6534-DAE8-4831-91A0-5D444514B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6713687-35A0-40EA-BB12-828EBFB73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12B1370-6B11-4A52-ACFB-E96E504D7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293806C-D6EF-4F49-9CD7-A03748DBD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E85564F-6AFE-49D7-BBB2-D82A903AA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3E23B5A-5607-4C78-B17C-CEF1699D0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0A55F-92DF-4F4F-8E5A-97AEA5BAF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21422AB-F8D9-49DD-B65A-CF1B98161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CF56EB4-3F3A-469A-824C-616BC2551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FB76509-7E14-492D-BFD4-244BE44DB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CCE6A85-6286-4564-861A-929873A7D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44D06CB-10CB-409A-AB99-BA92726D7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4F1EDD5-9A4C-4AF6-91A5-97EF742B6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B5BEFF7-782E-467C-950E-A400BDBBD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56BB6AC-2D77-4404-99B6-BAE1BA427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1532608-54F5-4A26-90AA-F209C8324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92D1965-C867-49E7-B011-193DDAF17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29190-23FE-40D7-A897-246D56227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DA3D711-4E8F-4CB2-BB97-AABF97721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1E7BADF-28F0-4E07-B2EA-E657EEB40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ED64E03-3586-4EC5-B632-AB72A6CFD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95D8058-4634-4841-AC7B-A18C762C0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3AC6852-9A32-4DDC-88E7-CAB22CE97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7020F77-2926-4ED1-8008-32A35DAB9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DBBD7EA-959A-48BA-937C-9C0E62011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C2DFB31-3321-4F71-B5DB-2934EAE2C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E77E1ED-9C9D-46EA-A5F8-AB7016EEE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FCB551D-A334-4835-9D12-1AD35D54C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F2271-9C9F-4A87-98AF-E72102EFE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5CA5287-E735-49CC-8CF8-6F4BF9F5C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7085BAF-1FC4-4F03-B47C-FFA88459C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F1667CE-F2F7-4635-808B-109E37DB1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06CB0CD-CC93-4B31-9F1E-1FF10CB1F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BB3F663-E376-4D28-BB46-2AEE364AD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CEF0AA7-EE51-4481-9B5C-5DAB1713E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CFCEC90-9AB5-40A3-A257-A93220DD9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ACBDE5B-61E1-4841-9C45-44ECD889C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E16F87E-04DB-4FDD-BF93-30B20799E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5F1DC89-DDB7-4BFD-A6FE-7D52213E5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91097-C73F-43FF-A26D-93CB1C3FB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079CFBE-CC3E-49C1-AA74-62179BFD6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DC903A0-1199-4F4A-82C8-9A7824D43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14436AA-97EA-4D90-88C7-A91EE7435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A944FA7-DDF0-42DA-8E20-FC0844FEF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8DA5BFD-CA92-4C7F-9032-E6E8ACC30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4725CDA-C012-46EB-B874-B332E4853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5BBC339-BA0F-4D67-9238-253021DD7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74F55DD-FC5B-40FA-8EEC-81DD5FE9F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A5742DC-54BD-4312-A92A-17AEDED37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4B1D9C7-DEE9-4D51-8217-7D9DA57EA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EB839-AA91-40E4-AE34-E09A6ED25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4D995-F7B6-4844-AFF4-34900AED7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FB9CD20-4EB9-4D4E-9FA8-8EFD04648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132691A-6828-4A13-A605-CA2F596D1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3C66B19-965D-4566-AB33-CAB026AB9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8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C4A4AAC-114C-40C8-8E0A-2CD9CE219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3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4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5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6B8DA26-9707-47D5-9C33-4515A44C6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03251-B233-4AF7-9E5A-8C0F2148B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D74DC-8880-4E77-835F-4FD307C1B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BA762-350A-4964-875A-86E1195B2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11296-3094-42BF-B24E-FE987CF89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8305E4-5752-4643-B0C4-1FD1EB31D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7BC227-AC4A-4358-B03F-2D1342BA7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E127A4-18B3-4011-A4B7-EA193BEBE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8BCD2D-2547-4A27-82B0-ED2548E0A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7EAAB6-5BFE-4F49-A013-8B133156B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3B1E4-86CD-4540-816C-09D10E515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5A2D3D-1C30-4DBE-86F0-745794F54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B66B61-4C63-4CA8-B01C-1DA811625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84A966-58CC-4A54-986F-3E5AC29DA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D02BE8-4460-4721-88A1-9B1C79B82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5E4946-458A-476D-8A57-FE886B7A6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07F7FF-DCF1-45F4-A634-0F36E1468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9E5DDD-B8D4-455F-BE2D-11237428D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6B4D66-90AF-4700-A3F5-4A591D6C1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CF7CC0-E5AC-4AB3-BA37-40F7A8622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7DF7F4-C3AF-41FE-B63A-8A9B67B26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54AC2-BEDF-4C71-8911-4B49F552C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4BE664-2469-41FB-BD82-2561B9280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97C89F-3CB8-4EA6-A078-07F4E16C5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D60576-2294-44E2-9CE9-5F0B20517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321A7D-42B7-4786-B03D-1BA070FD1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851BED-27E6-4080-B593-1510EAF67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617808-B041-4F7B-918D-A6BA200B2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49FB68-2753-4BB6-8D24-D775AE966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7939FB-CCEA-488B-8A0B-406E18D80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22B1FC-01DE-4481-81C7-3FC15B20C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723E28-A517-4294-A8DF-CA0A512BC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6A9DA-CC2D-47FE-8AC3-CD83F8611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D5B71E-B892-429F-8813-A9F39C7CE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47F127-DA4A-4D08-B926-BA5AAE5BD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092703-D720-4BC8-91DE-30EFA61D2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61D8A1-3D95-4AF2-8ACC-441B5E7A4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89185E-68E0-44E7-B285-4A4FCE92C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2591FD-16A6-4933-9EF1-1F2DD6CD0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BE960B-5248-454E-9500-31798E00F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B47A24-513D-44C0-96BB-5A869DA56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FFC234-9425-4E02-BBBF-6696DF59A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15225B-38BF-43D2-8BDB-0FE328EB9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4C9D8-32C8-46A3-A8C5-624FF3860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677B35-C472-4325-8E69-999F66CD9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F22F38-795F-4097-BD7E-6686255C8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BAE667-BEFD-4C80-B5E9-1EA1F675F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D5A0E7-2796-4C75-9F09-30054BA8A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5CD41B-A411-4A5C-913C-F68AF8030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2E1D21-47D0-4931-922C-DACA44F14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1B9269-9BBF-47B2-B96D-B93F70655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643DED-03B6-4CCE-B4E3-62FE39DC3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19A652-BE38-4489-A163-69B01D94B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3E1494-2762-44F6-97BE-45A0C5170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A4F98-D390-4453-A341-2C5B2F48D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5BE937-36F1-47E5-A9F4-812E23AC3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E15634-52F3-4D71-A8A3-8E0CBB9FC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DB8C89-8E7B-477E-B8AA-A17992A15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4FCCBF-7A24-4161-8EA0-EDC4D24BE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27BF89-1467-433C-B9A0-3BE9099B7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DA197E-0614-4A4B-BC54-8AF9BACF9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CE5BBC-0A11-4B20-B111-687DD2CE1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CA95C7-14F8-45CE-8A9A-4D0C31C05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E7C417-0536-4099-95CC-10D9E18C6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D890AB-9997-463F-8C87-C7FA90F26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F815B-6409-4AB8-B89F-B51FB6AE3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818A25-044A-4CA4-8117-EDD33EED9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C4423F-AEDE-4870-80AA-A669E8FBE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F56E8C-093E-4EF5-8DF4-573FE38F8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7F4C0E-E1D6-4790-B4CF-E15BFB80B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A43497-DA87-4EAF-B685-927FBF8D4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BCA293-5E02-441B-9B9B-1B4B8B378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2F5FEA-0AC1-4442-9737-D33533825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9B0F12-6502-4812-8F60-66777B6E1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6F0560-9A1D-4172-A10F-3212938AF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1C528B-6B60-40BD-9BAA-79F89A66A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D6D1D-8C5E-4DC2-B2B0-960036134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2DD800-A403-4172-99B7-71124A086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3F8662-5B37-4ECC-A5AC-32F792BE3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C22ED3-410F-4494-B189-945549CC9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72628F-5E5D-427C-BF7A-877EC4661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0E8C1C-FA92-4F7E-9F90-D39B97007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31D380-C6E0-4BB2-8A15-004FA7D1F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9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0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AE7480-C42C-4F7E-9868-00C39BC03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4E01A6-3C79-4CFA-B133-6FF9231E9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7AE4B6-98F6-485A-BAB7-DD2ECC8E0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499E2E-6CDA-4974-92A9-9B0D2E481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626040"/>
                <a:gd name="textAreaBottom" fmla="*/ 626400 h 62604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>
                <a:gd name="textAreaLeft" fmla="*/ 0 w 449280"/>
                <a:gd name="textAreaRight" fmla="*/ 449640 w 44928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>
                <a:gd name="textAreaLeft" fmla="*/ 0 w 423360"/>
                <a:gd name="textAreaRight" fmla="*/ 423720 w 423360"/>
                <a:gd name="textAreaTop" fmla="*/ 0 h 1420200"/>
                <a:gd name="textAreaBottom" fmla="*/ 1420200 h 142020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>
                <a:gd name="textAreaLeft" fmla="*/ 0 w 570960"/>
                <a:gd name="textAreaRight" fmla="*/ 571320 w 570960"/>
                <a:gd name="textAreaTop" fmla="*/ 0 h 3328560"/>
                <a:gd name="textAreaBottom" fmla="*/ 3328920 h 332856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2927880"/>
                <a:gd name="textAreaBottom" fmla="*/ 2928240 h 292788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>
                <a:gd name="textAreaLeft" fmla="*/ 0 w 131760"/>
                <a:gd name="textAreaRight" fmla="*/ 132120 w 131760"/>
                <a:gd name="textAreaTop" fmla="*/ 0 h 1024920"/>
                <a:gd name="textAreaBottom" fmla="*/ 1025280 h 102492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>
                <a:gd name="textAreaLeft" fmla="*/ 0 w 1442520"/>
                <a:gd name="textAreaRight" fmla="*/ 1442880 w 144252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337320"/>
                <a:gd name="textAreaBottom" fmla="*/ 337680 h 33732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21760"/>
                <a:gd name="textAreaBottom" fmla="*/ 222120 h 22176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>
                <a:gd name="textAreaLeft" fmla="*/ 0 w 165600"/>
                <a:gd name="textAreaRight" fmla="*/ 165960 w 165600"/>
                <a:gd name="textAreaTop" fmla="*/ 0 h 622440"/>
                <a:gd name="textAreaBottom" fmla="*/ 622800 h 62244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3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4" name="Freeform 27"/>
            <p:cNvSpPr/>
            <p:nvPr/>
          </p:nvSpPr>
          <p:spPr>
            <a:xfrm>
              <a:off x="20520" y="0"/>
              <a:ext cx="409320" cy="4401720"/>
            </a:xfrm>
            <a:custGeom>
              <a:avLst/>
              <a:gdLst>
                <a:gd name="textAreaLeft" fmla="*/ 0 w 409320"/>
                <a:gd name="textAreaRight" fmla="*/ 409680 w 409320"/>
                <a:gd name="textAreaTop" fmla="*/ 0 h 4401720"/>
                <a:gd name="textAreaBottom" fmla="*/ 4402080 h 440172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>
                <a:gd name="textAreaLeft" fmla="*/ 0 w 350640"/>
                <a:gd name="textAreaRight" fmla="*/ 351000 w 350640"/>
                <a:gd name="textAreaTop" fmla="*/ 0 h 1580760"/>
                <a:gd name="textAreaBottom" fmla="*/ 1581120 h 158076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" name="Freeform 29"/>
            <p:cNvSpPr/>
            <p:nvPr/>
          </p:nvSpPr>
          <p:spPr>
            <a:xfrm>
              <a:off x="831600" y="5862600"/>
              <a:ext cx="357120" cy="990720"/>
            </a:xfrm>
            <a:custGeom>
              <a:avLst/>
              <a:gdLst>
                <a:gd name="textAreaLeft" fmla="*/ 0 w 357120"/>
                <a:gd name="textAreaRight" fmla="*/ 357480 w 357120"/>
                <a:gd name="textAreaTop" fmla="*/ 0 h 990720"/>
                <a:gd name="textAreaBottom" fmla="*/ 991080 h 99072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7" name="Freeform 30"/>
            <p:cNvSpPr/>
            <p:nvPr/>
          </p:nvSpPr>
          <p:spPr>
            <a:xfrm>
              <a:off x="429840" y="4364280"/>
              <a:ext cx="457200" cy="223632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2236320"/>
                <a:gd name="textAreaBottom" fmla="*/ 2236680 h 223632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" name="Freeform 31"/>
            <p:cNvSpPr/>
            <p:nvPr/>
          </p:nvSpPr>
          <p:spPr>
            <a:xfrm>
              <a:off x="385560" y="1288440"/>
              <a:ext cx="144360" cy="302760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3027600"/>
                <a:gd name="textAreaBottom" fmla="*/ 3027960 h 302760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281520"/>
                <a:gd name="textAreaBottom" fmla="*/ 281880 h 28152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" name="Freeform 33"/>
            <p:cNvSpPr/>
            <p:nvPr/>
          </p:nvSpPr>
          <p:spPr>
            <a:xfrm>
              <a:off x="414000" y="4107240"/>
              <a:ext cx="68040" cy="51156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511560"/>
                <a:gd name="textAreaBottom" fmla="*/ 511920 h 51156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" name="Freeform 34"/>
            <p:cNvSpPr/>
            <p:nvPr/>
          </p:nvSpPr>
          <p:spPr>
            <a:xfrm>
              <a:off x="804600" y="3145320"/>
              <a:ext cx="1168560" cy="271728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2717280"/>
                <a:gd name="textAreaBottom" fmla="*/ 2717640 h 271728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252720"/>
                <a:gd name="textAreaBottom" fmla="*/ 253080 h 25272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674280"/>
                <a:gd name="textAreaBottom" fmla="*/ 674640 h 67428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227880"/>
                <a:gd name="textAreaBottom" fmla="*/ 228240 h 22788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5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530640"/>
                <a:gd name="textAreaBottom" fmla="*/ 531000 h 53064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6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581aa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A8871B-24B8-45F0-87D9-DA315BEC7330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0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21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626040"/>
                <a:gd name="textAreaBottom" fmla="*/ 626400 h 62604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2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>
                <a:gd name="textAreaLeft" fmla="*/ 0 w 449280"/>
                <a:gd name="textAreaRight" fmla="*/ 449640 w 44928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3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>
                <a:gd name="textAreaLeft" fmla="*/ 0 w 423360"/>
                <a:gd name="textAreaRight" fmla="*/ 423720 w 423360"/>
                <a:gd name="textAreaTop" fmla="*/ 0 h 1420200"/>
                <a:gd name="textAreaBottom" fmla="*/ 1420200 h 142020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4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5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>
                <a:gd name="textAreaLeft" fmla="*/ 0 w 570960"/>
                <a:gd name="textAreaRight" fmla="*/ 571320 w 570960"/>
                <a:gd name="textAreaTop" fmla="*/ 0 h 3328560"/>
                <a:gd name="textAreaBottom" fmla="*/ 3328920 h 332856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6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2927880"/>
                <a:gd name="textAreaBottom" fmla="*/ 2928240 h 292788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7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8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>
                <a:gd name="textAreaLeft" fmla="*/ 0 w 131760"/>
                <a:gd name="textAreaRight" fmla="*/ 132120 w 131760"/>
                <a:gd name="textAreaTop" fmla="*/ 0 h 1024920"/>
                <a:gd name="textAreaBottom" fmla="*/ 1025280 h 102492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9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>
                <a:gd name="textAreaLeft" fmla="*/ 0 w 1442520"/>
                <a:gd name="textAreaRight" fmla="*/ 1442880 w 144252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0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337320"/>
                <a:gd name="textAreaBottom" fmla="*/ 337680 h 33732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1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21760"/>
                <a:gd name="textAreaBottom" fmla="*/ 222120 h 22176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2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>
                <a:gd name="textAreaLeft" fmla="*/ 0 w 165600"/>
                <a:gd name="textAreaRight" fmla="*/ 165960 w 165600"/>
                <a:gd name="textAreaTop" fmla="*/ 0 h 622440"/>
                <a:gd name="textAreaBottom" fmla="*/ 622800 h 62244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633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634" name="Freeform 27"/>
            <p:cNvSpPr/>
            <p:nvPr/>
          </p:nvSpPr>
          <p:spPr>
            <a:xfrm>
              <a:off x="20520" y="0"/>
              <a:ext cx="409320" cy="4401720"/>
            </a:xfrm>
            <a:custGeom>
              <a:avLst/>
              <a:gdLst>
                <a:gd name="textAreaLeft" fmla="*/ 0 w 409320"/>
                <a:gd name="textAreaRight" fmla="*/ 409680 w 409320"/>
                <a:gd name="textAreaTop" fmla="*/ 0 h 4401720"/>
                <a:gd name="textAreaBottom" fmla="*/ 4402080 h 440172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5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>
                <a:gd name="textAreaLeft" fmla="*/ 0 w 350640"/>
                <a:gd name="textAreaRight" fmla="*/ 351000 w 350640"/>
                <a:gd name="textAreaTop" fmla="*/ 0 h 1580760"/>
                <a:gd name="textAreaBottom" fmla="*/ 1581120 h 158076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6" name="Freeform 29"/>
            <p:cNvSpPr/>
            <p:nvPr/>
          </p:nvSpPr>
          <p:spPr>
            <a:xfrm>
              <a:off x="831600" y="5862600"/>
              <a:ext cx="357120" cy="990720"/>
            </a:xfrm>
            <a:custGeom>
              <a:avLst/>
              <a:gdLst>
                <a:gd name="textAreaLeft" fmla="*/ 0 w 357120"/>
                <a:gd name="textAreaRight" fmla="*/ 357480 w 357120"/>
                <a:gd name="textAreaTop" fmla="*/ 0 h 990720"/>
                <a:gd name="textAreaBottom" fmla="*/ 991080 h 99072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7" name="Freeform 30"/>
            <p:cNvSpPr/>
            <p:nvPr/>
          </p:nvSpPr>
          <p:spPr>
            <a:xfrm>
              <a:off x="429840" y="4364280"/>
              <a:ext cx="457200" cy="223632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2236320"/>
                <a:gd name="textAreaBottom" fmla="*/ 2236680 h 223632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8" name="Freeform 31"/>
            <p:cNvSpPr/>
            <p:nvPr/>
          </p:nvSpPr>
          <p:spPr>
            <a:xfrm>
              <a:off x="385560" y="1288440"/>
              <a:ext cx="144360" cy="302760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3027600"/>
                <a:gd name="textAreaBottom" fmla="*/ 3027960 h 302760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9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281520"/>
                <a:gd name="textAreaBottom" fmla="*/ 281880 h 28152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0" name="Freeform 33"/>
            <p:cNvSpPr/>
            <p:nvPr/>
          </p:nvSpPr>
          <p:spPr>
            <a:xfrm>
              <a:off x="414000" y="4107240"/>
              <a:ext cx="68040" cy="51156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511560"/>
                <a:gd name="textAreaBottom" fmla="*/ 511920 h 51156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1" name="Freeform 34"/>
            <p:cNvSpPr/>
            <p:nvPr/>
          </p:nvSpPr>
          <p:spPr>
            <a:xfrm>
              <a:off x="804600" y="3145320"/>
              <a:ext cx="1168560" cy="271728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2717280"/>
                <a:gd name="textAreaBottom" fmla="*/ 2717640 h 271728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2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252720"/>
                <a:gd name="textAreaBottom" fmla="*/ 253080 h 25272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3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674280"/>
                <a:gd name="textAreaBottom" fmla="*/ 674640 h 67428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4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227880"/>
                <a:gd name="textAreaBottom" fmla="*/ 228240 h 22788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5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530640"/>
                <a:gd name="textAreaBottom" fmla="*/ 531000 h 53064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646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7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>
              <a:gd name="textAreaLeft" fmla="*/ 0 w 1359000"/>
              <a:gd name="textAreaRight" fmla="*/ 1359360 w 1359000"/>
              <a:gd name="textAreaTop" fmla="*/ -360 h 507960"/>
              <a:gd name="textAreaBottom" fmla="*/ 507960 h 507960"/>
            </a:gdLst>
            <a:ahLst/>
            <a:rect l="textAreaLeft" t="textAreaTop" r="textAreaRight" b="textAreaBottom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581aa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28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29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30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EAD3B5-77A5-4B77-BAE2-32774D4A8F68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9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626040"/>
                <a:gd name="textAreaBottom" fmla="*/ 626400 h 62604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>
                <a:gd name="textAreaLeft" fmla="*/ 0 w 449280"/>
                <a:gd name="textAreaRight" fmla="*/ 449640 w 44928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>
                <a:gd name="textAreaLeft" fmla="*/ 0 w 423360"/>
                <a:gd name="textAreaRight" fmla="*/ 423720 w 423360"/>
                <a:gd name="textAreaTop" fmla="*/ 0 h 1420200"/>
                <a:gd name="textAreaBottom" fmla="*/ 1420200 h 142020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>
                <a:gd name="textAreaLeft" fmla="*/ 0 w 570960"/>
                <a:gd name="textAreaRight" fmla="*/ 571320 w 570960"/>
                <a:gd name="textAreaTop" fmla="*/ 0 h 3328560"/>
                <a:gd name="textAreaBottom" fmla="*/ 3328920 h 332856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2927880"/>
                <a:gd name="textAreaBottom" fmla="*/ 2928240 h 292788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>
                <a:gd name="textAreaLeft" fmla="*/ 0 w 131760"/>
                <a:gd name="textAreaRight" fmla="*/ 132120 w 131760"/>
                <a:gd name="textAreaTop" fmla="*/ 0 h 1024920"/>
                <a:gd name="textAreaBottom" fmla="*/ 1025280 h 102492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>
                <a:gd name="textAreaLeft" fmla="*/ 0 w 1442520"/>
                <a:gd name="textAreaRight" fmla="*/ 1442880 w 144252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337320"/>
                <a:gd name="textAreaBottom" fmla="*/ 337680 h 33732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21760"/>
                <a:gd name="textAreaBottom" fmla="*/ 222120 h 22176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>
                <a:gd name="textAreaLeft" fmla="*/ 0 w 165600"/>
                <a:gd name="textAreaRight" fmla="*/ 165960 w 165600"/>
                <a:gd name="textAreaTop" fmla="*/ 0 h 622440"/>
                <a:gd name="textAreaBottom" fmla="*/ 622800 h 62244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70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703" name="Freeform 27"/>
            <p:cNvSpPr/>
            <p:nvPr/>
          </p:nvSpPr>
          <p:spPr>
            <a:xfrm>
              <a:off x="20520" y="0"/>
              <a:ext cx="409320" cy="4401720"/>
            </a:xfrm>
            <a:custGeom>
              <a:avLst/>
              <a:gdLst>
                <a:gd name="textAreaLeft" fmla="*/ 0 w 409320"/>
                <a:gd name="textAreaRight" fmla="*/ 409680 w 409320"/>
                <a:gd name="textAreaTop" fmla="*/ 0 h 4401720"/>
                <a:gd name="textAreaBottom" fmla="*/ 4402080 h 440172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>
                <a:gd name="textAreaLeft" fmla="*/ 0 w 350640"/>
                <a:gd name="textAreaRight" fmla="*/ 351000 w 350640"/>
                <a:gd name="textAreaTop" fmla="*/ 0 h 1580760"/>
                <a:gd name="textAreaBottom" fmla="*/ 1581120 h 158076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5" name="Freeform 29"/>
            <p:cNvSpPr/>
            <p:nvPr/>
          </p:nvSpPr>
          <p:spPr>
            <a:xfrm>
              <a:off x="831600" y="5862600"/>
              <a:ext cx="357120" cy="990720"/>
            </a:xfrm>
            <a:custGeom>
              <a:avLst/>
              <a:gdLst>
                <a:gd name="textAreaLeft" fmla="*/ 0 w 357120"/>
                <a:gd name="textAreaRight" fmla="*/ 357480 w 357120"/>
                <a:gd name="textAreaTop" fmla="*/ 0 h 990720"/>
                <a:gd name="textAreaBottom" fmla="*/ 991080 h 99072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6" name="Freeform 30"/>
            <p:cNvSpPr/>
            <p:nvPr/>
          </p:nvSpPr>
          <p:spPr>
            <a:xfrm>
              <a:off x="429840" y="4364280"/>
              <a:ext cx="457200" cy="223632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2236320"/>
                <a:gd name="textAreaBottom" fmla="*/ 2236680 h 223632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7" name="Freeform 31"/>
            <p:cNvSpPr/>
            <p:nvPr/>
          </p:nvSpPr>
          <p:spPr>
            <a:xfrm>
              <a:off x="385560" y="1288440"/>
              <a:ext cx="144360" cy="302760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3027600"/>
                <a:gd name="textAreaBottom" fmla="*/ 3027960 h 302760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281520"/>
                <a:gd name="textAreaBottom" fmla="*/ 281880 h 28152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9" name="Freeform 33"/>
            <p:cNvSpPr/>
            <p:nvPr/>
          </p:nvSpPr>
          <p:spPr>
            <a:xfrm>
              <a:off x="414000" y="4107240"/>
              <a:ext cx="68040" cy="51156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511560"/>
                <a:gd name="textAreaBottom" fmla="*/ 511920 h 51156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0" name="Freeform 34"/>
            <p:cNvSpPr/>
            <p:nvPr/>
          </p:nvSpPr>
          <p:spPr>
            <a:xfrm>
              <a:off x="804600" y="3145320"/>
              <a:ext cx="1168560" cy="271728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2717280"/>
                <a:gd name="textAreaBottom" fmla="*/ 2717640 h 271728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252720"/>
                <a:gd name="textAreaBottom" fmla="*/ 253080 h 25272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674280"/>
                <a:gd name="textAreaBottom" fmla="*/ 674640 h 67428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227880"/>
                <a:gd name="textAreaBottom" fmla="*/ 228240 h 22788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530640"/>
                <a:gd name="textAreaBottom" fmla="*/ 531000 h 53064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71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6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>
              <a:gd name="textAreaLeft" fmla="*/ 0 w 1359000"/>
              <a:gd name="textAreaRight" fmla="*/ 1359360 w 1359000"/>
              <a:gd name="textAreaTop" fmla="*/ 360 h 508320"/>
              <a:gd name="textAreaBottom" fmla="*/ 509040 h 508320"/>
            </a:gdLst>
            <a:ahLst/>
            <a:rect l="textAreaLeft" t="textAreaTop" r="textAreaRight" b="textAreaBottom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581aa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 type="dt" idx="31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 type="ftr" idx="32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 type="sldNum" idx="33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C96A58-33B8-42D1-B085-581631387F40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75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626040"/>
                <a:gd name="textAreaBottom" fmla="*/ 626400 h 62604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>
                <a:gd name="textAreaLeft" fmla="*/ 0 w 449280"/>
                <a:gd name="textAreaRight" fmla="*/ 449640 w 44928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>
                <a:gd name="textAreaLeft" fmla="*/ 0 w 423360"/>
                <a:gd name="textAreaRight" fmla="*/ 423720 w 423360"/>
                <a:gd name="textAreaTop" fmla="*/ 0 h 1420200"/>
                <a:gd name="textAreaBottom" fmla="*/ 1420200 h 142020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>
                <a:gd name="textAreaLeft" fmla="*/ 0 w 570960"/>
                <a:gd name="textAreaRight" fmla="*/ 571320 w 570960"/>
                <a:gd name="textAreaTop" fmla="*/ 0 h 3328560"/>
                <a:gd name="textAreaBottom" fmla="*/ 3328920 h 332856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2927880"/>
                <a:gd name="textAreaBottom" fmla="*/ 2928240 h 292788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>
                <a:gd name="textAreaLeft" fmla="*/ 0 w 131760"/>
                <a:gd name="textAreaRight" fmla="*/ 132120 w 131760"/>
                <a:gd name="textAreaTop" fmla="*/ 0 h 1024920"/>
                <a:gd name="textAreaBottom" fmla="*/ 1025280 h 102492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>
                <a:gd name="textAreaLeft" fmla="*/ 0 w 1442520"/>
                <a:gd name="textAreaRight" fmla="*/ 1442880 w 144252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337320"/>
                <a:gd name="textAreaBottom" fmla="*/ 337680 h 33732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21760"/>
                <a:gd name="textAreaBottom" fmla="*/ 222120 h 22176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>
                <a:gd name="textAreaLeft" fmla="*/ 0 w 165600"/>
                <a:gd name="textAreaRight" fmla="*/ 165960 w 165600"/>
                <a:gd name="textAreaTop" fmla="*/ 0 h 622440"/>
                <a:gd name="textAreaBottom" fmla="*/ 622800 h 62244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77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772" name="Freeform 27"/>
            <p:cNvSpPr/>
            <p:nvPr/>
          </p:nvSpPr>
          <p:spPr>
            <a:xfrm>
              <a:off x="20520" y="0"/>
              <a:ext cx="409320" cy="4401720"/>
            </a:xfrm>
            <a:custGeom>
              <a:avLst/>
              <a:gdLst>
                <a:gd name="textAreaLeft" fmla="*/ 0 w 409320"/>
                <a:gd name="textAreaRight" fmla="*/ 409680 w 409320"/>
                <a:gd name="textAreaTop" fmla="*/ 0 h 4401720"/>
                <a:gd name="textAreaBottom" fmla="*/ 4402080 h 440172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>
                <a:gd name="textAreaLeft" fmla="*/ 0 w 350640"/>
                <a:gd name="textAreaRight" fmla="*/ 351000 w 350640"/>
                <a:gd name="textAreaTop" fmla="*/ 0 h 1580760"/>
                <a:gd name="textAreaBottom" fmla="*/ 1581120 h 158076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4" name="Freeform 29"/>
            <p:cNvSpPr/>
            <p:nvPr/>
          </p:nvSpPr>
          <p:spPr>
            <a:xfrm>
              <a:off x="831600" y="5862600"/>
              <a:ext cx="357120" cy="990720"/>
            </a:xfrm>
            <a:custGeom>
              <a:avLst/>
              <a:gdLst>
                <a:gd name="textAreaLeft" fmla="*/ 0 w 357120"/>
                <a:gd name="textAreaRight" fmla="*/ 357480 w 357120"/>
                <a:gd name="textAreaTop" fmla="*/ 0 h 990720"/>
                <a:gd name="textAreaBottom" fmla="*/ 991080 h 99072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5" name="Freeform 30"/>
            <p:cNvSpPr/>
            <p:nvPr/>
          </p:nvSpPr>
          <p:spPr>
            <a:xfrm>
              <a:off x="429840" y="4364280"/>
              <a:ext cx="457200" cy="223632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2236320"/>
                <a:gd name="textAreaBottom" fmla="*/ 2236680 h 223632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6" name="Freeform 31"/>
            <p:cNvSpPr/>
            <p:nvPr/>
          </p:nvSpPr>
          <p:spPr>
            <a:xfrm>
              <a:off x="385560" y="1288440"/>
              <a:ext cx="144360" cy="302760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3027600"/>
                <a:gd name="textAreaBottom" fmla="*/ 3027960 h 302760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281520"/>
                <a:gd name="textAreaBottom" fmla="*/ 281880 h 28152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8" name="Freeform 33"/>
            <p:cNvSpPr/>
            <p:nvPr/>
          </p:nvSpPr>
          <p:spPr>
            <a:xfrm>
              <a:off x="414000" y="4107240"/>
              <a:ext cx="68040" cy="51156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511560"/>
                <a:gd name="textAreaBottom" fmla="*/ 511920 h 51156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9" name="Freeform 34"/>
            <p:cNvSpPr/>
            <p:nvPr/>
          </p:nvSpPr>
          <p:spPr>
            <a:xfrm>
              <a:off x="804600" y="3145320"/>
              <a:ext cx="1168560" cy="271728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2717280"/>
                <a:gd name="textAreaBottom" fmla="*/ 2717640 h 271728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252720"/>
                <a:gd name="textAreaBottom" fmla="*/ 253080 h 25272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674280"/>
                <a:gd name="textAreaBottom" fmla="*/ 674640 h 67428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227880"/>
                <a:gd name="textAreaBottom" fmla="*/ 228240 h 22788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530640"/>
                <a:gd name="textAreaBottom" fmla="*/ 531000 h 53064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78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5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>
              <a:gd name="textAreaLeft" fmla="*/ 0 w 1359000"/>
              <a:gd name="textAreaRight" fmla="*/ 1359360 w 1359000"/>
              <a:gd name="textAreaTop" fmla="*/ 360 h 508320"/>
              <a:gd name="textAreaBottom" fmla="*/ 509040 h 508320"/>
            </a:gdLst>
            <a:ahLst/>
            <a:rect l="textAreaLeft" t="textAreaTop" r="textAreaRight" b="textAreaBottom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6" name="TextBox 34"/>
          <p:cNvSpPr/>
          <p:nvPr/>
        </p:nvSpPr>
        <p:spPr>
          <a:xfrm>
            <a:off x="1808280" y="6476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353535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7" name="TextBox 62"/>
          <p:cNvSpPr/>
          <p:nvPr/>
        </p:nvSpPr>
        <p:spPr>
          <a:xfrm>
            <a:off x="8169120" y="2905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353535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581aa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 type="dt" idx="34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 type="ftr" idx="35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2" name="PlaceHolder 5"/>
          <p:cNvSpPr>
            <a:spLocks noGrp="1"/>
          </p:cNvSpPr>
          <p:nvPr>
            <p:ph type="sldNum" idx="36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C39384D-33CF-4FF6-8B79-A1F43EA043BD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83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626040"/>
                <a:gd name="textAreaBottom" fmla="*/ 626400 h 62604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>
                <a:gd name="textAreaLeft" fmla="*/ 0 w 449280"/>
                <a:gd name="textAreaRight" fmla="*/ 449640 w 44928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>
                <a:gd name="textAreaLeft" fmla="*/ 0 w 423360"/>
                <a:gd name="textAreaRight" fmla="*/ 423720 w 423360"/>
                <a:gd name="textAreaTop" fmla="*/ 0 h 1420200"/>
                <a:gd name="textAreaBottom" fmla="*/ 1420200 h 142020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>
                <a:gd name="textAreaLeft" fmla="*/ 0 w 570960"/>
                <a:gd name="textAreaRight" fmla="*/ 571320 w 570960"/>
                <a:gd name="textAreaTop" fmla="*/ 0 h 3328560"/>
                <a:gd name="textAreaBottom" fmla="*/ 3328920 h 332856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2927880"/>
                <a:gd name="textAreaBottom" fmla="*/ 2928240 h 292788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>
                <a:gd name="textAreaLeft" fmla="*/ 0 w 131760"/>
                <a:gd name="textAreaRight" fmla="*/ 132120 w 131760"/>
                <a:gd name="textAreaTop" fmla="*/ 0 h 1024920"/>
                <a:gd name="textAreaBottom" fmla="*/ 1025280 h 102492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>
                <a:gd name="textAreaLeft" fmla="*/ 0 w 1442520"/>
                <a:gd name="textAreaRight" fmla="*/ 1442880 w 144252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337320"/>
                <a:gd name="textAreaBottom" fmla="*/ 337680 h 33732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21760"/>
                <a:gd name="textAreaBottom" fmla="*/ 222120 h 22176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>
                <a:gd name="textAreaLeft" fmla="*/ 0 w 165600"/>
                <a:gd name="textAreaRight" fmla="*/ 165960 w 165600"/>
                <a:gd name="textAreaTop" fmla="*/ 0 h 622440"/>
                <a:gd name="textAreaBottom" fmla="*/ 622800 h 62244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84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843" name="Freeform 27"/>
            <p:cNvSpPr/>
            <p:nvPr/>
          </p:nvSpPr>
          <p:spPr>
            <a:xfrm>
              <a:off x="20520" y="0"/>
              <a:ext cx="409320" cy="4401720"/>
            </a:xfrm>
            <a:custGeom>
              <a:avLst/>
              <a:gdLst>
                <a:gd name="textAreaLeft" fmla="*/ 0 w 409320"/>
                <a:gd name="textAreaRight" fmla="*/ 409680 w 409320"/>
                <a:gd name="textAreaTop" fmla="*/ 0 h 4401720"/>
                <a:gd name="textAreaBottom" fmla="*/ 4402080 h 440172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>
                <a:gd name="textAreaLeft" fmla="*/ 0 w 350640"/>
                <a:gd name="textAreaRight" fmla="*/ 351000 w 350640"/>
                <a:gd name="textAreaTop" fmla="*/ 0 h 1580760"/>
                <a:gd name="textAreaBottom" fmla="*/ 1581120 h 158076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5" name="Freeform 29"/>
            <p:cNvSpPr/>
            <p:nvPr/>
          </p:nvSpPr>
          <p:spPr>
            <a:xfrm>
              <a:off x="831600" y="5862600"/>
              <a:ext cx="357120" cy="990720"/>
            </a:xfrm>
            <a:custGeom>
              <a:avLst/>
              <a:gdLst>
                <a:gd name="textAreaLeft" fmla="*/ 0 w 357120"/>
                <a:gd name="textAreaRight" fmla="*/ 357480 w 357120"/>
                <a:gd name="textAreaTop" fmla="*/ 0 h 990720"/>
                <a:gd name="textAreaBottom" fmla="*/ 991080 h 99072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6" name="Freeform 30"/>
            <p:cNvSpPr/>
            <p:nvPr/>
          </p:nvSpPr>
          <p:spPr>
            <a:xfrm>
              <a:off x="429840" y="4364280"/>
              <a:ext cx="457200" cy="223632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2236320"/>
                <a:gd name="textAreaBottom" fmla="*/ 2236680 h 223632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7" name="Freeform 31"/>
            <p:cNvSpPr/>
            <p:nvPr/>
          </p:nvSpPr>
          <p:spPr>
            <a:xfrm>
              <a:off x="385560" y="1288440"/>
              <a:ext cx="144360" cy="302760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3027600"/>
                <a:gd name="textAreaBottom" fmla="*/ 3027960 h 302760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281520"/>
                <a:gd name="textAreaBottom" fmla="*/ 281880 h 28152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9" name="Freeform 33"/>
            <p:cNvSpPr/>
            <p:nvPr/>
          </p:nvSpPr>
          <p:spPr>
            <a:xfrm>
              <a:off x="414000" y="4107240"/>
              <a:ext cx="68040" cy="51156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511560"/>
                <a:gd name="textAreaBottom" fmla="*/ 511920 h 51156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0" name="Freeform 34"/>
            <p:cNvSpPr/>
            <p:nvPr/>
          </p:nvSpPr>
          <p:spPr>
            <a:xfrm>
              <a:off x="804600" y="3145320"/>
              <a:ext cx="1168560" cy="271728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2717280"/>
                <a:gd name="textAreaBottom" fmla="*/ 2717640 h 271728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252720"/>
                <a:gd name="textAreaBottom" fmla="*/ 253080 h 25272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674280"/>
                <a:gd name="textAreaBottom" fmla="*/ 674640 h 67428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227880"/>
                <a:gd name="textAreaBottom" fmla="*/ 228240 h 22788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530640"/>
                <a:gd name="textAreaBottom" fmla="*/ 531000 h 53064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85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6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>
              <a:gd name="textAreaLeft" fmla="*/ 0 w 1359000"/>
              <a:gd name="textAreaRight" fmla="*/ 1359360 w 1359000"/>
              <a:gd name="textAreaTop" fmla="*/ -360 h 507960"/>
              <a:gd name="textAreaBottom" fmla="*/ 507960 h 507960"/>
            </a:gdLst>
            <a:ahLst/>
            <a:rect l="textAreaLeft" t="textAreaTop" r="textAreaRight" b="textAreaBottom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581aa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 type="dt" idx="37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 type="ftr" idx="38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61" name="PlaceHolder 5"/>
          <p:cNvSpPr>
            <a:spLocks noGrp="1"/>
          </p:cNvSpPr>
          <p:nvPr>
            <p:ph type="sldNum" idx="39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0F3B097-206B-4CC6-936E-D4E4E7C6735D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89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626040"/>
                <a:gd name="textAreaBottom" fmla="*/ 626400 h 62604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>
                <a:gd name="textAreaLeft" fmla="*/ 0 w 449280"/>
                <a:gd name="textAreaRight" fmla="*/ 449640 w 44928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>
                <a:gd name="textAreaLeft" fmla="*/ 0 w 423360"/>
                <a:gd name="textAreaRight" fmla="*/ 423720 w 423360"/>
                <a:gd name="textAreaTop" fmla="*/ 0 h 1420200"/>
                <a:gd name="textAreaBottom" fmla="*/ 1420200 h 142020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>
                <a:gd name="textAreaLeft" fmla="*/ 0 w 570960"/>
                <a:gd name="textAreaRight" fmla="*/ 571320 w 570960"/>
                <a:gd name="textAreaTop" fmla="*/ 0 h 3328560"/>
                <a:gd name="textAreaBottom" fmla="*/ 3328920 h 332856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2927880"/>
                <a:gd name="textAreaBottom" fmla="*/ 2928240 h 292788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>
                <a:gd name="textAreaLeft" fmla="*/ 0 w 131760"/>
                <a:gd name="textAreaRight" fmla="*/ 132120 w 131760"/>
                <a:gd name="textAreaTop" fmla="*/ 0 h 1024920"/>
                <a:gd name="textAreaBottom" fmla="*/ 1025280 h 102492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>
                <a:gd name="textAreaLeft" fmla="*/ 0 w 1442520"/>
                <a:gd name="textAreaRight" fmla="*/ 1442880 w 144252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337320"/>
                <a:gd name="textAreaBottom" fmla="*/ 337680 h 33732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21760"/>
                <a:gd name="textAreaBottom" fmla="*/ 222120 h 22176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>
                <a:gd name="textAreaLeft" fmla="*/ 0 w 165600"/>
                <a:gd name="textAreaRight" fmla="*/ 165960 w 165600"/>
                <a:gd name="textAreaTop" fmla="*/ 0 h 622440"/>
                <a:gd name="textAreaBottom" fmla="*/ 622800 h 62244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91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912" name="Freeform 27"/>
            <p:cNvSpPr/>
            <p:nvPr/>
          </p:nvSpPr>
          <p:spPr>
            <a:xfrm>
              <a:off x="20520" y="0"/>
              <a:ext cx="409320" cy="4401720"/>
            </a:xfrm>
            <a:custGeom>
              <a:avLst/>
              <a:gdLst>
                <a:gd name="textAreaLeft" fmla="*/ 0 w 409320"/>
                <a:gd name="textAreaRight" fmla="*/ 409680 w 409320"/>
                <a:gd name="textAreaTop" fmla="*/ 0 h 4401720"/>
                <a:gd name="textAreaBottom" fmla="*/ 4402080 h 440172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>
                <a:gd name="textAreaLeft" fmla="*/ 0 w 350640"/>
                <a:gd name="textAreaRight" fmla="*/ 351000 w 350640"/>
                <a:gd name="textAreaTop" fmla="*/ 0 h 1580760"/>
                <a:gd name="textAreaBottom" fmla="*/ 1581120 h 158076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4" name="Freeform 29"/>
            <p:cNvSpPr/>
            <p:nvPr/>
          </p:nvSpPr>
          <p:spPr>
            <a:xfrm>
              <a:off x="831600" y="5862600"/>
              <a:ext cx="357120" cy="990720"/>
            </a:xfrm>
            <a:custGeom>
              <a:avLst/>
              <a:gdLst>
                <a:gd name="textAreaLeft" fmla="*/ 0 w 357120"/>
                <a:gd name="textAreaRight" fmla="*/ 357480 w 357120"/>
                <a:gd name="textAreaTop" fmla="*/ 0 h 990720"/>
                <a:gd name="textAreaBottom" fmla="*/ 991080 h 99072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5" name="Freeform 30"/>
            <p:cNvSpPr/>
            <p:nvPr/>
          </p:nvSpPr>
          <p:spPr>
            <a:xfrm>
              <a:off x="429840" y="4364280"/>
              <a:ext cx="457200" cy="223632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2236320"/>
                <a:gd name="textAreaBottom" fmla="*/ 2236680 h 223632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6" name="Freeform 31"/>
            <p:cNvSpPr/>
            <p:nvPr/>
          </p:nvSpPr>
          <p:spPr>
            <a:xfrm>
              <a:off x="385560" y="1288440"/>
              <a:ext cx="144360" cy="302760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3027600"/>
                <a:gd name="textAreaBottom" fmla="*/ 3027960 h 302760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281520"/>
                <a:gd name="textAreaBottom" fmla="*/ 281880 h 28152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8" name="Freeform 33"/>
            <p:cNvSpPr/>
            <p:nvPr/>
          </p:nvSpPr>
          <p:spPr>
            <a:xfrm>
              <a:off x="414000" y="4107240"/>
              <a:ext cx="68040" cy="51156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511560"/>
                <a:gd name="textAreaBottom" fmla="*/ 511920 h 51156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9" name="Freeform 34"/>
            <p:cNvSpPr/>
            <p:nvPr/>
          </p:nvSpPr>
          <p:spPr>
            <a:xfrm>
              <a:off x="804600" y="3145320"/>
              <a:ext cx="1168560" cy="271728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2717280"/>
                <a:gd name="textAreaBottom" fmla="*/ 2717640 h 271728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252720"/>
                <a:gd name="textAreaBottom" fmla="*/ 253080 h 25272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674280"/>
                <a:gd name="textAreaBottom" fmla="*/ 674640 h 67428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227880"/>
                <a:gd name="textAreaBottom" fmla="*/ 228240 h 22788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530640"/>
                <a:gd name="textAreaBottom" fmla="*/ 531000 h 53064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92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5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>
              <a:gd name="textAreaLeft" fmla="*/ 0 w 1359000"/>
              <a:gd name="textAreaRight" fmla="*/ 1359360 w 1359000"/>
              <a:gd name="textAreaTop" fmla="*/ -360 h 507960"/>
              <a:gd name="textAreaBottom" fmla="*/ 507960 h 507960"/>
            </a:gdLst>
            <a:ahLst/>
            <a:rect l="textAreaLeft" t="textAreaTop" r="textAreaRight" b="textAreaBottom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6" name="TextBox 34"/>
          <p:cNvSpPr/>
          <p:nvPr/>
        </p:nvSpPr>
        <p:spPr>
          <a:xfrm>
            <a:off x="1808280" y="6476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353535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7" name="TextBox 62"/>
          <p:cNvSpPr/>
          <p:nvPr/>
        </p:nvSpPr>
        <p:spPr>
          <a:xfrm>
            <a:off x="8169120" y="2905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353535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581aa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 type="dt" idx="40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 type="ftr" idx="41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32" name="PlaceHolder 5"/>
          <p:cNvSpPr>
            <a:spLocks noGrp="1"/>
          </p:cNvSpPr>
          <p:nvPr>
            <p:ph type="sldNum" idx="42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F780DB6-597B-44C2-B686-EE3C31E6426A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97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626040"/>
                <a:gd name="textAreaBottom" fmla="*/ 626400 h 62604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>
                <a:gd name="textAreaLeft" fmla="*/ 0 w 449280"/>
                <a:gd name="textAreaRight" fmla="*/ 449640 w 44928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>
                <a:gd name="textAreaLeft" fmla="*/ 0 w 423360"/>
                <a:gd name="textAreaRight" fmla="*/ 423720 w 423360"/>
                <a:gd name="textAreaTop" fmla="*/ 0 h 1420200"/>
                <a:gd name="textAreaBottom" fmla="*/ 1420200 h 142020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>
                <a:gd name="textAreaLeft" fmla="*/ 0 w 570960"/>
                <a:gd name="textAreaRight" fmla="*/ 571320 w 570960"/>
                <a:gd name="textAreaTop" fmla="*/ 0 h 3328560"/>
                <a:gd name="textAreaBottom" fmla="*/ 3328920 h 332856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2927880"/>
                <a:gd name="textAreaBottom" fmla="*/ 2928240 h 292788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>
                <a:gd name="textAreaLeft" fmla="*/ 0 w 131760"/>
                <a:gd name="textAreaRight" fmla="*/ 132120 w 131760"/>
                <a:gd name="textAreaTop" fmla="*/ 0 h 1024920"/>
                <a:gd name="textAreaBottom" fmla="*/ 1025280 h 102492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>
                <a:gd name="textAreaLeft" fmla="*/ 0 w 1442520"/>
                <a:gd name="textAreaRight" fmla="*/ 1442880 w 144252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337320"/>
                <a:gd name="textAreaBottom" fmla="*/ 337680 h 33732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21760"/>
                <a:gd name="textAreaBottom" fmla="*/ 222120 h 22176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>
                <a:gd name="textAreaLeft" fmla="*/ 0 w 165600"/>
                <a:gd name="textAreaRight" fmla="*/ 165960 w 165600"/>
                <a:gd name="textAreaTop" fmla="*/ 0 h 622440"/>
                <a:gd name="textAreaBottom" fmla="*/ 622800 h 62244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98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983" name="Freeform 27"/>
            <p:cNvSpPr/>
            <p:nvPr/>
          </p:nvSpPr>
          <p:spPr>
            <a:xfrm>
              <a:off x="20520" y="0"/>
              <a:ext cx="409320" cy="4401720"/>
            </a:xfrm>
            <a:custGeom>
              <a:avLst/>
              <a:gdLst>
                <a:gd name="textAreaLeft" fmla="*/ 0 w 409320"/>
                <a:gd name="textAreaRight" fmla="*/ 409680 w 409320"/>
                <a:gd name="textAreaTop" fmla="*/ 0 h 4401720"/>
                <a:gd name="textAreaBottom" fmla="*/ 4402080 h 440172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>
                <a:gd name="textAreaLeft" fmla="*/ 0 w 350640"/>
                <a:gd name="textAreaRight" fmla="*/ 351000 w 350640"/>
                <a:gd name="textAreaTop" fmla="*/ 0 h 1580760"/>
                <a:gd name="textAreaBottom" fmla="*/ 1581120 h 158076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5" name="Freeform 29"/>
            <p:cNvSpPr/>
            <p:nvPr/>
          </p:nvSpPr>
          <p:spPr>
            <a:xfrm>
              <a:off x="831600" y="5862600"/>
              <a:ext cx="357120" cy="990720"/>
            </a:xfrm>
            <a:custGeom>
              <a:avLst/>
              <a:gdLst>
                <a:gd name="textAreaLeft" fmla="*/ 0 w 357120"/>
                <a:gd name="textAreaRight" fmla="*/ 357480 w 357120"/>
                <a:gd name="textAreaTop" fmla="*/ 0 h 990720"/>
                <a:gd name="textAreaBottom" fmla="*/ 991080 h 99072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6" name="Freeform 30"/>
            <p:cNvSpPr/>
            <p:nvPr/>
          </p:nvSpPr>
          <p:spPr>
            <a:xfrm>
              <a:off x="429840" y="4364280"/>
              <a:ext cx="457200" cy="223632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2236320"/>
                <a:gd name="textAreaBottom" fmla="*/ 2236680 h 223632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7" name="Freeform 31"/>
            <p:cNvSpPr/>
            <p:nvPr/>
          </p:nvSpPr>
          <p:spPr>
            <a:xfrm>
              <a:off x="385560" y="1288440"/>
              <a:ext cx="144360" cy="302760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3027600"/>
                <a:gd name="textAreaBottom" fmla="*/ 3027960 h 302760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281520"/>
                <a:gd name="textAreaBottom" fmla="*/ 281880 h 28152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9" name="Freeform 33"/>
            <p:cNvSpPr/>
            <p:nvPr/>
          </p:nvSpPr>
          <p:spPr>
            <a:xfrm>
              <a:off x="414000" y="4107240"/>
              <a:ext cx="68040" cy="51156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511560"/>
                <a:gd name="textAreaBottom" fmla="*/ 511920 h 51156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0" name="Freeform 34"/>
            <p:cNvSpPr/>
            <p:nvPr/>
          </p:nvSpPr>
          <p:spPr>
            <a:xfrm>
              <a:off x="804600" y="3145320"/>
              <a:ext cx="1168560" cy="271728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2717280"/>
                <a:gd name="textAreaBottom" fmla="*/ 2717640 h 271728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252720"/>
                <a:gd name="textAreaBottom" fmla="*/ 253080 h 25272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674280"/>
                <a:gd name="textAreaBottom" fmla="*/ 674640 h 67428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227880"/>
                <a:gd name="textAreaBottom" fmla="*/ 228240 h 22788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530640"/>
                <a:gd name="textAreaBottom" fmla="*/ 531000 h 53064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99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96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>
              <a:gd name="textAreaLeft" fmla="*/ 0 w 1359000"/>
              <a:gd name="textAreaRight" fmla="*/ 1359360 w 1359000"/>
              <a:gd name="textAreaTop" fmla="*/ -360 h 507960"/>
              <a:gd name="textAreaBottom" fmla="*/ 507960 h 507960"/>
            </a:gdLst>
            <a:ahLst/>
            <a:rect l="textAreaLeft" t="textAreaTop" r="textAreaRight" b="textAreaBottom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581aa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 type="dt" idx="43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 type="ftr" idx="44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01" name="PlaceHolder 5"/>
          <p:cNvSpPr>
            <a:spLocks noGrp="1"/>
          </p:cNvSpPr>
          <p:nvPr>
            <p:ph type="sldNum" idx="45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746E6A0-F333-41CA-8119-5FECE3B811AD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03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626040"/>
                <a:gd name="textAreaBottom" fmla="*/ 626400 h 62604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>
                <a:gd name="textAreaLeft" fmla="*/ 0 w 449280"/>
                <a:gd name="textAreaRight" fmla="*/ 449640 w 44928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>
                <a:gd name="textAreaLeft" fmla="*/ 0 w 423360"/>
                <a:gd name="textAreaRight" fmla="*/ 423720 w 423360"/>
                <a:gd name="textAreaTop" fmla="*/ 0 h 1420200"/>
                <a:gd name="textAreaBottom" fmla="*/ 1420200 h 142020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>
                <a:gd name="textAreaLeft" fmla="*/ 0 w 570960"/>
                <a:gd name="textAreaRight" fmla="*/ 571320 w 570960"/>
                <a:gd name="textAreaTop" fmla="*/ 0 h 3328560"/>
                <a:gd name="textAreaBottom" fmla="*/ 3328920 h 332856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2927880"/>
                <a:gd name="textAreaBottom" fmla="*/ 2928240 h 292788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>
                <a:gd name="textAreaLeft" fmla="*/ 0 w 131760"/>
                <a:gd name="textAreaRight" fmla="*/ 132120 w 131760"/>
                <a:gd name="textAreaTop" fmla="*/ 0 h 1024920"/>
                <a:gd name="textAreaBottom" fmla="*/ 1025280 h 102492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>
                <a:gd name="textAreaLeft" fmla="*/ 0 w 1442520"/>
                <a:gd name="textAreaRight" fmla="*/ 1442880 w 144252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337320"/>
                <a:gd name="textAreaBottom" fmla="*/ 337680 h 33732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21760"/>
                <a:gd name="textAreaBottom" fmla="*/ 222120 h 22176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>
                <a:gd name="textAreaLeft" fmla="*/ 0 w 165600"/>
                <a:gd name="textAreaRight" fmla="*/ 165960 w 165600"/>
                <a:gd name="textAreaTop" fmla="*/ 0 h 622440"/>
                <a:gd name="textAreaBottom" fmla="*/ 622800 h 62244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05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052" name="Freeform 27"/>
            <p:cNvSpPr/>
            <p:nvPr/>
          </p:nvSpPr>
          <p:spPr>
            <a:xfrm>
              <a:off x="20520" y="0"/>
              <a:ext cx="409320" cy="4401720"/>
            </a:xfrm>
            <a:custGeom>
              <a:avLst/>
              <a:gdLst>
                <a:gd name="textAreaLeft" fmla="*/ 0 w 409320"/>
                <a:gd name="textAreaRight" fmla="*/ 409680 w 409320"/>
                <a:gd name="textAreaTop" fmla="*/ 0 h 4401720"/>
                <a:gd name="textAreaBottom" fmla="*/ 4402080 h 440172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>
                <a:gd name="textAreaLeft" fmla="*/ 0 w 350640"/>
                <a:gd name="textAreaRight" fmla="*/ 351000 w 350640"/>
                <a:gd name="textAreaTop" fmla="*/ 0 h 1580760"/>
                <a:gd name="textAreaBottom" fmla="*/ 1581120 h 158076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4" name="Freeform 29"/>
            <p:cNvSpPr/>
            <p:nvPr/>
          </p:nvSpPr>
          <p:spPr>
            <a:xfrm>
              <a:off x="831600" y="5862600"/>
              <a:ext cx="357120" cy="990720"/>
            </a:xfrm>
            <a:custGeom>
              <a:avLst/>
              <a:gdLst>
                <a:gd name="textAreaLeft" fmla="*/ 0 w 357120"/>
                <a:gd name="textAreaRight" fmla="*/ 357480 w 357120"/>
                <a:gd name="textAreaTop" fmla="*/ 0 h 990720"/>
                <a:gd name="textAreaBottom" fmla="*/ 991080 h 99072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5" name="Freeform 30"/>
            <p:cNvSpPr/>
            <p:nvPr/>
          </p:nvSpPr>
          <p:spPr>
            <a:xfrm>
              <a:off x="429840" y="4364280"/>
              <a:ext cx="457200" cy="223632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2236320"/>
                <a:gd name="textAreaBottom" fmla="*/ 2236680 h 223632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6" name="Freeform 31"/>
            <p:cNvSpPr/>
            <p:nvPr/>
          </p:nvSpPr>
          <p:spPr>
            <a:xfrm>
              <a:off x="385560" y="1288440"/>
              <a:ext cx="144360" cy="302760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3027600"/>
                <a:gd name="textAreaBottom" fmla="*/ 3027960 h 302760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281520"/>
                <a:gd name="textAreaBottom" fmla="*/ 281880 h 28152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8" name="Freeform 33"/>
            <p:cNvSpPr/>
            <p:nvPr/>
          </p:nvSpPr>
          <p:spPr>
            <a:xfrm>
              <a:off x="414000" y="4107240"/>
              <a:ext cx="68040" cy="51156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511560"/>
                <a:gd name="textAreaBottom" fmla="*/ 511920 h 51156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9" name="Freeform 34"/>
            <p:cNvSpPr/>
            <p:nvPr/>
          </p:nvSpPr>
          <p:spPr>
            <a:xfrm>
              <a:off x="804600" y="3145320"/>
              <a:ext cx="1168560" cy="271728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2717280"/>
                <a:gd name="textAreaBottom" fmla="*/ 2717640 h 271728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252720"/>
                <a:gd name="textAreaBottom" fmla="*/ 253080 h 25272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674280"/>
                <a:gd name="textAreaBottom" fmla="*/ 674640 h 67428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227880"/>
                <a:gd name="textAreaBottom" fmla="*/ 228240 h 22788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530640"/>
                <a:gd name="textAreaBottom" fmla="*/ 531000 h 53064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06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65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>
              <a:gd name="textAreaLeft" fmla="*/ 0 w 1359000"/>
              <a:gd name="textAreaRight" fmla="*/ 1359360 w 1359000"/>
              <a:gd name="textAreaTop" fmla="*/ -360 h 507960"/>
              <a:gd name="textAreaBottom" fmla="*/ 507960 h 507960"/>
            </a:gdLst>
            <a:ahLst/>
            <a:rect l="textAreaLeft" t="textAreaTop" r="textAreaRight" b="textAreaBottom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581aa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 type="dt" idx="46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 type="ftr" idx="47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 type="sldNum" idx="48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015653-DE40-433D-9E25-209EADA3760C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7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108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626040"/>
                <a:gd name="textAreaBottom" fmla="*/ 626400 h 62604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09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>
                <a:gd name="textAreaLeft" fmla="*/ 0 w 449280"/>
                <a:gd name="textAreaRight" fmla="*/ 449640 w 44928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0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>
                <a:gd name="textAreaLeft" fmla="*/ 0 w 423360"/>
                <a:gd name="textAreaRight" fmla="*/ 423720 w 423360"/>
                <a:gd name="textAreaTop" fmla="*/ 0 h 1420200"/>
                <a:gd name="textAreaBottom" fmla="*/ 1420200 h 142020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1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2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>
                <a:gd name="textAreaLeft" fmla="*/ 0 w 570960"/>
                <a:gd name="textAreaRight" fmla="*/ 571320 w 570960"/>
                <a:gd name="textAreaTop" fmla="*/ 0 h 3328560"/>
                <a:gd name="textAreaBottom" fmla="*/ 3328920 h 332856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3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2927880"/>
                <a:gd name="textAreaBottom" fmla="*/ 2928240 h 292788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4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5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>
                <a:gd name="textAreaLeft" fmla="*/ 0 w 131760"/>
                <a:gd name="textAreaRight" fmla="*/ 132120 w 131760"/>
                <a:gd name="textAreaTop" fmla="*/ 0 h 1024920"/>
                <a:gd name="textAreaBottom" fmla="*/ 1025280 h 102492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6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>
                <a:gd name="textAreaLeft" fmla="*/ 0 w 1442520"/>
                <a:gd name="textAreaRight" fmla="*/ 1442880 w 144252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7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337320"/>
                <a:gd name="textAreaBottom" fmla="*/ 337680 h 33732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8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21760"/>
                <a:gd name="textAreaBottom" fmla="*/ 222120 h 22176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9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>
                <a:gd name="textAreaLeft" fmla="*/ 0 w 165600"/>
                <a:gd name="textAreaRight" fmla="*/ 165960 w 165600"/>
                <a:gd name="textAreaTop" fmla="*/ 0 h 622440"/>
                <a:gd name="textAreaBottom" fmla="*/ 622800 h 62244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120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121" name="Freeform 27"/>
            <p:cNvSpPr/>
            <p:nvPr/>
          </p:nvSpPr>
          <p:spPr>
            <a:xfrm>
              <a:off x="20520" y="0"/>
              <a:ext cx="409320" cy="4401720"/>
            </a:xfrm>
            <a:custGeom>
              <a:avLst/>
              <a:gdLst>
                <a:gd name="textAreaLeft" fmla="*/ 0 w 409320"/>
                <a:gd name="textAreaRight" fmla="*/ 409680 w 409320"/>
                <a:gd name="textAreaTop" fmla="*/ 0 h 4401720"/>
                <a:gd name="textAreaBottom" fmla="*/ 4402080 h 440172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2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>
                <a:gd name="textAreaLeft" fmla="*/ 0 w 350640"/>
                <a:gd name="textAreaRight" fmla="*/ 351000 w 350640"/>
                <a:gd name="textAreaTop" fmla="*/ 0 h 1580760"/>
                <a:gd name="textAreaBottom" fmla="*/ 1581120 h 158076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3" name="Freeform 29"/>
            <p:cNvSpPr/>
            <p:nvPr/>
          </p:nvSpPr>
          <p:spPr>
            <a:xfrm>
              <a:off x="831600" y="5862600"/>
              <a:ext cx="357120" cy="990720"/>
            </a:xfrm>
            <a:custGeom>
              <a:avLst/>
              <a:gdLst>
                <a:gd name="textAreaLeft" fmla="*/ 0 w 357120"/>
                <a:gd name="textAreaRight" fmla="*/ 357480 w 357120"/>
                <a:gd name="textAreaTop" fmla="*/ 0 h 990720"/>
                <a:gd name="textAreaBottom" fmla="*/ 991080 h 99072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4" name="Freeform 30"/>
            <p:cNvSpPr/>
            <p:nvPr/>
          </p:nvSpPr>
          <p:spPr>
            <a:xfrm>
              <a:off x="429840" y="4364280"/>
              <a:ext cx="457200" cy="223632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2236320"/>
                <a:gd name="textAreaBottom" fmla="*/ 2236680 h 223632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5" name="Freeform 31"/>
            <p:cNvSpPr/>
            <p:nvPr/>
          </p:nvSpPr>
          <p:spPr>
            <a:xfrm>
              <a:off x="385560" y="1288440"/>
              <a:ext cx="144360" cy="302760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3027600"/>
                <a:gd name="textAreaBottom" fmla="*/ 3027960 h 302760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6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281520"/>
                <a:gd name="textAreaBottom" fmla="*/ 281880 h 28152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7" name="Freeform 33"/>
            <p:cNvSpPr/>
            <p:nvPr/>
          </p:nvSpPr>
          <p:spPr>
            <a:xfrm>
              <a:off x="414000" y="4107240"/>
              <a:ext cx="68040" cy="51156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511560"/>
                <a:gd name="textAreaBottom" fmla="*/ 511920 h 51156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8" name="Freeform 34"/>
            <p:cNvSpPr/>
            <p:nvPr/>
          </p:nvSpPr>
          <p:spPr>
            <a:xfrm>
              <a:off x="804600" y="3145320"/>
              <a:ext cx="1168560" cy="271728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2717280"/>
                <a:gd name="textAreaBottom" fmla="*/ 2717640 h 271728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9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252720"/>
                <a:gd name="textAreaBottom" fmla="*/ 253080 h 25272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0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674280"/>
                <a:gd name="textAreaBottom" fmla="*/ 674640 h 67428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1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227880"/>
                <a:gd name="textAreaBottom" fmla="*/ 228240 h 22788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2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530640"/>
                <a:gd name="textAreaBottom" fmla="*/ 531000 h 53064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133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4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>
              <a:gd name="textAreaLeft" fmla="*/ 0 w 1359000"/>
              <a:gd name="textAreaRight" fmla="*/ 1359360 w 1359000"/>
              <a:gd name="textAreaTop" fmla="*/ -360 h 507960"/>
              <a:gd name="textAreaBottom" fmla="*/ 507960 h 507960"/>
            </a:gdLst>
            <a:ahLst/>
            <a:rect l="textAreaLeft" t="textAreaTop" r="textAreaRight" b="textAreaBottom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581aa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 type="dt" idx="49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PlaceHolder 4"/>
          <p:cNvSpPr>
            <a:spLocks noGrp="1"/>
          </p:cNvSpPr>
          <p:nvPr>
            <p:ph type="ftr" idx="50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9" name="PlaceHolder 5"/>
          <p:cNvSpPr>
            <a:spLocks noGrp="1"/>
          </p:cNvSpPr>
          <p:nvPr>
            <p:ph type="sldNum" idx="51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7B8B2D6-81FF-4016-8C65-92E932292360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626040"/>
                <a:gd name="textAreaBottom" fmla="*/ 626400 h 62604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>
                <a:gd name="textAreaLeft" fmla="*/ 0 w 449280"/>
                <a:gd name="textAreaRight" fmla="*/ 449640 w 44928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>
                <a:gd name="textAreaLeft" fmla="*/ 0 w 423360"/>
                <a:gd name="textAreaRight" fmla="*/ 423720 w 423360"/>
                <a:gd name="textAreaTop" fmla="*/ 0 h 1420200"/>
                <a:gd name="textAreaBottom" fmla="*/ 1420200 h 142020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>
                <a:gd name="textAreaLeft" fmla="*/ 0 w 570960"/>
                <a:gd name="textAreaRight" fmla="*/ 571320 w 570960"/>
                <a:gd name="textAreaTop" fmla="*/ 0 h 3328560"/>
                <a:gd name="textAreaBottom" fmla="*/ 3328920 h 332856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2927880"/>
                <a:gd name="textAreaBottom" fmla="*/ 2928240 h 292788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>
                <a:gd name="textAreaLeft" fmla="*/ 0 w 131760"/>
                <a:gd name="textAreaRight" fmla="*/ 132120 w 131760"/>
                <a:gd name="textAreaTop" fmla="*/ 0 h 1024920"/>
                <a:gd name="textAreaBottom" fmla="*/ 1025280 h 102492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>
                <a:gd name="textAreaLeft" fmla="*/ 0 w 1442520"/>
                <a:gd name="textAreaRight" fmla="*/ 1442880 w 144252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337320"/>
                <a:gd name="textAreaBottom" fmla="*/ 337680 h 33732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21760"/>
                <a:gd name="textAreaBottom" fmla="*/ 222120 h 22176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>
                <a:gd name="textAreaLeft" fmla="*/ 0 w 165600"/>
                <a:gd name="textAreaRight" fmla="*/ 165960 w 165600"/>
                <a:gd name="textAreaTop" fmla="*/ 0 h 622440"/>
                <a:gd name="textAreaBottom" fmla="*/ 622800 h 62244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8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82" name="Freeform 27"/>
            <p:cNvSpPr/>
            <p:nvPr/>
          </p:nvSpPr>
          <p:spPr>
            <a:xfrm>
              <a:off x="20520" y="0"/>
              <a:ext cx="409320" cy="4401720"/>
            </a:xfrm>
            <a:custGeom>
              <a:avLst/>
              <a:gdLst>
                <a:gd name="textAreaLeft" fmla="*/ 0 w 409320"/>
                <a:gd name="textAreaRight" fmla="*/ 409680 w 409320"/>
                <a:gd name="textAreaTop" fmla="*/ 0 h 4401720"/>
                <a:gd name="textAreaBottom" fmla="*/ 4402080 h 440172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>
                <a:gd name="textAreaLeft" fmla="*/ 0 w 350640"/>
                <a:gd name="textAreaRight" fmla="*/ 351000 w 350640"/>
                <a:gd name="textAreaTop" fmla="*/ 0 h 1580760"/>
                <a:gd name="textAreaBottom" fmla="*/ 1581120 h 158076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" name="Freeform 29"/>
            <p:cNvSpPr/>
            <p:nvPr/>
          </p:nvSpPr>
          <p:spPr>
            <a:xfrm>
              <a:off x="831600" y="5862600"/>
              <a:ext cx="357120" cy="990720"/>
            </a:xfrm>
            <a:custGeom>
              <a:avLst/>
              <a:gdLst>
                <a:gd name="textAreaLeft" fmla="*/ 0 w 357120"/>
                <a:gd name="textAreaRight" fmla="*/ 357480 w 357120"/>
                <a:gd name="textAreaTop" fmla="*/ 0 h 990720"/>
                <a:gd name="textAreaBottom" fmla="*/ 991080 h 99072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" name="Freeform 30"/>
            <p:cNvSpPr/>
            <p:nvPr/>
          </p:nvSpPr>
          <p:spPr>
            <a:xfrm>
              <a:off x="429840" y="4364280"/>
              <a:ext cx="457200" cy="223632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2236320"/>
                <a:gd name="textAreaBottom" fmla="*/ 2236680 h 223632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6" name="Freeform 31"/>
            <p:cNvSpPr/>
            <p:nvPr/>
          </p:nvSpPr>
          <p:spPr>
            <a:xfrm>
              <a:off x="385560" y="1288440"/>
              <a:ext cx="144360" cy="302760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3027600"/>
                <a:gd name="textAreaBottom" fmla="*/ 3027960 h 302760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281520"/>
                <a:gd name="textAreaBottom" fmla="*/ 281880 h 28152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8" name="Freeform 33"/>
            <p:cNvSpPr/>
            <p:nvPr/>
          </p:nvSpPr>
          <p:spPr>
            <a:xfrm>
              <a:off x="414000" y="4107240"/>
              <a:ext cx="68040" cy="51156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511560"/>
                <a:gd name="textAreaBottom" fmla="*/ 511920 h 51156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9" name="Freeform 34"/>
            <p:cNvSpPr/>
            <p:nvPr/>
          </p:nvSpPr>
          <p:spPr>
            <a:xfrm>
              <a:off x="804600" y="3145320"/>
              <a:ext cx="1168560" cy="271728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2717280"/>
                <a:gd name="textAreaBottom" fmla="*/ 2717640 h 271728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252720"/>
                <a:gd name="textAreaBottom" fmla="*/ 253080 h 25272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674280"/>
                <a:gd name="textAreaBottom" fmla="*/ 674640 h 67428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227880"/>
                <a:gd name="textAreaBottom" fmla="*/ 228240 h 22788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530640"/>
                <a:gd name="textAreaBottom" fmla="*/ 531000 h 53064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9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5" name="Freeform 8"/>
          <p:cNvSpPr/>
          <p:nvPr/>
        </p:nvSpPr>
        <p:spPr>
          <a:xfrm>
            <a:off x="-31680" y="4321080"/>
            <a:ext cx="1395360" cy="781200"/>
          </a:xfrm>
          <a:custGeom>
            <a:avLst/>
            <a:gdLst>
              <a:gd name="textAreaLeft" fmla="*/ 0 w 1395360"/>
              <a:gd name="textAreaRight" fmla="*/ 1395720 w 1395360"/>
              <a:gd name="textAreaTop" fmla="*/ 0 h 781200"/>
              <a:gd name="textAreaBottom" fmla="*/ 781560 h 781200"/>
            </a:gdLst>
            <a:ahLst/>
            <a:rect l="textAreaLeft" t="textAreaTop" r="textAreaRight" b="textAreaBottom"/>
            <a:pathLst>
              <a:path w="8042" h="10000">
                <a:moveTo>
                  <a:pt x="5799" y="10000"/>
                </a:moveTo>
                <a:cubicBezTo>
                  <a:pt x="5880" y="10000"/>
                  <a:pt x="5934" y="9940"/>
                  <a:pt x="5961" y="9880"/>
                </a:cubicBezTo>
                <a:cubicBezTo>
                  <a:pt x="5961" y="9820"/>
                  <a:pt x="5988" y="9820"/>
                  <a:pt x="5988" y="9820"/>
                </a:cubicBezTo>
                <a:lnTo>
                  <a:pt x="8042" y="5260"/>
                </a:lnTo>
                <a:cubicBezTo>
                  <a:pt x="8096" y="5140"/>
                  <a:pt x="8096" y="4901"/>
                  <a:pt x="8042" y="4721"/>
                </a:cubicBezTo>
                <a:lnTo>
                  <a:pt x="5988" y="221"/>
                </a:lnTo>
                <a:cubicBezTo>
                  <a:pt x="5988" y="160"/>
                  <a:pt x="5961" y="160"/>
                  <a:pt x="5961" y="160"/>
                </a:cubicBezTo>
                <a:cubicBezTo>
                  <a:pt x="5934" y="101"/>
                  <a:pt x="5880" y="41"/>
                  <a:pt x="5799" y="41"/>
                </a:cubicBezTo>
                <a:lnTo>
                  <a:pt x="18" y="0"/>
                </a:lnTo>
                <a:cubicBezTo>
                  <a:pt x="12" y="3330"/>
                  <a:pt x="6" y="6661"/>
                  <a:pt x="0" y="9991"/>
                </a:cubicBezTo>
                <a:lnTo>
                  <a:pt x="5799" y="10000"/>
                </a:ln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581aa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4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5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6"/>
          </p:nvPr>
        </p:nvSpPr>
        <p:spPr>
          <a:xfrm>
            <a:off x="423360" y="4529160"/>
            <a:ext cx="584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CF6EFB-78B2-4CF7-8256-2EEC7C8F5A6F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38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626040"/>
                <a:gd name="textAreaBottom" fmla="*/ 626400 h 62604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39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>
                <a:gd name="textAreaLeft" fmla="*/ 0 w 449280"/>
                <a:gd name="textAreaRight" fmla="*/ 449640 w 44928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0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>
                <a:gd name="textAreaLeft" fmla="*/ 0 w 423360"/>
                <a:gd name="textAreaRight" fmla="*/ 423720 w 423360"/>
                <a:gd name="textAreaTop" fmla="*/ 0 h 1420200"/>
                <a:gd name="textAreaBottom" fmla="*/ 1420200 h 142020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1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2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>
                <a:gd name="textAreaLeft" fmla="*/ 0 w 570960"/>
                <a:gd name="textAreaRight" fmla="*/ 571320 w 570960"/>
                <a:gd name="textAreaTop" fmla="*/ 0 h 3328560"/>
                <a:gd name="textAreaBottom" fmla="*/ 3328920 h 332856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3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2927880"/>
                <a:gd name="textAreaBottom" fmla="*/ 2928240 h 292788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4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5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>
                <a:gd name="textAreaLeft" fmla="*/ 0 w 131760"/>
                <a:gd name="textAreaRight" fmla="*/ 132120 w 131760"/>
                <a:gd name="textAreaTop" fmla="*/ 0 h 1024920"/>
                <a:gd name="textAreaBottom" fmla="*/ 1025280 h 102492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6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>
                <a:gd name="textAreaLeft" fmla="*/ 0 w 1442520"/>
                <a:gd name="textAreaRight" fmla="*/ 1442880 w 144252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7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337320"/>
                <a:gd name="textAreaBottom" fmla="*/ 337680 h 33732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8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21760"/>
                <a:gd name="textAreaBottom" fmla="*/ 222120 h 22176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9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>
                <a:gd name="textAreaLeft" fmla="*/ 0 w 165600"/>
                <a:gd name="textAreaRight" fmla="*/ 165960 w 165600"/>
                <a:gd name="textAreaTop" fmla="*/ 0 h 622440"/>
                <a:gd name="textAreaBottom" fmla="*/ 622800 h 62244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50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51" name="Freeform 27"/>
            <p:cNvSpPr/>
            <p:nvPr/>
          </p:nvSpPr>
          <p:spPr>
            <a:xfrm>
              <a:off x="20520" y="0"/>
              <a:ext cx="409320" cy="4401720"/>
            </a:xfrm>
            <a:custGeom>
              <a:avLst/>
              <a:gdLst>
                <a:gd name="textAreaLeft" fmla="*/ 0 w 409320"/>
                <a:gd name="textAreaRight" fmla="*/ 409680 w 409320"/>
                <a:gd name="textAreaTop" fmla="*/ 0 h 4401720"/>
                <a:gd name="textAreaBottom" fmla="*/ 4402080 h 440172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2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>
                <a:gd name="textAreaLeft" fmla="*/ 0 w 350640"/>
                <a:gd name="textAreaRight" fmla="*/ 351000 w 350640"/>
                <a:gd name="textAreaTop" fmla="*/ 0 h 1580760"/>
                <a:gd name="textAreaBottom" fmla="*/ 1581120 h 158076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3" name="Freeform 29"/>
            <p:cNvSpPr/>
            <p:nvPr/>
          </p:nvSpPr>
          <p:spPr>
            <a:xfrm>
              <a:off x="831600" y="5862600"/>
              <a:ext cx="357120" cy="990720"/>
            </a:xfrm>
            <a:custGeom>
              <a:avLst/>
              <a:gdLst>
                <a:gd name="textAreaLeft" fmla="*/ 0 w 357120"/>
                <a:gd name="textAreaRight" fmla="*/ 357480 w 357120"/>
                <a:gd name="textAreaTop" fmla="*/ 0 h 990720"/>
                <a:gd name="textAreaBottom" fmla="*/ 991080 h 99072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4" name="Freeform 30"/>
            <p:cNvSpPr/>
            <p:nvPr/>
          </p:nvSpPr>
          <p:spPr>
            <a:xfrm>
              <a:off x="429840" y="4364280"/>
              <a:ext cx="457200" cy="223632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2236320"/>
                <a:gd name="textAreaBottom" fmla="*/ 2236680 h 223632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5" name="Freeform 31"/>
            <p:cNvSpPr/>
            <p:nvPr/>
          </p:nvSpPr>
          <p:spPr>
            <a:xfrm>
              <a:off x="385560" y="1288440"/>
              <a:ext cx="144360" cy="302760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3027600"/>
                <a:gd name="textAreaBottom" fmla="*/ 3027960 h 302760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6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281520"/>
                <a:gd name="textAreaBottom" fmla="*/ 281880 h 28152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7" name="Freeform 33"/>
            <p:cNvSpPr/>
            <p:nvPr/>
          </p:nvSpPr>
          <p:spPr>
            <a:xfrm>
              <a:off x="414000" y="4107240"/>
              <a:ext cx="68040" cy="51156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511560"/>
                <a:gd name="textAreaBottom" fmla="*/ 511920 h 51156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8" name="Freeform 34"/>
            <p:cNvSpPr/>
            <p:nvPr/>
          </p:nvSpPr>
          <p:spPr>
            <a:xfrm>
              <a:off x="804600" y="3145320"/>
              <a:ext cx="1168560" cy="271728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2717280"/>
                <a:gd name="textAreaBottom" fmla="*/ 2717640 h 271728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9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252720"/>
                <a:gd name="textAreaBottom" fmla="*/ 253080 h 25272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0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674280"/>
                <a:gd name="textAreaBottom" fmla="*/ 674640 h 67428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1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227880"/>
                <a:gd name="textAreaBottom" fmla="*/ 228240 h 22788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2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530640"/>
                <a:gd name="textAreaBottom" fmla="*/ 531000 h 53064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63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4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>
              <a:gd name="textAreaLeft" fmla="*/ 0 w 1359000"/>
              <a:gd name="textAreaRight" fmla="*/ 1359360 w 1359000"/>
              <a:gd name="textAreaTop" fmla="*/ -360 h 507960"/>
              <a:gd name="textAreaBottom" fmla="*/ 507960 h 507960"/>
            </a:gdLst>
            <a:ahLst/>
            <a:rect l="textAreaLeft" t="textAreaTop" r="textAreaRight" b="textAreaBottom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581aa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7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8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9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005A39-7501-451E-94D2-F83A5C2CBCF2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207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626040"/>
                <a:gd name="textAreaBottom" fmla="*/ 626400 h 62604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8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>
                <a:gd name="textAreaLeft" fmla="*/ 0 w 449280"/>
                <a:gd name="textAreaRight" fmla="*/ 449640 w 44928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9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>
                <a:gd name="textAreaLeft" fmla="*/ 0 w 423360"/>
                <a:gd name="textAreaRight" fmla="*/ 423720 w 423360"/>
                <a:gd name="textAreaTop" fmla="*/ 0 h 1420200"/>
                <a:gd name="textAreaBottom" fmla="*/ 1420200 h 142020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0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1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>
                <a:gd name="textAreaLeft" fmla="*/ 0 w 570960"/>
                <a:gd name="textAreaRight" fmla="*/ 571320 w 570960"/>
                <a:gd name="textAreaTop" fmla="*/ 0 h 3328560"/>
                <a:gd name="textAreaBottom" fmla="*/ 3328920 h 332856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2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2927880"/>
                <a:gd name="textAreaBottom" fmla="*/ 2928240 h 292788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3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4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>
                <a:gd name="textAreaLeft" fmla="*/ 0 w 131760"/>
                <a:gd name="textAreaRight" fmla="*/ 132120 w 131760"/>
                <a:gd name="textAreaTop" fmla="*/ 0 h 1024920"/>
                <a:gd name="textAreaBottom" fmla="*/ 1025280 h 102492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5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>
                <a:gd name="textAreaLeft" fmla="*/ 0 w 1442520"/>
                <a:gd name="textAreaRight" fmla="*/ 1442880 w 144252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6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337320"/>
                <a:gd name="textAreaBottom" fmla="*/ 337680 h 33732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7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21760"/>
                <a:gd name="textAreaBottom" fmla="*/ 222120 h 22176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8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>
                <a:gd name="textAreaLeft" fmla="*/ 0 w 165600"/>
                <a:gd name="textAreaRight" fmla="*/ 165960 w 165600"/>
                <a:gd name="textAreaTop" fmla="*/ 0 h 622440"/>
                <a:gd name="textAreaBottom" fmla="*/ 622800 h 62244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219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220" name="Freeform 27"/>
            <p:cNvSpPr/>
            <p:nvPr/>
          </p:nvSpPr>
          <p:spPr>
            <a:xfrm>
              <a:off x="20520" y="0"/>
              <a:ext cx="409320" cy="4401720"/>
            </a:xfrm>
            <a:custGeom>
              <a:avLst/>
              <a:gdLst>
                <a:gd name="textAreaLeft" fmla="*/ 0 w 409320"/>
                <a:gd name="textAreaRight" fmla="*/ 409680 w 409320"/>
                <a:gd name="textAreaTop" fmla="*/ 0 h 4401720"/>
                <a:gd name="textAreaBottom" fmla="*/ 4402080 h 440172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1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>
                <a:gd name="textAreaLeft" fmla="*/ 0 w 350640"/>
                <a:gd name="textAreaRight" fmla="*/ 351000 w 350640"/>
                <a:gd name="textAreaTop" fmla="*/ 0 h 1580760"/>
                <a:gd name="textAreaBottom" fmla="*/ 1581120 h 158076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2" name="Freeform 29"/>
            <p:cNvSpPr/>
            <p:nvPr/>
          </p:nvSpPr>
          <p:spPr>
            <a:xfrm>
              <a:off x="831600" y="5862600"/>
              <a:ext cx="357120" cy="990720"/>
            </a:xfrm>
            <a:custGeom>
              <a:avLst/>
              <a:gdLst>
                <a:gd name="textAreaLeft" fmla="*/ 0 w 357120"/>
                <a:gd name="textAreaRight" fmla="*/ 357480 w 357120"/>
                <a:gd name="textAreaTop" fmla="*/ 0 h 990720"/>
                <a:gd name="textAreaBottom" fmla="*/ 991080 h 99072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3" name="Freeform 30"/>
            <p:cNvSpPr/>
            <p:nvPr/>
          </p:nvSpPr>
          <p:spPr>
            <a:xfrm>
              <a:off x="429840" y="4364280"/>
              <a:ext cx="457200" cy="223632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2236320"/>
                <a:gd name="textAreaBottom" fmla="*/ 2236680 h 223632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4" name="Freeform 31"/>
            <p:cNvSpPr/>
            <p:nvPr/>
          </p:nvSpPr>
          <p:spPr>
            <a:xfrm>
              <a:off x="385560" y="1288440"/>
              <a:ext cx="144360" cy="302760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3027600"/>
                <a:gd name="textAreaBottom" fmla="*/ 3027960 h 302760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5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281520"/>
                <a:gd name="textAreaBottom" fmla="*/ 281880 h 28152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6" name="Freeform 33"/>
            <p:cNvSpPr/>
            <p:nvPr/>
          </p:nvSpPr>
          <p:spPr>
            <a:xfrm>
              <a:off x="414000" y="4107240"/>
              <a:ext cx="68040" cy="51156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511560"/>
                <a:gd name="textAreaBottom" fmla="*/ 511920 h 51156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7" name="Freeform 34"/>
            <p:cNvSpPr/>
            <p:nvPr/>
          </p:nvSpPr>
          <p:spPr>
            <a:xfrm>
              <a:off x="804600" y="3145320"/>
              <a:ext cx="1168560" cy="271728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2717280"/>
                <a:gd name="textAreaBottom" fmla="*/ 2717640 h 271728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8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252720"/>
                <a:gd name="textAreaBottom" fmla="*/ 253080 h 25272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9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674280"/>
                <a:gd name="textAreaBottom" fmla="*/ 674640 h 67428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0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227880"/>
                <a:gd name="textAreaBottom" fmla="*/ 228240 h 22788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1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530640"/>
                <a:gd name="textAreaBottom" fmla="*/ 531000 h 53064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32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3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>
              <a:gd name="textAreaLeft" fmla="*/ 0 w 1359000"/>
              <a:gd name="textAreaRight" fmla="*/ 1359360 w 1359000"/>
              <a:gd name="textAreaTop" fmla="*/ 360 h 508320"/>
              <a:gd name="textAreaBottom" fmla="*/ 509040 h 508320"/>
            </a:gdLst>
            <a:ahLst/>
            <a:rect l="textAreaLeft" t="textAreaTop" r="textAreaRight" b="textAreaBottom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581aa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dt" idx="10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ftr" idx="11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sldNum" idx="12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4FCE39-76DE-4E3D-B3E3-9CADBAF16E12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5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276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626040"/>
                <a:gd name="textAreaBottom" fmla="*/ 626400 h 62604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7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>
                <a:gd name="textAreaLeft" fmla="*/ 0 w 449280"/>
                <a:gd name="textAreaRight" fmla="*/ 449640 w 44928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8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>
                <a:gd name="textAreaLeft" fmla="*/ 0 w 423360"/>
                <a:gd name="textAreaRight" fmla="*/ 423720 w 423360"/>
                <a:gd name="textAreaTop" fmla="*/ 0 h 1420200"/>
                <a:gd name="textAreaBottom" fmla="*/ 1420200 h 142020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9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0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>
                <a:gd name="textAreaLeft" fmla="*/ 0 w 570960"/>
                <a:gd name="textAreaRight" fmla="*/ 571320 w 570960"/>
                <a:gd name="textAreaTop" fmla="*/ 0 h 3328560"/>
                <a:gd name="textAreaBottom" fmla="*/ 3328920 h 332856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1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2927880"/>
                <a:gd name="textAreaBottom" fmla="*/ 2928240 h 292788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2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3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>
                <a:gd name="textAreaLeft" fmla="*/ 0 w 131760"/>
                <a:gd name="textAreaRight" fmla="*/ 132120 w 131760"/>
                <a:gd name="textAreaTop" fmla="*/ 0 h 1024920"/>
                <a:gd name="textAreaBottom" fmla="*/ 1025280 h 102492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4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>
                <a:gd name="textAreaLeft" fmla="*/ 0 w 1442520"/>
                <a:gd name="textAreaRight" fmla="*/ 1442880 w 144252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5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337320"/>
                <a:gd name="textAreaBottom" fmla="*/ 337680 h 33732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6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21760"/>
                <a:gd name="textAreaBottom" fmla="*/ 222120 h 22176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7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>
                <a:gd name="textAreaLeft" fmla="*/ 0 w 165600"/>
                <a:gd name="textAreaRight" fmla="*/ 165960 w 165600"/>
                <a:gd name="textAreaTop" fmla="*/ 0 h 622440"/>
                <a:gd name="textAreaBottom" fmla="*/ 622800 h 62244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288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289" name="Freeform 27"/>
            <p:cNvSpPr/>
            <p:nvPr/>
          </p:nvSpPr>
          <p:spPr>
            <a:xfrm>
              <a:off x="20520" y="0"/>
              <a:ext cx="409320" cy="4401720"/>
            </a:xfrm>
            <a:custGeom>
              <a:avLst/>
              <a:gdLst>
                <a:gd name="textAreaLeft" fmla="*/ 0 w 409320"/>
                <a:gd name="textAreaRight" fmla="*/ 409680 w 409320"/>
                <a:gd name="textAreaTop" fmla="*/ 0 h 4401720"/>
                <a:gd name="textAreaBottom" fmla="*/ 4402080 h 440172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0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>
                <a:gd name="textAreaLeft" fmla="*/ 0 w 350640"/>
                <a:gd name="textAreaRight" fmla="*/ 351000 w 350640"/>
                <a:gd name="textAreaTop" fmla="*/ 0 h 1580760"/>
                <a:gd name="textAreaBottom" fmla="*/ 1581120 h 158076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1" name="Freeform 29"/>
            <p:cNvSpPr/>
            <p:nvPr/>
          </p:nvSpPr>
          <p:spPr>
            <a:xfrm>
              <a:off x="831600" y="5862600"/>
              <a:ext cx="357120" cy="990720"/>
            </a:xfrm>
            <a:custGeom>
              <a:avLst/>
              <a:gdLst>
                <a:gd name="textAreaLeft" fmla="*/ 0 w 357120"/>
                <a:gd name="textAreaRight" fmla="*/ 357480 w 357120"/>
                <a:gd name="textAreaTop" fmla="*/ 0 h 990720"/>
                <a:gd name="textAreaBottom" fmla="*/ 991080 h 99072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2" name="Freeform 30"/>
            <p:cNvSpPr/>
            <p:nvPr/>
          </p:nvSpPr>
          <p:spPr>
            <a:xfrm>
              <a:off x="429840" y="4364280"/>
              <a:ext cx="457200" cy="223632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2236320"/>
                <a:gd name="textAreaBottom" fmla="*/ 2236680 h 223632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3" name="Freeform 31"/>
            <p:cNvSpPr/>
            <p:nvPr/>
          </p:nvSpPr>
          <p:spPr>
            <a:xfrm>
              <a:off x="385560" y="1288440"/>
              <a:ext cx="144360" cy="302760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3027600"/>
                <a:gd name="textAreaBottom" fmla="*/ 3027960 h 302760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4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281520"/>
                <a:gd name="textAreaBottom" fmla="*/ 281880 h 28152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5" name="Freeform 33"/>
            <p:cNvSpPr/>
            <p:nvPr/>
          </p:nvSpPr>
          <p:spPr>
            <a:xfrm>
              <a:off x="414000" y="4107240"/>
              <a:ext cx="68040" cy="51156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511560"/>
                <a:gd name="textAreaBottom" fmla="*/ 511920 h 51156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6" name="Freeform 34"/>
            <p:cNvSpPr/>
            <p:nvPr/>
          </p:nvSpPr>
          <p:spPr>
            <a:xfrm>
              <a:off x="804600" y="3145320"/>
              <a:ext cx="1168560" cy="271728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2717280"/>
                <a:gd name="textAreaBottom" fmla="*/ 2717640 h 271728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7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252720"/>
                <a:gd name="textAreaBottom" fmla="*/ 253080 h 25272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8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674280"/>
                <a:gd name="textAreaBottom" fmla="*/ 674640 h 67428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9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227880"/>
                <a:gd name="textAreaBottom" fmla="*/ 228240 h 22788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00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530640"/>
                <a:gd name="textAreaBottom" fmla="*/ 531000 h 53064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01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2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>
              <a:gd name="textAreaLeft" fmla="*/ 0 w 1359000"/>
              <a:gd name="textAreaRight" fmla="*/ 1359360 w 1359000"/>
              <a:gd name="textAreaTop" fmla="*/ -360 h 507960"/>
              <a:gd name="textAreaBottom" fmla="*/ 507960 h 507960"/>
            </a:gdLst>
            <a:ahLst/>
            <a:rect l="textAreaLeft" t="textAreaTop" r="textAreaRight" b="textAreaBottom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581aa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13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14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15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766A78E-71F9-44C0-8EF9-B64FB0BEF787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4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345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626040"/>
                <a:gd name="textAreaBottom" fmla="*/ 626400 h 62604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6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>
                <a:gd name="textAreaLeft" fmla="*/ 0 w 449280"/>
                <a:gd name="textAreaRight" fmla="*/ 449640 w 44928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7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>
                <a:gd name="textAreaLeft" fmla="*/ 0 w 423360"/>
                <a:gd name="textAreaRight" fmla="*/ 423720 w 423360"/>
                <a:gd name="textAreaTop" fmla="*/ 0 h 1420200"/>
                <a:gd name="textAreaBottom" fmla="*/ 1420200 h 142020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8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9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>
                <a:gd name="textAreaLeft" fmla="*/ 0 w 570960"/>
                <a:gd name="textAreaRight" fmla="*/ 571320 w 570960"/>
                <a:gd name="textAreaTop" fmla="*/ 0 h 3328560"/>
                <a:gd name="textAreaBottom" fmla="*/ 3328920 h 332856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0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2927880"/>
                <a:gd name="textAreaBottom" fmla="*/ 2928240 h 292788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1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2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>
                <a:gd name="textAreaLeft" fmla="*/ 0 w 131760"/>
                <a:gd name="textAreaRight" fmla="*/ 132120 w 131760"/>
                <a:gd name="textAreaTop" fmla="*/ 0 h 1024920"/>
                <a:gd name="textAreaBottom" fmla="*/ 1025280 h 102492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3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>
                <a:gd name="textAreaLeft" fmla="*/ 0 w 1442520"/>
                <a:gd name="textAreaRight" fmla="*/ 1442880 w 144252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4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337320"/>
                <a:gd name="textAreaBottom" fmla="*/ 337680 h 33732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5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21760"/>
                <a:gd name="textAreaBottom" fmla="*/ 222120 h 22176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6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>
                <a:gd name="textAreaLeft" fmla="*/ 0 w 165600"/>
                <a:gd name="textAreaRight" fmla="*/ 165960 w 165600"/>
                <a:gd name="textAreaTop" fmla="*/ 0 h 622440"/>
                <a:gd name="textAreaBottom" fmla="*/ 622800 h 62244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357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358" name="Freeform 27"/>
            <p:cNvSpPr/>
            <p:nvPr/>
          </p:nvSpPr>
          <p:spPr>
            <a:xfrm>
              <a:off x="20520" y="0"/>
              <a:ext cx="409320" cy="4401720"/>
            </a:xfrm>
            <a:custGeom>
              <a:avLst/>
              <a:gdLst>
                <a:gd name="textAreaLeft" fmla="*/ 0 w 409320"/>
                <a:gd name="textAreaRight" fmla="*/ 409680 w 409320"/>
                <a:gd name="textAreaTop" fmla="*/ 0 h 4401720"/>
                <a:gd name="textAreaBottom" fmla="*/ 4402080 h 440172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9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>
                <a:gd name="textAreaLeft" fmla="*/ 0 w 350640"/>
                <a:gd name="textAreaRight" fmla="*/ 351000 w 350640"/>
                <a:gd name="textAreaTop" fmla="*/ 0 h 1580760"/>
                <a:gd name="textAreaBottom" fmla="*/ 1581120 h 158076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0" name="Freeform 29"/>
            <p:cNvSpPr/>
            <p:nvPr/>
          </p:nvSpPr>
          <p:spPr>
            <a:xfrm>
              <a:off x="831600" y="5862600"/>
              <a:ext cx="357120" cy="990720"/>
            </a:xfrm>
            <a:custGeom>
              <a:avLst/>
              <a:gdLst>
                <a:gd name="textAreaLeft" fmla="*/ 0 w 357120"/>
                <a:gd name="textAreaRight" fmla="*/ 357480 w 357120"/>
                <a:gd name="textAreaTop" fmla="*/ 0 h 990720"/>
                <a:gd name="textAreaBottom" fmla="*/ 991080 h 99072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1" name="Freeform 30"/>
            <p:cNvSpPr/>
            <p:nvPr/>
          </p:nvSpPr>
          <p:spPr>
            <a:xfrm>
              <a:off x="429840" y="4364280"/>
              <a:ext cx="457200" cy="223632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2236320"/>
                <a:gd name="textAreaBottom" fmla="*/ 2236680 h 223632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2" name="Freeform 31"/>
            <p:cNvSpPr/>
            <p:nvPr/>
          </p:nvSpPr>
          <p:spPr>
            <a:xfrm>
              <a:off x="385560" y="1288440"/>
              <a:ext cx="144360" cy="302760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3027600"/>
                <a:gd name="textAreaBottom" fmla="*/ 3027960 h 302760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3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281520"/>
                <a:gd name="textAreaBottom" fmla="*/ 281880 h 28152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4" name="Freeform 33"/>
            <p:cNvSpPr/>
            <p:nvPr/>
          </p:nvSpPr>
          <p:spPr>
            <a:xfrm>
              <a:off x="414000" y="4107240"/>
              <a:ext cx="68040" cy="51156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511560"/>
                <a:gd name="textAreaBottom" fmla="*/ 511920 h 51156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5" name="Freeform 34"/>
            <p:cNvSpPr/>
            <p:nvPr/>
          </p:nvSpPr>
          <p:spPr>
            <a:xfrm>
              <a:off x="804600" y="3145320"/>
              <a:ext cx="1168560" cy="271728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2717280"/>
                <a:gd name="textAreaBottom" fmla="*/ 2717640 h 271728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6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252720"/>
                <a:gd name="textAreaBottom" fmla="*/ 253080 h 25272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7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674280"/>
                <a:gd name="textAreaBottom" fmla="*/ 674640 h 67428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8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227880"/>
                <a:gd name="textAreaBottom" fmla="*/ 228240 h 22788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9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530640"/>
                <a:gd name="textAreaBottom" fmla="*/ 531000 h 53064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70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1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>
              <a:gd name="textAreaLeft" fmla="*/ 0 w 1359000"/>
              <a:gd name="textAreaRight" fmla="*/ 1359360 w 1359000"/>
              <a:gd name="textAreaTop" fmla="*/ -360 h 507960"/>
              <a:gd name="textAreaBottom" fmla="*/ 507960 h 507960"/>
            </a:gdLst>
            <a:ahLst/>
            <a:rect l="textAreaLeft" t="textAreaTop" r="textAreaRight" b="textAreaBottom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581aa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16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17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18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33B7752-E584-4066-BBCD-26A4DD254E83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3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414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626040"/>
                <a:gd name="textAreaBottom" fmla="*/ 626400 h 62604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5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>
                <a:gd name="textAreaLeft" fmla="*/ 0 w 449280"/>
                <a:gd name="textAreaRight" fmla="*/ 449640 w 44928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6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>
                <a:gd name="textAreaLeft" fmla="*/ 0 w 423360"/>
                <a:gd name="textAreaRight" fmla="*/ 423720 w 423360"/>
                <a:gd name="textAreaTop" fmla="*/ 0 h 1420200"/>
                <a:gd name="textAreaBottom" fmla="*/ 1420200 h 142020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7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8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>
                <a:gd name="textAreaLeft" fmla="*/ 0 w 570960"/>
                <a:gd name="textAreaRight" fmla="*/ 571320 w 570960"/>
                <a:gd name="textAreaTop" fmla="*/ 0 h 3328560"/>
                <a:gd name="textAreaBottom" fmla="*/ 3328920 h 332856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9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2927880"/>
                <a:gd name="textAreaBottom" fmla="*/ 2928240 h 292788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0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1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>
                <a:gd name="textAreaLeft" fmla="*/ 0 w 131760"/>
                <a:gd name="textAreaRight" fmla="*/ 132120 w 131760"/>
                <a:gd name="textAreaTop" fmla="*/ 0 h 1024920"/>
                <a:gd name="textAreaBottom" fmla="*/ 1025280 h 102492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2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>
                <a:gd name="textAreaLeft" fmla="*/ 0 w 1442520"/>
                <a:gd name="textAreaRight" fmla="*/ 1442880 w 144252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3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337320"/>
                <a:gd name="textAreaBottom" fmla="*/ 337680 h 33732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4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21760"/>
                <a:gd name="textAreaBottom" fmla="*/ 222120 h 22176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5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>
                <a:gd name="textAreaLeft" fmla="*/ 0 w 165600"/>
                <a:gd name="textAreaRight" fmla="*/ 165960 w 165600"/>
                <a:gd name="textAreaTop" fmla="*/ 0 h 622440"/>
                <a:gd name="textAreaBottom" fmla="*/ 622800 h 62244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426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427" name="Freeform 27"/>
            <p:cNvSpPr/>
            <p:nvPr/>
          </p:nvSpPr>
          <p:spPr>
            <a:xfrm>
              <a:off x="20520" y="0"/>
              <a:ext cx="409320" cy="4401720"/>
            </a:xfrm>
            <a:custGeom>
              <a:avLst/>
              <a:gdLst>
                <a:gd name="textAreaLeft" fmla="*/ 0 w 409320"/>
                <a:gd name="textAreaRight" fmla="*/ 409680 w 409320"/>
                <a:gd name="textAreaTop" fmla="*/ 0 h 4401720"/>
                <a:gd name="textAreaBottom" fmla="*/ 4402080 h 440172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8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>
                <a:gd name="textAreaLeft" fmla="*/ 0 w 350640"/>
                <a:gd name="textAreaRight" fmla="*/ 351000 w 350640"/>
                <a:gd name="textAreaTop" fmla="*/ 0 h 1580760"/>
                <a:gd name="textAreaBottom" fmla="*/ 1581120 h 158076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9" name="Freeform 29"/>
            <p:cNvSpPr/>
            <p:nvPr/>
          </p:nvSpPr>
          <p:spPr>
            <a:xfrm>
              <a:off x="831600" y="5862600"/>
              <a:ext cx="357120" cy="990720"/>
            </a:xfrm>
            <a:custGeom>
              <a:avLst/>
              <a:gdLst>
                <a:gd name="textAreaLeft" fmla="*/ 0 w 357120"/>
                <a:gd name="textAreaRight" fmla="*/ 357480 w 357120"/>
                <a:gd name="textAreaTop" fmla="*/ 0 h 990720"/>
                <a:gd name="textAreaBottom" fmla="*/ 991080 h 99072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0" name="Freeform 30"/>
            <p:cNvSpPr/>
            <p:nvPr/>
          </p:nvSpPr>
          <p:spPr>
            <a:xfrm>
              <a:off x="429840" y="4364280"/>
              <a:ext cx="457200" cy="223632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2236320"/>
                <a:gd name="textAreaBottom" fmla="*/ 2236680 h 223632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1" name="Freeform 31"/>
            <p:cNvSpPr/>
            <p:nvPr/>
          </p:nvSpPr>
          <p:spPr>
            <a:xfrm>
              <a:off x="385560" y="1288440"/>
              <a:ext cx="144360" cy="302760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3027600"/>
                <a:gd name="textAreaBottom" fmla="*/ 3027960 h 302760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2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281520"/>
                <a:gd name="textAreaBottom" fmla="*/ 281880 h 28152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3" name="Freeform 33"/>
            <p:cNvSpPr/>
            <p:nvPr/>
          </p:nvSpPr>
          <p:spPr>
            <a:xfrm>
              <a:off x="414000" y="4107240"/>
              <a:ext cx="68040" cy="51156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511560"/>
                <a:gd name="textAreaBottom" fmla="*/ 511920 h 51156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4" name="Freeform 34"/>
            <p:cNvSpPr/>
            <p:nvPr/>
          </p:nvSpPr>
          <p:spPr>
            <a:xfrm>
              <a:off x="804600" y="3145320"/>
              <a:ext cx="1168560" cy="271728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2717280"/>
                <a:gd name="textAreaBottom" fmla="*/ 2717640 h 271728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5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252720"/>
                <a:gd name="textAreaBottom" fmla="*/ 253080 h 25272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6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674280"/>
                <a:gd name="textAreaBottom" fmla="*/ 674640 h 67428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7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227880"/>
                <a:gd name="textAreaBottom" fmla="*/ 228240 h 22788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8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530640"/>
                <a:gd name="textAreaBottom" fmla="*/ 531000 h 53064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439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0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>
              <a:gd name="textAreaLeft" fmla="*/ 0 w 1359000"/>
              <a:gd name="textAreaRight" fmla="*/ 1359360 w 1359000"/>
              <a:gd name="textAreaTop" fmla="*/ -360 h 507960"/>
              <a:gd name="textAreaBottom" fmla="*/ 507960 h 507960"/>
            </a:gdLst>
            <a:ahLst/>
            <a:rect l="textAreaLeft" t="textAreaTop" r="textAreaRight" b="textAreaBottom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581aa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dt" idx="19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ftr" idx="20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sldNum" idx="21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AB8DCD-4D69-477C-B4F3-9FEEEFB96C71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2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483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626040"/>
                <a:gd name="textAreaBottom" fmla="*/ 626400 h 62604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4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>
                <a:gd name="textAreaLeft" fmla="*/ 0 w 449280"/>
                <a:gd name="textAreaRight" fmla="*/ 449640 w 44928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5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>
                <a:gd name="textAreaLeft" fmla="*/ 0 w 423360"/>
                <a:gd name="textAreaRight" fmla="*/ 423720 w 423360"/>
                <a:gd name="textAreaTop" fmla="*/ 0 h 1420200"/>
                <a:gd name="textAreaBottom" fmla="*/ 1420200 h 142020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6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7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>
                <a:gd name="textAreaLeft" fmla="*/ 0 w 570960"/>
                <a:gd name="textAreaRight" fmla="*/ 571320 w 570960"/>
                <a:gd name="textAreaTop" fmla="*/ 0 h 3328560"/>
                <a:gd name="textAreaBottom" fmla="*/ 3328920 h 332856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8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2927880"/>
                <a:gd name="textAreaBottom" fmla="*/ 2928240 h 292788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9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0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>
                <a:gd name="textAreaLeft" fmla="*/ 0 w 131760"/>
                <a:gd name="textAreaRight" fmla="*/ 132120 w 131760"/>
                <a:gd name="textAreaTop" fmla="*/ 0 h 1024920"/>
                <a:gd name="textAreaBottom" fmla="*/ 1025280 h 102492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1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>
                <a:gd name="textAreaLeft" fmla="*/ 0 w 1442520"/>
                <a:gd name="textAreaRight" fmla="*/ 1442880 w 144252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2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337320"/>
                <a:gd name="textAreaBottom" fmla="*/ 337680 h 33732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3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21760"/>
                <a:gd name="textAreaBottom" fmla="*/ 222120 h 22176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4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>
                <a:gd name="textAreaLeft" fmla="*/ 0 w 165600"/>
                <a:gd name="textAreaRight" fmla="*/ 165960 w 165600"/>
                <a:gd name="textAreaTop" fmla="*/ 0 h 622440"/>
                <a:gd name="textAreaBottom" fmla="*/ 622800 h 62244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495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496" name="Freeform 27"/>
            <p:cNvSpPr/>
            <p:nvPr/>
          </p:nvSpPr>
          <p:spPr>
            <a:xfrm>
              <a:off x="20520" y="0"/>
              <a:ext cx="409320" cy="4401720"/>
            </a:xfrm>
            <a:custGeom>
              <a:avLst/>
              <a:gdLst>
                <a:gd name="textAreaLeft" fmla="*/ 0 w 409320"/>
                <a:gd name="textAreaRight" fmla="*/ 409680 w 409320"/>
                <a:gd name="textAreaTop" fmla="*/ 0 h 4401720"/>
                <a:gd name="textAreaBottom" fmla="*/ 4402080 h 440172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7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>
                <a:gd name="textAreaLeft" fmla="*/ 0 w 350640"/>
                <a:gd name="textAreaRight" fmla="*/ 351000 w 350640"/>
                <a:gd name="textAreaTop" fmla="*/ 0 h 1580760"/>
                <a:gd name="textAreaBottom" fmla="*/ 1581120 h 158076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8" name="Freeform 29"/>
            <p:cNvSpPr/>
            <p:nvPr/>
          </p:nvSpPr>
          <p:spPr>
            <a:xfrm>
              <a:off x="831600" y="5862600"/>
              <a:ext cx="357120" cy="990720"/>
            </a:xfrm>
            <a:custGeom>
              <a:avLst/>
              <a:gdLst>
                <a:gd name="textAreaLeft" fmla="*/ 0 w 357120"/>
                <a:gd name="textAreaRight" fmla="*/ 357480 w 357120"/>
                <a:gd name="textAreaTop" fmla="*/ 0 h 990720"/>
                <a:gd name="textAreaBottom" fmla="*/ 991080 h 99072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9" name="Freeform 30"/>
            <p:cNvSpPr/>
            <p:nvPr/>
          </p:nvSpPr>
          <p:spPr>
            <a:xfrm>
              <a:off x="429840" y="4364280"/>
              <a:ext cx="457200" cy="223632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2236320"/>
                <a:gd name="textAreaBottom" fmla="*/ 2236680 h 223632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0" name="Freeform 31"/>
            <p:cNvSpPr/>
            <p:nvPr/>
          </p:nvSpPr>
          <p:spPr>
            <a:xfrm>
              <a:off x="385560" y="1288440"/>
              <a:ext cx="144360" cy="302760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3027600"/>
                <a:gd name="textAreaBottom" fmla="*/ 3027960 h 302760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1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281520"/>
                <a:gd name="textAreaBottom" fmla="*/ 281880 h 28152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2" name="Freeform 33"/>
            <p:cNvSpPr/>
            <p:nvPr/>
          </p:nvSpPr>
          <p:spPr>
            <a:xfrm>
              <a:off x="414000" y="4107240"/>
              <a:ext cx="68040" cy="51156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511560"/>
                <a:gd name="textAreaBottom" fmla="*/ 511920 h 51156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3" name="Freeform 34"/>
            <p:cNvSpPr/>
            <p:nvPr/>
          </p:nvSpPr>
          <p:spPr>
            <a:xfrm>
              <a:off x="804600" y="3145320"/>
              <a:ext cx="1168560" cy="271728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2717280"/>
                <a:gd name="textAreaBottom" fmla="*/ 2717640 h 271728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4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252720"/>
                <a:gd name="textAreaBottom" fmla="*/ 253080 h 25272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5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674280"/>
                <a:gd name="textAreaBottom" fmla="*/ 674640 h 67428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6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227880"/>
                <a:gd name="textAreaBottom" fmla="*/ 228240 h 22788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7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530640"/>
                <a:gd name="textAreaBottom" fmla="*/ 531000 h 53064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508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9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>
              <a:gd name="textAreaLeft" fmla="*/ 0 w 1359000"/>
              <a:gd name="textAreaRight" fmla="*/ 1359360 w 1359000"/>
              <a:gd name="textAreaTop" fmla="*/ -360 h 507960"/>
              <a:gd name="textAreaBottom" fmla="*/ 507960 h 507960"/>
            </a:gdLst>
            <a:ahLst/>
            <a:rect l="textAreaLeft" t="textAreaTop" r="textAreaRight" b="textAreaBottom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581aa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 type="dt" idx="22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 type="ftr" idx="23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 type="sldNum" idx="24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C2E49B-1E08-4B63-99C3-F9CFD56C8070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1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552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626040"/>
                <a:gd name="textAreaBottom" fmla="*/ 626400 h 62604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3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>
                <a:gd name="textAreaLeft" fmla="*/ 0 w 449280"/>
                <a:gd name="textAreaRight" fmla="*/ 449640 w 44928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4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>
                <a:gd name="textAreaLeft" fmla="*/ 0 w 423360"/>
                <a:gd name="textAreaRight" fmla="*/ 423720 w 423360"/>
                <a:gd name="textAreaTop" fmla="*/ 0 h 1420200"/>
                <a:gd name="textAreaBottom" fmla="*/ 1420200 h 142020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5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6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>
                <a:gd name="textAreaLeft" fmla="*/ 0 w 570960"/>
                <a:gd name="textAreaRight" fmla="*/ 571320 w 570960"/>
                <a:gd name="textAreaTop" fmla="*/ 0 h 3328560"/>
                <a:gd name="textAreaBottom" fmla="*/ 3328920 h 332856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7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2927880"/>
                <a:gd name="textAreaBottom" fmla="*/ 2928240 h 292788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8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9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>
                <a:gd name="textAreaLeft" fmla="*/ 0 w 131760"/>
                <a:gd name="textAreaRight" fmla="*/ 132120 w 131760"/>
                <a:gd name="textAreaTop" fmla="*/ 0 h 1024920"/>
                <a:gd name="textAreaBottom" fmla="*/ 1025280 h 102492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0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>
                <a:gd name="textAreaLeft" fmla="*/ 0 w 1442520"/>
                <a:gd name="textAreaRight" fmla="*/ 1442880 w 144252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1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337320"/>
                <a:gd name="textAreaBottom" fmla="*/ 337680 h 33732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2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21760"/>
                <a:gd name="textAreaBottom" fmla="*/ 222120 h 22176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3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>
                <a:gd name="textAreaLeft" fmla="*/ 0 w 165600"/>
                <a:gd name="textAreaRight" fmla="*/ 165960 w 165600"/>
                <a:gd name="textAreaTop" fmla="*/ 0 h 622440"/>
                <a:gd name="textAreaBottom" fmla="*/ 622800 h 62244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564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565" name="Freeform 27"/>
            <p:cNvSpPr/>
            <p:nvPr/>
          </p:nvSpPr>
          <p:spPr>
            <a:xfrm>
              <a:off x="20520" y="0"/>
              <a:ext cx="409320" cy="4401720"/>
            </a:xfrm>
            <a:custGeom>
              <a:avLst/>
              <a:gdLst>
                <a:gd name="textAreaLeft" fmla="*/ 0 w 409320"/>
                <a:gd name="textAreaRight" fmla="*/ 409680 w 409320"/>
                <a:gd name="textAreaTop" fmla="*/ 0 h 4401720"/>
                <a:gd name="textAreaBottom" fmla="*/ 4402080 h 440172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6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>
                <a:gd name="textAreaLeft" fmla="*/ 0 w 350640"/>
                <a:gd name="textAreaRight" fmla="*/ 351000 w 350640"/>
                <a:gd name="textAreaTop" fmla="*/ 0 h 1580760"/>
                <a:gd name="textAreaBottom" fmla="*/ 1581120 h 158076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7" name="Freeform 29"/>
            <p:cNvSpPr/>
            <p:nvPr/>
          </p:nvSpPr>
          <p:spPr>
            <a:xfrm>
              <a:off x="831600" y="5862600"/>
              <a:ext cx="357120" cy="990720"/>
            </a:xfrm>
            <a:custGeom>
              <a:avLst/>
              <a:gdLst>
                <a:gd name="textAreaLeft" fmla="*/ 0 w 357120"/>
                <a:gd name="textAreaRight" fmla="*/ 357480 w 357120"/>
                <a:gd name="textAreaTop" fmla="*/ 0 h 990720"/>
                <a:gd name="textAreaBottom" fmla="*/ 991080 h 99072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8" name="Freeform 30"/>
            <p:cNvSpPr/>
            <p:nvPr/>
          </p:nvSpPr>
          <p:spPr>
            <a:xfrm>
              <a:off x="429840" y="4364280"/>
              <a:ext cx="457200" cy="223632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2236320"/>
                <a:gd name="textAreaBottom" fmla="*/ 2236680 h 223632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9" name="Freeform 31"/>
            <p:cNvSpPr/>
            <p:nvPr/>
          </p:nvSpPr>
          <p:spPr>
            <a:xfrm>
              <a:off x="385560" y="1288440"/>
              <a:ext cx="144360" cy="302760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3027600"/>
                <a:gd name="textAreaBottom" fmla="*/ 3027960 h 302760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0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281520"/>
                <a:gd name="textAreaBottom" fmla="*/ 281880 h 28152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1" name="Freeform 33"/>
            <p:cNvSpPr/>
            <p:nvPr/>
          </p:nvSpPr>
          <p:spPr>
            <a:xfrm>
              <a:off x="414000" y="4107240"/>
              <a:ext cx="68040" cy="51156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511560"/>
                <a:gd name="textAreaBottom" fmla="*/ 511920 h 51156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2" name="Freeform 34"/>
            <p:cNvSpPr/>
            <p:nvPr/>
          </p:nvSpPr>
          <p:spPr>
            <a:xfrm>
              <a:off x="804600" y="3145320"/>
              <a:ext cx="1168560" cy="271728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2717280"/>
                <a:gd name="textAreaBottom" fmla="*/ 2717640 h 271728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3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252720"/>
                <a:gd name="textAreaBottom" fmla="*/ 253080 h 25272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4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674280"/>
                <a:gd name="textAreaBottom" fmla="*/ 674640 h 67428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5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227880"/>
                <a:gd name="textAreaBottom" fmla="*/ 228240 h 22788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6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530640"/>
                <a:gd name="textAreaBottom" fmla="*/ 531000 h 53064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577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8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>
              <a:gd name="textAreaLeft" fmla="*/ 0 w 1359000"/>
              <a:gd name="textAreaRight" fmla="*/ 1359360 w 1359000"/>
              <a:gd name="textAreaTop" fmla="*/ -360 h 507960"/>
              <a:gd name="textAreaBottom" fmla="*/ 507960 h 507960"/>
            </a:gdLst>
            <a:ahLst/>
            <a:rect l="textAreaLeft" t="textAreaTop" r="textAreaRight" b="textAreaBottom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581aa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 type="dt" idx="25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 type="ftr" idx="26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 type="sldNum" idx="27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1079B42-B3C4-47E9-9D31-1ACD6E26A89C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"/>
          <p:cNvSpPr txBox="1"/>
          <p:nvPr/>
        </p:nvSpPr>
        <p:spPr>
          <a:xfrm>
            <a:off x="684000" y="1557000"/>
            <a:ext cx="84596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60000"/>
              </a:lnSpc>
              <a:spcBef>
                <a:spcPts val="638"/>
              </a:spcBef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" spc="-1" strike="noStrike">
              <a:solidFill>
                <a:srgbClr val="404040"/>
              </a:solidFill>
              <a:latin typeface="Century Gothic"/>
            </a:endParaRPr>
          </a:p>
          <a:p>
            <a:pPr algn="ctr">
              <a:lnSpc>
                <a:spcPct val="60000"/>
              </a:lnSpc>
              <a:spcBef>
                <a:spcPts val="638"/>
              </a:spcBef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" spc="-1" strike="noStrike">
              <a:solidFill>
                <a:srgbClr val="404040"/>
              </a:solidFill>
              <a:latin typeface="Century Gothic"/>
            </a:endParaRPr>
          </a:p>
          <a:p>
            <a:pPr algn="ctr">
              <a:lnSpc>
                <a:spcPct val="60000"/>
              </a:lnSpc>
              <a:spcBef>
                <a:spcPts val="638"/>
              </a:spcBef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300" spc="-1" strike="noStrike">
              <a:solidFill>
                <a:srgbClr val="40404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1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ЛИЯНИЕ РАЗЛИЧНЫХ ДВИГАТЕЛЬНЫХ РЕЖИМОВ НА ФИЗИЧЕСКОЕ РАЗВИТИЕ СТАРШИХ ШКОЛЬНИКОВ </a:t>
            </a:r>
            <a:endParaRPr b="0" lang="en-US" sz="3100" spc="-1" strike="noStrike">
              <a:solidFill>
                <a:srgbClr val="404040"/>
              </a:solidFill>
              <a:latin typeface="Century Gothic"/>
            </a:endParaRPr>
          </a:p>
          <a:p>
            <a:pPr algn="ctr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" spc="-1" strike="noStrike">
              <a:solidFill>
                <a:srgbClr val="404040"/>
              </a:solidFill>
              <a:latin typeface="Century Gothic"/>
            </a:endParaRPr>
          </a:p>
          <a:p>
            <a:pPr algn="ctr">
              <a:lnSpc>
                <a:spcPct val="60000"/>
              </a:lnSpc>
              <a:spcBef>
                <a:spcPts val="638"/>
              </a:spcBef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5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endParaRPr b="0" lang="en-US" sz="500" spc="-1" strike="noStrike">
              <a:solidFill>
                <a:srgbClr val="404040"/>
              </a:solidFill>
              <a:latin typeface="Century Gothic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Черноярова Ирина Владимировна </a:t>
            </a:r>
            <a:endParaRPr b="0" lang="en-US" sz="2600" spc="-1" strike="noStrike">
              <a:solidFill>
                <a:srgbClr val="404040"/>
              </a:solidFill>
              <a:latin typeface="Century Gothic"/>
            </a:endParaRPr>
          </a:p>
          <a:p>
            <a:pPr algn="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  <a:p>
            <a:pPr algn="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404040"/>
              </a:solidFill>
              <a:latin typeface="Century Gothic"/>
            </a:endParaRPr>
          </a:p>
          <a:p>
            <a:pPr algn="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00" spc="-1" strike="noStrike">
              <a:solidFill>
                <a:srgbClr val="404040"/>
              </a:solidFill>
              <a:latin typeface="Century Gothic"/>
            </a:endParaRPr>
          </a:p>
          <a:p>
            <a:pPr algn="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00" spc="-1" strike="noStrike">
              <a:solidFill>
                <a:srgbClr val="404040"/>
              </a:solidFill>
              <a:latin typeface="Century Gothic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5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1" lang="ru-RU" sz="23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Ростов-на-Дону - 2022</a:t>
            </a:r>
            <a:endParaRPr b="0" lang="en-US" sz="23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1258920" y="259920"/>
            <a:ext cx="7275600" cy="93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1581aa"/>
                </a:solidFill>
                <a:latin typeface="Century Gothic"/>
              </a:rPr>
              <a:t>Результаты исследования и их обсуждение</a:t>
            </a:r>
            <a:endParaRPr b="0" lang="en-US" sz="2800" spc="-1" strike="noStrike">
              <a:solidFill>
                <a:srgbClr val="1581aa"/>
              </a:solidFill>
              <a:latin typeface="Century Gothic"/>
            </a:endParaRPr>
          </a:p>
        </p:txBody>
      </p:sp>
      <p:graphicFrame>
        <p:nvGraphicFramePr>
          <p:cNvPr id="1198" name="Объект 3"/>
          <p:cNvGraphicFramePr/>
          <p:nvPr/>
        </p:nvGraphicFramePr>
        <p:xfrm>
          <a:off x="1550880" y="1362240"/>
          <a:ext cx="6693120" cy="3879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99" name="Объект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50880" y="1362240"/>
                    <a:ext cx="6693120" cy="387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00" name="Прямоугольник 4"/>
          <p:cNvSpPr/>
          <p:nvPr/>
        </p:nvSpPr>
        <p:spPr>
          <a:xfrm>
            <a:off x="2268360" y="5211720"/>
            <a:ext cx="5759640" cy="10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23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в начале                в конце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Рисунок 4 – Сравнительные показатели функциональных проб с задержкой дыхания у девушек контрольной и экспериментальной группы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1331640" y="260280"/>
            <a:ext cx="720252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1581aa"/>
                </a:solidFill>
                <a:latin typeface="Century Gothic"/>
              </a:rPr>
              <a:t>Результаты исследования и их обсуждение</a:t>
            </a:r>
            <a:endParaRPr b="0" lang="en-US" sz="2800" spc="-1" strike="noStrike">
              <a:solidFill>
                <a:srgbClr val="1581aa"/>
              </a:solidFill>
              <a:latin typeface="Century Gothic"/>
            </a:endParaRPr>
          </a:p>
        </p:txBody>
      </p:sp>
      <p:graphicFrame>
        <p:nvGraphicFramePr>
          <p:cNvPr id="1202" name="Объект 3"/>
          <p:cNvGraphicFramePr/>
          <p:nvPr/>
        </p:nvGraphicFramePr>
        <p:xfrm>
          <a:off x="1295280" y="1362240"/>
          <a:ext cx="6693120" cy="3879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03" name="Объект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1362240"/>
                    <a:ext cx="6693120" cy="387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04" name="Прямоугольник 4"/>
          <p:cNvSpPr/>
          <p:nvPr/>
        </p:nvSpPr>
        <p:spPr>
          <a:xfrm>
            <a:off x="2266920" y="5384880"/>
            <a:ext cx="56707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3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Рисунок 5 – Сравнительные показатели комплексной оценки здоровья обучающихся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500040" y="142920"/>
            <a:ext cx="8229600" cy="62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1581aa"/>
                </a:solidFill>
                <a:latin typeface="Times New Roman"/>
                <a:ea typeface="Times New Roman"/>
              </a:rPr>
              <a:t>Выводы</a:t>
            </a:r>
            <a:r>
              <a:rPr b="0" lang="ru-RU" sz="3600" spc="-1" strike="noStrike">
                <a:solidFill>
                  <a:srgbClr val="1581aa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206" name=""/>
          <p:cNvSpPr txBox="1"/>
          <p:nvPr/>
        </p:nvSpPr>
        <p:spPr>
          <a:xfrm>
            <a:off x="684360" y="764640"/>
            <a:ext cx="8208720" cy="609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457200" algn="just">
              <a:lnSpc>
                <a:spcPct val="100000"/>
              </a:lnSpc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Courier New"/>
              </a:rPr>
              <a:t>1. </a:t>
            </a:r>
            <a:r>
              <a:rPr b="0" lang="ru-RU" sz="1600" spc="-1" strike="noStrike">
                <a:solidFill>
                  <a:srgbClr val="404040"/>
                </a:solidFill>
                <a:latin typeface="Times New Roman"/>
                <a:ea typeface="Courier New"/>
              </a:rPr>
              <a:t>Двигательная активность, являясь незаменимым фактором жизнедеятельности человека, оказывает наиболее благоприятное воздействие на растущий организм только в пределах оптимальных величин. Как недостаток, так и избыток движений приводит к патологическим сдвигам в организме, в результате чего возникает гипокинезия или гиперкинезия.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457200" algn="just">
              <a:lnSpc>
                <a:spcPct val="100000"/>
              </a:lnSpc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Times New Roman"/>
                <a:ea typeface="Courier New"/>
              </a:rPr>
              <a:t>Оптимальная величина двигательной активности меняется в зависимости от возраста и пола детей и подростков, поскольку биологическая потребность в движениях у них различная. Потребность в движениях подвержена колебаниям на протяжении года. Число естественных локомоций у подростков в осенний и особенно зимний период снижается, а весной и особенно летом - значительно возрастает.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457200" algn="just">
              <a:lnSpc>
                <a:spcPct val="100000"/>
              </a:lnSpc>
              <a:buClr>
                <a:srgbClr val="000000"/>
              </a:buClr>
              <a:buSzPct val="81000"/>
              <a:buFont typeface="Times New Roman"/>
              <a:buAutoNum type="arabicPeriod" startAt="2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Times New Roman"/>
                <a:ea typeface="Courier New"/>
              </a:rPr>
              <a:t>Суточная двигательная активность тесно связана с биологическими ритмами, в соответствии с которыми периоды наибольшей двигательной активности наблюдаются между 9 и 12 часами и между 15 и 18 часами. Иными словами, функциональное состояние организма представляет собой двугорбую кривую с подъемом в указанные часы. Для большей эффективности тренировки целесообразно планировать в указанные периоды времени.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457200" algn="just">
              <a:lnSpc>
                <a:spcPct val="100000"/>
              </a:lnSpc>
              <a:buClr>
                <a:srgbClr val="000000"/>
              </a:buClr>
              <a:buSzPct val="81000"/>
              <a:buFont typeface="Times New Roman"/>
              <a:buAutoNum type="arabicPeriod" startAt="2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Times New Roman"/>
                <a:ea typeface="Courier New"/>
              </a:rPr>
              <a:t>По результатам собственных исследований увеличение двигательного режима обучающихся старших классов до 5 часов вместо обычных 3-х часов при занятиях физкультурой в школе за счет факультативных занятий, предусматривающих ежедневное проведение на большой перемене подвижных игр, повышает резистентность организма к неблагоприятным факторам и улучшает показатели физической подготовленности.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457200" algn="just">
              <a:lnSpc>
                <a:spcPct val="100000"/>
              </a:lnSpc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1581aa"/>
                </a:solidFill>
                <a:latin typeface="Times New Roman"/>
                <a:ea typeface="Times New Roman"/>
              </a:rPr>
              <a:t>Практические  рекомендации</a:t>
            </a:r>
            <a:endParaRPr b="0" lang="en-US" sz="32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208" name=""/>
          <p:cNvSpPr txBox="1"/>
          <p:nvPr/>
        </p:nvSpPr>
        <p:spPr>
          <a:xfrm>
            <a:off x="610920" y="1197000"/>
            <a:ext cx="8281800" cy="544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680" indent="362160">
              <a:lnSpc>
                <a:spcPct val="95000"/>
              </a:lnSpc>
              <a:spcBef>
                <a:spcPts val="1001"/>
              </a:spcBef>
              <a:spcAft>
                <a:spcPts val="1001"/>
              </a:spcAft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600" spc="-1" strike="noStrike">
                <a:solidFill>
                  <a:srgbClr val="404040"/>
                </a:solidFill>
                <a:latin typeface="Calibri"/>
                <a:ea typeface="Calibri"/>
              </a:rPr>
              <a:t> </a:t>
            </a:r>
            <a:endParaRPr b="0" lang="en-US" sz="600" spc="-1" strike="noStrike">
              <a:solidFill>
                <a:srgbClr val="404040"/>
              </a:solidFill>
              <a:latin typeface="Century Gothic"/>
            </a:endParaRPr>
          </a:p>
          <a:p>
            <a:pPr marL="85680" indent="362160" algn="just">
              <a:lnSpc>
                <a:spcPct val="100000"/>
              </a:lnSpc>
              <a:buClr>
                <a:srgbClr val="000000"/>
              </a:buClr>
              <a:buSzPct val="81000"/>
              <a:buFont typeface="Times New Roman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Times New Roman"/>
                <a:ea typeface="Courier New"/>
              </a:rPr>
              <a:t>Для удовлетворения потребностей детей в движениях и обеспечения быстрого включения их в активную работу на уроках, учебным занятиям в школе должна предшествовать гигиеническая гимнастика, продолжительность которой должна составлять 6-10 минут.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marL="85680" indent="362160" algn="just">
              <a:lnSpc>
                <a:spcPct val="100000"/>
              </a:lnSpc>
              <a:buClr>
                <a:srgbClr val="000000"/>
              </a:buClr>
              <a:buSzPct val="81000"/>
              <a:buFont typeface="Times New Roman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Times New Roman"/>
                <a:ea typeface="Courier New"/>
              </a:rPr>
              <a:t>Занятия физической культурой в школе целесообразно проводить после третьего урока, когда возникает все нарастающее умственное утомление после длительного пребывания школьников в статическом положении.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marL="85680" indent="362160" algn="just">
              <a:lnSpc>
                <a:spcPct val="100000"/>
              </a:lnSpc>
              <a:buClr>
                <a:srgbClr val="000000"/>
              </a:buClr>
              <a:buSzPct val="81000"/>
              <a:buFont typeface="Times New Roman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Times New Roman"/>
                <a:ea typeface="Courier New"/>
              </a:rPr>
              <a:t>Физическая нагрузка на уроках физкультуры должна быть наиболее интенсивной в первую половину дня и составлять 20-30% суточного объема, движений. Это первая «вершина» двигательной активности на протяжении суток. Вторая и наибольшая - спортивные занятия или физический труд после школы (между 16-18 часами)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marL="85680" indent="362160" algn="just">
              <a:lnSpc>
                <a:spcPct val="100000"/>
              </a:lnSpc>
              <a:buClr>
                <a:srgbClr val="000000"/>
              </a:buClr>
              <a:buSzPct val="81000"/>
              <a:buFont typeface="Times New Roman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Times New Roman"/>
                <a:ea typeface="Courier New"/>
              </a:rPr>
              <a:t>Занятия физическими упражнениями, виды мышечной деятельности должны быть разнообразными, но сбалансированными в количественном отношении с потребностями и возможностями растущего организма.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marL="85680" indent="362160" algn="just">
              <a:lnSpc>
                <a:spcPct val="100000"/>
              </a:lnSpc>
              <a:buClr>
                <a:srgbClr val="000000"/>
              </a:buClr>
              <a:buSzPct val="81000"/>
              <a:buFont typeface="Times New Roman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Times New Roman"/>
                <a:ea typeface="Courier New"/>
              </a:rPr>
              <a:t>для профилактики гипокинезии необходимо увеличение динамического компонента в основных формах физического воспитания и трудового обучения, а также внедрение внеурочных форм физического воспитания, таких как, в частности, подвижные игры на большой перемене. 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marL="85680" indent="362160" algn="just">
              <a:lnSpc>
                <a:spcPct val="100000"/>
              </a:lnSpc>
              <a:buClr>
                <a:srgbClr val="000000"/>
              </a:buClr>
              <a:buSzPct val="81000"/>
              <a:buFont typeface="Times New Roman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Times New Roman"/>
                <a:ea typeface="Courier New"/>
              </a:rPr>
              <a:t>Привлечение к спортивно-массовой работе и общественно полезному труду подростков должно осуществляться с учетом возрастно-половых особенностей их организма.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marL="85680" indent="36216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781200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5400" spc="-1" strike="noStrike">
                <a:solidFill>
                  <a:srgbClr val="1581aa"/>
                </a:solidFill>
                <a:latin typeface="Times New Roman"/>
                <a:ea typeface="Times New Roman"/>
              </a:rPr>
              <a:t>Благодарю за внимание </a:t>
            </a:r>
            <a:r>
              <a:rPr b="0" lang="ru-RU" sz="3600" spc="-1" strike="noStrike">
                <a:solidFill>
                  <a:srgbClr val="1581aa"/>
                </a:solidFill>
                <a:latin typeface="Century Gothic"/>
              </a:rPr>
              <a:t>!</a:t>
            </a: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"/>
          <p:cNvSpPr txBox="1"/>
          <p:nvPr/>
        </p:nvSpPr>
        <p:spPr>
          <a:xfrm>
            <a:off x="457200" y="277560"/>
            <a:ext cx="8229600" cy="58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just">
              <a:lnSpc>
                <a:spcPct val="150000"/>
              </a:lnSpc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Times New Roman"/>
                <a:ea typeface="Calibri"/>
              </a:rPr>
              <a:t>Объект исследования: 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Calibri"/>
              </a:rPr>
              <a:t>учебно-образовательный процесс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just">
              <a:lnSpc>
                <a:spcPct val="150000"/>
              </a:lnSpc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Times New Roman"/>
                <a:ea typeface="Calibri"/>
              </a:rPr>
              <a:t>Предмет исследования: 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Calibri"/>
              </a:rPr>
              <a:t>двигательные режимы физической активности старших школьников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just">
              <a:lnSpc>
                <a:spcPct val="150000"/>
              </a:lnSpc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Times New Roman"/>
                <a:ea typeface="Calibri"/>
              </a:rPr>
              <a:t>Цель исследования: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Calibri"/>
              </a:rPr>
              <a:t> дать характеристику факторам, влияющим на двигательную активность школьников старшего возраста и определить влияние различных двигательных режимов на физическое состояние и здоровье обучающихся</a:t>
            </a: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Calibri"/>
              </a:rPr>
              <a:t>.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1979280" y="188640"/>
            <a:ext cx="6178680" cy="92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498392"/>
                </a:solidFill>
                <a:latin typeface="Times New Roman"/>
                <a:ea typeface="Times New Roman"/>
              </a:rPr>
              <a:t>Задачи исследования</a:t>
            </a:r>
            <a:br>
              <a:rPr sz="4000"/>
            </a:br>
            <a:endParaRPr b="0" lang="en-US" sz="40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179" name=""/>
          <p:cNvSpPr txBox="1"/>
          <p:nvPr/>
        </p:nvSpPr>
        <p:spPr>
          <a:xfrm>
            <a:off x="971280" y="1000080"/>
            <a:ext cx="784836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just">
              <a:lnSpc>
                <a:spcPct val="130000"/>
              </a:lnSpc>
              <a:spcBef>
                <a:spcPts val="1001"/>
              </a:spcBef>
              <a:buClr>
                <a:srgbClr val="353535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Calibri"/>
              </a:rPr>
              <a:t>Провести анализ литературных источников по теме исследования и факторы, влияющие на двигательную активность школьников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just">
              <a:lnSpc>
                <a:spcPct val="130000"/>
              </a:lnSpc>
              <a:spcBef>
                <a:spcPts val="1001"/>
              </a:spcBef>
              <a:buClr>
                <a:srgbClr val="353535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Calibri"/>
              </a:rPr>
              <a:t>Изучить функциональное состояние и физическую подготовленность обучающихся при различных двигательных режимах по данным литературных источников и собственных наблюдений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just">
              <a:lnSpc>
                <a:spcPct val="130000"/>
              </a:lnSpc>
              <a:spcBef>
                <a:spcPts val="1001"/>
              </a:spcBef>
              <a:buClr>
                <a:srgbClr val="353535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Calibri"/>
              </a:rPr>
              <a:t>Дать комплексную оценку состояния здоровья школьников старшего возраста с различными двигательными режимами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Прямоугольник 1"/>
          <p:cNvSpPr/>
          <p:nvPr/>
        </p:nvSpPr>
        <p:spPr>
          <a:xfrm>
            <a:off x="611280" y="765000"/>
            <a:ext cx="7777080" cy="375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498392"/>
                </a:solidFill>
                <a:latin typeface="Times New Roman"/>
                <a:ea typeface="Calibri"/>
              </a:rPr>
              <a:t>Гипотеза исследования: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ционализация двигательного режима, гигиенического нормирования суточной величины двигательной активности, будет содействовать укреплению состояния здоровья и профилактики гипокинезии и гиперкинезии в подростковом возрасте.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PlaceHolder 1"/>
          <p:cNvSpPr>
            <a:spLocks noGrp="1"/>
          </p:cNvSpPr>
          <p:nvPr>
            <p:ph type="title"/>
          </p:nvPr>
        </p:nvSpPr>
        <p:spPr>
          <a:xfrm>
            <a:off x="1402920" y="623520"/>
            <a:ext cx="7131240" cy="93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1581aa"/>
                </a:solidFill>
                <a:latin typeface="Century Gothic"/>
              </a:rPr>
              <a:t>Организация исследования</a:t>
            </a:r>
            <a:endParaRPr b="0" lang="en-US" sz="32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182" name=""/>
          <p:cNvSpPr txBox="1"/>
          <p:nvPr/>
        </p:nvSpPr>
        <p:spPr>
          <a:xfrm>
            <a:off x="1115640" y="2133360"/>
            <a:ext cx="741852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 целью изучения воздействия различных двигательных режимов на состояние здоровья были проведены исследования, в которых принимали участие школьники 16-17 лет МБОУ «Школа № 16» г. Ростова-на-Дону. 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 первой группе (контрольной) было 9 мальчиков и 13 девочек, во 2-ой группе (экспериментальной) - соответственно 10 мальчиков и 11 девочек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1331640" y="623880"/>
            <a:ext cx="7202520" cy="7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1581aa"/>
                </a:solidFill>
                <a:latin typeface="Century Gothic"/>
              </a:rPr>
              <a:t>Организация исследова</a:t>
            </a:r>
            <a:r>
              <a:rPr b="1" lang="ru-RU" sz="3600" spc="-1" strike="noStrike">
                <a:solidFill>
                  <a:srgbClr val="1581aa"/>
                </a:solidFill>
                <a:latin typeface="Century Gothic"/>
              </a:rPr>
              <a:t>ния</a:t>
            </a: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184" name=""/>
          <p:cNvSpPr txBox="1"/>
          <p:nvPr/>
        </p:nvSpPr>
        <p:spPr>
          <a:xfrm>
            <a:off x="826920" y="1412640"/>
            <a:ext cx="77076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бучающиеся 1-ой группы (контрольной) занимались физической культурой по школьной программе без использования дополнительных занятий физическими упражнениями. Двигательная плотность урока составляла 50-60%, средняя частота сердечных сокращений (ЧСС) - 120-130 в минуту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Двигательный режим 2-ой группы (экспериментальной), включал помимо 3-х уроков физкультуры в неделю, ежедневное проведение на большой перемене (20-25 мин.) подвижных игр умеренной и большой интенсивности. В недельном цикле эта форма занятий составила 135 мин. или 3 ч. 15 мин. С учетом 3-х уроков физкультуры недельный цикл занятий во 2-ой группе составил больше 5 часов организованных занятий физическими упражнениями. Следует отметить, что уроки физкультуры в данной группе имели повышенную двигательную активность (70%) и включали беговые и прыжковые упражнения. Средняя ЧСС на уроках и занятиях играми равнялась 140-150 в минуту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1331640" y="260280"/>
            <a:ext cx="756108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1581aa"/>
                </a:solidFill>
                <a:latin typeface="Century Gothic"/>
              </a:rPr>
              <a:t>Результаты исследования и их обсуждение</a:t>
            </a:r>
            <a:endParaRPr b="0" lang="en-US" sz="2800" spc="-1" strike="noStrike">
              <a:solidFill>
                <a:srgbClr val="1581aa"/>
              </a:solidFill>
              <a:latin typeface="Century Gothic"/>
            </a:endParaRPr>
          </a:p>
        </p:txBody>
      </p:sp>
      <p:graphicFrame>
        <p:nvGraphicFramePr>
          <p:cNvPr id="1186" name="Объект 3"/>
          <p:cNvGraphicFramePr/>
          <p:nvPr/>
        </p:nvGraphicFramePr>
        <p:xfrm>
          <a:off x="1928880" y="1419120"/>
          <a:ext cx="6656400" cy="4529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87" name="Объект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28880" y="1419120"/>
                    <a:ext cx="6656400" cy="452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8" name="Прямоугольник 1"/>
          <p:cNvSpPr/>
          <p:nvPr/>
        </p:nvSpPr>
        <p:spPr>
          <a:xfrm>
            <a:off x="2644920" y="5535720"/>
            <a:ext cx="6265800" cy="13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23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в начале                в конце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Рисунок 1 – Сравнительные показатели физической подготовленности юношей контрольной и экспериментальной групп в начале и в конце педагогического эксперимента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1331640" y="260280"/>
            <a:ext cx="7202520" cy="11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1581aa"/>
                </a:solidFill>
                <a:latin typeface="Century Gothic"/>
              </a:rPr>
              <a:t>Результаты исследования и их обсуждение</a:t>
            </a:r>
            <a:endParaRPr b="0" lang="en-US" sz="2800" spc="-1" strike="noStrike">
              <a:solidFill>
                <a:srgbClr val="1581aa"/>
              </a:solidFill>
              <a:latin typeface="Century Gothic"/>
            </a:endParaRPr>
          </a:p>
        </p:txBody>
      </p:sp>
      <p:graphicFrame>
        <p:nvGraphicFramePr>
          <p:cNvPr id="1190" name="Объект 3"/>
          <p:cNvGraphicFramePr/>
          <p:nvPr/>
        </p:nvGraphicFramePr>
        <p:xfrm>
          <a:off x="806400" y="1217520"/>
          <a:ext cx="7807320" cy="4240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91" name="Объект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06400" y="1217520"/>
                    <a:ext cx="7807320" cy="424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2" name="Прямоугольник 4"/>
          <p:cNvSpPr/>
          <p:nvPr/>
        </p:nvSpPr>
        <p:spPr>
          <a:xfrm>
            <a:off x="1908000" y="5229360"/>
            <a:ext cx="6264360" cy="10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23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в начале                в конце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Рисунок 2 – Сравнительные показатели физической подготовленности девушек контрольной и экспериментальной группы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1763280" y="259920"/>
            <a:ext cx="6589800" cy="93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1581aa"/>
                </a:solidFill>
                <a:latin typeface="Century Gothic"/>
              </a:rPr>
              <a:t>Результаты исследования и их обсуждение</a:t>
            </a:r>
            <a:endParaRPr b="0" lang="en-US" sz="2800" spc="-1" strike="noStrike">
              <a:solidFill>
                <a:srgbClr val="1581aa"/>
              </a:solidFill>
              <a:latin typeface="Century Gothic"/>
            </a:endParaRPr>
          </a:p>
        </p:txBody>
      </p:sp>
      <p:graphicFrame>
        <p:nvGraphicFramePr>
          <p:cNvPr id="1194" name="Объект 3"/>
          <p:cNvGraphicFramePr/>
          <p:nvPr/>
        </p:nvGraphicFramePr>
        <p:xfrm>
          <a:off x="1136520" y="1506600"/>
          <a:ext cx="6693120" cy="3879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95" name="Объект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36520" y="1506600"/>
                    <a:ext cx="6693120" cy="387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6" name="Прямоугольник 4"/>
          <p:cNvSpPr/>
          <p:nvPr/>
        </p:nvSpPr>
        <p:spPr>
          <a:xfrm>
            <a:off x="1979640" y="5153040"/>
            <a:ext cx="5688000" cy="10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23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в начале                в конце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Рисунок 3 – Сравнительные показатели функциональных проб с задержкой дыхания у юношей контрольной и экспериментальной группы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23T19:02:14Z</dcterms:created>
  <dc:creator>Viktoriya</dc:creator>
  <dc:description/>
  <dc:language>en-US</dc:language>
  <cp:lastModifiedBy>Администратор</cp:lastModifiedBy>
  <dcterms:modified xsi:type="dcterms:W3CDTF">2023-06-30T11:23:36Z</dcterms:modified>
  <cp:revision>150</cp:revision>
  <dc:subject/>
  <dc:title>Особенности тренировочного процесса обучающихся в группе начальной подготовке гребцов-каноистов .</dc:title>
</cp:coreProperties>
</file>