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02A04-7B74-4441-A988-7146ADD7C6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DFC7A-8A48-4D80-AFA9-DEB5692EB7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D6A62-EE5B-40EC-A5FD-0B5C187DC9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49F57-2BEC-458E-A671-7D2BD0D55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F1EBA-3578-4523-B66C-BE7708B9B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0087F-F234-4CF8-B012-B61F69632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286CF-6FFB-41DE-831A-F727E9E57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BCE07-CCE7-451B-8312-B2A0D98808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C09A3-F0FB-4AE0-B2AD-5BCE6F2018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3256A-6007-4B1B-B09C-D2F59FB38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F8CF5-7090-467A-915F-011174FFE4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6EBE0-DB5E-461B-8595-774F972530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39704-0052-4200-963F-D0AA051E0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261-CD12-4D0E-AF2C-E4D4D0B7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1A4-34D8-46DA-A8F2-737C26FB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E87F7-9CFD-49BD-8018-AADA5F41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6E9B-EFF4-4CFD-8FC3-E686D3F2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8EBB3-0804-4B13-A25A-D3E805D2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28B51-C593-4A85-AF71-87039891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38EFE-94A8-4BB6-ACD1-9078166F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29A6E-67E1-4A3A-AE02-960E8D75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E3CB7-A605-42B3-B6D5-D0E7F47E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BB8F6-3F23-4ACB-BBD5-54FC7CAB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4F8D0-C010-4B37-BB9C-651FFA92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E4DA0-FDA0-4541-8728-A70E6A59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F5C-39FD-44C1-A87A-286E1209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B4CEC-FD98-43B9-89BB-210B579E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54C54-299B-4654-94C0-D5CC27B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F041-C87B-4BE3-A846-A0F5558A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C1D45-C301-41C5-8D13-8B50E5D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E038A-6C5D-4EC8-A33F-80A23CBC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C74B3-B208-4E4D-BEDC-070354D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24595-1179-4026-B27B-D8CD005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3E902-216D-4250-8F86-DAF8A38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9B939-EABB-402F-94B7-B0936E5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937CE-615D-4E1C-90E1-45C4E788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26D-4B74-4D50-B228-768FCA36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5E429-09AA-48E0-B745-5D37090B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9F8C-34D2-4202-8183-BBBF68E2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A98F-9932-4A3F-BD19-14940F3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3C437-EE77-4395-95FB-9A19D20F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5BCD4-14E2-4088-A1C2-AC72FC22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134B-1792-4BA5-83EE-623C955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B4F94-5F0B-46A9-AB90-4978DC1E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5C473-2404-47A5-9BE5-7AE7C92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7EDF2-DCDB-44E3-9199-DE5340E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891AC-054A-4650-A0B1-881B6B5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05F4-2620-4799-97AD-985DC320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7ABC0-39DE-4558-A6BE-20C8C15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DD3A-CEBA-4858-8B0C-18429CFC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7AD90-B460-4AD5-B902-B7E4D3B1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7364D-79BA-41F0-BF74-FE716B80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3EBCE-682C-4AC6-A30E-A46CC0FC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00495-2121-4F3A-BD60-0FBE083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B2785-84CB-47F1-8AA8-70B8326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94F8A-7215-4958-8B42-49081EC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067F5-82F3-4876-A699-224E0DDF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6F36B-5537-4800-85F2-7A9E59E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E649-E5FA-4085-99BB-FC64F04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29B38-2E5C-4D25-8FE9-AD5CFC29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82B01-E025-4E19-807D-4F71B66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BB5C-CB30-49BB-910C-23B54EF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EAD1E-0956-4140-8E19-7FD6CBE3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6C91-BE66-4F6F-83E9-B8DDF104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4636A1-DB16-4B6A-A293-F8DC4A47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422C2-F003-4A26-AD77-FD7B547D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7E516-DFA7-4E71-8A13-A7C55F6C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17B55-87B0-4C93-AB43-95149F54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83C91-12FA-434C-8801-B167F8D5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219C-2DB8-418F-B269-F60D265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52671-6275-4788-9B8E-82F46450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37B93-DE03-4219-895F-0DC97D8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9402D-5351-42A1-8FA8-5940037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5CCA5-08B0-4C0D-AF17-5A22F11D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CF034-A4FA-4182-BE3F-49ACAED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65268-0130-42C4-BF67-626EB321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5C4A85-A7F0-4F63-A50C-517113D2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D5CD-B2AE-416B-97E5-F077F94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60F4-674C-4EAC-8974-C7944EB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395A-0B59-4F8E-84DD-59206554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A83-AAED-4324-8195-59759BA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446-1E15-47B0-8D91-09580AB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7AB2-ED34-464C-A00E-CD5E9CC8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5923-0973-485B-8993-31B5ABCA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3E2D-5334-49CC-BAEB-405B03A0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D6BF-A1F0-4062-86F3-CC1F43CC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7A43-AF04-49A2-89EE-7D32CE69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AA38-2374-4A4F-9E57-0735D542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3E74-CCD0-465A-BB40-9EDEE3F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3E2E-3BE9-493B-A1F2-C46CFAE6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C1DAC-DBC1-4069-9AB2-6774571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6BFF1-7DDE-4EBC-94DF-BBB6B2F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30D-5A77-4096-971E-50689B49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16FD0-3F0B-416C-B3DB-6337895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98F3-2930-4131-A837-7BB4276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C3E8-EEDB-4A95-94A7-1BC71A2F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8CE7-C630-4854-B72A-7BE2E25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E60D-AE8E-49D4-A63D-01073327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A541-B849-479A-9FBF-4FD4D14D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A170-717E-422D-AF0D-F8B04F9B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844F-A4CB-438B-BADC-37EE08EB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72F8-87D7-4216-9444-444631D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D771-FA8B-4683-9D29-53B27FB3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0CD-EA0B-4506-891F-1D23F14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1FFF-AF93-4F8D-813C-0CA07A59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8F2F-E4C9-4625-9697-D3F7B1C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8447-C82E-4CD8-AFB2-D1968999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EC75C-FC12-4D82-9560-3013AA3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5843D-18F7-46EC-8304-EEE2B99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2037-FB19-45BE-B1B6-B1D1BCA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9135-73DD-4136-8F5B-0174EE3C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243C-4A37-4C93-BDAF-A20F1FA4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30BA-2563-49F1-A1CA-B69F5DFC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A3F3-217F-413D-8E89-3B5A307B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F99-4979-4C14-962E-9F4B2EF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C1A2-B7CE-4824-BB3F-F8769E10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882C8-AD08-4960-AF03-6791A54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332E-EE5D-474A-AEA7-275ED09F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F9D7-9A44-481A-892B-E7C5B0F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E4B9-F6C9-4C02-BFC2-590768D2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A9C9-7676-4E8E-B3EC-6560D1C2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2BE1-AB11-48EC-92AF-190CFB2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B040-D528-499D-9D20-D0F5425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FAF3F-5000-4ADD-9355-D435738E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4078-BFF1-4704-A43E-465C46B9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ED9-66B8-4019-9D26-7E6C56C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D02F-471C-41D8-A17C-EC8DD0EC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89077-8BA9-49DA-976B-B9E4B601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804A3-AF1A-427B-B157-3898EFB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3713-8B86-47FF-9A11-85F8EF61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5F1D-CACE-47B6-B660-053EDB2D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6C16-DD08-449B-9EF0-A605C40A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9CF32-CBF5-4E5A-BAA3-1727B01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0F6E-0910-484A-8D82-DA571F0C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92DBB-380D-4F24-8066-EE3D7A9A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A617-F753-486F-886A-3DB8DB2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0C1-A3AB-40BC-A5EB-118172E9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180F6-C739-4B02-BE83-2E28E2B8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9BCB-2F69-43D1-AAB5-D7223EE0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73A2-F8AA-45F4-AB6A-D913F448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A862D-8D8F-480E-B859-04EF2F3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5BE8D-91D6-4E0B-AF5C-6D9A5BA8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1C77C-3D53-4AD7-B826-69C04B78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E95D-7111-4333-B316-9C77C49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5B910-F05C-40A0-BF65-00566DA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8AE5-1A50-46CC-A007-A151EEC5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76CCB-F408-4271-BE05-A495F2D2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37F-A59A-4E56-B8E9-4FB1801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E0971-F372-46B7-ABB4-F63B11B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845FF-F876-4095-AFE7-D4253E7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9808-7259-4219-80CB-E25D906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D38B-5F7F-4591-9CF9-D60323F5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7E735-C240-4781-8731-462A9DD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87ED-205D-434A-B8D4-2026C38D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8587-F4C2-4F6A-BD64-A777F896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09EDC-144E-4DFE-96D6-CBE37FAE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F299-8DA9-4B74-AF7A-17A2E940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58011-DE08-4892-9AF1-76F5B80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ECD-5E75-430D-A596-C4E1CB0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5FB10-B4EA-4429-A96A-4E8DE9AE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5089-BF73-4B96-B773-D24F03D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BEE8-E2F2-49E8-99C4-4A5C723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6EDF-1FA3-4A0E-AF8F-2D43B671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227A-E027-495E-B1B1-4141D365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97FB-D338-4CFF-998C-400B8FD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6EDCD-0CB3-4ECA-82F0-CFEEE009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783F7-AAC4-44E8-AF37-3B4FC95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C3BA1-4F67-4F97-A4D5-E4A3856D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A1DAA-F2F8-4D01-B207-08CA2B12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A45B5-5225-4496-AC3C-22D77162E8C6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161A128C-0565-4CA4-9F21-1DD3EC9E1699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84852-9B7A-48C6-83F9-13B434257B2E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1231A-C5ED-4947-B41C-9ED8D6BE8A1F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254684C1-0538-40AE-8A6E-323032B07DB1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80B51-6916-4ACD-800F-FA9CE1386049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CB0D5-DE5C-4557-9863-B07323DDEE87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97B6A60B-D0AA-49EC-AA47-089ED354CE2D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46E32-AA58-425D-B247-E602AEB4E8BB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B9EF4-50AF-4BA9-909D-0DF531CFCC8A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479F4F5E-E1DD-4BFF-B2BD-D52DDD6FD17D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6F426-353E-4DF5-B157-F075EECBF8C5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21" name="Picture 7" descr="sm_pencil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4600" cy="2144880"/>
          </a:xfrm>
          <a:prstGeom prst="rect">
            <a:avLst/>
          </a:prstGeom>
          <a:ln cap="sq" w="50760">
            <a:solidFill>
              <a:srgbClr val="e6c069"/>
            </a:solidFill>
            <a:miter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5F130-3DF0-4DE4-BB1E-C55099FEEF29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BFA3EA7A-487F-47C0-AED1-697A178FEAC8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DFAD8-7351-4F91-A85A-9E03432E6D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81BF3-2C9F-46EB-84B9-7268A260F591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DD76E482-EE60-4FFF-ADA4-32382F8CBD48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49224-93B0-4C68-8102-05703121D572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DCE1D-CF58-4AD0-B754-36C571612304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E03E7607-C133-4B9E-B7B0-BBC135C61244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6CB38-AC5A-4E6F-914A-1FDDCCE9E89F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F58AE-093F-40CF-BAAC-E28ACB127C27}" type="datetime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 </a:t>
            </a:r>
            <a:fld id="{0A8E0379-A71E-4D07-A0CB-F2CEF2ED5FED}" type="datetime10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0FBE0-E64B-4984-8C81-5522FA837B84}" type="slidenum">
              <a:rPr b="0" lang="ru-RU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7EB72-8837-466E-AB43-869620CF425F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BA1EA998-B1F4-421D-A2E3-0323223B7022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12EF3-99CC-454C-99A5-474B14978DA5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46922-80C6-41CE-8743-68601EE8D200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5606BFF3-65FB-41AB-B144-55B33E1D8412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EADF7-C831-4744-92DE-7E0B655D905F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7EFB0-3075-456A-B4C3-65E5CF805883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23F519E8-5D23-4804-96FE-96BD81400C40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B56F2-1245-4692-B611-3B4C0E0C7B9E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AAB09-7E1E-45FE-BA82-5C3F00963AB5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6C22769E-8D3F-486D-A50A-20668C91B15B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76E6A-B0D8-437D-851C-5E255C3C6343}" type="slidenum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BC3D7-7464-4540-80DC-F0C5892E96AC}" type="datetime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29.07.26</a:t>
            </a:fld>
            <a:r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 </a:t>
            </a:r>
            <a:fld id="{65DC0245-F000-4B3C-A5D5-7C7BAA9D95A1}" type="datetime10">
              <a:rPr b="0" lang="ru-RU" sz="1000" spc="-1" strike="noStrike">
                <a:solidFill>
                  <a:srgbClr val="191b0e"/>
                </a:solidFill>
                <a:latin typeface="Times New Roman"/>
              </a:rPr>
              <a:t>01:0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8300E-4FE7-4543-BF0D-71C9DBFB67B4}" type="slidenum">
              <a:rPr b="0" lang="ru-RU" sz="12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Rectangle 1" descr=""/>
          <p:cNvPicPr/>
          <p:nvPr/>
        </p:nvPicPr>
        <p:blipFill>
          <a:blip r:embed="rId1"/>
          <a:stretch/>
        </p:blipFill>
        <p:spPr>
          <a:xfrm>
            <a:off x="1116000" y="2481120"/>
            <a:ext cx="7216920" cy="343224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-2219760" y="6165720"/>
            <a:ext cx="6705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Подготовила: Семочкина А.С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-1440" y="6049800"/>
            <a:ext cx="226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08000" y="115920"/>
            <a:ext cx="8959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ы, кроссворды в картинках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250920" y="1773360"/>
          <a:ext cx="7219800" cy="420660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238560"/>
              </a:tblGrid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2">
                  <a:txBody>
                    <a:bodyPr lIns="68760" rIns="68760" tIns="0" bIns="0" anchor="t">
                      <a:noAutofit/>
                    </a:bodyPr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250920" y="1773360"/>
          <a:ext cx="7219800" cy="4206600"/>
        </p:xfrm>
        <a:graphic>
          <a:graphicData uri="http://schemas.openxmlformats.org/drawingml/2006/table">
            <a:tbl>
              <a:tblPr/>
              <a:tblGrid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238560"/>
              </a:tblGrid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2">
                  <a:txBody>
                    <a:bodyPr lIns="68760" rIns="68760" tIns="0" bIns="0" anchor="t">
                      <a:noAutofit/>
                    </a:bodyPr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мотри, силач как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 ходу одной ру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танавливать прив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201600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ятитонный грузов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05" name="Рисунок 3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609560" cy="21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 и интерактивные раскраски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07" name="Рисунок 7" descr=""/>
          <p:cNvPicPr/>
          <p:nvPr/>
        </p:nvPicPr>
        <p:blipFill>
          <a:blip r:embed="rId1"/>
          <a:stretch/>
        </p:blipFill>
        <p:spPr>
          <a:xfrm>
            <a:off x="1042920" y="1316160"/>
            <a:ext cx="4681440" cy="263988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6" descr=""/>
          <p:cNvPicPr/>
          <p:nvPr/>
        </p:nvPicPr>
        <p:blipFill>
          <a:blip r:embed="rId2"/>
          <a:stretch/>
        </p:blipFill>
        <p:spPr>
          <a:xfrm>
            <a:off x="4284720" y="4038480"/>
            <a:ext cx="3610080" cy="258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 программы и игры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10" name="Рисунок 2" descr=""/>
          <p:cNvPicPr/>
          <p:nvPr/>
        </p:nvPicPr>
        <p:blipFill>
          <a:blip r:embed="rId1"/>
          <a:stretch/>
        </p:blipFill>
        <p:spPr>
          <a:xfrm>
            <a:off x="6176880" y="3860640"/>
            <a:ext cx="2705040" cy="2664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" descr="Дракоша и правила дорожного движения"/>
          <p:cNvPicPr/>
          <p:nvPr/>
        </p:nvPicPr>
        <p:blipFill>
          <a:blip r:embed="rId2"/>
          <a:stretch/>
        </p:blipFill>
        <p:spPr>
          <a:xfrm>
            <a:off x="3219480" y="2349360"/>
            <a:ext cx="2705040" cy="27590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Правила дорожного движения для детей 2009 "/>
          <p:cNvPicPr/>
          <p:nvPr/>
        </p:nvPicPr>
        <p:blipFill>
          <a:blip r:embed="rId3"/>
          <a:stretch/>
        </p:blipFill>
        <p:spPr>
          <a:xfrm>
            <a:off x="684360" y="765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028880" y="2286000"/>
            <a:ext cx="333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893840" y="2286000"/>
            <a:ext cx="333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16" name="Picture 2" descr="http://images.myshared.ru/33/1327224/slid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191b0e"/>
                </a:solidFill>
                <a:latin typeface="Franklin Gothic Book"/>
              </a:rPr>
              <a:t>Роль ДОУ в профилактике ДТП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8040" y="1557000"/>
            <a:ext cx="496872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191b0e"/>
                </a:solidFill>
                <a:latin typeface="Franklin Gothic Book"/>
              </a:rPr>
              <a:t>Безопасность дорожного движения и профилактика дорожно-транспортного травматизма – проблема всего общества. Поэтому знакомить детей с правилами дорожного движения, формировать у них навыки правильного поведения на проезжей части необходимо с самого раннего возраста.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07680" y="5200560"/>
            <a:ext cx="74199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Demi Cond"/>
              </a:rPr>
              <a:t>Знания, полученные в детстве, наиболее прочные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Demi Cond"/>
              </a:rPr>
              <a:t>Правила, усвоенные ребенком, впоследствии становятся нормой поведения, а их соблюдение – потребностью человек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77" name="Рисунок 16" descr=""/>
          <p:cNvPicPr/>
          <p:nvPr/>
        </p:nvPicPr>
        <p:blipFill>
          <a:blip r:embed="rId1"/>
          <a:stretch/>
        </p:blipFill>
        <p:spPr>
          <a:xfrm>
            <a:off x="5867280" y="2765520"/>
            <a:ext cx="2668680" cy="243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191b0e"/>
                </a:solidFill>
                <a:latin typeface="Franklin Gothic Book"/>
              </a:rPr>
              <a:t>Роль ДОУ в профилактике ДТП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26920" y="836280"/>
            <a:ext cx="81439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4000"/>
              </a:lnSpc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Franklin Gothic Demi Cond"/>
              </a:rPr>
              <a:t>Главная цель воспитательной работы по обучению детей основам безопасности дорожного движения должна заключаться в формировании у них необходимых умений и навыков, выработке положительных, устойчивых привычек безопасного поведения на улице, проезжей части и т.д.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37720" y="3987720"/>
            <a:ext cx="8055000" cy="26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обучающий материал должен соответствовать возрасту и интересам ребёнка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правила должны подаваться в доступной форме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just">
              <a:lnSpc>
                <a:spcPct val="90000"/>
              </a:lnSpc>
              <a:spcAft>
                <a:spcPts val="201"/>
              </a:spcAft>
              <a:buClr>
                <a:srgbClr val="00206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обучение нужно проводить по принципу «от простого к сложному»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05040" y="3106800"/>
            <a:ext cx="7921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Franklin Gothic Demi Cond"/>
              </a:rPr>
              <a:t>Начиная знакомить малыша с правилами дорожного движения, рекомендуется учитывать следующее:</a:t>
            </a:r>
            <a:endParaRPr b="0" lang="en-US" sz="25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Основные умения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68000" y="784080"/>
            <a:ext cx="8567640" cy="566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c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Franklin Gothic Demi Cond"/>
              </a:rPr>
              <a:t>Основные умения, развиваемые у детей, с учетом их психофизических особенностей в дошкольном возрасте: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вовремя замечать опасные места, приближающийся транспорт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различать величину транспорта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умение определять расстояние до приближающегося транспорта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знание сигналов светофора, символов на дорожных знаках и их значение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понимание особенностей движения транспорта; того, что он не может мгновенно остановиться, увидев на своем пути пешехода (ребенка);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понимание потенциальной опасности транспорта; того, что на проезжей части могут быть аварии с гибелью и ранениями людей.</a:t>
            </a:r>
            <a:endParaRPr b="0" i="1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23640" y="1752120"/>
            <a:ext cx="85690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86" name="Picture 2" descr="https://presentacii.ru/documents_4/d59d74623ea0aaa9bec929119c83e2c0/img3.jpg"/>
          <p:cNvPicPr/>
          <p:nvPr/>
        </p:nvPicPr>
        <p:blipFill>
          <a:blip r:embed="rId1"/>
          <a:stretch/>
        </p:blipFill>
        <p:spPr>
          <a:xfrm>
            <a:off x="1332000" y="115920"/>
            <a:ext cx="7056360" cy="626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3640" y="1752120"/>
            <a:ext cx="856908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8748720" y="0"/>
            <a:ext cx="3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Demi Cond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90" name="Picture 2" descr="https://fs00.infourok.ru/images/doc/183/209611/img9.jpg"/>
          <p:cNvPicPr/>
          <p:nvPr/>
        </p:nvPicPr>
        <p:blipFill>
          <a:blip r:embed="rId1"/>
          <a:stretch/>
        </p:blipFill>
        <p:spPr>
          <a:xfrm>
            <a:off x="-270000" y="-243000"/>
            <a:ext cx="9468000" cy="7101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http://itd1.mycdn.me/image?id=851934671180&amp;t=20&amp;plc=WEB&amp;tkn=*86Lgsoq02kzJMIdg_rK3zxUA6us"/>
          <p:cNvPicPr/>
          <p:nvPr/>
        </p:nvPicPr>
        <p:blipFill>
          <a:blip r:embed="rId2"/>
          <a:stretch/>
        </p:blipFill>
        <p:spPr>
          <a:xfrm>
            <a:off x="7089840" y="5370480"/>
            <a:ext cx="11206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6000" y="2890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 обучения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93" name="Прямоугольник 4"/>
          <p:cNvSpPr/>
          <p:nvPr/>
        </p:nvSpPr>
        <p:spPr>
          <a:xfrm>
            <a:off x="666720" y="4508640"/>
            <a:ext cx="81532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Demi Cond"/>
              </a:rPr>
              <a:t>«Скажи мне, и я забуду. Покажи мне, и, может быть, я запомню. Но вовлеки меня, и я пойму»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Franklin Gothic Demi Cond"/>
              </a:rPr>
              <a:t>Китайская пословица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4" name="Прямоугольник 2"/>
          <p:cNvSpPr/>
          <p:nvPr/>
        </p:nvSpPr>
        <p:spPr>
          <a:xfrm>
            <a:off x="684360" y="1052640"/>
            <a:ext cx="824364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 каждым годом в нашу жизнь все плотнее входят современные информационно-коммуникационные технологии.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И в системе дошкольного образования в последнее время появляется возможность наряду с традиционными формами работы использовать информационные технологии: мультимедийные презентации, обучающие мультфильмы, развивающие дидактические игры, восприятие художественно – музыкального слова, разгадывание ребусов и кроссвордов, компьютерные игры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Рисунок 9" descr=""/>
          <p:cNvPicPr/>
          <p:nvPr/>
        </p:nvPicPr>
        <p:blipFill>
          <a:blip r:embed="rId1"/>
          <a:stretch/>
        </p:blipFill>
        <p:spPr>
          <a:xfrm>
            <a:off x="2268360" y="4581360"/>
            <a:ext cx="4175280" cy="190512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6" descr=""/>
          <p:cNvPicPr/>
          <p:nvPr/>
        </p:nvPicPr>
        <p:blipFill>
          <a:blip r:embed="rId2"/>
          <a:stretch/>
        </p:blipFill>
        <p:spPr>
          <a:xfrm>
            <a:off x="4890960" y="2201760"/>
            <a:ext cx="3881520" cy="19940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 мультфильмы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598" name="Рисунок 7" descr=""/>
          <p:cNvPicPr/>
          <p:nvPr/>
        </p:nvPicPr>
        <p:blipFill>
          <a:blip r:embed="rId3"/>
          <a:stretch/>
        </p:blipFill>
        <p:spPr>
          <a:xfrm>
            <a:off x="324000" y="2201760"/>
            <a:ext cx="3887640" cy="2036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http://itd1.mycdn.me/image?id=851934671180&amp;t=20&amp;plc=WEB&amp;tkn=*86Lgsoq02kzJMIdg_rK3zxUA6us"/>
          <p:cNvPicPr/>
          <p:nvPr/>
        </p:nvPicPr>
        <p:blipFill>
          <a:blip r:embed="rId4"/>
          <a:stretch/>
        </p:blipFill>
        <p:spPr>
          <a:xfrm>
            <a:off x="7523280" y="4913280"/>
            <a:ext cx="112068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-1440" y="-147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усы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601" name="Рисунок 4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85348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3T20:07:09Z</dcterms:created>
  <dc:creator/>
  <dc:description/>
  <dc:language>en-US</dc:language>
  <cp:lastModifiedBy/>
  <dcterms:modified xsi:type="dcterms:W3CDTF">2023-06-30T15:42:46Z</dcterms:modified>
  <cp:revision>2</cp:revision>
  <dc:subject/>
  <dc:title>Современные формы и методы работы  с детьми дошкольного возраста  в образовательной деятельности  «Социально – коммуникативное развитие»  по правилам дорожного дви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1700000000000102a0010207f7000400038000</vt:lpwstr>
  </property>
</Properties>
</file>