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move the slide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4851F-ABF4-4B9B-85F7-060A77F25A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86BA0-9AE5-432F-AC68-3A8D795FB7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88163F-8671-47B9-8219-DA612AF883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20027-76B9-4709-9926-F50F711DFC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60D07-F076-413B-B36C-0E7547218D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E3323-1B32-474D-ACC1-1AFA524E76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D4B89-E71B-4F1F-A5D5-6A8F19F08E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D1455-C5E1-4F46-A2D3-EB0A57CABA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6635D-96CE-4218-AEAD-D13227C3F6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76152-26BA-464A-8212-55652B89C7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9449D-FF7A-49E3-84F4-841001C782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CC69D-D130-4DF4-8986-D021245C0E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CA026-145C-4BB8-8051-1450FB7E72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969-FCC4-4FCB-A816-232F170E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567-A9D6-479E-8F51-E4026FF8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49E96-91AA-4FE3-B1FC-8746C531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2E435-D3C1-456A-ACF9-3F4D3985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2CBAA-A5D3-4DB2-BE85-BA0ADC0D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7F558-913F-4E52-8F7C-3302C7D4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DC82B-774D-46ED-BF0F-F6B48F1F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78F62-C4E1-49A8-BEB1-5AEE67E0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F65C1-A482-4C2C-A744-96D26C44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EAA04-8AF8-4F5B-BFA6-10D48A78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E44D3-270F-4214-B088-74FD6777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3F8F6-7DE4-43C4-AD9F-0953B9E2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E73-EF06-4FA8-9F1F-D33E05AB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90A3C-C72C-46C5-9719-38D3410B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8DE5E-95DB-4B1E-B625-91142716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1617A-9ED6-46F3-B6C3-3B6CCD49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EB6E1-E70E-4D33-83CB-F06BB9B9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0F391-F1A1-449D-8CCC-AFB34281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05C8F-CBC1-4898-BB90-7BDF8C96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7EE66-CA14-4763-91F6-703492FC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D9C3A-1EE2-441B-B157-0F1780FE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B2D49-C4E8-496F-A5A4-C7D51535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49403-3173-466D-ADA9-245B52C9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818F-058F-491E-9BEC-E25E3D17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2D337-EE40-4FA4-9B2E-BC903305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AF6EE-3E37-42CD-9E0D-BE8DF09F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3BBE3-20F2-47DB-8C51-14CFE547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ED767-4F13-4079-AF96-6004D52C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690F9-CFD9-48D7-BC16-D5F69FC3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694E1-3F37-41DB-8821-B746D71A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C08D0-6B82-4C6A-A3A6-EA20435E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B8BCE-278F-4034-9D15-F7FE8D7D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D5579-6A5E-4DA9-8E2B-FDF03CFA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C1D8F-75BD-4567-AD7C-834AF27D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D61F-D0FE-4310-A67D-A2F1ED64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93EB8-47CA-41CA-A170-6B97667D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7FB2F-8783-4131-9A33-C73504B1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CE6B6-658B-4D90-AFAD-8B144458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EA340-45E2-4F76-AD6E-53AA0CBA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21AB9-5423-47E5-9120-FC969117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BF029-175F-4042-8718-65A6ABCF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9BCB7-15B1-4276-BA75-AF8C7AD1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18FC4-41F3-485D-829A-A5DB16C6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E7758-0E4B-4FAE-9566-78533F2C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27050-C6BA-437C-9881-669E2821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BFD5-31C4-4A30-B1D9-DE1EC0AA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93F94-F9A5-4702-851B-9FC527AA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649B3-44D5-471E-ACBE-7297E788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5780E-5DFB-47BF-A23E-22D9CBA0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F4061-14BB-411D-918E-721FB251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76244-A4EA-404A-90AB-FE1F972A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ED9E7A-EB98-4102-A137-09C34F37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7D96E-F3B6-4268-9856-CC61E794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2AB16-3A68-4D79-8AC2-6F7F10E3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396653-FD7D-4EA4-9107-480ACCEF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68F20-97A1-40FD-9DAF-3D9A18C4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D7B9-4195-4023-ABA1-25AD0C8B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63B36-FAA6-476D-80C3-86D1A78C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E7953-B4A5-4AB8-8F6B-06777499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79941-9F82-46E7-9E7C-E6E786A9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6090D-32C8-450D-816A-B9653713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E9CA4D-CB0A-4019-A6EA-757800E2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8D5F5-0BAD-4840-9F86-79A1174F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0E8BD3-28C3-4B3E-AC3D-DC4794D5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EFC9-1ACC-4707-BE03-61333750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B406-62DC-4942-A4E8-8E66788F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B0BE-BBDA-407E-B103-11035897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165A-0B2F-44C9-8F8C-19FAABE3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1E2-800A-419E-83AC-DB4E4AE2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F7B4-5819-4CA8-8702-4012DD6A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EC2B-8E66-410B-9E98-2D80B619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B155-B078-4A7C-B4FB-754983E7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DD1F-32A0-4F2F-A531-5F547C1B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5954-4949-4026-8A30-AA50E25D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F37B0-F06C-46F7-BBFC-1AECD238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09057-08EA-44A0-BE59-FB01FD14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D1BB5-FD66-4FEC-80F8-B4E88A9F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00378-9065-42EB-ABFF-D09260D0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41C7D-E912-4D8B-AA7E-BDE1F265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A630-0870-40F5-BC00-97E6DB1D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B4078-742F-4C88-8076-3ECC47B4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122B4-8AD8-44C5-9D19-0581373C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1A87B-59C5-4E69-83C2-60708E8C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2D8DE-0D6B-4409-9949-96C8C442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097A1-0FCF-4526-A18C-36AB0038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0D754-E882-46C7-9320-2DDFC1A1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22EC5-859A-49D8-B70A-4269E63D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360D7-932E-47D8-8754-56AF53AE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963C9-5C87-4A4F-BC18-63CABDDB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7376B-382C-4220-98CB-690DBC74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6B3-F08E-47BA-8AD6-9CD1C169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66C92-0B2F-4E05-AF30-04F6245B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E52C0-EB14-40F0-BBC9-A2F0EA38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BC414-B3E0-439A-8A85-1B1C67E1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6DD63-4F22-4425-9079-2999724D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2D96A-0A30-49F2-A773-A0413079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2F50F-C36D-4CB9-A7F4-2A9B8BAE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9B4D2-4C97-4218-AE4B-AB1E5032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A1A55-55A7-444A-B6C8-2A1B1C7F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CB89D-6CDC-4D70-862C-FE452AF5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05C98-B276-4788-98E1-55B5AC27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5B0-BD45-4CCC-9BC7-FD546773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F9BFF-4791-4B0D-9BB4-2E08F321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65C4E-CC4C-4FE1-8377-52AF2568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B5F05-F6E0-4DFE-A8D0-08ED2F7F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9B9A1-6E28-4DFB-9DF4-B6C7F6E0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D7F1C-7E31-4CE0-9175-65892FA7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7EA90-B28A-4F34-9F13-7C26520A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9C0E1-6B41-4F33-A424-1D9FE50F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EEC35-9D54-455C-8C15-145DD031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5784E-48AA-4CC1-A705-228FC421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FC69A-8DD4-40C8-A476-2C58CB9D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4BCE-046E-4305-8C34-DEC5A59E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06845-ADA7-40E7-B55D-EF94E78E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014A9-A829-44ED-B3FF-B955617C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3E89D-413E-4A37-B1B6-EF4FDD03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58C68-5E6A-478A-AD20-45EE21CD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704A3-F6CA-4A70-9627-783DD286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A9C35-E3BD-498D-B16B-F9DA5277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DACD4-B380-4F0D-94FB-7ADDCB6D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19D18-C006-4761-9F2F-3B7A05F2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9FB11-DFB0-48A6-B5D2-8F9EAEB4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BE764-B165-4E4C-8932-44429BBE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361-4279-4DEB-8D85-64E52D66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6703A-23D3-4DA1-9422-1E9A2B3A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C49CD-40DC-43B5-9D07-0FFAA7FC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7D44E-4780-4158-A6A4-9B7FFD48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129F5-F8BB-40B1-A4EC-235CABE5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00054-2940-4006-805D-7E0FC71F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342DE-3FBA-47E9-9993-4E954B2F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561B7-9E7F-4B5A-B44C-EF4479EF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D6198-FC04-4704-9FC5-93D32AF1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8B82F-1C19-4D6F-B5C5-39B68325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BBF00-12FB-4048-9096-50A78419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BE44-86FC-4082-8228-C788DFB9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0EAAD-258F-4F68-8805-4B05359A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B1C59-8D3C-4695-BD12-75A415F8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84285-7CF2-482B-89FE-761BE3B9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2825F-7C04-40D6-998C-DC0D6E5B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AA4EA-EBC6-41FE-B7CA-A04DD217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44E35-2479-4EF0-A422-13A34A69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42B10-4432-4102-A9DD-B8CF6689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F02AB-7B42-4C2C-8BF2-A5FFF028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159CB-AB1B-4977-90C0-C0DF30ED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B4DFD-2CC5-43C3-877F-ED4AF214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7FC9-4033-44C0-944A-66BA9C9A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16D8C-4DAA-4937-B8B9-3305D4FA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FBD9F-B45D-4F66-880B-02519646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F8ED5-B6EA-41C1-9B22-66BD25D4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AD95B-F28B-4A1C-9ECB-C550FE0B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77455-62B3-4882-9B83-3F123B64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1B1FA-A07B-4EDC-9316-C2C74ECE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BC8D0-A212-475E-AAF8-3E8BBAC4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F8E16-A5B5-4501-A1FD-6698E79A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A2365-4025-4E0B-8BB3-A1E74246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B14EC-75F8-4105-8BD6-F8CBF6DE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2609D-FDD1-4244-B0F2-130788EE1FCB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85955A59-0C46-4AF7-8A20-7015CFB6F662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4:3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3A63A-37D8-4FEA-999A-BCB87F05A018}" type="slidenum">
              <a:rPr b="0" lang="ru-RU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0" y="0"/>
            <a:ext cx="397836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54252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198BF-BC59-438B-B5B5-25AC3B80985F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BEF8B311-08A3-417B-ADCB-90353FEF910E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4:3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1654200" y="6453360"/>
            <a:ext cx="1781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7411680" y="6453360"/>
            <a:ext cx="1197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9915D0-4ED6-49F2-87EA-40B206C2227D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1068B-2E4E-4F5D-A34C-8AFFC177A07B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11DB826A-F2D7-4729-A96B-E5BA19A0DC35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4:3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888AE-6343-487A-8A52-4492BCEA5998}" type="slidenum">
              <a:rPr b="0" lang="ru-RU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5AB31-E663-40B6-8C76-1A0A1A8F4D66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24A1B629-1258-46F0-98AB-7F580C12A54E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4:3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47AD9-405B-4A01-AD44-80760AEF0CBA}" type="slidenum">
              <a:rPr b="0" lang="ru-RU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21" name="Picture 7" descr="sm_pencil.png"/>
          <p:cNvPicPr/>
          <p:nvPr/>
        </p:nvPicPr>
        <p:blipFill>
          <a:blip r:embed="rId2"/>
          <a:stretch/>
        </p:blipFill>
        <p:spPr>
          <a:xfrm>
            <a:off x="612720" y="1755720"/>
            <a:ext cx="1614600" cy="2144880"/>
          </a:xfrm>
          <a:prstGeom prst="rect">
            <a:avLst/>
          </a:prstGeom>
          <a:ln cap="sq" w="50760">
            <a:solidFill>
              <a:srgbClr val="e6c069"/>
            </a:solidFill>
            <a:miter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E9555-9CA0-4058-B734-75CCFC1F039E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E326D517-6A60-46FA-BA38-20E3A59C555E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4:3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6E631-F82E-4D52-BCE5-51B42D2A9E2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565200" y="744120"/>
            <a:ext cx="8005680" cy="5350320"/>
            <a:chOff x="565200" y="744120"/>
            <a:chExt cx="8005680" cy="5350320"/>
          </a:xfrm>
        </p:grpSpPr>
        <p:sp>
          <p:nvSpPr>
            <p:cNvPr id="44" name="Freeform 6"/>
            <p:cNvSpPr/>
            <p:nvPr/>
          </p:nvSpPr>
          <p:spPr>
            <a:xfrm>
              <a:off x="6114600" y="1685520"/>
              <a:ext cx="245628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 flipH="1" flipV="1">
              <a:off x="564840" y="743760"/>
              <a:ext cx="2456640" cy="4408920"/>
            </a:xfrm>
            <a:custGeom>
              <a:avLst/>
              <a:gdLst/>
              <a:ahLst/>
              <a:rect l="l" t="t" r="r" b="b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6484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9A9EA-6155-4D94-A291-681900C8C35E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726EBF5E-B00C-45D6-82FB-B3A59E9F2924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4:3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938240" y="6453360"/>
            <a:ext cx="526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372080" y="6453360"/>
            <a:ext cx="119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3D504-AF3B-4CD9-B4D0-1A94A36549BC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D4A38-8A18-4E3B-A3B8-E8732A856904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32163612-0F86-4486-B1D9-2B4BDAA463AA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4:3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E16E58-0D0B-4426-9F65-7E279ACA0190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6"/>
          <p:cNvSpPr/>
          <p:nvPr/>
        </p:nvSpPr>
        <p:spPr>
          <a:xfrm>
            <a:off x="6113520" y="1685880"/>
            <a:ext cx="245736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6113520" y="1685880"/>
            <a:ext cx="245736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554040" y="6453360"/>
            <a:ext cx="121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28907-3874-462F-8214-862D4A9C2D7D}" type="datetime">
              <a:rPr b="0" lang="ru-RU" sz="1000" spc="-1" strike="noStrike">
                <a:solidFill>
                  <a:srgbClr val="efede3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efede3"/>
                </a:solidFill>
                <a:latin typeface="Times New Roman"/>
              </a:rPr>
              <a:t> </a:t>
            </a:r>
            <a:fld id="{D3B2538D-82FA-4E70-A17A-6FD704BAD18D}" type="datetime10">
              <a:rPr b="0" lang="ru-RU" sz="1000" spc="-1" strike="noStrike">
                <a:solidFill>
                  <a:srgbClr val="efede3"/>
                </a:solidFill>
                <a:latin typeface="Times New Roman"/>
              </a:rPr>
              <a:t>04:3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1938240" y="6453360"/>
            <a:ext cx="526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372080" y="6453360"/>
            <a:ext cx="119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3BAD8-7493-4800-AFBE-653E07B3103C}" type="slidenum">
              <a:rPr b="0" lang="ru-RU" sz="1000" spc="-1" strike="noStrike">
                <a:solidFill>
                  <a:srgbClr val="efede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ECD3E-02E7-4790-A555-FC9E05E6F23B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8FC77A9E-FAE4-4011-98A0-1545AA6CAADF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4:3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8138C-496C-432B-9B0D-3D48B8223E67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6A788-C69E-4D16-A8A3-A7F3FBE03F95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9AAA5F14-3C04-4BD6-A2C8-51F4968B3ECA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4:3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8015A6-0610-4191-A77D-D4AD06FD7238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D41F3-2E6B-464A-8FCD-7F964FD8E0FD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E2BB17AD-BF92-43F7-89DE-69BB938490A2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4:3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58D5A-1551-4E66-8C32-8AAD4250307E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B7483-5C56-4988-807D-D754ED8F2BF1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4CBB4E87-0A69-449C-AA05-73E799B23FD7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4:3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4F109-D09A-4863-8210-3C28385423E5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0"/>
            <a:ext cx="397836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54252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A5A14-1B3D-4AEE-96C7-1CEE9CD14C65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203B875D-237E-4F13-9E49-9B74519E68B4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4:3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1654200" y="6453360"/>
            <a:ext cx="1781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7411680" y="6453360"/>
            <a:ext cx="1197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2CAC1-8E23-469C-A596-0F7E4A722E14}" type="slidenum">
              <a:rPr b="0" lang="ru-RU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Rectangle 1" descr=""/>
          <p:cNvPicPr/>
          <p:nvPr/>
        </p:nvPicPr>
        <p:blipFill>
          <a:blip r:embed="rId1"/>
          <a:stretch/>
        </p:blipFill>
        <p:spPr>
          <a:xfrm>
            <a:off x="1116000" y="2481120"/>
            <a:ext cx="7216920" cy="343224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-2219760" y="6165720"/>
            <a:ext cx="6705720" cy="9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Подготовила: Семочкина А.С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-1440" y="6049800"/>
            <a:ext cx="226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108000" y="115920"/>
            <a:ext cx="89596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ворды, кроссворды в картинках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250920" y="1773360"/>
          <a:ext cx="7219800" cy="4206600"/>
        </p:xfrm>
        <a:graphic>
          <a:graphicData uri="http://schemas.openxmlformats.org/drawingml/2006/table">
            <a:tbl>
              <a:tblPr/>
              <a:tblGrid>
                <a:gridCol w="361800"/>
                <a:gridCol w="362160"/>
                <a:gridCol w="361800"/>
                <a:gridCol w="361800"/>
                <a:gridCol w="362160"/>
                <a:gridCol w="361800"/>
                <a:gridCol w="362160"/>
                <a:gridCol w="361800"/>
                <a:gridCol w="361800"/>
                <a:gridCol w="362160"/>
                <a:gridCol w="361800"/>
                <a:gridCol w="3238560"/>
              </a:tblGrid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12">
                  <a:txBody>
                    <a:bodyPr lIns="68760" rIns="68760" tIns="0" bIns="0" anchor="t">
                      <a:noAutofit/>
                    </a:bodyPr>
                    <a:p>
                      <a:pPr marL="201600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250920" y="1773360"/>
          <a:ext cx="7219800" cy="4206600"/>
        </p:xfrm>
        <a:graphic>
          <a:graphicData uri="http://schemas.openxmlformats.org/drawingml/2006/table">
            <a:tbl>
              <a:tblPr/>
              <a:tblGrid>
                <a:gridCol w="361800"/>
                <a:gridCol w="362160"/>
                <a:gridCol w="361800"/>
                <a:gridCol w="361800"/>
                <a:gridCol w="362160"/>
                <a:gridCol w="361800"/>
                <a:gridCol w="362160"/>
                <a:gridCol w="361800"/>
                <a:gridCol w="361800"/>
                <a:gridCol w="362160"/>
                <a:gridCol w="361800"/>
                <a:gridCol w="3238560"/>
              </a:tblGrid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12">
                  <a:txBody>
                    <a:bodyPr lIns="68760" rIns="68760" tIns="0" bIns="0" anchor="t">
                      <a:noAutofit/>
                    </a:bodyPr>
                    <a:p>
                      <a:pPr marL="201600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201600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смотри, силач како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201600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 ходу одной рук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201600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танавливать прив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201600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ятитонный грузов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05" name="Рисунок 3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609560" cy="21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31708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аски и интерактивные раскраски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607" name="Рисунок 7" descr=""/>
          <p:cNvPicPr/>
          <p:nvPr/>
        </p:nvPicPr>
        <p:blipFill>
          <a:blip r:embed="rId1"/>
          <a:stretch/>
        </p:blipFill>
        <p:spPr>
          <a:xfrm>
            <a:off x="1042920" y="1316160"/>
            <a:ext cx="4681440" cy="2639880"/>
          </a:xfrm>
          <a:prstGeom prst="rect">
            <a:avLst/>
          </a:prstGeom>
          <a:ln w="0">
            <a:noFill/>
          </a:ln>
        </p:spPr>
      </p:pic>
      <p:pic>
        <p:nvPicPr>
          <p:cNvPr id="608" name="Рисунок 6" descr=""/>
          <p:cNvPicPr/>
          <p:nvPr/>
        </p:nvPicPr>
        <p:blipFill>
          <a:blip r:embed="rId2"/>
          <a:stretch/>
        </p:blipFill>
        <p:spPr>
          <a:xfrm>
            <a:off x="4284720" y="4038480"/>
            <a:ext cx="3610080" cy="258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 программы и игры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610" name="Рисунок 2" descr=""/>
          <p:cNvPicPr/>
          <p:nvPr/>
        </p:nvPicPr>
        <p:blipFill>
          <a:blip r:embed="rId1"/>
          <a:stretch/>
        </p:blipFill>
        <p:spPr>
          <a:xfrm>
            <a:off x="6176880" y="3860640"/>
            <a:ext cx="2705040" cy="26640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" descr="Дракоша и правила дорожного движения"/>
          <p:cNvPicPr/>
          <p:nvPr/>
        </p:nvPicPr>
        <p:blipFill>
          <a:blip r:embed="rId2"/>
          <a:stretch/>
        </p:blipFill>
        <p:spPr>
          <a:xfrm>
            <a:off x="3219480" y="2349360"/>
            <a:ext cx="2705040" cy="27590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4" descr="Правила дорожного движения для детей 2009 "/>
          <p:cNvPicPr/>
          <p:nvPr/>
        </p:nvPicPr>
        <p:blipFill>
          <a:blip r:embed="rId3"/>
          <a:stretch/>
        </p:blipFill>
        <p:spPr>
          <a:xfrm>
            <a:off x="684360" y="76500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028880" y="2286000"/>
            <a:ext cx="33350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893840" y="2286000"/>
            <a:ext cx="333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616" name="Picture 2" descr="http://images.myshared.ru/33/1327224/slide_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191b0e"/>
                </a:solidFill>
                <a:latin typeface="Franklin Gothic Book"/>
              </a:rPr>
              <a:t>Роль ДОУ в профилактике ДТП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08040" y="1557000"/>
            <a:ext cx="496872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91b0e"/>
                </a:solidFill>
                <a:latin typeface="Franklin Gothic Book"/>
              </a:rPr>
              <a:t>Безопасность дорожного движения и профилактика дорожно-транспортного травматизма – проблема всего общества. Поэтому знакомить детей с правилами дорожного движения, формировать у них навыки правильного поведения на проезжей части необходимо с самого раннего возраста.</a:t>
            </a: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07680" y="5200560"/>
            <a:ext cx="74199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Franklin Gothic Demi Cond"/>
              </a:rPr>
              <a:t>Знания, полученные в детстве, наиболее прочные.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Franklin Gothic Demi Cond"/>
              </a:rPr>
              <a:t>Правила, усвоенные ребенком, впоследствии становятся нормой поведения, а их соблюдение – потребностью человека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577" name="Рисунок 16" descr=""/>
          <p:cNvPicPr/>
          <p:nvPr/>
        </p:nvPicPr>
        <p:blipFill>
          <a:blip r:embed="rId1"/>
          <a:stretch/>
        </p:blipFill>
        <p:spPr>
          <a:xfrm>
            <a:off x="5867280" y="2765520"/>
            <a:ext cx="2668680" cy="2435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191b0e"/>
                </a:solidFill>
                <a:latin typeface="Franklin Gothic Book"/>
              </a:rPr>
              <a:t>Роль ДОУ в профилактике ДТП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826920" y="836280"/>
            <a:ext cx="81439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Franklin Gothic Demi Cond"/>
              </a:rPr>
              <a:t>Главная цель воспитательной работы по обучению детей основам безопасности дорожного движения должна заключаться в формировании у них необходимых умений и навыков, выработке положительных, устойчивых привычек безопасного поведения на улице, проезжей части и т.д.</a:t>
            </a:r>
            <a:endParaRPr b="0" lang="en-US" sz="25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837720" y="3987720"/>
            <a:ext cx="8055000" cy="26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0000"/>
              </a:lnSpc>
              <a:spcAft>
                <a:spcPts val="201"/>
              </a:spcAft>
              <a:buClr>
                <a:srgbClr val="00206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Franklin Gothic Demi Cond"/>
              </a:rPr>
              <a:t>обучающий материал должен соответствовать возрасту и интересам ребёнка</a:t>
            </a:r>
            <a:endParaRPr b="0" lang="en-US" sz="25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 algn="just">
              <a:lnSpc>
                <a:spcPct val="90000"/>
              </a:lnSpc>
              <a:spcAft>
                <a:spcPts val="201"/>
              </a:spcAft>
              <a:buClr>
                <a:srgbClr val="00206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Franklin Gothic Demi Cond"/>
              </a:rPr>
              <a:t>правила должны подаваться в доступной форме</a:t>
            </a:r>
            <a:endParaRPr b="0" lang="en-US" sz="25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 algn="just">
              <a:lnSpc>
                <a:spcPct val="90000"/>
              </a:lnSpc>
              <a:spcAft>
                <a:spcPts val="201"/>
              </a:spcAft>
              <a:buClr>
                <a:srgbClr val="00206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Franklin Gothic Demi Cond"/>
              </a:rPr>
              <a:t>обучение нужно проводить по принципу «от простого к сложному»</a:t>
            </a:r>
            <a:endParaRPr b="0" lang="en-US" sz="25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905040" y="3106800"/>
            <a:ext cx="7921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Franklin Gothic Demi Cond"/>
              </a:rPr>
              <a:t>Начиная знакомить малыша с правилами дорожного движения, рекомендуется учитывать следующее:</a:t>
            </a:r>
            <a:endParaRPr b="0" lang="en-US" sz="25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Franklin Gothic Book"/>
              </a:rPr>
              <a:t>Основные умения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68000" y="784080"/>
            <a:ext cx="8567640" cy="566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c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Franklin Gothic Demi Cond"/>
              </a:rPr>
              <a:t>Основные умения, развиваемые у детей, с учетом их психофизических особенностей в дошкольном возрасте:</a:t>
            </a: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умение вовремя замечать опасные места, приближающийся транспорт;</a:t>
            </a:r>
            <a:endParaRPr b="0" i="1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умение различать величину транспорта;</a:t>
            </a:r>
            <a:endParaRPr b="0" i="1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умение определять расстояние до приближающегося транспорта;</a:t>
            </a:r>
            <a:endParaRPr b="0" i="1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знание сигналов светофора, символов на дорожных знаках и их значение;</a:t>
            </a:r>
            <a:endParaRPr b="0" i="1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понимание особенностей движения транспорта; того, что он не может мгновенно остановиться, увидев на своем пути пешехода (ребенка);</a:t>
            </a:r>
            <a:endParaRPr b="0" i="1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понимание потенциальной опасности транспорта; того, что на проезжей части могут быть аварии с гибелью и ранениями людей.</a:t>
            </a:r>
            <a:endParaRPr b="0" i="1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23640" y="1752120"/>
            <a:ext cx="856908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586" name="Picture 2" descr="https://presentacii.ru/documents_4/d59d74623ea0aaa9bec929119c83e2c0/img3.jpg"/>
          <p:cNvPicPr/>
          <p:nvPr/>
        </p:nvPicPr>
        <p:blipFill>
          <a:blip r:embed="rId1"/>
          <a:stretch/>
        </p:blipFill>
        <p:spPr>
          <a:xfrm>
            <a:off x="1332000" y="115920"/>
            <a:ext cx="7056360" cy="6269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23640" y="1752120"/>
            <a:ext cx="856908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89" name="Прямоугольник 3"/>
          <p:cNvSpPr/>
          <p:nvPr/>
        </p:nvSpPr>
        <p:spPr>
          <a:xfrm>
            <a:off x="8748720" y="0"/>
            <a:ext cx="3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Demi Cond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90" name="Picture 2" descr="https://fs00.infourok.ru/images/doc/183/209611/img9.jpg"/>
          <p:cNvPicPr/>
          <p:nvPr/>
        </p:nvPicPr>
        <p:blipFill>
          <a:blip r:embed="rId1"/>
          <a:stretch/>
        </p:blipFill>
        <p:spPr>
          <a:xfrm>
            <a:off x="-270000" y="-243000"/>
            <a:ext cx="9468000" cy="71010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http://itd1.mycdn.me/image?id=851934671180&amp;t=20&amp;plc=WEB&amp;tkn=*86Lgsoq02kzJMIdg_rK3zxUA6us"/>
          <p:cNvPicPr/>
          <p:nvPr/>
        </p:nvPicPr>
        <p:blipFill>
          <a:blip r:embed="rId2"/>
          <a:stretch/>
        </p:blipFill>
        <p:spPr>
          <a:xfrm>
            <a:off x="7089840" y="5370480"/>
            <a:ext cx="11206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16000" y="28908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формы обучения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93" name="Прямоугольник 4"/>
          <p:cNvSpPr/>
          <p:nvPr/>
        </p:nvSpPr>
        <p:spPr>
          <a:xfrm>
            <a:off x="666720" y="4508640"/>
            <a:ext cx="815328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Franklin Gothic Demi Cond"/>
              </a:rPr>
              <a:t>«Скажи мне, и я забуду. Покажи мне, и, может быть, я запомню. Но вовлеки меня, и я пойму».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Franklin Gothic Demi Cond"/>
              </a:rPr>
              <a:t>Китайская пословица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4" name="Прямоугольник 2"/>
          <p:cNvSpPr/>
          <p:nvPr/>
        </p:nvSpPr>
        <p:spPr>
          <a:xfrm>
            <a:off x="684360" y="1052640"/>
            <a:ext cx="824364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С каждым годом в нашу жизнь все плотнее входят современные информационно-коммуникационные технологии. 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И в системе дошкольного образования в последнее время появляется возможность наряду с традиционными формами работы использовать информационные технологии: мультимедийные презентации, обучающие мультфильмы, развивающие дидактические игры, восприятие художественно – музыкального слова, разгадывание ребусов и кроссвордов, компьютерные игры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Рисунок 9" descr=""/>
          <p:cNvPicPr/>
          <p:nvPr/>
        </p:nvPicPr>
        <p:blipFill>
          <a:blip r:embed="rId1"/>
          <a:stretch/>
        </p:blipFill>
        <p:spPr>
          <a:xfrm>
            <a:off x="2268360" y="4581360"/>
            <a:ext cx="4175280" cy="1905120"/>
          </a:xfrm>
          <a:prstGeom prst="rect">
            <a:avLst/>
          </a:prstGeom>
          <a:ln w="0">
            <a:noFill/>
          </a:ln>
        </p:spPr>
      </p:pic>
      <p:pic>
        <p:nvPicPr>
          <p:cNvPr id="596" name="Рисунок 6" descr=""/>
          <p:cNvPicPr/>
          <p:nvPr/>
        </p:nvPicPr>
        <p:blipFill>
          <a:blip r:embed="rId2"/>
          <a:stretch/>
        </p:blipFill>
        <p:spPr>
          <a:xfrm>
            <a:off x="4890960" y="2201760"/>
            <a:ext cx="3881520" cy="199404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 мультфильмы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598" name="Рисунок 7" descr=""/>
          <p:cNvPicPr/>
          <p:nvPr/>
        </p:nvPicPr>
        <p:blipFill>
          <a:blip r:embed="rId3"/>
          <a:stretch/>
        </p:blipFill>
        <p:spPr>
          <a:xfrm>
            <a:off x="324000" y="2201760"/>
            <a:ext cx="3887640" cy="20368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" descr="http://itd1.mycdn.me/image?id=851934671180&amp;t=20&amp;plc=WEB&amp;tkn=*86Lgsoq02kzJMIdg_rK3zxUA6us"/>
          <p:cNvPicPr/>
          <p:nvPr/>
        </p:nvPicPr>
        <p:blipFill>
          <a:blip r:embed="rId4"/>
          <a:stretch/>
        </p:blipFill>
        <p:spPr>
          <a:xfrm>
            <a:off x="7523280" y="4913280"/>
            <a:ext cx="1120680" cy="124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-1440" y="-147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усы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601" name="Рисунок 4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8853480" cy="518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3T20:07:09Z</dcterms:created>
  <dc:creator/>
  <dc:description/>
  <dc:language>en-US</dc:language>
  <cp:lastModifiedBy/>
  <dcterms:modified xsi:type="dcterms:W3CDTF">2023-06-30T15:42:46Z</dcterms:modified>
  <cp:revision>2</cp:revision>
  <dc:subject/>
  <dc:title>Современные формы и методы работы  с детьми дошкольного возраста  в образовательной деятельности  «Социально – коммуникативное развитие»  по правилам дорожного движ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1700000000000102a0010207f7000400038000</vt:lpwstr>
  </property>
</Properties>
</file>