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19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4.png" ContentType="image/png"/>
  <Override PartName="/ppt/media/image21.gif" ContentType="image/gif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22.gif" ContentType="image/gif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97ED-73DB-4B79-A1A6-A467E59A4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A134-13F8-4D94-8865-05D1498D3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12E0-4C9D-4EAD-A9D0-50F9D2B00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663A-E8E9-494C-8729-B8F235D21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49A5-2952-46F0-8DE2-81AF12A2A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BADC-0ACD-49E8-ADA0-23BA1B74E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826D-5516-48E5-B4D1-A7B1BC625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D0C6-0330-4C6C-B2CE-068C5448B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8353-D59A-461B-BE44-594E15CED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1060-E5A7-48B7-B0EC-73BC8CD69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CDAB-9BE5-460E-AB18-E329C7029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50B3-0033-4AB1-81CA-3AB3A8947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6916E-98B4-4DFB-8CD4-8DD6862AF582}" type="slidenum">
              <a:rPr b="1" lang="ru-RU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gif"/><Relationship Id="rId3" Type="http://schemas.openxmlformats.org/officeDocument/2006/relationships/image" Target="../media/image22.gif"/><Relationship Id="rId4" Type="http://schemas.openxmlformats.org/officeDocument/2006/relationships/image" Target="../media/image23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image" Target="../media/image23.png"/><Relationship Id="rId8" Type="http://schemas.openxmlformats.org/officeDocument/2006/relationships/image" Target="../media/image23.png"/><Relationship Id="rId9" Type="http://schemas.openxmlformats.org/officeDocument/2006/relationships/image" Target="../media/image23.pn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1916280"/>
            <a:ext cx="7988400" cy="23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ка урока технологии 5 класс по теме «Чертёж, эскиз, технический рисунок»</a:t>
            </a:r>
            <a:br>
              <a:rPr sz="32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о требованиям ФГОС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Group 6"/>
          <p:cNvGrpSpPr/>
          <p:nvPr/>
        </p:nvGrpSpPr>
        <p:grpSpPr>
          <a:xfrm>
            <a:off x="2411280" y="980640"/>
            <a:ext cx="1368720" cy="792720"/>
            <a:chOff x="2411280" y="980640"/>
            <a:chExt cx="1368720" cy="792720"/>
          </a:xfrm>
        </p:grpSpPr>
        <p:sp>
          <p:nvSpPr>
            <p:cNvPr id="73" name="Line 4"/>
            <p:cNvSpPr/>
            <p:nvPr/>
          </p:nvSpPr>
          <p:spPr>
            <a:xfrm>
              <a:off x="2411280" y="1773360"/>
              <a:ext cx="136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Line 5"/>
            <p:cNvSpPr/>
            <p:nvPr/>
          </p:nvSpPr>
          <p:spPr>
            <a:xfrm flipV="1">
              <a:off x="3059280" y="980640"/>
              <a:ext cx="0" cy="792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Group 12"/>
          <p:cNvGrpSpPr/>
          <p:nvPr/>
        </p:nvGrpSpPr>
        <p:grpSpPr>
          <a:xfrm>
            <a:off x="2556000" y="2852280"/>
            <a:ext cx="1368360" cy="935280"/>
            <a:chOff x="2556000" y="2852280"/>
            <a:chExt cx="1368360" cy="935280"/>
          </a:xfrm>
        </p:grpSpPr>
        <p:sp>
          <p:nvSpPr>
            <p:cNvPr id="76" name="Line 7"/>
            <p:cNvSpPr/>
            <p:nvPr/>
          </p:nvSpPr>
          <p:spPr>
            <a:xfrm>
              <a:off x="2556000" y="3787560"/>
              <a:ext cx="1368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8"/>
            <p:cNvSpPr/>
            <p:nvPr/>
          </p:nvSpPr>
          <p:spPr>
            <a:xfrm flipV="1">
              <a:off x="2556000" y="2852280"/>
              <a:ext cx="0" cy="93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Arc 10"/>
            <p:cNvSpPr/>
            <p:nvPr/>
          </p:nvSpPr>
          <p:spPr>
            <a:xfrm>
              <a:off x="2556000" y="3284280"/>
              <a:ext cx="505080" cy="5032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 Box 11"/>
            <p:cNvSpPr/>
            <p:nvPr/>
          </p:nvSpPr>
          <p:spPr>
            <a:xfrm>
              <a:off x="2977920" y="3014640"/>
              <a:ext cx="61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90</a:t>
              </a:r>
              <a:r>
                <a:rPr b="1" lang="ru-RU" sz="24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Text Box 13"/>
          <p:cNvSpPr/>
          <p:nvPr/>
        </p:nvSpPr>
        <p:spPr>
          <a:xfrm>
            <a:off x="3785040" y="1052640"/>
            <a:ext cx="465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ерпендикуляр к прямой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4"/>
          <p:cNvSpPr/>
          <p:nvPr/>
        </p:nvSpPr>
        <p:spPr>
          <a:xfrm>
            <a:off x="4072320" y="2852640"/>
            <a:ext cx="244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ямой уго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Group 15"/>
          <p:cNvGrpSpPr/>
          <p:nvPr/>
        </p:nvGrpSpPr>
        <p:grpSpPr>
          <a:xfrm>
            <a:off x="1045080" y="5300640"/>
            <a:ext cx="4577040" cy="532440"/>
            <a:chOff x="1045080" y="5300640"/>
            <a:chExt cx="4577040" cy="532440"/>
          </a:xfrm>
        </p:grpSpPr>
        <p:sp>
          <p:nvSpPr>
            <p:cNvPr id="83" name="Line 16"/>
            <p:cNvSpPr/>
            <p:nvPr/>
          </p:nvSpPr>
          <p:spPr>
            <a:xfrm>
              <a:off x="1187640" y="5805360"/>
              <a:ext cx="431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xt Box 17"/>
            <p:cNvSpPr/>
            <p:nvPr/>
          </p:nvSpPr>
          <p:spPr>
            <a:xfrm>
              <a:off x="1045080" y="53006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18"/>
            <p:cNvSpPr/>
            <p:nvPr/>
          </p:nvSpPr>
          <p:spPr>
            <a:xfrm>
              <a:off x="5221800" y="53733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Text Box 19"/>
          <p:cNvSpPr/>
          <p:nvPr/>
        </p:nvSpPr>
        <p:spPr>
          <a:xfrm>
            <a:off x="1982880" y="4724280"/>
            <a:ext cx="232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трезок АВ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Calibri Light"/>
              </a:rPr>
              <a:t>Эскиз: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2268360" y="1700640"/>
            <a:ext cx="55882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Эскиз это предварительный набросок, фиксирующий замысел художественного произведения, сооружения, механизма, модели и др. без применения чертёжных инструментов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5" descr="RU_CO1_&amp;Ncy;&amp;Acy;&amp;SHcy;&amp;Icy; &amp;Ecy;&amp;Scy;&amp;Kcy;&amp;Icy;&amp;Zcy;&amp;Ycy;"/>
          <p:cNvPicPr/>
          <p:nvPr/>
        </p:nvPicPr>
        <p:blipFill>
          <a:blip r:embed="rId1"/>
          <a:stretch/>
        </p:blipFill>
        <p:spPr>
          <a:xfrm>
            <a:off x="4140360" y="620640"/>
            <a:ext cx="2293920" cy="25923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RU_CO1_&amp;Ncy;&amp;Acy;&amp;SHcy;&amp;Icy; &amp;Ecy;&amp;Scy;&amp;Kcy;&amp;Icy;&amp;Zcy;&amp;Ycy;"/>
          <p:cNvPicPr/>
          <p:nvPr/>
        </p:nvPicPr>
        <p:blipFill>
          <a:blip r:embed="rId2"/>
          <a:stretch/>
        </p:blipFill>
        <p:spPr>
          <a:xfrm>
            <a:off x="6732720" y="476280"/>
            <a:ext cx="1806480" cy="27367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9" descr="&amp;Scy;&amp;tcy;&amp;icy;&amp;lcy;&amp;icy; &amp;ocy;&amp;fcy;&amp;ocy;&amp;rcy;&amp;mcy;&amp;lcy;&amp;iecy;&amp;ncy;&amp;icy;&amp;yacy; &amp;ocy;&amp;kcy;&amp;ocy;&amp;ncy; &amp;SHcy;&amp;tcy;&amp;ocy;&amp;rcy;&amp;ycy; &amp;vcy; &amp;kcy;&amp;lcy;&amp;acy;&amp;scy;&amp;scy;&amp;icy;&amp;chcy;&amp;iecy;&amp;scy;&amp;kcy;&amp;ocy;&amp;mcy; &amp;scy;&amp;tcy;&amp;icy;&amp;lcy;&amp;iecy;"/>
          <p:cNvPicPr/>
          <p:nvPr/>
        </p:nvPicPr>
        <p:blipFill>
          <a:blip r:embed="rId3"/>
          <a:stretch/>
        </p:blipFill>
        <p:spPr>
          <a:xfrm>
            <a:off x="1116000" y="2924280"/>
            <a:ext cx="2102040" cy="27367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&amp;Ecy;&amp;scy;&amp;kcy;&amp;icy;&amp;zcy; &amp;shcy;&amp;tcy;&amp;ocy;&amp;rcy;&amp;ycy; - &amp;SHcy;&amp;tcy;&amp;ocy;&amp;rcy;&amp;ycy;"/>
          <p:cNvPicPr/>
          <p:nvPr/>
        </p:nvPicPr>
        <p:blipFill>
          <a:blip r:embed="rId4"/>
          <a:stretch/>
        </p:blipFill>
        <p:spPr>
          <a:xfrm>
            <a:off x="3635280" y="3357720"/>
            <a:ext cx="3673440" cy="2601720"/>
          </a:xfrm>
          <a:prstGeom prst="rect">
            <a:avLst/>
          </a:prstGeom>
          <a:ln w="0">
            <a:noFill/>
          </a:ln>
        </p:spPr>
      </p:pic>
      <p:sp>
        <p:nvSpPr>
          <p:cNvPr id="93" name="Text Box 12"/>
          <p:cNvSpPr/>
          <p:nvPr/>
        </p:nvSpPr>
        <p:spPr>
          <a:xfrm>
            <a:off x="1552680" y="692280"/>
            <a:ext cx="2466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скиз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формлени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кна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5" descr="&amp;Kcy;&amp;ucy;&amp;rcy;&amp;scy;&amp;ycy; &amp;dcy;&amp;icy;&amp;zcy;&amp;acy;&amp;jcy;&amp;ncy;&amp;acy;, &amp;kcy;&amp;ucy;&amp;pcy;&amp;icy;&amp;tcy;&amp;softcy; &amp;vcy; &amp;KHcy;&amp;acy;&amp;rcy;&amp;softcy;&amp;kcy;&amp;ocy;&amp;vcy;&amp;iecy; &amp;icy; &amp;KHcy;&amp;acy;&amp;rcy;&amp;softcy;&amp;kcy;&amp;ocy;&amp;vcy;&amp;scy;&amp;kcy;&amp;ocy;&amp;jcy; &amp;ocy;&amp;bcy;&amp;lcy;&amp;acy;&amp;scy;&amp;tcy;&amp;icy;, &amp;tscy;&amp;iecy;&amp;ncy;&amp;ucy; &amp;ucy;&amp;tcy;&amp;ocy;&amp;chcy;&amp;ncy;&amp;yacy;&amp;jcy;&amp;tcy;&amp;iecy; - ukrfirm.ru (346444218)"/>
          <p:cNvPicPr/>
          <p:nvPr/>
        </p:nvPicPr>
        <p:blipFill>
          <a:blip r:embed="rId1"/>
          <a:stretch/>
        </p:blipFill>
        <p:spPr>
          <a:xfrm>
            <a:off x="4643280" y="620640"/>
            <a:ext cx="3732480" cy="29386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9" descr="&amp;Dcy;&amp;icy;&amp;zcy;&amp;acy;&amp;jcy;&amp;ncy;&amp;acy; &amp;icy;&amp;ncy;&amp;tcy;&amp;iecy;&amp;rcy;&amp;softcy;&amp;iecy;&amp;rcy;&amp;ocy;&amp;vcy; - &amp;acy;&amp;kcy;&amp;vcy;&amp;acy;&amp;rcy;&amp;iecy;&amp;lcy;&amp;softcy;&amp;ncy;&amp;acy;&amp;yacy; &amp;gcy;&amp;rcy;&amp;acy;&amp;fcy;&amp;icy;&amp;kcy;&amp;acy;"/>
          <p:cNvPicPr/>
          <p:nvPr/>
        </p:nvPicPr>
        <p:blipFill>
          <a:blip r:embed="rId2"/>
          <a:stretch/>
        </p:blipFill>
        <p:spPr>
          <a:xfrm>
            <a:off x="4356000" y="3716280"/>
            <a:ext cx="3311640" cy="2428920"/>
          </a:xfrm>
          <a:prstGeom prst="rect">
            <a:avLst/>
          </a:prstGeom>
          <a:ln w="0">
            <a:noFill/>
          </a:ln>
        </p:spPr>
      </p:pic>
      <p:sp>
        <p:nvSpPr>
          <p:cNvPr id="96" name="Text Box 10"/>
          <p:cNvSpPr/>
          <p:nvPr/>
        </p:nvSpPr>
        <p:spPr>
          <a:xfrm>
            <a:off x="1549800" y="765000"/>
            <a:ext cx="3056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скизы дизайн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нтерьер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вартир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2" descr="&amp;Dcy;&amp;icy;&amp;zcy;&amp;acy;&amp;jcy;&amp;ncy; &amp;pcy;&amp;rcy;&amp;ocy;&amp;iecy;&amp;kcy;&amp;tcy;&amp;ycy; &amp;Rcy;&amp;iecy;&amp;mcy;&amp;ocy;&amp;ncy;&amp;tcy;&amp;ncy;&amp;ocy;-&amp;scy;&amp;tcy;&amp;rcy;&amp;ocy;&amp;icy;&amp;tcy;&amp;iecy;&amp;lcy;&amp;softcy;&amp;ncy;&amp;acy;&amp;yacy; &amp;kcy;&amp;ocy;&amp;mcy;&amp;pcy;&amp;acy;&amp;ncy;&amp;icy;&amp;yacy;"/>
          <p:cNvPicPr/>
          <p:nvPr/>
        </p:nvPicPr>
        <p:blipFill>
          <a:blip r:embed="rId3"/>
          <a:stretch/>
        </p:blipFill>
        <p:spPr>
          <a:xfrm>
            <a:off x="900000" y="3357720"/>
            <a:ext cx="3095640" cy="27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5" descr="&amp;Pcy;&amp;lcy;&amp;acy;&amp;tcy;&amp;softcy;&amp;iecy; &amp;Ecy;&amp;scy;&amp;kcy;&amp;icy;&amp;zcy; :: internet-catalog"/>
          <p:cNvPicPr/>
          <p:nvPr/>
        </p:nvPicPr>
        <p:blipFill>
          <a:blip r:embed="rId1"/>
          <a:stretch/>
        </p:blipFill>
        <p:spPr>
          <a:xfrm>
            <a:off x="5580000" y="549360"/>
            <a:ext cx="2730600" cy="3456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&amp;Ecy;&amp;scy;&amp;kcy;&amp;icy;&amp;zcy;&amp;ycy; &amp;pcy;&amp;lcy;&amp;acy;&amp;tcy;&amp;softcy;&amp;iecy;&amp;vcy;! - &amp;bcy;&amp;lcy;&amp;ocy;&amp;gcy;&amp;icy; &amp;Vcy; &amp;Gcy;&amp;Ocy;&amp;Rcy;&amp;Ocy;&amp;Dcy;&amp;IEcy;.RU"/>
          <p:cNvPicPr/>
          <p:nvPr/>
        </p:nvPicPr>
        <p:blipFill>
          <a:blip r:embed="rId2"/>
          <a:stretch/>
        </p:blipFill>
        <p:spPr>
          <a:xfrm>
            <a:off x="684360" y="2708280"/>
            <a:ext cx="1925640" cy="3600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9" descr="&amp;ecy;&amp;scy;&amp;kcy;&amp;icy;&amp;zcy;&amp;ycy; &amp;ocy;&amp;dcy;&amp;iecy;&amp;zhcy;&amp;dcy;&amp;ycy; &amp;icy;&amp;zcy;&amp;vcy;&amp;iecy;&amp;scy;&amp;tcy;&amp;ncy;&amp;ycy;&amp;khcy; &amp;dcy;&amp;icy;&amp;zcy;&amp;acy;&amp;jcy;&amp;ncy;&amp;iecy;&amp;rcy;&amp;ocy;&amp;vcy; - &amp;Scy;&amp;tcy;&amp;icy;&amp;lcy;&amp;softcy;&amp;ncy;&amp;ocy; &amp;icy; &amp;mcy;&amp;ocy;&amp;dcy;&amp;ncy;&amp;ocy;"/>
          <p:cNvPicPr/>
          <p:nvPr/>
        </p:nvPicPr>
        <p:blipFill>
          <a:blip r:embed="rId3"/>
          <a:stretch/>
        </p:blipFill>
        <p:spPr>
          <a:xfrm>
            <a:off x="3059280" y="4076640"/>
            <a:ext cx="4440240" cy="198432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10"/>
          <p:cNvSpPr/>
          <p:nvPr/>
        </p:nvSpPr>
        <p:spPr>
          <a:xfrm>
            <a:off x="2198880" y="1413000"/>
            <a:ext cx="315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скизы моделей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дежды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9528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 Light"/>
              </a:rPr>
              <a:t>Инструкционная карта: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539280" y="2707920"/>
            <a:ext cx="7380360" cy="30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Инструкционная карта это вид технической документации, применяемый при изготовлении изделия и включающий в себя подробное поэтапное описание порядка выполнения операций, эскизы деталей, перечень применяемого оборудования и технических условий на выполнение операци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32000" y="62028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 Light"/>
              </a:rPr>
              <a:t>Инструкционная карта выполнения стачного шва: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05" name="Picture 5" descr=""/>
          <p:cNvPicPr/>
          <p:nvPr/>
        </p:nvPicPr>
        <p:blipFill>
          <a:blip r:embed="rId1"/>
          <a:stretch/>
        </p:blipFill>
        <p:spPr>
          <a:xfrm>
            <a:off x="1187280" y="1955880"/>
            <a:ext cx="6553440" cy="37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5" descr="&amp;Kcy;&amp;rcy;&amp;ucy;&amp;pcy;&amp;ycy; &amp;zcy;&amp;lcy;&amp;acy;&amp;kcy;&amp;ocy;&amp;vcy;&amp;ycy;&amp;iecy;. &amp;Pcy;&amp;rcy;&amp;icy;&amp;lcy;&amp;ocy;&amp;zhcy;&amp;iecy;&amp;ncy;&amp;icy;&amp;yacy;"/>
          <p:cNvPicPr/>
          <p:nvPr/>
        </p:nvPicPr>
        <p:blipFill>
          <a:blip r:embed="rId1"/>
          <a:stretch/>
        </p:blipFill>
        <p:spPr>
          <a:xfrm>
            <a:off x="1763640" y="549360"/>
            <a:ext cx="547380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47640" y="836280"/>
            <a:ext cx="6778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Calibri Light"/>
              </a:rPr>
              <a:t>Домашнее задание: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9640" y="227664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Дома на листе формата А4 выполнить цветными карандашами эскиз оформления окна в вашей комнате и описать материалы и как дизайн соотноситься с дизайном интерьера комнаты в цело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 интернет посмотреть возможные варианты эскизов оформления окон и применяемых материалов и цветовых решени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5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66"/>
                </a:solidFill>
                <a:latin typeface="Arial"/>
              </a:rPr>
              <a:t>Рефлексия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22" descr="2783"/>
          <p:cNvPicPr/>
          <p:nvPr/>
        </p:nvPicPr>
        <p:blipFill>
          <a:blip r:embed="rId2"/>
          <a:stretch/>
        </p:blipFill>
        <p:spPr>
          <a:xfrm>
            <a:off x="3851280" y="2637000"/>
            <a:ext cx="1473120" cy="15825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9" descr="Большие смайлики"/>
          <p:cNvPicPr/>
          <p:nvPr/>
        </p:nvPicPr>
        <p:blipFill>
          <a:blip r:embed="rId3"/>
          <a:stretch/>
        </p:blipFill>
        <p:spPr>
          <a:xfrm>
            <a:off x="7885080" y="0"/>
            <a:ext cx="1006560" cy="100656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15"/>
          <p:cNvSpPr/>
          <p:nvPr/>
        </p:nvSpPr>
        <p:spPr>
          <a:xfrm>
            <a:off x="1547640" y="1862640"/>
            <a:ext cx="2448000" cy="3988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38160">
            <a:solidFill>
              <a:srgbClr val="006600"/>
            </a:solidFill>
            <a:miter/>
          </a:ln>
          <a:effectLst>
            <a:outerShdw dist="107932" dir="135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было интересно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ru-RU" sz="2000" spc="-1" strike="noStrike">
                <a:solidFill>
                  <a:srgbClr val="c05e00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6"/>
          <p:cNvSpPr/>
          <p:nvPr/>
        </p:nvSpPr>
        <p:spPr>
          <a:xfrm>
            <a:off x="5435640" y="1861200"/>
            <a:ext cx="2232000" cy="3988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38160">
            <a:solidFill>
              <a:srgbClr val="0066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было трудно…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8"/>
          <p:cNvSpPr/>
          <p:nvPr/>
        </p:nvSpPr>
        <p:spPr>
          <a:xfrm>
            <a:off x="971640" y="3302640"/>
            <a:ext cx="2087640" cy="3988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38160">
            <a:solidFill>
              <a:srgbClr val="0066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я научилась…</a:t>
            </a:r>
            <a:r>
              <a:rPr b="1" lang="ru-RU" sz="2000" spc="-1" strike="noStrike">
                <a:solidFill>
                  <a:srgbClr val="c05e00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7"/>
          <p:cNvSpPr/>
          <p:nvPr/>
        </p:nvSpPr>
        <p:spPr>
          <a:xfrm>
            <a:off x="6012000" y="3300840"/>
            <a:ext cx="2160360" cy="3988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38160">
            <a:solidFill>
              <a:srgbClr val="0066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еперь я могу…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20"/>
          <p:cNvSpPr/>
          <p:nvPr/>
        </p:nvSpPr>
        <p:spPr>
          <a:xfrm>
            <a:off x="1763640" y="5031360"/>
            <a:ext cx="2233800" cy="3988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38160">
            <a:solidFill>
              <a:srgbClr val="006600"/>
            </a:solidFill>
            <a:miter/>
          </a:ln>
          <a:effectLst>
            <a:outerShdw dist="107932" dir="135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не захотелось…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9"/>
          <p:cNvSpPr/>
          <p:nvPr/>
        </p:nvSpPr>
        <p:spPr>
          <a:xfrm>
            <a:off x="5148360" y="4959720"/>
            <a:ext cx="2160360" cy="39888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38160">
            <a:solidFill>
              <a:srgbClr val="0066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еня удивило…</a:t>
            </a:r>
            <a:r>
              <a:rPr b="0" lang="ru-RU" sz="1800" spc="-1" strike="noStrike">
                <a:solidFill>
                  <a:srgbClr val="c05e00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507160" cy="17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 Light"/>
              </a:rPr>
              <a:t>Выкройка изделия-это шаблон по которому выполняется вырезание изделия на ткани.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6" descr=""/>
          <p:cNvPicPr/>
          <p:nvPr/>
        </p:nvPicPr>
        <p:blipFill>
          <a:blip r:embed="rId1"/>
          <a:stretch/>
        </p:blipFill>
        <p:spPr>
          <a:xfrm>
            <a:off x="395280" y="1974960"/>
            <a:ext cx="805968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5"/>
          <p:cNvSpPr/>
          <p:nvPr/>
        </p:nvSpPr>
        <p:spPr>
          <a:xfrm>
            <a:off x="673200" y="490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Материалы, используемые для создания презентации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55640" y="1628280"/>
            <a:ext cx="794232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http://dizain-s.narod.ru/xz_eskiz.ht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http://kharkov.ukrfirm.ru/kursy-dizajna-pc346444218.htm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http://www.fabrikaglamura.ru/forum/t22063,1-.htm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http://stilnoimodno.ru/eskizy-odejdy-izvestnyh-dizainerov.html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http://kharkov.ukrfirm.ru/kursy-dizajna-pc346444218.ht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http://rsk21vek-ru.1gb.ru/dizayn-proekty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1258920" y="260280"/>
            <a:ext cx="3960720" cy="34434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"/>
          <p:cNvPicPr/>
          <p:nvPr/>
        </p:nvPicPr>
        <p:blipFill>
          <a:blip r:embed="rId2"/>
          <a:stretch/>
        </p:blipFill>
        <p:spPr>
          <a:xfrm>
            <a:off x="826920" y="4437000"/>
            <a:ext cx="6696360" cy="2114640"/>
          </a:xfrm>
          <a:prstGeom prst="rect">
            <a:avLst/>
          </a:prstGeom>
          <a:ln w="0">
            <a:noFill/>
          </a:ln>
        </p:spPr>
      </p:pic>
      <p:sp>
        <p:nvSpPr>
          <p:cNvPr id="46" name="Text Box 7"/>
          <p:cNvSpPr/>
          <p:nvPr/>
        </p:nvSpPr>
        <p:spPr>
          <a:xfrm>
            <a:off x="5435640" y="981000"/>
            <a:ext cx="3311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ыкройки прямой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юбки и ночной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рочки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92000" y="260280"/>
            <a:ext cx="6778440" cy="257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 Light"/>
              </a:rPr>
              <a:t>Чертёж это условно графическое отображение деталей модели изделия по размерам и  с применением чертёжных инструментов</a:t>
            </a:r>
            <a:r>
              <a:rPr b="0" i="1" lang="ru-RU" sz="2800" spc="-1" strike="noStrike">
                <a:solidFill>
                  <a:srgbClr val="000000"/>
                </a:solidFill>
                <a:latin typeface="Calibri Light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8" name="Picture 5" descr=""/>
          <p:cNvPicPr/>
          <p:nvPr/>
        </p:nvPicPr>
        <p:blipFill>
          <a:blip r:embed="rId1"/>
          <a:stretch/>
        </p:blipFill>
        <p:spPr>
          <a:xfrm>
            <a:off x="1692360" y="2852640"/>
            <a:ext cx="54720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050920" y="115560"/>
            <a:ext cx="5113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 Light"/>
              </a:rPr>
              <a:t>Чертёж фартука: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0" name="Picture 9" descr="&amp;Fcy;&amp;acy;&amp;rcy;&amp;tcy;&amp;ucy;&amp;kcy; &amp;pcy;&amp;rcy;&amp;ocy;&amp;scy;&amp;tcy;&amp;acy;&amp;yacy; &amp;vcy;&amp;ycy;&amp;kcy;&amp;rcy;&amp;ocy;&amp;jcy;&amp;kcy;&amp;acy; - &amp;Vcy;&amp;ycy;&amp;kcy;&amp;rcy;&amp;ocy;&amp;jcy;&amp;kcy;&amp;acy;"/>
          <p:cNvPicPr/>
          <p:nvPr/>
        </p:nvPicPr>
        <p:blipFill>
          <a:blip r:embed="rId1"/>
          <a:stretch/>
        </p:blipFill>
        <p:spPr>
          <a:xfrm>
            <a:off x="2484360" y="1125360"/>
            <a:ext cx="434016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6" descr="&amp;Pcy;&amp;ocy;&amp;scy;&amp;tcy;&amp;rcy;&amp;ocy;&amp;iecy;&amp;ncy;&amp;icy;&amp;iecy; &amp;chcy;&amp;iecy;&amp;rcy;&amp;tcy;&amp;iecy;&amp;zhcy;&amp;acy; &amp;yucy;&amp;bcy;&amp;kcy;&amp;icy; 6 &amp;kcy;&amp;lcy;&amp;acy;&amp;scy;&amp;scy; - &amp;Vcy;&amp;scy;&amp;iecy; &amp;ucy;&amp;chcy;&amp;iecy;&amp;bcy;&amp;ncy;&amp;icy;&amp;kcy;&amp;icy; &amp;ncy;&amp;acy; &amp;ocy;&amp;dcy;&amp;ncy;&amp;ocy;&amp;mcy; &amp;scy;&amp;acy;&amp;jcy;&amp;tcy;&amp;iecy;"/>
          <p:cNvPicPr/>
          <p:nvPr/>
        </p:nvPicPr>
        <p:blipFill>
          <a:blip r:embed="rId1"/>
          <a:stretch/>
        </p:blipFill>
        <p:spPr>
          <a:xfrm>
            <a:off x="2484360" y="1341360"/>
            <a:ext cx="4199040" cy="49672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 Light"/>
              </a:rPr>
              <a:t>Чертёж прямой юбки: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4" name="Picture 7" descr="&amp;Tcy;&amp;iecy;&amp;mcy;&amp;acy;: &amp;Pcy;&amp;ocy;&amp;scy;&amp;tcy;&amp;rcy;&amp;ocy;&amp;iecy;&amp;ncy;&amp;icy;&amp;iecy; &amp;chcy;&amp;iecy;&amp;rcy;&amp;tcy;&amp;iecy;&amp;zhcy;&amp;acy; &amp;ncy;&amp;ocy;&amp;chcy;&amp;ncy;&amp;ocy;&amp;jcy; &amp;scy;&amp;ocy;&amp;rcy;&amp;ocy;&amp;chcy;&amp;kcy;&amp;icy; &amp;mcy; 1: 4"/>
          <p:cNvPicPr/>
          <p:nvPr/>
        </p:nvPicPr>
        <p:blipFill>
          <a:blip r:embed="rId1"/>
          <a:stretch/>
        </p:blipFill>
        <p:spPr>
          <a:xfrm>
            <a:off x="1403280" y="1557360"/>
            <a:ext cx="620100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Line 4"/>
          <p:cNvSpPr/>
          <p:nvPr/>
        </p:nvSpPr>
        <p:spPr>
          <a:xfrm>
            <a:off x="2411280" y="2349360"/>
            <a:ext cx="540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Group 14"/>
          <p:cNvGrpSpPr/>
          <p:nvPr/>
        </p:nvGrpSpPr>
        <p:grpSpPr>
          <a:xfrm>
            <a:off x="1189440" y="4508640"/>
            <a:ext cx="4577040" cy="532440"/>
            <a:chOff x="1189440" y="4508640"/>
            <a:chExt cx="4577040" cy="532440"/>
          </a:xfrm>
        </p:grpSpPr>
        <p:sp>
          <p:nvSpPr>
            <p:cNvPr id="57" name="Line 9"/>
            <p:cNvSpPr/>
            <p:nvPr/>
          </p:nvSpPr>
          <p:spPr>
            <a:xfrm>
              <a:off x="1332000" y="5013360"/>
              <a:ext cx="431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Text Box 10"/>
            <p:cNvSpPr/>
            <p:nvPr/>
          </p:nvSpPr>
          <p:spPr>
            <a:xfrm>
              <a:off x="1189440" y="45086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 Box 11"/>
            <p:cNvSpPr/>
            <p:nvPr/>
          </p:nvSpPr>
          <p:spPr>
            <a:xfrm>
              <a:off x="5366160" y="45813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Text Box 12"/>
          <p:cNvSpPr/>
          <p:nvPr/>
        </p:nvSpPr>
        <p:spPr>
          <a:xfrm>
            <a:off x="2556720" y="1197000"/>
            <a:ext cx="177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ИНИЯ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3"/>
          <p:cNvSpPr/>
          <p:nvPr/>
        </p:nvSpPr>
        <p:spPr>
          <a:xfrm>
            <a:off x="1815840" y="3492360"/>
            <a:ext cx="224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ТРЕЗОК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 Light"/>
              </a:rPr>
              <a:t>Основные линии чертежа: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Line 5"/>
          <p:cNvSpPr/>
          <p:nvPr/>
        </p:nvSpPr>
        <p:spPr>
          <a:xfrm>
            <a:off x="2195640" y="2637000"/>
            <a:ext cx="460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2196360" y="1125360"/>
            <a:ext cx="159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инии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7"/>
          <p:cNvSpPr/>
          <p:nvPr/>
        </p:nvSpPr>
        <p:spPr>
          <a:xfrm>
            <a:off x="2195640" y="3573360"/>
            <a:ext cx="46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8"/>
          <p:cNvSpPr/>
          <p:nvPr/>
        </p:nvSpPr>
        <p:spPr>
          <a:xfrm>
            <a:off x="2195640" y="4508640"/>
            <a:ext cx="46800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0"/>
          <p:cNvSpPr/>
          <p:nvPr/>
        </p:nvSpPr>
        <p:spPr>
          <a:xfrm>
            <a:off x="2268360" y="5445000"/>
            <a:ext cx="468000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1"/>
          <p:cNvSpPr/>
          <p:nvPr/>
        </p:nvSpPr>
        <p:spPr>
          <a:xfrm>
            <a:off x="2176560" y="2008080"/>
            <a:ext cx="34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 Сплошная толстая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2"/>
          <p:cNvSpPr/>
          <p:nvPr/>
        </p:nvSpPr>
        <p:spPr>
          <a:xfrm>
            <a:off x="2247840" y="2943360"/>
            <a:ext cx="319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Сплошная тонка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3"/>
          <p:cNvSpPr/>
          <p:nvPr/>
        </p:nvSpPr>
        <p:spPr>
          <a:xfrm>
            <a:off x="2320200" y="3879720"/>
            <a:ext cx="223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 Штрихова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4"/>
          <p:cNvSpPr/>
          <p:nvPr/>
        </p:nvSpPr>
        <p:spPr>
          <a:xfrm>
            <a:off x="2320200" y="4816440"/>
            <a:ext cx="326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. Штрихпунктирна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0T14:00:50Z</dcterms:created>
  <dc:creator>User</dc:creator>
  <dc:description/>
  <dc:language>en-US</dc:language>
  <cp:lastModifiedBy>Хмелевка</cp:lastModifiedBy>
  <dcterms:modified xsi:type="dcterms:W3CDTF">2022-11-20T17:54:33Z</dcterms:modified>
  <cp:revision>12</cp:revision>
  <dc:subject/>
  <dc:title>Слайд 1</dc:title>
</cp:coreProperties>
</file>