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22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A6B-C6C1-494A-94C2-2006216B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BA6-3743-41B9-843B-4DCA0A64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58D-30D9-464E-A2A8-70BC37DC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96A-1F35-4B68-8512-0F27A80E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437-3DC9-4C25-A2C5-4C223451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2AE-55F0-44A1-BDD3-7BD13ABE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73D-A78E-41D0-9CFC-703334D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CE0-4455-4A75-9567-6AC9979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DC1-92B3-4BC4-A5A9-637DBF6C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A8C-30B5-40C0-82D9-C644029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02D-9145-420A-90D7-FF4A094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5E2A-3994-48FB-A444-4799AE7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D72D-3422-4392-9CDE-06B99412D660}" type="slidenum">
              <a:rPr b="1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16280"/>
            <a:ext cx="7988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урока технологии 5 класс по теме «Чертёж, эскиз, технический рисунок»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требованиям ФГОС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6"/>
          <p:cNvGrpSpPr/>
          <p:nvPr/>
        </p:nvGrpSpPr>
        <p:grpSpPr>
          <a:xfrm>
            <a:off x="2411280" y="980640"/>
            <a:ext cx="1368720" cy="792720"/>
            <a:chOff x="2411280" y="980640"/>
            <a:chExt cx="1368720" cy="792720"/>
          </a:xfrm>
        </p:grpSpPr>
        <p:sp>
          <p:nvSpPr>
            <p:cNvPr id="73" name="Line 4"/>
            <p:cNvSpPr/>
            <p:nvPr/>
          </p:nvSpPr>
          <p:spPr>
            <a:xfrm>
              <a:off x="2411280" y="177336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3059280" y="98064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2556000" y="2852280"/>
            <a:ext cx="1368360" cy="935280"/>
            <a:chOff x="2556000" y="2852280"/>
            <a:chExt cx="1368360" cy="935280"/>
          </a:xfrm>
        </p:grpSpPr>
        <p:sp>
          <p:nvSpPr>
            <p:cNvPr id="76" name="Line 7"/>
            <p:cNvSpPr/>
            <p:nvPr/>
          </p:nvSpPr>
          <p:spPr>
            <a:xfrm>
              <a:off x="2556000" y="378756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8"/>
            <p:cNvSpPr/>
            <p:nvPr/>
          </p:nvSpPr>
          <p:spPr>
            <a:xfrm flipV="1">
              <a:off x="2556000" y="285228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10"/>
            <p:cNvSpPr/>
            <p:nvPr/>
          </p:nvSpPr>
          <p:spPr>
            <a:xfrm>
              <a:off x="2556000" y="3284280"/>
              <a:ext cx="505080" cy="503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2977920" y="301464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3"/>
          <p:cNvSpPr/>
          <p:nvPr/>
        </p:nvSpPr>
        <p:spPr>
          <a:xfrm>
            <a:off x="3785040" y="1052640"/>
            <a:ext cx="46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 к прям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72320" y="285264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1045080" y="5300640"/>
            <a:ext cx="4577040" cy="532440"/>
            <a:chOff x="1045080" y="5300640"/>
            <a:chExt cx="4577040" cy="532440"/>
          </a:xfrm>
        </p:grpSpPr>
        <p:sp>
          <p:nvSpPr>
            <p:cNvPr id="83" name="Line 16"/>
            <p:cNvSpPr/>
            <p:nvPr/>
          </p:nvSpPr>
          <p:spPr>
            <a:xfrm>
              <a:off x="1187640" y="580536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1045080" y="530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8"/>
            <p:cNvSpPr/>
            <p:nvPr/>
          </p:nvSpPr>
          <p:spPr>
            <a:xfrm>
              <a:off x="5221800" y="53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9"/>
          <p:cNvSpPr/>
          <p:nvPr/>
        </p:nvSpPr>
        <p:spPr>
          <a:xfrm>
            <a:off x="1982880" y="472428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езок А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Эскиз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68360" y="1700640"/>
            <a:ext cx="558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скиз это предварительный набросок, фиксирующий замысел художественного произведения, сооружения, механизма, модели и др. без применения чертёжных инструмент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RU_CO1_&amp;Ncy;&amp;Acy;&amp;SHcy;&amp;Icy; &amp;Ecy;&amp;Scy;&amp;Kcy;&amp;Icy;&amp;Zcy;&amp;Ycy;"/>
          <p:cNvPicPr/>
          <p:nvPr/>
        </p:nvPicPr>
        <p:blipFill>
          <a:blip r:embed="rId1"/>
          <a:stretch/>
        </p:blipFill>
        <p:spPr>
          <a:xfrm>
            <a:off x="4140360" y="620640"/>
            <a:ext cx="229392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RU_CO1_&amp;Ncy;&amp;Acy;&amp;SHcy;&amp;Icy; &amp;Ecy;&amp;Scy;&amp;Kcy;&amp;Icy;&amp;Zcy;&amp;Ycy;"/>
          <p:cNvPicPr/>
          <p:nvPr/>
        </p:nvPicPr>
        <p:blipFill>
          <a:blip r:embed="rId2"/>
          <a:stretch/>
        </p:blipFill>
        <p:spPr>
          <a:xfrm>
            <a:off x="6732720" y="476280"/>
            <a:ext cx="180648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&amp;Scy;&amp;tcy;&amp;icy;&amp;lcy;&amp;icy; &amp;ocy;&amp;fcy;&amp;ocy;&amp;rcy;&amp;mcy;&amp;lcy;&amp;iecy;&amp;ncy;&amp;icy;&amp;yacy; &amp;ocy;&amp;kcy;&amp;ocy;&amp;ncy; &amp;SHcy;&amp;tcy;&amp;ocy;&amp;rcy;&amp;ycy; &amp;vcy; &amp;kcy;&amp;lcy;&amp;acy;&amp;scy;&amp;scy;&amp;icy;&amp;chcy;&amp;iecy;&amp;scy;&amp;kcy;&amp;ocy;&amp;mcy; &amp;scy;&amp;tcy;&amp;icy;&amp;lcy;&amp;iecy;"/>
          <p:cNvPicPr/>
          <p:nvPr/>
        </p:nvPicPr>
        <p:blipFill>
          <a:blip r:embed="rId3"/>
          <a:stretch/>
        </p:blipFill>
        <p:spPr>
          <a:xfrm>
            <a:off x="1116000" y="2924280"/>
            <a:ext cx="2102040" cy="273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&amp;Ecy;&amp;scy;&amp;kcy;&amp;icy;&amp;zcy; &amp;shcy;&amp;tcy;&amp;ocy;&amp;rcy;&amp;ycy; - &amp;SHcy;&amp;tcy;&amp;ocy;&amp;rcy;&amp;ycy;"/>
          <p:cNvPicPr/>
          <p:nvPr/>
        </p:nvPicPr>
        <p:blipFill>
          <a:blip r:embed="rId4"/>
          <a:stretch/>
        </p:blipFill>
        <p:spPr>
          <a:xfrm>
            <a:off x="3635280" y="3357720"/>
            <a:ext cx="3673440" cy="2601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1552680" y="692280"/>
            <a:ext cx="246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скиз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орм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&amp;Kcy;&amp;ucy;&amp;rcy;&amp;scy;&amp;ycy; &amp;dcy;&amp;icy;&amp;zcy;&amp;acy;&amp;jcy;&amp;ncy;&amp;acy;, &amp;kcy;&amp;ucy;&amp;pcy;&amp;icy;&amp;tcy;&amp;softcy; &amp;vcy; &amp;KHcy;&amp;acy;&amp;rcy;&amp;softcy;&amp;kcy;&amp;ocy;&amp;vcy;&amp;iecy; &amp;icy; &amp;KHcy;&amp;acy;&amp;rcy;&amp;softcy;&amp;kcy;&amp;ocy;&amp;vcy;&amp;scy;&amp;kcy;&amp;ocy;&amp;jcy; &amp;ocy;&amp;bcy;&amp;lcy;&amp;acy;&amp;scy;&amp;tcy;&amp;icy;, &amp;tscy;&amp;iecy;&amp;ncy;&amp;ucy; &amp;ucy;&amp;tcy;&amp;ocy;&amp;chcy;&amp;ncy;&amp;yacy;&amp;jcy;&amp;tcy;&amp;iecy; - ukrfirm.ru (346444218)"/>
          <p:cNvPicPr/>
          <p:nvPr/>
        </p:nvPicPr>
        <p:blipFill>
          <a:blip r:embed="rId1"/>
          <a:stretch/>
        </p:blipFill>
        <p:spPr>
          <a:xfrm>
            <a:off x="4643280" y="620640"/>
            <a:ext cx="3732480" cy="293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&amp;Dcy;&amp;icy;&amp;zcy;&amp;acy;&amp;jcy;&amp;ncy;&amp;acy; &amp;icy;&amp;ncy;&amp;tcy;&amp;iecy;&amp;rcy;&amp;softcy;&amp;iecy;&amp;rcy;&amp;ocy;&amp;vcy; - &amp;acy;&amp;kcy;&amp;vcy;&amp;acy;&amp;rcy;&amp;iecy;&amp;lcy;&amp;softcy;&amp;ncy;&amp;acy;&amp;yacy; &amp;gcy;&amp;rcy;&amp;acy;&amp;fcy;&amp;icy;&amp;kcy;&amp;acy;"/>
          <p:cNvPicPr/>
          <p:nvPr/>
        </p:nvPicPr>
        <p:blipFill>
          <a:blip r:embed="rId2"/>
          <a:stretch/>
        </p:blipFill>
        <p:spPr>
          <a:xfrm>
            <a:off x="4356000" y="3716280"/>
            <a:ext cx="331164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1549800" y="765000"/>
            <a:ext cx="305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скизы дизай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ье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рти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&amp;Dcy;&amp;icy;&amp;zcy;&amp;acy;&amp;jcy;&amp;ncy; &amp;pcy;&amp;rcy;&amp;ocy;&amp;iecy;&amp;kcy;&amp;tcy;&amp;ycy; &amp;Rcy;&amp;iecy;&amp;mcy;&amp;ocy;&amp;ncy;&amp;tcy;&amp;ncy;&amp;ocy;-&amp;scy;&amp;tcy;&amp;rcy;&amp;ocy;&amp;icy;&amp;tcy;&amp;iecy;&amp;lcy;&amp;softcy;&amp;ncy;&amp;acy;&amp;yacy; &amp;kcy;&amp;ocy;&amp;mcy;&amp;pcy;&amp;acy;&amp;ncy;&amp;icy;&amp;yacy;"/>
          <p:cNvPicPr/>
          <p:nvPr/>
        </p:nvPicPr>
        <p:blipFill>
          <a:blip r:embed="rId3"/>
          <a:stretch/>
        </p:blipFill>
        <p:spPr>
          <a:xfrm>
            <a:off x="900000" y="3357720"/>
            <a:ext cx="309564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&amp;Pcy;&amp;lcy;&amp;acy;&amp;tcy;&amp;softcy;&amp;iecy; &amp;Ecy;&amp;scy;&amp;kcy;&amp;icy;&amp;zcy; :: internet-catalog"/>
          <p:cNvPicPr/>
          <p:nvPr/>
        </p:nvPicPr>
        <p:blipFill>
          <a:blip r:embed="rId1"/>
          <a:stretch/>
        </p:blipFill>
        <p:spPr>
          <a:xfrm>
            <a:off x="5580000" y="549360"/>
            <a:ext cx="273060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&amp;Ecy;&amp;scy;&amp;kcy;&amp;icy;&amp;zcy;&amp;ycy; &amp;pcy;&amp;lcy;&amp;acy;&amp;tcy;&amp;softcy;&amp;iecy;&amp;vcy;! - &amp;bcy;&amp;lcy;&amp;ocy;&amp;gcy;&amp;icy; &amp;Vcy; &amp;Gcy;&amp;Ocy;&amp;Rcy;&amp;Ocy;&amp;Dcy;&amp;IEcy;.RU"/>
          <p:cNvPicPr/>
          <p:nvPr/>
        </p:nvPicPr>
        <p:blipFill>
          <a:blip r:embed="rId2"/>
          <a:stretch/>
        </p:blipFill>
        <p:spPr>
          <a:xfrm>
            <a:off x="684360" y="2708280"/>
            <a:ext cx="192564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&amp;ecy;&amp;scy;&amp;kcy;&amp;icy;&amp;zcy;&amp;ycy; &amp;ocy;&amp;dcy;&amp;iecy;&amp;zhcy;&amp;dcy;&amp;ycy; &amp;icy;&amp;zcy;&amp;vcy;&amp;iecy;&amp;scy;&amp;tcy;&amp;ncy;&amp;ycy;&amp;khcy; &amp;dcy;&amp;icy;&amp;zcy;&amp;acy;&amp;jcy;&amp;ncy;&amp;iecy;&amp;rcy;&amp;ocy;&amp;vcy; - &amp;Scy;&amp;tcy;&amp;icy;&amp;lcy;&amp;softcy;&amp;ncy;&amp;ocy; &amp;icy; &amp;mcy;&amp;ocy;&amp;dcy;&amp;ncy;&amp;ocy;"/>
          <p:cNvPicPr/>
          <p:nvPr/>
        </p:nvPicPr>
        <p:blipFill>
          <a:blip r:embed="rId3"/>
          <a:stretch/>
        </p:blipFill>
        <p:spPr>
          <a:xfrm>
            <a:off x="3059280" y="4076640"/>
            <a:ext cx="4440240" cy="1984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2198880" y="1413000"/>
            <a:ext cx="315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скизы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ежд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Инструкционная карта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2707920"/>
            <a:ext cx="73803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рукционная карта это вид технической документации, применяемый при изготовлении изделия и включающий в себя подробное поэтапное описание порядка выполнения операций, эскизы деталей, перечень применяемого оборудования и технических условий на выполнение опер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Инструкционная карта выполнения стачного шва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187280" y="1955880"/>
            <a:ext cx="6553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&amp;Kcy;&amp;rcy;&amp;ucy;&amp;pcy;&amp;ycy; &amp;zcy;&amp;lcy;&amp;acy;&amp;kcy;&amp;ocy;&amp;vcy;&amp;ycy;&amp;iecy;. &amp;Pcy;&amp;rcy;&amp;icy;&amp;lcy;&amp;ocy;&amp;zhcy;&amp;iecy;&amp;ncy;&amp;icy;&amp;yacy;"/>
          <p:cNvPicPr/>
          <p:nvPr/>
        </p:nvPicPr>
        <p:blipFill>
          <a:blip r:embed="rId1"/>
          <a:stretch/>
        </p:blipFill>
        <p:spPr>
          <a:xfrm>
            <a:off x="1763640" y="549360"/>
            <a:ext cx="5473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Домашнее задание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22766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 на листе формата А4 выполнить цветными карандашами эскиз оформления окна в вашей комнате и описать материалы и как дизайн соотноситься с дизайном интерьера комнаты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интернет посмотреть возможные варианты эскизов оформления окон и применяемых материалов и цветовых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Рефлекс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2" descr="2783"/>
          <p:cNvPicPr/>
          <p:nvPr/>
        </p:nvPicPr>
        <p:blipFill>
          <a:blip r:embed="rId2"/>
          <a:stretch/>
        </p:blipFill>
        <p:spPr>
          <a:xfrm>
            <a:off x="3851280" y="2637000"/>
            <a:ext cx="1473120" cy="158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Большие смайлики"/>
          <p:cNvPicPr/>
          <p:nvPr/>
        </p:nvPicPr>
        <p:blipFill>
          <a:blip r:embed="rId3"/>
          <a:stretch/>
        </p:blipFill>
        <p:spPr>
          <a:xfrm>
            <a:off x="7885080" y="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5"/>
          <p:cNvSpPr/>
          <p:nvPr/>
        </p:nvSpPr>
        <p:spPr>
          <a:xfrm>
            <a:off x="1547640" y="1862640"/>
            <a:ext cx="2448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о интерес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c05e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435640" y="1861200"/>
            <a:ext cx="223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971640" y="3302640"/>
            <a:ext cx="20876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научилась…</a:t>
            </a:r>
            <a:r>
              <a:rPr b="1" lang="ru-RU" sz="2000" spc="-1" strike="noStrike">
                <a:solidFill>
                  <a:srgbClr val="c05e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6012000" y="3300840"/>
            <a:ext cx="216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763640" y="5031360"/>
            <a:ext cx="223380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не захотелось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5148360" y="4959720"/>
            <a:ext cx="216036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я удивило…</a:t>
            </a:r>
            <a:r>
              <a:rPr b="0" lang="ru-RU" sz="1800" spc="-1" strike="noStrike">
                <a:solidFill>
                  <a:srgbClr val="c05e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071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Выкройка изделия-это шаблон по которому выполняется вырезание изделия на ткани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95280" y="1974960"/>
            <a:ext cx="8059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атериалы, используемые для создания презентаци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5640" y="1628280"/>
            <a:ext cx="79423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dizain-s.narod.ru/xz_eskiz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kharkov.ukrfirm.ru/kursy-dizajna-pc346444218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www.fabrikaglamura.ru/forum/t22063,1-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stilnoimodno.ru/eskizy-odejdy-izvestnyh-dizainerov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kharkov.ukrfirm.ru/kursy-dizajna-pc346444218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rsk21vek-ru.1gb.ru/dizayn-proekty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3960720" cy="344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6696360" cy="211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435640" y="981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кройки прям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бки и ночн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оч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77844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Чертёж это условно графическое отображение деталей модели изделия по размерам и  с применением чертёжных инструментов</a:t>
            </a:r>
            <a:r>
              <a:rPr b="0" i="1" lang="ru-RU" sz="28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4720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1155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Чертёж фартука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9" descr="&amp;Fcy;&amp;acy;&amp;rcy;&amp;tcy;&amp;ucy;&amp;kcy; &amp;pcy;&amp;rcy;&amp;ocy;&amp;scy;&amp;tcy;&amp;acy;&amp;yacy; &amp;vcy;&amp;ycy;&amp;kcy;&amp;rcy;&amp;ocy;&amp;jcy;&amp;kcy;&amp;acy; - &amp;Vcy;&amp;ycy;&amp;kcy;&amp;rcy;&amp;ocy;&amp;jcy;&amp;kcy;&amp;acy;"/>
          <p:cNvPicPr/>
          <p:nvPr/>
        </p:nvPicPr>
        <p:blipFill>
          <a:blip r:embed="rId1"/>
          <a:stretch/>
        </p:blipFill>
        <p:spPr>
          <a:xfrm>
            <a:off x="2484360" y="1125360"/>
            <a:ext cx="4340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&amp;Pcy;&amp;ocy;&amp;scy;&amp;tcy;&amp;rcy;&amp;ocy;&amp;iecy;&amp;ncy;&amp;icy;&amp;iecy; &amp;chcy;&amp;iecy;&amp;rcy;&amp;tcy;&amp;iecy;&amp;zhcy;&amp;acy; &amp;yucy;&amp;bcy;&amp;kcy;&amp;icy; 6 &amp;kcy;&amp;lcy;&amp;acy;&amp;scy;&amp;scy; - &amp;Vcy;&amp;scy;&amp;iecy; &amp;ucy;&amp;chcy;&amp;iecy;&amp;bcy;&amp;ncy;&amp;icy;&amp;kcy;&amp;icy; &amp;ncy;&amp;acy; &amp;ocy;&amp;dcy;&amp;ncy;&amp;ocy;&amp;mcy; &amp;scy;&amp;acy;&amp;jcy;&amp;tcy;&amp;iecy;"/>
          <p:cNvPicPr/>
          <p:nvPr/>
        </p:nvPicPr>
        <p:blipFill>
          <a:blip r:embed="rId1"/>
          <a:stretch/>
        </p:blipFill>
        <p:spPr>
          <a:xfrm>
            <a:off x="2484360" y="1341360"/>
            <a:ext cx="4199040" cy="4967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Чертёж прямой юбки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7" descr="&amp;Tcy;&amp;iecy;&amp;mcy;&amp;acy;: &amp;Pcy;&amp;ocy;&amp;scy;&amp;tcy;&amp;rcy;&amp;ocy;&amp;iecy;&amp;ncy;&amp;icy;&amp;iecy; &amp;chcy;&amp;iecy;&amp;rcy;&amp;tcy;&amp;iecy;&amp;zhcy;&amp;acy; &amp;ncy;&amp;ocy;&amp;chcy;&amp;ncy;&amp;ocy;&amp;jcy; &amp;scy;&amp;ocy;&amp;rcy;&amp;ocy;&amp;chcy;&amp;kcy;&amp;icy; &amp;mcy; 1: 4"/>
          <p:cNvPicPr/>
          <p:nvPr/>
        </p:nvPicPr>
        <p:blipFill>
          <a:blip r:embed="rId1"/>
          <a:stretch/>
        </p:blipFill>
        <p:spPr>
          <a:xfrm>
            <a:off x="1403280" y="1557360"/>
            <a:ext cx="6201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411280" y="2349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1189440" y="4508640"/>
            <a:ext cx="4577040" cy="532440"/>
            <a:chOff x="1189440" y="4508640"/>
            <a:chExt cx="4577040" cy="532440"/>
          </a:xfrm>
        </p:grpSpPr>
        <p:sp>
          <p:nvSpPr>
            <p:cNvPr id="57" name="Line 9"/>
            <p:cNvSpPr/>
            <p:nvPr/>
          </p:nvSpPr>
          <p:spPr>
            <a:xfrm>
              <a:off x="1332000" y="501336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1189440" y="450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5366160" y="458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2"/>
          <p:cNvSpPr/>
          <p:nvPr/>
        </p:nvSpPr>
        <p:spPr>
          <a:xfrm>
            <a:off x="2556720" y="1197000"/>
            <a:ext cx="17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815840" y="349236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ЕЗОК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Основные линии чертежа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195640" y="2637000"/>
            <a:ext cx="46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96360" y="112536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и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2195640" y="3573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195640" y="4508640"/>
            <a:ext cx="46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268360" y="544500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176560" y="200808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плошная толст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247840" y="294336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плошная тонк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320200" y="38797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Штрихов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320200" y="4816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Штрихпунктир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4:00:50Z</dcterms:created>
  <dc:creator>User</dc:creator>
  <dc:description/>
  <dc:language>en-US</dc:language>
  <cp:lastModifiedBy>Хмелевка</cp:lastModifiedBy>
  <dcterms:modified xsi:type="dcterms:W3CDTF">2022-11-20T17:54:33Z</dcterms:modified>
  <cp:revision>12</cp:revision>
  <dc:subject/>
  <dc:title>Слайд 1</dc:title>
</cp:coreProperties>
</file>