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2.jpeg" ContentType="image/jpeg"/>
  <Override PartName="/ppt/media/image7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5.wmf" ContentType="image/x-wmf"/>
  <Override PartName="/ppt/media/image10.png" ContentType="image/png"/>
  <Override PartName="/ppt/media/image4.wmf" ContentType="image/x-wmf"/>
  <Override PartName="/ppt/media/image13.jpeg" ContentType="image/jpeg"/>
  <Override PartName="/ppt/media/image3.wmf" ContentType="image/x-wmf"/>
  <Override PartName="/ppt/media/image15.jpeg" ContentType="image/jpeg"/>
  <Override PartName="/ppt/media/image27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1.png" ContentType="image/png"/>
  <Override PartName="/ppt/media/image20.png" ContentType="image/png"/>
  <Override PartName="/ppt/media/image16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6753-18BA-4FFF-9C1F-8A83084842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9540-BF9E-4651-975E-D6DCFAE5D6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E4C4-8116-4BC6-A1A9-8DCB0E5C99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DF9-8AF3-415B-A51B-1C1FCE53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8521-F7F5-43B4-96FA-6F890F83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3D67-457D-402E-B279-9F3AECC7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D14-0199-451E-8CD4-69B1EAF1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AA14-7BAA-4B66-9BB3-5BDE0506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CC1-0248-4A0E-BCC7-3B22C22A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21A5-460A-49AF-8CCF-4A07FBAE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C8F-7613-4A5D-9A1E-F40154CD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0D1-B9D7-4415-BA48-DC440B3B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B015-C6ED-498B-9751-DC82E77F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6EA-7514-4CD6-9F72-3A87D267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C20-78FA-474C-BE9D-3095F742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4860-89C3-4F6A-AE05-53BD677B9356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569080" cy="366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Непредельные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углеводороды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436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омерия  алкен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44546a"/>
                </a:solidFill>
                <a:latin typeface="Times New Roman"/>
              </a:rPr>
              <a:t>1) углеродного скел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CH –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C –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тен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метилпропен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44546a"/>
                </a:solidFill>
                <a:latin typeface="Times New Roman"/>
                <a:ea typeface="Times New Roman"/>
              </a:rPr>
              <a:t>2) </a:t>
            </a:r>
            <a:r>
              <a:rPr b="1" i="1" lang="ru-RU" sz="2400" spc="-1" strike="noStrike">
                <a:solidFill>
                  <a:srgbClr val="44546a"/>
                </a:solidFill>
                <a:latin typeface="Times New Roman"/>
                <a:ea typeface="Times New Roman"/>
              </a:rPr>
              <a:t>положения двойной связ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CH –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CH = CH –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тен-1                                       бутен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44546a"/>
                </a:solidFill>
                <a:latin typeface="Times New Roman"/>
              </a:rPr>
              <a:t>3) классов соединений (циклоалкан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CH –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тен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H</a:t>
            </a:r>
            <a:r>
              <a:rPr b="1" lang="en-US" sz="24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бут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44546a"/>
                </a:solidFill>
                <a:latin typeface="Times New Roman"/>
              </a:rPr>
              <a:t>4) пространственная (цис-транс-изомер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H                    H                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             /                        \              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=  C                           C  = 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        \                          /            \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     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 -                          цис 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Если одинаковые заместители находятся по одну сторону двойной связи, это цис–изомер,                       если по разные – это транс–изом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3" descr=""/>
          <p:cNvPicPr/>
          <p:nvPr/>
        </p:nvPicPr>
        <p:blipFill>
          <a:blip r:embed="rId1"/>
          <a:srcRect l="3541" t="0" r="0" b="0"/>
          <a:stretch/>
        </p:blipFill>
        <p:spPr>
          <a:xfrm>
            <a:off x="46080" y="189000"/>
            <a:ext cx="909792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4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оменклатура  алкен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4997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вание алкенов по систематической номенклатуре образуют из названий  алканов, заменяя суффикс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–а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–е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цифрой указывается номер того атома углерода, от которого начинается двойная связ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вная цепь атомов углерода должна обязательно включать двойную связь, и ее нумерацию проводят с того конца главной цепи, к которому она ближ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начале названия перечисляют радикалы с указанием номеров атомов углерода, с которыми они связаны. Если в молекуле присутствует несколько одинаковых радикалов, то цифрой указывается место каждого из них в главной цепи и перед их названием ставят соответственно приставки: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ди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три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тетра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т.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44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Химические свойства алкенов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528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) Гор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сжигании на воздухе алкены  образую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глекислый газ и в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→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) Окисление – 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</a:rPr>
              <a:t>качественная реакция на двойную связь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(растворы окислителей обесцвечиваются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23640" y="189000"/>
            <a:ext cx="8569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окислении алкенов разбавленным раствором перманганата калия  образуются двухатомные спирты – глико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еакция Е.Е.Вагне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я протекает на хол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=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2KMnO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4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→ 2MnO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KOH + 3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−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|           |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OH     O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результате реакции наблюдается обесцвечива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твора перманганата кал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44546a"/>
                </a:solidFill>
                <a:latin typeface="Times New Roman"/>
              </a:rPr>
              <a:t>Реакция Вагнера служит качественной пробой 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44546a"/>
                </a:solidFill>
                <a:latin typeface="Times New Roman"/>
              </a:rPr>
              <a:t>двойную связ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=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+  [О] + НОН  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−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этилен  -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           |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гликоль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     O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57168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) Реакции присоединения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) Присоединение галогенов 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Галогенирование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Алкены при обычных условиях присоединяют галогены, приводя к дигалогенопроизводным алканов, содержащим атомы галогена у соседних углеродных атом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 BrC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­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→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дибромэ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→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дихлорэ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веденная реакция - </a:t>
            </a:r>
            <a:r>
              <a:rPr b="1" lang="ru-RU" sz="2800" spc="-1" strike="noStrike">
                <a:solidFill>
                  <a:srgbClr val="44546a"/>
                </a:solidFill>
                <a:latin typeface="Times New Roman"/>
              </a:rPr>
              <a:t>обесцвечивание этиленом бромной воды является качественной реакцией на двойную связь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0560" y="428760"/>
            <a:ext cx="87138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Гидрирование – присоединение водород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кены легко присоединяют водород в присутствии катализаторов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 образуя предельные углеводоро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C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,k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ан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) Присоединение галогеноводородов -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Гидрогалогенирование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илен и его гомологи присоединяют  галогеноводороды, приводя к галогенопроизводным углеводород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хлорэ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6836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соединение галогеноводородов к пропилену и другим несимметричным алкенам происходит в соответствии с           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авилом В.В.Марковников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одород присоединяется к наиболее гидрогенизированному атому углерода при двойной связи, то есть к атому углерода с наибольшим числом водородных атом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l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95280" y="549360"/>
            <a:ext cx="82296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Гидратация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– присоединение 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присутствии минеральных кислот алкены присоединяют воду, образуя спирты.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 baseline="-22000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en-US" sz="2800" spc="-1" strike="noStrike" baseline="-22000">
                <a:solidFill>
                  <a:srgbClr val="000000"/>
                </a:solidFill>
                <a:latin typeface="Times New Roman"/>
              </a:rPr>
              <a:t>H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(CH</a:t>
            </a:r>
            <a:r>
              <a:rPr b="1" lang="en-US" sz="2800" spc="-1" strike="noStrike" baseline="-16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|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6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OH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видно, направление реакций гидратации определяется правилом Марковник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+  НОН  →  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  этиловый спир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(этано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Arial Black"/>
              </a:rPr>
              <a:t>Алкены </a:t>
            </a:r>
            <a:br>
              <a:rPr sz="3300"/>
            </a:br>
            <a:r>
              <a:rPr b="1" lang="ru-RU" sz="3300" spc="-1" strike="noStrike">
                <a:solidFill>
                  <a:srgbClr val="ff0000"/>
                </a:solidFill>
                <a:latin typeface="Arial Black"/>
              </a:rPr>
              <a:t>(этиленовые углеводороды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563c1"/>
                </a:solidFill>
                <a:latin typeface="Arial Black"/>
              </a:rPr>
              <a:t>   </a:t>
            </a:r>
            <a:r>
              <a:rPr b="0" lang="ru-RU" sz="3600" spc="-1" strike="noStrike">
                <a:solidFill>
                  <a:srgbClr val="002060"/>
                </a:solidFill>
                <a:latin typeface="Arial Black"/>
              </a:rPr>
              <a:t>это углеводороды, содержащие в молекуле одну двойную связь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1" lang="en-US" sz="3500" spc="-1" strike="noStrike" baseline="-12000">
                <a:solidFill>
                  <a:srgbClr val="ff0000"/>
                </a:solidFill>
                <a:latin typeface="Arial Black"/>
              </a:rPr>
              <a:t>n</a:t>
            </a:r>
            <a:r>
              <a:rPr b="0" lang="en-US" sz="3500" spc="-1" strike="noStrike">
                <a:solidFill>
                  <a:srgbClr val="ff0000"/>
                </a:solidFill>
                <a:latin typeface="Arial Black"/>
              </a:rPr>
              <a:t>H</a:t>
            </a:r>
            <a:r>
              <a:rPr b="1" lang="ru-RU" sz="3500" spc="-1" strike="noStrike" baseline="-12000">
                <a:solidFill>
                  <a:srgbClr val="ff0000"/>
                </a:solidFill>
                <a:latin typeface="Arial Black"/>
              </a:rPr>
              <a:t>2</a:t>
            </a:r>
            <a:r>
              <a:rPr b="1" lang="en-US" sz="3500" spc="-1" strike="noStrike" baseline="-12000">
                <a:solidFill>
                  <a:srgbClr val="ff0000"/>
                </a:solidFill>
                <a:latin typeface="Arial Black"/>
              </a:rPr>
              <a:t>n</a:t>
            </a:r>
            <a:r>
              <a:rPr b="1" lang="ru-RU" sz="3500" spc="-1" strike="noStrike">
                <a:solidFill>
                  <a:srgbClr val="ff0000"/>
                </a:solidFill>
                <a:latin typeface="Arial Black"/>
              </a:rPr>
              <a:t>  общая формула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С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2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Н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4</a:t>
            </a:r>
            <a:r>
              <a:rPr b="1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– этилен – эт</a:t>
            </a:r>
            <a:r>
              <a:rPr b="1" lang="ru-RU" sz="2100" spc="-1" strike="noStrike">
                <a:solidFill>
                  <a:srgbClr val="ff0000"/>
                </a:solidFill>
                <a:latin typeface="Arial Black"/>
              </a:rPr>
              <a:t>ен  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   СН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2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 = СН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С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3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Н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6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 – проп</a:t>
            </a:r>
            <a:r>
              <a:rPr b="1" lang="ru-RU" sz="2100" spc="-1" strike="noStrike">
                <a:solidFill>
                  <a:srgbClr val="ff0000"/>
                </a:solidFill>
                <a:latin typeface="Arial Black"/>
              </a:rPr>
              <a:t>ен                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СН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2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 = СН – СН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3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С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4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Н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8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 - бут</a:t>
            </a:r>
            <a:r>
              <a:rPr b="1" lang="ru-RU" sz="2100" spc="-1" strike="noStrike">
                <a:solidFill>
                  <a:srgbClr val="ff0000"/>
                </a:solidFill>
                <a:latin typeface="Arial Black"/>
              </a:rPr>
              <a:t>ен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С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5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Н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10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 - пент</a:t>
            </a:r>
            <a:r>
              <a:rPr b="1" lang="ru-RU" sz="2100" spc="-1" strike="noStrike">
                <a:solidFill>
                  <a:srgbClr val="ff0000"/>
                </a:solidFill>
                <a:latin typeface="Arial Black"/>
              </a:rPr>
              <a:t>ен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С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6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Н</a:t>
            </a:r>
            <a:r>
              <a:rPr b="1" lang="ru-RU" sz="2000" spc="-1" strike="noStrike" baseline="-25000">
                <a:solidFill>
                  <a:srgbClr val="002060"/>
                </a:solidFill>
                <a:latin typeface="Arial Black"/>
              </a:rPr>
              <a:t>12</a:t>
            </a:r>
            <a:r>
              <a:rPr b="1" lang="ru-RU" sz="2100" spc="-1" strike="noStrike">
                <a:solidFill>
                  <a:srgbClr val="002060"/>
                </a:solidFill>
                <a:latin typeface="Arial Black"/>
              </a:rPr>
              <a:t> - гекс</a:t>
            </a:r>
            <a:r>
              <a:rPr b="1" lang="ru-RU" sz="2100" spc="-1" strike="noStrike">
                <a:solidFill>
                  <a:srgbClr val="ff0000"/>
                </a:solidFill>
                <a:latin typeface="Arial Black"/>
              </a:rPr>
              <a:t>ен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9280" y="333000"/>
            <a:ext cx="8507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Полимеризация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это процесс соединения многих маленьких одинаковых молекул в одну большую молекул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полимеризации двойные связи в молекулах исходного непредельного соединения "разрываются", и за счет образующихся свободных валентностей эти молекулы соединяются друг с другом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имеризация алкенов вызывается нагреванием, давлением, облучением, действием свободных радикалов или катализаторов. В упрощенном виде такую реакцию на примере этилена можно представить следующим образом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→ (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)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ЭТИЛЕН                                     ПОЛИЭТИЛ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Arial Black"/>
              </a:rPr>
              <a:t>Вывод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Реакции присоединения, окисления и полимеризации алкенов идут за счет разрыва двойной связи (</a:t>
            </a:r>
            <a:r>
              <a:rPr b="1" lang="el-GR" sz="40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el-GR" sz="4000" spc="-1" strike="noStrike">
                <a:solidFill>
                  <a:srgbClr val="7030a0"/>
                </a:solidFill>
                <a:latin typeface="Calibri"/>
              </a:rPr>
              <a:t>π</a:t>
            </a:r>
            <a:r>
              <a:rPr b="1" lang="ru-RU" sz="4000" spc="-1" strike="noStrike">
                <a:solidFill>
                  <a:srgbClr val="7030a0"/>
                </a:solidFill>
                <a:latin typeface="Arial Black"/>
              </a:rPr>
              <a:t>-связи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44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лучение  алкен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4920" y="549360"/>
            <a:ext cx="85345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 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Дегидрирование (отщепление водорода) алкан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ри повышенной температуре с катализатор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С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→  С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С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+ 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, k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→  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+ 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 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Дегидратация (отщепление воды) спирт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ри нагревании с водоотнимающими средствами (конц серная или фосфорная кислоты) и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пропускании паров спирта над катализатором (окись алюми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H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 C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 →  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+ 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нение алкен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05264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b1107"/>
                </a:solidFill>
                <a:latin typeface="Times New Roman"/>
              </a:rPr>
              <a:t>Алкены широко используются в промышленности в качестве исходных веществ для получения многих важнейших продук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b1107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b1107"/>
                </a:solidFill>
                <a:latin typeface="Times New Roman"/>
              </a:rPr>
              <a:t>Наибольшее значение имеет этилен и его производ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именение этилена и его производных: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Documents and Settings\Admin\Мои документы\химия (картинки)\сельское хозяйство\29823-3.jpg"/>
          <p:cNvPicPr/>
          <p:nvPr/>
        </p:nvPicPr>
        <p:blipFill>
          <a:blip r:embed="rId1"/>
          <a:srcRect l="17775" t="0" r="17775" b="0"/>
          <a:stretch/>
        </p:blipFill>
        <p:spPr>
          <a:xfrm>
            <a:off x="2124000" y="404640"/>
            <a:ext cx="4629240" cy="4873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28800" y="5715000"/>
            <a:ext cx="75722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Этилен</a:t>
            </a: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 ускоряет созревание пло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0" name="Picture 2" descr="C:\Documents and Settings\Admin\Мои документы\химия (картинки)\Природный газ\oil_well.jpg"/>
          <p:cNvPicPr/>
          <p:nvPr/>
        </p:nvPicPr>
        <p:blipFill>
          <a:blip r:embed="rId1"/>
          <a:srcRect l="5859" t="0" r="5859" b="0"/>
          <a:stretch/>
        </p:blipFill>
        <p:spPr>
          <a:xfrm>
            <a:off x="428760" y="0"/>
            <a:ext cx="8143920" cy="5500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5960" y="57150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В качестве топл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1"/>
          <a:srcRect l="-616" t="0" r="-1307" b="0"/>
          <a:stretch/>
        </p:blipFill>
        <p:spPr>
          <a:xfrm>
            <a:off x="611280" y="841320"/>
            <a:ext cx="7561080" cy="48736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14200" y="5715000"/>
            <a:ext cx="87156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Для получения алкан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5" name="Picture 3" descr="C:\Documents and Settings\Admin\Мои документы\химия (картинки)\Антифризы\25180.jpg"/>
          <p:cNvPicPr/>
          <p:nvPr/>
        </p:nvPicPr>
        <p:blipFill>
          <a:blip r:embed="rId1"/>
          <a:stretch/>
        </p:blipFill>
        <p:spPr>
          <a:xfrm>
            <a:off x="0" y="0"/>
            <a:ext cx="4714920" cy="5143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3840" y="5367240"/>
            <a:ext cx="8643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Этиленгликоль</a:t>
            </a: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 – для получения антифризов, тормозных жидкос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1" descr=""/>
          <p:cNvPicPr/>
          <p:nvPr/>
        </p:nvPicPr>
        <p:blipFill>
          <a:blip r:embed="rId2"/>
          <a:stretch/>
        </p:blipFill>
        <p:spPr>
          <a:xfrm>
            <a:off x="4857840" y="142920"/>
            <a:ext cx="4286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9" name="Picture 2" descr="C:\Documents and Settings\Admin\Мои документы\химия (картинки)\Краски, лаки, растворители\fullsize.jpg"/>
          <p:cNvPicPr/>
          <p:nvPr/>
        </p:nvPicPr>
        <p:blipFill>
          <a:blip r:embed="rId1"/>
          <a:srcRect l="0" t="7143" r="0" b="7143"/>
          <a:stretch/>
        </p:blipFill>
        <p:spPr>
          <a:xfrm>
            <a:off x="1071720" y="0"/>
            <a:ext cx="6786360" cy="5357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85880" y="5367240"/>
            <a:ext cx="785808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Дихлорэтан</a:t>
            </a: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 – раствор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Documents and Settings\Admin\Мои документы\химия (картинки)\Пища\48319845_krupy.jpg"/>
          <p:cNvPicPr/>
          <p:nvPr/>
        </p:nvPicPr>
        <p:blipFill>
          <a:blip r:embed="rId1"/>
          <a:srcRect l="0" t="3128" r="0" b="3128"/>
          <a:stretch/>
        </p:blipFill>
        <p:spPr>
          <a:xfrm>
            <a:off x="1619280" y="476280"/>
            <a:ext cx="6019920" cy="45608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4200" y="5366880"/>
            <a:ext cx="842976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Дихлорэтан </a:t>
            </a: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– для борьбы с вредителя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(окуривание зернохранилищ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изические свойст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8560" y="1268280"/>
            <a:ext cx="7886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нормальных условиях углеводор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газ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жидкост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сшие представители – твердые вещест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пература их плавления и кипения, а также плотность увеличиваются с ростом молекулярной массы. Все алкены легче воды, плохо растворимы в ней, однако растворимы в органических растворител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"/>
          <p:cNvPicPr/>
          <p:nvPr/>
        </p:nvPicPr>
        <p:blipFill>
          <a:blip r:embed="rId1"/>
          <a:srcRect l="18297" t="0" r="18297" b="0"/>
          <a:stretch/>
        </p:blipFill>
        <p:spPr>
          <a:xfrm>
            <a:off x="2257560" y="404640"/>
            <a:ext cx="4628880" cy="4873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56433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Дибромэтан</a:t>
            </a: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 – антидетонационная добавка в топли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rcRect l="-693" t="0" r="-2751" b="0"/>
          <a:stretch/>
        </p:blipFill>
        <p:spPr>
          <a:xfrm>
            <a:off x="1403280" y="765000"/>
            <a:ext cx="6193080" cy="4873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56760" y="5786280"/>
            <a:ext cx="82868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ибромэтан</a:t>
            </a:r>
            <a:r>
              <a:rPr b="0" lang="ru-RU" sz="2400" spc="-1" strike="noStrike">
                <a:solidFill>
                  <a:srgbClr val="0b1107"/>
                </a:solidFill>
                <a:latin typeface="Calibri"/>
              </a:rPr>
              <a:t> – для обработки бревен от термитов и жу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b1107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9" descr=""/>
          <p:cNvPicPr/>
          <p:nvPr/>
        </p:nvPicPr>
        <p:blipFill>
          <a:blip r:embed="rId1"/>
          <a:srcRect l="5259" t="0" r="5259" b="0"/>
          <a:stretch/>
        </p:blipFill>
        <p:spPr>
          <a:xfrm>
            <a:off x="1908000" y="549360"/>
            <a:ext cx="5732640" cy="4241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00080" y="5367240"/>
            <a:ext cx="721512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Хлорэтан, бромэтан </a:t>
            </a: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– для наркоза при легких операц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Documents and Settings\Admin\Мои документы\химия (картинки)\спирт\spirt3-266x300.jpg"/>
          <p:cNvPicPr/>
          <p:nvPr/>
        </p:nvPicPr>
        <p:blipFill>
          <a:blip r:embed="rId1"/>
          <a:srcRect l="0" t="3326" r="0" b="3326"/>
          <a:stretch/>
        </p:blipFill>
        <p:spPr>
          <a:xfrm>
            <a:off x="1979640" y="493560"/>
            <a:ext cx="4629240" cy="48736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13840" y="5367240"/>
            <a:ext cx="8643960" cy="13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Этиловый спирт</a:t>
            </a: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b1107"/>
                </a:solidFill>
                <a:latin typeface="Tahoma"/>
              </a:rPr>
              <a:t>растворитель, антисептик в медицине , в производстве синтетического каучука…</a:t>
            </a: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UserXP\Рабочий стол\Полиэтилен\pr_odn_pos_1.jpg"/>
          <p:cNvPicPr/>
          <p:nvPr/>
        </p:nvPicPr>
        <p:blipFill>
          <a:blip r:embed="rId1"/>
          <a:srcRect l="14386" t="0" r="14386" b="0"/>
          <a:stretch/>
        </p:blipFill>
        <p:spPr>
          <a:xfrm>
            <a:off x="2293920" y="404640"/>
            <a:ext cx="4629240" cy="4873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85520" y="5929200"/>
            <a:ext cx="764388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b1107"/>
                </a:solidFill>
                <a:latin typeface="Calibri"/>
              </a:rPr>
              <a:t>Производство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олиэтиле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57360"/>
            <a:ext cx="8507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к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нкл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м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ические свой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ение алке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имические свойств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акци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соединения: галогенирование, гидрирование, гидрогалогенирование, гидратация; окисление, реакция полимеризаци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учение (дегидрогенизация алканов, дегидратация спиртов, дегидрогалогенирование галогенпроизводных, дегалогенирова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н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BTAR_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BTAR_LFT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BTAR_LFT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 Black"/>
              </a:rPr>
              <a:t>Домашнее задание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94920" y="1825200"/>
            <a:ext cx="82803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8800" spc="-1" strike="noStrike">
                <a:solidFill>
                  <a:srgbClr val="0070c0"/>
                </a:solidFill>
                <a:latin typeface="Mistral"/>
              </a:rPr>
              <a:t>Изучаем параграф 14 упражнения 2,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Этилен –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газ, почти без запаха, плохо растворим в воде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троение  этилена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 – молекулярная формул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               Н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 структурная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формула этилен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 = 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               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10"/>
          <p:cNvSpPr/>
          <p:nvPr/>
        </p:nvSpPr>
        <p:spPr>
          <a:xfrm>
            <a:off x="1042920" y="3822840"/>
            <a:ext cx="357120" cy="35712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 flipV="1">
            <a:off x="2470320" y="3787920"/>
            <a:ext cx="500040" cy="42840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14"/>
          <p:cNvSpPr/>
          <p:nvPr/>
        </p:nvSpPr>
        <p:spPr>
          <a:xfrm flipV="1">
            <a:off x="1036800" y="4592160"/>
            <a:ext cx="357120" cy="50004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16"/>
          <p:cNvSpPr/>
          <p:nvPr/>
        </p:nvSpPr>
        <p:spPr>
          <a:xfrm>
            <a:off x="2435400" y="4592520"/>
            <a:ext cx="428400" cy="35748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260280"/>
            <a:ext cx="82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Образование  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-связе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2920" y="1428480"/>
            <a:ext cx="8786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ждый атом С образует по 3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связи (одну – с соседним атомом С и две связи с атомами Н). На их образование углерод затрачивает 3 электрона (один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ктрон и д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-электрона), поэтому происходи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ru-RU" sz="2400" spc="-1" strike="noStrike" baseline="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гибрид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                    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хематическое изображение строения молекулы этил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езультате каждый атом углерода обладает тремя гибридным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ru-RU" sz="2400" spc="-1" strike="noStrike" baseline="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орбиталями,  которые лежат в одной плоскости под углом 120º друг к друг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img003"/>
          <p:cNvPicPr/>
          <p:nvPr/>
        </p:nvPicPr>
        <p:blipFill>
          <a:blip r:embed="rId1"/>
          <a:stretch/>
        </p:blipFill>
        <p:spPr>
          <a:xfrm>
            <a:off x="6000840" y="2857680"/>
            <a:ext cx="2016000" cy="1265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img002"/>
          <p:cNvPicPr/>
          <p:nvPr/>
        </p:nvPicPr>
        <p:blipFill>
          <a:blip r:embed="rId2"/>
          <a:stretch/>
        </p:blipFill>
        <p:spPr>
          <a:xfrm>
            <a:off x="1428840" y="2857680"/>
            <a:ext cx="17272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Схема образования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</a:t>
            </a:r>
            <a:r>
              <a:rPr b="0" lang="ru-RU" sz="4000" spc="-1" strike="noStrike" baseline="30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-гибридных орбиталей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В гибридизации участвуют орбитали одного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 и двух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-электрон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341360" y="5062680"/>
            <a:ext cx="2952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1208160" y="4022640"/>
          <a:ext cx="54288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8160" y="4022640"/>
                    <a:ext cx="5428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3"/>
          <p:cNvGraphicFramePr/>
          <p:nvPr/>
        </p:nvGraphicFramePr>
        <p:xfrm>
          <a:off x="1849320" y="4159080"/>
          <a:ext cx="217440" cy="2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9320" y="4159080"/>
                    <a:ext cx="217440" cy="2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"/>
          <p:cNvGraphicFramePr/>
          <p:nvPr/>
        </p:nvGraphicFramePr>
        <p:xfrm>
          <a:off x="2274840" y="4402080"/>
          <a:ext cx="1158840" cy="38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4840" y="4402080"/>
                    <a:ext cx="11588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2274840" y="3909960"/>
          <a:ext cx="1158840" cy="3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74840" y="3909960"/>
                    <a:ext cx="11588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6"/>
          <p:cNvGraphicFramePr/>
          <p:nvPr/>
        </p:nvGraphicFramePr>
        <p:xfrm>
          <a:off x="3995640" y="4292640"/>
          <a:ext cx="1092240" cy="14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95640" y="4292640"/>
                    <a:ext cx="109224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7"/>
          <p:cNvGraphicFramePr/>
          <p:nvPr/>
        </p:nvGraphicFramePr>
        <p:xfrm>
          <a:off x="6084720" y="3789360"/>
          <a:ext cx="1343160" cy="1150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84720" y="3789360"/>
                    <a:ext cx="134316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12"/>
          <p:cNvSpPr/>
          <p:nvPr/>
        </p:nvSpPr>
        <p:spPr>
          <a:xfrm>
            <a:off x="2482920" y="4983120"/>
            <a:ext cx="83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6195960" y="5045040"/>
            <a:ext cx="961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p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28760" y="50004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           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2.  Образование   </a:t>
            </a:r>
            <a:r>
              <a:rPr b="1" lang="el-GR" sz="3600" spc="-1" strike="noStrike">
                <a:solidFill>
                  <a:srgbClr val="7030a0"/>
                </a:solidFill>
                <a:latin typeface="Times New Roman"/>
              </a:rPr>
              <a:t>π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-связ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каждого атома С есть ещё по одному облаку, которые в гибридизации не участвуют и сохраняют форму правильных восьмерок. Перекрываясь над и под плоскостью, они образуют </a:t>
            </a:r>
            <a:r>
              <a:rPr b="0" lang="el-GR" sz="2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π</a:t>
            </a:r>
            <a:r>
              <a:rPr b="0" lang="ru-RU" sz="2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- связ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которая располагается перпендикулярно к плоскости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связей. Двойная связь алкенов представляет собой сочетание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и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связей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 u="sng">
                <a:solidFill>
                  <a:srgbClr val="0563c1"/>
                </a:solidFill>
                <a:uFillTx/>
                <a:latin typeface="Times New Roman"/>
                <a:hlinkClick r:id="rId3" action="ppaction://hlinksldjump"/>
              </a:rPr>
              <a:t>Длина двойной связ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0,134 н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img002"/>
          <p:cNvPicPr/>
          <p:nvPr/>
        </p:nvPicPr>
        <p:blipFill>
          <a:blip r:embed="rId4"/>
          <a:stretch/>
        </p:blipFill>
        <p:spPr>
          <a:xfrm>
            <a:off x="6715080" y="4643280"/>
            <a:ext cx="1727280" cy="1182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img003"/>
          <p:cNvPicPr/>
          <p:nvPr/>
        </p:nvPicPr>
        <p:blipFill>
          <a:blip r:embed="rId5"/>
          <a:stretch/>
        </p:blipFill>
        <p:spPr>
          <a:xfrm>
            <a:off x="4000680" y="5072040"/>
            <a:ext cx="201600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24000" y="404280"/>
            <a:ext cx="8712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Запомни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Простая (ординарная) связь – это всегда </a:t>
            </a:r>
            <a:r>
              <a:rPr b="1" lang="el-GR" sz="2800" spc="-1" strike="noStrike">
                <a:solidFill>
                  <a:srgbClr val="7030a0"/>
                </a:solidFill>
                <a:latin typeface="Times New Roman"/>
              </a:rPr>
              <a:t>σ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-связ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В кратных (двойных или тройных) связях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одна </a:t>
            </a:r>
            <a:r>
              <a:rPr b="1" lang="el-GR" sz="2800" spc="-1" strike="noStrike">
                <a:solidFill>
                  <a:srgbClr val="7030a0"/>
                </a:solidFill>
                <a:latin typeface="Times New Roman"/>
              </a:rPr>
              <a:t>σ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-связь, а остальные </a:t>
            </a:r>
            <a:r>
              <a:rPr b="1" lang="el-GR" sz="2800" spc="-1" strike="noStrike">
                <a:solidFill>
                  <a:srgbClr val="7030a0"/>
                </a:solidFill>
                <a:latin typeface="Times New Roman"/>
              </a:rPr>
              <a:t>π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-связ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l-GR" sz="2800" spc="-1" strike="noStrike">
                <a:solidFill>
                  <a:srgbClr val="7030a0"/>
                </a:solidFill>
                <a:latin typeface="Times New Roman"/>
              </a:rPr>
              <a:t>σ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-связи всегда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образованы гибридными орбиталями (неправильными восьмеркам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7030a0"/>
                </a:solidFill>
                <a:latin typeface="Times New Roman"/>
              </a:rPr>
              <a:t>π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-связи образованы негибридны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– орбиталями (правильными восьмеркам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3964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связь менее прочна, чем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связ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вязи с этим,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связь легко разрывается и переходит в две новые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связи в результате присоединения по месту двойной связи двух атомов или групп атомов реагирующих веществ.  Для алкенов наиболее типичными являются реакции присоединения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img002"/>
          <p:cNvPicPr/>
          <p:nvPr/>
        </p:nvPicPr>
        <p:blipFill>
          <a:blip r:embed="rId1"/>
          <a:stretch/>
        </p:blipFill>
        <p:spPr>
          <a:xfrm>
            <a:off x="318960" y="3524400"/>
            <a:ext cx="4318200" cy="2957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img003"/>
          <p:cNvPicPr/>
          <p:nvPr/>
        </p:nvPicPr>
        <p:blipFill>
          <a:blip r:embed="rId2"/>
          <a:stretch/>
        </p:blipFill>
        <p:spPr>
          <a:xfrm>
            <a:off x="4721400" y="3645000"/>
            <a:ext cx="442404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6:53:59Z</dcterms:created>
  <dc:creator>WASP</dc:creator>
  <dc:description/>
  <dc:language>en-US</dc:language>
  <cp:lastModifiedBy>Учетная запись Майкрософт</cp:lastModifiedBy>
  <dcterms:modified xsi:type="dcterms:W3CDTF">2022-10-19T14:02:01Z</dcterms:modified>
  <cp:revision>109</cp:revision>
  <dc:subject/>
  <dc:title>Алкены</dc:title>
</cp:coreProperties>
</file>