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10.png" ContentType="image/png"/>
  <Override PartName="/ppt/media/image4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png" ContentType="image/png"/>
  <Override PartName="/ppt/media/image20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480F-A98A-4011-9F74-B1BD00E90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2E4-70ED-4456-BA7A-796A877653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D38-6EC3-48BD-8E16-CFC77428CF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ACF-5E52-40EE-B528-C5F55405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860-346A-4E61-A19C-E1B3D93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5C8-22E3-4B18-9F67-7F8BF085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DEE-DD14-4EF1-96A7-E6222E6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B13-C6D0-4D3F-875C-0039748B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96F-8EA0-4BB6-92D6-33C65CD6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7DF-4FA6-436E-A1D7-B3185B2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529-7C6D-42B3-B82C-8A9E5DC4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F5E-2347-485F-B3F9-242DFD4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7F5-2FF8-46A0-8C46-D1F9407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1B7-3AA3-4C26-99DD-FA71852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FA4-F4FF-481B-B0E3-27975CC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75D1-7E30-4611-A41B-6E3ECD57780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36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Непредельные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углеводо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омерия  алкен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44546a"/>
                </a:solidFill>
                <a:latin typeface="Times New Roman"/>
              </a:rPr>
              <a:t>1) углеродного скел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метилпропен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положения двойной связ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                                       бутен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44546a"/>
                </a:solidFill>
                <a:latin typeface="Times New Roman"/>
              </a:rPr>
              <a:t>3) классов соединений (циклоалка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44546a"/>
                </a:solidFill>
                <a:latin typeface="Times New Roman"/>
              </a:rPr>
              <a:t>4) пространственная (цис-транс-изомер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H                    H                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            /                        \              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=  C                           C  = 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       \                          /            \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 -                          цис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 одинаковые заместители находятся по одну сторону двойной связи, это цис–изомер,                       если по разные – это транс–изо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rcRect l="3541" t="0" r="0" b="0"/>
          <a:stretch/>
        </p:blipFill>
        <p:spPr>
          <a:xfrm>
            <a:off x="46080" y="189000"/>
            <a:ext cx="90979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менклатура  алке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алкенов по систематической номенклатуре образуют из названий  алканов, заменяя суффикс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–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–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цифрой указывается номер того атома углерода, от которого начинается двойная связ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ная цепь атомов углерода должна обязательно включать двойную связь, и ее нумерацию проводят с того конца главной цепи, к которому она бли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е названия перечисляют радикалы с указанием номеров атомов углерода, с которыми они связаны. Если в молекуле присутствует несколько одинаковых радикалов, то цифрой указывается место каждого из них в главной цепи и перед их названием ставят соответственно приставки: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и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три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тетра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Химические свойства алкен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) Г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жигании на воздухе алкены  образу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лекислый газ и в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) Окисление 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качественная реакция на двойную связ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(растворы окислителей обесцвечиваются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кислении алкенов разбавленным раствором перманганата калия  образуются двухатомные спирты – глико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еакция Е.Е.Вагне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протекает на хол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2K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→ 2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KOH + 3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|           |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     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зультате реакции наблюдается обесцвечив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твора перманганата ка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Реакция Вагнера служит качественной пробой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двойную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+  [О] + НОН  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этилен 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           |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гликол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57168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 Реакции присоедин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Присоединение галогенов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алогенировани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лкены при обычных условиях присоединяют галогены, приводя к дигалогенопроизводным алканов, содержащим атомы галогена у соседних углеродных ат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Br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­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→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дибром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→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дихлор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еденная реакция - </a:t>
            </a: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обесцвечивание этиленом бромной воды является качественной реакцией на двойную связ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560" y="428760"/>
            <a:ext cx="8713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идрирование – присоединение водор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кены легко присоединяют водород в присутствии катализаторов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образуя предельные углеводо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,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н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 Присоединение галогеноводородов -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Гидрогалогенирова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лен и его гомологи присоединяют  галогеноводороды, приводя к галогенопроизводным углеводор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хлор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оединение галогеноводородов к пропилену и другим несимметричным алкенам происходит в соответствии с  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авилом В.В.Марковнико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дород присоединяется к наиболее гидрогенизированному атому углерода при двойной связи, то есть к атому углерода с наибольшим числом водородных атом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l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54936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идратац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 присоединение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исутствии минеральных кислот алкены присоединяют воду, образуя спирты.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baseline="-22000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2800" spc="-1" strike="noStrike" baseline="-22000">
                <a:solidFill>
                  <a:srgbClr val="000000"/>
                </a:solidFill>
                <a:latin typeface="Times New Roman"/>
              </a:rPr>
              <a:t>H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(C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|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OH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идно, направление реакций гидратации определяется правилом Марковник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 НОН 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  этиловый спир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(этан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Алкены </a:t>
            </a: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(этиленовые углеводороды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это углеводороды, содержащие в молекуле одну двойную связь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1" lang="en-US" sz="3500" spc="-1" strike="noStrike" baseline="-12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3500" spc="-1" strike="noStrike">
                <a:solidFill>
                  <a:srgbClr val="ff0000"/>
                </a:solidFill>
                <a:latin typeface="Arial Black"/>
              </a:rPr>
              <a:t>H</a:t>
            </a:r>
            <a:r>
              <a:rPr b="1" lang="ru-RU" sz="3500" spc="-1" strike="noStrike" baseline="-12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en-US" sz="3500" spc="-1" strike="noStrike" baseline="-12000">
                <a:solidFill>
                  <a:srgbClr val="ff0000"/>
                </a:solidFill>
                <a:latin typeface="Arial Black"/>
              </a:rPr>
              <a:t>n</a:t>
            </a:r>
            <a:r>
              <a:rPr b="1" lang="ru-RU" sz="3500" spc="-1" strike="noStrike">
                <a:solidFill>
                  <a:srgbClr val="ff0000"/>
                </a:solidFill>
                <a:latin typeface="Arial Black"/>
              </a:rPr>
              <a:t>  общая формул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4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– этилен – э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 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 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=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3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6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– проп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               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= СН –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3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4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8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бу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5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10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пен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6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1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гекс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лимеризация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это процесс соединения многих маленьких одинаковых молекул в одну большую молекул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лимеризации двойные связи в молекулах исходного непредельного соединения "разрываются", и за счет образующихся свободных валентностей эти молекулы соединяются друг с друго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алкенов вызывается нагреванием, давлением, облучением, действием свободных радикалов или катализаторов. В упрощенном виде такую реакцию на примере этилена можно представить следующим образом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(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ЭТИЛЕН                                     ПОЛИЭТИ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Реакции присоединения, окисления и полимеризации алкенов идут за счет разрыва двойной связи (</a:t>
            </a:r>
            <a:r>
              <a:rPr b="1" lang="el-GR" sz="4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el-GR" sz="4000" spc="-1" strike="noStrike">
                <a:solidFill>
                  <a:srgbClr val="7030a0"/>
                </a:solidFill>
                <a:latin typeface="Calibri"/>
              </a:rPr>
              <a:t>π</a:t>
            </a:r>
            <a:r>
              <a:rPr b="1" lang="ru-RU" sz="4000" spc="-1" strike="noStrike">
                <a:solidFill>
                  <a:srgbClr val="7030a0"/>
                </a:solidFill>
                <a:latin typeface="Arial Black"/>
              </a:rPr>
              <a:t>-связи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учение  алкен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549360"/>
            <a:ext cx="8534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 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Дегидрирование (отщепление водорода) алкан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и повышенной температуре с катализато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→ 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, 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Дегидратация (отщепление воды) спирт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и нагревании с водоотнимающими средствами (конц серная или фосфорная кислоты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ропускании паров спирта над катализатором (окись алюми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алкен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05264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Алкены широко используются в промышленности в качестве исходных веществ для получения многих важнейших прод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Наибольшее значение имеет этилен и его производ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менение этилена и его производных: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Admin\Мои документы\химия (картинки)\сельское хозяйство\29823-3.jpg"/>
          <p:cNvPicPr/>
          <p:nvPr/>
        </p:nvPicPr>
        <p:blipFill>
          <a:blip r:embed="rId1"/>
          <a:srcRect l="17775" t="0" r="17775" b="0"/>
          <a:stretch/>
        </p:blipFill>
        <p:spPr>
          <a:xfrm>
            <a:off x="2124000" y="40464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28800" y="5715000"/>
            <a:ext cx="75722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е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ускоряет созревание пл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Picture 2" descr="C:\Documents and Settings\Admin\Мои документы\химия (картинки)\Природный газ\oil_well.jpg"/>
          <p:cNvPicPr/>
          <p:nvPr/>
        </p:nvPicPr>
        <p:blipFill>
          <a:blip r:embed="rId1"/>
          <a:srcRect l="5859" t="0" r="5859" b="0"/>
          <a:stretch/>
        </p:blipFill>
        <p:spPr>
          <a:xfrm>
            <a:off x="428760" y="0"/>
            <a:ext cx="8143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596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В качестве топ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rcRect l="-616" t="0" r="-1307" b="0"/>
          <a:stretch/>
        </p:blipFill>
        <p:spPr>
          <a:xfrm>
            <a:off x="611280" y="841320"/>
            <a:ext cx="7561080" cy="4873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4200" y="5715000"/>
            <a:ext cx="87156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Для получения алк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5" name="Picture 3" descr="C:\Documents and Settings\Admin\Мои документы\химия (картинки)\Антифризы\25180.jpg"/>
          <p:cNvPicPr/>
          <p:nvPr/>
        </p:nvPicPr>
        <p:blipFill>
          <a:blip r:embed="rId1"/>
          <a:stretch/>
        </p:blipFill>
        <p:spPr>
          <a:xfrm>
            <a:off x="0" y="0"/>
            <a:ext cx="471492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5367240"/>
            <a:ext cx="8643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енгликоль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для получения антифризов, тормозных жидк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1" descr=""/>
          <p:cNvPicPr/>
          <p:nvPr/>
        </p:nvPicPr>
        <p:blipFill>
          <a:blip r:embed="rId2"/>
          <a:stretch/>
        </p:blipFill>
        <p:spPr>
          <a:xfrm>
            <a:off x="4857840" y="142920"/>
            <a:ext cx="4286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Picture 2" descr="C:\Documents and Settings\Admin\Мои документы\химия (картинки)\Краски, лаки, растворители\fullsize.jpg"/>
          <p:cNvPicPr/>
          <p:nvPr/>
        </p:nvPicPr>
        <p:blipFill>
          <a:blip r:embed="rId1"/>
          <a:srcRect l="0" t="7143" r="0" b="7143"/>
          <a:stretch/>
        </p:blipFill>
        <p:spPr>
          <a:xfrm>
            <a:off x="1071720" y="0"/>
            <a:ext cx="6786360" cy="535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5880" y="5367240"/>
            <a:ext cx="7858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хлорэта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раствор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dmin\Мои документы\химия (картинки)\Пища\48319845_krupy.jpg"/>
          <p:cNvPicPr/>
          <p:nvPr/>
        </p:nvPicPr>
        <p:blipFill>
          <a:blip r:embed="rId1"/>
          <a:srcRect l="0" t="3128" r="0" b="3128"/>
          <a:stretch/>
        </p:blipFill>
        <p:spPr>
          <a:xfrm>
            <a:off x="1619280" y="476280"/>
            <a:ext cx="6019920" cy="4560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4200" y="5366880"/>
            <a:ext cx="842976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хлорэтан 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– для борьбы с вре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(окуривание зернохранилищ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268280"/>
            <a:ext cx="788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нормальных условиях углеводор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шие представители – твердые ве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их плавления и кипения, а также плотность увеличиваются с ростом молекулярной массы. Все алкены легче воды, плохо растворимы в ней, однако растворимы в органических растворит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18297" t="0" r="18297" b="0"/>
          <a:stretch/>
        </p:blipFill>
        <p:spPr>
          <a:xfrm>
            <a:off x="2257560" y="404640"/>
            <a:ext cx="4628880" cy="487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5643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бромэта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антидетонационная добавка в топл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-693" t="0" r="-2751" b="0"/>
          <a:stretch/>
        </p:blipFill>
        <p:spPr>
          <a:xfrm>
            <a:off x="1403280" y="765000"/>
            <a:ext cx="6193080" cy="4873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56760" y="5786280"/>
            <a:ext cx="8286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ибромэтан</a:t>
            </a:r>
            <a:r>
              <a:rPr b="0" lang="ru-RU" sz="2400" spc="-1" strike="noStrike">
                <a:solidFill>
                  <a:srgbClr val="0b1107"/>
                </a:solidFill>
                <a:latin typeface="Calibri"/>
              </a:rPr>
              <a:t> – для обработки бревен от термитов и жу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b11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9" descr=""/>
          <p:cNvPicPr/>
          <p:nvPr/>
        </p:nvPicPr>
        <p:blipFill>
          <a:blip r:embed="rId1"/>
          <a:srcRect l="5259" t="0" r="5259" b="0"/>
          <a:stretch/>
        </p:blipFill>
        <p:spPr>
          <a:xfrm>
            <a:off x="1908000" y="549360"/>
            <a:ext cx="5732640" cy="424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00080" y="5367240"/>
            <a:ext cx="72151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Хлорэтан, бромэтан 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– для наркоза при легких опер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Admin\Мои документы\химия (картинки)\спирт\spirt3-266x300.jpg"/>
          <p:cNvPicPr/>
          <p:nvPr/>
        </p:nvPicPr>
        <p:blipFill>
          <a:blip r:embed="rId1"/>
          <a:srcRect l="0" t="3326" r="0" b="3326"/>
          <a:stretch/>
        </p:blipFill>
        <p:spPr>
          <a:xfrm>
            <a:off x="1979640" y="4935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13840" y="5367240"/>
            <a:ext cx="86439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овый спирт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b1107"/>
                </a:solidFill>
                <a:latin typeface="Tahoma"/>
              </a:rPr>
              <a:t>растворитель, антисептик в медицине , в производстве синтетического каучука…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XP\Рабочий стол\Полиэтилен\pr_odn_pos_1.jpg"/>
          <p:cNvPicPr/>
          <p:nvPr/>
        </p:nvPicPr>
        <p:blipFill>
          <a:blip r:embed="rId1"/>
          <a:srcRect l="14386" t="0" r="14386" b="0"/>
          <a:stretch/>
        </p:blipFill>
        <p:spPr>
          <a:xfrm>
            <a:off x="2293920" y="40464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85520" y="592920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Производств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лиэтил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57360"/>
            <a:ext cx="8507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к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ение алк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я: галогенирование, гидрирование, гидрогалогенирование, гидратация; окисление, реакция полимериз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 (дегидрогенизация алканов, дегидратация спиртов, дегидрогалогенирование галогенпроизводных, дегалогениро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TAR_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BTAR_LFT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 Black"/>
              </a:rPr>
              <a:t>Домашнее задание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4920" y="1825200"/>
            <a:ext cx="828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8800" spc="-1" strike="noStrike">
                <a:solidFill>
                  <a:srgbClr val="0070c0"/>
                </a:solidFill>
                <a:latin typeface="Mistral"/>
              </a:rPr>
              <a:t>Изучаем параграф 14 упражнения 2,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Этилен –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аз, почти без запаха, плохо растворим в вод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роение  этилена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– молекулярная форму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               Н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структурная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формула этиле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 = 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               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0"/>
          <p:cNvSpPr/>
          <p:nvPr/>
        </p:nvSpPr>
        <p:spPr>
          <a:xfrm>
            <a:off x="1042920" y="3822840"/>
            <a:ext cx="357120" cy="3571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 flipV="1">
            <a:off x="2470320" y="3787920"/>
            <a:ext cx="500040" cy="42840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4"/>
          <p:cNvSpPr/>
          <p:nvPr/>
        </p:nvSpPr>
        <p:spPr>
          <a:xfrm flipV="1">
            <a:off x="1036800" y="4592160"/>
            <a:ext cx="357120" cy="50004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6"/>
          <p:cNvSpPr/>
          <p:nvPr/>
        </p:nvSpPr>
        <p:spPr>
          <a:xfrm>
            <a:off x="2435400" y="4592520"/>
            <a:ext cx="428400" cy="35748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Образование 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связ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920" y="142848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атом С образует по 3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вязи (одну – с соседним атомом С и две связи с атомами Н). На их образование углерод затрачивает 3 электрона (од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ктрон и д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-электрона), поэтому происходи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ru-RU" sz="24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ибрид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                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тическое изображение строения молекулы этил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каждый атом углерода обладает тремя гибридным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ru-RU" sz="24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рбиталями,  которые лежат в одной плоскости под углом 120º друг к дру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img003"/>
          <p:cNvPicPr/>
          <p:nvPr/>
        </p:nvPicPr>
        <p:blipFill>
          <a:blip r:embed="rId1"/>
          <a:stretch/>
        </p:blipFill>
        <p:spPr>
          <a:xfrm>
            <a:off x="6000840" y="2857680"/>
            <a:ext cx="2016000" cy="126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002"/>
          <p:cNvPicPr/>
          <p:nvPr/>
        </p:nvPicPr>
        <p:blipFill>
          <a:blip r:embed="rId2"/>
          <a:stretch/>
        </p:blipFill>
        <p:spPr>
          <a:xfrm>
            <a:off x="1428840" y="2857680"/>
            <a:ext cx="1727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хема образова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-гибридных орбитале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гибридизации участвуют орбитали одного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и двух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электро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341360" y="5062680"/>
            <a:ext cx="29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1208160" y="4022640"/>
          <a:ext cx="5428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4022640"/>
                    <a:ext cx="542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3"/>
          <p:cNvGraphicFramePr/>
          <p:nvPr/>
        </p:nvGraphicFramePr>
        <p:xfrm>
          <a:off x="1849320" y="4159080"/>
          <a:ext cx="217440" cy="2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9320" y="4159080"/>
                    <a:ext cx="217440" cy="2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2274840" y="4402080"/>
          <a:ext cx="115884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4840" y="4402080"/>
                    <a:ext cx="11588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74840" y="3909960"/>
          <a:ext cx="115884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4840" y="3909960"/>
                    <a:ext cx="11588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6"/>
          <p:cNvGraphicFramePr/>
          <p:nvPr/>
        </p:nvGraphicFramePr>
        <p:xfrm>
          <a:off x="3995640" y="4292640"/>
          <a:ext cx="1092240" cy="1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292640"/>
                    <a:ext cx="10922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7"/>
          <p:cNvGraphicFramePr/>
          <p:nvPr/>
        </p:nvGraphicFramePr>
        <p:xfrm>
          <a:off x="6084720" y="3789360"/>
          <a:ext cx="134316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84720" y="3789360"/>
                    <a:ext cx="13431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2"/>
          <p:cNvSpPr/>
          <p:nvPr/>
        </p:nvSpPr>
        <p:spPr>
          <a:xfrm>
            <a:off x="2482920" y="4983120"/>
            <a:ext cx="83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195960" y="5045040"/>
            <a:ext cx="961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28760" y="50004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2.  Образование   </a:t>
            </a:r>
            <a:r>
              <a:rPr b="1" lang="el-GR" sz="36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-свя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аждого атома С есть ещё по одному облаку, которые в гибридизации не участвуют и сохраняют форму правильных восьмерок. Перекрываясь над и под плоскостью, они образуют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π</a:t>
            </a:r>
            <a:r>
              <a:rPr b="0" lang="ru-RU" sz="2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- связ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ая располагается перпендикулярно к плоскости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ей. Двойная связь алкенов представляет собой сочетание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е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Times New Roman"/>
                <a:hlinkClick r:id="rId3" action="ppaction://hlinksldjump"/>
              </a:rPr>
              <a:t>Длина двойной связ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134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img002"/>
          <p:cNvPicPr/>
          <p:nvPr/>
        </p:nvPicPr>
        <p:blipFill>
          <a:blip r:embed="rId4"/>
          <a:stretch/>
        </p:blipFill>
        <p:spPr>
          <a:xfrm>
            <a:off x="6715080" y="4643280"/>
            <a:ext cx="1727280" cy="118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g003"/>
          <p:cNvPicPr/>
          <p:nvPr/>
        </p:nvPicPr>
        <p:blipFill>
          <a:blip r:embed="rId5"/>
          <a:stretch/>
        </p:blipFill>
        <p:spPr>
          <a:xfrm>
            <a:off x="4000680" y="5072040"/>
            <a:ext cx="20160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40428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помн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стая (ординарная) связь – это всегда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В кратных (двойных или тройных) связях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дна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ь, а остальные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 всегда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бразованы гибридными орбиталями (неправильными восьмер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 образованы негибрид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– орбиталями (правильными восьмер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 менее прочна, чем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этим,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 легко разрывается и переходит в две новые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и в результате присоединения по месту двойной связи двух атомов или групп атомов реагирующих веществ.  Для алкенов наиболее типичными являются реакции присоединения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mg002"/>
          <p:cNvPicPr/>
          <p:nvPr/>
        </p:nvPicPr>
        <p:blipFill>
          <a:blip r:embed="rId1"/>
          <a:stretch/>
        </p:blipFill>
        <p:spPr>
          <a:xfrm>
            <a:off x="318960" y="3524400"/>
            <a:ext cx="4318200" cy="29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003"/>
          <p:cNvPicPr/>
          <p:nvPr/>
        </p:nvPicPr>
        <p:blipFill>
          <a:blip r:embed="rId2"/>
          <a:stretch/>
        </p:blipFill>
        <p:spPr>
          <a:xfrm>
            <a:off x="4721400" y="3645000"/>
            <a:ext cx="442404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53:59Z</dcterms:created>
  <dc:creator>WASP</dc:creator>
  <dc:description/>
  <dc:language>en-US</dc:language>
  <cp:lastModifiedBy>Учетная запись Майкрософт</cp:lastModifiedBy>
  <dcterms:modified xsi:type="dcterms:W3CDTF">2022-10-19T14:02:01Z</dcterms:modified>
  <cp:revision>109</cp:revision>
  <dc:subject/>
  <dc:title>Алкены</dc:title>
</cp:coreProperties>
</file>