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29.jpeg" ContentType="image/jpeg"/>
  <Override PartName="/ppt/media/image10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362-BB2B-4B14-BE9D-3E4944CC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D8C-D932-4353-908C-3C6CB97E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422-00D3-4BB7-B4E8-9D1C6842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BA2-F6E0-4B87-AC26-AEE5B18A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3F7-BA99-4D7B-B82D-418B2E1E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6DF-7A4B-45A5-8790-59D4F199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6AB-1B2B-45E0-984C-1414D178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42F-2757-4949-AB0C-113C5569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460-1C65-480A-ACC2-1E8DD753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F68-66BE-4F3C-8518-2205C563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3A2-ADBC-4DB9-8017-B3260901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FA1-F238-42FC-AE34-C636954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FB26-44F7-4305-8A0D-F07FEFC77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558ed5"/>
                </a:solidFill>
                <a:uFillTx/>
                <a:latin typeface="Calibri"/>
              </a:rPr>
              <a:t>Консультация для родителей по теме : </a:t>
            </a: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«Развитие фонематического восприятия и подготовка к обучению грамоте дошкольников 5-7 ле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00320" y="4857840"/>
            <a:ext cx="450036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1 К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чаная У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pch_maya: это правда?"/>
          <p:cNvPicPr/>
          <p:nvPr/>
        </p:nvPicPr>
        <p:blipFill>
          <a:blip r:embed="rId2"/>
          <a:stretch/>
        </p:blipFill>
        <p:spPr>
          <a:xfrm>
            <a:off x="785880" y="3571920"/>
            <a:ext cx="240660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785880" y="57168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образовательное учреждение «Центр развития ребёнка - детский сад № 13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Ворон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928840"/>
            <a:ext cx="77724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марина\Desktop\[Forum.Averia.Ws]_7177.jpg"/>
          <p:cNvPicPr/>
          <p:nvPr/>
        </p:nvPicPr>
        <p:blipFill>
          <a:blip r:embed="rId2"/>
          <a:stretch/>
        </p:blipFill>
        <p:spPr>
          <a:xfrm>
            <a:off x="785880" y="1143000"/>
            <a:ext cx="1714320" cy="202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марина\Desktop\post-166-1309573210.jpg"/>
          <p:cNvPicPr/>
          <p:nvPr/>
        </p:nvPicPr>
        <p:blipFill>
          <a:blip r:embed="rId3"/>
          <a:stretch/>
        </p:blipFill>
        <p:spPr>
          <a:xfrm>
            <a:off x="6286680" y="928800"/>
            <a:ext cx="1792080" cy="21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6572160" y="3214800"/>
          <a:ext cx="1357560" cy="428400"/>
        </p:xfrm>
        <a:graphic>
          <a:graphicData uri="http://schemas.openxmlformats.org/drawingml/2006/table">
            <a:tbl>
              <a:tblPr/>
              <a:tblGrid>
                <a:gridCol w="452520"/>
                <a:gridCol w="452520"/>
                <a:gridCol w="452520"/>
              </a:tblGrid>
              <a:tr h="428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857760" y="3286080"/>
          <a:ext cx="1357200" cy="428760"/>
        </p:xfrm>
        <a:graphic>
          <a:graphicData uri="http://schemas.openxmlformats.org/drawingml/2006/table">
            <a:tbl>
              <a:tblPr/>
              <a:tblGrid>
                <a:gridCol w="428400"/>
                <a:gridCol w="500040"/>
                <a:gridCol w="4287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071720" y="3286080"/>
          <a:ext cx="1357200" cy="428760"/>
        </p:xfrm>
        <a:graphic>
          <a:graphicData uri="http://schemas.openxmlformats.org/drawingml/2006/table">
            <a:tbl>
              <a:tblPr/>
              <a:tblGrid>
                <a:gridCol w="452160"/>
                <a:gridCol w="476280"/>
                <a:gridCol w="4287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5" descr="C:\Users\марина\Desktop\4luk.jpg"/>
          <p:cNvPicPr/>
          <p:nvPr/>
        </p:nvPicPr>
        <p:blipFill>
          <a:blip r:embed="rId4"/>
          <a:stretch/>
        </p:blipFill>
        <p:spPr>
          <a:xfrm>
            <a:off x="785880" y="3929040"/>
            <a:ext cx="2082600" cy="18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1000080" y="5786280"/>
          <a:ext cx="1357200" cy="428760"/>
        </p:xfrm>
        <a:graphic>
          <a:graphicData uri="http://schemas.openxmlformats.org/drawingml/2006/table">
            <a:tbl>
              <a:tblPr/>
              <a:tblGrid>
                <a:gridCol w="452520"/>
                <a:gridCol w="476280"/>
                <a:gridCol w="42840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6" descr="C:\Users\марина\Desktop\f8fe3094e19e9820d54be967632e757e.jpg"/>
          <p:cNvPicPr/>
          <p:nvPr/>
        </p:nvPicPr>
        <p:blipFill>
          <a:blip r:embed="rId5"/>
          <a:stretch/>
        </p:blipFill>
        <p:spPr>
          <a:xfrm>
            <a:off x="3071880" y="3857760"/>
            <a:ext cx="2500200" cy="18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857760" y="5786280"/>
          <a:ext cx="1357200" cy="428760"/>
        </p:xfrm>
        <a:graphic>
          <a:graphicData uri="http://schemas.openxmlformats.org/drawingml/2006/table">
            <a:tbl>
              <a:tblPr/>
              <a:tblGrid>
                <a:gridCol w="428400"/>
                <a:gridCol w="500040"/>
                <a:gridCol w="4287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7" descr="C:\Users\марина\Desktop\37c319028b08.jpg"/>
          <p:cNvPicPr/>
          <p:nvPr/>
        </p:nvPicPr>
        <p:blipFill>
          <a:blip r:embed="rId6"/>
          <a:stretch/>
        </p:blipFill>
        <p:spPr>
          <a:xfrm>
            <a:off x="6215040" y="3714840"/>
            <a:ext cx="2095560" cy="20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6715080" y="5786280"/>
          <a:ext cx="1366920" cy="428760"/>
        </p:xfrm>
        <a:graphic>
          <a:graphicData uri="http://schemas.openxmlformats.org/drawingml/2006/table">
            <a:tbl>
              <a:tblPr/>
              <a:tblGrid>
                <a:gridCol w="455760"/>
                <a:gridCol w="455400"/>
                <a:gridCol w="4557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3" descr="C:\Users\марина\Desktop\4luk.jpg"/>
          <p:cNvPicPr/>
          <p:nvPr/>
        </p:nvPicPr>
        <p:blipFill>
          <a:blip r:embed="rId7"/>
          <a:stretch/>
        </p:blipFill>
        <p:spPr>
          <a:xfrm>
            <a:off x="3643200" y="1071720"/>
            <a:ext cx="2214720" cy="2071440"/>
          </a:xfrm>
          <a:prstGeom prst="rect">
            <a:avLst/>
          </a:prstGeom>
          <a:ln w="0">
            <a:noFill/>
          </a:ln>
        </p:spPr>
      </p:pic>
      <p:sp>
        <p:nvSpPr>
          <p:cNvPr id="105" name="Содержимое 2"/>
          <p:cNvSpPr/>
          <p:nvPr/>
        </p:nvSpPr>
        <p:spPr>
          <a:xfrm>
            <a:off x="1476360" y="404640"/>
            <a:ext cx="6329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Позиция звука в слов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565960"/>
            <a:ext cx="785952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8840" y="49968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3. «Скажи наоборо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558ed5"/>
                </a:solidFill>
                <a:latin typeface="Calibri"/>
              </a:rPr>
              <a:t>твёрдо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мяг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716120" y="207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071800" y="150012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286240" y="1500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2928960" y="2857680"/>
            <a:ext cx="469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2143080" y="242892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5286240" y="24289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21430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5214960" y="3429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2143080" y="44290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5357880" y="4429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2071800" y="535788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9"/>
          <p:cNvSpPr/>
          <p:nvPr/>
        </p:nvSpPr>
        <p:spPr>
          <a:xfrm>
            <a:off x="5286240" y="528624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21"/>
          <p:cNvSpPr/>
          <p:nvPr/>
        </p:nvSpPr>
        <p:spPr>
          <a:xfrm>
            <a:off x="3929040" y="1571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22"/>
          <p:cNvSpPr/>
          <p:nvPr/>
        </p:nvSpPr>
        <p:spPr>
          <a:xfrm>
            <a:off x="3857760" y="2500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23"/>
          <p:cNvSpPr/>
          <p:nvPr/>
        </p:nvSpPr>
        <p:spPr>
          <a:xfrm>
            <a:off x="3857760" y="3500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24"/>
          <p:cNvSpPr/>
          <p:nvPr/>
        </p:nvSpPr>
        <p:spPr>
          <a:xfrm>
            <a:off x="3929040" y="4500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25"/>
          <p:cNvSpPr/>
          <p:nvPr/>
        </p:nvSpPr>
        <p:spPr>
          <a:xfrm>
            <a:off x="3857760" y="54291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Санки детские советские as a gift (Москва). DaruDar"/>
          <p:cNvPicPr/>
          <p:nvPr/>
        </p:nvPicPr>
        <p:blipFill>
          <a:blip r:embed="rId2"/>
          <a:stretch/>
        </p:blipFill>
        <p:spPr>
          <a:xfrm>
            <a:off x="642960" y="135720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ля родителей - Персональный сайт"/>
          <p:cNvPicPr/>
          <p:nvPr/>
        </p:nvPicPr>
        <p:blipFill>
          <a:blip r:embed="rId3"/>
          <a:stretch/>
        </p:blipFill>
        <p:spPr>
          <a:xfrm>
            <a:off x="6000840" y="3714840"/>
            <a:ext cx="2514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1692360" y="642960"/>
            <a:ext cx="53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4f81bd"/>
                </a:solidFill>
                <a:uFillTx/>
                <a:latin typeface="Calibri"/>
              </a:rPr>
              <a:t>4. «</a:t>
            </a:r>
            <a:r>
              <a:rPr b="1" lang="ru-RU" sz="4400" spc="-1" strike="noStrike" u="sng">
                <a:solidFill>
                  <a:srgbClr val="4f81bd"/>
                </a:solidFill>
                <a:uFillTx/>
                <a:latin typeface="Calibri"/>
              </a:rPr>
              <a:t>Поймай звук 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С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саня\Desktop\bird25.jpg"/>
          <p:cNvPicPr/>
          <p:nvPr/>
        </p:nvPicPr>
        <p:blipFill>
          <a:blip r:embed="rId4"/>
          <a:stretch/>
        </p:blipFill>
        <p:spPr>
          <a:xfrm>
            <a:off x="3357720" y="1500120"/>
            <a:ext cx="2449440" cy="2071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саня\Desktop\1266984744_8ca21c8b03b4-ryerryiryos.jpg"/>
          <p:cNvPicPr/>
          <p:nvPr/>
        </p:nvPicPr>
        <p:blipFill>
          <a:blip r:embed="rId5"/>
          <a:stretch/>
        </p:blipFill>
        <p:spPr>
          <a:xfrm>
            <a:off x="6215040" y="1357200"/>
            <a:ext cx="2214720" cy="235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саня\Desktop\890096821.jpg"/>
          <p:cNvPicPr/>
          <p:nvPr/>
        </p:nvPicPr>
        <p:blipFill>
          <a:blip r:embed="rId6"/>
          <a:stretch/>
        </p:blipFill>
        <p:spPr>
          <a:xfrm>
            <a:off x="785880" y="3618000"/>
            <a:ext cx="2071800" cy="259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саня\Desktop\20020.jpg"/>
          <p:cNvPicPr/>
          <p:nvPr/>
        </p:nvPicPr>
        <p:blipFill>
          <a:blip r:embed="rId7"/>
          <a:stretch/>
        </p:blipFill>
        <p:spPr>
          <a:xfrm>
            <a:off x="2786040" y="3786120"/>
            <a:ext cx="3214800" cy="235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3440" y="5565960"/>
            <a:ext cx="785952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4f81bd"/>
                </a:solidFill>
                <a:uFillTx/>
                <a:latin typeface="Calibri"/>
              </a:rPr>
              <a:t>5. «Ребус с картинками по первому звуку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716120" y="207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2928960" y="2857680"/>
            <a:ext cx="469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&quot;MirPiar.com&quot; - Справочно-информационный портал. Донецк - Фотоальбом"/>
          <p:cNvPicPr/>
          <p:nvPr/>
        </p:nvPicPr>
        <p:blipFill>
          <a:blip r:embed="rId2"/>
          <a:stretch/>
        </p:blipFill>
        <p:spPr>
          <a:xfrm>
            <a:off x="714240" y="2109960"/>
            <a:ext cx="1857600" cy="120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Индюки и орлы. Предисловие. современная сказка о современной…"/>
          <p:cNvPicPr/>
          <p:nvPr/>
        </p:nvPicPr>
        <p:blipFill>
          <a:blip r:embed="rId3"/>
          <a:stretch/>
        </p:blipFill>
        <p:spPr>
          <a:xfrm>
            <a:off x="2824200" y="1643040"/>
            <a:ext cx="1995480" cy="2157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Веселые картинки для детей. Обои для рабочего стола с персон…"/>
          <p:cNvPicPr/>
          <p:nvPr/>
        </p:nvPicPr>
        <p:blipFill>
          <a:blip r:embed="rId4"/>
          <a:stretch/>
        </p:blipFill>
        <p:spPr>
          <a:xfrm>
            <a:off x="5000760" y="1714680"/>
            <a:ext cx="1643040" cy="2238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Арбуз - Ольга Васильевна Смирнова"/>
          <p:cNvPicPr/>
          <p:nvPr/>
        </p:nvPicPr>
        <p:blipFill>
          <a:blip r:embed="rId5"/>
          <a:stretch/>
        </p:blipFill>
        <p:spPr>
          <a:xfrm>
            <a:off x="6643800" y="1714680"/>
            <a:ext cx="2071440" cy="2081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6"/>
          <p:cNvSpPr/>
          <p:nvPr/>
        </p:nvSpPr>
        <p:spPr>
          <a:xfrm>
            <a:off x="2214720" y="4214880"/>
            <a:ext cx="112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3500280" y="4429080"/>
            <a:ext cx="12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4857840" y="4286160"/>
            <a:ext cx="13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6357960" y="4429080"/>
            <a:ext cx="14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 u="sng">
              <a:solidFill>
                <a:srgbClr val="4f81bd"/>
              </a:solidFill>
              <a:uFillTx/>
              <a:latin typeface="Calibri"/>
            </a:endParaRPr>
          </a:p>
        </p:txBody>
      </p:sp>
      <p:pic>
        <p:nvPicPr>
          <p:cNvPr id="151" name="Picture 2" descr="Деревянный стульчик (зеленый)"/>
          <p:cNvPicPr/>
          <p:nvPr/>
        </p:nvPicPr>
        <p:blipFill>
          <a:blip r:embed="rId2"/>
          <a:stretch/>
        </p:blipFill>
        <p:spPr>
          <a:xfrm>
            <a:off x="428760" y="1357200"/>
            <a:ext cx="2786040" cy="29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Лампа детская CLASSIC Q03350021 керамика/бумага Лимончик h25см"/>
          <p:cNvPicPr/>
          <p:nvPr/>
        </p:nvPicPr>
        <p:blipFill>
          <a:blip r:embed="rId3"/>
          <a:stretch/>
        </p:blipFill>
        <p:spPr>
          <a:xfrm>
            <a:off x="2643120" y="1857240"/>
            <a:ext cx="2036880" cy="2000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Виниловая наклейка Облако"/>
          <p:cNvPicPr/>
          <p:nvPr/>
        </p:nvPicPr>
        <p:blipFill>
          <a:blip r:embed="rId4"/>
          <a:stretch/>
        </p:blipFill>
        <p:spPr>
          <a:xfrm>
            <a:off x="4572000" y="1857240"/>
            <a:ext cx="2166840" cy="214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ROFF"/>
          <p:cNvPicPr/>
          <p:nvPr/>
        </p:nvPicPr>
        <p:blipFill>
          <a:blip r:embed="rId5"/>
          <a:stretch/>
        </p:blipFill>
        <p:spPr>
          <a:xfrm>
            <a:off x="6786720" y="1785960"/>
            <a:ext cx="1928520" cy="22147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3286080" y="3786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1857240" y="4071960"/>
            <a:ext cx="12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4214880" y="4071960"/>
            <a:ext cx="101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3000240" y="4214880"/>
            <a:ext cx="115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5286240" y="4286160"/>
            <a:ext cx="138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 «Ребус – расставь цифры по порядк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99840" y="1571760"/>
            <a:ext cx="403884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М   М   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3     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2600" y="4929120"/>
            <a:ext cx="742932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Чтение строго по слогам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одержимое 6"/>
          <p:cNvSpPr/>
          <p:nvPr/>
        </p:nvSpPr>
        <p:spPr>
          <a:xfrm>
            <a:off x="2714760" y="3000240"/>
            <a:ext cx="3905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4f81bd"/>
                </a:solidFill>
                <a:uFillTx/>
                <a:latin typeface="Calibri"/>
              </a:rPr>
              <a:t>7. «Цветные карандаш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ить указанный в слове звук и написать соответствующую букву. Если зву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ласный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рас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арандаш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гласный твёрдый –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ини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андаш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гласный мягкий –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зелё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арандаш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пример: выдел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ний звук в слове «солнц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звук в слове «мам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 звук в слове «мух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9720" y="5286240"/>
            <a:ext cx="70722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 строго по слога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2"/>
          <p:cNvSpPr/>
          <p:nvPr/>
        </p:nvSpPr>
        <p:spPr>
          <a:xfrm>
            <a:off x="857160" y="4071960"/>
            <a:ext cx="1214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3429000" y="4071960"/>
            <a:ext cx="121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одержимое 2"/>
          <p:cNvSpPr/>
          <p:nvPr/>
        </p:nvSpPr>
        <p:spPr>
          <a:xfrm>
            <a:off x="2143080" y="4143240"/>
            <a:ext cx="12146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теперь выдели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13920" y="1599840"/>
            <a:ext cx="6215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вый звук в слове «мишка»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торой звук в слове «мир»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ледний звук в слове «до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00280" y="4357800"/>
            <a:ext cx="1495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одержимое 3"/>
          <p:cNvSpPr/>
          <p:nvPr/>
        </p:nvSpPr>
        <p:spPr>
          <a:xfrm>
            <a:off x="2286000" y="4071960"/>
            <a:ext cx="14954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3"/>
          <p:cNvSpPr/>
          <p:nvPr/>
        </p:nvSpPr>
        <p:spPr>
          <a:xfrm>
            <a:off x="928800" y="4143240"/>
            <a:ext cx="1495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6002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г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часть сло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ение слог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г состоит 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скольки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уков (   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и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н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3 слог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Запомните прави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колько в слове гласных, столько и слого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4500720" y="2357280"/>
            <a:ext cx="92844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4786200" y="392904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3571920" y="392904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2357280" y="392904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928840"/>
            <a:ext cx="77724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692640"/>
            <a:ext cx="6872400" cy="8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ь состоит из зву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684360" y="1413000"/>
            <a:ext cx="78483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ву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то, что м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ыш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знос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0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сны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г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сны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онк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вёрды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г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онкие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глух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вонкие  глух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4"/>
          <p:cNvSpPr/>
          <p:nvPr/>
        </p:nvSpPr>
        <p:spPr>
          <a:xfrm>
            <a:off x="6929280" y="3000240"/>
            <a:ext cx="1285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7"/>
          <p:cNvCxnSpPr/>
          <p:nvPr/>
        </p:nvCxnSpPr>
        <p:spPr>
          <a:xfrm flipH="1">
            <a:off x="2123280" y="2852280"/>
            <a:ext cx="793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18"/>
          <p:cNvCxnSpPr/>
          <p:nvPr/>
        </p:nvCxnSpPr>
        <p:spPr>
          <a:xfrm>
            <a:off x="4500360" y="2781360"/>
            <a:ext cx="71964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Прямая со стрелкой 20"/>
          <p:cNvCxnSpPr/>
          <p:nvPr/>
        </p:nvCxnSpPr>
        <p:spPr>
          <a:xfrm flipH="1">
            <a:off x="1546920" y="3933720"/>
            <a:ext cx="288360" cy="72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Прямая со стрелкой 23"/>
          <p:cNvCxnSpPr/>
          <p:nvPr/>
        </p:nvCxnSpPr>
        <p:spPr>
          <a:xfrm flipH="1">
            <a:off x="3563640" y="5157360"/>
            <a:ext cx="7927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Прямая со стрелкой 24"/>
          <p:cNvCxnSpPr/>
          <p:nvPr/>
        </p:nvCxnSpPr>
        <p:spPr>
          <a:xfrm flipH="1">
            <a:off x="4284360" y="3933360"/>
            <a:ext cx="7927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25"/>
          <p:cNvCxnSpPr/>
          <p:nvPr/>
        </p:nvCxnSpPr>
        <p:spPr>
          <a:xfrm>
            <a:off x="4355640" y="5157360"/>
            <a:ext cx="648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26"/>
          <p:cNvCxnSpPr/>
          <p:nvPr/>
        </p:nvCxnSpPr>
        <p:spPr>
          <a:xfrm>
            <a:off x="6011640" y="3933360"/>
            <a:ext cx="648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Прямая со стрелкой 27"/>
          <p:cNvCxnSpPr/>
          <p:nvPr/>
        </p:nvCxnSpPr>
        <p:spPr>
          <a:xfrm>
            <a:off x="6803640" y="5084640"/>
            <a:ext cx="57708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30"/>
          <p:cNvCxnSpPr/>
          <p:nvPr/>
        </p:nvCxnSpPr>
        <p:spPr>
          <a:xfrm flipH="1">
            <a:off x="6155640" y="5084640"/>
            <a:ext cx="648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Прямоугольник 15"/>
          <p:cNvSpPr/>
          <p:nvPr/>
        </p:nvSpPr>
        <p:spPr>
          <a:xfrm>
            <a:off x="5429160" y="4714920"/>
            <a:ext cx="2858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6"/>
          <p:cNvSpPr/>
          <p:nvPr/>
        </p:nvSpPr>
        <p:spPr>
          <a:xfrm>
            <a:off x="7858080" y="4714920"/>
            <a:ext cx="28584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9"/>
          <p:cNvSpPr/>
          <p:nvPr/>
        </p:nvSpPr>
        <p:spPr>
          <a:xfrm>
            <a:off x="2928960" y="3571920"/>
            <a:ext cx="28584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680" y="1714680"/>
            <a:ext cx="8115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бозначает предметы, их призна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ейств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ение слова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оит из сл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енькое слово – э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дл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предлог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572000" y="3000240"/>
            <a:ext cx="1785960" cy="28584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5143680" y="4786200"/>
            <a:ext cx="928440" cy="28584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11280" y="141264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состоит из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В предложении может быть одно слово или нескольк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едложен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ишутся раздель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льшая бук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шется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але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ах люд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чках живот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званиях горо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ли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конц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 стави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5435640" y="4869000"/>
            <a:ext cx="1785960" cy="2854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1116000" y="4869000"/>
            <a:ext cx="1785960" cy="2854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6"/>
          <p:cNvSpPr/>
          <p:nvPr/>
        </p:nvSpPr>
        <p:spPr>
          <a:xfrm>
            <a:off x="3276720" y="4869000"/>
            <a:ext cx="1785960" cy="2854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 rot="16200000">
            <a:off x="974520" y="4722120"/>
            <a:ext cx="568440" cy="28584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 rot="16200000">
            <a:off x="5294160" y="4722120"/>
            <a:ext cx="568440" cy="28584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10"/>
          <p:cNvSpPr/>
          <p:nvPr/>
        </p:nvSpPr>
        <p:spPr>
          <a:xfrm flipH="1">
            <a:off x="7595640" y="5084640"/>
            <a:ext cx="45720" cy="73080"/>
          </a:xfrm>
          <a:prstGeom prst="ellipse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вуко – слоговой анализ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хема фонетического разбора слов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ом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дно сл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ва слог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5 зву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  о  м  и к    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бук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1835280" y="2924280"/>
            <a:ext cx="1785960" cy="2854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2700360" y="350028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1619280" y="350028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7"/>
          <p:cNvSpPr/>
          <p:nvPr/>
        </p:nvSpPr>
        <p:spPr>
          <a:xfrm>
            <a:off x="2916360" y="4076640"/>
            <a:ext cx="28548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2050920" y="4076640"/>
            <a:ext cx="28584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3348000" y="4076640"/>
            <a:ext cx="2858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1619280" y="4076640"/>
            <a:ext cx="2858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1"/>
          <p:cNvSpPr/>
          <p:nvPr/>
        </p:nvSpPr>
        <p:spPr>
          <a:xfrm>
            <a:off x="2484360" y="4076640"/>
            <a:ext cx="28584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ализ – деление целого на части. Синтез – собираем из частей цело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+ на = 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 + [ И ] + [ Н ] + [ А ] = 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О ] + [ С ] + [ Н ] = сон, н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руки, мыть. = Мама моет р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3440" y="5565960"/>
            <a:ext cx="785952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785880"/>
            <a:ext cx="6400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Успехов Вам в обучении детей, дорогие родител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Школа раннего развития / Малыши"/>
          <p:cNvPicPr/>
          <p:nvPr/>
        </p:nvPicPr>
        <p:blipFill>
          <a:blip r:embed="rId2"/>
          <a:stretch/>
        </p:blipFill>
        <p:spPr>
          <a:xfrm>
            <a:off x="1214280" y="2071800"/>
            <a:ext cx="5929560" cy="4286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42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8286480" cy="63579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42968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4" descr="звуки2.jpg"/>
          <p:cNvPicPr/>
          <p:nvPr/>
        </p:nvPicPr>
        <p:blipFill>
          <a:blip r:embed="rId2"/>
          <a:stretch/>
        </p:blipFill>
        <p:spPr>
          <a:xfrm>
            <a:off x="493560" y="620640"/>
            <a:ext cx="81568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429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Йотированные глас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сных букв 10, а звуков всего 6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, Е, Ю, Ё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ют два звука в начале слова (ёж),после гласного (маяк), после Ъ и Ь знаков (вьюнок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= [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= [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 = [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 = [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е ЁЖ – 2 буквы (ё, ж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звука([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, Е, Ю, Ё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огласного указывают на его мягк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е ЛЁН – 3 буквы, 3 звука ([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к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о, что м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ишем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укв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ем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вёрдый зву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авильн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правиль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 Д   М   Х          эЛь   Дэ    эМ    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5"/>
          <p:cNvSpPr/>
          <p:nvPr/>
        </p:nvSpPr>
        <p:spPr>
          <a:xfrm>
            <a:off x="4211640" y="3357720"/>
            <a:ext cx="0" cy="23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7"/>
          <p:cNvSpPr/>
          <p:nvPr/>
        </p:nvSpPr>
        <p:spPr>
          <a:xfrm>
            <a:off x="4716360" y="4365720"/>
            <a:ext cx="647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8"/>
          <p:cNvSpPr/>
          <p:nvPr/>
        </p:nvSpPr>
        <p:spPr>
          <a:xfrm>
            <a:off x="5508720" y="4508640"/>
            <a:ext cx="64764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9"/>
          <p:cNvSpPr/>
          <p:nvPr/>
        </p:nvSpPr>
        <p:spPr>
          <a:xfrm>
            <a:off x="6443640" y="4437000"/>
            <a:ext cx="6494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>
            <a:off x="7524720" y="4437000"/>
            <a:ext cx="647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928840"/>
            <a:ext cx="77724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Различаем звуки и буквы:</a:t>
            </a:r>
            <a:br>
              <a:rPr sz="28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Звуки слышим  и произносим!!!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Буквы  видим   и    пишем !!!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Услышь меня Томские Новости"/>
          <p:cNvPicPr/>
          <p:nvPr/>
        </p:nvPicPr>
        <p:blipFill>
          <a:blip r:embed="rId2"/>
          <a:stretch/>
        </p:blipFill>
        <p:spPr>
          <a:xfrm>
            <a:off x="2286000" y="2214720"/>
            <a:ext cx="1214280" cy="134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Рот - Картинка 7729/33"/>
          <p:cNvPicPr/>
          <p:nvPr/>
        </p:nvPicPr>
        <p:blipFill>
          <a:blip r:embed="rId3"/>
          <a:stretch/>
        </p:blipFill>
        <p:spPr>
          <a:xfrm>
            <a:off x="5214960" y="2357280"/>
            <a:ext cx="1785960" cy="138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Six Pairs Of Cartoon Eyes Looking In Different Directions Фотография, картинки, изображения и сток-фотография без роялти. Image"/>
          <p:cNvPicPr/>
          <p:nvPr/>
        </p:nvPicPr>
        <p:blipFill>
          <a:blip r:embed="rId4"/>
          <a:stretch/>
        </p:blipFill>
        <p:spPr>
          <a:xfrm>
            <a:off x="2286000" y="485784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http://wordassociations.ru/image/600x/svg_to_png/Anonymous_pen_pencil.png"/>
          <p:cNvPicPr/>
          <p:nvPr/>
        </p:nvPicPr>
        <p:blipFill>
          <a:blip r:embed="rId5"/>
          <a:stretch/>
        </p:blipFill>
        <p:spPr>
          <a:xfrm>
            <a:off x="5214960" y="4929120"/>
            <a:ext cx="1714320" cy="1457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дактические игры </a:t>
            </a:r>
            <a:br>
              <a:rPr sz="6000"/>
            </a:b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детьм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знай звук по беззвучной артикуляц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4" descr="hello_html_5ff00fb1.png"/>
          <p:cNvPicPr/>
          <p:nvPr/>
        </p:nvPicPr>
        <p:blipFill>
          <a:blip r:embed="rId2"/>
          <a:stretch/>
        </p:blipFill>
        <p:spPr>
          <a:xfrm>
            <a:off x="684360" y="1916280"/>
            <a:ext cx="770400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4" descr="hello_html_5ff00fb1.png"/>
          <p:cNvPicPr/>
          <p:nvPr/>
        </p:nvPicPr>
        <p:blipFill>
          <a:blip r:embed="rId3"/>
          <a:stretch/>
        </p:blipFill>
        <p:spPr>
          <a:xfrm>
            <a:off x="684360" y="4221000"/>
            <a:ext cx="77752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8:37:10Z</dcterms:created>
  <dc:creator>саня</dc:creator>
  <dc:description/>
  <dc:language>en-US</dc:language>
  <cp:lastModifiedBy>Ульяна</cp:lastModifiedBy>
  <dcterms:modified xsi:type="dcterms:W3CDTF">2022-11-02T08:41:46Z</dcterms:modified>
  <cp:revision>111</cp:revision>
  <dc:subject/>
  <dc:title>Презентация по теме :  «Обучение грамоте. Звуковой анализ слов»</dc:title>
</cp:coreProperties>
</file>