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ётная презентация учителя начальных классов ГОУ СОШ №427 Перепелицы Е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E15-DFE7-4AB2-8867-1AB23C8A8B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ётная презентация учителя начальных классов ГОУ СОШ №427 Перепелицы Е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41D6-28EA-4199-AC69-BB3309687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ётная презентация учителя начальных классов ГОУ СОШ №427 Перепелицы Е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B26B-5C06-4C3B-BE68-0279040BF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40D-DFA9-4CDC-A0C3-83179935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0F8-6D07-4260-8A65-07C7E632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E5A9C-988B-4E17-8E95-92DD5644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8C325-5082-4819-BF4B-7DD5DDA1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6E283-B58F-4183-8B8B-43A3C4B4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7E81F-94CB-4EBC-A96B-C8C5BE99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6DCB7-6808-42AC-B79F-1E3106D4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D21B8-BE6E-4BA7-A145-C27DF2A3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0EE72-4ED6-4E9F-B203-381CD091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14463-B1C6-487D-B696-505E6118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8D01E-2F66-44B6-9649-832FB5C8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BF472-54B3-433D-AA94-F2A77FDA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3D0-5EB6-4665-ADD7-99180CC1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5B84A-19DF-4352-9630-D9081718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7B8BF-3CE4-4E7A-A2B7-0DCE3FB5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3606E-D2DB-4621-8BBC-45A55B3B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AF04C-A941-4A92-837D-13919905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D3E96-A87A-4DCC-8265-F815D55E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9486B-6362-4053-B743-C40418BC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32B15-81EC-482F-B8DB-1FD9117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C5AD2-1CED-490C-A72D-9DC33E7D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0E2CF-19E1-43CC-A59C-E91CA99B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9CBFA-D8AD-441B-B027-33232290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3FC-68A1-4E5F-9F2B-EBF81218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54A20-9841-4941-97BD-7F1CE2E6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A3091-3670-4AAB-86C4-E2E90E52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89153-04C0-4D03-A3F2-878CB7A6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8DD53-DACF-4707-BD5F-94F00B72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238B5-8ACF-4C3E-9763-27064AAE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C2E00-6E83-4186-86FE-44C94C52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F35C5-6417-4F09-84A8-7B3C7AC9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0539F-8BD0-4015-AFA7-4CA71E85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8C73F-9088-4815-A716-BC0FD791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106EB-9FCA-4674-9981-D83B16AD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273D-810D-47DE-B5E4-21804575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10296-AA26-4045-9ED6-6DDC722E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B44B5-2328-4BBB-A385-7F34D193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06726-DDA4-4221-AB01-8D7DA658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21FCE-5916-4961-9E5C-A1B79162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74B65-F6F5-4EF5-8A06-902FE0B6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BA985-77AF-4D20-9F77-A39766EC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159B5-B92E-44A0-AAD0-84977527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2D772-F2AB-4937-B67D-DFD3B73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C396C-78A0-4E22-9ED4-16D433E8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479C7-17C9-44AA-87CD-83B168FB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4C3C-CDB0-40E2-8ED9-9BAD3B57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58488-2932-4FBD-83A2-DDA284A5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653F6-C607-4C3C-94DE-A50193AF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E7E4E-8739-4DA6-BA88-C1BAD875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28661-0F0F-4B00-A30A-51672900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5D02C-8635-4997-A8E5-BC10589F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BFF5-91DD-42D0-A897-A67C8ECD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2C2E-9147-41A7-9259-0F2288D0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5AFA-EAE0-4305-9100-EDFDC868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8A88-1BF2-4EE8-84BF-D440D8B0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FD4B-F3C0-416D-93B1-F71ECD4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06F-FC7E-4896-A764-D172F57D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AAC2-D5D2-44F3-8B2F-3800112C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216A-BD10-4595-B335-447E5A82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8E48-2D05-4CBF-BB6D-C3519EF1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84BD-7F4C-441E-9C69-022188AC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3216-3659-4A01-84DD-7710D17A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A560-4320-4CD0-8F67-8CE192F5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838A-B410-482B-AEDC-F4A32D6D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4EBB-09CA-43A2-83CB-FFEA84D8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89CD-833C-480D-97FB-4C3C6014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8DCB-8D53-4960-9CDB-A8E96764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0C4-8643-48A7-A03F-A004A56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E2C15-E21E-4DE1-8F59-5940ABF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669F0-21DD-4710-8A89-8D3221E4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31D2-6277-4E43-B194-41DE27A9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3F66-4D42-4638-AEE6-356C1E78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3224-AD13-44DC-A090-5A65B17B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2D1C-3505-4ABB-AD5F-A8CBA8AA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AA573-8EF1-4CA7-ACF9-C92DC4A1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B220D-C916-4C82-9031-222B1F61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240E0-57F9-49C9-A65A-25836207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FF2A0-DC02-4A97-A0AA-AAE03086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18D-0008-4E41-AEB4-DBE308D2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7928-4A78-4698-8853-23B9C8CF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6636-4093-4F7E-8C53-CD82DFB9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7646-88B5-469C-9E3B-8EDDA372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4DBC-931E-465B-BA44-CC0A92E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015A-776E-45FF-BA8D-DD5276AD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2ED8A-26C7-4AAE-8D5B-EBFCF5F0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8705-A523-4721-9D2E-1F40E515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3257-B94C-4D48-94D1-5CDB6EAE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1F97D-9833-48D3-BAEC-B27F9B0A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A07AE-32B6-4D79-87B9-2ED45660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062-6409-4ECB-B50D-E919C1C0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5F69-C2F5-4EB5-8E9C-42775C49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F5944-3D76-4A1D-8B82-DEEB429E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D0CB3-B199-44D8-8D44-EFB21FD5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6F5DB-CC8A-47DA-BADB-B484E8C9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76597-7F84-4886-94A6-2DA6AF75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5F6FB-AA9D-47E2-BEDB-354693C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CB84-E07A-42B2-B3F8-3F3D89E3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2353C-A751-4CD7-9EE3-43943F4F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7AD2-34E3-477A-9A85-AB117654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94C7-AC5E-4191-B904-F8952700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68F-18E1-45C7-9D77-FE0CEAB3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F4382-1BCC-4C17-AA3B-3C41F234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A66EB-086F-47F2-B062-F2E008CD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18B7A-6063-4103-A3BA-B9FD89C4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A9FAC-06C3-4740-AF23-457B672A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0815D-DCF4-409B-A048-B688A0F0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69791-DA96-4382-BE68-380A98BC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4DF9C-0ADD-433A-A412-198E1B4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4ED4E-8919-477D-8BD7-5CE1AFE7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FE1C3-0AFA-4BEC-BD1B-2E0E589C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B72B5-92B7-4699-8D77-0930DA34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8FF-74A6-4EEE-BCCA-05DB439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2CA8A-C211-4FF5-87F2-1F56F032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46FD9-E6AD-4F70-BF66-EA66B171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B89BB-563F-4FBB-80E6-96066FB0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E1B0E-4C34-4751-AE8C-8D1CAB6D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D068A-C917-4771-9249-C6833883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B1040-6064-4FE0-ACCA-FCF74B00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1EF16-C099-4314-9116-ED1E9474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E9BB7-FAB8-4DCB-863E-A4FA2C9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2D095-C70E-4448-A8AE-FF507FE2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49891-3CE3-40DB-830A-57D226D3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2CE-F653-4BFD-87D0-2AFB066B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3B496-E9E4-4820-BC40-26F9825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4A2C6-BA4E-4C0B-A8BB-29B7AC6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93008-1D59-4B0F-8748-9DCA2F36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FBC06-11B1-4F1C-84A1-181C43D8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5309F-473F-413C-A3A4-ECA3BDA7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B9E1F-0DBA-47BD-A664-81EEEFA3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1BDC-310A-4A05-97CB-252FA8A5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877C0-B253-4195-BBD7-06D7D2F7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B599D-C35B-48A6-A58F-24D908AA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F314C-AD7B-4889-8E29-2A08022C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B32-DF4E-4DB3-B2E5-7E29DC92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F10EE-538D-4827-B4CB-1AFD8664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7AB0C-31B1-47DB-AFEE-138D0ADA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65B24-4F1E-4159-94F0-E5459A39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98E09-ED63-476C-9519-788FBFBF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0BC6C-8E81-4EE3-ACF3-0EB86B35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4CC60-9D37-4948-9185-4DEB15A1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44EBD-FD01-400D-A9B2-15145CE1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A089F-48EA-446F-BD60-B4814DC2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3E163-DBBD-4590-A03A-63CFE228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F8664-D714-4948-A4D1-203067F2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C522-1FE2-4D83-88B5-BDD2F9CE771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9BD1-702F-4BAB-962F-750B3E8CC9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B51E-2B39-4AFA-9B27-6FA9406956A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B49B-A98B-4330-B818-7605B0F2B7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2942-9E5C-45D4-8996-92EAC382581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C55A-143B-47DE-B302-4F4EE449D4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6365-1D4E-4F4E-AA00-D768632C0B7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3E5B-8C9A-4D08-9DC2-940C880011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0DBA-CDA8-4C18-9CEE-B7056F9086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30EF-8C2A-46D0-A294-2E490B7A6F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9709-E181-4251-8DCC-C901053B4EC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40A9-63BE-4195-BB81-B74404D679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9B5C-6119-4925-8D83-AD16401CAEC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62C6-9CC7-4C63-8C88-7704C6B606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46FD-3175-4D8B-9AAD-CA338215532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D9F7-CDF1-4F15-A2E5-C92A016630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F32C-1D47-426E-96A6-B8E0B424EE3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55A1-886A-4102-9BCC-B0E5594888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C9BB-9C10-48BA-BAE8-9C4F0E86B95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5CB8-F8D9-42B0-8339-89B931077D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F544-EADE-4F7A-8ED8-7EC251A445A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3F1E-837D-408D-8155-4271DEFD21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3A4D-88A4-4330-91B3-3115B897A47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0364-061F-40F1-B111-2390FA14E6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820728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Georgia"/>
              </a:rPr>
              <a:t>Пресмыкающиеся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2987640" y="3716280"/>
            <a:ext cx="6400800" cy="25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C1BE-D2AE-411B-A6CD-C5F159FAD4C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741D-072E-46A3-9F53-7E364259C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Крокод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7" descr="крокодил2"/>
          <p:cNvPicPr/>
          <p:nvPr/>
        </p:nvPicPr>
        <p:blipFill>
          <a:blip r:embed="rId1"/>
          <a:srcRect l="0" t="0" r="0" b="24606"/>
          <a:stretch/>
        </p:blipFill>
        <p:spPr>
          <a:xfrm>
            <a:off x="900000" y="83664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BFB2-EACE-402B-BFBC-306CDF665D6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0A9C-2FCD-41CC-BA3D-06F5B1795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Шелестя, шурша травой, проползает кнут жив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  </a:t>
            </a: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Вот он встал и зашипел: подходи, кто очень сме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5"/>
          <p:cNvSpPr txBox="1"/>
          <p:nvPr/>
        </p:nvSpPr>
        <p:spPr>
          <a:xfrm>
            <a:off x="3780000" y="3860640"/>
            <a:ext cx="187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4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D87C-BDD5-4D78-8C1A-27B2AC16729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C7C5-87D9-4B86-B954-65D85D4E7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змея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5640" y="836640"/>
            <a:ext cx="7704000" cy="51354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Зме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E631-8069-45AE-BF2B-31D9121CE0C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5E28-15AA-4356-A0EE-3C3FB6958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Georgia"/>
              </a:rPr>
              <a:t>В траве мелькает, хвостом виляет. Хвост оторвет - другой нажив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4"/>
          <p:cNvSpPr txBox="1"/>
          <p:nvPr/>
        </p:nvSpPr>
        <p:spPr>
          <a:xfrm>
            <a:off x="4211640" y="3860640"/>
            <a:ext cx="79200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4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372C-6ACB-4A84-9BE5-0A74359AF19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9942-4896-4BCC-A3C3-34414BDCC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ящ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55645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Ящерица </a:t>
            </a:r>
            <a:r>
              <a:rPr b="0" lang="ru-RU" sz="4400" spc="-1" strike="noStrike">
                <a:solidFill>
                  <a:srgbClr val="66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ED41-B4B8-4DD3-B5C0-CCD3054BEFB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0735-9122-4441-9EF4-2294B0E67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338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00cc"/>
                </a:solidFill>
                <a:latin typeface="Georgia"/>
              </a:rPr>
              <a:t>Пресмыкающиеся – первые настоящие наземные позвоночные животные. У них сухая кожа, яйца имеют плотный покров, и поэтому в отличие от земноводных могут жить вдали от воды и населять засушливые обла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554508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E3DB-2B6B-4F33-B2CD-277813B843D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74EA-E0B8-42CE-89B5-3552229BEE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Georgia"/>
              </a:rPr>
              <a:t>Пресмыкающиеся получили такое название за способ передвижения. Они извиваются всем телом – пресмыкаются, так как их лапы, если они есть, расположены по бокам тела, а не под брю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Рисунок 2" descr=""/>
          <p:cNvPicPr/>
          <p:nvPr/>
        </p:nvPicPr>
        <p:blipFill>
          <a:blip r:embed="rId1"/>
          <a:stretch/>
        </p:blipFill>
        <p:spPr>
          <a:xfrm>
            <a:off x="2411280" y="2054160"/>
            <a:ext cx="6337440" cy="4614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0225-DCEF-4C75-88D2-B8DB52774CB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9881-680C-4882-9881-DE1BFBF03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107640" y="26028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Georgia"/>
              </a:rPr>
              <a:t>Пресмыкающиеся – животные холоднокровные. При похолодании они забираются в укромное место и засыпают, пока тепло их не разбудит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Рисунок 1" descr=""/>
          <p:cNvPicPr/>
          <p:nvPr/>
        </p:nvPicPr>
        <p:blipFill>
          <a:blip r:embed="rId1"/>
          <a:stretch/>
        </p:blipFill>
        <p:spPr>
          <a:xfrm>
            <a:off x="4284720" y="3645000"/>
            <a:ext cx="4755960" cy="301284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2" descr=""/>
          <p:cNvPicPr/>
          <p:nvPr/>
        </p:nvPicPr>
        <p:blipFill>
          <a:blip r:embed="rId2"/>
          <a:stretch/>
        </p:blipFill>
        <p:spPr>
          <a:xfrm>
            <a:off x="130320" y="1773360"/>
            <a:ext cx="4154400" cy="280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83C2-DA4E-40C9-AC90-E7670DEDAAE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47A0-01EB-42BC-8D8B-DE57504FC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6" descr="large"/>
          <p:cNvPicPr/>
          <p:nvPr/>
        </p:nvPicPr>
        <p:blipFill>
          <a:blip r:embed="rId1"/>
          <a:stretch/>
        </p:blipFill>
        <p:spPr>
          <a:xfrm>
            <a:off x="4915080" y="1693800"/>
            <a:ext cx="4068720" cy="28148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0" y="0"/>
            <a:ext cx="90360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Пресмыкающиеся – настоящие наземные животные. Они живут далеко от воды и откладывают яйца на суше. Под оболочкой яйца есть все, что нужно для развития зародыша, включая запас воды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8" descr="dino6-3"/>
          <p:cNvPicPr/>
          <p:nvPr/>
        </p:nvPicPr>
        <p:blipFill>
          <a:blip r:embed="rId2"/>
          <a:stretch/>
        </p:blipFill>
        <p:spPr>
          <a:xfrm>
            <a:off x="4051440" y="4869000"/>
            <a:ext cx="1725480" cy="19033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" descr=""/>
          <p:cNvPicPr/>
          <p:nvPr/>
        </p:nvPicPr>
        <p:blipFill>
          <a:blip r:embed="rId3"/>
          <a:stretch/>
        </p:blipFill>
        <p:spPr>
          <a:xfrm>
            <a:off x="179280" y="1693800"/>
            <a:ext cx="4327560" cy="2814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D0A5-5573-4F64-AC65-658B052F719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26A4-1B76-462A-90CE-AECD5A83F5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Рисун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966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6502-D607-44B1-8679-08EF265445E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9E41-4C55-4167-9DEF-FB76F5A1D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-217440" y="1052280"/>
            <a:ext cx="936144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5"/>
          <p:cNvSpPr txBox="1"/>
          <p:nvPr/>
        </p:nvSpPr>
        <p:spPr>
          <a:xfrm>
            <a:off x="826920" y="1484280"/>
            <a:ext cx="770580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загадки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18DC-D0B1-4B96-BACC-4CA312932DB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B711-36BF-4628-8C05-3F93EB245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2400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Кто же это ход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В каменной рубах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В каменной рубах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Ходя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5"/>
          <p:cNvSpPr txBox="1"/>
          <p:nvPr/>
        </p:nvSpPr>
        <p:spPr>
          <a:xfrm>
            <a:off x="4140360" y="4076640"/>
            <a:ext cx="7189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4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76BA-F73F-4495-8021-805E0D76439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5A49-9C1E-4A5B-8E8C-3AAE1F9C3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MPj04038400000[1]"/>
          <p:cNvPicPr/>
          <p:nvPr/>
        </p:nvPicPr>
        <p:blipFill>
          <a:blip r:embed="rId1"/>
          <a:stretch/>
        </p:blipFill>
        <p:spPr>
          <a:xfrm>
            <a:off x="539640" y="836640"/>
            <a:ext cx="7777440" cy="51847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Черепахи</a:t>
            </a:r>
            <a:r>
              <a:rPr b="0" lang="ru-RU" sz="4400" spc="-1" strike="noStrike">
                <a:solidFill>
                  <a:srgbClr val="66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746F-E9EE-4165-88E9-07D6744F1FE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BCA9-A583-43AC-B3BB-17A7376D9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В реках Африки жи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Злой зеленый пароход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Кто б навстречу ни поплыл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Всех проглотит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4"/>
          <p:cNvSpPr txBox="1"/>
          <p:nvPr/>
        </p:nvSpPr>
        <p:spPr>
          <a:xfrm>
            <a:off x="4140360" y="4653000"/>
            <a:ext cx="12236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4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2:28:34Z</dcterms:created>
  <dc:creator>2a</dc:creator>
  <dc:description/>
  <dc:language>en-US</dc:language>
  <cp:lastModifiedBy>2022</cp:lastModifiedBy>
  <dcterms:modified xsi:type="dcterms:W3CDTF">2023-04-11T18:20:34Z</dcterms:modified>
  <cp:revision>32</cp:revision>
  <dc:subject/>
  <dc:title>«ЧЕРЕПАХА И СКОРПИОН» Узбекская сказка</dc:title>
</cp:coreProperties>
</file>