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ётная презентация учителя начальных классов ГОУ СОШ №427 Перепелицы Е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3A20-6B66-426F-A3DD-EB8F334ACC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ётная презентация учителя начальных классов ГОУ СОШ №427 Перепелицы Е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8424-C850-4253-894C-7FE80138F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ётная презентация учителя начальных классов ГОУ СОШ №427 Перепелицы Е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B823-69D4-4405-AC17-0680C9857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679-516E-4646-AC07-A5622BF5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E1E-6A79-4A19-9D28-989FE484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1CE0B-A18E-4F58-843A-4139E09A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4DA67-5C94-42E6-BE81-82F07E3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BD03D-1D45-40A0-92A4-2B3D9D77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4FCCD-0ECB-410C-B05F-F82B02B4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A5591-A4DC-4D5F-AC2C-CF5AF07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B0174-A2C0-45F1-BFD4-766473D5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E8BE-8798-436C-B6AE-BD93D1E7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C943F-4E57-4300-A7DA-C27F75C1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B02C1-99C4-411D-AE07-F69714CB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73E69-1E67-4BF3-8CDC-86F69F2E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BC2-F46C-43B5-B5E1-E8B7508B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78D3B-200F-4BCA-8CAE-01248FD1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5A729-8AED-4DBB-A583-C5E83CC7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EBB39-7820-445E-A254-8401E17E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D7415-C1FC-4556-B399-442C36E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2FA9E-2805-4F7B-A5B1-741FC7C9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BA431-3A57-4F56-BD4E-1A4C179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48661-271D-4EE2-A7CF-696577A0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9AB71-BE54-41CF-9C54-652BCC1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4EE9F-50E8-49B1-BDC5-FD98DAA5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3217F-9043-45B0-8852-FB27685E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B49-F299-46A2-B7CD-54FB93C4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53078-525B-4201-BE01-3C85CC78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839DB-A26C-4E2C-8C7D-21726E44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0820B-AE85-43F9-9F09-13D9C4B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3EFB-9889-47DF-B58F-0A18C849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68699-3800-4E6D-891B-8A5C3B6C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65DA2-402A-41DF-BBBF-BCA05AD7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6CCCD-E09C-4F9C-8B4B-447EB2F2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3A3D-9903-40A5-9662-8FDFBCBD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18472-4DE6-4044-AA01-31AA95CB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FCC55-523F-401B-B2C4-4A39D04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9EB7-5C83-4EF6-BC2C-0B30FA25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0DCD-2BC9-41C8-8681-2CF4EC07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20F23-1B4C-438E-ACB1-728367E9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FE46A-09F4-498E-B617-1C1F7B7B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F5179-510F-45A2-9339-7EE7A065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17004-907E-458D-BD1E-804342C4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DC763-1EAC-4BBD-A33A-0C586E25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3BA2E-C496-4405-BC42-D2E9870A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EE129-8B47-4C52-B045-393F346B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374E0-D428-4506-B84A-52130E4C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01D4D-FE18-41A4-B539-44A6456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59DC-F14E-4739-AC20-211C188A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271A1-0998-49E3-B6B8-F14BA7E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9A867-7FF6-4692-9890-F38E4AA8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75E9A-1D99-4CBE-B241-6C83C4A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F5001-DD79-4EE9-B8F3-0CAFDC8A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22C7A-88AB-4BFA-937D-2B893EDE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240F-0B31-45D3-B369-A5A8789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C7AA-8813-431C-A454-4CB0D7BA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E47A-7D49-4368-9778-B053A2A6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53CC-80FA-4AC7-A27B-AB7DE49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5383-9F6B-4246-911D-ACB82F6F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4CC-0D01-4969-9048-BFC2FCAC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541E-1B43-4441-9933-376D53D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F677-4560-4B8D-9DDC-08CD98A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0FFA-E89B-4F39-8E06-4E34714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CF0D-03EB-4C3E-BF2D-4ECA53AC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BE4A-7416-4C56-BF81-1EE4B598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BC22-1DF9-4139-8F83-A62B6A6D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3049-B0E5-457B-BD6F-1EB74CD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F2F1-D21D-473B-939E-6F4D4A2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7D2D-7394-442F-B59D-E43B61E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9323-1964-4397-BBAD-D4299CD3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ACA-2672-4543-ABCF-203140C6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F8918-7FAF-4701-A041-9F393E56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1A5E-E35A-464A-8280-E78A67AC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A027-4F75-447C-8A21-EEE11016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56D8-4E03-4630-923A-4DF7FEA6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274F-137F-453C-A885-2EE2B38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7CF7-8E72-462C-9986-3EFAA9DB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EF84-94EB-421B-A667-47D458ED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946BD-9087-4158-9DDD-D0A75151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67DB-7DE0-4FB1-8052-6092D8EE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F1E09-78B7-45D5-B1F1-21591393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0E0-55ED-489E-ADF4-4505346B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E4448-7B60-4F5F-96C1-5E6EC70D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8023-085F-4DD4-8B47-A1E46FB0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45FE-4308-471F-9D8C-8CCACFBE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387A-4328-4EA2-A5C5-BCC314D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19E9-C6F9-4977-BD60-2F185267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C251-2C39-4589-96E4-EA48E6B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CDD3-4EFD-4CC2-A656-1F8D0EDD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A06F-C4DC-434D-9B5C-C6F61FEA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3B685-0091-47BD-8474-89715684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CDDA9-D9C5-4805-AD63-64E35F16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4F3-1802-4282-AD18-F7838A8F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607C9-0593-4684-B3C4-74E15D9E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2342-A3FC-4356-A0D7-9E455A38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3A9C-FE1F-41B1-8EFF-1BD1BC0F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36CAA-DF17-4F44-B452-5AE7DE6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6F5D-E64F-4D71-9CCF-681E3741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7CB9-DA07-4D1A-BFB9-5EA22B2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1CC9-C679-4EE1-81F4-81AD7538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BCA90-9BB2-462B-BB0A-A747CFB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653FD-0D23-41F9-81F0-A858F80D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DBFA-D8E9-45B1-8618-B3AF1E8D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A27-3714-4A72-9D3D-EB50EA6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4BEE-9D75-43EC-9790-004D63E3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23B3-0BD1-44A7-9C91-7C3D752D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919B-11EA-425F-AB8C-1063FA09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034E2-951F-4E90-A233-C81B0C7E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43B8C-8E60-4DD4-BF88-79649679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B0CE-395B-4F9F-B1D9-7003541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0BC39-B37B-4DBE-842A-1BE9F4E9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A5A1-B5B0-40C8-A3E2-8A1CA26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F077A-AA0B-4B9A-859D-2D5B5B7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9A1C-702A-495C-8877-45C41251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073B-8DD3-4067-9924-1FD92870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E3D1-0407-49B8-A689-4EF243E2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8A635-E13F-414E-98B9-F84AF3CB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B36C-EF3B-42BB-BF1A-9A09F882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C6224-41B4-4312-B41C-965B227D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5031D-A93E-42DB-972F-CEEC9BAD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198C-E091-4300-96A5-694066D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CB14-0956-41C3-A12C-5C0B7548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2634D-0DC8-44A0-9DD3-BA5B2506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524B-312C-4464-8F5C-FBC95999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CA24-1FE3-4E24-8BF7-86370DC4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756-D206-417C-9C3E-13E0F21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177F-DDE2-4D08-9F45-FEF0B8A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33380-D061-48F6-8D6F-783CB6E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0A1FF-482E-43DA-8578-89AE9C73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F31AF-692F-490D-9A8C-20E4A95A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39A2-B158-451B-86D1-4AAE56C8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3742-28EF-4F7F-A6BE-A6F376CA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D45AC-2C8A-48E2-9035-B9C0108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D511-5E0B-45F1-B6F6-EDEEB24A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C20D4-F129-42BA-A267-6FE22E8A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0C711-6A9C-4121-8C7F-89A7A88E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D73-A53D-464E-865A-EFFAC3B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4B31E-EF77-462A-95B9-5B8F1DA5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067E9-B569-4D68-BBB2-B83DADC9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020AA-0394-4EF3-BACB-CD7AFA8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51E8F-ADF3-4481-89C1-7EA64337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C9CC5-DE5F-427E-BDCC-47DACF73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952F7-981D-4656-A6E2-41BFA0A8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49C4D-515B-4376-BCDA-83286323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C7CE7-7A2C-426D-B0B8-53F0E487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190C5-C205-4F47-A9C3-D00AAE1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B35ED-5071-45AF-88E9-FA7DDFB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1BA8-0C1C-486B-B457-03CE9BBF9A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EFF9-0994-4DA5-AB2E-DC3F84726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E06-64E0-45A7-A335-D8BA9BB3DE9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C922-9820-4809-BB16-E0C738A546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E9D-43FF-46CD-9FC5-4876DA8D26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3BF-C608-4076-8460-2324100870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8050-3B20-4156-98E6-932E54B3235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B008-CA25-48E2-AAE7-E4B36BDD27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1E49-F8E5-47B5-B215-259C41CA2F6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886-B8AB-4B2A-BE39-3FA3D3E5BD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72B3-0944-455D-BC09-58C9D186227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C6D3-E78F-4D82-BBAE-5175F2D0E3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729-EDE8-481D-98A3-FC780DF6C8F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A620-0E0D-43EE-89A7-9599761FCC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2402-A834-411D-8500-88D83321EE8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F3C7-6E98-4D3E-8052-30298B65CB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686-D59B-4503-AFF0-7961F4771BF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D6DA-F562-4B91-B9A9-1422D76458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323-93A4-4FC9-B90A-D81E17A586D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3401-0218-4B45-9B7D-5E9148F843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D5A-85D4-482C-85E9-40340AB2ED0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1760-F129-44A1-A663-EAC45499AF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41A0-485B-4D13-A1C6-F5B44929FA0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4652-06B7-4E82-9AC0-01317301E2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820728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Georgia"/>
              </a:rPr>
              <a:t>Пресмыкающиеся</a:t>
            </a:r>
            <a:r>
              <a:rPr b="1" lang="ru-RU" sz="6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2987640" y="3716280"/>
            <a:ext cx="640080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C5D8-1D2A-4AB5-A1F5-7D6EE0A8085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6C72-3CBD-4B3A-8087-D95E33988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Крокод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7" descr="крокодил2"/>
          <p:cNvPicPr/>
          <p:nvPr/>
        </p:nvPicPr>
        <p:blipFill>
          <a:blip r:embed="rId1"/>
          <a:srcRect l="0" t="0" r="0" b="24606"/>
          <a:stretch/>
        </p:blipFill>
        <p:spPr>
          <a:xfrm>
            <a:off x="900000" y="836640"/>
            <a:ext cx="734400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50C5-DDC5-4C0C-ACD8-6F8BFA14B99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E34-EF6C-4091-B8E6-51350672C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Шелестя, шурша травой, проползает кнут жив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от он встал и зашипел: подходи, кто очень сме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WordArt 5"/>
          <p:cNvSpPr txBox="1"/>
          <p:nvPr/>
        </p:nvSpPr>
        <p:spPr>
          <a:xfrm>
            <a:off x="3780000" y="3860640"/>
            <a:ext cx="187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D8BE-8E09-495D-8121-89E65937140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2193-87CB-48AA-99E9-9A94EB02C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змея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836640"/>
            <a:ext cx="7704000" cy="51354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Зме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896A-953C-468B-8FF9-FBD81EBBCD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00C8-A04C-4B3A-B360-DF5C58E0D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Georgia"/>
              </a:rPr>
              <a:t>В траве мелькает, хвостом виляет. Хвост оторвет - другой нажив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4"/>
          <p:cNvSpPr txBox="1"/>
          <p:nvPr/>
        </p:nvSpPr>
        <p:spPr>
          <a:xfrm>
            <a:off x="4211640" y="3860640"/>
            <a:ext cx="79200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2405-2B8D-4BFF-AB5A-CE115570483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F6AE-D5D8-4524-BE7C-0A10D8FCC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ящ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5645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Ящерица </a:t>
            </a: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D261-6727-4727-915F-49389F97898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4B0D-9584-42C5-A915-3F83E760C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338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00cc"/>
                </a:solidFill>
                <a:latin typeface="Georgia"/>
              </a:rPr>
              <a:t>Пресмыкающиеся – первые настоящие наземные позвоночные животные. У них сухая кожа, яйца имеют плотный покров, и поэтому в отличие от земноводных могут жить вдали от воды и населять засушливые обла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5545080" cy="554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653E-001D-4553-8513-659328117D1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1986-CC41-49BC-B8CF-F866BAB86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Georgia"/>
              </a:rPr>
              <a:t>Пресмыкающиеся получили такое название за способ передвижения. Они извиваются всем телом – пресмыкаются, так как их лапы, если они есть, расположены по бокам тела, а не под брю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2" descr=""/>
          <p:cNvPicPr/>
          <p:nvPr/>
        </p:nvPicPr>
        <p:blipFill>
          <a:blip r:embed="rId1"/>
          <a:stretch/>
        </p:blipFill>
        <p:spPr>
          <a:xfrm>
            <a:off x="2411280" y="2054160"/>
            <a:ext cx="633744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E8AD-CA8F-4B41-8048-7C98DCAEA17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89CF-86F2-4455-B600-221A69EE7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107640" y="260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Georgia"/>
              </a:rPr>
              <a:t>Пресмыкающиеся – животные холоднокровные. При похолодании они забираются в укромное место и засыпают, пока тепло их не разбуди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1" descr=""/>
          <p:cNvPicPr/>
          <p:nvPr/>
        </p:nvPicPr>
        <p:blipFill>
          <a:blip r:embed="rId1"/>
          <a:stretch/>
        </p:blipFill>
        <p:spPr>
          <a:xfrm>
            <a:off x="4284720" y="3645000"/>
            <a:ext cx="4755960" cy="301284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2" descr=""/>
          <p:cNvPicPr/>
          <p:nvPr/>
        </p:nvPicPr>
        <p:blipFill>
          <a:blip r:embed="rId2"/>
          <a:stretch/>
        </p:blipFill>
        <p:spPr>
          <a:xfrm>
            <a:off x="130320" y="1773360"/>
            <a:ext cx="4154400" cy="280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A8A2-BF13-483A-9E6C-61F5CFB85E3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8370-96F3-4E48-9691-AE3D76EDC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6" descr="large"/>
          <p:cNvPicPr/>
          <p:nvPr/>
        </p:nvPicPr>
        <p:blipFill>
          <a:blip r:embed="rId1"/>
          <a:stretch/>
        </p:blipFill>
        <p:spPr>
          <a:xfrm>
            <a:off x="4915080" y="1693800"/>
            <a:ext cx="4068720" cy="28148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0" y="0"/>
            <a:ext cx="90360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Georgia"/>
              </a:rPr>
              <a:t>Пресмыкающиеся – настоящие наземные животные. Они живут далеко от воды и откладывают яйца на суше. Под оболочкой яйца есть все, что нужно для развития зародыша, включая запас вод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8" descr="dino6-3"/>
          <p:cNvPicPr/>
          <p:nvPr/>
        </p:nvPicPr>
        <p:blipFill>
          <a:blip r:embed="rId2"/>
          <a:stretch/>
        </p:blipFill>
        <p:spPr>
          <a:xfrm>
            <a:off x="4051440" y="4869000"/>
            <a:ext cx="1725480" cy="19033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" descr=""/>
          <p:cNvPicPr/>
          <p:nvPr/>
        </p:nvPicPr>
        <p:blipFill>
          <a:blip r:embed="rId3"/>
          <a:stretch/>
        </p:blipFill>
        <p:spPr>
          <a:xfrm>
            <a:off x="179280" y="1693800"/>
            <a:ext cx="4327560" cy="2814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3090-A33E-4E43-949D-8B9AF48F078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213-FE0E-4A7A-A7B5-4DCCDCAB6A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Рисун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966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F608-052C-40A0-A010-A6EDA437DB5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3CA9-B56A-4416-81E9-99E75E108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-217440" y="1052280"/>
            <a:ext cx="936144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826920" y="1484280"/>
            <a:ext cx="77058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агадки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B121-C3E6-42C6-A128-8C587194E3B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C1A7-4439-4703-99B6-A46135313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400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Кто же это ход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 каменной рубах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 каменной рубах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Ходя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5"/>
          <p:cNvSpPr txBox="1"/>
          <p:nvPr/>
        </p:nvSpPr>
        <p:spPr>
          <a:xfrm>
            <a:off x="4140360" y="4076640"/>
            <a:ext cx="7189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78F2-7C12-493B-96A8-827B1A5F6E0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3D2A-B0C8-4831-A62D-A46EF9C83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MPj04038400000[1]"/>
          <p:cNvPicPr/>
          <p:nvPr/>
        </p:nvPicPr>
        <p:blipFill>
          <a:blip r:embed="rId1"/>
          <a:stretch/>
        </p:blipFill>
        <p:spPr>
          <a:xfrm>
            <a:off x="539640" y="836640"/>
            <a:ext cx="7777440" cy="5184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Черепахи</a:t>
            </a: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0CEC-D9E8-4B5C-88B1-8677EFD4A71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E85-C96F-4F6D-8144-7C16B0CD7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 реках Африки жи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Злой зеленый парох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Кто б навстречу ни поплыл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Georgia"/>
              </a:rPr>
              <a:t>Всех проглотит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4"/>
          <p:cNvSpPr txBox="1"/>
          <p:nvPr/>
        </p:nvSpPr>
        <p:spPr>
          <a:xfrm>
            <a:off x="4140360" y="4653000"/>
            <a:ext cx="12236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44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2:28:34Z</dcterms:created>
  <dc:creator>2a</dc:creator>
  <dc:description/>
  <dc:language>en-US</dc:language>
  <cp:lastModifiedBy>2022</cp:lastModifiedBy>
  <dcterms:modified xsi:type="dcterms:W3CDTF">2023-04-11T18:20:34Z</dcterms:modified>
  <cp:revision>32</cp:revision>
  <dc:subject/>
  <dc:title>«ЧЕРЕПАХА И СКОРПИОН» Узбекская сказка</dc:title>
</cp:coreProperties>
</file>