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E46-AA3F-462A-8EE1-ADE41032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7CB-196E-4190-BF0E-93BC62D2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CE0-C697-482D-86CC-0288933A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891-86E5-4BB3-8B46-E6DB8E27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C43-50D3-4FDC-B100-D9F8096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4E3-4056-498C-A19E-F8BBCC3B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295-C5C2-45EC-ACFF-E650748E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419-5249-40A7-A74F-04FEEA59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727-AB36-4637-9695-7161ABD8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938-7F83-42B1-86F6-42B6C9E9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12B-60DB-439D-8E9A-0D5AE079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EB0-C13A-44C4-A8E2-903F24B3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C3AF-57DC-4BB6-A66B-F3D5CFCCE9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C9F0-FBF9-49D0-8F79-D0F8F2FDC8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ti-online.com/zagadki/zagadki-pro-ryb/zagadki-pro-delfinov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deti-online.com/zagadki/zagadki-pro-ryb/zagadki-pro-delfinov/" TargetMode="External"/><Relationship Id="rId4" Type="http://schemas.openxmlformats.org/officeDocument/2006/relationships/hyperlink" Target="http://deti-online.com/zagadki/zagadki-pro-ryb/zagadki-pro-delfinov/" TargetMode="External"/><Relationship Id="rId5" Type="http://schemas.openxmlformats.org/officeDocument/2006/relationships/hyperlink" Target="http://deti-online.com/zagadki/zagadki-pro-ryb/zagadki-pro-delfinov/" TargetMode="External"/><Relationship Id="rId6" Type="http://schemas.openxmlformats.org/officeDocument/2006/relationships/hyperlink" Target="http://deti-online.com/zagadki/zagadki-pro-ryb/zagadki-pro-delfinov/" TargetMode="External"/><Relationship Id="rId7" Type="http://schemas.openxmlformats.org/officeDocument/2006/relationships/hyperlink" Target="http://deti-online.com/zagadki/zagadki-pro-ryb/zagadki-pro-delfinov/" TargetMode="External"/><Relationship Id="rId8" Type="http://schemas.openxmlformats.org/officeDocument/2006/relationships/hyperlink" Target="http://deti-online.com/zagadki/zagadki-pro-ryb/zagadki-pro-delfinov/" TargetMode="External"/><Relationship Id="rId9" Type="http://schemas.openxmlformats.org/officeDocument/2006/relationships/hyperlink" Target="http://deti-online.com/zagadki/zagadki-pro-ryb/zagadki-pro-delfinov/" TargetMode="External"/><Relationship Id="rId10" Type="http://schemas.openxmlformats.org/officeDocument/2006/relationships/hyperlink" Target="http://www.numama.ru/blogs/kopilka-detskih-stihov/stihi-pro-delfinov.html" TargetMode="External"/><Relationship Id="rId11" Type="http://schemas.openxmlformats.org/officeDocument/2006/relationships/hyperlink" Target="http://www.numama.ru/blogs/kopilka-detskih-stihov/stihi-pro-delfinov.html" TargetMode="External"/><Relationship Id="rId12" Type="http://schemas.openxmlformats.org/officeDocument/2006/relationships/hyperlink" Target="http://deti-online.com/zagadki/zagadki-pro-ryb/zagadki-pro-delfinov/" TargetMode="External"/><Relationship Id="rId13" Type="http://schemas.openxmlformats.org/officeDocument/2006/relationships/hyperlink" Target="http://www.numama.ru/blogs/kopilka-detskih-stihov/stihi-pro-delfinov.html" TargetMode="External"/><Relationship Id="rId14" Type="http://schemas.openxmlformats.org/officeDocument/2006/relationships/hyperlink" Target="http://deti-online.com/zagadki/zagadki-pro-ryb/zagadki-pro-delfinov/" TargetMode="External"/><Relationship Id="rId15" Type="http://schemas.openxmlformats.org/officeDocument/2006/relationships/hyperlink" Target="http://www.numama.ru/blogs/kopilka-detskih-stihov/stihi-pro-delfinov.html" TargetMode="External"/><Relationship Id="rId16" Type="http://schemas.openxmlformats.org/officeDocument/2006/relationships/hyperlink" Target="http://www.solnet.ee/gallery/zavetnoe_zhelanie_272.html" TargetMode="External"/><Relationship Id="rId17" Type="http://schemas.openxmlformats.org/officeDocument/2006/relationships/hyperlink" Target="http://www.solnet.ee/gallery/zavetnoe_zhelanie_272.html" TargetMode="External"/><Relationship Id="rId18" Type="http://schemas.openxmlformats.org/officeDocument/2006/relationships/hyperlink" Target="http://deti-online.com/zagadki/zagadki-pro-ryb/zagadki-pro-delfinov/" TargetMode="External"/><Relationship Id="rId19" Type="http://schemas.openxmlformats.org/officeDocument/2006/relationships/hyperlink" Target="http://www.solnet.ee/gallery/zavetnoe_zhelanie_272.html" TargetMode="External"/><Relationship Id="rId20" Type="http://schemas.openxmlformats.org/officeDocument/2006/relationships/hyperlink" Target="http://deti-online.com/zagadki/zagadki-pro-ryb/zagadki-pro-delfinov/" TargetMode="External"/><Relationship Id="rId21" Type="http://schemas.openxmlformats.org/officeDocument/2006/relationships/hyperlink" Target="http://www.solnet.ee/gallery/zavetnoe_zhelanie_272.html" TargetMode="External"/><Relationship Id="rId22" Type="http://schemas.openxmlformats.org/officeDocument/2006/relationships/hyperlink" Target="http://www.solnet.ee/sol/001/s_342.html" TargetMode="External"/><Relationship Id="rId23" Type="http://schemas.openxmlformats.org/officeDocument/2006/relationships/hyperlink" Target="http://www.solnet.ee/sol/001/s_342.html" TargetMode="External"/><Relationship Id="rId24" Type="http://schemas.openxmlformats.org/officeDocument/2006/relationships/hyperlink" Target="http://deti-online.com/zagadki/zagadki-pro-ryb/zagadki-pro-delfinov/" TargetMode="External"/><Relationship Id="rId25" Type="http://schemas.openxmlformats.org/officeDocument/2006/relationships/hyperlink" Target="http://www.solnet.ee/sol/001/s_342.html" TargetMode="External"/><Relationship Id="rId26" Type="http://schemas.openxmlformats.org/officeDocument/2006/relationships/hyperlink" Target="http://deti-online.com/zagadki/zagadki-pro-ryb/zagadki-pro-delfinov/" TargetMode="External"/><Relationship Id="rId27" Type="http://schemas.openxmlformats.org/officeDocument/2006/relationships/hyperlink" Target="http://www.solnet.ee/sol/001/s_342.html" TargetMode="External"/><Relationship Id="rId28" Type="http://schemas.openxmlformats.org/officeDocument/2006/relationships/hyperlink" Target="http://www.yshastiki.ru/ris/ris1.htm" TargetMode="External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Прямоугольник 3"/>
          <p:cNvSpPr/>
          <p:nvPr/>
        </p:nvSpPr>
        <p:spPr>
          <a:xfrm>
            <a:off x="0" y="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Только мимо нас проплы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оиграли и уплы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Среди волн мелькают спин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Дети, кто э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Рисунок 6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4968720" cy="4378320"/>
          </a:xfrm>
          <a:prstGeom prst="rect">
            <a:avLst/>
          </a:prstGeom>
          <a:ln w="0">
            <a:noFill/>
          </a:ln>
        </p:spPr>
      </p:pic>
      <p:sp>
        <p:nvSpPr>
          <p:cNvPr id="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FAC8-8053-4723-919A-9EAC07A32F69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Татьяна\Desktop\дельфины\dolphin2.jpg"/>
          <p:cNvPicPr/>
          <p:nvPr/>
        </p:nvPicPr>
        <p:blipFill>
          <a:blip r:embed="rId1"/>
          <a:stretch/>
        </p:blipFill>
        <p:spPr>
          <a:xfrm>
            <a:off x="395280" y="333360"/>
            <a:ext cx="8397720" cy="61200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EE0D-3A25-4803-892E-FE9B4C7AC909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12CA-096E-4FC1-B25D-E4BE72581F3A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Users\Татьяна\Desktop\4930afd89532f2b4df8558e96e3d8636_w960_h2048.jpg"/>
          <p:cNvPicPr/>
          <p:nvPr/>
        </p:nvPicPr>
        <p:blipFill>
          <a:blip r:embed="rId1"/>
          <a:stretch/>
        </p:blipFill>
        <p:spPr>
          <a:xfrm>
            <a:off x="1692360" y="549360"/>
            <a:ext cx="5689440" cy="568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Татьяна\Desktop\1210_obj_001.jpg"/>
          <p:cNvPicPr/>
          <p:nvPr/>
        </p:nvPicPr>
        <p:blipFill>
          <a:blip r:embed="rId2"/>
          <a:stretch/>
        </p:blipFill>
        <p:spPr>
          <a:xfrm>
            <a:off x="1187280" y="333360"/>
            <a:ext cx="684072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076640"/>
            <a:ext cx="61182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00"/>
                </a:solidFill>
                <a:latin typeface="Calibri"/>
              </a:rPr>
              <a:t>КОНЕЦ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FE15-71F8-4A26-91F9-813C09DB5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Рисунок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324000" y="33336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писок использованных  источник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324000" y="907920"/>
            <a:ext cx="8424720" cy="3143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3"/>
              </a:rPr>
              <a:t>1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4"/>
              </a:rPr>
              <a:t> deti-online.com[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5"/>
              </a:rPr>
              <a:t>Электронный ресурс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6"/>
              </a:rPr>
              <a:t>]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7"/>
              </a:rPr>
              <a:t>режим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8"/>
              </a:rPr>
              <a:t>доступа: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9"/>
              </a:rPr>
              <a:t>http:///zagadki/zagadki-pro-ryb/zagadki-pro-delfinov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0"/>
              </a:rPr>
              <a:t>2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1"/>
              </a:rPr>
              <a:t> www.numama.ru[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2"/>
              </a:rPr>
              <a:t>Электронный ресурс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3"/>
              </a:rPr>
              <a:t>]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4"/>
              </a:rPr>
              <a:t> режим доступ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5"/>
              </a:rPr>
              <a:t>http:///blogs/kopilka-detskih-stihov/stihi-pro-delfinov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6"/>
              </a:rPr>
              <a:t>3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7"/>
              </a:rPr>
              <a:t> www.solnet.ee[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8"/>
              </a:rPr>
              <a:t>Электронный ресурс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9"/>
              </a:rPr>
              <a:t>]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0"/>
              </a:rPr>
              <a:t> режим доступ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1"/>
              </a:rPr>
              <a:t>http:///gallery/zavetnoe_zhelanie_27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2"/>
              </a:rPr>
              <a:t>4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3"/>
              </a:rPr>
              <a:t> www.solnet.ee[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4"/>
              </a:rPr>
              <a:t>Электронный ресурс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5"/>
              </a:rPr>
              <a:t>]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6"/>
              </a:rPr>
              <a:t> режим доступ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7"/>
              </a:rPr>
              <a:t>http:///sol/001/s_34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8"/>
              </a:rPr>
              <a:t>5.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 www.yshastiki.ru[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Электронный ресурс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]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 режим доступа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http:///ris/ris1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CB6D-A716-450E-ADC6-6FCCD84A04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0" y="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Безобидны, словно д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Мы за них, друзья, в отв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Вглубь ныряют, вверх взлетают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Добрым нравом облада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Тело гладкое имею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"Разговаривать" уме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Их язык понять стремим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Дружбой с ними мы гордим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одставляют в море сп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Людям тонущим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7917120" cy="6237360"/>
          </a:xfrm>
          <a:prstGeom prst="rect">
            <a:avLst/>
          </a:prstGeom>
          <a:ln w="0">
            <a:noFill/>
          </a:ln>
        </p:spPr>
      </p:pic>
      <p:sp>
        <p:nvSpPr>
          <p:cNvPr id="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C28-9139-4A17-A071-1D886D318F8D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863960" cy="6786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54080" y="921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Вновь играя и ша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еред носом кораб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Над водой мелькают спин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Мчатся шустрые ..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7"/>
          <p:cNvSpPr/>
          <p:nvPr/>
        </p:nvSpPr>
        <p:spPr>
          <a:xfrm>
            <a:off x="680400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50D3-9EB2-4A90-A6D7-5747B2D9471D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250920" y="333360"/>
            <a:ext cx="90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4397400" y="1844640"/>
            <a:ext cx="5221440" cy="501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-396720" y="333360"/>
            <a:ext cx="5760720" cy="51894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"/>
          <p:cNvPicPr/>
          <p:nvPr/>
        </p:nvPicPr>
        <p:blipFill>
          <a:blip r:embed="rId3"/>
          <a:stretch/>
        </p:blipFill>
        <p:spPr>
          <a:xfrm>
            <a:off x="-93600" y="0"/>
            <a:ext cx="9237600" cy="691200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8FA0-5743-4534-8F1D-6088BBFCD3D0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147600"/>
            <a:ext cx="83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0" y="517680"/>
            <a:ext cx="10333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-82440" y="0"/>
            <a:ext cx="92646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"/>
          <p:cNvPicPr/>
          <p:nvPr/>
        </p:nvPicPr>
        <p:blipFill>
          <a:blip r:embed="rId2"/>
          <a:stretch/>
        </p:blipFill>
        <p:spPr>
          <a:xfrm>
            <a:off x="2050920" y="789120"/>
            <a:ext cx="5905800" cy="57085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0" y="5157720"/>
            <a:ext cx="8980560" cy="1434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очень добрые и дружелюбные.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не рыбы, а млекопитающие. Но они могут находиться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од водой очень долго. Чтобы вдохнуть, дельфины поднимаются на поверхность. Они дышат через специальное отверстие на голов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6"/>
          <p:cNvSpPr/>
          <p:nvPr/>
        </p:nvSpPr>
        <p:spPr>
          <a:xfrm>
            <a:off x="680400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7B6A-218E-49BE-A5E4-00957804305F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Что вы видите на репродукции? Сколько дельфинов изображен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201080" cy="4968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5" name="Прямоугольник 4"/>
          <p:cNvSpPr/>
          <p:nvPr/>
        </p:nvSpPr>
        <p:spPr>
          <a:xfrm>
            <a:off x="2147040" y="61657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Юлия Кальницкая «Дельфин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0A2E-C362-4542-8F0E-7E2062480B06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Кого художник изобразил на карти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9640" y="6093000"/>
            <a:ext cx="7920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Логинова Светлана «Дельфи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5184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0" name="Номер слайда 4"/>
          <p:cNvSpPr/>
          <p:nvPr/>
        </p:nvSpPr>
        <p:spPr>
          <a:xfrm>
            <a:off x="67327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9E33-AF3E-44DD-A966-C6325691B5B4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Татьяна\Desktop\дельфины\106.1.jpg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0C11-D157-42FB-8F02-726E11041C77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C:\Users\Татьяна\Desktop\дельфины\delfini_1.jpg"/>
          <p:cNvPicPr/>
          <p:nvPr/>
        </p:nvPicPr>
        <p:blipFill>
          <a:blip r:embed="rId1"/>
          <a:stretch/>
        </p:blipFill>
        <p:spPr>
          <a:xfrm>
            <a:off x="468360" y="333360"/>
            <a:ext cx="8164440" cy="612000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1446-E9E4-4FB7-AE44-AB4E00689BB1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2:26:29Z</dcterms:created>
  <dc:creator>asusf8ws</dc:creator>
  <dc:description/>
  <dc:language>en-US</dc:language>
  <cp:lastModifiedBy>Татьяна</cp:lastModifiedBy>
  <dcterms:modified xsi:type="dcterms:W3CDTF">2015-05-17T09:03:05Z</dcterms:modified>
  <cp:revision>118</cp:revision>
  <dc:subject/>
  <dc:title>Презентация PowerPoint</dc:title>
</cp:coreProperties>
</file>