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333-DD52-4E88-A5FB-131996F9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F60-A769-49E4-970F-D172A330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DE1-FE27-496B-A61F-703B267C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C23-17B3-45C2-9FA8-E32958F5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114-3FE4-4A56-9C33-F8D2A3BD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651-028D-4568-83D4-ED90670B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3C41-8265-4DB2-A5F6-FA77A404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915-A55B-4159-8888-18197CA3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6CA-1AF4-4DC3-8D26-7DDFF1D6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476-FDF5-4BBF-84F7-E425EB80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7A1-4600-4C01-80A5-3805F7FA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FD0-5221-4D7B-8622-B39A4B6F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F0C3-349A-4B7A-A689-C69543D36CA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349A-10C3-493F-89F4-8E6DDEB873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eti-online.com/zagadki/zagadki-pro-ryb/zagadki-pro-delfinov/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deti-online.com/zagadki/zagadki-pro-ryb/zagadki-pro-delfinov/" TargetMode="External"/><Relationship Id="rId4" Type="http://schemas.openxmlformats.org/officeDocument/2006/relationships/hyperlink" Target="http://deti-online.com/zagadki/zagadki-pro-ryb/zagadki-pro-delfinov/" TargetMode="External"/><Relationship Id="rId5" Type="http://schemas.openxmlformats.org/officeDocument/2006/relationships/hyperlink" Target="http://deti-online.com/zagadki/zagadki-pro-ryb/zagadki-pro-delfinov/" TargetMode="External"/><Relationship Id="rId6" Type="http://schemas.openxmlformats.org/officeDocument/2006/relationships/hyperlink" Target="http://deti-online.com/zagadki/zagadki-pro-ryb/zagadki-pro-delfinov/" TargetMode="External"/><Relationship Id="rId7" Type="http://schemas.openxmlformats.org/officeDocument/2006/relationships/hyperlink" Target="http://deti-online.com/zagadki/zagadki-pro-ryb/zagadki-pro-delfinov/" TargetMode="External"/><Relationship Id="rId8" Type="http://schemas.openxmlformats.org/officeDocument/2006/relationships/hyperlink" Target="http://deti-online.com/zagadki/zagadki-pro-ryb/zagadki-pro-delfinov/" TargetMode="External"/><Relationship Id="rId9" Type="http://schemas.openxmlformats.org/officeDocument/2006/relationships/hyperlink" Target="http://deti-online.com/zagadki/zagadki-pro-ryb/zagadki-pro-delfinov/" TargetMode="External"/><Relationship Id="rId10" Type="http://schemas.openxmlformats.org/officeDocument/2006/relationships/hyperlink" Target="http://www.numama.ru/blogs/kopilka-detskih-stihov/stihi-pro-delfinov.html" TargetMode="External"/><Relationship Id="rId11" Type="http://schemas.openxmlformats.org/officeDocument/2006/relationships/hyperlink" Target="http://www.numama.ru/blogs/kopilka-detskih-stihov/stihi-pro-delfinov.html" TargetMode="External"/><Relationship Id="rId12" Type="http://schemas.openxmlformats.org/officeDocument/2006/relationships/hyperlink" Target="http://deti-online.com/zagadki/zagadki-pro-ryb/zagadki-pro-delfinov/" TargetMode="External"/><Relationship Id="rId13" Type="http://schemas.openxmlformats.org/officeDocument/2006/relationships/hyperlink" Target="http://www.numama.ru/blogs/kopilka-detskih-stihov/stihi-pro-delfinov.html" TargetMode="External"/><Relationship Id="rId14" Type="http://schemas.openxmlformats.org/officeDocument/2006/relationships/hyperlink" Target="http://deti-online.com/zagadki/zagadki-pro-ryb/zagadki-pro-delfinov/" TargetMode="External"/><Relationship Id="rId15" Type="http://schemas.openxmlformats.org/officeDocument/2006/relationships/hyperlink" Target="http://www.numama.ru/blogs/kopilka-detskih-stihov/stihi-pro-delfinov.html" TargetMode="External"/><Relationship Id="rId16" Type="http://schemas.openxmlformats.org/officeDocument/2006/relationships/hyperlink" Target="http://www.solnet.ee/gallery/zavetnoe_zhelanie_272.html" TargetMode="External"/><Relationship Id="rId17" Type="http://schemas.openxmlformats.org/officeDocument/2006/relationships/hyperlink" Target="http://www.solnet.ee/gallery/zavetnoe_zhelanie_272.html" TargetMode="External"/><Relationship Id="rId18" Type="http://schemas.openxmlformats.org/officeDocument/2006/relationships/hyperlink" Target="http://deti-online.com/zagadki/zagadki-pro-ryb/zagadki-pro-delfinov/" TargetMode="External"/><Relationship Id="rId19" Type="http://schemas.openxmlformats.org/officeDocument/2006/relationships/hyperlink" Target="http://www.solnet.ee/gallery/zavetnoe_zhelanie_272.html" TargetMode="External"/><Relationship Id="rId20" Type="http://schemas.openxmlformats.org/officeDocument/2006/relationships/hyperlink" Target="http://deti-online.com/zagadki/zagadki-pro-ryb/zagadki-pro-delfinov/" TargetMode="External"/><Relationship Id="rId21" Type="http://schemas.openxmlformats.org/officeDocument/2006/relationships/hyperlink" Target="http://www.solnet.ee/gallery/zavetnoe_zhelanie_272.html" TargetMode="External"/><Relationship Id="rId22" Type="http://schemas.openxmlformats.org/officeDocument/2006/relationships/hyperlink" Target="http://www.solnet.ee/sol/001/s_342.html" TargetMode="External"/><Relationship Id="rId23" Type="http://schemas.openxmlformats.org/officeDocument/2006/relationships/hyperlink" Target="http://www.solnet.ee/sol/001/s_342.html" TargetMode="External"/><Relationship Id="rId24" Type="http://schemas.openxmlformats.org/officeDocument/2006/relationships/hyperlink" Target="http://deti-online.com/zagadki/zagadki-pro-ryb/zagadki-pro-delfinov/" TargetMode="External"/><Relationship Id="rId25" Type="http://schemas.openxmlformats.org/officeDocument/2006/relationships/hyperlink" Target="http://www.solnet.ee/sol/001/s_342.html" TargetMode="External"/><Relationship Id="rId26" Type="http://schemas.openxmlformats.org/officeDocument/2006/relationships/hyperlink" Target="http://deti-online.com/zagadki/zagadki-pro-ryb/zagadki-pro-delfinov/" TargetMode="External"/><Relationship Id="rId27" Type="http://schemas.openxmlformats.org/officeDocument/2006/relationships/hyperlink" Target="http://www.solnet.ee/sol/001/s_342.html" TargetMode="External"/><Relationship Id="rId28" Type="http://schemas.openxmlformats.org/officeDocument/2006/relationships/hyperlink" Target="http://www.yshastiki.ru/ris/ris1.htm" TargetMode="External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Прямоугольник 3"/>
          <p:cNvSpPr/>
          <p:nvPr/>
        </p:nvSpPr>
        <p:spPr>
          <a:xfrm>
            <a:off x="0" y="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Только мимо нас проплыл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Поиграли и уплы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Среди волн мелькают спин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Дети, кто эт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Рисунок 6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4968720" cy="4378320"/>
          </a:xfrm>
          <a:prstGeom prst="rect">
            <a:avLst/>
          </a:prstGeom>
          <a:ln w="0">
            <a:noFill/>
          </a:ln>
        </p:spPr>
      </p:pic>
      <p:sp>
        <p:nvSpPr>
          <p:cNvPr id="4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5E6C-7A08-48B8-9C9C-114A99C564D6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C:\Users\Татьяна\Desktop\дельфины\dolphin2.jpg"/>
          <p:cNvPicPr/>
          <p:nvPr/>
        </p:nvPicPr>
        <p:blipFill>
          <a:blip r:embed="rId1"/>
          <a:stretch/>
        </p:blipFill>
        <p:spPr>
          <a:xfrm>
            <a:off x="395280" y="333360"/>
            <a:ext cx="8397720" cy="61200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AF18-323C-4110-AB1C-6D65440BFFDB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E310-9276-43CE-AA65-8B9CCD4F6FA2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C:\Users\Татьяна\Desktop\4930afd89532f2b4df8558e96e3d8636_w960_h2048.jpg"/>
          <p:cNvPicPr/>
          <p:nvPr/>
        </p:nvPicPr>
        <p:blipFill>
          <a:blip r:embed="rId1"/>
          <a:stretch/>
        </p:blipFill>
        <p:spPr>
          <a:xfrm>
            <a:off x="1692360" y="549360"/>
            <a:ext cx="5689440" cy="5689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Татьяна\Desktop\1210_obj_001.jpg"/>
          <p:cNvPicPr/>
          <p:nvPr/>
        </p:nvPicPr>
        <p:blipFill>
          <a:blip r:embed="rId2"/>
          <a:stretch/>
        </p:blipFill>
        <p:spPr>
          <a:xfrm>
            <a:off x="1187280" y="333360"/>
            <a:ext cx="684072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4076640"/>
            <a:ext cx="61182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00"/>
                </a:solidFill>
                <a:latin typeface="Calibri"/>
              </a:rPr>
              <a:t>КОНЕЦ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000E-D076-435E-8FCD-F7480A9383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4" name="Рисунок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5"/>
          <p:cNvSpPr/>
          <p:nvPr/>
        </p:nvSpPr>
        <p:spPr>
          <a:xfrm>
            <a:off x="324000" y="33336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Список использованных  источник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324000" y="907920"/>
            <a:ext cx="8424720" cy="3143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3"/>
              </a:rPr>
              <a:t>1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4"/>
              </a:rPr>
              <a:t> deti-online.com[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5"/>
              </a:rPr>
              <a:t>Электронный ресурс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6"/>
              </a:rPr>
              <a:t>]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7"/>
              </a:rPr>
              <a:t>режим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8"/>
              </a:rPr>
              <a:t>доступа: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9"/>
              </a:rPr>
              <a:t>http:///zagadki/zagadki-pro-ryb/zagadki-pro-delfinov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0"/>
              </a:rPr>
              <a:t>2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1"/>
              </a:rPr>
              <a:t> www.numama.ru[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2"/>
              </a:rPr>
              <a:t>Электронный ресурс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3"/>
              </a:rPr>
              <a:t>]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4"/>
              </a:rPr>
              <a:t> режим доступа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5"/>
              </a:rPr>
              <a:t>http:///blogs/kopilka-detskih-stihov/stihi-pro-delfinov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6"/>
              </a:rPr>
              <a:t>3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7"/>
              </a:rPr>
              <a:t> www.solnet.ee[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8"/>
              </a:rPr>
              <a:t>Электронный ресурс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9"/>
              </a:rPr>
              <a:t>]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0"/>
              </a:rPr>
              <a:t> режим доступа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1"/>
              </a:rPr>
              <a:t>http:///gallery/zavetnoe_zhelanie_272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2"/>
              </a:rPr>
              <a:t>4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3"/>
              </a:rPr>
              <a:t> www.solnet.ee[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4"/>
              </a:rPr>
              <a:t>Электронный ресурс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5"/>
              </a:rPr>
              <a:t>]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6"/>
              </a:rPr>
              <a:t> режим доступа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7"/>
              </a:rPr>
              <a:t>http:///sol/001/s_342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8"/>
              </a:rPr>
              <a:t>5.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 www.yshastiki.ru[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Электронный ресурс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]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 режим доступа: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  <a:ea typeface="Calibri"/>
              </a:rPr>
              <a:t>http:///ris/ris1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A1DD-808C-4556-978B-30E7114BDA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3"/>
          <p:cNvSpPr/>
          <p:nvPr/>
        </p:nvSpPr>
        <p:spPr>
          <a:xfrm>
            <a:off x="0" y="0"/>
            <a:ext cx="62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Безобидны, словно де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Мы за них, друзья, в отв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Вглубь ныряют, вверх взлетают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Добрым нравом облада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Тело гладкое имею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"Разговаривать" уме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Их язык понять стремим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Дружбой с ними мы гордим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Подставляют в море сп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Людям тонущим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7917120" cy="6237360"/>
          </a:xfrm>
          <a:prstGeom prst="rect">
            <a:avLst/>
          </a:prstGeom>
          <a:ln w="0">
            <a:noFill/>
          </a:ln>
        </p:spPr>
      </p:pic>
      <p:sp>
        <p:nvSpPr>
          <p:cNvPr id="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03C6-5DC7-42A5-B9FE-42DF3F53FA3E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863960" cy="67863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154080" y="921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Вновь играя и ша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Перед носом кораб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Над водой мелькают спин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Мчатся шустрые ..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7"/>
          <p:cNvSpPr/>
          <p:nvPr/>
        </p:nvSpPr>
        <p:spPr>
          <a:xfrm>
            <a:off x="680400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1BC2-EBA7-4A44-8D1D-E5B19DAD5701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250920" y="333360"/>
            <a:ext cx="90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5" descr=""/>
          <p:cNvPicPr/>
          <p:nvPr/>
        </p:nvPicPr>
        <p:blipFill>
          <a:blip r:embed="rId1"/>
          <a:stretch/>
        </p:blipFill>
        <p:spPr>
          <a:xfrm>
            <a:off x="4397400" y="1844640"/>
            <a:ext cx="5221440" cy="5013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-396720" y="333360"/>
            <a:ext cx="5760720" cy="51894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"/>
          <p:cNvPicPr/>
          <p:nvPr/>
        </p:nvPicPr>
        <p:blipFill>
          <a:blip r:embed="rId3"/>
          <a:stretch/>
        </p:blipFill>
        <p:spPr>
          <a:xfrm>
            <a:off x="-93600" y="0"/>
            <a:ext cx="9237600" cy="6912000"/>
          </a:xfrm>
          <a:prstGeom prst="rect">
            <a:avLst/>
          </a:prstGeom>
          <a:ln w="0">
            <a:noFill/>
          </a:ln>
        </p:spPr>
      </p:pic>
      <p:sp>
        <p:nvSpPr>
          <p:cNvPr id="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449F-E901-452D-8CEF-E83A97CF2C89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0" y="147600"/>
            <a:ext cx="83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0" y="517680"/>
            <a:ext cx="10333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7" descr=""/>
          <p:cNvPicPr/>
          <p:nvPr/>
        </p:nvPicPr>
        <p:blipFill>
          <a:blip r:embed="rId1"/>
          <a:stretch/>
        </p:blipFill>
        <p:spPr>
          <a:xfrm>
            <a:off x="-82440" y="0"/>
            <a:ext cx="92646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8" descr=""/>
          <p:cNvPicPr/>
          <p:nvPr/>
        </p:nvPicPr>
        <p:blipFill>
          <a:blip r:embed="rId2"/>
          <a:stretch/>
        </p:blipFill>
        <p:spPr>
          <a:xfrm>
            <a:off x="2050920" y="789120"/>
            <a:ext cx="5905800" cy="57085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0" y="5157720"/>
            <a:ext cx="8980560" cy="1434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Дельфины – очень добрые и дружелюбные.</a:t>
            </a:r>
            <a:r>
              <a:rPr b="1" i="1" lang="en-US" sz="2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Дельфины – не рыбы, а млекопитающие. Но они могут находиться</a:t>
            </a:r>
            <a:r>
              <a:rPr b="1" i="1" lang="en-US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од водой очень долго. Чтобы вдохнуть, дельфины поднимаются на поверхность. Они дышат через специальное отверстие на голов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6"/>
          <p:cNvSpPr/>
          <p:nvPr/>
        </p:nvSpPr>
        <p:spPr>
          <a:xfrm>
            <a:off x="680400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AC7E-5634-48C6-A867-2312A4A05CA3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Что вы видите на репродукции? Сколько дельфинов изображен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201080" cy="4968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5" name="Прямоугольник 4"/>
          <p:cNvSpPr/>
          <p:nvPr/>
        </p:nvSpPr>
        <p:spPr>
          <a:xfrm>
            <a:off x="2147040" y="616572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Юлия Кальницкая «Дельфин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1060-6574-41A0-BD16-ACC4455CD46E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Кого художник изобразил на карти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9640" y="6093000"/>
            <a:ext cx="7920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Логинова Светлана «Дельфин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993080" cy="5184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70" name="Номер слайда 4"/>
          <p:cNvSpPr/>
          <p:nvPr/>
        </p:nvSpPr>
        <p:spPr>
          <a:xfrm>
            <a:off x="673272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432D-39F3-4070-BABE-685F3AA7497A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C:\Users\Татьяна\Desktop\дельфины\106.1.jpg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604872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99DE-77A9-4A20-84DF-EB334BA6B6A2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C:\Users\Татьяна\Desktop\дельфины\delfini_1.jpg"/>
          <p:cNvPicPr/>
          <p:nvPr/>
        </p:nvPicPr>
        <p:blipFill>
          <a:blip r:embed="rId1"/>
          <a:stretch/>
        </p:blipFill>
        <p:spPr>
          <a:xfrm>
            <a:off x="468360" y="333360"/>
            <a:ext cx="8164440" cy="612000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2830-48C2-4B4A-914E-45B66CC4B41E}" type="slidenum">
              <a:rPr b="1" lang="ru-RU" sz="18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8T12:26:29Z</dcterms:created>
  <dc:creator>asusf8ws</dc:creator>
  <dc:description/>
  <dc:language>en-US</dc:language>
  <cp:lastModifiedBy>Татьяна</cp:lastModifiedBy>
  <dcterms:modified xsi:type="dcterms:W3CDTF">2015-05-17T09:03:05Z</dcterms:modified>
  <cp:revision>118</cp:revision>
  <dc:subject/>
  <dc:title>Презентация PowerPoint</dc:title>
</cp:coreProperties>
</file>