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7BFCA-07FF-42FB-A045-BAE3DC54B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E08AD-8D5B-4494-93A4-A0EA83BA7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BE4B2-5072-4359-988F-000FE3843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FEF5F-AD4E-4C09-A7FA-025F2C41D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3E59B-8D7F-4D31-ADF4-80625CE5B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F6E91-99D9-483F-A879-8D402BE6B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90CDC-3DA4-482D-9A4A-207041619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4D9E7-17EC-4B1C-9C55-ACBDCB7C2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0D354-1B67-487B-BCBD-8145EF4A0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D3D7A-6989-49C0-9261-20FDE8D2F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575CD-456E-4ADC-A813-B68AE7A3B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C5C94-759E-4046-AB45-D9393A979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1E888-ECA6-455D-9D92-F33E0DFE4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1191C-2D45-4C3F-ABF9-49633A811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71C68-4251-44CD-9D78-DA37CDA70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BB2E9-0C0B-46EC-81C5-F67687299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FDC74-79C9-490C-BBD1-A597F25DC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B586E-759E-4E7A-82D8-7019D1B79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DE74E-1338-46AE-AADA-FEBCC67D9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3B11C-7F7A-4E5F-BEE5-D3F9C283F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B800D-482C-40D5-892E-80AB1DB98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07083-82D9-48AA-A2B1-29CC6A20F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632E0-BF10-4433-ADB0-406A22F43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4158C-85EC-4771-A7EF-2764F2AEA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55E74-4133-4740-B58B-5BC3F2C3221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CC6AA-D55A-446C-AB36-036712AB19C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179280" y="112680"/>
            <a:ext cx="8785440" cy="657216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468360" y="1197000"/>
            <a:ext cx="260964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8785440" cy="656568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5076720" y="333360"/>
            <a:ext cx="388944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5508720" y="1700280"/>
            <a:ext cx="3408120" cy="440208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179280" y="1557360"/>
            <a:ext cx="741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66"/>
                </a:solidFill>
                <a:latin typeface="Arial"/>
              </a:rPr>
              <a:t>МОЛОДЦЫ!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4T18:10:52Z</dcterms:created>
  <dc:creator>Alex</dc:creator>
  <dc:description/>
  <dc:language>en-US</dc:language>
  <cp:lastModifiedBy>Alex</cp:lastModifiedBy>
  <dcterms:modified xsi:type="dcterms:W3CDTF">2018-02-04T20:15:51Z</dcterms:modified>
  <cp:revision>20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