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8DE-3C44-4825-909F-3ECDB339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BD6-A6FB-48AE-B92A-B9768BFE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5E8-C841-4DD1-87D9-A6308D5A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B89-7D50-49AD-878E-A02C9008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9B3-D47E-4B69-A000-69E7DED1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B6C-D90F-4C91-B890-45131D65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B4D8-13BE-4C32-8091-60AD0AB8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56A-9441-43D6-919C-0ACBD61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6589-7C08-42A7-BBBA-E2C8863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7E4-D9E9-408E-9AC5-F2BB9C1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485E-21D9-4D7E-9323-5B6DA34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2E0-21AA-429C-9EB3-D90FA4EE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BDA-F446-4023-96C2-6806851E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1EAD-13D0-419C-BFE0-634DF3A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210E-E72E-4F86-8442-D48EA3B1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304F-DFA1-449D-B6DB-1A8B82BC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CF97-82BB-472C-8EA3-95277D4B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B60-2D92-4C35-B13F-49DF42BE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45F-E909-48FF-AEBE-F02C4B2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38A-A4C8-4D94-8D98-C3B05036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CC6-599C-46AB-A4D2-FE0188D7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422-18D6-4B79-AB79-53AFE5E9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DFB-780C-4D72-9530-8807308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0E0-5E84-46BB-A68D-E897782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0063-6DED-4030-853C-DA6D8F6084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F196-BB1E-4C90-9B61-443176E469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12680"/>
            <a:ext cx="8785440" cy="657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60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65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3408120" cy="4402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1557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4T18:10:52Z</dcterms:created>
  <dc:creator>Alex</dc:creator>
  <dc:description/>
  <dc:language>en-US</dc:language>
  <cp:lastModifiedBy>Alex</cp:lastModifiedBy>
  <dcterms:modified xsi:type="dcterms:W3CDTF">2018-02-04T20:15:51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