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300-9E98-473D-9FE3-5212181E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6D3-A67A-4E2A-B8AA-44E901A8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D14CB-909D-4CFA-89B2-434D07BE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A6680-3AB5-4C57-A190-BB4FD8B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0606A-01F1-4EB5-82D8-1F711ADE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22E7D-3722-498E-8594-3A96977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9C46F-7837-4C3F-A506-9D6D208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6D809-96AD-4A29-BC4C-0B14213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6B17-718E-4AFC-A07D-C9433C7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FD54D-CF30-4C24-8AFB-ACEFCC06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065C8-334F-4EE4-95E5-15BB9F3B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809C4-173A-4991-AA2A-C3EF9A64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300-80D0-410F-B436-071B39D2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432FF-E376-4833-875D-12E1403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56479-9E45-4D93-BE50-141018C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2BD27-802E-4332-932C-30BC3C38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9B8E5-257C-47F6-8F6E-27A2107A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69449-4544-4F69-B7D6-447EF5E3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AF686-F017-4DBB-810F-9060EB3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3523-456C-4E3F-B485-C3ACD4B8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767E1-6D58-4063-9412-988D90B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022F2-5A91-4A5B-9B82-592267DD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77E48-FE3E-466C-B9E3-F2919405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B71-FFE6-4260-AC45-1EB2A289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8824-32F9-4169-B82C-21DA9ABC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9896-E0FB-4F4B-8746-2B333018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0C07-38D3-467D-AE74-9C17B257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846B-059F-4945-B674-8A17A20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BBBC-FA47-4440-B5C7-7B8E236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2A0A-C521-4A0A-A66A-D40747BC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3148-FD4E-4B9D-88BC-21DB6737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43A2-A01F-4874-B8D5-3C260A2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D9F-BCBA-4780-A8AE-497298A5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DC4E-5947-4F28-957B-18C073E8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B081-4245-4503-BD8A-55D5DB4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B512-FC8F-41B3-9F0A-C28B232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141F-DC83-401E-9E1E-6D0EF0F9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ED48-64EB-4488-B06C-70257046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48CC-1BBC-455D-9D7D-874C4CD5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CA53-10A5-47CE-957D-9B015358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2916-0E13-4BEB-9D31-0B8BADEB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A341-3FA0-4C35-8740-808220D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4BB9-C374-4611-9FEE-6E3BC45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C43-A556-4840-97AE-3519982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0569-61BF-4EC0-94CC-B7B0DF67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1EA0-C608-4CFB-B0BF-3884700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A534-8CE1-4986-9FCB-26212D7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2571-7423-4ECC-BA1C-7ACF27D8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03BB-61E7-4FA8-A6D2-BB47736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81E7-99FD-4029-9AFD-AF02B825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5207-5537-4CE3-9252-21CE935D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F3B8-B967-4551-8A14-AC3BC73F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9A91E-F6D5-49EA-95BB-06550EA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24EA-3923-4593-9FE7-A77C07E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E4F-5FAB-4105-B814-C713628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00F5-A781-4A5D-83FE-38598AB8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06B1-42A1-4D9B-912A-3E789060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A132-118F-4625-9D76-FD272BF1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5B30-498C-4D3E-AD4F-0BFC1CA3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B95A-8FD7-40A1-BAD4-6ADAFB9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9C9D-C91F-41EB-B8E8-E4DC6771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A02B-031B-48B1-A573-2FA352DF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123D-D45D-4B3C-8368-0FF96373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E39E-8334-43E2-879E-B259102E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3C3A-7C5A-444F-93D8-4842BC67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859-EB35-4B81-8FE8-D71C0A1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B085-A8FC-4BC6-B710-95669055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17A0-913A-4332-81EF-8735CE0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0BCA-AFF5-4173-8B82-0B6B1B41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AC2B7-A158-4FCC-95FF-663B80D7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CA52-C3DE-4EDD-937F-E93EFA05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9394-D8AA-4829-8ACE-87D159B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B650-86B0-4096-9E10-28D14D5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6EB85-A76D-4C23-ABD0-13263B76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1005-956F-46FF-A3F4-BCAC1BC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A5B7-860A-436D-9D2C-60A0B2F8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DDF-53EC-4764-9328-70BA8AB4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9478C-EBD3-4806-922B-6E124781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53BB-E7CA-4DFB-B14E-3BFBD0FE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BA4F7-784F-4E5B-A849-33775E8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5FE73-B246-41A3-BC73-7E0770F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F016-E140-42E8-AD36-13741B73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FD78-69EF-4FF6-9A4F-74DC10D2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BC82E-68E2-414D-ACC0-D340821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3C8AA-3F3F-4094-9B21-B455821D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3EAB-DA18-4473-A264-150EC1B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68FD-59C2-41ED-9A3D-4BF84732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FC6-9AFF-4F1B-93A2-EEFC870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7558-C7CC-415B-8DCB-8D2FC223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AC91C-A79F-4D77-976B-FD6FABE1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33CC-8040-4E91-B247-B4AB7BD6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20D7-DC9B-4FC3-852E-6A3B3140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A72A-0117-4508-B960-8E4D0580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114C-704B-47AE-9AA9-DCE85C2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D602-D30D-47AE-BCE2-EB1ECC65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B2C9-0C2E-4505-B890-5484D58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2B273-38F6-439A-8161-EEA6A2C0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E11B-AA92-4EEF-911A-2B0F93D4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BE7-03C5-4536-9EEF-4CEAFFD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9773-83CC-4B3A-A61B-341744A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D769-D5AE-4EAD-8F31-9221ED1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6936E-7326-45F8-A3DB-444DFC06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B3A74-3E93-4A61-8899-16E19C2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4E4A4-A0B7-4474-BAAA-E395D43D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98DAA-7689-448D-AA26-F57A79AF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6953-D177-417E-A843-335E7B09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7EA9-7F32-4FA3-B36E-C52598A7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85340-1C1D-4577-B94A-92E55D4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B0ED3-8310-4DAF-824E-C4CD74F2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F30-C344-400F-9E1E-08B93F37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DC229-608E-400D-A956-9B70961C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035E-719C-4EE4-9F55-4D633EB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4141-CF28-4F93-8DC4-8CD1781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B5D64-E827-4C92-868E-3F40C03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1642-BA35-49CF-A51A-7CFAEB1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41A0D-37BE-4503-B891-D5D27AB0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B38F-27B2-490F-980D-E3DD108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3F6D0-6259-4F60-825E-E600111B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31819-F96E-48EF-A53D-FEC2176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9095-AE58-48C8-B07C-46CFB95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CCBD-FCC7-4F44-8456-D55BCBA56E6E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2B5-3B5C-458E-BF4E-72B33BACD42C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D8AE-66FD-4300-90E1-57DB97527B43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0B14-F474-44E3-B28E-E02F58B7C7FC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6A7-B917-46E3-B89C-41437F2B477D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72F-8163-49F4-ADB0-4A20574B2E5A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5E54-CB93-454D-9A14-82E7BB6D3747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B6B-3312-41F6-AC59-9EF78BA875B9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0C8-044F-48EA-95FE-F9EC1AB15DA1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34E-C5C5-492B-AA3F-2F78DE4BA8F4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pix.lenta.ru/news/2007/02/13/pike/picture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Урок по окружающему миру 1 класс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496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ea157a"/>
                </a:solidFill>
                <a:latin typeface="Candara"/>
              </a:rPr>
              <a:t>«Многообразие животных»</a:t>
            </a:r>
            <a:endParaRPr b="0" lang="en-US" sz="31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a157a"/>
                </a:solidFill>
                <a:latin typeface="Candara"/>
              </a:rPr>
              <a:t>                       </a:t>
            </a:r>
            <a:r>
              <a:rPr b="1" lang="ru-RU" sz="1900" spc="-1" strike="noStrike">
                <a:solidFill>
                  <a:srgbClr val="4307eb"/>
                </a:solidFill>
                <a:latin typeface="Candara"/>
              </a:rPr>
              <a:t>Учитель:</a:t>
            </a:r>
            <a:r>
              <a:rPr b="1" lang="ru-RU" sz="1900" spc="-1" strike="noStrike">
                <a:solidFill>
                  <a:srgbClr val="ea157a"/>
                </a:solidFill>
                <a:latin typeface="Candara"/>
              </a:rPr>
              <a:t> </a:t>
            </a:r>
            <a:r>
              <a:rPr b="1" lang="ru-RU" sz="1900" spc="-1" strike="noStrike">
                <a:solidFill>
                  <a:srgbClr val="4307eb"/>
                </a:solidFill>
                <a:latin typeface="Candara"/>
              </a:rPr>
              <a:t>Грибоедова Т.В.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ndara"/>
              </a:rPr>
              <a:t>   </a:t>
            </a: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  <a:p>
            <a:pPr indent="0" algn="ctr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ea157a"/>
                </a:solidFill>
                <a:latin typeface="Candara"/>
              </a:rPr>
              <a:t>                                      </a:t>
            </a:r>
            <a:endParaRPr b="0" lang="en-US" sz="9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 животное ходит осторожно, крадучись. Хорошо лазает по деревьям. Хвост короткий, уши с кисточками, шкура в пятнышках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53" name="Object 6"/>
          <p:cNvGraphicFramePr/>
          <p:nvPr/>
        </p:nvGraphicFramePr>
        <p:xfrm>
          <a:off x="5178600" y="1752480"/>
          <a:ext cx="28540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8600" y="1752480"/>
                    <a:ext cx="28540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Oval 7">
            <a:hlinkClick r:id="rId3" action="ppaction://hlinksldjump"/>
          </p:cNvPr>
          <p:cNvSpPr/>
          <p:nvPr/>
        </p:nvSpPr>
        <p:spPr>
          <a:xfrm>
            <a:off x="8028000" y="6308640"/>
            <a:ext cx="431640" cy="289080"/>
          </a:xfrm>
          <a:prstGeom prst="ellipse">
            <a:avLst/>
          </a:prstGeom>
          <a:solidFill>
            <a:srgbClr val="430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естрая крякушка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Ловит лягушек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одит вразвалочку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Спотыкалочкой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b6f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316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а лугу живет скрипач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сит фрак и ходит вскачь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61" name="Picture 14" descr=" "/>
          <p:cNvPicPr/>
          <p:nvPr/>
        </p:nvPicPr>
        <p:blipFill>
          <a:blip r:embed="rId2"/>
          <a:stretch/>
        </p:blipFill>
        <p:spPr>
          <a:xfrm>
            <a:off x="4211640" y="2781360"/>
            <a:ext cx="4208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Целый день поет щегол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 клетке на окошке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Третий год ему пошел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А он боится…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64" name="Object 7"/>
          <p:cNvGraphicFramePr/>
          <p:nvPr/>
        </p:nvGraphicFramePr>
        <p:xfrm>
          <a:off x="4716360" y="2637000"/>
          <a:ext cx="39340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637000"/>
                    <a:ext cx="3934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итрая плутовка, рыжая головка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ушистый хвост – краса, кто же это?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graphicFrame>
        <p:nvGraphicFramePr>
          <p:cNvPr id="568" name="Object 9"/>
          <p:cNvGraphicFramePr/>
          <p:nvPr/>
        </p:nvGraphicFramePr>
        <p:xfrm>
          <a:off x="3995640" y="2781360"/>
          <a:ext cx="460872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81360"/>
                    <a:ext cx="4608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Погляди на молодцов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еселы и бойк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олокут со всех сторо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Материал для стройки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Вот один споткнулся вдруг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Под тяжелой ношей -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И спешит на помощь друг. 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Тут народ хороший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Без работы, хоть убей,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Жить не может…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2" name="Picture 7" descr=" "/>
          <p:cNvPicPr/>
          <p:nvPr/>
        </p:nvPicPr>
        <p:blipFill>
          <a:blip r:embed="rId2"/>
          <a:stretch/>
        </p:blipFill>
        <p:spPr>
          <a:xfrm>
            <a:off x="4643280" y="2421000"/>
            <a:ext cx="38894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5b6f"/>
                </a:solidFill>
                <a:latin typeface="Candara"/>
              </a:rPr>
              <a:t>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 этом хоре музыканты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се во фраках, словно франты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 поет ужасно хор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Хору нужен дирижер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4859280" y="2997360"/>
            <a:ext cx="3313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сит серенький жилет,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о у крыльев черный цвет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Видишь, кружат двадцать пар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И кричат: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- Каррр, каррр, каррр!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78" name="Picture 12" descr=" "/>
          <p:cNvPicPr/>
          <p:nvPr/>
        </p:nvPicPr>
        <p:blipFill>
          <a:blip r:embed="rId2"/>
          <a:stretch/>
        </p:blipFill>
        <p:spPr>
          <a:xfrm>
            <a:off x="4356000" y="3429000"/>
            <a:ext cx="4248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олосатая злодейка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Съест любого малыша-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Пескаря, плотву, уклейку…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Не проглотит лишь ерш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    </a:t>
            </a: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Его попробуй одолей-к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81" name="Picture 16" descr="Картинка 4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9440" y="3535200"/>
            <a:ext cx="3670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6" descr="Котенок спит (1)"/>
          <p:cNvPicPr/>
          <p:nvPr/>
        </p:nvPicPr>
        <p:blipFill>
          <a:blip r:embed="rId1"/>
          <a:stretch/>
        </p:blipFill>
        <p:spPr>
          <a:xfrm>
            <a:off x="2916360" y="1844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771560" cy="1657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2066760" cy="1543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0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"/>
          <p:cNvPicPr/>
          <p:nvPr/>
        </p:nvPicPr>
        <p:blipFill>
          <a:blip r:embed="rId5"/>
          <a:stretch/>
        </p:blipFill>
        <p:spPr>
          <a:xfrm>
            <a:off x="6948360" y="1844640"/>
            <a:ext cx="1771920" cy="172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3" descr=""/>
          <p:cNvPicPr/>
          <p:nvPr/>
        </p:nvPicPr>
        <p:blipFill>
          <a:blip r:embed="rId6"/>
          <a:stretch/>
        </p:blipFill>
        <p:spPr>
          <a:xfrm>
            <a:off x="539640" y="1989000"/>
            <a:ext cx="2067120" cy="1543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" descr=""/>
          <p:cNvPicPr/>
          <p:nvPr/>
        </p:nvPicPr>
        <p:blipFill>
          <a:blip r:embed="rId7"/>
          <a:stretch/>
        </p:blipFill>
        <p:spPr>
          <a:xfrm>
            <a:off x="2843280" y="3789360"/>
            <a:ext cx="1771560" cy="1655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5" descr=""/>
          <p:cNvPicPr/>
          <p:nvPr/>
        </p:nvPicPr>
        <p:blipFill>
          <a:blip r:embed="rId8"/>
          <a:stretch/>
        </p:blipFill>
        <p:spPr>
          <a:xfrm>
            <a:off x="5003640" y="1844640"/>
            <a:ext cx="1771920" cy="18003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изображен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132000" y="1916280"/>
            <a:ext cx="37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500040" y="250020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000920" y="2643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Ры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2124000" y="51577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Птиц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5072040" y="51436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13"/>
          <p:cNvSpPr/>
          <p:nvPr/>
        </p:nvSpPr>
        <p:spPr>
          <a:xfrm flipH="1">
            <a:off x="2143080" y="2565360"/>
            <a:ext cx="1852560" cy="292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5148360" y="2565360"/>
            <a:ext cx="1780920" cy="36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15"/>
          <p:cNvSpPr/>
          <p:nvPr/>
        </p:nvSpPr>
        <p:spPr>
          <a:xfrm flipH="1">
            <a:off x="3571560" y="2714760"/>
            <a:ext cx="793800" cy="25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4859280" y="2781360"/>
            <a:ext cx="426960" cy="243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Прямоугольник 12"/>
          <p:cNvSpPr/>
          <p:nvPr/>
        </p:nvSpPr>
        <p:spPr>
          <a:xfrm>
            <a:off x="571680" y="392904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Земноводны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Прямоугольник 13"/>
          <p:cNvSpPr/>
          <p:nvPr/>
        </p:nvSpPr>
        <p:spPr>
          <a:xfrm>
            <a:off x="5072040" y="37861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07eb"/>
                </a:solidFill>
                <a:latin typeface="Verdana"/>
              </a:rPr>
              <a:t>Пресмыкающие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13"/>
          <p:cNvSpPr/>
          <p:nvPr/>
        </p:nvSpPr>
        <p:spPr>
          <a:xfrm flipH="1">
            <a:off x="2786040" y="2714760"/>
            <a:ext cx="13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000760" y="2714760"/>
            <a:ext cx="1071360" cy="107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Лягуш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Тигр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Бабоч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Цапля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Налим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оршу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рокодил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абан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Щука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5b6f"/>
                </a:solidFill>
                <a:latin typeface="Candara"/>
              </a:rPr>
              <a:t>Кузнечик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307eb"/>
                </a:solidFill>
                <a:latin typeface="Candara"/>
              </a:rPr>
              <a:t>Угадай группу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05" name="Group 6"/>
          <p:cNvGrpSpPr/>
          <p:nvPr/>
        </p:nvGrpSpPr>
        <p:grpSpPr>
          <a:xfrm>
            <a:off x="6000840" y="4857840"/>
            <a:ext cx="2160360" cy="647640"/>
            <a:chOff x="6000840" y="4857840"/>
            <a:chExt cx="2160360" cy="647640"/>
          </a:xfrm>
        </p:grpSpPr>
        <p:sp>
          <p:nvSpPr>
            <p:cNvPr id="506" name="Oval 4"/>
            <p:cNvSpPr/>
            <p:nvPr/>
          </p:nvSpPr>
          <p:spPr>
            <a:xfrm>
              <a:off x="6000840" y="4857840"/>
              <a:ext cx="2160360" cy="64764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WordArt 5"/>
            <p:cNvSpPr txBox="1"/>
            <p:nvPr/>
          </p:nvSpPr>
          <p:spPr>
            <a:xfrm>
              <a:off x="6648480" y="5002200"/>
              <a:ext cx="95040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верь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012000" y="3786120"/>
            <a:ext cx="2160360" cy="856800"/>
            <a:chOff x="6012000" y="3786120"/>
            <a:chExt cx="2160360" cy="856800"/>
          </a:xfrm>
        </p:grpSpPr>
        <p:sp>
          <p:nvSpPr>
            <p:cNvPr id="509" name="Oval 8"/>
            <p:cNvSpPr/>
            <p:nvPr/>
          </p:nvSpPr>
          <p:spPr>
            <a:xfrm>
              <a:off x="6012000" y="3786120"/>
              <a:ext cx="2160360" cy="85680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WordArt 9"/>
            <p:cNvSpPr txBox="1"/>
            <p:nvPr/>
          </p:nvSpPr>
          <p:spPr>
            <a:xfrm>
              <a:off x="6516720" y="3976920"/>
              <a:ext cx="1224000" cy="529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асекомое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5940360" y="3000240"/>
            <a:ext cx="2160720" cy="714240"/>
            <a:chOff x="5940360" y="3000240"/>
            <a:chExt cx="2160720" cy="714240"/>
          </a:xfrm>
        </p:grpSpPr>
        <p:sp>
          <p:nvSpPr>
            <p:cNvPr id="512" name="Oval 11"/>
            <p:cNvSpPr/>
            <p:nvPr/>
          </p:nvSpPr>
          <p:spPr>
            <a:xfrm>
              <a:off x="5940360" y="3000240"/>
              <a:ext cx="2160720" cy="71424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WordArt 12"/>
            <p:cNvSpPr txBox="1"/>
            <p:nvPr/>
          </p:nvSpPr>
          <p:spPr>
            <a:xfrm>
              <a:off x="6443640" y="3078720"/>
              <a:ext cx="1095480" cy="52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рыба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14" name="Group 16"/>
          <p:cNvGrpSpPr/>
          <p:nvPr/>
        </p:nvGrpSpPr>
        <p:grpSpPr>
          <a:xfrm>
            <a:off x="5867280" y="2000160"/>
            <a:ext cx="2160720" cy="785520"/>
            <a:chOff x="5867280" y="2000160"/>
            <a:chExt cx="2160720" cy="785520"/>
          </a:xfrm>
        </p:grpSpPr>
        <p:sp>
          <p:nvSpPr>
            <p:cNvPr id="515" name="Oval 14"/>
            <p:cNvSpPr/>
            <p:nvPr/>
          </p:nvSpPr>
          <p:spPr>
            <a:xfrm>
              <a:off x="5867280" y="2000160"/>
              <a:ext cx="2160720" cy="78552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WordArt 15"/>
            <p:cNvSpPr txBox="1"/>
            <p:nvPr/>
          </p:nvSpPr>
          <p:spPr>
            <a:xfrm>
              <a:off x="6357960" y="2175120"/>
              <a:ext cx="1108080" cy="48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птица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17" name="Oval 14"/>
          <p:cNvSpPr/>
          <p:nvPr/>
        </p:nvSpPr>
        <p:spPr>
          <a:xfrm>
            <a:off x="5786280" y="928800"/>
            <a:ext cx="2232360" cy="79056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есмыкаю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щие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6164280" y="5572080"/>
            <a:ext cx="2160720" cy="785880"/>
            <a:chOff x="6164280" y="5572080"/>
            <a:chExt cx="2160720" cy="785880"/>
          </a:xfrm>
        </p:grpSpPr>
        <p:sp>
          <p:nvSpPr>
            <p:cNvPr id="519" name="Oval 4"/>
            <p:cNvSpPr/>
            <p:nvPr/>
          </p:nvSpPr>
          <p:spPr>
            <a:xfrm>
              <a:off x="6164280" y="5572080"/>
              <a:ext cx="2160720" cy="785880"/>
            </a:xfrm>
            <a:prstGeom prst="ellipse">
              <a:avLst/>
            </a:prstGeom>
            <a:solidFill>
              <a:srgbClr val="7fd13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0" name="WordArt 5"/>
            <p:cNvSpPr txBox="1"/>
            <p:nvPr/>
          </p:nvSpPr>
          <p:spPr>
            <a:xfrm>
              <a:off x="6500880" y="5964120"/>
              <a:ext cx="150048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4e5b6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емноводные</a:t>
              </a:r>
              <a:endParaRPr b="0" lang="en-US" sz="1800" spc="1" strike="noStrike">
                <a:ln w="0">
                  <a:noFill/>
                </a:ln>
                <a:solidFill>
                  <a:srgbClr val="4e5b6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оверь себ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4859280" y="1844640"/>
            <a:ext cx="3284640" cy="1227240"/>
          </a:xfrm>
          <a:prstGeom prst="ellipse">
            <a:avLst/>
          </a:prstGeom>
          <a:solidFill>
            <a:srgbClr val="f76d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755640" y="3286080"/>
            <a:ext cx="3816360" cy="1214640"/>
          </a:xfrm>
          <a:prstGeom prst="ellipse">
            <a:avLst/>
          </a:prstGeom>
          <a:solidFill>
            <a:srgbClr val="80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714240" y="1714680"/>
            <a:ext cx="3786480" cy="1428480"/>
          </a:xfrm>
          <a:prstGeom prst="ellipse">
            <a:avLst/>
          </a:prstGeom>
          <a:solidFill>
            <a:srgbClr val="e1f4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Oval 8"/>
          <p:cNvSpPr/>
          <p:nvPr/>
        </p:nvSpPr>
        <p:spPr>
          <a:xfrm>
            <a:off x="4929120" y="3214800"/>
            <a:ext cx="3786120" cy="1357200"/>
          </a:xfrm>
          <a:prstGeom prst="ellipse">
            <a:avLst/>
          </a:prstGeom>
          <a:solidFill>
            <a:srgbClr val="9ff3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1285920" y="26431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абочка, кузне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WordArt 10"/>
          <p:cNvSpPr txBox="1"/>
          <p:nvPr/>
        </p:nvSpPr>
        <p:spPr>
          <a:xfrm>
            <a:off x="1500120" y="2000160"/>
            <a:ext cx="2214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секомые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WordArt 11"/>
          <p:cNvSpPr txBox="1"/>
          <p:nvPr/>
        </p:nvSpPr>
        <p:spPr>
          <a:xfrm>
            <a:off x="1763640" y="3429000"/>
            <a:ext cx="1879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ыб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9" name="WordArt 12"/>
          <p:cNvSpPr txBox="1"/>
          <p:nvPr/>
        </p:nvSpPr>
        <p:spPr>
          <a:xfrm>
            <a:off x="5796000" y="213372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тицы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0" name="WordArt 13"/>
          <p:cNvSpPr txBox="1"/>
          <p:nvPr/>
        </p:nvSpPr>
        <p:spPr>
          <a:xfrm>
            <a:off x="5796000" y="3357720"/>
            <a:ext cx="19191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ер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5643720" y="250020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апля, коршу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 Box 16"/>
          <p:cNvSpPr/>
          <p:nvPr/>
        </p:nvSpPr>
        <p:spPr>
          <a:xfrm>
            <a:off x="1619280" y="39290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лим, щу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17"/>
          <p:cNvSpPr/>
          <p:nvPr/>
        </p:nvSpPr>
        <p:spPr>
          <a:xfrm>
            <a:off x="5724360" y="39290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гр, каб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Oval 18">
            <a:hlinkClick r:id="rId1" action="ppaction://hlinksldjump"/>
          </p:cNvPr>
          <p:cNvSpPr/>
          <p:nvPr/>
        </p:nvSpPr>
        <p:spPr>
          <a:xfrm>
            <a:off x="8028000" y="6308640"/>
            <a:ext cx="431640" cy="289080"/>
          </a:xfrm>
          <a:prstGeom prst="ellipse">
            <a:avLst/>
          </a:prstGeom>
          <a:solidFill>
            <a:srgbClr val="430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Oval 6"/>
          <p:cNvSpPr/>
          <p:nvPr/>
        </p:nvSpPr>
        <p:spPr>
          <a:xfrm>
            <a:off x="571680" y="4857840"/>
            <a:ext cx="3786120" cy="1214280"/>
          </a:xfrm>
          <a:prstGeom prst="ellipse">
            <a:avLst/>
          </a:prstGeom>
          <a:solidFill>
            <a:srgbClr val="9371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ягу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Oval 6"/>
          <p:cNvSpPr/>
          <p:nvPr/>
        </p:nvSpPr>
        <p:spPr>
          <a:xfrm>
            <a:off x="4500720" y="4857840"/>
            <a:ext cx="3816360" cy="1214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окоди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WordArt 11"/>
          <p:cNvSpPr txBox="1"/>
          <p:nvPr/>
        </p:nvSpPr>
        <p:spPr>
          <a:xfrm>
            <a:off x="5500800" y="5072040"/>
            <a:ext cx="235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смыкающиес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8" name="WordArt 11"/>
          <p:cNvSpPr txBox="1"/>
          <p:nvPr/>
        </p:nvSpPr>
        <p:spPr>
          <a:xfrm>
            <a:off x="1071720" y="5000760"/>
            <a:ext cx="2357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емноводные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Шуба у него тёплая – тёплая. Она спасает от мороза и от охотника скрывает. Где такого заметишь?! Пока разглядываешь да всматриваешься, зверёк задаст стрекоча, только его и видели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4572000" y="3573360"/>
            <a:ext cx="273672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Он бродит по лесам, своим длинным рылом роется в земле. Дубовые желуди подбирает. А зовут его секачом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5435640" y="2924280"/>
            <a:ext cx="30621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 сильный, ловкий, хоть с виду не складный зверь, очень пугливый. Живет  в лесу, ест ветки деревьев, кору обгрызает. В лесу обгонит самую быструю лошадь.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28796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то это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5b6f"/>
                </a:solidFill>
                <a:latin typeface="Candara"/>
              </a:rPr>
              <a:t>Этот зверь питается личинками, червяками, ягодами. К осени растолстеет, станет жирным, ленивым, заберётся в свою нору и уснет до самой весны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2522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4:54:30Z</dcterms:created>
  <dc:creator>Egor</dc:creator>
  <dc:description/>
  <dc:language>en-US</dc:language>
  <cp:lastModifiedBy>Пользователь Windows</cp:lastModifiedBy>
  <dcterms:modified xsi:type="dcterms:W3CDTF">2023-07-03T11:47:31Z</dcterms:modified>
  <cp:revision>15</cp:revision>
  <dc:subject/>
  <dc:title>Урок по окружающему миру 1 класс.</dc:title>
</cp:coreProperties>
</file>