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A3AF-C7D8-44C5-A6B5-8D4E94E6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396-9231-4E45-9ACD-C9E27483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92F6C-F432-4D88-9F34-0FAAACC5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9A22B-255C-4218-812C-080F0DBE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760EF-0E2D-49D7-9BAE-41A0098C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6DBAD-0A6D-4413-AEF3-C7AC84F6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C3E21-221A-41B5-B44A-F2F81AB3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BED79-644F-453C-B914-A3AAF5B9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ED2E8-B3DB-4AE5-971A-963A2842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B269C-9AC1-493E-B51D-D4843155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67772-D618-4FCF-94CD-6491277F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2898D-5199-45D2-AEEF-E8AF42F1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1696-82EC-4F75-B207-53F8905E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168B4-5EC3-452A-80C2-A78FDF02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C654C-CE69-4F3A-A0F1-E642B0E3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43FD4-A6CF-434D-8CCB-EE3CF45E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FC75C-9737-4E96-820E-F312AF35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FB448-3C7E-42FE-A55F-CBBCD133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A0F70-29ED-4C51-863E-7365CEF2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05835-31E2-41C3-83B4-0F9AEED5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DE7A9-D9D0-4C7D-B3FB-83373BBE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EE17D-BA46-4A47-B5F0-4D2247C8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7F056-41F0-483B-89E1-4B66A8C5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0215-0B1C-49B1-A958-8E4E7306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0A1E7-95B1-419C-AEF1-EEFBFBAA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9905-F93E-4033-AD65-FBA7D744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4F3E-12E0-4C2E-973B-1AC7BC15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CEFB-9CD8-4C57-8329-5E66C928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1780-E971-4865-BFF4-0E47C902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ACDC-898C-4C1F-9AD8-D124886B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E56E-3A17-46B3-A978-ED5A2929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CBC4-2E88-4249-8B70-9CB0B3CE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D35-DAD6-47B7-A44D-D0B51526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B96C-D714-4239-985D-FA4CF498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2AA7-8D55-4EA4-9C05-2A23A6B6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F3BB-6487-450E-98B9-739E38E6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7359-0D9F-47E5-AF9D-B3BC58D1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D743-B5C8-4394-8F93-32F1C2AC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E736F-89E7-43A1-92C9-032CEC78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3E78D-1611-4609-91F7-B7891732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95307-63A7-48F6-BAE5-486BF6B8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63DE8-AB36-4AC1-9285-FB0DB678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E1321-2D6E-4366-9525-D67B1917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CB7-BC65-4021-B89A-348D44C2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5B9E7-735C-4A0A-B093-392725C9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B2A90-E073-45B5-B224-DB1271EC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FBD85-425C-4CC7-9F53-8C96A345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7204B-D60F-412B-B92F-9A790EEA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7AD9A-7A8C-4B40-BE8A-3EDEB3E5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178A3-5A51-461F-AA7F-06B9B98E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3A2AA-01ED-4F56-8D35-7992B5F1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C8E2E-4CEC-4AB9-90FC-9DE7D774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E5736-49C3-420C-B80D-5D98675A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97087-A015-44A0-B424-1BFFD2AF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36A-A6DD-440D-B8FE-4BE7E325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765F8-A9AB-43A2-B82B-25B56975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42103-0B87-4FA2-920A-5615643B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2DA34-10A9-4391-BB19-98361D11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93208-ACDB-4CDE-9698-F4B80E3D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CC7FA-A613-46CB-8B5E-04389C7E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E9451-764C-426A-A4E3-C982C241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38627-27E6-4DA8-8B68-680F6E2D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4BE9D-5209-4753-82C1-A52B3A57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2A5B2-7446-437E-9539-AE2ABE58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75F04-185D-4E20-80AB-0A69B000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B7B-A0ED-4DDB-98FE-872B6043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638D4-1DF9-4B2F-AA1C-8F2C04FC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4ED4F-6991-42E0-AEC0-D7AC0133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DA3F2-A633-47F4-8401-9E0210C3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0962C-FFAA-471D-90CA-777DD6B2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BFE2D-0A78-478F-88A5-A0812AB0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C59BA-C3EE-4733-8DE0-55F0B942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33CCF-727C-4F6C-9E84-57697883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96B76-C53F-45C0-A04B-B4BAFF0E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8E4ED-5D8F-4C33-969F-A409151C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F4C5A-F6CC-48BC-A4C3-8054401F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CC40-00A2-4066-A69B-2A223FE2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8A722-E0BF-49CD-A615-43078A12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05676-090C-4F56-BADB-5C62C2B6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42497-0174-4E77-A56B-70D11A09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FD858-643A-455E-AFA5-706027DA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982A8-B893-4742-9F18-9752426B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736F9-F5E9-4568-A9F6-09D97B58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97FD6-2A31-41F2-B934-2EB9EC8F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051EF-B080-489D-A9CE-3043698A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A7F32-F4A7-4C14-A567-F82A7D13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6CBF3-1A26-454E-9C12-BA1B1144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6374-99A6-4EA1-A67D-051414AB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ABC50-7C77-4295-A055-D6ABF9EC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6874A-86F6-4DED-A8CB-7508492E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A6B70-1DC7-4BC8-9D87-9D2C7743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E91F2-3FA6-4189-A715-825CE57C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4B0A2-6A7B-4C84-99EC-A69477B2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566AA-D1C0-4A82-88BC-667EF81F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4FB06-D14B-4735-9C19-223E81A3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6D2A9-865D-4385-8513-4BCA1A47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8415D-27D1-45D6-8A20-0419C87E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58821-E82A-4A31-820B-4F5C455A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B6C0-A0C2-444D-AF30-0581E46B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14791-1211-46F5-A4BF-6B63B8AE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23A29-8201-43FD-B1B0-4DC12F6F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E8C4C-563D-41D4-A753-A88ABDC2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8FFA2-9729-4E38-839D-A1BD3D1B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72283-B5A9-44E1-B787-4AD47F10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BCE7A-ADE8-4334-9460-01447EBB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8B108-451A-45DE-8AC2-1F1404B0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0CBB7-B47D-4366-AA91-9306B454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97144-B18E-4F94-BE2C-56B5384F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1C1A7-B448-4D17-8FDB-6270A043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A131-7671-45EA-9951-04FE18BB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A4471-3702-45BB-B2B4-F1CD18F0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87DB3-0F90-4F1A-898D-9CA91CE9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2CD29-3646-439B-A281-F0A92765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512A9-B78A-415F-880B-9F1F088F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62679-8BB2-4955-BC4B-FEF6B085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19BC0-30C7-45D3-B5E0-C05EB61D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89AA7-46AD-4ADC-9295-7E1576C8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5DDF2-AAA4-4FAF-BE0C-01785C64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D8C3A-1259-408F-9836-FEE3EF07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B6D1D-E004-4DD3-88C6-BC29F7ED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15EB-2CED-412E-B2AF-2A7FE277B466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24F1-8E22-4D0E-AAC8-C8AF098FE827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1600-71CC-4428-9B20-7D94998B2955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d6e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d6e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3702-A4A1-4B09-990A-3C23B3F4DD8F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BE0E-CF9E-4930-80C2-B4F1BE954F73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FB8E-BE72-4FF0-9F42-225F5C7191AE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1364-E68C-428A-B9C9-5EDFAB868B71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0FAB-ED6B-404F-8547-99FC487DD4AB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85C5-DCC2-4A82-ABD8-3B57C2010F36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5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6597-0BD6-45DB-8052-6C18FB15B861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" Target="slide5.xml"/><Relationship Id="rId4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pix.lenta.ru/news/2007/02/13/pike/picture.jpg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Урок по окружающему миру 1 класс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324000" y="3428640"/>
            <a:ext cx="8496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ea157a"/>
                </a:solidFill>
                <a:latin typeface="Candara"/>
              </a:rPr>
              <a:t>«Многообразие животных»</a:t>
            </a:r>
            <a:endParaRPr b="0" lang="en-US" sz="3100" spc="-1" strike="noStrike">
              <a:solidFill>
                <a:srgbClr val="4e5b6f"/>
              </a:solidFill>
              <a:latin typeface="Candara"/>
            </a:endParaRPr>
          </a:p>
          <a:p>
            <a:pPr indent="0" algn="ctr">
              <a:lnSpc>
                <a:spcPct val="6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4e5b6f"/>
              </a:solidFill>
              <a:latin typeface="Candara"/>
            </a:endParaRPr>
          </a:p>
          <a:p>
            <a:pPr indent="0" algn="ctr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ea157a"/>
                </a:solidFill>
                <a:latin typeface="Candara"/>
              </a:rPr>
              <a:t>                       </a:t>
            </a:r>
            <a:r>
              <a:rPr b="1" lang="ru-RU" sz="1900" spc="-1" strike="noStrike">
                <a:solidFill>
                  <a:srgbClr val="4307eb"/>
                </a:solidFill>
                <a:latin typeface="Candara"/>
              </a:rPr>
              <a:t>Учитель:</a:t>
            </a:r>
            <a:r>
              <a:rPr b="1" lang="ru-RU" sz="1900" spc="-1" strike="noStrike">
                <a:solidFill>
                  <a:srgbClr val="ea157a"/>
                </a:solidFill>
                <a:latin typeface="Candara"/>
              </a:rPr>
              <a:t> </a:t>
            </a:r>
            <a:r>
              <a:rPr b="1" lang="ru-RU" sz="1900" spc="-1" strike="noStrike">
                <a:solidFill>
                  <a:srgbClr val="4307eb"/>
                </a:solidFill>
                <a:latin typeface="Candara"/>
              </a:rPr>
              <a:t>Грибоедова Т.В.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indent="0" algn="ctr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ndara"/>
              </a:rPr>
              <a:t>   </a:t>
            </a:r>
            <a:endParaRPr b="0" lang="en-US" sz="900" spc="-1" strike="noStrike">
              <a:solidFill>
                <a:srgbClr val="4e5b6f"/>
              </a:solidFill>
              <a:latin typeface="Candara"/>
            </a:endParaRPr>
          </a:p>
          <a:p>
            <a:pPr indent="0" algn="ctr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5b6f"/>
              </a:solidFill>
              <a:latin typeface="Candara"/>
            </a:endParaRPr>
          </a:p>
          <a:p>
            <a:pPr indent="0" algn="ctr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5b6f"/>
              </a:solidFill>
              <a:latin typeface="Candara"/>
            </a:endParaRPr>
          </a:p>
          <a:p>
            <a:pPr indent="0" algn="ctr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5b6f"/>
              </a:solidFill>
              <a:latin typeface="Candara"/>
            </a:endParaRPr>
          </a:p>
          <a:p>
            <a:pPr indent="0" algn="ctr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ea157a"/>
                </a:solidFill>
                <a:latin typeface="Candara"/>
              </a:rPr>
              <a:t>                                      </a:t>
            </a:r>
            <a:endParaRPr b="0" lang="en-US" sz="900" spc="-1" strike="noStrike">
              <a:solidFill>
                <a:srgbClr val="4e5b6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то это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Это животное ходит осторожно, крадучись. Хорошо лазает по деревьям. Хвост короткий, уши с кисточками, шкура в пятнышках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graphicFrame>
        <p:nvGraphicFramePr>
          <p:cNvPr id="553" name="Object 6"/>
          <p:cNvGraphicFramePr/>
          <p:nvPr/>
        </p:nvGraphicFramePr>
        <p:xfrm>
          <a:off x="5178600" y="1752480"/>
          <a:ext cx="285408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8600" y="1752480"/>
                    <a:ext cx="28540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Oval 7">
            <a:hlinkClick r:id="rId3" action="ppaction://hlinksldjump"/>
          </p:cNvPr>
          <p:cNvSpPr/>
          <p:nvPr/>
        </p:nvSpPr>
        <p:spPr>
          <a:xfrm>
            <a:off x="8028000" y="6308640"/>
            <a:ext cx="431640" cy="289080"/>
          </a:xfrm>
          <a:prstGeom prst="ellipse">
            <a:avLst/>
          </a:prstGeom>
          <a:solidFill>
            <a:srgbClr val="430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гадка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3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Пестрая крякушка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Ловит лягушек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Ходит вразвалочку,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Спотыкалочкой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5b6f"/>
                </a:solidFill>
                <a:latin typeface="Candara"/>
              </a:rPr>
              <a:t> 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tretch/>
        </p:blipFill>
        <p:spPr>
          <a:xfrm>
            <a:off x="4427640" y="2421000"/>
            <a:ext cx="3168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гад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66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На лугу живет скрипач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Носит фрак и ходит вскачь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561" name="Picture 14" descr=" "/>
          <p:cNvPicPr/>
          <p:nvPr/>
        </p:nvPicPr>
        <p:blipFill>
          <a:blip r:embed="rId2"/>
          <a:stretch/>
        </p:blipFill>
        <p:spPr>
          <a:xfrm>
            <a:off x="4211640" y="2781360"/>
            <a:ext cx="4208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гад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Целый день поет щегол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В клетке на окошке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Третий год ему пошел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А он боится…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graphicFrame>
        <p:nvGraphicFramePr>
          <p:cNvPr id="564" name="Object 7"/>
          <p:cNvGraphicFramePr/>
          <p:nvPr/>
        </p:nvGraphicFramePr>
        <p:xfrm>
          <a:off x="4716360" y="2637000"/>
          <a:ext cx="393408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637000"/>
                    <a:ext cx="393408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гад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66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Хитрая плутовка, рыжая головка,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Пушистый хвост – краса, кто же это?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graphicFrame>
        <p:nvGraphicFramePr>
          <p:cNvPr id="568" name="Object 9"/>
          <p:cNvGraphicFramePr/>
          <p:nvPr/>
        </p:nvGraphicFramePr>
        <p:xfrm>
          <a:off x="3995640" y="2781360"/>
          <a:ext cx="4608720" cy="29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781360"/>
                    <a:ext cx="460872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гад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66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Погляди на молодцов: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Веселы и бойки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Волокут со всех сторон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Материал для стройки.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Вот один споткнулся вдруг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Под тяжелой ношей -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И спешит на помощь друг. 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Тут народ хороший.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Без работы, хоть убей,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Жить не может…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572" name="Picture 7" descr=" "/>
          <p:cNvPicPr/>
          <p:nvPr/>
        </p:nvPicPr>
        <p:blipFill>
          <a:blip r:embed="rId2"/>
          <a:stretch/>
        </p:blipFill>
        <p:spPr>
          <a:xfrm>
            <a:off x="4643280" y="2421000"/>
            <a:ext cx="388944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гад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5b6f"/>
                </a:solidFill>
                <a:latin typeface="Candara"/>
              </a:rPr>
              <a:t>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В этом хоре музыканты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Все во фраках, словно франты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Но поет ужасно хор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Хору нужен дирижер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575" name="Picture 4" descr=""/>
          <p:cNvPicPr/>
          <p:nvPr/>
        </p:nvPicPr>
        <p:blipFill>
          <a:blip r:embed="rId1"/>
          <a:stretch/>
        </p:blipFill>
        <p:spPr>
          <a:xfrm>
            <a:off x="4859280" y="2997360"/>
            <a:ext cx="331308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гад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Носит серенький жилет,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Но у крыльев черный цвет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Видишь, кружат двадцать пар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И кричат: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- Каррр, каррр, каррр!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578" name="Picture 12" descr=" "/>
          <p:cNvPicPr/>
          <p:nvPr/>
        </p:nvPicPr>
        <p:blipFill>
          <a:blip r:embed="rId2"/>
          <a:stretch/>
        </p:blipFill>
        <p:spPr>
          <a:xfrm>
            <a:off x="4356000" y="3429000"/>
            <a:ext cx="4248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гад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Полосатая злодейка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Съест любого малыша-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Пескаря, плотву, уклейку…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Не проглотит лишь ерша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Его попробуй одолей-ка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581" name="Picture 16" descr="Картинка 4 из 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9440" y="3535200"/>
            <a:ext cx="367020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6" descr="Котенок спит (1)"/>
          <p:cNvPicPr/>
          <p:nvPr/>
        </p:nvPicPr>
        <p:blipFill>
          <a:blip r:embed="rId1"/>
          <a:stretch/>
        </p:blipFill>
        <p:spPr>
          <a:xfrm>
            <a:off x="2916360" y="1844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7" descr=""/>
          <p:cNvPicPr/>
          <p:nvPr/>
        </p:nvPicPr>
        <p:blipFill>
          <a:blip r:embed="rId2"/>
          <a:stretch/>
        </p:blipFill>
        <p:spPr>
          <a:xfrm>
            <a:off x="7020000" y="3716280"/>
            <a:ext cx="1771560" cy="16574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9" descr=""/>
          <p:cNvPicPr/>
          <p:nvPr/>
        </p:nvPicPr>
        <p:blipFill>
          <a:blip r:embed="rId3"/>
          <a:stretch/>
        </p:blipFill>
        <p:spPr>
          <a:xfrm>
            <a:off x="4788000" y="3860640"/>
            <a:ext cx="2066760" cy="15433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0" descr=""/>
          <p:cNvPicPr/>
          <p:nvPr/>
        </p:nvPicPr>
        <p:blipFill>
          <a:blip r:embed="rId4"/>
          <a:stretch/>
        </p:blipFill>
        <p:spPr>
          <a:xfrm>
            <a:off x="684360" y="3789360"/>
            <a:ext cx="1771560" cy="16556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1" descr=""/>
          <p:cNvPicPr/>
          <p:nvPr/>
        </p:nvPicPr>
        <p:blipFill>
          <a:blip r:embed="rId5"/>
          <a:stretch/>
        </p:blipFill>
        <p:spPr>
          <a:xfrm>
            <a:off x="6948360" y="1844640"/>
            <a:ext cx="1771920" cy="17287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3" descr=""/>
          <p:cNvPicPr/>
          <p:nvPr/>
        </p:nvPicPr>
        <p:blipFill>
          <a:blip r:embed="rId6"/>
          <a:stretch/>
        </p:blipFill>
        <p:spPr>
          <a:xfrm>
            <a:off x="539640" y="1989000"/>
            <a:ext cx="2067120" cy="15433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4" descr=""/>
          <p:cNvPicPr/>
          <p:nvPr/>
        </p:nvPicPr>
        <p:blipFill>
          <a:blip r:embed="rId7"/>
          <a:stretch/>
        </p:blipFill>
        <p:spPr>
          <a:xfrm>
            <a:off x="2843280" y="3789360"/>
            <a:ext cx="1771560" cy="16556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5" descr=""/>
          <p:cNvPicPr/>
          <p:nvPr/>
        </p:nvPicPr>
        <p:blipFill>
          <a:blip r:embed="rId8"/>
          <a:stretch/>
        </p:blipFill>
        <p:spPr>
          <a:xfrm>
            <a:off x="5003640" y="1844640"/>
            <a:ext cx="1771920" cy="180036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то изображен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5"/>
          <p:cNvSpPr/>
          <p:nvPr/>
        </p:nvSpPr>
        <p:spPr>
          <a:xfrm>
            <a:off x="3132000" y="1916280"/>
            <a:ext cx="374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Животны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6"/>
          <p:cNvSpPr/>
          <p:nvPr/>
        </p:nvSpPr>
        <p:spPr>
          <a:xfrm>
            <a:off x="500040" y="2500200"/>
            <a:ext cx="201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07eb"/>
                </a:solidFill>
                <a:latin typeface="Verdana"/>
              </a:rPr>
              <a:t>Звер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7000920" y="264312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07eb"/>
                </a:solidFill>
                <a:latin typeface="Verdana"/>
              </a:rPr>
              <a:t>Ры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2124000" y="51577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07eb"/>
                </a:solidFill>
                <a:latin typeface="Verdana"/>
              </a:rPr>
              <a:t>Птиц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5072040" y="51436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07eb"/>
                </a:solidFill>
                <a:latin typeface="Verdana"/>
              </a:rPr>
              <a:t>Насеком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Line 13"/>
          <p:cNvSpPr/>
          <p:nvPr/>
        </p:nvSpPr>
        <p:spPr>
          <a:xfrm flipH="1">
            <a:off x="2143080" y="2565360"/>
            <a:ext cx="1852560" cy="29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Line 14"/>
          <p:cNvSpPr/>
          <p:nvPr/>
        </p:nvSpPr>
        <p:spPr>
          <a:xfrm>
            <a:off x="5148360" y="2565360"/>
            <a:ext cx="1780920" cy="36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Line 15"/>
          <p:cNvSpPr/>
          <p:nvPr/>
        </p:nvSpPr>
        <p:spPr>
          <a:xfrm flipH="1">
            <a:off x="3571560" y="2714760"/>
            <a:ext cx="793800" cy="257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Line 16"/>
          <p:cNvSpPr/>
          <p:nvPr/>
        </p:nvSpPr>
        <p:spPr>
          <a:xfrm>
            <a:off x="4859280" y="2781360"/>
            <a:ext cx="426960" cy="24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Прямоугольник 12"/>
          <p:cNvSpPr/>
          <p:nvPr/>
        </p:nvSpPr>
        <p:spPr>
          <a:xfrm>
            <a:off x="571680" y="3929040"/>
            <a:ext cx="32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07eb"/>
                </a:solidFill>
                <a:latin typeface="Verdana"/>
              </a:rPr>
              <a:t>Земноводные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Прямоугольник 13"/>
          <p:cNvSpPr/>
          <p:nvPr/>
        </p:nvSpPr>
        <p:spPr>
          <a:xfrm>
            <a:off x="5072040" y="378612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07eb"/>
                </a:solidFill>
                <a:latin typeface="Verdana"/>
              </a:rPr>
              <a:t>Пресмыкающиес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Line 13"/>
          <p:cNvSpPr/>
          <p:nvPr/>
        </p:nvSpPr>
        <p:spPr>
          <a:xfrm flipH="1">
            <a:off x="2786040" y="2714760"/>
            <a:ext cx="13572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5000760" y="2714760"/>
            <a:ext cx="1071360" cy="107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Лягушка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Тигр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Бабочка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Цапля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Налим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Коршун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Крокодил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Кабан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Щука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Кузнечик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307eb"/>
                </a:solidFill>
                <a:latin typeface="Candara"/>
              </a:rPr>
              <a:t>Угадай группу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505" name="Group 6"/>
          <p:cNvGrpSpPr/>
          <p:nvPr/>
        </p:nvGrpSpPr>
        <p:grpSpPr>
          <a:xfrm>
            <a:off x="6000840" y="4857840"/>
            <a:ext cx="2160360" cy="647640"/>
            <a:chOff x="6000840" y="4857840"/>
            <a:chExt cx="2160360" cy="647640"/>
          </a:xfrm>
        </p:grpSpPr>
        <p:sp>
          <p:nvSpPr>
            <p:cNvPr id="506" name="Oval 4"/>
            <p:cNvSpPr/>
            <p:nvPr/>
          </p:nvSpPr>
          <p:spPr>
            <a:xfrm>
              <a:off x="6000840" y="4857840"/>
              <a:ext cx="2160360" cy="647640"/>
            </a:xfrm>
            <a:prstGeom prst="ellipse">
              <a:avLst/>
            </a:prstGeom>
            <a:solidFill>
              <a:srgbClr val="7fd1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WordArt 5"/>
            <p:cNvSpPr txBox="1"/>
            <p:nvPr/>
          </p:nvSpPr>
          <p:spPr>
            <a:xfrm>
              <a:off x="6648480" y="5002200"/>
              <a:ext cx="95040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4e5b6f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зверь</a:t>
              </a:r>
              <a:endParaRPr b="0" lang="en-US" sz="1800" spc="1" strike="noStrike">
                <a:ln w="0">
                  <a:noFill/>
                </a:ln>
                <a:solidFill>
                  <a:srgbClr val="4e5b6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508" name="Group 18"/>
          <p:cNvGrpSpPr/>
          <p:nvPr/>
        </p:nvGrpSpPr>
        <p:grpSpPr>
          <a:xfrm>
            <a:off x="6012000" y="3786120"/>
            <a:ext cx="2160360" cy="856800"/>
            <a:chOff x="6012000" y="3786120"/>
            <a:chExt cx="2160360" cy="856800"/>
          </a:xfrm>
        </p:grpSpPr>
        <p:sp>
          <p:nvSpPr>
            <p:cNvPr id="509" name="Oval 8"/>
            <p:cNvSpPr/>
            <p:nvPr/>
          </p:nvSpPr>
          <p:spPr>
            <a:xfrm>
              <a:off x="6012000" y="3786120"/>
              <a:ext cx="2160360" cy="856800"/>
            </a:xfrm>
            <a:prstGeom prst="ellipse">
              <a:avLst/>
            </a:prstGeom>
            <a:solidFill>
              <a:srgbClr val="7fd1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WordArt 9"/>
            <p:cNvSpPr txBox="1"/>
            <p:nvPr/>
          </p:nvSpPr>
          <p:spPr>
            <a:xfrm>
              <a:off x="6516720" y="3976920"/>
              <a:ext cx="1224000" cy="52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4e5b6f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насекомое</a:t>
              </a:r>
              <a:endParaRPr b="0" lang="en-US" sz="1800" spc="1" strike="noStrike">
                <a:ln w="0">
                  <a:noFill/>
                </a:ln>
                <a:solidFill>
                  <a:srgbClr val="4e5b6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511" name="Group 19"/>
          <p:cNvGrpSpPr/>
          <p:nvPr/>
        </p:nvGrpSpPr>
        <p:grpSpPr>
          <a:xfrm>
            <a:off x="5940360" y="3000240"/>
            <a:ext cx="2160720" cy="714240"/>
            <a:chOff x="5940360" y="3000240"/>
            <a:chExt cx="2160720" cy="714240"/>
          </a:xfrm>
        </p:grpSpPr>
        <p:sp>
          <p:nvSpPr>
            <p:cNvPr id="512" name="Oval 11"/>
            <p:cNvSpPr/>
            <p:nvPr/>
          </p:nvSpPr>
          <p:spPr>
            <a:xfrm>
              <a:off x="5940360" y="3000240"/>
              <a:ext cx="2160720" cy="714240"/>
            </a:xfrm>
            <a:prstGeom prst="ellipse">
              <a:avLst/>
            </a:prstGeom>
            <a:solidFill>
              <a:srgbClr val="7fd1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WordArt 12"/>
            <p:cNvSpPr txBox="1"/>
            <p:nvPr/>
          </p:nvSpPr>
          <p:spPr>
            <a:xfrm>
              <a:off x="6443640" y="3078720"/>
              <a:ext cx="1095480" cy="52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4e5b6f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рыба</a:t>
              </a:r>
              <a:endParaRPr b="0" lang="en-US" sz="1800" spc="1" strike="noStrike">
                <a:ln w="0">
                  <a:noFill/>
                </a:ln>
                <a:solidFill>
                  <a:srgbClr val="4e5b6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514" name="Group 16"/>
          <p:cNvGrpSpPr/>
          <p:nvPr/>
        </p:nvGrpSpPr>
        <p:grpSpPr>
          <a:xfrm>
            <a:off x="5867280" y="2000160"/>
            <a:ext cx="2160720" cy="785520"/>
            <a:chOff x="5867280" y="2000160"/>
            <a:chExt cx="2160720" cy="785520"/>
          </a:xfrm>
        </p:grpSpPr>
        <p:sp>
          <p:nvSpPr>
            <p:cNvPr id="515" name="Oval 14"/>
            <p:cNvSpPr/>
            <p:nvPr/>
          </p:nvSpPr>
          <p:spPr>
            <a:xfrm>
              <a:off x="5867280" y="2000160"/>
              <a:ext cx="2160720" cy="785520"/>
            </a:xfrm>
            <a:prstGeom prst="ellipse">
              <a:avLst/>
            </a:prstGeom>
            <a:solidFill>
              <a:srgbClr val="7fd1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WordArt 15"/>
            <p:cNvSpPr txBox="1"/>
            <p:nvPr/>
          </p:nvSpPr>
          <p:spPr>
            <a:xfrm>
              <a:off x="6357960" y="2175120"/>
              <a:ext cx="1108080" cy="48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4e5b6f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птица</a:t>
              </a:r>
              <a:endParaRPr b="0" lang="en-US" sz="1800" spc="1" strike="noStrike">
                <a:ln w="0">
                  <a:noFill/>
                </a:ln>
                <a:solidFill>
                  <a:srgbClr val="4e5b6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517" name="Oval 14"/>
          <p:cNvSpPr/>
          <p:nvPr/>
        </p:nvSpPr>
        <p:spPr>
          <a:xfrm>
            <a:off x="5786280" y="928800"/>
            <a:ext cx="2232360" cy="790560"/>
          </a:xfrm>
          <a:prstGeom prst="ellips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пресмыкаю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щие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8" name="Group 6"/>
          <p:cNvGrpSpPr/>
          <p:nvPr/>
        </p:nvGrpSpPr>
        <p:grpSpPr>
          <a:xfrm>
            <a:off x="6164280" y="5572080"/>
            <a:ext cx="2160720" cy="785880"/>
            <a:chOff x="6164280" y="5572080"/>
            <a:chExt cx="2160720" cy="785880"/>
          </a:xfrm>
        </p:grpSpPr>
        <p:sp>
          <p:nvSpPr>
            <p:cNvPr id="519" name="Oval 4"/>
            <p:cNvSpPr/>
            <p:nvPr/>
          </p:nvSpPr>
          <p:spPr>
            <a:xfrm>
              <a:off x="6164280" y="5572080"/>
              <a:ext cx="2160720" cy="785880"/>
            </a:xfrm>
            <a:prstGeom prst="ellipse">
              <a:avLst/>
            </a:prstGeom>
            <a:solidFill>
              <a:srgbClr val="7fd1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0" name="WordArt 5"/>
            <p:cNvSpPr txBox="1"/>
            <p:nvPr/>
          </p:nvSpPr>
          <p:spPr>
            <a:xfrm>
              <a:off x="6500880" y="5964120"/>
              <a:ext cx="1500480" cy="29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4e5b6f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земноводные</a:t>
              </a:r>
              <a:endParaRPr b="0" lang="en-US" sz="1800" spc="1" strike="noStrike">
                <a:ln w="0">
                  <a:noFill/>
                </a:ln>
                <a:solidFill>
                  <a:srgbClr val="4e5b6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оверь себя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2" name="Oval 4"/>
          <p:cNvSpPr/>
          <p:nvPr/>
        </p:nvSpPr>
        <p:spPr>
          <a:xfrm>
            <a:off x="4859280" y="1844640"/>
            <a:ext cx="3284640" cy="1227240"/>
          </a:xfrm>
          <a:prstGeom prst="ellipse">
            <a:avLst/>
          </a:prstGeom>
          <a:solidFill>
            <a:srgbClr val="f76d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Oval 6"/>
          <p:cNvSpPr/>
          <p:nvPr/>
        </p:nvSpPr>
        <p:spPr>
          <a:xfrm>
            <a:off x="755640" y="3286080"/>
            <a:ext cx="3816360" cy="1214640"/>
          </a:xfrm>
          <a:prstGeom prst="ellipse">
            <a:avLst/>
          </a:prstGeom>
          <a:solidFill>
            <a:srgbClr val="80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Oval 7"/>
          <p:cNvSpPr/>
          <p:nvPr/>
        </p:nvSpPr>
        <p:spPr>
          <a:xfrm>
            <a:off x="714240" y="1714680"/>
            <a:ext cx="3786480" cy="1428480"/>
          </a:xfrm>
          <a:prstGeom prst="ellipse">
            <a:avLst/>
          </a:prstGeom>
          <a:solidFill>
            <a:srgbClr val="e1f4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Oval 8"/>
          <p:cNvSpPr/>
          <p:nvPr/>
        </p:nvSpPr>
        <p:spPr>
          <a:xfrm>
            <a:off x="4929120" y="3214800"/>
            <a:ext cx="3786120" cy="1357200"/>
          </a:xfrm>
          <a:prstGeom prst="ellipse">
            <a:avLst/>
          </a:prstGeom>
          <a:solidFill>
            <a:srgbClr val="9ff3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1285920" y="264312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абочка, кузнеч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WordArt 10"/>
          <p:cNvSpPr txBox="1"/>
          <p:nvPr/>
        </p:nvSpPr>
        <p:spPr>
          <a:xfrm>
            <a:off x="1500120" y="2000160"/>
            <a:ext cx="22147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секомые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8" name="WordArt 11"/>
          <p:cNvSpPr txBox="1"/>
          <p:nvPr/>
        </p:nvSpPr>
        <p:spPr>
          <a:xfrm>
            <a:off x="1763640" y="3429000"/>
            <a:ext cx="1879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ыбы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9" name="WordArt 12"/>
          <p:cNvSpPr txBox="1"/>
          <p:nvPr/>
        </p:nvSpPr>
        <p:spPr>
          <a:xfrm>
            <a:off x="5796000" y="2133720"/>
            <a:ext cx="187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тицы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0" name="WordArt 13"/>
          <p:cNvSpPr txBox="1"/>
          <p:nvPr/>
        </p:nvSpPr>
        <p:spPr>
          <a:xfrm>
            <a:off x="5796000" y="3357720"/>
            <a:ext cx="191916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вери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1" name="Text Box 14"/>
          <p:cNvSpPr/>
          <p:nvPr/>
        </p:nvSpPr>
        <p:spPr>
          <a:xfrm>
            <a:off x="5643720" y="250020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Цапля, коршу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Text Box 16"/>
          <p:cNvSpPr/>
          <p:nvPr/>
        </p:nvSpPr>
        <p:spPr>
          <a:xfrm>
            <a:off x="1619280" y="39290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лим, щу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Text Box 17"/>
          <p:cNvSpPr/>
          <p:nvPr/>
        </p:nvSpPr>
        <p:spPr>
          <a:xfrm>
            <a:off x="5724360" y="392904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игр, каба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Oval 18">
            <a:hlinkClick r:id="rId1" action="ppaction://hlinksldjump"/>
          </p:cNvPr>
          <p:cNvSpPr/>
          <p:nvPr/>
        </p:nvSpPr>
        <p:spPr>
          <a:xfrm>
            <a:off x="8028000" y="6308640"/>
            <a:ext cx="431640" cy="289080"/>
          </a:xfrm>
          <a:prstGeom prst="ellipse">
            <a:avLst/>
          </a:prstGeom>
          <a:solidFill>
            <a:srgbClr val="430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Oval 6"/>
          <p:cNvSpPr/>
          <p:nvPr/>
        </p:nvSpPr>
        <p:spPr>
          <a:xfrm>
            <a:off x="571680" y="4857840"/>
            <a:ext cx="3786120" cy="1214280"/>
          </a:xfrm>
          <a:prstGeom prst="ellipse">
            <a:avLst/>
          </a:prstGeom>
          <a:solidFill>
            <a:srgbClr val="9371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ягуш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Oval 6"/>
          <p:cNvSpPr/>
          <p:nvPr/>
        </p:nvSpPr>
        <p:spPr>
          <a:xfrm>
            <a:off x="4500720" y="4857840"/>
            <a:ext cx="3816360" cy="1214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окоди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WordArt 11"/>
          <p:cNvSpPr txBox="1"/>
          <p:nvPr/>
        </p:nvSpPr>
        <p:spPr>
          <a:xfrm>
            <a:off x="5500800" y="5072040"/>
            <a:ext cx="235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смыкающиеся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8" name="WordArt 11"/>
          <p:cNvSpPr txBox="1"/>
          <p:nvPr/>
        </p:nvSpPr>
        <p:spPr>
          <a:xfrm>
            <a:off x="1071720" y="5000760"/>
            <a:ext cx="23572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емноводные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то это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21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Шуба у него тёплая – тёплая. Она спасает от мороза и от охотника скрывает. Где такого заметишь?! Пока разглядываешь да всматриваешься, зверёк задаст стрекоча, только его и видели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541" name="Picture 6" descr=""/>
          <p:cNvPicPr/>
          <p:nvPr/>
        </p:nvPicPr>
        <p:blipFill>
          <a:blip r:embed="rId1"/>
          <a:stretch/>
        </p:blipFill>
        <p:spPr>
          <a:xfrm>
            <a:off x="4572000" y="3573360"/>
            <a:ext cx="273672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то это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3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Он бродит по лесам, своим длинным рылом роется в земле. Дубовые желуди подбирает. А зовут его секачом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544" name="Picture 4" descr=""/>
          <p:cNvPicPr/>
          <p:nvPr/>
        </p:nvPicPr>
        <p:blipFill>
          <a:blip r:embed="rId1"/>
          <a:stretch/>
        </p:blipFill>
        <p:spPr>
          <a:xfrm>
            <a:off x="5435640" y="2924280"/>
            <a:ext cx="30621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то это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Это сильный, ловкий, хоть с виду не складный зверь, очень пугливый. Живет  в лесу, ест ветки деревьев, кору обгрызает. В лесу обгонит самую быструю лошадь. 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547" name="Picture 4" descr=""/>
          <p:cNvPicPr/>
          <p:nvPr/>
        </p:nvPicPr>
        <p:blipFill>
          <a:blip r:embed="rId1"/>
          <a:stretch/>
        </p:blipFill>
        <p:spPr>
          <a:xfrm>
            <a:off x="4788000" y="3213000"/>
            <a:ext cx="287964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то это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3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Этот зверь питается личинками, червяками, ягодами. К осени растолстеет, станет жирным, ленивым, заберётся в свою нору и уснет до самой весны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550" name="Picture 4" descr=""/>
          <p:cNvPicPr/>
          <p:nvPr/>
        </p:nvPicPr>
        <p:blipFill>
          <a:blip r:embed="rId1"/>
          <a:stretch/>
        </p:blipFill>
        <p:spPr>
          <a:xfrm>
            <a:off x="5003640" y="3213000"/>
            <a:ext cx="25225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14:54:30Z</dcterms:created>
  <dc:creator>Egor</dc:creator>
  <dc:description/>
  <dc:language>en-US</dc:language>
  <cp:lastModifiedBy>Пользователь Windows</cp:lastModifiedBy>
  <dcterms:modified xsi:type="dcterms:W3CDTF">2023-07-03T11:47:31Z</dcterms:modified>
  <cp:revision>15</cp:revision>
  <dc:subject/>
  <dc:title>Урок по окружающему миру 1 класс.</dc:title>
</cp:coreProperties>
</file>