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2.gif" ContentType="image/gif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DDD-FAF3-4BD9-ABB1-9E6E02D3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948-D6B7-41E0-8429-E4B96D35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9DCE-D5A5-43C5-BB74-CB2C6A31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6267-9BD7-47EB-87C1-E719C4E7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1B6C-B663-4CB4-86C5-3A3FE701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60F1-8E57-4F80-BD64-FC44590D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2DB8-1A8A-4973-A4F6-87DE67EF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40BA-D98E-451D-9E13-8C6AE9B7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C554-0DCD-4AEF-8F8C-A5D0FE71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CA15-EF15-46B4-BACD-9713A016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4588-6CA8-4559-8FE3-4F4027E5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AD40-73B6-47A5-8E53-755B7416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2BD0-7BA8-4A83-9E8F-BAF393EA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DE75-3CA6-4A97-98C5-513D9B0A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6CA2-1B66-4C36-8F5A-FA2C26A0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2E0B-DE01-45CC-A5F8-6C4277C0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8108-0DB7-4933-93AE-AF79B434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22A-AC6A-474D-8D94-C59454FC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4ADF-B920-44DD-82BF-A2A2581B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E230-1C4B-4208-9984-BA5F2538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766-0197-4FB7-BD18-EE62D729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F23C-CBE4-4664-A250-F83A4BC1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6DA-2ED4-4604-ABEA-672D4A7F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4E6-B5FE-4836-A444-403EC155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6B5A-EEF0-4406-86A2-813EF00526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C512-CD73-471C-B9D9-1F032E50D2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4.pn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00000" y="1557360"/>
            <a:ext cx="7129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РАЗВИТ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ВОКАЛЬНО-ХОРОВЫХ НАВЫКОВ ПЕНИЯ ДЕТЕЙ 6-7 Л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СРЕДСТВАМИ МУЗЫКАЛЬНОЙ ВЫРАЗИТЕЛЬ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771640" y="3716280"/>
            <a:ext cx="2303640" cy="2973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4392360" cy="3105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484360" y="1197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МДИ «МУЗЫКАЛЬНАЯ ЛЕСЕНК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72000" y="2276640"/>
            <a:ext cx="4424400" cy="3127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940360" y="1557360"/>
            <a:ext cx="1185840" cy="1603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332000" y="170028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42920" y="1479600"/>
            <a:ext cx="6767640" cy="4664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63640" y="1052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МДИ «Я ШАГАЮ ВВЕРХ И СПУСКАЮСЬ ВНИЗ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7488360" cy="46785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140000" cy="424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4067280" cy="4121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2779920" cy="39463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2452680" cy="37864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796000" y="1989000"/>
            <a:ext cx="3168720" cy="38163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050920" y="119700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МДИ «МОЙ ВЕСЁЛЫЙ ЗВУКОРЯД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8064360" cy="3936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549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МДИ «ДОМ ДЛЯ НОТ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1413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Д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2492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3716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494172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Ф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1341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7640" y="2492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27640" y="3645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501336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Д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Рисунок 1" descr="http://www.clipartdude.com/clip-arts/552/cartoon-house-552291.jpg"/>
          <p:cNvPicPr/>
          <p:nvPr/>
        </p:nvPicPr>
        <p:blipFill>
          <a:blip r:embed="rId2"/>
          <a:stretch/>
        </p:blipFill>
        <p:spPr>
          <a:xfrm>
            <a:off x="2124000" y="907920"/>
            <a:ext cx="1403280" cy="12891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6" descr="http://fotohomka.ru/images/Dec/06/895fc095844667e9571d8372b49a6762/1.jpg"/>
          <p:cNvPicPr/>
          <p:nvPr/>
        </p:nvPicPr>
        <p:blipFill>
          <a:blip r:embed="rId3"/>
          <a:stretch/>
        </p:blipFill>
        <p:spPr>
          <a:xfrm>
            <a:off x="2124000" y="2133720"/>
            <a:ext cx="1403280" cy="10540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5" descr="https://www.clipartsgram.com/image/1141566661-biypeo9il.jpg"/>
          <p:cNvPicPr/>
          <p:nvPr/>
        </p:nvPicPr>
        <p:blipFill>
          <a:blip r:embed="rId4"/>
          <a:stretch/>
        </p:blipFill>
        <p:spPr>
          <a:xfrm>
            <a:off x="2124000" y="321300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28" descr="https://st.depositphotos.com/1007989/1348/i/950/depositphotos_13488057-stock-photo-candies-mascot.jpg"/>
          <p:cNvPicPr/>
          <p:nvPr/>
        </p:nvPicPr>
        <p:blipFill>
          <a:blip r:embed="rId5"/>
          <a:stretch/>
        </p:blipFill>
        <p:spPr>
          <a:xfrm>
            <a:off x="2124000" y="4797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6156360" y="6206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443640" y="2133720"/>
            <a:ext cx="887400" cy="14047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67" descr="http://img0.liveinternet.ru/images/attach/c/4/79/684/79684298_large_16.jpg"/>
          <p:cNvPicPr/>
          <p:nvPr/>
        </p:nvPicPr>
        <p:blipFill>
          <a:blip r:embed="rId8"/>
          <a:stretch/>
        </p:blipFill>
        <p:spPr>
          <a:xfrm>
            <a:off x="6372360" y="364500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" descr="http://www.clipartdude.com/clip-arts/552/cartoon-house-552291.jpg"/>
          <p:cNvPicPr/>
          <p:nvPr/>
        </p:nvPicPr>
        <p:blipFill>
          <a:blip r:embed="rId9"/>
          <a:stretch/>
        </p:blipFill>
        <p:spPr>
          <a:xfrm>
            <a:off x="6227640" y="4797360"/>
            <a:ext cx="1403640" cy="1289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5280" y="1268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МДИ «МУЗЫКАЛЬНЫЕ КЛЮЧИ, КОМАНДИРЫ-МОЛОЛДЦЫ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148360" y="1773360"/>
            <a:ext cx="3538440" cy="41716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82" descr="http://images.clipartpanda.com/blank-music-staff-clipart-eTMkR6yAc.png"/>
          <p:cNvPicPr/>
          <p:nvPr/>
        </p:nvPicPr>
        <p:blipFill>
          <a:blip r:embed="rId3"/>
          <a:stretch/>
        </p:blipFill>
        <p:spPr>
          <a:xfrm>
            <a:off x="179280" y="1700280"/>
            <a:ext cx="500400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7T10:04:37Z</dcterms:created>
  <dc:creator>Alex</dc:creator>
  <dc:description/>
  <dc:language>en-US</dc:language>
  <cp:lastModifiedBy>Alex</cp:lastModifiedBy>
  <dcterms:modified xsi:type="dcterms:W3CDTF">2017-09-20T10:20:25Z</dcterms:modified>
  <cp:revision>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