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2.gif" ContentType="image/gif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CB9-3F98-45C3-986D-349FE2E7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41F3-89E4-4D8E-A996-1DACA8C0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63A-075C-4142-86EE-52BC5544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4AD-6CAF-4FBE-A760-5DC78E28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D1ED-7F42-4EAF-AAB2-64F65DF5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720B-0EBA-4F9B-BF4A-79388BF3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17B4-EE42-4FF8-BEFF-B7080F76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69D5-8F83-457F-A3AC-4A95A121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43DE-7759-4CA4-999E-0319E581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50BC-B50F-4A5C-9830-472D4EE1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BC53-9360-460F-91ED-F43AB4C8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73F9-2DD0-4598-96EB-0406D81D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6F85-51BD-447A-BFA5-71CA9D53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AEA7-8EB9-4498-80D1-F0972E38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9073-EBBF-4768-B3D4-9CB26CAC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25CA-4F34-46BE-B540-78348155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2C0D-B84B-480F-B4B7-A5A5744D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360-F8CF-4B01-975A-71A19A95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1BF-EEBC-4BC4-AD1C-7AF69EB4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33F9-E635-4FE4-BEB7-F1CF9DD9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5CAC-BD41-4FF0-9281-7DE5743B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16B3-2BBB-4684-A05F-AB5B3149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E537-3AE3-4061-B42B-EBB0AEDB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598E-A63A-400A-80FE-75B848AA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BF52-FBCB-4E4D-961B-1F0F79B1A2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2C99-9427-458F-A5FE-5FD3A91E0A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4.pn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00000" y="1557360"/>
            <a:ext cx="71294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РАЗВИТ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ВОКАЛЬНО-ХОРОВЫХ НАВЫКОВ ПЕНИЯ ДЕТЕЙ 6-7 Л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СРЕДСТВАМИ МУЗЫКАЛЬНОЙ ВЫРАЗИТЕЛЬ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771640" y="3716280"/>
            <a:ext cx="2303640" cy="2973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4392360" cy="3105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484360" y="1197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МДИ «МУЗЫКАЛЬНАЯ ЛЕСЕНКА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72000" y="2276640"/>
            <a:ext cx="4424400" cy="3127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940360" y="1557360"/>
            <a:ext cx="1185840" cy="1603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332000" y="170028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42920" y="1479600"/>
            <a:ext cx="6767640" cy="4664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63640" y="1052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МДИ «Я ШАГАЮ ВВЕРХ И СПУСКАЮСЬ ВНИЗ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7488360" cy="46785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140000" cy="424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4067280" cy="4121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2779920" cy="39463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2452680" cy="37864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796000" y="1989000"/>
            <a:ext cx="3168720" cy="381636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050920" y="119700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МДИ «МОЙ ВЕСЁЛЫЙ ЗВУКОРЯД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8064360" cy="3936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549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МДИ «ДОМ ДЛЯ НОТ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1413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Д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2492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3716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494172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Ф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1341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7640" y="24922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27640" y="3645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501336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Д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Рисунок 1" descr="http://www.clipartdude.com/clip-arts/552/cartoon-house-552291.jpg"/>
          <p:cNvPicPr/>
          <p:nvPr/>
        </p:nvPicPr>
        <p:blipFill>
          <a:blip r:embed="rId2"/>
          <a:stretch/>
        </p:blipFill>
        <p:spPr>
          <a:xfrm>
            <a:off x="2124000" y="907920"/>
            <a:ext cx="1403280" cy="12891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6" descr="http://fotohomka.ru/images/Dec/06/895fc095844667e9571d8372b49a6762/1.jpg"/>
          <p:cNvPicPr/>
          <p:nvPr/>
        </p:nvPicPr>
        <p:blipFill>
          <a:blip r:embed="rId3"/>
          <a:stretch/>
        </p:blipFill>
        <p:spPr>
          <a:xfrm>
            <a:off x="2124000" y="2133720"/>
            <a:ext cx="1403280" cy="10540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5" descr="https://www.clipartsgram.com/image/1141566661-biypeo9il.jpg"/>
          <p:cNvPicPr/>
          <p:nvPr/>
        </p:nvPicPr>
        <p:blipFill>
          <a:blip r:embed="rId4"/>
          <a:stretch/>
        </p:blipFill>
        <p:spPr>
          <a:xfrm>
            <a:off x="2124000" y="321300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28" descr="https://st.depositphotos.com/1007989/1348/i/950/depositphotos_13488057-stock-photo-candies-mascot.jpg"/>
          <p:cNvPicPr/>
          <p:nvPr/>
        </p:nvPicPr>
        <p:blipFill>
          <a:blip r:embed="rId5"/>
          <a:stretch/>
        </p:blipFill>
        <p:spPr>
          <a:xfrm>
            <a:off x="2124000" y="4797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6156360" y="6206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443640" y="2133720"/>
            <a:ext cx="887400" cy="14047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67" descr="http://img0.liveinternet.ru/images/attach/c/4/79/684/79684298_large_16.jpg"/>
          <p:cNvPicPr/>
          <p:nvPr/>
        </p:nvPicPr>
        <p:blipFill>
          <a:blip r:embed="rId8"/>
          <a:stretch/>
        </p:blipFill>
        <p:spPr>
          <a:xfrm>
            <a:off x="6372360" y="3645000"/>
            <a:ext cx="1116000" cy="11160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" descr="http://www.clipartdude.com/clip-arts/552/cartoon-house-552291.jpg"/>
          <p:cNvPicPr/>
          <p:nvPr/>
        </p:nvPicPr>
        <p:blipFill>
          <a:blip r:embed="rId9"/>
          <a:stretch/>
        </p:blipFill>
        <p:spPr>
          <a:xfrm>
            <a:off x="6227640" y="4797360"/>
            <a:ext cx="1403640" cy="1289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5280" y="1268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МДИ «МУЗЫКАЛЬНЫЕ КЛЮЧИ, КОМАНДИРЫ-МОЛОЛДЦЫ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148360" y="1773360"/>
            <a:ext cx="3538440" cy="41716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82" descr="http://images.clipartpanda.com/blank-music-staff-clipart-eTMkR6yAc.png"/>
          <p:cNvPicPr/>
          <p:nvPr/>
        </p:nvPicPr>
        <p:blipFill>
          <a:blip r:embed="rId3"/>
          <a:stretch/>
        </p:blipFill>
        <p:spPr>
          <a:xfrm>
            <a:off x="179280" y="1700280"/>
            <a:ext cx="500400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7T10:04:37Z</dcterms:created>
  <dc:creator>Alex</dc:creator>
  <dc:description/>
  <dc:language>en-US</dc:language>
  <cp:lastModifiedBy>Alex</cp:lastModifiedBy>
  <dcterms:modified xsi:type="dcterms:W3CDTF">2017-09-20T10:20:25Z</dcterms:modified>
  <cp:revision>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