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9947275" cy="6858000"/>
  <p:custShowLst>
    <p:custShow name="Произвольный показ 1" id="0">
      <p:sldLst>
        <p:sld r:id="rId6"/>
      </p:sldLst>
    </p:custShow>
    <p:custShow name="Произвольный показ 2" id="1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3044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742C-135B-44DA-8607-60E7F06AA7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BD55-4AE2-4B2A-B14D-A3F87E6120B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43D1-F22A-4F95-B94E-FDEC472A4AD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D3C4-CCC2-447C-BE0F-C9CC749D73C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89FB-6E4B-4FC1-840C-ACB012FFDC9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6C70-72BA-4FEF-920D-1F9DDF9D438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82F2-AA4B-46D7-A99D-4657BFB50C2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8E10-2BBD-4477-8C06-8FA24F42681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49AC-8C40-415D-A122-A18C72DD9A0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AFD2-5A46-44D6-B61A-DDB22F033AE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33E5-5355-4CE6-99A5-70669C1B92E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346E-CE75-4F0B-9A67-496C11A88A6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01EB-F239-4CB0-B6C3-8F1B70C3095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53D2-F072-4392-B72C-438424A6278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56A1-F50C-4126-BC40-180FCF8676B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0649-4108-461C-9B8A-27E84BC5F4C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AAE3-6128-4FA0-80F4-BFF03EE77F4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BD4C-9EA3-4F02-8F77-25AFB355C34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E02F-83CB-4C10-8B0E-A75A058FB5D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9B61-0238-446D-ACD3-296F9E95068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7CB8-96CD-45C3-8E4B-BA61A572CB9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FC8-9191-49BC-994B-4631D0C0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FB0-C290-4472-B70D-6D7F0E5A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66F3-B401-49DA-AE62-5B858C08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9768-062A-479C-880B-E0694719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7C2A-7B40-4C97-A2ED-A9CD4D82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5526-F38C-470A-9FDA-09D42B14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DE36-136A-4EC1-9FA0-ACC70050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72BE-E5E2-4121-A3A3-AD615437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8F52-44EE-4AD5-8363-523CDC8D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8B94-6E23-4149-BB42-D6D5AD61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A66D-C74C-4D35-A312-25E21907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4736-D8C8-4759-9AF5-972CA3C5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C8E9-A580-4DD9-98C1-2276FFA2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B906-48FC-45B2-8ECD-B2E96247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DB95-DB24-4DB1-81BD-C00650F9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8CFC-38EC-47EF-BA56-FB3ABF89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86EA-4601-4396-8643-B51C5736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B7780-6211-4C68-9824-4B2E6D1C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2BCEF-8D53-46F5-A3CC-314F295D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6DBAB-A979-4960-8A6A-129A872A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547DA-C052-4E65-9D5B-987BD2B4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BD37E-F3C1-4937-98A8-78323AF9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DAB-2F8E-4B77-BB44-FF80CCC9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C2CA7-B866-4ABD-A5E1-1B8C943A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4C61F-BD6B-4EDD-B7F5-DE1E0003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5833E-BE09-4421-823E-EB26EB4E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93AEF-4729-45F1-8BA9-3C870B85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24244-FC0B-4A7D-82AF-73DBAA1F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A4F1D-6096-48FB-B6FF-28B26BF5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81528-E0CE-49A7-A2B4-82258C3A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750B-B473-4D72-8212-4E7BC81D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190-9AEB-48BC-9C9E-CBC8F5DB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1A3A-A39F-46C0-976C-B1DEE509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811D-A290-42D6-A69E-390546E1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B319-C14A-4560-A013-36C45965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015-AF00-4EFC-94E1-A1CFCAA5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0B19-8DF9-416A-BAF4-BA0C9C3E02F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BF06-FD79-419E-94CB-54B4D0A4170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6901-1978-45F4-9FB9-45D685FE6A1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3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3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7245360"/>
          </a:xfrm>
          <a:prstGeom prst="rect">
            <a:avLst/>
          </a:prstGeom>
          <a:ln w="0">
            <a:noFill/>
          </a:ln>
        </p:spPr>
      </p:pic>
      <p:pic>
        <p:nvPicPr>
          <p:cNvPr id="131" name="Заголовок 1" descr=""/>
          <p:cNvPicPr/>
          <p:nvPr/>
        </p:nvPicPr>
        <p:blipFill>
          <a:blip r:embed="rId2"/>
          <a:stretch/>
        </p:blipFill>
        <p:spPr>
          <a:xfrm>
            <a:off x="993600" y="3230640"/>
            <a:ext cx="7186680" cy="2554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175280" y="5805360"/>
            <a:ext cx="496872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6"/>
          <p:cNvSpPr/>
          <p:nvPr/>
        </p:nvSpPr>
        <p:spPr>
          <a:xfrm>
            <a:off x="395280" y="798480"/>
            <a:ext cx="69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Герметическая орбитальная кабина для собак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Заголовок 1" descr=""/>
          <p:cNvPicPr/>
          <p:nvPr/>
        </p:nvPicPr>
        <p:blipFill>
          <a:blip r:embed="rId2"/>
          <a:stretch/>
        </p:blipFill>
        <p:spPr>
          <a:xfrm>
            <a:off x="171360" y="255600"/>
            <a:ext cx="8460000" cy="561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5340600" y="2590920"/>
            <a:ext cx="250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c9c2d1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c9c2d1"/>
                </a:solidFill>
                <a:latin typeface="Times New Roman"/>
              </a:rPr>
              <a:t>Лайка перед полетом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7" name="Заголовок 1" descr=""/>
          <p:cNvPicPr/>
          <p:nvPr/>
        </p:nvPicPr>
        <p:blipFill>
          <a:blip r:embed="rId2"/>
          <a:stretch/>
        </p:blipFill>
        <p:spPr>
          <a:xfrm>
            <a:off x="311040" y="-6480"/>
            <a:ext cx="839952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Заголовок 1" descr=""/>
          <p:cNvPicPr/>
          <p:nvPr/>
        </p:nvPicPr>
        <p:blipFill>
          <a:blip r:embed="rId2"/>
          <a:stretch/>
        </p:blipFill>
        <p:spPr>
          <a:xfrm>
            <a:off x="262080" y="268200"/>
            <a:ext cx="8839080" cy="2157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1844640"/>
            <a:ext cx="83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звращение Лайки на Землю не планировалос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бака  к сожалению погибла во время полёта — через 5—7 часов после старта она умерла от  перегрева, хотя предполагалось, что она проживёт около неде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68360" y="188640"/>
            <a:ext cx="3743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Times New Roman"/>
              </a:rPr>
              <a:t>Отдавая дань собаке Лайка, 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которая была запущена на верную гибель ради развития космонавтики, ее кличку записали в памятную таблицу с именами погибших космонавтов, которая установлена в Звездном городке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6"/>
          <p:cNvSpPr/>
          <p:nvPr/>
        </p:nvSpPr>
        <p:spPr>
          <a:xfrm>
            <a:off x="395280" y="-7920"/>
            <a:ext cx="820908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гда к полёту человека уже все было готово, оставалось выполнить одно условие: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 космос должны успешно слетать два корабля с собакам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вый такой собачий  полёт в космическом корабле был неудачным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2" descr=""/>
          <p:cNvPicPr/>
          <p:nvPr/>
        </p:nvPicPr>
        <p:blipFill>
          <a:blip r:embed="rId2"/>
          <a:stretch/>
        </p:blipFill>
        <p:spPr>
          <a:xfrm>
            <a:off x="317520" y="-12600"/>
            <a:ext cx="8272440" cy="1585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192640" y="1557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781200" indent="-25416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лёт продолжался более 25 часов, за время которого корабль совершил 17 полных витков вокруг Зем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2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42508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мический корабль вместе со своими пассажирами — собаками Белкой и Стрелкой — благополучно возвратился на Землю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00720" y="189000"/>
            <a:ext cx="4464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Book Antiqua"/>
                <a:hlinkClick r:id="rId2" action="ppaction://hlinksldjump"/>
              </a:rPr>
              <a:t>Белка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 — беспородная самка белого окраса — была самая активная и общительная. В числе первых подходила к миске с едой, и первая научилась лаять, если что-то происходило не так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250920" y="333360"/>
            <a:ext cx="39607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Book Antiqua"/>
                <a:hlinkClick r:id="rId3" action="ppaction://hlinksldjump"/>
              </a:rPr>
              <a:t>Стрелка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 — беспородная самка светлого окраса с коричневыми пятнами — была робкой и немного замкнутой, но тем не менее дружелюбной. Возраст этих собак был два с половиной года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0" y="194760"/>
            <a:ext cx="5295960" cy="64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сле полёта они стали знамениты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х возили на показ в детские сады, школы и детские до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Через некоторое время у Стрелки появились щенки. Все шесть щенков были здоров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елка и Стрелка дожили до глубокой старости и умерли своей смертью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Выноска с четырьмя стрелками 5"/>
          <p:cNvGrpSpPr/>
          <p:nvPr/>
        </p:nvGrpSpPr>
        <p:grpSpPr>
          <a:xfrm>
            <a:off x="6566040" y="3157560"/>
            <a:ext cx="725400" cy="798480"/>
            <a:chOff x="6566040" y="3157560"/>
            <a:chExt cx="725400" cy="798480"/>
          </a:xfrm>
        </p:grpSpPr>
        <p:pic>
          <p:nvPicPr>
            <p:cNvPr id="176" name="Выноска с четырьмя стрелками 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566040" y="3157560"/>
              <a:ext cx="7254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91400" y="3379680"/>
              <a:ext cx="2761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Заголовок 1" descr=""/>
          <p:cNvPicPr/>
          <p:nvPr/>
        </p:nvPicPr>
        <p:blipFill>
          <a:blip r:embed="rId2"/>
          <a:stretch/>
        </p:blipFill>
        <p:spPr>
          <a:xfrm>
            <a:off x="536400" y="109440"/>
            <a:ext cx="8242560" cy="1596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79280" y="1413000"/>
            <a:ext cx="8640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овести исследован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ие животные были в космосе.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ЭТАПЫ РАБОТ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бор информ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ботка результатов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дведение итог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79" name=""/>
          <p:cNvSpPr txBox="1"/>
          <p:nvPr/>
        </p:nvSpPr>
        <p:spPr>
          <a:xfrm>
            <a:off x="394920" y="620280"/>
            <a:ext cx="8147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агодаря  благополучным запускам в космос отправился челове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2 апреля 1961 год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на орбиту был запущен космический корабль «Восток», на борту которого находился старший лейтенант авиации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Юрий Гагарин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5480" y="1699920"/>
            <a:ext cx="5438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сомненно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двиг Юрия Гагарина очень велик, но не стоит забывать о том, что первыми живыми существами в космосе, были животны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менно о них я вам расскаж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Заголовок 1" descr=""/>
          <p:cNvPicPr/>
          <p:nvPr/>
        </p:nvPicPr>
        <p:blipFill>
          <a:blip r:embed="rId2"/>
          <a:stretch/>
        </p:blipFill>
        <p:spPr>
          <a:xfrm>
            <a:off x="328680" y="-12600"/>
            <a:ext cx="857088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42920" y="142920"/>
            <a:ext cx="878688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ще с давних времен люди стали думать над вопросами: «Что такое космос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сли жизнь на других планетах кроме планеты Земля?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тогда ученые и конструкторы создали первый космический кораб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смический корабль – это сложная техническая система. И прежде чем посадить в него человека  надо проверить технику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79280" y="189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 полёта человека в космос, учеными было проведено множество испытаний и тест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о на ком они проводились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братьях наших меньши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менно благодаря животным, человек сейчас летает в космос, запускает спутники, проводят исследования на орбитальной станц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Заголовок 1" descr=""/>
          <p:cNvPicPr/>
          <p:nvPr/>
        </p:nvPicPr>
        <p:blipFill>
          <a:blip r:embed="rId2"/>
          <a:stretch/>
        </p:blipFill>
        <p:spPr>
          <a:xfrm>
            <a:off x="291960" y="-249120"/>
            <a:ext cx="880920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395280" y="188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чёные решили подобрать для полётов в космос небольших по размеру и весу собак, так как их легко дрессировать, люди хорошо знают их повад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выми космонавтами стали обычные дворняжки. Учёные решили, что они гораздо лучше приспосабливаются, чем породистые собаки. Был создан целый отряд собак – дворняжек, которых готовили к полёт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4"/>
          <p:cNvSpPr/>
          <p:nvPr/>
        </p:nvSpPr>
        <p:spPr>
          <a:xfrm>
            <a:off x="179280" y="148428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т них требовалось превосходное физическое состояние и высокая тренированность. Собак приучали к многократным перегрузкам, к состоянию невесомости, к экипировке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528480" y="333000"/>
            <a:ext cx="822960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сколько месяцев претенденты на полёт приучались к длительному пребыванию в кабин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баки привыкали к приёму специальной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ищи из автоматов кормления, ношению одежды и датчиков, и к туалету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9:40:39Z</dcterms:created>
  <dc:creator>Admin</dc:creator>
  <dc:description/>
  <dc:language>en-US</dc:language>
  <cp:lastModifiedBy>Varich</cp:lastModifiedBy>
  <cp:lastPrinted>2012-04-16T04:58:32Z</cp:lastPrinted>
  <dcterms:modified xsi:type="dcterms:W3CDTF">2023-07-03T13:38:13Z</dcterms:modified>
  <cp:revision>94</cp:revision>
  <dc:subject/>
  <dc:title>День космонавтики.</dc:title>
</cp:coreProperties>
</file>