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9947275" cy="6858000"/>
  <p:custShowLst>
    <p:custShow name="Произвольный показ 1" id="0">
      <p:sldLst>
        <p:sld r:id="rId6"/>
      </p:sldLst>
    </p:custShow>
    <p:custShow name="Произвольный показ 2" id="1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3044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FFC4-BEE5-4893-879E-6B13F26054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3474-A3BD-471C-8AF4-F92699DC0B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39D9-E2EA-43F0-9C97-46F98BF5EE0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2E6-059B-417E-AFF8-006A5CDEFC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F71D-1161-49A6-AC03-9AE8533862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472A-A322-48C1-92A1-CEF613CC65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0C6-D7B2-4005-8DC4-8631C0E63C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9218-9A09-464F-A00A-445D9E36E8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5D0F-85AF-4A73-B6A8-CD6D34AEF1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E791-B1D0-4608-9440-FDAC18950B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44C6-66D8-4F63-894C-F3382EC11B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7E50-F969-4E90-B4DE-D52CFF5A45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872-96CC-4737-9BD5-8DDD10D108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AED-2C33-4BA2-8F50-18987E6FF7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5C96-086F-4417-9E97-55B9A206BE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466E-9239-46B4-B04C-018DEE289C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197-0C9E-4AF6-8C00-8D23969834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B012-719E-403E-A6BA-D2598E18D3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B94-FDF3-42AE-94D6-94511FD2A3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19B-BD22-4AD1-853E-99599FF004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3044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80C-2942-4C6B-8595-E12EB816FA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7B4-4637-4FC0-952D-6228D3A5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7B2-639F-4611-8D78-1E41FF6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880-C74F-4E8C-B841-41E044C5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493-A2C4-4132-8E78-DA0FB476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012B-B53B-4BAE-9E42-8F88F7B3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5CA5-AEAD-4338-951E-9B064AC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61AD-B6F3-4310-913C-480CF5D4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66A-95EA-4245-ABFF-BF28CDDE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FA0-A32E-4FE7-8530-13F02F9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E3AF-D3F9-4BDB-A737-334A359D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3D42-92AA-4BC5-A84E-1E1633F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D48-3A58-4EEC-BD9B-93D35D4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9D6-BA17-46CD-AB5C-352F16C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C5D-5747-475F-8236-39622A31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79F-7F62-4A6F-9121-D328EB9E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30FF-DDD6-45D5-A0A8-65335615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231A-E9C8-498B-8900-B59281B4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8F88-F829-4F6D-B186-8011C25A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84D7-CA9A-4A49-9FB3-3FB0C4D2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2911-FA63-4688-8C45-3C9F4156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1998-3173-484A-9E34-308E5B3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F423-1216-4DE1-A6DA-0B47861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524-5F90-444E-9B2B-96757C12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4A9A-46D1-41F8-AF7B-84094D2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A295-7BFA-456A-992D-DC5B1E8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36EA-F1B2-4440-A102-71F07C7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B1D9-CDD5-423C-B2F4-8672D51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D27A-26C7-44C8-85DB-1B20753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DB68-AC4E-44FB-913E-E9836E7E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54589-F270-45F5-8CA6-199DB87C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501-6EDB-4EE0-89FC-E2229A7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9FF-A815-42B5-B85F-513315ED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500-45D7-48BB-B729-5DE9DB54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467-D54E-4AF7-A08C-415888F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61B-91FC-4DC7-8BFA-18BE628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57B-466B-41C6-8FDB-B27E01A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00B6-6764-4AA0-8808-B687D14517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95A-7343-4FB9-B102-F13853C055F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582B-760B-4250-857C-FC04BD65512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245360"/>
          </a:xfrm>
          <a:prstGeom prst="rect">
            <a:avLst/>
          </a:prstGeom>
          <a:ln w="0">
            <a:noFill/>
          </a:ln>
        </p:spPr>
      </p:pic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993600" y="3230640"/>
            <a:ext cx="7186680" cy="2554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175280" y="5805360"/>
            <a:ext cx="49687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6"/>
          <p:cNvSpPr/>
          <p:nvPr/>
        </p:nvSpPr>
        <p:spPr>
          <a:xfrm>
            <a:off x="395280" y="79848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ерметическая орбитальная кабина для собак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Заголовок 1" descr=""/>
          <p:cNvPicPr/>
          <p:nvPr/>
        </p:nvPicPr>
        <p:blipFill>
          <a:blip r:embed="rId2"/>
          <a:stretch/>
        </p:blipFill>
        <p:spPr>
          <a:xfrm>
            <a:off x="171360" y="255600"/>
            <a:ext cx="846000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5340600" y="259092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c9c2d1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c9c2d1"/>
                </a:solidFill>
                <a:latin typeface="Times New Roman"/>
              </a:rPr>
              <a:t>Лайка перед полетом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7" name="Заголовок 1" descr=""/>
          <p:cNvPicPr/>
          <p:nvPr/>
        </p:nvPicPr>
        <p:blipFill>
          <a:blip r:embed="rId2"/>
          <a:stretch/>
        </p:blipFill>
        <p:spPr>
          <a:xfrm>
            <a:off x="311040" y="-6480"/>
            <a:ext cx="83995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Заголовок 1" descr=""/>
          <p:cNvPicPr/>
          <p:nvPr/>
        </p:nvPicPr>
        <p:blipFill>
          <a:blip r:embed="rId2"/>
          <a:stretch/>
        </p:blipFill>
        <p:spPr>
          <a:xfrm>
            <a:off x="262080" y="268200"/>
            <a:ext cx="8839080" cy="2157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звращение Лайки на Землю не планировалос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а  к сожалению погибла во время полёта — через 5—7 часов после старта она умерла от  перегрева, хотя предполагалось, что она проживёт около не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68360" y="188640"/>
            <a:ext cx="37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</a:rPr>
              <a:t>Отдавая дань собаке Лайка,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которая была запущена на верную гибель ради развития космонавтики, ее кличку записали в памятную таблицу с именами погибших космонавтов, которая установлена в Звездном городке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6"/>
          <p:cNvSpPr/>
          <p:nvPr/>
        </p:nvSpPr>
        <p:spPr>
          <a:xfrm>
            <a:off x="395280" y="-7920"/>
            <a:ext cx="8209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гда к полёту человека уже все было готово, оставалось выполнить одно условие: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 космос должны успешно слетать два корабля с собак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ый такой собачий  полёт в космическом корабле был неудачны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2" descr=""/>
          <p:cNvPicPr/>
          <p:nvPr/>
        </p:nvPicPr>
        <p:blipFill>
          <a:blip r:embed="rId2"/>
          <a:stretch/>
        </p:blipFill>
        <p:spPr>
          <a:xfrm>
            <a:off x="317520" y="-12600"/>
            <a:ext cx="8272440" cy="1585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192640" y="1557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81200" indent="-25416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ёт продолжался более 25 часов, за время которого корабль совершил 17 полных витков вокруг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2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ический корабль вместе со своими пассажирами — собаками Белкой и Стрелкой — благополучно возвратился на Землю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46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Book Antiqua"/>
                <a:hlinkClick r:id="rId2" action="ppaction://hlinksldjump"/>
              </a:rPr>
              <a:t>Белк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 — беспородная самка белого окраса — была самая активная и общительная. В числе первых подходила к миске с едой, и первая научилась лаять, если что-то происходило не так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250920" y="333360"/>
            <a:ext cx="39607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Book Antiqua"/>
                <a:hlinkClick r:id="rId3" action="ppaction://hlinksldjump"/>
              </a:rPr>
              <a:t>Стрелка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 — беспородная самка светлого окраса с коричневыми пятнами — была робкой и немного замкнутой, но тем не менее дружелюбной. Возраст этих собак был два с половиной год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0" y="194760"/>
            <a:ext cx="529596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сле полёта они стали знамениты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х возили на показ в детские сады, школы и детские до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ерез некоторое время у Стрелки появились щенки. Все шесть щенков были здоро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лка и Стрелка дожили до глубокой старости и умерли своей смертью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Выноска с четырьмя стрелками 5"/>
          <p:cNvGrpSpPr/>
          <p:nvPr/>
        </p:nvGrpSpPr>
        <p:grpSpPr>
          <a:xfrm>
            <a:off x="6566040" y="3157560"/>
            <a:ext cx="725400" cy="798480"/>
            <a:chOff x="6566040" y="3157560"/>
            <a:chExt cx="725400" cy="798480"/>
          </a:xfrm>
        </p:grpSpPr>
        <p:pic>
          <p:nvPicPr>
            <p:cNvPr id="176" name="Выноска с четырьмя стрелками 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6566040" y="3157560"/>
              <a:ext cx="7254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91400" y="3379680"/>
              <a:ext cx="2761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536400" y="109440"/>
            <a:ext cx="8242560" cy="1596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79280" y="1413000"/>
            <a:ext cx="8640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овести исследован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ие животные были в космосе.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АПЫ РАБО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бор информ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ботка результатов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ведение итог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9" name=""/>
          <p:cNvSpPr txBox="1"/>
          <p:nvPr/>
        </p:nvSpPr>
        <p:spPr>
          <a:xfrm>
            <a:off x="394920" y="620280"/>
            <a:ext cx="8147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агодаря  благополучным запускам в космос отправился челове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2 апреля 1961 год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орбиту был запущен космический корабль «Восток», на борту которого находился старший лейтенант авиации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рий Гагари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5480" y="1699920"/>
            <a:ext cx="5438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сомненно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виг Юрия Гагарина очень велик, но не стоит забывать о том, что первыми живыми существами в космосе, были живот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о о них я вам расскаж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328680" y="-12600"/>
            <a:ext cx="857088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42920" y="142920"/>
            <a:ext cx="87868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ще с давних времен люди стали думать над вопросами: «Что такое космос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сли жизнь на других планетах кроме планеты Земля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тогда ученые и конструкторы создали первый космический кораб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смический корабль – это сложная техническая система. И прежде чем посадить в него человека  надо проверить технику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79280" y="189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 полёта человека в космос, учеными было проведено множество испытаний и тес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ком они проводились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братьях наших меньш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енно благодаря животным, человек сейчас летает в космос, запускает спутники, проводят исследования на орбитальной стан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Заголовок 1" descr=""/>
          <p:cNvPicPr/>
          <p:nvPr/>
        </p:nvPicPr>
        <p:blipFill>
          <a:blip r:embed="rId2"/>
          <a:stretch/>
        </p:blipFill>
        <p:spPr>
          <a:xfrm>
            <a:off x="291960" y="-249120"/>
            <a:ext cx="880920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95280" y="188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ёные решили подобрать для полётов в космос небольших по размеру и весу собак, так как их легко дрессировать, люди хорошо знают их повад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ми космонавтами стали обычные дворняжки. Учёные решили, что они гораздо лучше приспосабливаются, чем породистые собаки. Был создан целый отряд собак – дворняжек, которых готовили к полёт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179280" y="148428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 них требовалось превосходное физическое состояние и высокая тренированность. Собак приучали к многократным перегрузкам, к состоянию невесомости, к экипировке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C:\Users\Varich\Desktop\1613267034_60-p-sinii-fon-so-zvezdami-dlya-fotoshopa-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28480" y="33300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сколько месяцев претенденты на полёт приучались к длительному пребыванию в кабин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и привыкали к приёму специальной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ищи из автоматов кормления, ношению одежды и датчиков, и к туалет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9:40:39Z</dcterms:created>
  <dc:creator>Admin</dc:creator>
  <dc:description/>
  <dc:language>en-US</dc:language>
  <cp:lastModifiedBy>Varich</cp:lastModifiedBy>
  <cp:lastPrinted>2012-04-16T04:58:32Z</cp:lastPrinted>
  <dcterms:modified xsi:type="dcterms:W3CDTF">2023-07-03T13:38:13Z</dcterms:modified>
  <cp:revision>94</cp:revision>
  <dc:subject/>
  <dc:title>День космонавтики.</dc:title>
</cp:coreProperties>
</file>