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6784-4AE1-4CC5-904B-43FB1871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351-66B4-4CAB-AF48-D9157175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6042-FE0A-40C0-B1E8-7D91AB10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3FE0-741E-40E8-812E-EAF9D958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F67-3912-4542-AFF4-0386440A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1D9-EA1B-4E92-8264-BF9563E4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3F2F-BBD3-4FA1-9B3E-D523344D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E34E-B57D-4D71-98E3-766C4254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C2E4-65FF-4F5C-9A95-8CACBB3A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0139-B381-4A93-AB5E-A41A4E1D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98A-07FA-46B5-A53B-8DC178A0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FAE2-0973-4D72-B36B-0ED16056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30B8-4F7B-4AAD-B9BB-D6EC0303BA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АЗБУКА БЕЗОПАС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ный жур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 страница</a:t>
            </a:r>
            <a:br>
              <a:rPr sz="5400"/>
            </a:br>
            <a:r>
              <a:rPr b="1" lang="ru-RU" sz="4500" spc="-1" strike="noStrike">
                <a:solidFill>
                  <a:srgbClr val="ff0000"/>
                </a:solidFill>
                <a:latin typeface="Arial"/>
              </a:rPr>
              <a:t>«Природа и  безопасность»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105708276_00"/>
          <p:cNvPicPr/>
          <p:nvPr/>
        </p:nvPicPr>
        <p:blipFill>
          <a:blip r:embed="rId1"/>
          <a:stretch/>
        </p:blipFill>
        <p:spPr>
          <a:xfrm>
            <a:off x="611280" y="1916280"/>
            <a:ext cx="8064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s759879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85f1c60d2ad23057da1d5b27cc12734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273337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gro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 страница</a:t>
            </a:r>
            <a:br>
              <a:rPr sz="5400"/>
            </a:br>
            <a:r>
              <a:rPr b="1" lang="ru-RU" sz="4500" spc="-1" strike="noStrike">
                <a:solidFill>
                  <a:srgbClr val="ff0000"/>
                </a:solidFill>
                <a:latin typeface="Arial"/>
              </a:rPr>
              <a:t>«Литературная викторина»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86193255_large_11"/>
          <p:cNvPicPr/>
          <p:nvPr/>
        </p:nvPicPr>
        <p:blipFill>
          <a:blip r:embed="rId1"/>
          <a:stretch/>
        </p:blipFill>
        <p:spPr>
          <a:xfrm>
            <a:off x="468360" y="1844640"/>
            <a:ext cx="8064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 страница</a:t>
            </a:r>
            <a:br>
              <a:rPr sz="5400"/>
            </a:br>
            <a:r>
              <a:rPr b="1" lang="ru-RU" sz="4500" spc="-1" strike="noStrike">
                <a:solidFill>
                  <a:srgbClr val="ff0000"/>
                </a:solidFill>
                <a:latin typeface="Arial"/>
              </a:rPr>
              <a:t>«Дешифровщик»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 каждого слова возьм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т слог, который указан в коде, а затем все полученные слоги сложи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ворог, ящ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-1-1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рег, зола, пастух, крайность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(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творил + 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уины, заклад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93116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ТВОЯ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БЕЗОПАСНОСТЬ -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 В 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ТВОИХ 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РУКАХ!!!</a:t>
            </a:r>
            <a:br>
              <a:rPr sz="60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 страница</a:t>
            </a:r>
            <a:br>
              <a:rPr sz="5400"/>
            </a:br>
            <a:r>
              <a:rPr b="1" lang="ru-RU" sz="5000" spc="-1" strike="noStrike">
                <a:solidFill>
                  <a:srgbClr val="ff0000"/>
                </a:solidFill>
                <a:latin typeface="Arial"/>
              </a:rPr>
              <a:t>«Домашние опасности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0014-037-Opasnosti-doma"/>
          <p:cNvPicPr/>
          <p:nvPr/>
        </p:nvPicPr>
        <p:blipFill>
          <a:blip r:embed="rId1"/>
          <a:stretch/>
        </p:blipFill>
        <p:spPr>
          <a:xfrm>
            <a:off x="826920" y="1916280"/>
            <a:ext cx="763272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991ae0e2cb92d915d72cc3e6832dc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68ad7eff65adac08706ae6c7d629d7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Рисунок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79280" y="115920"/>
            <a:ext cx="87138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2 страниц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Улица полна неожиданносте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IMG_1366_1"/>
          <p:cNvPicPr/>
          <p:nvPr/>
        </p:nvPicPr>
        <p:blipFill>
          <a:blip r:embed="rId1"/>
          <a:stretch/>
        </p:blipFill>
        <p:spPr>
          <a:xfrm>
            <a:off x="539640" y="1628640"/>
            <a:ext cx="8064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sm_full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0ed026925f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sumka_1-623x4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5"/>
          <p:cNvSpPr txBox="1"/>
          <p:nvPr/>
        </p:nvSpPr>
        <p:spPr>
          <a:xfrm>
            <a:off x="-684360" y="4292640"/>
            <a:ext cx="7993080" cy="25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 ВСЯК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ХОДКА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ЛАД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1:40:44Z</dcterms:created>
  <dc:creator>ПК</dc:creator>
  <dc:description/>
  <dc:language>en-US</dc:language>
  <cp:lastModifiedBy>Нинулька</cp:lastModifiedBy>
  <dcterms:modified xsi:type="dcterms:W3CDTF">2023-06-18T06:54:22Z</dcterms:modified>
  <cp:revision>5</cp:revision>
  <dc:subject/>
  <dc:title>АЗБУКА БЕЗОПАСНОСТИ</dc:title>
</cp:coreProperties>
</file>