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DFAD-FF97-4DD2-A5CE-0D474E8EC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6EF5-BC8A-4498-A5D8-7C040482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9765-B70A-4AF7-853B-C2243B3DA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EBED-D2F1-4658-97DC-979149C5A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44CC-D235-4B2F-8D48-DC61E1F4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FB59-0E02-41FD-9433-9661A66B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AC83-D607-4A0C-8C56-3A19E7B9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4ACB-A337-43FE-A32A-63A4EA64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AA42-7024-413D-9811-4E3E30C7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0A03-ED5A-4C4F-B2F8-6F8FFEE5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4F3A-2682-451B-84FD-DD2B15E7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0528-4459-4481-9EAF-2B55133F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2648-A9E8-41C4-825C-A1A463598D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АЗБУКА БЕЗОПАС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ный жур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 страница</a:t>
            </a:r>
            <a:br>
              <a:rPr sz="5400"/>
            </a:br>
            <a:r>
              <a:rPr b="1" lang="ru-RU" sz="4500" spc="-1" strike="noStrike">
                <a:solidFill>
                  <a:srgbClr val="ff0000"/>
                </a:solidFill>
                <a:latin typeface="Arial"/>
              </a:rPr>
              <a:t>«Природа и  безопасность»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105708276_00"/>
          <p:cNvPicPr/>
          <p:nvPr/>
        </p:nvPicPr>
        <p:blipFill>
          <a:blip r:embed="rId1"/>
          <a:stretch/>
        </p:blipFill>
        <p:spPr>
          <a:xfrm>
            <a:off x="611280" y="1916280"/>
            <a:ext cx="8064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s759879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85f1c60d2ad23057da1d5b27cc12734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1273337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gro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 страница</a:t>
            </a:r>
            <a:br>
              <a:rPr sz="5400"/>
            </a:br>
            <a:r>
              <a:rPr b="1" lang="ru-RU" sz="4500" spc="-1" strike="noStrike">
                <a:solidFill>
                  <a:srgbClr val="ff0000"/>
                </a:solidFill>
                <a:latin typeface="Arial"/>
              </a:rPr>
              <a:t>«Литературная викторина»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86193255_large_11"/>
          <p:cNvPicPr/>
          <p:nvPr/>
        </p:nvPicPr>
        <p:blipFill>
          <a:blip r:embed="rId1"/>
          <a:stretch/>
        </p:blipFill>
        <p:spPr>
          <a:xfrm>
            <a:off x="468360" y="1844640"/>
            <a:ext cx="8064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5 страница</a:t>
            </a:r>
            <a:br>
              <a:rPr sz="5400"/>
            </a:br>
            <a:r>
              <a:rPr b="1" lang="ru-RU" sz="4500" spc="-1" strike="noStrike">
                <a:solidFill>
                  <a:srgbClr val="ff0000"/>
                </a:solidFill>
                <a:latin typeface="Arial"/>
              </a:rPr>
              <a:t>«Дешифровщик»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 каждого слова возьми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от слог, который указан в коде, а затем все полученные слоги сложит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ворог, ящ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-1-1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рег, зола, пастух, крайность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(в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творил + и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уины, закладк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93116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ТВОЯ</a:t>
            </a:r>
            <a:br>
              <a:rPr sz="6600"/>
            </a:b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БЕЗОПАСНОСТЬ -</a:t>
            </a:r>
            <a:br>
              <a:rPr sz="6600"/>
            </a:b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 В </a:t>
            </a:r>
            <a:br>
              <a:rPr sz="6600"/>
            </a:b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ТВОИХ </a:t>
            </a:r>
            <a:br>
              <a:rPr sz="6600"/>
            </a:b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РУКАХ!!!</a:t>
            </a:r>
            <a:br>
              <a:rPr sz="60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 страница</a:t>
            </a:r>
            <a:br>
              <a:rPr sz="5400"/>
            </a:br>
            <a:r>
              <a:rPr b="1" lang="ru-RU" sz="5000" spc="-1" strike="noStrike">
                <a:solidFill>
                  <a:srgbClr val="ff0000"/>
                </a:solidFill>
                <a:latin typeface="Arial"/>
              </a:rPr>
              <a:t>«Домашние опасности»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0014-037-Opasnosti-doma"/>
          <p:cNvPicPr/>
          <p:nvPr/>
        </p:nvPicPr>
        <p:blipFill>
          <a:blip r:embed="rId1"/>
          <a:stretch/>
        </p:blipFill>
        <p:spPr>
          <a:xfrm>
            <a:off x="826920" y="1916280"/>
            <a:ext cx="763272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c991ae0e2cb92d915d72cc3e6832dc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68ad7eff65adac08706ae6c7d629d7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Рисунок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79280" y="115920"/>
            <a:ext cx="871380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2 страниц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«Улица полна неожиданносте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IMG_1366_1"/>
          <p:cNvPicPr/>
          <p:nvPr/>
        </p:nvPicPr>
        <p:blipFill>
          <a:blip r:embed="rId1"/>
          <a:stretch/>
        </p:blipFill>
        <p:spPr>
          <a:xfrm>
            <a:off x="539640" y="1628640"/>
            <a:ext cx="80647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sm_full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a0ed026925f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sumka_1-623x4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WordArt 5"/>
          <p:cNvSpPr txBox="1"/>
          <p:nvPr/>
        </p:nvSpPr>
        <p:spPr>
          <a:xfrm>
            <a:off x="-684360" y="4292640"/>
            <a:ext cx="7993080" cy="25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 ВСЯК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ХОДКА -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ЛАД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6T11:40:44Z</dcterms:created>
  <dc:creator>ПК</dc:creator>
  <dc:description/>
  <dc:language>en-US</dc:language>
  <cp:lastModifiedBy>Нинулька</cp:lastModifiedBy>
  <dcterms:modified xsi:type="dcterms:W3CDTF">2023-06-18T06:54:22Z</dcterms:modified>
  <cp:revision>5</cp:revision>
  <dc:subject/>
  <dc:title>АЗБУКА БЕЗОПАСНОСТИ</dc:title>
</cp:coreProperties>
</file>