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D3AE-F179-4213-B217-D9BEB82F49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1B29-A7F5-472F-95DF-2E8095823A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EA02-5A90-4ACA-8AB6-3980AA6C2B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E1C6-94F9-4BDC-9CBD-60562FA1D3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A6B0-5533-4156-9885-EA78BC3747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B02E-8B6C-41AD-AEBE-8E3713FCA2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C00D-B794-4449-9F14-9C8FD0F61C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E64C-AFDA-4296-A3E7-5CED693F85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CB0F-C3AA-428C-A96A-BE1D6FEE18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3024-4DBA-4B50-A333-F9D1BC0C1B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846E-4407-4E0A-A758-C64EF87F0C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B769-57AE-4185-8686-DF3F00C931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1FEA-1F26-4BFB-98CA-AAF01F4420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0A80-3F02-46EF-93A6-5A934B11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D5EC-2D60-4FFF-A485-A4C9F42E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088B-8CE9-4C79-B167-1C9010D1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C6DC-22A2-4858-867B-C3533BB2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8931-E3B9-4B51-968E-29B71472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BF3-99A9-448A-B945-BCC6EB00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11A-2E67-41BB-8B5C-BD87E694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F974-9067-442F-B6C5-CFF94AD7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26DB-7F67-4EBF-8BEC-E263686A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180E-80F7-40F0-ADE3-FB11B4CE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5B4-2C5F-4A7C-81F1-143AB980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B91E-5E2B-421C-918B-BE6CA7FA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7C6B-2C0C-4F93-975C-CBB288A9AA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omic Sans MS"/>
              </a:rPr>
              <a:t>ВСЕ РАБОТЫ ХОРО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357360" y="3571560"/>
            <a:ext cx="54003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Внеклассное зан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womanway.com.ua/published/publicdata/WOMANWAY/attachments/SC/products_pictures/1_1cd_enl.jpg"/>
          <p:cNvPicPr/>
          <p:nvPr/>
        </p:nvPicPr>
        <p:blipFill>
          <a:blip r:embed="rId1"/>
          <a:stretch/>
        </p:blipFill>
        <p:spPr>
          <a:xfrm>
            <a:off x="828720" y="3925800"/>
            <a:ext cx="296208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хема 5" descr=""/>
          <p:cNvPicPr/>
          <p:nvPr/>
        </p:nvPicPr>
        <p:blipFill>
          <a:blip r:embed="rId1"/>
          <a:stretch/>
        </p:blipFill>
        <p:spPr>
          <a:xfrm>
            <a:off x="-1792440" y="-12600"/>
            <a:ext cx="126558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 РАБОТЫ В СЕТИ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ИНТЕР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3888000" cy="237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4643280" y="981000"/>
            <a:ext cx="4284720" cy="237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2428920" y="3571920"/>
            <a:ext cx="42354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ШТУКАТУ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43164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ий, занимающийся отделкой стен зданий, сооружений и прочих предметов интерь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штукатур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2159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shtukatur"/>
          <p:cNvPicPr/>
          <p:nvPr/>
        </p:nvPicPr>
        <p:blipFill>
          <a:blip r:embed="rId2"/>
          <a:stretch/>
        </p:blipFill>
        <p:spPr>
          <a:xfrm>
            <a:off x="4716360" y="4005360"/>
            <a:ext cx="4032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маляр"/>
          <p:cNvPicPr/>
          <p:nvPr/>
        </p:nvPicPr>
        <p:blipFill>
          <a:blip r:embed="rId1"/>
          <a:stretch/>
        </p:blipFill>
        <p:spPr>
          <a:xfrm>
            <a:off x="1571760" y="1428840"/>
            <a:ext cx="2286000" cy="250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техникум"/>
          <p:cNvPicPr/>
          <p:nvPr/>
        </p:nvPicPr>
        <p:blipFill>
          <a:blip r:embed="rId2"/>
          <a:stretch/>
        </p:blipFill>
        <p:spPr>
          <a:xfrm>
            <a:off x="5143680" y="2786040"/>
            <a:ext cx="3033360" cy="31431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4"/>
          <p:cNvSpPr/>
          <p:nvPr/>
        </p:nvSpPr>
        <p:spPr>
          <a:xfrm>
            <a:off x="571680" y="471492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икум отраслевых технологий ждет вас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6215040" y="500040"/>
            <a:ext cx="242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РАБОТЫ ХОРО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РАБОТЫ – ВАЖ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ДЛЯ ЭТ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ЛАНИЕ И СТАР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НУЖН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уд освобождает нас от трех зо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Lucida Handwriting"/>
              </a:rPr>
              <a:t>скуки,</a:t>
            </a:r>
            <a:r>
              <a:rPr b="1" lang="ru-RU" sz="36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Lucida Handwriting"/>
              </a:rPr>
              <a:t>              </a:t>
            </a:r>
            <a:r>
              <a:rPr b="1" lang="ru-RU" sz="3600" spc="-1" strike="noStrike">
                <a:solidFill>
                  <a:srgbClr val="00b050"/>
                </a:solidFill>
                <a:latin typeface="Lucida Handwriting"/>
              </a:rPr>
              <a:t>порока,</a:t>
            </a:r>
            <a:r>
              <a:rPr b="1" lang="ru-RU" sz="36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Handwriting"/>
              </a:rPr>
              <a:t>        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Lucida Handwriting"/>
              </a:rPr>
              <a:t>нуж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Lucida Handwriting"/>
              </a:rPr>
              <a:t>Воль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"/>
          <p:cNvPicPr/>
          <p:nvPr/>
        </p:nvPicPr>
        <p:blipFill>
          <a:blip r:embed="rId1"/>
          <a:stretch/>
        </p:blipFill>
        <p:spPr>
          <a:xfrm>
            <a:off x="1643040" y="2786040"/>
            <a:ext cx="32259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хема 4" descr=""/>
          <p:cNvPicPr/>
          <p:nvPr/>
        </p:nvPicPr>
        <p:blipFill>
          <a:blip r:embed="rId1"/>
          <a:stretch/>
        </p:blipFill>
        <p:spPr>
          <a:xfrm>
            <a:off x="-865080" y="66600"/>
            <a:ext cx="1101564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фессии, требующие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ысше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учитель"/>
          <p:cNvPicPr/>
          <p:nvPr/>
        </p:nvPicPr>
        <p:blipFill>
          <a:blip r:embed="rId1"/>
          <a:stretch/>
        </p:blipFill>
        <p:spPr>
          <a:xfrm>
            <a:off x="928800" y="1874880"/>
            <a:ext cx="3571920" cy="19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врач"/>
          <p:cNvPicPr/>
          <p:nvPr/>
        </p:nvPicPr>
        <p:blipFill>
          <a:blip r:embed="rId2"/>
          <a:stretch/>
        </p:blipFill>
        <p:spPr>
          <a:xfrm>
            <a:off x="5286240" y="1979640"/>
            <a:ext cx="3318120" cy="1806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0_a30a9_6f179c27_XXL"/>
          <p:cNvPicPr/>
          <p:nvPr/>
        </p:nvPicPr>
        <p:blipFill>
          <a:blip r:embed="rId3"/>
          <a:stretch/>
        </p:blipFill>
        <p:spPr>
          <a:xfrm>
            <a:off x="2813040" y="4429080"/>
            <a:ext cx="35053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фессии, требующие 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средне – специально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образ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шофер"/>
          <p:cNvPicPr/>
          <p:nvPr/>
        </p:nvPicPr>
        <p:blipFill>
          <a:blip r:embed="rId1"/>
          <a:stretch/>
        </p:blipFill>
        <p:spPr>
          <a:xfrm>
            <a:off x="4857840" y="1857240"/>
            <a:ext cx="3425760" cy="185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продавец"/>
          <p:cNvPicPr/>
          <p:nvPr/>
        </p:nvPicPr>
        <p:blipFill>
          <a:blip r:embed="rId2"/>
          <a:stretch/>
        </p:blipFill>
        <p:spPr>
          <a:xfrm>
            <a:off x="5153040" y="4214880"/>
            <a:ext cx="3522600" cy="1911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повар"/>
          <p:cNvPicPr/>
          <p:nvPr/>
        </p:nvPicPr>
        <p:blipFill>
          <a:blip r:embed="rId3"/>
          <a:stretch/>
        </p:blipFill>
        <p:spPr>
          <a:xfrm>
            <a:off x="1571760" y="1928880"/>
            <a:ext cx="256212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фессии,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н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требующие 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специальног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мойщик"/>
          <p:cNvPicPr/>
          <p:nvPr/>
        </p:nvPicPr>
        <p:blipFill>
          <a:blip r:embed="rId1"/>
          <a:stretch/>
        </p:blipFill>
        <p:spPr>
          <a:xfrm>
            <a:off x="468360" y="1600200"/>
            <a:ext cx="403236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дворник"/>
          <p:cNvPicPr/>
          <p:nvPr/>
        </p:nvPicPr>
        <p:blipFill>
          <a:blip r:embed="rId2"/>
          <a:stretch/>
        </p:blipFill>
        <p:spPr>
          <a:xfrm>
            <a:off x="4643280" y="1600200"/>
            <a:ext cx="403236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маляр"/>
          <p:cNvPicPr/>
          <p:nvPr/>
        </p:nvPicPr>
        <p:blipFill>
          <a:blip r:embed="rId3"/>
          <a:stretch/>
        </p:blipFill>
        <p:spPr>
          <a:xfrm>
            <a:off x="2000160" y="4143240"/>
            <a:ext cx="4032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0" descr="грузчики"/>
          <p:cNvPicPr/>
          <p:nvPr/>
        </p:nvPicPr>
        <p:blipFill>
          <a:blip r:embed="rId1"/>
          <a:stretch/>
        </p:blipFill>
        <p:spPr>
          <a:xfrm>
            <a:off x="1071720" y="911160"/>
            <a:ext cx="3355920" cy="215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sanitar"/>
          <p:cNvPicPr/>
          <p:nvPr/>
        </p:nvPicPr>
        <p:blipFill>
          <a:blip r:embed="rId2"/>
          <a:stretch/>
        </p:blipFill>
        <p:spPr>
          <a:xfrm>
            <a:off x="5143680" y="3857760"/>
            <a:ext cx="3460680" cy="222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уборщик"/>
          <p:cNvPicPr/>
          <p:nvPr/>
        </p:nvPicPr>
        <p:blipFill>
          <a:blip r:embed="rId3"/>
          <a:stretch/>
        </p:blipFill>
        <p:spPr>
          <a:xfrm>
            <a:off x="1152360" y="3929040"/>
            <a:ext cx="3275280" cy="2163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прачка"/>
          <p:cNvPicPr/>
          <p:nvPr/>
        </p:nvPicPr>
        <p:blipFill>
          <a:blip r:embed="rId4"/>
          <a:stretch/>
        </p:blipFill>
        <p:spPr>
          <a:xfrm>
            <a:off x="5286240" y="882720"/>
            <a:ext cx="3462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КУРЬЕ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2420640"/>
            <a:ext cx="4968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трудник, который занимается доставкой по всему городу писем, деловых документов, посылок и различных тов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курьер"/>
          <p:cNvPicPr/>
          <p:nvPr/>
        </p:nvPicPr>
        <p:blipFill>
          <a:blip r:embed="rId1"/>
          <a:stretch/>
        </p:blipFill>
        <p:spPr>
          <a:xfrm>
            <a:off x="5857920" y="1857240"/>
            <a:ext cx="260172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ПРОМОУТЕ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00720" y="2276280"/>
            <a:ext cx="4186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трудник, занимающийся целенаправленной рекламой тов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386_0"/>
          <p:cNvPicPr/>
          <p:nvPr/>
        </p:nvPicPr>
        <p:blipFill>
          <a:blip r:embed="rId1"/>
          <a:stretch/>
        </p:blipFill>
        <p:spPr>
          <a:xfrm>
            <a:off x="468360" y="1557360"/>
            <a:ext cx="3959280" cy="223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hqdefault"/>
          <p:cNvPicPr/>
          <p:nvPr/>
        </p:nvPicPr>
        <p:blipFill>
          <a:blip r:embed="rId2"/>
          <a:stretch/>
        </p:blipFill>
        <p:spPr>
          <a:xfrm>
            <a:off x="468360" y="3938760"/>
            <a:ext cx="39592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6T15:45:39Z</dcterms:created>
  <dc:creator>ПК</dc:creator>
  <dc:description/>
  <dc:language>en-US</dc:language>
  <cp:lastModifiedBy>Нинулька</cp:lastModifiedBy>
  <dcterms:modified xsi:type="dcterms:W3CDTF">2023-07-04T16:31:58Z</dcterms:modified>
  <cp:revision>14</cp:revision>
  <dc:subject/>
  <dc:title>ВСЕ РАБОТЫ ХОРОШИ</dc:title>
</cp:coreProperties>
</file>