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5692-2B2F-441D-A49F-E01C1B6A7C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A91D-590F-4C4C-B4A9-A191F120E2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91CE-55D2-4554-A72F-C0D00898FB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8874-909C-46D8-9A79-186C6B91C8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9383-849E-4E95-8E07-6926261042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4913-4137-4775-87E2-C780A3446F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38AA-298D-43F7-83CA-C78314F1AD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B6F7-62AC-4563-9AA6-B6FCE84F0D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C7CB-726C-469A-BA11-863F86AAFD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73EC-B9B1-4050-B55B-C430E816E2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AF95-6FD9-4FD9-B19E-C3A95FFA9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E110-D7F7-4397-AF9B-4241B48A58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008B-E5C6-4531-A211-748B122B19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4C9A-49ED-4395-8E3D-304EF7BF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BBC-366C-4CE6-AAAD-ABAE68A9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3A8-5A4E-4A7E-BEE5-DD1E2AFA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834-88AE-421D-A47C-1250F935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CB7-6317-4F6D-BDD7-CF4E5B3D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027-4C2E-4FEC-BEA1-DD0EB80C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8F50-D986-45F5-8999-996650F6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82B3-E65A-43EE-B194-F52AF3EE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1DAA-489A-43E4-8021-126F6AEC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78EE-258B-46D5-A95A-20B61AD8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0A0-90D9-4212-9C9A-AFC9CAFA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774-982B-482F-B42A-4EBE8329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1310-2730-413B-9B69-1A918AD3B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omic Sans MS"/>
              </a:rPr>
              <a:t>ВСЕ РАБОТЫ ХОРО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357360" y="3571560"/>
            <a:ext cx="54003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Внеклассное зан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womanway.com.ua/published/publicdata/WOMANWAY/attachments/SC/products_pictures/1_1cd_enl.jpg"/>
          <p:cNvPicPr/>
          <p:nvPr/>
        </p:nvPicPr>
        <p:blipFill>
          <a:blip r:embed="rId1"/>
          <a:stretch/>
        </p:blipFill>
        <p:spPr>
          <a:xfrm>
            <a:off x="828720" y="3925800"/>
            <a:ext cx="296208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хема 5" descr=""/>
          <p:cNvPicPr/>
          <p:nvPr/>
        </p:nvPicPr>
        <p:blipFill>
          <a:blip r:embed="rId1"/>
          <a:stretch/>
        </p:blipFill>
        <p:spPr>
          <a:xfrm>
            <a:off x="-1792440" y="-12600"/>
            <a:ext cx="126558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 РАБОТЫ В СЕТИ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ИНТЕР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3888000" cy="237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4643280" y="981000"/>
            <a:ext cx="4284720" cy="237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2428920" y="3571920"/>
            <a:ext cx="42354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ШТУКАТУ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43164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ий, занимающийся отделкой стен зданий, сооружений и прочих предметов интерь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штукатур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2159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shtukatur"/>
          <p:cNvPicPr/>
          <p:nvPr/>
        </p:nvPicPr>
        <p:blipFill>
          <a:blip r:embed="rId2"/>
          <a:stretch/>
        </p:blipFill>
        <p:spPr>
          <a:xfrm>
            <a:off x="4716360" y="4005360"/>
            <a:ext cx="4032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маляр"/>
          <p:cNvPicPr/>
          <p:nvPr/>
        </p:nvPicPr>
        <p:blipFill>
          <a:blip r:embed="rId1"/>
          <a:stretch/>
        </p:blipFill>
        <p:spPr>
          <a:xfrm>
            <a:off x="1571760" y="1428840"/>
            <a:ext cx="2286000" cy="25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техникум"/>
          <p:cNvPicPr/>
          <p:nvPr/>
        </p:nvPicPr>
        <p:blipFill>
          <a:blip r:embed="rId2"/>
          <a:stretch/>
        </p:blipFill>
        <p:spPr>
          <a:xfrm>
            <a:off x="5143680" y="2786040"/>
            <a:ext cx="3033360" cy="31431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4"/>
          <p:cNvSpPr/>
          <p:nvPr/>
        </p:nvSpPr>
        <p:spPr>
          <a:xfrm>
            <a:off x="571680" y="471492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икум отраслевых технологий ждет вас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6215040" y="500040"/>
            <a:ext cx="242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РАБОТЫ ХОРО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РАБОТЫ – ВАЖ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ДЛЯ ЭТ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ЛАНИЕ И СТАР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НУЖН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уд освобождает нас от трех зо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Lucida Handwriting"/>
              </a:rPr>
              <a:t>скуки,</a:t>
            </a:r>
            <a:r>
              <a:rPr b="1" lang="ru-RU" sz="36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Lucida Handwriting"/>
              </a:rPr>
              <a:t>              </a:t>
            </a:r>
            <a:r>
              <a:rPr b="1" lang="ru-RU" sz="3600" spc="-1" strike="noStrike">
                <a:solidFill>
                  <a:srgbClr val="00b050"/>
                </a:solidFill>
                <a:latin typeface="Lucida Handwriting"/>
              </a:rPr>
              <a:t>порока,</a:t>
            </a:r>
            <a:r>
              <a:rPr b="1" lang="ru-RU" sz="36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Lucida Handwriting"/>
              </a:rPr>
              <a:t>        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Lucida Handwriting"/>
              </a:rPr>
              <a:t>нуж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Lucida Handwriting"/>
              </a:rPr>
              <a:t>Воль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"/>
          <p:cNvPicPr/>
          <p:nvPr/>
        </p:nvPicPr>
        <p:blipFill>
          <a:blip r:embed="rId1"/>
          <a:stretch/>
        </p:blipFill>
        <p:spPr>
          <a:xfrm>
            <a:off x="1643040" y="2786040"/>
            <a:ext cx="32259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хема 4" descr=""/>
          <p:cNvPicPr/>
          <p:nvPr/>
        </p:nvPicPr>
        <p:blipFill>
          <a:blip r:embed="rId1"/>
          <a:stretch/>
        </p:blipFill>
        <p:spPr>
          <a:xfrm>
            <a:off x="-865080" y="66600"/>
            <a:ext cx="1101564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фессии, требующие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ысше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учитель"/>
          <p:cNvPicPr/>
          <p:nvPr/>
        </p:nvPicPr>
        <p:blipFill>
          <a:blip r:embed="rId1"/>
          <a:stretch/>
        </p:blipFill>
        <p:spPr>
          <a:xfrm>
            <a:off x="928800" y="1874880"/>
            <a:ext cx="3571920" cy="19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врач"/>
          <p:cNvPicPr/>
          <p:nvPr/>
        </p:nvPicPr>
        <p:blipFill>
          <a:blip r:embed="rId2"/>
          <a:stretch/>
        </p:blipFill>
        <p:spPr>
          <a:xfrm>
            <a:off x="5286240" y="1979640"/>
            <a:ext cx="3318120" cy="1806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0_a30a9_6f179c27_XXL"/>
          <p:cNvPicPr/>
          <p:nvPr/>
        </p:nvPicPr>
        <p:blipFill>
          <a:blip r:embed="rId3"/>
          <a:stretch/>
        </p:blipFill>
        <p:spPr>
          <a:xfrm>
            <a:off x="2813040" y="4429080"/>
            <a:ext cx="35053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фессии, требующие 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средне – специально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образ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шофер"/>
          <p:cNvPicPr/>
          <p:nvPr/>
        </p:nvPicPr>
        <p:blipFill>
          <a:blip r:embed="rId1"/>
          <a:stretch/>
        </p:blipFill>
        <p:spPr>
          <a:xfrm>
            <a:off x="4857840" y="1857240"/>
            <a:ext cx="3425760" cy="185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продавец"/>
          <p:cNvPicPr/>
          <p:nvPr/>
        </p:nvPicPr>
        <p:blipFill>
          <a:blip r:embed="rId2"/>
          <a:stretch/>
        </p:blipFill>
        <p:spPr>
          <a:xfrm>
            <a:off x="5153040" y="4214880"/>
            <a:ext cx="3522600" cy="1911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повар"/>
          <p:cNvPicPr/>
          <p:nvPr/>
        </p:nvPicPr>
        <p:blipFill>
          <a:blip r:embed="rId3"/>
          <a:stretch/>
        </p:blipFill>
        <p:spPr>
          <a:xfrm>
            <a:off x="1571760" y="1928880"/>
            <a:ext cx="256212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фессии,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н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требующие 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специальног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мойщик"/>
          <p:cNvPicPr/>
          <p:nvPr/>
        </p:nvPicPr>
        <p:blipFill>
          <a:blip r:embed="rId1"/>
          <a:stretch/>
        </p:blipFill>
        <p:spPr>
          <a:xfrm>
            <a:off x="468360" y="1600200"/>
            <a:ext cx="403236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дворник"/>
          <p:cNvPicPr/>
          <p:nvPr/>
        </p:nvPicPr>
        <p:blipFill>
          <a:blip r:embed="rId2"/>
          <a:stretch/>
        </p:blipFill>
        <p:spPr>
          <a:xfrm>
            <a:off x="4643280" y="1600200"/>
            <a:ext cx="403236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маляр"/>
          <p:cNvPicPr/>
          <p:nvPr/>
        </p:nvPicPr>
        <p:blipFill>
          <a:blip r:embed="rId3"/>
          <a:stretch/>
        </p:blipFill>
        <p:spPr>
          <a:xfrm>
            <a:off x="2000160" y="4143240"/>
            <a:ext cx="4032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" descr="грузчики"/>
          <p:cNvPicPr/>
          <p:nvPr/>
        </p:nvPicPr>
        <p:blipFill>
          <a:blip r:embed="rId1"/>
          <a:stretch/>
        </p:blipFill>
        <p:spPr>
          <a:xfrm>
            <a:off x="1071720" y="911160"/>
            <a:ext cx="3355920" cy="215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sanitar"/>
          <p:cNvPicPr/>
          <p:nvPr/>
        </p:nvPicPr>
        <p:blipFill>
          <a:blip r:embed="rId2"/>
          <a:stretch/>
        </p:blipFill>
        <p:spPr>
          <a:xfrm>
            <a:off x="5143680" y="3857760"/>
            <a:ext cx="3460680" cy="222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уборщик"/>
          <p:cNvPicPr/>
          <p:nvPr/>
        </p:nvPicPr>
        <p:blipFill>
          <a:blip r:embed="rId3"/>
          <a:stretch/>
        </p:blipFill>
        <p:spPr>
          <a:xfrm>
            <a:off x="1152360" y="3929040"/>
            <a:ext cx="3275280" cy="2163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прачка"/>
          <p:cNvPicPr/>
          <p:nvPr/>
        </p:nvPicPr>
        <p:blipFill>
          <a:blip r:embed="rId4"/>
          <a:stretch/>
        </p:blipFill>
        <p:spPr>
          <a:xfrm>
            <a:off x="5286240" y="882720"/>
            <a:ext cx="3462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КУРЬЕ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2420640"/>
            <a:ext cx="4968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трудник, который занимается доставкой по всему городу писем, деловых документов, посылок и различных тов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курьер"/>
          <p:cNvPicPr/>
          <p:nvPr/>
        </p:nvPicPr>
        <p:blipFill>
          <a:blip r:embed="rId1"/>
          <a:stretch/>
        </p:blipFill>
        <p:spPr>
          <a:xfrm>
            <a:off x="5857920" y="1857240"/>
            <a:ext cx="260172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ПРОМОУТЕ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00720" y="2276280"/>
            <a:ext cx="4186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трудник, занимающийся целенаправленной рекламой тов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386_0"/>
          <p:cNvPicPr/>
          <p:nvPr/>
        </p:nvPicPr>
        <p:blipFill>
          <a:blip r:embed="rId1"/>
          <a:stretch/>
        </p:blipFill>
        <p:spPr>
          <a:xfrm>
            <a:off x="468360" y="1557360"/>
            <a:ext cx="3959280" cy="223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hqdefault"/>
          <p:cNvPicPr/>
          <p:nvPr/>
        </p:nvPicPr>
        <p:blipFill>
          <a:blip r:embed="rId2"/>
          <a:stretch/>
        </p:blipFill>
        <p:spPr>
          <a:xfrm>
            <a:off x="468360" y="3938760"/>
            <a:ext cx="39592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6T15:45:39Z</dcterms:created>
  <dc:creator>ПК</dc:creator>
  <dc:description/>
  <dc:language>en-US</dc:language>
  <cp:lastModifiedBy>Нинулька</cp:lastModifiedBy>
  <dcterms:modified xsi:type="dcterms:W3CDTF">2023-07-04T16:31:58Z</dcterms:modified>
  <cp:revision>14</cp:revision>
  <dc:subject/>
  <dc:title>ВСЕ РАБОТЫ ХОРОШИ</dc:title>
</cp:coreProperties>
</file>