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B6A-C1D3-49DE-AAA2-F93DD3F2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3E3-E469-4991-8500-1E8F6139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4F71-747C-4D07-9456-E8A142B6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EA65-F3F7-4998-916F-E14491DC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BAE2-8E94-4738-A3DD-2A43FF45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5D44-B1E7-47D8-9857-188BFB3F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7710-51E6-4E8C-BC22-1349867E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2095-27BA-4CC9-987E-8AF55B5E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D5A3-AD78-490D-93A6-3894329F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E14E-C198-46F7-B9B2-A671D3BA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8708-B79C-4528-966C-CB315F40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0C0-FEB2-476A-9EF2-970205F5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830B-0B20-4CA0-9436-CCA1BD41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D6AE-CD88-4E94-AAFC-A754CDF8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160D-98F4-48DB-B23C-0467756B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A70C-B33D-42D7-B3A9-0B52AC4C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D5C1-BC89-4033-9937-CD3F13CA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711-D2EC-4F52-869C-DAB257EC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EE1-ACD6-46EC-BD8F-55E835BE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44D-7431-4790-B6A2-6BB98358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09E5-A8DF-470B-8050-6BFAB185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485A-CAD3-4146-A0E0-C6FCE020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2AC-E2FA-4171-A741-6AE091E8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E2F-B7BD-4B80-9355-DF62035A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616E-8C47-491D-BB58-22B882C471D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8AF6-844A-4B74-B148-D9FF10CC90C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19.xml"/><Relationship Id="rId10" Type="http://schemas.openxmlformats.org/officeDocument/2006/relationships/slide" Target="slide21.xml"/><Relationship Id="rId11" Type="http://schemas.openxmlformats.org/officeDocument/2006/relationships/slide" Target="slide23.xml"/><Relationship Id="rId12" Type="http://schemas.openxmlformats.org/officeDocument/2006/relationships/slide" Target="slide25.xml"/><Relationship Id="rId13" Type="http://schemas.openxmlformats.org/officeDocument/2006/relationships/slide" Target="slide27.xml"/><Relationship Id="rId14" Type="http://schemas.openxmlformats.org/officeDocument/2006/relationships/slide" Target="slide29.xml"/><Relationship Id="rId15" Type="http://schemas.openxmlformats.org/officeDocument/2006/relationships/slide" Target="slide31.xml"/><Relationship Id="rId16" Type="http://schemas.openxmlformats.org/officeDocument/2006/relationships/slide" Target="slide33.xml"/><Relationship Id="rId17" Type="http://schemas.openxmlformats.org/officeDocument/2006/relationships/slide" Target="slide35.xml"/><Relationship Id="rId18" Type="http://schemas.openxmlformats.org/officeDocument/2006/relationships/slide" Target="slide37.xml"/><Relationship Id="rId19" Type="http://schemas.openxmlformats.org/officeDocument/2006/relationships/slide" Target="slide39.xml"/><Relationship Id="rId20" Type="http://schemas.openxmlformats.org/officeDocument/2006/relationships/slide" Target="slide41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Мастер-класс по внеурочной деятельности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«МОЯ МОСКВА»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Объект 7" descr=""/>
          <p:cNvPicPr/>
          <p:nvPr/>
        </p:nvPicPr>
        <p:blipFill>
          <a:blip r:embed="rId1"/>
          <a:stretch/>
        </p:blipFill>
        <p:spPr>
          <a:xfrm>
            <a:off x="162000" y="106848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Объект 9" descr=""/>
          <p:cNvPicPr/>
          <p:nvPr/>
        </p:nvPicPr>
        <p:blipFill>
          <a:blip r:embed="rId2"/>
          <a:stretch/>
        </p:blipFill>
        <p:spPr>
          <a:xfrm>
            <a:off x="4700520" y="11764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1" descr=""/>
          <p:cNvPicPr/>
          <p:nvPr/>
        </p:nvPicPr>
        <p:blipFill>
          <a:blip r:embed="rId3"/>
          <a:stretch/>
        </p:blipFill>
        <p:spPr>
          <a:xfrm>
            <a:off x="5224320" y="4138560"/>
            <a:ext cx="3138480" cy="23544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3" descr=""/>
          <p:cNvPicPr/>
          <p:nvPr/>
        </p:nvPicPr>
        <p:blipFill>
          <a:blip r:embed="rId4"/>
          <a:stretch/>
        </p:blipFill>
        <p:spPr>
          <a:xfrm>
            <a:off x="755640" y="3911760"/>
            <a:ext cx="3745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Театральная площадь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Содержимое 6" descr="38_350.jpg"/>
          <p:cNvPicPr/>
          <p:nvPr/>
        </p:nvPicPr>
        <p:blipFill>
          <a:blip r:embed="rId1"/>
          <a:stretch/>
        </p:blipFill>
        <p:spPr>
          <a:xfrm>
            <a:off x="2266920" y="1916280"/>
            <a:ext cx="5473800" cy="39607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531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ак называются башни Московского Кремля? (укажите любые 5 названий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3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ahoma"/>
              </a:rPr>
              <a:t>Беклемишевкая, Константино-Еленинская, Набатная, Тайнинская, Водовзводная, Царская, Спасская, Сенатская, Никольская, Угловая Арсенальная, Средняя Арсенальная, Троицкая, Кутафья, Комендантская, Оружейная, Боровицкая, Благовещенская, Первая Безымянная, Вторая Безымянная, Петровска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 каком году в Москве открылся метрополитен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eaeaea"/>
                </a:solidFill>
                <a:latin typeface="Tahoma"/>
              </a:rPr>
              <a:t>В 1935 году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акие станции связывала первая линия метро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eaeaea"/>
                </a:solidFill>
                <a:latin typeface="Tahoma"/>
              </a:rPr>
              <a:t>Сокольники и Парк культуры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колько линий и станций в современном метрополитене, какова протяженность линий метро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195 станций и 12 линий, протяженность 325 км 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еречислите названия именных поездов московского метро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24000" y="620640"/>
          <a:ext cx="8820000" cy="4343400"/>
        </p:xfrm>
        <a:graphic>
          <a:graphicData uri="http://schemas.openxmlformats.org/drawingml/2006/table">
            <a:tbl>
              <a:tblPr/>
              <a:tblGrid>
                <a:gridCol w="2477880"/>
                <a:gridCol w="1363680"/>
                <a:gridCol w="1293840"/>
                <a:gridCol w="1236600"/>
                <a:gridCol w="1276560"/>
                <a:gridCol w="1171440"/>
              </a:tblGrid>
              <a:tr h="1098720"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Что я знаю о Москве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Московский метрополит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Фоторубрика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Кот в меш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Народный ополченец, Курская дуга, Красная стрела – 75 лет, Акварель, Читающая Москва, Ретропоезд «Сокольники», Поэзия в метро, Сочи-2014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Известно, что станции метро в ходе своей истории меняли названия. Какая станция была переименована в 2014 г., каково ее новое название, в честь кого она названа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Станция «Улица Подбельского» переименована в «Бульвар маршала Рокоссовского»; в честь маршала Советского Союза Константина Рокоссовского</a:t>
            </a:r>
            <a:br>
              <a:rPr sz="40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Что за здание изображено на фотографии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7" name="Содержимое 6" descr="48480137_1975.jpg"/>
          <p:cNvPicPr/>
          <p:nvPr/>
        </p:nvPicPr>
        <p:blipFill>
          <a:blip r:embed="rId1"/>
          <a:stretch/>
        </p:blipFill>
        <p:spPr>
          <a:xfrm>
            <a:off x="1763640" y="22050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j029912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Собор Василия Блаженного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Что изображено на фотографии? В каком веке был построен собор на фотографии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3" name="Содержимое 6" descr="Hram-Hrista-Spasitelya.jpg"/>
          <p:cNvPicPr/>
          <p:nvPr/>
        </p:nvPicPr>
        <p:blipFill>
          <a:blip r:embed="rId1"/>
          <a:stretch/>
        </p:blipFill>
        <p:spPr>
          <a:xfrm>
            <a:off x="1754280" y="1981080"/>
            <a:ext cx="6168960" cy="4114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j029912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Храм Христа Спасителя,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XX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ек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Укажите название башни Московского Кремля, которая изображена на фотографи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9" name="Содержимое 6" descr="627662.jpg"/>
          <p:cNvPicPr/>
          <p:nvPr/>
        </p:nvPicPr>
        <p:blipFill>
          <a:blip r:embed="rId1"/>
          <a:stretch/>
        </p:blipFill>
        <p:spPr>
          <a:xfrm>
            <a:off x="2095560" y="198108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j029912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eaeaea"/>
                </a:solidFill>
                <a:latin typeface="Tahoma"/>
              </a:rPr>
              <a:t>Кутафья башня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Какой собор изображен на фотографии, укажите его особое предназначение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Содержимое 7" descr="repphoto_142_8794.jpg"/>
          <p:cNvPicPr/>
          <p:nvPr/>
        </p:nvPicPr>
        <p:blipFill>
          <a:blip r:embed="rId1"/>
          <a:stretch/>
        </p:blipFill>
        <p:spPr>
          <a:xfrm>
            <a:off x="1757520" y="1981080"/>
            <a:ext cx="6162480" cy="4114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j029912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8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502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акой год считается датой основания Москвы? Сколько лет исполнится Москве в следующем году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aeaea"/>
                </a:solidFill>
                <a:latin typeface="Tahoma"/>
              </a:rPr>
              <a:t>Архангельский собор Московского Кремля, служил усыпальницей русских князей и цар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Что за человек изображен на картине, какой знаменитый подарок он сделал городу Москве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9" name="Содержимое 9" descr="0a061ebd864eb6dadf3c4886ca8d5a1b.jpg"/>
          <p:cNvPicPr/>
          <p:nvPr/>
        </p:nvPicPr>
        <p:blipFill>
          <a:blip r:embed="rId1"/>
          <a:stretch/>
        </p:blipFill>
        <p:spPr>
          <a:xfrm>
            <a:off x="3289320" y="1981080"/>
            <a:ext cx="3098880" cy="4114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j029912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Сергей Третьяков, подарил Москве картинную галерею, названную Третьяковской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Кремль периода правления какого князя изображен на картине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4" name="Содержимое 7" descr="53313520_1262610646_1.jpg"/>
          <p:cNvPicPr/>
          <p:nvPr/>
        </p:nvPicPr>
        <p:blipFill>
          <a:blip r:embed="rId1"/>
          <a:stretch/>
        </p:blipFill>
        <p:spPr>
          <a:xfrm>
            <a:off x="1614600" y="1981080"/>
            <a:ext cx="6448320" cy="4114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j029912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aeaea"/>
                </a:solidFill>
                <a:latin typeface="Tahoma"/>
              </a:rPr>
              <a:t>Дмитрия Донского (Белокаменный Кремль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Что полагалось делать всем, даже царю, когда они входили в Кремль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9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Снимать шапку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 какой линии метро находится станция Войковская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3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Замоскворецкая линия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еречислите 4 названия линий метро и укажите их цве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7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eaeaea"/>
                </a:solidFill>
                <a:latin typeface="Tahoma"/>
              </a:rPr>
              <a:t>1147 год, 868 лет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Содержимое 7" descr="metro.jpg"/>
          <p:cNvPicPr/>
          <p:nvPr/>
        </p:nvPicPr>
        <p:blipFill>
          <a:blip r:embed="rId1"/>
          <a:stretch/>
        </p:blipFill>
        <p:spPr>
          <a:xfrm>
            <a:off x="2843280" y="765000"/>
            <a:ext cx="4132080" cy="51152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акая башня Московского Кремля самая древняя, а какая самая высокая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1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820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Самая древняя – Тайницкая (1485 г.), самая высокая – Троицкая (80 м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3" name="Содержимое 8" descr="тайницкая.jpg"/>
          <p:cNvPicPr/>
          <p:nvPr/>
        </p:nvPicPr>
        <p:blipFill>
          <a:blip r:embed="rId1"/>
          <a:stretch/>
        </p:blipFill>
        <p:spPr>
          <a:xfrm>
            <a:off x="826920" y="1989000"/>
            <a:ext cx="2953080" cy="3961080"/>
          </a:xfrm>
          <a:prstGeom prst="rect">
            <a:avLst/>
          </a:prstGeom>
          <a:ln w="0">
            <a:noFill/>
          </a:ln>
        </p:spPr>
      </p:pic>
      <p:pic>
        <p:nvPicPr>
          <p:cNvPr id="204" name="Содержимое 9" descr="троицкая.jpg"/>
          <p:cNvPicPr/>
          <p:nvPr/>
        </p:nvPicPr>
        <p:blipFill>
          <a:blip r:embed="rId2"/>
          <a:stretch/>
        </p:blipFill>
        <p:spPr>
          <a:xfrm>
            <a:off x="4859280" y="1989000"/>
            <a:ext cx="2952720" cy="381636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акое событие описано в летописи под годом, который считается датой основания Москвы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0" name="Picture 4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Князь Юрий Долгорукий пригласил своего союзника князя Святослава в Москву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«</a:t>
            </a:r>
            <a:r>
              <a:rPr b="0" lang="ru-RU" sz="4000" spc="-1" strike="noStrike">
                <a:solidFill>
                  <a:srgbClr val="eaeaea"/>
                </a:solidFill>
                <a:latin typeface="Tahoma"/>
              </a:rPr>
              <a:t>Приди ко мне, брате, в Москов»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чему одна из самых известных башен Кремля называется Спасской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4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eaeaea"/>
                </a:solidFill>
                <a:latin typeface="Tahoma"/>
              </a:rPr>
              <a:t>Раньше над воротами башни с обеих сторон висела икона Спаса Нерукотворного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Эта площадь Москвы вобрала в себя многие виды искусства: музыка, опера, балет, литература, архитектура, скульпту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5:13:35Z</dcterms:created>
  <dc:creator>Эксайл</dc:creator>
  <dc:description/>
  <dc:language>en-US</dc:language>
  <cp:lastModifiedBy>Ольга Куприянова</cp:lastModifiedBy>
  <dcterms:modified xsi:type="dcterms:W3CDTF">2023-07-05T10:33:22Z</dcterms:modified>
  <cp:revision>113</cp:revision>
  <dc:subject/>
  <dc:title>Слайд 1</dc:title>
</cp:coreProperties>
</file>