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A39-A0EF-4DD4-A10E-3BF2804F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E41-09BF-4A4B-88C7-DC376939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FAC-206F-432E-9C58-1DF674AB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132-C205-4D11-B696-DEF572BD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0D8B-3E48-40F5-950C-5A4DBA6A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DF66-3AF2-45F2-9B2B-8D58B565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7A78-182B-43AE-A707-ADC7CF6D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37B-79DE-414C-8E2D-8A936DBA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CB66-802C-4487-A2CF-D2EBFCDD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0F6C-63C6-4BCA-AD2D-1361C055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663C-3B83-41EF-8269-98FA5EB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0BE-9DDD-4D46-9A23-A2D46F3F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87F0-0164-4E39-A71F-F9D4300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8412-FBC0-4DAA-8D77-B7E07A1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FDB8-C9C9-4E57-B285-B621825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6D60-46EE-499F-93A2-AE33FE44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4A71-F335-45A8-A2E3-7E8C9CC1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DD3-B1BC-46C6-B4BC-7F5A2822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B4C-7C50-4441-8D0C-5E2BD35A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F1C-C858-44FC-9B07-B9E00F9A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EDB-EDAD-4CE8-AC73-C3734CF6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CB7-9F6B-4088-B489-490A662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A7D-581A-4DFD-8348-56434A11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869F-3A71-409B-B821-F455E923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3B8F-F5D4-40F5-A2AF-55CA25B9AB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0967-A860-4864-A2D7-3D234558F4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4600"/>
                </a:solidFill>
                <a:latin typeface="Arial"/>
              </a:rPr>
              <a:t>ФБУЗ «Центр гигиены и эпидемиологии в Тюменской обла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tretch/>
        </p:blipFill>
        <p:spPr>
          <a:xfrm>
            <a:off x="3048120" y="3917880"/>
            <a:ext cx="63244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4T19:17:04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