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E67-04AB-453F-BEC1-4F459391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2EB-E610-44FD-BD9F-234A824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FC3-BA25-422B-9CBD-0D6BAAEA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598-1C33-4647-AAA3-88B38FF0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9ED-072D-4FDB-95A2-16CC7BF0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AC28-909A-42D7-8E98-F5E5F872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D542-ADDC-4E8D-AF7E-FFAF8139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A36-AA69-43BB-9A4C-EB39709B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64D-899C-40C2-8F35-5780DDA9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BB79-BF99-424D-911E-DB6835BF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9CE6-8C34-4565-9C3A-8D2D92E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A8F-40EE-4D02-AE3C-22EA567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038-1AEF-49A7-89B0-00A6791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F24E-4998-453D-87C1-B182954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58D9-F37B-4A11-9E34-064F68DA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ECFA-49A7-4A11-9A7C-70EEE821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89D9-ABC0-4D86-9C86-B9DA1A17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30E-42E9-4D98-8CC4-093A226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094-E0E1-414D-ADCA-305827DF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AC6-8FAB-4B3F-9269-737CC11B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C92-FD09-4DCE-8523-13B4B08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680-E003-4705-8CFD-07AB497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7E2-0C62-4DA5-B11E-478A77F5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5AD-9D4F-4236-9B8A-D3FBF74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0B16-097C-440D-9D14-D5B8407766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0D22-3582-4AAB-A0BB-4FB00ABBD4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ФБУЗ «Центр гигиены и эпидемиологии в Тюмен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ОРВИ и грипп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101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8" descr="5.jpg"/>
          <p:cNvPicPr/>
          <p:nvPr/>
        </p:nvPicPr>
        <p:blipFill>
          <a:blip r:embed="rId3"/>
          <a:stretch/>
        </p:blipFill>
        <p:spPr>
          <a:xfrm>
            <a:off x="5410080" y="3657600"/>
            <a:ext cx="2341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14440" y="1904760"/>
            <a:ext cx="4730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доровый образ жизн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ый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ЗОЖ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ЗОЖ1"/>
          <p:cNvPicPr/>
          <p:nvPr/>
        </p:nvPicPr>
        <p:blipFill>
          <a:blip r:embed="rId2"/>
          <a:stretch/>
        </p:blipFill>
        <p:spPr>
          <a:xfrm>
            <a:off x="990720" y="4495680"/>
            <a:ext cx="293364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ЗОЖ2"/>
          <p:cNvPicPr/>
          <p:nvPr/>
        </p:nvPicPr>
        <p:blipFill>
          <a:blip r:embed="rId3"/>
          <a:stretch/>
        </p:blipFill>
        <p:spPr>
          <a:xfrm>
            <a:off x="7238880" y="5105520"/>
            <a:ext cx="14670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86200" y="1905120"/>
            <a:ext cx="4959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ильно    используйте медицинскую мас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438280" cy="230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ипп3"/>
          <p:cNvPicPr/>
          <p:nvPr/>
        </p:nvPicPr>
        <p:blipFill>
          <a:blip r:embed="rId2"/>
          <a:stretch/>
        </p:blipFill>
        <p:spPr>
          <a:xfrm>
            <a:off x="2971800" y="4572000"/>
            <a:ext cx="35812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Я ЗАБОЛЕЛ. Что дел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617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ести к минимуму контакт с другими люд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остельный реж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ся за медицинской помощ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людать правила личной гигиены, использовать медицинскую ма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ть м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стресс2"/>
          <p:cNvPicPr/>
          <p:nvPr/>
        </p:nvPicPr>
        <p:blipFill>
          <a:blip r:embed="rId1"/>
          <a:stretch/>
        </p:blipFill>
        <p:spPr>
          <a:xfrm>
            <a:off x="228600" y="228600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уход"/>
          <p:cNvPicPr/>
          <p:nvPr/>
        </p:nvPicPr>
        <p:blipFill>
          <a:blip r:embed="rId2"/>
          <a:stretch/>
        </p:blipFill>
        <p:spPr>
          <a:xfrm>
            <a:off x="6248520" y="4952880"/>
            <a:ext cx="24382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СЛИ В ДОМЕ БОЛЬН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местить больного в отдельной комна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ь для больного отдельные предметы туалета, посуды, постельного бел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е проветривание и влажная уборка поме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уходе за больным использовать маску, часто мыть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уход1"/>
          <p:cNvPicPr/>
          <p:nvPr/>
        </p:nvPicPr>
        <p:blipFill>
          <a:blip r:embed="rId1"/>
          <a:stretch/>
        </p:blipFill>
        <p:spPr>
          <a:xfrm>
            <a:off x="457200" y="1676520"/>
            <a:ext cx="30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гигиенические навыки"/>
          <p:cNvPicPr/>
          <p:nvPr/>
        </p:nvPicPr>
        <p:blipFill>
          <a:blip r:embed="rId2"/>
          <a:stretch/>
        </p:blipFill>
        <p:spPr>
          <a:xfrm>
            <a:off x="1523880" y="5181480"/>
            <a:ext cx="2362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762120" y="45720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684360" y="4797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ути передачи инфекц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172200" y="1523880"/>
            <a:ext cx="2590920" cy="2667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8" descr="5.jpg"/>
          <p:cNvPicPr/>
          <p:nvPr/>
        </p:nvPicPr>
        <p:blipFill>
          <a:blip r:embed="rId2"/>
          <a:stretch/>
        </p:blipFill>
        <p:spPr>
          <a:xfrm>
            <a:off x="533520" y="1828800"/>
            <a:ext cx="322092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бщение1"/>
          <p:cNvPicPr/>
          <p:nvPr/>
        </p:nvPicPr>
        <p:blipFill>
          <a:blip r:embed="rId3"/>
          <a:stretch/>
        </p:blipFill>
        <p:spPr>
          <a:xfrm>
            <a:off x="4876920" y="4648320"/>
            <a:ext cx="3047760" cy="20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чашка"/>
          <p:cNvPicPr/>
          <p:nvPr/>
        </p:nvPicPr>
        <p:blipFill>
          <a:blip r:embed="rId4"/>
          <a:stretch/>
        </p:blipFill>
        <p:spPr>
          <a:xfrm>
            <a:off x="4267080" y="266688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лотенце"/>
          <p:cNvPicPr/>
          <p:nvPr/>
        </p:nvPicPr>
        <p:blipFill>
          <a:blip r:embed="rId5"/>
          <a:stretch/>
        </p:blipFill>
        <p:spPr>
          <a:xfrm>
            <a:off x="1219320" y="5257800"/>
            <a:ext cx="1676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мптомы заболе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высокая температур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озноб и слабость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боль и ломота 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м те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каш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оловная б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насморк или заложенность но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симптомы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симптомы1"/>
          <p:cNvPicPr/>
          <p:nvPr/>
        </p:nvPicPr>
        <p:blipFill>
          <a:blip r:embed="rId1"/>
          <a:stretch/>
        </p:blipFill>
        <p:spPr>
          <a:xfrm>
            <a:off x="-380880" y="0"/>
            <a:ext cx="9963000" cy="69818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228600" y="762120"/>
            <a:ext cx="3276720" cy="6095880"/>
          </a:xfrm>
          <a:prstGeom prst="rect">
            <a:avLst/>
          </a:prstGeom>
          <a:solidFill>
            <a:srgbClr val="ffff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ec1b3661b570"/>
          <p:cNvPicPr/>
          <p:nvPr/>
        </p:nvPicPr>
        <p:blipFill>
          <a:blip r:embed="rId2"/>
          <a:stretch/>
        </p:blipFill>
        <p:spPr>
          <a:xfrm>
            <a:off x="3048120" y="3917880"/>
            <a:ext cx="632448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image005"/>
          <p:cNvPicPr/>
          <p:nvPr/>
        </p:nvPicPr>
        <p:blipFill>
          <a:blip r:embed="rId3"/>
          <a:stretch/>
        </p:blipFill>
        <p:spPr>
          <a:xfrm>
            <a:off x="-228600" y="914400"/>
            <a:ext cx="32734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14640" y="19047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ством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П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КЦИН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прививка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вакцинация1"/>
          <p:cNvPicPr/>
          <p:nvPr/>
        </p:nvPicPr>
        <p:blipFill>
          <a:blip r:embed="rId3"/>
          <a:stretch/>
        </p:blipFill>
        <p:spPr>
          <a:xfrm>
            <a:off x="6553080" y="49528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фортный температурный режим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улярное проветривание, влажная уборка помещ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в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огод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уборка"/>
          <p:cNvPicPr/>
          <p:nvPr/>
        </p:nvPicPr>
        <p:blipFill>
          <a:blip r:embed="rId1"/>
          <a:stretch/>
        </p:blipFill>
        <p:spPr>
          <a:xfrm>
            <a:off x="838080" y="43434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уборка1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уборка2"/>
          <p:cNvPicPr/>
          <p:nvPr/>
        </p:nvPicPr>
        <p:blipFill>
          <a:blip r:embed="rId3"/>
          <a:stretch/>
        </p:blipFill>
        <p:spPr>
          <a:xfrm>
            <a:off x="6705720" y="4952880"/>
            <a:ext cx="1904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И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04760"/>
            <a:ext cx="480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рывайте рот и нос при чихании или каш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прикосновений ко своему рту и но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те «дистанцию» при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чихание"/>
          <p:cNvPicPr/>
          <p:nvPr/>
        </p:nvPicPr>
        <p:blipFill>
          <a:blip r:embed="rId1"/>
          <a:stretch/>
        </p:blipFill>
        <p:spPr>
          <a:xfrm>
            <a:off x="685800" y="1905120"/>
            <a:ext cx="3200400" cy="221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чихание2"/>
          <p:cNvPicPr/>
          <p:nvPr/>
        </p:nvPicPr>
        <p:blipFill>
          <a:blip r:embed="rId2"/>
          <a:stretch/>
        </p:blipFill>
        <p:spPr>
          <a:xfrm>
            <a:off x="1295280" y="5029200"/>
            <a:ext cx="2438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50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щательно и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йте руки с мылом        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райте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зинфицирующи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ств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70684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172200" y="53341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ФИЛАК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80920" y="1904760"/>
            <a:ext cx="526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бегайте тесных контактов с людьми которые могут быть боль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кратите время пребывания в местах скопления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гости1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138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ости2"/>
          <p:cNvPicPr/>
          <p:nvPr/>
        </p:nvPicPr>
        <p:blipFill>
          <a:blip r:embed="rId2"/>
          <a:stretch/>
        </p:blipFill>
        <p:spPr>
          <a:xfrm>
            <a:off x="304920" y="1295280"/>
            <a:ext cx="26668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04T19:17:0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