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gif" ContentType="image/gif"/>
  <Override PartName="/ppt/media/image27.jpeg" ContentType="image/jpeg"/>
  <Override PartName="/ppt/media/image26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30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jpeg" ContentType="image/jpeg"/>
  <Override PartName="/ppt/media/image23.png" ContentType="image/png"/>
  <Override PartName="/ppt/media/image11.jpeg" ContentType="image/jpeg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94C-9B0C-4D59-A820-73751E18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4E9-3CB6-4E7A-BC2B-AEDA16C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FF9DD-A697-481F-AA59-A8A83CFA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97185-4035-4F70-8387-A2A772AF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C77F8-FA72-4186-AD85-6824AC68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072BE-0E2E-4ABD-A58B-155D13A7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AE184-F212-4354-BD2A-69DA94D7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64B69-ACA1-4FE2-9783-6210613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9A2E1-D3FA-466F-846D-1378709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7F89E-7572-487B-BCFD-CE9A91F2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4EB45-143F-4392-95E9-63268F5A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CAE-9679-4015-B9EA-91A9FB7C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A09-3E42-4916-92C8-96532386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1F8B-819E-4746-B1C0-FDBC15AB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C58-EFEE-46ED-8623-79849A7B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95F5-99AA-473D-B521-2BCD567A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6D96-1090-43E3-AB84-8AFCECDE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5C3-F695-404D-95C1-56D93D5D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29C3-F934-4FBB-93B2-B8007B2C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78EA-E2CC-405D-80EC-968622EB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3FE-F8AE-415E-B987-7AC63BEF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9337-E965-4E76-A9B3-72C3D22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C33E-39C9-4592-8E60-0BBBD1C2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07A-A5EF-444D-9193-8B586263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5A63-5FC8-42C7-82A5-8CEDAD73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78CA-89A4-424B-97D3-47A7DA19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BB61-6C1E-433C-902F-0EAF1270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652C-F81A-4F87-81EB-58E87568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6F0D-122B-4FC8-9C24-D3705E65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9A331-44B8-46BC-B052-8052D8F5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75A2-1177-4555-90FB-4B9CF625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3A3-72F2-4DDE-B85C-2F010584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2A59-FD9E-418E-954C-D7C9DE82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033E-D28C-4037-A09B-C4A45C1D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D385-1640-4BB7-AA83-6F5A3542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BACD-F335-4DC2-92D9-0ECC695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FD7B-3FB0-4B82-9613-CA478962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C31A-5123-4BAA-9D7D-6BF6DEE8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F1DC3-E9A5-4023-9063-D9703C86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91B0-D48E-4322-A4A5-AE348BD9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0E7AF-3786-4279-8FD6-DEAFA686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E675C-4771-4A58-9682-2EB9AB49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C52-F2D6-40F5-B201-1264024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26D50-12B2-41A4-A910-2E4DC13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9848C-F13F-4417-8036-8FFB494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61900-78E6-4E5A-931F-DA7A8E9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C5932-E545-440A-B178-4CD3587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AA61-848B-404D-8BD1-23085A9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477F-AA99-4F16-BB88-B570C22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AD340-12D3-4DAA-A353-78556698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0428-CE3F-463F-BE7E-0E4B4A2D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02E7-0332-4C46-ACBE-884873B1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6F03-33F9-46E2-9794-FE072C04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C3B-249F-4FC9-A147-66913A3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F2A1-18FE-4E44-B4F8-597C949B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A6052-2F66-4962-ABD5-4C9506F6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66256-F27F-48BA-904D-30AD62C3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4153D-51BF-4AEF-825D-ECA1C2E4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A4F2-2590-4BBF-8B59-42E9E958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F8B38-9D21-4C10-AA02-55107B7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22E8E-B13F-4502-9B9A-53AE9746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E528D-7229-432F-92FF-42312E1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FB52-8A76-4689-9E22-1CE01F0A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6D71-FDA3-45C3-8676-D59AE7F2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FD7-895B-48F2-B9CA-5CE8105C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4AC0E-DEEE-4C03-85CA-8F552BBE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CD11-3315-4C95-870D-1E1DCA9E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F8BEB-C0B2-459E-AE38-4F9AA001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250C-EF38-454F-9A1E-8BFEB0F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6B8D-8556-4E67-BF14-F56EE76F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EA160-5AEC-4F9E-BDE3-F277A4F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AA607-1A9E-42C4-9FDE-0F584E98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C3EE8-837E-4A40-AE10-619A247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4D62C-C22A-4481-9983-719CAF4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C0FB-001F-44C7-BC44-1737D30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163-C0DB-40EA-8362-3DBF77B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90A4-579D-4BB5-8D80-2379A57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CFA6-2573-44DA-86F1-C3C244AB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A02FC-B40A-4FE3-8C38-795A6A3E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9FB13-E8D4-47A3-9F86-C53879F5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CD437-8D16-466E-BE56-76E64E3B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99FB0-4D36-4B57-B816-5B1962D7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6F39-2CD8-4122-9599-1B971075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0095-E04C-49E1-9AC1-103CA028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FBF8D-71DE-4993-A3DA-3157792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88D42-DF51-434E-A4B5-0E95DDAE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773-7951-42C7-AC84-762E0CB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16FE5-00AD-47F2-BACE-01145CC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D626-5DA5-494A-B4C5-D56781F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8007-A4DE-4029-9931-2E6D684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CB0B7-6321-439A-8453-87072EAD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9A977-4671-4CC9-A4D9-5B4E3630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D8812-A811-4B23-9603-47E90672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82781-4009-4F02-B0BC-4FA7184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F7A2F-B37C-47DF-A866-AA4B84F9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C883F-90C9-44F3-8274-7554F97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F513-EAE1-481A-8048-F402DCB6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B61-E616-4C7D-9696-5659961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150C2-CA1E-4370-BFE2-EC014E2D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32B19-8470-4C26-ACC1-E7D3771D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B4BE8-0825-4ADB-BFD8-E85251D6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CB33C-56A3-4589-B1D9-709C8E1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AB41C-4D18-4BE3-AA4E-42EF1AA5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EE7F9-A000-40B3-8EB6-36060973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BC5C3-6AF8-4A31-8C74-E1F2A1F6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283E5-5D8C-42F2-9854-E89111E4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657B9-9655-4902-B4F5-4AE00209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C8C0D-E72A-4666-817C-C3B37E79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79AF-0B2B-441E-B42A-27A46EABBF7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CB2E-04F1-4240-977B-A13D79578B4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3EB9-9F7D-43CD-A1DF-A2A9264688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7551-9FF9-4C25-8CDE-6675D5423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CD81-EF5B-4090-A6E8-C7EBFDDA6BE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9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3707-8031-4EE4-935F-5F1DCCAD20F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03E-A4DE-4C54-BE0C-064AFA70AA6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0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79AA-098D-4A6F-82AC-EEBEAD959DD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5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797C-F01D-4BE6-AC83-B7B65FC4EF0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5A3B-09F4-4C7E-A456-0C432CB49A1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7" name="Picture 4" descr="Kolok13"/>
          <p:cNvPicPr/>
          <p:nvPr/>
        </p:nvPicPr>
        <p:blipFill>
          <a:blip r:embed="rId2"/>
          <a:stretch/>
        </p:blipFill>
        <p:spPr>
          <a:xfrm>
            <a:off x="0" y="1916280"/>
            <a:ext cx="1908000" cy="1908000"/>
          </a:xfrm>
          <a:prstGeom prst="rect">
            <a:avLst/>
          </a:prstGeom>
          <a:ln w="0">
            <a:noFill/>
          </a:ln>
        </p:spPr>
      </p:pic>
      <p:sp>
        <p:nvSpPr>
          <p:cNvPr id="468" name="WordArt 5"/>
          <p:cNvSpPr txBox="1"/>
          <p:nvPr/>
        </p:nvSpPr>
        <p:spPr>
          <a:xfrm>
            <a:off x="539640" y="0"/>
            <a:ext cx="820908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6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Прозвенел звонок -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начинаем наш урок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263160" y="404280"/>
            <a:ext cx="80535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В.В. Бианки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«Первая охота»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rebuchet MS"/>
              </a:rPr>
              <a:t>Цель:</a:t>
            </a: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познакомится с творчеством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и его произведением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учиться правильно, выразительно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отвечать на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300" spc="-1" strike="noStrike">
                <a:solidFill>
                  <a:srgbClr val="ff0000"/>
                </a:solidFill>
                <a:latin typeface="Times New Roman"/>
              </a:rPr>
              <a:t>Бианки </a:t>
            </a:r>
            <a:br>
              <a:rPr sz="4300"/>
            </a:br>
            <a:r>
              <a:rPr b="1" i="1" lang="ru-RU" sz="4300" spc="-1" strike="noStrike">
                <a:solidFill>
                  <a:srgbClr val="ff0000"/>
                </a:solidFill>
                <a:latin typeface="Times New Roman"/>
              </a:rPr>
              <a:t>Виталий Валентинович</a:t>
            </a:r>
            <a:r>
              <a:rPr b="1" i="1" lang="ru-RU" sz="4300" spc="-1" strike="noStrike">
                <a:solidFill>
                  <a:srgbClr val="ff0000"/>
                </a:solidFill>
                <a:latin typeface="Trebuchet MS"/>
              </a:rPr>
              <a:t> </a:t>
            </a:r>
            <a:br>
              <a:rPr sz="4300"/>
            </a:br>
            <a:r>
              <a:rPr b="1" i="1" lang="ru-RU" sz="2900" spc="-1" strike="noStrike">
                <a:solidFill>
                  <a:srgbClr val="ff0000"/>
                </a:solidFill>
                <a:latin typeface="Times New Roman"/>
              </a:rPr>
              <a:t>(1894-1959)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503" name="Picture 8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852720" cy="4797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9"/>
          <p:cNvSpPr/>
          <p:nvPr/>
        </p:nvSpPr>
        <p:spPr>
          <a:xfrm>
            <a:off x="3924360" y="1427040"/>
            <a:ext cx="500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b1313"/>
                </a:solidFill>
                <a:latin typeface="Monotype Corsiva"/>
              </a:rPr>
              <a:t>«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Весь огромный мир кругом меня, надо мной и подо мной полон неизведанных тайн. И я их буду открывать всю жизнь, потому что это самое интересное занятие в мире!»</a:t>
            </a:r>
            <a:r>
              <a:rPr b="1" lang="ru-RU" sz="1800" spc="-1" strike="noStrike">
                <a:solidFill>
                  <a:srgbClr val="7030a0"/>
                </a:solidFill>
                <a:latin typeface="Monotype Corsiv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1186920" y="2276640"/>
            <a:ext cx="712980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rebuchet MS"/>
              </a:rPr>
              <a:t>Она, как змейка,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rebuchet MS"/>
              </a:rPr>
              <a:t>В траве мелькнет, хвостом виляет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rebuchet MS"/>
              </a:rPr>
              <a:t>Хвост оторвет – другой наживет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WordArt 4"/>
          <p:cNvSpPr txBox="1"/>
          <p:nvPr/>
        </p:nvSpPr>
        <p:spPr>
          <a:xfrm>
            <a:off x="1763640" y="189000"/>
            <a:ext cx="597708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тгадайт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гадку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6836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WordArt 5"/>
          <p:cNvSpPr txBox="1"/>
          <p:nvPr/>
        </p:nvSpPr>
        <p:spPr>
          <a:xfrm>
            <a:off x="4427640" y="333360"/>
            <a:ext cx="4394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Ящериц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WordArt 10"/>
          <p:cNvSpPr txBox="1"/>
          <p:nvPr/>
        </p:nvSpPr>
        <p:spPr>
          <a:xfrm>
            <a:off x="250920" y="189000"/>
            <a:ext cx="302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Verdana"/>
              </a:rPr>
              <a:t>Щенок</a:t>
            </a:r>
            <a:endParaRPr b="1" i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23640" y="1773360"/>
            <a:ext cx="633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Мы шагаем, мы шагаем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Руки выше поднимае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Вдруг мы видим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У куста выпал птенчик из гнезда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Тихо птенчика берё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Trebuchet MS"/>
              </a:rPr>
              <a:t>И назад в гнездо кладё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WordArt 7"/>
          <p:cNvSpPr txBox="1"/>
          <p:nvPr/>
        </p:nvSpPr>
        <p:spPr>
          <a:xfrm>
            <a:off x="684360" y="333360"/>
            <a:ext cx="799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Физкультминут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4" name="Picture 8" descr="3_102[1]"/>
          <p:cNvPicPr/>
          <p:nvPr/>
        </p:nvPicPr>
        <p:blipFill>
          <a:blip r:embed="rId1"/>
          <a:stretch/>
        </p:blipFill>
        <p:spPr>
          <a:xfrm flipH="1">
            <a:off x="6372000" y="4818240"/>
            <a:ext cx="2771640" cy="2039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ffff66"/>
                </a:solidFill>
                <a:latin typeface="Trebuchet MS"/>
              </a:rPr>
              <a:t>Нарисуйте словесную картину, на которой изображен щенок с хвостом в зубах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rebuchet MS"/>
              </a:rPr>
              <a:t>Вопросы: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rebuchet MS"/>
              </a:rPr>
              <a:t>Как? Зачем? Почему? Что?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Trebuchet MS"/>
              </a:rPr>
              <a:t>Расшифруйте названия животных</a:t>
            </a:r>
            <a:br>
              <a:rPr sz="4000"/>
            </a:br>
            <a:r>
              <a:rPr b="1" i="1" lang="ru-RU" sz="4000" spc="-1" strike="noStrike">
                <a:solidFill>
                  <a:srgbClr val="0066ff"/>
                </a:solidFill>
                <a:latin typeface="Trebuchet MS"/>
              </a:rPr>
              <a:t>ЩЕКОН         БАОБЧАК           МУЙВЕРА       ЩЕЯКАР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66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836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Я для себя сделал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открытие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Меня удивило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54a021"/>
                </a:solidFill>
                <a:latin typeface="Times New Roman"/>
              </a:rPr>
              <a:t>Оказывается, что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WordArt 4"/>
          <p:cNvSpPr txBox="1"/>
          <p:nvPr/>
        </p:nvSpPr>
        <p:spPr>
          <a:xfrm>
            <a:off x="1979640" y="620640"/>
            <a:ext cx="504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Unicode MS"/>
              </a:rPr>
              <a:t>Мои открыт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Unicode MS"/>
              </a:rPr>
              <a:t>на урок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520" name="Picture 5" descr="cveta-1221"/>
          <p:cNvPicPr/>
          <p:nvPr/>
        </p:nvPicPr>
        <p:blipFill>
          <a:blip r:embed="rId1"/>
          <a:stretch/>
        </p:blipFill>
        <p:spPr>
          <a:xfrm>
            <a:off x="6877080" y="2781360"/>
            <a:ext cx="1708200" cy="309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7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WordArt 4"/>
          <p:cNvSpPr txBox="1"/>
          <p:nvPr/>
        </p:nvSpPr>
        <p:spPr>
          <a:xfrm>
            <a:off x="1476360" y="476280"/>
            <a:ext cx="64785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66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66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66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66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66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Monotype Corsiva"/>
              </a:rPr>
              <a:t>уро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66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Он-он-он, он-он-он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у меня зазвонил телефон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ыр-ыр-ыр, ыр-ыр-ыр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любит воду Мойдодыр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Ил-ил-ил, ил-ил-и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Крокодил солнце в небе проглотил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Ца-ца-ца, ца-ца-ца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ынче Муха-Цокотуха именинница.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Calibri"/>
              </a:rPr>
              <a:t>Ит-ит-ит, ит-ит-и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добрый доктор Айбол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EF8F-FC89-40CC-AF6B-C9225D0C11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0CD-81A4-4412-BCEA-8ACDBDC6B1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6" name="WordArt 4"/>
          <p:cNvSpPr txBox="1"/>
          <p:nvPr/>
        </p:nvSpPr>
        <p:spPr>
          <a:xfrm>
            <a:off x="1403280" y="333360"/>
            <a:ext cx="691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ffff99"/>
                    </a:gs>
                    <a:gs pos="100000">
                      <a:srgbClr val="6699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Verdana"/>
              </a:rPr>
              <a:t>Назовите автора 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ffff99"/>
                  </a:gs>
                  <a:gs pos="100000">
                    <a:srgbClr val="6699ff"/>
                  </a:gs>
                </a:gsLst>
                <a:lin ang="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ffff99"/>
                    </a:gs>
                    <a:gs pos="100000">
                      <a:srgbClr val="6699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Verdana"/>
              </a:rPr>
              <a:t>и произведение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ffff99"/>
                  </a:gs>
                  <a:gs pos="100000">
                    <a:srgbClr val="6699ff"/>
                  </a:gs>
                </a:gsLst>
                <a:lin ang="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477" name="Picture 5" descr="post-3-13175764914438"/>
          <p:cNvPicPr/>
          <p:nvPr/>
        </p:nvPicPr>
        <p:blipFill>
          <a:blip r:embed="rId2"/>
          <a:stretch/>
        </p:blipFill>
        <p:spPr>
          <a:xfrm>
            <a:off x="6156360" y="2349360"/>
            <a:ext cx="2795400" cy="410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8" name="Picture 6" descr="imgv710"/>
          <p:cNvPicPr/>
          <p:nvPr/>
        </p:nvPicPr>
        <p:blipFill>
          <a:blip r:embed="rId3"/>
          <a:stretch/>
        </p:blipFill>
        <p:spPr>
          <a:xfrm>
            <a:off x="3203640" y="2349360"/>
            <a:ext cx="281448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9" name="Picture 7" descr="1301321257_putanica"/>
          <p:cNvPicPr/>
          <p:nvPr/>
        </p:nvPicPr>
        <p:blipFill>
          <a:blip r:embed="rId4"/>
          <a:stretch/>
        </p:blipFill>
        <p:spPr>
          <a:xfrm>
            <a:off x="179280" y="2349360"/>
            <a:ext cx="2845080" cy="410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0" name="тараканище (mp3cut.ru).mp3" descr=""/>
          <p:cNvPicPr/>
          <p:nvPr/>
        </p:nvPicPr>
        <p:blipFill>
          <a:blip r:embed="rId5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1" name="мойдодыр (mp3cut.ru).mp3" descr=""/>
          <p:cNvPicPr/>
          <p:nvPr/>
        </p:nvPicPr>
        <p:blipFill>
          <a:blip r:embed="rId6"/>
          <a:stretch/>
        </p:blipFill>
        <p:spPr>
          <a:xfrm>
            <a:off x="7554960" y="3083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00000" y="907920"/>
            <a:ext cx="73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7f7f7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WordArt 4"/>
          <p:cNvSpPr txBox="1"/>
          <p:nvPr/>
        </p:nvSpPr>
        <p:spPr>
          <a:xfrm>
            <a:off x="324000" y="260280"/>
            <a:ext cx="8640720" cy="633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ыбе - вода, птице -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воздух, зверю – лес, горы.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А человеку нужна Родина.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 охранять природу –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начит охранять Родину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(М.И. Пришвин)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179280" y="1197000"/>
            <a:ext cx="8569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Й</a:t>
            </a:r>
            <a:r>
              <a:rPr b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</a:t>
            </a: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</a:t>
            </a: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8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2736720" cy="1865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179280" y="292428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8" descr=""/>
          <p:cNvPicPr/>
          <p:nvPr/>
        </p:nvPicPr>
        <p:blipFill>
          <a:blip r:embed="rId4"/>
          <a:stretch/>
        </p:blipFill>
        <p:spPr>
          <a:xfrm>
            <a:off x="3348000" y="62064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"/>
          <p:cNvPicPr/>
          <p:nvPr/>
        </p:nvPicPr>
        <p:blipFill>
          <a:blip r:embed="rId5"/>
          <a:stretch/>
        </p:blipFill>
        <p:spPr>
          <a:xfrm>
            <a:off x="3059280" y="2924280"/>
            <a:ext cx="2736720" cy="1854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6"/>
          <a:stretch/>
        </p:blipFill>
        <p:spPr>
          <a:xfrm>
            <a:off x="6227640" y="620640"/>
            <a:ext cx="2376720" cy="1871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1" descr=""/>
          <p:cNvPicPr/>
          <p:nvPr/>
        </p:nvPicPr>
        <p:blipFill>
          <a:blip r:embed="rId7">
            <a:lum contrast="42000"/>
          </a:blip>
          <a:stretch/>
        </p:blipFill>
        <p:spPr>
          <a:xfrm>
            <a:off x="6084720" y="2924280"/>
            <a:ext cx="2808360" cy="1863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2" descr="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835280" y="5235480"/>
            <a:ext cx="2447640" cy="1622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3" descr=""/>
          <p:cNvPicPr/>
          <p:nvPr/>
        </p:nvPicPr>
        <p:blipFill>
          <a:blip r:embed="rId9"/>
          <a:stretch/>
        </p:blipFill>
        <p:spPr>
          <a:xfrm>
            <a:off x="4572000" y="5261040"/>
            <a:ext cx="2376360" cy="1596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9280" y="404640"/>
            <a:ext cx="8604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П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авлин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О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рел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Е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нот 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Х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омяк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Р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ак 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О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слик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В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олк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Т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етерев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А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льбатрос</a:t>
            </a:r>
            <a:r>
              <a:rPr b="1" i="1" lang="ru-RU" sz="5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А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кула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c0099"/>
                </a:solidFill>
                <a:latin typeface="Trebuchet MS"/>
              </a:rPr>
              <a:t>Я</a:t>
            </a:r>
            <a:r>
              <a:rPr b="1" i="1" lang="ru-RU" sz="5400" spc="-1" strike="noStrike">
                <a:solidFill>
                  <a:srgbClr val="ffff00"/>
                </a:solidFill>
                <a:latin typeface="Trebuchet MS"/>
              </a:rPr>
              <a:t>гуар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445280" cy="583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bebeb">
                <a:alpha val="50000"/>
              </a:srgbClr>
            </a:outerShdw>
          </a:effectLst>
        </p:spPr>
      </p:pic>
      <p:pic>
        <p:nvPicPr>
          <p:cNvPr id="500" name="WordArt 4" descr="Циновка"/>
          <p:cNvPicPr/>
          <p:nvPr/>
        </p:nvPicPr>
        <p:blipFill>
          <a:blip r:embed="rId3"/>
          <a:stretch/>
        </p:blipFill>
        <p:spPr>
          <a:xfrm>
            <a:off x="158760" y="1609560"/>
            <a:ext cx="4035240" cy="2913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3:21:26Z</dcterms:created>
  <dc:creator>Admin</dc:creator>
  <dc:description/>
  <dc:language>en-US</dc:language>
  <cp:lastModifiedBy>Пользователь Windows</cp:lastModifiedBy>
  <dcterms:modified xsi:type="dcterms:W3CDTF">2022-02-15T06:38:16Z</dcterms:modified>
  <cp:revision>26</cp:revision>
  <dc:subject/>
  <dc:title>Слайд 1</dc:title>
</cp:coreProperties>
</file>