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9.gif" ContentType="image/gif"/>
  <Override PartName="/ppt/media/image27.jpeg" ContentType="image/jpeg"/>
  <Override PartName="/ppt/media/image26.jpeg" ContentType="image/jpeg"/>
  <Override PartName="/ppt/media/image3.png" ContentType="image/png"/>
  <Override PartName="/ppt/media/image4.jpeg" ContentType="image/jpeg"/>
  <Override PartName="/ppt/media/image25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jpeg" ContentType="image/jpeg"/>
  <Override PartName="/ppt/media/image5.png" ContentType="image/png"/>
  <Override PartName="/ppt/media/image30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jpeg" ContentType="image/jpeg"/>
  <Override PartName="/ppt/media/image23.png" ContentType="image/png"/>
  <Override PartName="/ppt/media/image11.jpeg" ContentType="image/jpeg"/>
  <Override PartName="/ppt/media/image31.gif" ContentType="image/gif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7085-1658-489A-8F78-6037D58C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FF3-6B68-4161-B6F2-7852EBB6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C7E04-B0B4-49DE-9C56-8FF1E8B1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C858B-3E85-403A-8A28-1BF485F0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A894F-0978-4692-B7B6-98FDFD63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6C020-7632-4EDB-A019-31192394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5DCDC-A3D4-496C-83A8-69567A1C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44031-FCB5-4754-9CEA-31C9D44E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48580-2FD8-446D-8EFA-542BE2FA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D7A05-DE32-4731-9134-631B8F4C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2D56C-717F-4203-8AEB-698D6AE3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D45B-C74E-46DF-9151-9F83B605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F3E-4006-42A5-86CC-99B20AF1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A62B-02CC-4931-BE48-08EE16AB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7E46-32FB-4D6D-A986-719CC7D6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4E16-352F-4D04-B5BC-E6265E59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7348-67A2-4604-B74D-E076C3ED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5F2B-2B78-4CC2-9573-B8CE071C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BA80-1295-41FF-BF35-8FEC0A5C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845E-5B73-491C-94BA-2236CF60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D6D-298B-46B2-87F1-A0B561A8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66DD-26C3-4C28-9B7A-73300A10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8CD4-CBEF-45C3-8773-7D52A451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47FA-FBAC-45F3-9344-6C4FCA79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55DD-EB6C-4FF4-8574-C6BFF1C8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1026-32BE-43B8-AF71-6DEA799D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59F72-77B4-4A3E-9AAD-0CD1D3FA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3C600-E29E-4350-9351-0A3C53B4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C3781-AAAA-4BF5-AA85-3FAF50DE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63B6E-15EB-4918-81F7-90A099D9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55317-87E2-4F4B-B579-A70A0356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D9D-A4B7-4D33-831C-E4F83EC0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CA5B3-51D6-4CB9-9BD3-3CFB3A78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605AD-C537-4758-AD57-D61695E5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E86ED-97EE-46AE-868D-8DDD4F1C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7976A-2EC0-49C2-8287-B9288CB5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01067-7F91-4A6D-9F53-1ACB9A01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C11B-9133-453D-B171-0B92C9D5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CB0E4-E3B8-48C5-9E3C-A9F8FABE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3B1A3-98FE-49F0-9E78-908F1722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D9DFB-00F0-48AA-A769-8636C273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5162B-2165-4F44-9E49-3204119E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15B-49EC-46B3-8274-A0C31B02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8020A-4D91-4C28-A83F-DD19D6ED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EA186-F3EF-47A6-84F8-3CE9083C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89C81-7F78-4800-807A-68EEE8A4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AA20C-0C9A-4822-AF29-16DC67E1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19126-1379-4E89-A8C6-8158FFC0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6908D-8FE7-4754-8581-DB2FFDB6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BB63A-B2D5-49F5-BA32-8F4AF9CE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E9502-D7A4-43FB-AC61-A5D2C643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29DAE-EF12-4C01-AD09-BBBAA22E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618BF-D996-455B-8D1E-FE0F2897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198-716D-4B19-A14F-C1526D73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B0920-F0DB-4BEE-8A2A-B14F8496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3982C-4DA3-404E-ACA2-963E045D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CCF75-D9F6-4D0C-B366-B6424B96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02E3A-7DEE-4A37-A5BC-D856638C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1DEF9-DDF4-4F22-B930-6978C424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0412E-305E-493A-9BEB-50CDA7DA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2302B-3866-45D6-8ED7-7A67E51D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56F41-F71E-46FF-B48E-B1D3A6E3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B127D-3D94-4844-8C74-57CA52B5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E3769-05A8-4680-AFEA-65C12378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B863-2CF5-4C75-9674-5BD9D1D5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80DE8-2550-468E-83E6-3F1C2DB1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D2A77-75D3-47C5-A81D-AF27EB06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F70DF-013F-43E7-ADCD-80797FA3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36272-BE2E-423C-9F6A-E6EA4D3B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7DBDB-DA60-443E-B881-E001A002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5753F-3246-47DC-BF8A-F92E92A9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1C0FE-B07A-4280-BD05-09477D3B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19990-FB3F-4A52-9149-EEF949B2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75781-8D11-49BD-89A9-2FC6E479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9609F-19D2-4CCB-ACE0-A49863EE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1CD-FE6F-4AE7-AD67-2E0DAF2C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731C5-6CD3-4453-89E5-43455B1C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88F81-35A3-4558-84B8-44E703C7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898C1-7D6C-4C98-8281-29586BC3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6F355-8F3E-4F0A-8B38-88B50B64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5AE46-B7FD-40DB-B8F2-9F262E48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ADA83-570D-4E3E-903D-FC340EC8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8A0B4-ED54-4C72-B8AC-84DB990D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4627B-29E8-4E63-B5CF-FAE80423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47D34-0246-4EDF-A820-EB210476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74426-6AE6-4CDF-B3CD-26E2F178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F81A-E348-4FCA-BDB4-2AEE4C32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29E48-BBE0-48C6-8B7A-8477B2AC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51803-351A-4544-8416-27ABC750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A3211-892B-465E-9FF7-0166DFA5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80507-AB95-41C6-A415-BB515CA9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2F66E-3327-483A-B857-C62575D8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500B4-92F3-4513-82C3-8D9B8E71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DBC63-CD39-416A-B9CE-616D2B28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68120-929B-4159-A289-E6F391B7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3A893-929D-4885-953A-95F2F288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8776D-DAE8-48A5-B0D6-96D19466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705-9F28-42EF-AE3E-064BE598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C83F1-E92C-47EC-9F61-6C3262F0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21AAA-D5BB-481E-A11F-C8CF4225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63EA9-A221-49D2-B0DB-AC31F31B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26375-2B29-4AF9-B340-779D6035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80F3E-A8BE-4572-BB2E-F459239A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41D0C-5100-424F-AC61-8A21E67F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820DF-D9FD-46A0-AD98-5ACE702F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CC48E-96D4-4470-917B-5B20F3AC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80E84-7F54-4686-A477-5B46524F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09991-D425-4352-9F8E-EB4484F9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1756-CB4A-4C43-B91E-0FB385ADD9F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D724-211F-41A9-92DC-23F90949324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181A-EEE6-4962-A412-66A7A54347E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CDE7-6338-4675-89EA-19FA5C7EAC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9669-6F19-499A-90AE-68710554674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9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AF39-FAF8-491A-8317-F2DF7C95668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5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2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94B8-63E4-4530-A4FC-96D2A046025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06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3F30-E03E-4D81-AF2E-70CA9AD6449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5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2C12-9DB7-4C3B-AB69-A44A3459094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1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2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B8DE-87F5-4164-A577-F0BEA53A6AF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7" name="Picture 4" descr="Kolok13"/>
          <p:cNvPicPr/>
          <p:nvPr/>
        </p:nvPicPr>
        <p:blipFill>
          <a:blip r:embed="rId2"/>
          <a:stretch/>
        </p:blipFill>
        <p:spPr>
          <a:xfrm>
            <a:off x="0" y="1916280"/>
            <a:ext cx="1908000" cy="1908000"/>
          </a:xfrm>
          <a:prstGeom prst="rect">
            <a:avLst/>
          </a:prstGeom>
          <a:ln w="0">
            <a:noFill/>
          </a:ln>
        </p:spPr>
      </p:pic>
      <p:sp>
        <p:nvSpPr>
          <p:cNvPr id="468" name="WordArt 5"/>
          <p:cNvSpPr txBox="1"/>
          <p:nvPr/>
        </p:nvSpPr>
        <p:spPr>
          <a:xfrm>
            <a:off x="539640" y="0"/>
            <a:ext cx="8209080" cy="666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6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Monotype Corsiva"/>
              </a:rPr>
              <a:t>Прозвенел звонок - 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Monotype Corsiva"/>
              </a:rPr>
              <a:t>начинаем наш урок!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263160" y="404280"/>
            <a:ext cx="80535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rebuchet MS"/>
              </a:rPr>
              <a:t>В.В. Бианки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rebuchet MS"/>
              </a:rPr>
              <a:t>«Первая охота»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rebuchet MS"/>
              </a:rPr>
              <a:t>Цель:</a:t>
            </a:r>
            <a:r>
              <a:rPr b="1" i="1" lang="ru-RU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познакомится с творчеством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и его произведением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учиться правильно, выразительно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отвечать на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300" spc="-1" strike="noStrike">
                <a:solidFill>
                  <a:srgbClr val="ff0000"/>
                </a:solidFill>
                <a:latin typeface="Times New Roman"/>
              </a:rPr>
              <a:t>Бианки </a:t>
            </a:r>
            <a:br>
              <a:rPr sz="4300"/>
            </a:br>
            <a:r>
              <a:rPr b="1" i="1" lang="ru-RU" sz="4300" spc="-1" strike="noStrike">
                <a:solidFill>
                  <a:srgbClr val="ff0000"/>
                </a:solidFill>
                <a:latin typeface="Times New Roman"/>
              </a:rPr>
              <a:t>Виталий Валентинович</a:t>
            </a:r>
            <a:r>
              <a:rPr b="1" i="1" lang="ru-RU" sz="4300" spc="-1" strike="noStrike">
                <a:solidFill>
                  <a:srgbClr val="ff0000"/>
                </a:solidFill>
                <a:latin typeface="Trebuchet MS"/>
              </a:rPr>
              <a:t> </a:t>
            </a:r>
            <a:br>
              <a:rPr sz="4300"/>
            </a:br>
            <a:r>
              <a:rPr b="1" i="1" lang="ru-RU" sz="2900" spc="-1" strike="noStrike">
                <a:solidFill>
                  <a:srgbClr val="ff0000"/>
                </a:solidFill>
                <a:latin typeface="Times New Roman"/>
              </a:rPr>
              <a:t>(1894-1959)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503" name="Picture 8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3852720" cy="479736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9"/>
          <p:cNvSpPr/>
          <p:nvPr/>
        </p:nvSpPr>
        <p:spPr>
          <a:xfrm>
            <a:off x="3924360" y="1427040"/>
            <a:ext cx="5003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1313"/>
                </a:solidFill>
                <a:latin typeface="Monotype Corsiva"/>
              </a:rPr>
              <a:t>«</a:t>
            </a: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Весь огромный мир кругом меня, надо мной и подо мной полон неизведанных тайн. И я их буду открывать всю жизнь, потому что это самое интересное занятие в мире!»</a:t>
            </a:r>
            <a:r>
              <a:rPr b="1" lang="ru-RU" sz="1800" spc="-1" strike="noStrike">
                <a:solidFill>
                  <a:srgbClr val="7030a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1186920" y="2276640"/>
            <a:ext cx="712980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Trebuchet MS"/>
              </a:rPr>
              <a:t>Она, как змейка,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Trebuchet MS"/>
              </a:rPr>
              <a:t>В траве мелькнет, хвостом виляет.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Trebuchet MS"/>
              </a:rPr>
              <a:t>Хвост оторвет – другой наживет.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6" name="WordArt 4"/>
          <p:cNvSpPr txBox="1"/>
          <p:nvPr/>
        </p:nvSpPr>
        <p:spPr>
          <a:xfrm>
            <a:off x="1763640" y="189000"/>
            <a:ext cx="5977080" cy="19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Отгадайт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загадку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6836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WordArt 5"/>
          <p:cNvSpPr txBox="1"/>
          <p:nvPr/>
        </p:nvSpPr>
        <p:spPr>
          <a:xfrm>
            <a:off x="4427640" y="333360"/>
            <a:ext cx="4394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Ящериц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WordArt 10"/>
          <p:cNvSpPr txBox="1"/>
          <p:nvPr/>
        </p:nvSpPr>
        <p:spPr>
          <a:xfrm>
            <a:off x="250920" y="189000"/>
            <a:ext cx="3025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Verdana"/>
              </a:rPr>
              <a:t>Щенок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ransition>
    <p:push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23640" y="1773360"/>
            <a:ext cx="6337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rebuchet MS"/>
              </a:rPr>
              <a:t>Мы шагаем, мы шагаем,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rebuchet MS"/>
              </a:rPr>
              <a:t>Руки выше поднимае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rebuchet MS"/>
              </a:rPr>
              <a:t>Вдруг мы видим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rebuchet MS"/>
              </a:rPr>
              <a:t>У куста выпал птенчик из гнезда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rebuchet MS"/>
              </a:rPr>
              <a:t>Тихо птенчика берё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rebuchet MS"/>
              </a:rPr>
              <a:t>И назад в гнездо кладём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WordArt 7"/>
          <p:cNvSpPr txBox="1"/>
          <p:nvPr/>
        </p:nvSpPr>
        <p:spPr>
          <a:xfrm>
            <a:off x="684360" y="333360"/>
            <a:ext cx="799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Физкультминут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4" name="Picture 8" descr="3_102[1]"/>
          <p:cNvPicPr/>
          <p:nvPr/>
        </p:nvPicPr>
        <p:blipFill>
          <a:blip r:embed="rId1"/>
          <a:stretch/>
        </p:blipFill>
        <p:spPr>
          <a:xfrm flipH="1">
            <a:off x="6372000" y="4818240"/>
            <a:ext cx="2771640" cy="2039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ffff66"/>
                </a:solidFill>
                <a:latin typeface="Trebuchet MS"/>
              </a:rPr>
              <a:t>Нарисуйте словесную картину, на которой изображен щенок с хвостом в зубах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Вопросы: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rebuchet MS"/>
              </a:rPr>
              <a:t>Как? Зачем? Почему? Что?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Trebuchet MS"/>
              </a:rPr>
              <a:t>Расшифруйте названия животных</a:t>
            </a:r>
            <a:br>
              <a:rPr sz="4000"/>
            </a:br>
            <a:r>
              <a:rPr b="1" i="1" lang="ru-RU" sz="4000" spc="-1" strike="noStrike">
                <a:solidFill>
                  <a:srgbClr val="0066ff"/>
                </a:solidFill>
                <a:latin typeface="Trebuchet MS"/>
              </a:rPr>
              <a:t>ЩЕКОН         БАОБЧАК           МУЙВЕРА       ЩЕЯКАР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66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6836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54a021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54a021"/>
                </a:solidFill>
                <a:latin typeface="Times New Roman"/>
              </a:rPr>
              <a:t>Я для себя сделал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54a021"/>
                </a:solidFill>
                <a:latin typeface="Times New Roman"/>
              </a:rPr>
              <a:t>открытие: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54a021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54a021"/>
                </a:solidFill>
                <a:latin typeface="Times New Roman"/>
              </a:rPr>
              <a:t>Меня удивило: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54a021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54a021"/>
                </a:solidFill>
                <a:latin typeface="Times New Roman"/>
              </a:rPr>
              <a:t>Оказывается, что: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WordArt 4"/>
          <p:cNvSpPr txBox="1"/>
          <p:nvPr/>
        </p:nvSpPr>
        <p:spPr>
          <a:xfrm>
            <a:off x="1979640" y="620640"/>
            <a:ext cx="5040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Unicode MS"/>
              </a:rPr>
              <a:t>Мои открыт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Unicode MS"/>
              </a:rPr>
              <a:t>на урок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520" name="Picture 5" descr="cveta-1221"/>
          <p:cNvPicPr/>
          <p:nvPr/>
        </p:nvPicPr>
        <p:blipFill>
          <a:blip r:embed="rId1"/>
          <a:stretch/>
        </p:blipFill>
        <p:spPr>
          <a:xfrm>
            <a:off x="6877080" y="2781360"/>
            <a:ext cx="1708200" cy="309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WordArt 4"/>
          <p:cNvSpPr txBox="1"/>
          <p:nvPr/>
        </p:nvSpPr>
        <p:spPr>
          <a:xfrm>
            <a:off x="1476360" y="476280"/>
            <a:ext cx="647856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66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Monotype Corsiva"/>
              </a:rPr>
              <a:t>Спасиб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66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66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Monotype Corsiva"/>
              </a:rPr>
              <a:t>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66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66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Monotype Corsiva"/>
              </a:rPr>
              <a:t>урок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66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push dir="r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Он-он-он, он-он-он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у меня зазвонил телефон.</a:t>
            </a:r>
            <a:br>
              <a:rPr sz="3200"/>
            </a:b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ыр-ыр-ыр, ыр-ыр-ыр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любит воду Мойдодыр.</a:t>
            </a:r>
            <a:br>
              <a:rPr sz="3200"/>
            </a:b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Ил-ил-ил, ил-ил-и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Крокодил солнце в небе проглотил.</a:t>
            </a:r>
            <a:br>
              <a:rPr sz="3200"/>
            </a:b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Ца-ца-ца, ца-ца-ца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нынче Муха-Цокотуха именинница.</a:t>
            </a:r>
            <a:br>
              <a:rPr sz="3200"/>
            </a:b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Ит-ит-ит, ит-ит-ит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добрый доктор Айболи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927A-0363-4DBF-A7DC-9EC29391C48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E3E3-DE02-4845-B1FD-7E047D781A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6" name="WordArt 4"/>
          <p:cNvSpPr txBox="1"/>
          <p:nvPr/>
        </p:nvSpPr>
        <p:spPr>
          <a:xfrm>
            <a:off x="1403280" y="333360"/>
            <a:ext cx="6912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50000">
                      <a:srgbClr val="ffff99"/>
                    </a:gs>
                    <a:gs pos="100000">
                      <a:srgbClr val="6699f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Verdana"/>
              </a:rPr>
              <a:t>Назовите автора 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50000">
                    <a:srgbClr val="ffff99"/>
                  </a:gs>
                  <a:gs pos="100000">
                    <a:srgbClr val="6699ff"/>
                  </a:gs>
                </a:gsLst>
                <a:lin ang="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50000">
                      <a:srgbClr val="ffff99"/>
                    </a:gs>
                    <a:gs pos="100000">
                      <a:srgbClr val="6699f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Verdana"/>
              </a:rPr>
              <a:t>и произведение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50000">
                    <a:srgbClr val="ffff99"/>
                  </a:gs>
                  <a:gs pos="100000">
                    <a:srgbClr val="6699ff"/>
                  </a:gs>
                </a:gsLst>
                <a:lin ang="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477" name="Picture 5" descr="post-3-13175764914438"/>
          <p:cNvPicPr/>
          <p:nvPr/>
        </p:nvPicPr>
        <p:blipFill>
          <a:blip r:embed="rId2"/>
          <a:stretch/>
        </p:blipFill>
        <p:spPr>
          <a:xfrm>
            <a:off x="6156360" y="2349360"/>
            <a:ext cx="2795400" cy="4104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8" name="Picture 6" descr="imgv710"/>
          <p:cNvPicPr/>
          <p:nvPr/>
        </p:nvPicPr>
        <p:blipFill>
          <a:blip r:embed="rId3"/>
          <a:stretch/>
        </p:blipFill>
        <p:spPr>
          <a:xfrm>
            <a:off x="3203640" y="2349360"/>
            <a:ext cx="281448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9" name="Picture 7" descr="1301321257_putanica"/>
          <p:cNvPicPr/>
          <p:nvPr/>
        </p:nvPicPr>
        <p:blipFill>
          <a:blip r:embed="rId4"/>
          <a:stretch/>
        </p:blipFill>
        <p:spPr>
          <a:xfrm>
            <a:off x="179280" y="2349360"/>
            <a:ext cx="2845080" cy="4104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0" name="тараканище (mp3cut.ru).mp3" descr=""/>
          <p:cNvPicPr/>
          <p:nvPr/>
        </p:nvPicPr>
        <p:blipFill>
          <a:blip r:embed="rId5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81" name="мойдодыр (mp3cut.ru).mp3" descr=""/>
          <p:cNvPicPr/>
          <p:nvPr/>
        </p:nvPicPr>
        <p:blipFill>
          <a:blip r:embed="rId6"/>
          <a:stretch/>
        </p:blipFill>
        <p:spPr>
          <a:xfrm>
            <a:off x="7554960" y="30830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900000" y="907920"/>
            <a:ext cx="73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7f7f7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WordArt 4"/>
          <p:cNvSpPr txBox="1"/>
          <p:nvPr/>
        </p:nvSpPr>
        <p:spPr>
          <a:xfrm>
            <a:off x="324000" y="260280"/>
            <a:ext cx="8640720" cy="633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Рыбе - вода, птице -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воздух, зверю – лес, горы.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А человеку нужна Родина.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И охранять природу –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значит охранять Родину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(М.И. Пришвин)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179280" y="1197000"/>
            <a:ext cx="8569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Й</a:t>
            </a:r>
            <a:r>
              <a:rPr b="1" lang="ru-RU" sz="6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8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88" name="Picture 6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2736720" cy="1865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179280" y="2924280"/>
            <a:ext cx="2521080" cy="18730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8" descr=""/>
          <p:cNvPicPr/>
          <p:nvPr/>
        </p:nvPicPr>
        <p:blipFill>
          <a:blip r:embed="rId4"/>
          <a:stretch/>
        </p:blipFill>
        <p:spPr>
          <a:xfrm>
            <a:off x="3348000" y="62064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9" descr=""/>
          <p:cNvPicPr/>
          <p:nvPr/>
        </p:nvPicPr>
        <p:blipFill>
          <a:blip r:embed="rId5"/>
          <a:stretch/>
        </p:blipFill>
        <p:spPr>
          <a:xfrm>
            <a:off x="3059280" y="2924280"/>
            <a:ext cx="2736720" cy="18540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0" descr=""/>
          <p:cNvPicPr/>
          <p:nvPr/>
        </p:nvPicPr>
        <p:blipFill>
          <a:blip r:embed="rId6"/>
          <a:stretch/>
        </p:blipFill>
        <p:spPr>
          <a:xfrm>
            <a:off x="6227640" y="620640"/>
            <a:ext cx="2376720" cy="1871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1" descr=""/>
          <p:cNvPicPr/>
          <p:nvPr/>
        </p:nvPicPr>
        <p:blipFill>
          <a:blip r:embed="rId7">
            <a:lum contrast="42000"/>
          </a:blip>
          <a:stretch/>
        </p:blipFill>
        <p:spPr>
          <a:xfrm>
            <a:off x="6084720" y="2924280"/>
            <a:ext cx="2808360" cy="18637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2" descr=""/>
          <p:cNvPicPr/>
          <p:nvPr/>
        </p:nvPicPr>
        <p:blipFill>
          <a:blip r:embed="rId8">
            <a:lum contrast="30000"/>
          </a:blip>
          <a:stretch/>
        </p:blipFill>
        <p:spPr>
          <a:xfrm>
            <a:off x="1835280" y="5235480"/>
            <a:ext cx="2447640" cy="16225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3" descr=""/>
          <p:cNvPicPr/>
          <p:nvPr/>
        </p:nvPicPr>
        <p:blipFill>
          <a:blip r:embed="rId9"/>
          <a:stretch/>
        </p:blipFill>
        <p:spPr>
          <a:xfrm>
            <a:off x="4572000" y="5261040"/>
            <a:ext cx="2376360" cy="1596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9280" y="404640"/>
            <a:ext cx="8604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П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авлин</a:t>
            </a:r>
            <a:r>
              <a:rPr b="1" i="1" lang="ru-RU" sz="54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О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рел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Е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нот </a:t>
            </a:r>
            <a:r>
              <a:rPr b="1" i="1" lang="ru-RU" sz="5400" spc="-1" strike="noStrike">
                <a:solidFill>
                  <a:srgbClr val="404040"/>
                </a:solidFill>
                <a:latin typeface="Trebuchet MS"/>
              </a:rPr>
              <a:t>             </a:t>
            </a: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Х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омяк</a:t>
            </a:r>
            <a:r>
              <a:rPr b="1" i="1" lang="ru-RU" sz="54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Р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ак </a:t>
            </a:r>
            <a:r>
              <a:rPr b="1" i="1" lang="ru-RU" sz="5400" spc="-1" strike="noStrike">
                <a:solidFill>
                  <a:srgbClr val="404040"/>
                </a:solidFill>
                <a:latin typeface="Trebuchet MS"/>
              </a:rPr>
              <a:t>                </a:t>
            </a: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О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слик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В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олк</a:t>
            </a:r>
            <a:r>
              <a:rPr b="1" i="1" lang="ru-RU" sz="5400" spc="-1" strike="noStrike">
                <a:solidFill>
                  <a:srgbClr val="404040"/>
                </a:solidFill>
                <a:latin typeface="Trebuchet MS"/>
              </a:rPr>
              <a:t>               </a:t>
            </a: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Т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етерев</a:t>
            </a:r>
            <a:r>
              <a:rPr b="1" i="1" lang="ru-RU" sz="5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А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льбатрос</a:t>
            </a:r>
            <a:r>
              <a:rPr b="1" i="1" lang="ru-RU" sz="5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А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кула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Я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гуар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4356000" y="404640"/>
            <a:ext cx="4445280" cy="5832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ebebeb">
                <a:alpha val="50000"/>
              </a:srgbClr>
            </a:outerShdw>
          </a:effectLst>
        </p:spPr>
      </p:pic>
      <p:pic>
        <p:nvPicPr>
          <p:cNvPr id="500" name="WordArt 4" descr="Циновка"/>
          <p:cNvPicPr/>
          <p:nvPr/>
        </p:nvPicPr>
        <p:blipFill>
          <a:blip r:embed="rId3"/>
          <a:stretch/>
        </p:blipFill>
        <p:spPr>
          <a:xfrm>
            <a:off x="158760" y="1609560"/>
            <a:ext cx="4035240" cy="2913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3:21:26Z</dcterms:created>
  <dc:creator>Admin</dc:creator>
  <dc:description/>
  <dc:language>en-US</dc:language>
  <cp:lastModifiedBy>Пользователь Windows</cp:lastModifiedBy>
  <dcterms:modified xsi:type="dcterms:W3CDTF">2022-02-15T06:38:16Z</dcterms:modified>
  <cp:revision>26</cp:revision>
  <dc:subject/>
  <dc:title>Слайд 1</dc:title>
</cp:coreProperties>
</file>