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B0F3B-4C59-4684-8986-26DA188A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CBD3F-39E5-4B68-B0F1-EC07C1A5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DD28-9623-4CD7-804E-C786F92B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D680F-ACE2-4167-BF0D-653E7FAC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B0BE-9603-46C0-B201-1F63E968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9A47-A0DB-4708-8912-573F9589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B51A-99DF-4C20-93E2-AB2FEC59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11ED-6CD0-4D19-8182-8C6789B1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9D30-7AC5-484A-9139-BCCB42EB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858A-22AA-4CCF-9F2A-6869B747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355A-952F-41F1-A0AB-D46C638E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5B767-42E0-4353-AA54-121AC4E0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4660-9482-4BAD-8D2E-44391B46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8FB9-551C-4923-9C80-D3302C6E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714C-5A00-4558-9842-9E5223D3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B64A-47A7-4C82-921F-509861EF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C54F-217E-4B07-82FC-1910DF51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ADBD-4FEC-4855-9D25-6940255D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5B382-AC76-4568-8F3B-81D6A915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0F56-EFB8-44D9-AF4E-EDC91A1D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7759-D6CD-4ACE-B9C5-5F6AA6F2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41984-4000-422E-9160-B63E40C8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D097-990B-4E42-A9F5-D0DB6217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F5D15-A783-4600-81D8-33790341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AAB1-49ED-4FFF-B40A-ABF92395B0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2289-F3BE-46B1-A935-1D5FCA32A1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lag_of_Saratov.png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ru.wikipedia.org/wiki/&#1060;&#1072;&#1081;&#1083;:Coat_of_Arms_of_Saratov.png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9;&#1082;&#1074;&#1072;" TargetMode="External"/><Relationship Id="rId2" Type="http://schemas.openxmlformats.org/officeDocument/2006/relationships/hyperlink" Target="http://ru.wikipedia.org/wiki/&#1042;&#1086;&#1083;&#1075;&#1072;" TargetMode="External"/><Relationship Id="rId3" Type="http://schemas.openxmlformats.org/officeDocument/2006/relationships/hyperlink" Target="http://ru.wikipedia.org/wiki/&#1042;&#1086;&#1083;&#1075;&#1072;" TargetMode="External"/><Relationship Id="rId4" Type="http://schemas.openxmlformats.org/officeDocument/2006/relationships/hyperlink" Target="http://ru.wikipedia.org/w/index.php?title=&#1053;&#1077;&#1092;&#1090;&#1103;&#1085;&#1072;&#1103;&amp;action=edit&amp;redlink=1" TargetMode="External"/><Relationship Id="rId5" Type="http://schemas.openxmlformats.org/officeDocument/2006/relationships/hyperlink" Target="http://ru.wikipedia.org/wiki/&#1055;&#1088;&#1080;&#1074;&#1086;&#1083;&#1078;&#1089;&#1082;&#1072;&#1103;_&#1074;&#1086;&#1079;&#1074;&#1099;&#1096;&#1077;&#1085;&#1085;&#1086;&#1089;&#1090;&#1100;" TargetMode="External"/><Relationship Id="rId6" Type="http://schemas.openxmlformats.org/officeDocument/2006/relationships/hyperlink" Target="http://ru.wikipedia.org/wiki/&#1057;&#1086;&#1082;&#1086;&#1083;&#1086;&#1074;&#1072;&#1103;_&#1075;&#1086;&#1088;&#1072;" TargetMode="External"/><Relationship Id="rId7" Type="http://schemas.openxmlformats.org/officeDocument/2006/relationships/hyperlink" Target="http://ru.wikipedia.org/wiki/&#1060;&#1072;&#1081;&#1083;:Saratov_Physical_Geography.png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7;&#1084;&#1087;&#1077;&#1088;&#1072;&#1090;&#1091;&#1088;&#1072;" TargetMode="External"/><Relationship Id="rId2" Type="http://schemas.openxmlformats.org/officeDocument/2006/relationships/hyperlink" Target="http://ru.wikipedia.org/wiki/&#1064;&#1082;&#1072;&#1083;&#1072;_&#1041;&#1086;&#1092;&#1086;&#1088;&#1090;&#1072;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тов – мой родной г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047760" cy="228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047760" cy="228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3047760" cy="228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30477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узей Боевой Сл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здан 6 мая 1999г. (старое здание действует с 1982 г.) по распоряжению правительства области. Музей включает уникальную в Поволжском регионе экспозицию военной техники и вооружения под открытым небом «Парк Победы - символ славы, нам вечно о героях говор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Музей Боевой Славы, Саратов"/>
          <p:cNvPicPr/>
          <p:nvPr/>
        </p:nvPicPr>
        <p:blipFill>
          <a:blip r:embed="rId1"/>
          <a:stretch/>
        </p:blipFill>
        <p:spPr>
          <a:xfrm>
            <a:off x="4876920" y="2514600"/>
            <a:ext cx="4012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ратовский государственный художественный музей им. А.Н.Радищ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общедоступный художественный музей в провинциальной России. Инициатива его создания принадлежала художнику Алексею Петровичу Боголюбову, внуку А.Н.Радищева. А.Н.Радищев родился и провел первые годы в Верхнем Аблязове, фамильном имении, находившемся в Саратовской губернии. В экспозиции музея представлены живопись, скульптура, предметы декоративно-прикладного искусства XIII-XX столетий, как отечественные так и зарубежные. Музей располагает лучшей в стране коллекцией живописи и графики А.П.Боголюбова. Гордостью музея являются произведения живописцев-саратовцев, крупнейших мастеров мирового изобразительного искусства: В.Э.Борисова-Мусатова, П.Н.Кузнецова, К.С.Петрова-Водкина. В настоящее время музейные фонды насчитывают свыше 25 000 экспонатов. Музейное собрание постоянно увеличивается. Расширяются и экспозиционные площади. Регулярно издаются музейные научные сборники, публикуются каталоги выставок, проводится ежегодные Боголюбовские чтения. Саратовский государственный художественный музей имени А.Н. Радищева принимает активное участие в культурной жизни города и страны. Произведения из его собрания часто экспонируются на всероссийских выставках, участвуют в выставочных проектах за рубеж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ей имеет два здания, оба строения, являются памятниками архитектуры федерального значения. Здание на ул. Радищева, 39 (фото справа) построено в 1883-1885 гг. по проекту архитектора И.В. Штрома. Здание на ул. Первомайская, 75 (фото слева), ранее принадлежало бывшей женской гимназии, построено в 1914-1915 гг. по проекту архитектора С.А. Каллистратова, и передано в дар музею администрацией города в 1994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Музей имени А.Н. Радищева, Саратов, ул. Радищева, 39"/>
          <p:cNvPicPr/>
          <p:nvPr/>
        </p:nvPicPr>
        <p:blipFill>
          <a:blip r:embed="rId1"/>
          <a:stretch/>
        </p:blipFill>
        <p:spPr>
          <a:xfrm>
            <a:off x="6019920" y="1981080"/>
            <a:ext cx="2469960" cy="1866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Музей имени А.Н. Радищева, Саратов, ул. Первомайская, 75"/>
          <p:cNvPicPr/>
          <p:nvPr/>
        </p:nvPicPr>
        <p:blipFill>
          <a:blip r:embed="rId2"/>
          <a:stretch/>
        </p:blipFill>
        <p:spPr>
          <a:xfrm>
            <a:off x="6095880" y="4038480"/>
            <a:ext cx="24703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ратовский государственный музей К.А. Феди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ткрыт в июне 1981г. Государственный музей К.А. Федина открыт в Саратове, на родине писателя в старинном здании бывшего Сретенского начального училища, где Федин учился в 1899 — 1901гг. С первых лет своего существования музей позиционировал себя как музей русской литературы XX века. Основу фондовых коллекций составляет архив К.А.Федина, который содержит уникальные документы, связанные с именами выдающихся деятелей литературы, культуры и искусства XIX — XX веков. Музей К.А. Федина по объему и составу музейных фондов не уступает крупнейшим литературным музеям России. Единиц хранения: 68354, из них 52672 предметов основного фонда. Рукописи (Н.Некрасова, А.Блока, В.Хлебникова, К.Федина, Б.Пастеранка, Н.Тихонова), письма (И.Тургенева, Ф.Достоевкого, А.Чехова, Р.Роллана, С.Цвейга, А.Франса, Е.Замятина, Вс.Иванова, М.Зощенко), редкие книжные издания XIX — XX века, книги с дарственными надписями (А.Блока, А.Ахматовой, К.Чуковского, О.Форш, В.Шишкова, Вс.Иванова, Н.Тихонова), фотографии, редкие изобразительные материалы(прижизненные графические портреты Л.Толстого, Ф.Сологуба, М.Кузмина, М.Волошина, Н.Гумилева, виды Петербурга работы М.Добужинского, Е.Лансере, А.Остроумовой-Лебедевой) представляют интерес не только для русских и зарубежных исследователей в области литературы и культуры XX века, студентов и учащихся, но и для широких слоев населения. На данный момент это единственная экспозиция в России, отражающая литературный процесс XX века во всей его противоречивой полноте и объективно представляющая творчество К.А. Федина — выдающегося русского писателя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дание, в котором располагается музей, является памятником архитектуры первой половины XVIII века. Здесь некогда находилась застава при выезде из города по Царицынскому тракту. Позднее здание перестроили: надстроили еще один этаж, пристроили просторную галерею с окнами в итальянском стиле. В начале XIX века — это полицейский участок, а во второй половине XIX было открыто начальное мужское Сретенское училище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11544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Музей К.А. Федина, Саратов"/>
          <p:cNvPicPr/>
          <p:nvPr/>
        </p:nvPicPr>
        <p:blipFill>
          <a:blip r:embed="rId1"/>
          <a:stretch/>
        </p:blipFill>
        <p:spPr>
          <a:xfrm>
            <a:off x="5410080" y="259092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ратовский областной музей краевед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аратовский областной музей краеведения — один из старейших в Поволжье. Днем основания считается 12 (24) декабря 1886 года, когда была создана Саратовская учёная архивная комиссия, при которой сформировался историко-археологический музей. В фондах, насчитывающих около 400 тыс. предметов, собраны богатейшие археологические, этнографические, палеонтологические, энтомологические коллекции, образцы рукописной и старопечатной книги, предметы религиозного культа, плакатной графики, нумизматики, материалы по истории политической, экономической и культурной жизни города и края. Особый интерес представляют мемориальные коллекции Ю.А. Гагарина, авиаконструктора О.К. Антонова, выдающегося ученого-генетика Н.И. Вавилова, композитора А.Г. Шнитке, актёров Б.А. Бабочкина, О.П. Табакова, О.И. Янковского, Е.В. Миронова. Музей обладает единственной в стране коллекцией материалов о П.А. Столыпине, раритетными экспонатами о голоде в Поволжье в 1921 году, об истории немцев Поволжь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Музей Краеведения, Саратов"/>
          <p:cNvPicPr/>
          <p:nvPr/>
        </p:nvPicPr>
        <p:blipFill>
          <a:blip r:embed="rId1"/>
          <a:stretch/>
        </p:blipFill>
        <p:spPr>
          <a:xfrm>
            <a:off x="5410080" y="259092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ратовский музей-усадьба Н.Г.Чернышевск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7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мплекс, включающий мемориальные сооружения (дом семьи Чернышевских, флигель О.С.Чернышевской, дом Пыпиных, в котором родилась мать Н.Г.Чернышевского, флигель Пыпиных) и здание, в котором развернута монографическая историко-литературная экспозиция «Отечества достойный сын». Расположение музейного комплекса на территории городской провинциальной усадьбы первой половины XIX в., хранящей культуру разночинного сословия, определяет его уникальность. Мемориально-бытовая экспозиция дома Чернышевских раскрывает в музейном повествовании жизнь семьи провинциального священника, в которой рос одаренный мальчик. Живописная усадьба с постройками XIX в., простой, уютный, строгий дом, вещи, хранящие память о его обитателях, уникальные мемориальные экспонаты, высокий уровень экскурсионного обслуживания — все это делает музей привлекательным для широких слоев посетител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Музей Н.Г. Чернышевского, Саратов"/>
          <p:cNvPicPr/>
          <p:nvPr/>
        </p:nvPicPr>
        <p:blipFill>
          <a:blip r:embed="rId1"/>
          <a:stretch/>
        </p:blipFill>
        <p:spPr>
          <a:xfrm>
            <a:off x="5181480" y="2286000"/>
            <a:ext cx="370836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ратовский музей стекл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узей стекла — это необычный и уникальный музей, в котором представлена богатая экспозиция изделий из стекла и хрусталя. Он является хранителем лучших традиций Саратовского завода технического стекла и свидетелем достижений группы компаний «Объединённые стекольные заводы Саратова». Изделия саратовских мастеров привлекают внимание изяществом форм и оригинальным дизайном. Каждое из них - произведение искусства. А начиналась история музея с ассортиментного кабинета, где собирались образцы выпускаемой серийной продукции, а также экспериментальных изделий. Со временем небольшая экспозиция стала крупной коллекцией, насчитывающей более 5 тысяч экспонатов. Сегодня музей стекла – это одна из самых популярных достопримечательностей Саратовской области. Каждый год его посещают тысячи человек, среди которых российские и иностранные делегации, представители исполнительной и законодательной власти, общественных объединений, руководители предприятий, студенты, школьники и многие друг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Музей Стекла, Саратов"/>
          <p:cNvPicPr/>
          <p:nvPr/>
        </p:nvPicPr>
        <p:blipFill>
          <a:blip r:embed="rId1"/>
          <a:stretch/>
        </p:blipFill>
        <p:spPr>
          <a:xfrm>
            <a:off x="5410080" y="259092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ей-усадьба В.Э. Борисова-Муса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1984 году решением Городского исполкома Совета народных депута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игель В.Э. Борисова-Мусатова был передан на баланс музея имени А.Н. Радищева. Зашла речь о реставрации флигеля и открытия мемориального Музея В.Э. Борисова-Мусатова как филиала музея имени А.Н. Радищева. Сотрудники музея Людмила Ефремова, Елена Савельева, Галина Лукьянова начали активную деятельность по собранию материалов о жизни художника. С 1989 года Елена Савельева возглавляла все работы, касающиеся реставрации музея. Но в годы перестройки, крушения Советского Союза, отсутствия реставрационной базы в самом Саратове дело с восстановлением усадьбы В.Э. Борисова-Мусатова сильно затянулось. Работы то начинались, то прекращались в самое неподходящее время. Городскими властями не был решен вопрос первостепенной важности - отселение жильцов из 2-х этажного дома, принадлежавшего семье Мусатовых. В итоге из предполагаемого музейного комплекса в апреле 2000 года в год 130-летия со дня рождения В.Э. Борисова-Мусатова был окрыт мемориальный флигель. Имея еще ряд недоделок, молодой музей активно включился в работу с посетителями и выставочную деятельность. Тем не менее, сейчас самым актуальным вопросом остается отселение жильцов из 2-х этажного дома и восстановление городской усадьбы Мусатовых - музейного комплекса в полном объеме, как это задумывалось изнач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Музей-усадьба В.Э. Борисова-Мусатова, Саратов"/>
          <p:cNvPicPr/>
          <p:nvPr/>
        </p:nvPicPr>
        <p:blipFill>
          <a:blip r:embed="rId1"/>
          <a:stretch/>
        </p:blipFill>
        <p:spPr>
          <a:xfrm>
            <a:off x="5486400" y="243828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родный музей Ю.А. Гага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648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музей, открытый ещё при жизни космонавта. Официально музей был открыт 5 января 1965 года. На открытие присутсвовал и виновник торжества - Ю.А.Гагарин. Сегодня музей располагает уникальными документами, фотографиями, книгами, кино и видеокадрами, рассказывающими о саратовском периоде жизни Ю.А.Гагарина. В экспозиции рассказывается об учебе будущего космонавта в индустриальном техникуме и аэроклубе, парашютной подготоке в г.Энгельсе в составе первого отряда космонавтов, его приземлении 12 апреля 1961 года на саратовской земле и приезде Юрия Алексеевича в Саратов в январе 1965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Народный музей Ю.А. Гагарина, Саратов"/>
          <p:cNvPicPr/>
          <p:nvPr/>
        </p:nvPicPr>
        <p:blipFill>
          <a:blip r:embed="rId1"/>
          <a:stretch/>
        </p:blipFill>
        <p:spPr>
          <a:xfrm>
            <a:off x="5257800" y="251460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тнографиче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нографический музей создан в 1993 г. после перепрофилирования мемориального музея - квартиры семьи Ульяновых. Является филиалом Саратовского областного музея краеведения. Расположен в 2-х этажном особняке, построенном в стиле «модерн» в конце XIX - начале XX веков. Здание представляет интерес как памятник архитектуры, типичный для провинциальной городской застройки. Собственных фондов музей не имеет. Выставка «Народы Саратовского Поволжья конца XIX - начала XX веков» знакомит с национальной одеждой, орудиями труда, предметами декоративно-прикладного искусства, занятиями, культурой и бытом русских, украинцев, немцев, мордвы, татар, чувашей, башкир, калмыков. Часть экспозиции музея посвящена жизни и быту саратовской интеллигенции. Представлены интерьеры столовой, гостиной, кабинета, спальни. Выставка «Христианские праздники» рассказывает о главных праздниках христиан трёх конфессий: православной, католической, лютеранской - Пасхе, Рожде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Этнографический музей, Саратов"/>
          <p:cNvPicPr/>
          <p:nvPr/>
        </p:nvPicPr>
        <p:blipFill>
          <a:blip r:embed="rId1"/>
          <a:stretch/>
        </p:blipFill>
        <p:spPr>
          <a:xfrm>
            <a:off x="5334120" y="236232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тов – мой родной г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Мост через волгу"/>
          <p:cNvPicPr/>
          <p:nvPr/>
        </p:nvPicPr>
        <p:blipFill>
          <a:blip r:embed="rId1"/>
          <a:stretch/>
        </p:blipFill>
        <p:spPr>
          <a:xfrm>
            <a:off x="1676520" y="1981080"/>
            <a:ext cx="5743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лаг и Герб города Сара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Флаг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048120"/>
            <a:ext cx="3504960" cy="2336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Герб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048120"/>
            <a:ext cx="1992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ко-географическая характерист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ратов расположен в 858 км к юго-востоку от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Моск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 правом высоком берегу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Волг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Город протянулся вдоль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Волг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34 км от реки Гусёлка на севере до железнодорожной станции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Нефтя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юге. Центральная и южная части города расположены в котловине (высота над уровнем моря 50—80 метров), окружённой с трёх сторон невысокими горами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Приволжской возвыше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Соколов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165 м), Лысая (286 м), Лопатина (274 м), Алтынная (251 м), Увек (135 м). Растительная зона: разнотравная лесостепь. Почвы: чернозёмы обыкновенные и юж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2590920"/>
            <a:ext cx="2457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има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имат Саратова умеренно-континентальный. Континентальность климата Саратова выше московской, для города характерна длительная, но не холодная зима и сухое, часто засушливое лето. Самый холодный месяц — январь, самый тёплый — июль. Осадки выпадают равномерно в течение года, меньше — вес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годовая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температу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+6,7 C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годовая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скорость вет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3,3 м/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годовая влажность воздуха — 69 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90720" y="1371600"/>
            <a:ext cx="3047760" cy="2284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181480" y="1371600"/>
            <a:ext cx="29718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вание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несколько гипотез о названии Саратова, но общепринятой на данный момент нет. В недавнем прошлом считалось, что Саратов получил своё название по Соколовой горе, которая называлась по-татарски «сары тау» — «жёлтая гора». Однако ныне эта гипотеза опровергнута, так как Соколовая никогда не была жёлтой, и на ней всегда рос лес. Есть предположение, что название города произошло от слов «сар атав» — «низменный остров» или «сарык атов» — «ястребиный остров». Есть предположение, что Саратов получил своё название от скифско-иранского гидронима «сарат». Существует также множество гипотез, которые находят куда меньшее подтверждение, чем вышеприведё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33526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дминистративное дел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 Саратов разделён на 6 административных район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Заводской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ктябрьский район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Фрунзенский район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ировский район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Волжский район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Ленинский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52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пределение численности населения по район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95280" y="1828800"/>
          <a:ext cx="647712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647712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ая численность постоянного населения в городе Саратове на 1 января 2010 года составила 827 200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узеи Сара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Дом-музей Павла Кузнецова, Саратов"/>
          <p:cNvPicPr/>
          <p:nvPr/>
        </p:nvPicPr>
        <p:blipFill>
          <a:blip r:embed="rId1"/>
          <a:stretch/>
        </p:blipFill>
        <p:spPr>
          <a:xfrm>
            <a:off x="1143000" y="1676520"/>
            <a:ext cx="2797200" cy="2114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Музей имени А.Н. Радищева, Саратов, ул. Первомайская, 75"/>
          <p:cNvPicPr/>
          <p:nvPr/>
        </p:nvPicPr>
        <p:blipFill>
          <a:blip r:embed="rId2"/>
          <a:stretch/>
        </p:blipFill>
        <p:spPr>
          <a:xfrm>
            <a:off x="1143000" y="3962520"/>
            <a:ext cx="2895480" cy="218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Музей Н.Г. Чернышевского, Саратов"/>
          <p:cNvPicPr/>
          <p:nvPr/>
        </p:nvPicPr>
        <p:blipFill>
          <a:blip r:embed="rId3"/>
          <a:stretch/>
        </p:blipFill>
        <p:spPr>
          <a:xfrm>
            <a:off x="5432400" y="1792440"/>
            <a:ext cx="2720880" cy="205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618160" y="3962520"/>
            <a:ext cx="1925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ратовский дом-музей Павла Варфоломеевича Кузнец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м-музей Кузнецова официально был открыт в январе 2001г. Кузнецов родился в Саратове в 1878 г., жил на Царицынской (Первомайской) улице. Воспитанник рисовальной школы «Общества любителей изящных искусств». Позже, Кузнецов приехал в Москву для продолжения художественного образования. Он учился в Московском училище живописи, ваяния и зодчества у К.А. Коровина и В.А. Серова. В 1905 г. совершил путешествие в Париж. Заволжские степи – мир, знакомый художнику с детства, в его картинах предстает как идеальный мир, где в гармонии слились природа, животные, люди. Изысканные цвета живописи, индивидуальная манера рисунка, фресковая монументальность образов сделали манеру Кузнецова узнавае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Дом-музей Павла Кузнецова, Саратов"/>
          <p:cNvPicPr/>
          <p:nvPr/>
        </p:nvPicPr>
        <p:blipFill>
          <a:blip r:embed="rId1"/>
          <a:stretch/>
        </p:blipFill>
        <p:spPr>
          <a:xfrm>
            <a:off x="4724280" y="2300400"/>
            <a:ext cx="42166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08T18:48:3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