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6.jpeg" ContentType="image/jpeg"/>
  <Override PartName="/ppt/media/image7.wmf" ContentType="image/x-wmf"/>
  <Override PartName="/ppt/media/image8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C5B681-EEDD-42B3-9752-1F61C33BC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6964F0-D4AC-49EF-865B-6C87F895A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EB45E3-7A0D-4C91-B216-D04842E7C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F6C7EB-E383-4AC2-9C9B-1B050A222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E5151-FDB7-4ED4-A163-57B85C411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666DF-378B-47B4-A7F2-FE791252F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F82B8-B552-4E23-BD84-D4BD92173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9D112-252A-44FA-8B96-A20EE9EF6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AAB41-8949-4659-AD18-59BF8AC55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3A362-3CD8-425C-AC51-8C99815B0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15804-3DCB-4126-9A79-5A697848A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48CD2C-2CFC-423F-A028-2F5AB5D7A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D88F3-40A8-44F5-88F9-EE40F8222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C852E-F216-46FB-A238-5B5B36D8F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1607F-4BFD-4AFC-AEF6-C42C1C6A9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A3F1F-EED5-48D1-A46A-C3F8B8232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444E1-1292-45BF-83BC-64C613E32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644DC7-29F8-4AC8-A1CA-A082AE7A0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784DBC-59E1-4A12-80F5-B707278F1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D5C279-0B23-4B01-B484-60C5335F1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9D130F-E960-4F8D-902D-B2022BB90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708E67-190F-401C-BCD5-44BA1C3F8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E3ABED-53A6-47BA-8BE4-C48AE9AA9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090673-5816-430A-9ACB-F41612216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66DB7-AF62-417A-8524-F0BD923977DE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E2106-10FE-4FC9-B94B-3C48EAC3E13C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2120" y="38937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Times New Roman"/>
              </a:rPr>
              <a:t>Сборка схемы нереверсивного пуска трёхфазного асинхронного двигателя</a:t>
            </a:r>
            <a:r>
              <a:rPr b="0" lang="ru-RU" sz="44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1760" y="5409720"/>
            <a:ext cx="800100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7d"/>
                </a:solidFill>
                <a:latin typeface="Times New Roman"/>
              </a:rPr>
              <a:t>Подготовил : мастер производственного обучения Форат Александр Эвальдови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7d"/>
                </a:solidFill>
                <a:latin typeface="Times New Roman"/>
              </a:rPr>
              <a:t>ФКП Образовательного учреждения № 7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5" descr=""/>
          <p:cNvPicPr/>
          <p:nvPr/>
        </p:nvPicPr>
        <p:blipFill>
          <a:blip r:embed="rId1"/>
          <a:stretch/>
        </p:blipFill>
        <p:spPr>
          <a:xfrm>
            <a:off x="1905120" y="685800"/>
            <a:ext cx="4343400" cy="34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Схема 1" descr=""/>
          <p:cNvPicPr/>
          <p:nvPr/>
        </p:nvPicPr>
        <p:blipFill>
          <a:blip r:embed="rId1"/>
          <a:stretch/>
        </p:blipFill>
        <p:spPr>
          <a:xfrm>
            <a:off x="450720" y="603360"/>
            <a:ext cx="8242560" cy="61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Times New Roman"/>
              </a:rPr>
              <a:t>Цель урока: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бразователь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учить обучающихся собирать принципиальную схему нереверсивного пуска трехфазного асинхронного двигателя, изучить принцип работы схем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крепить у обучающихся технические знания о различных типах схем нереверсивного пуска асинхронного электродвигател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азвивающа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звивать у обучающихся электромонтёров умение анализировать, контролировать свои действия; решать проблемные ситуации и применять на практике имеющиеся зн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Материально-техническое оснащение урок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ерсональный компьютер с периферийными устройствами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ультимедийный проектор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лектродвигатель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агнитный пускатель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нопочная станция.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епловое реле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нтактные колод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онтажный нож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тверт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во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нструкционная кар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арточки – зад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4" descr="http://sanita.kiev.ua/images/yootheme/demo/home_slideshow01.jpg"/>
          <p:cNvPicPr/>
          <p:nvPr/>
        </p:nvPicPr>
        <p:blipFill>
          <a:blip r:embed="rId1"/>
          <a:stretch/>
        </p:blipFill>
        <p:spPr>
          <a:xfrm>
            <a:off x="4343400" y="2133720"/>
            <a:ext cx="433548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Times New Roman"/>
              </a:rPr>
              <a:t>Опрос по карточкам – задания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значение состав и принцип работы магнитного пускателя.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значение и устройство кнопок управле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ехника безопасности при сборке электрических сх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4" descr="http://cdn.elec.ru/_thumb/800x600/files/2012/04/04/PKE.jpg"/>
          <p:cNvPicPr/>
          <p:nvPr/>
        </p:nvPicPr>
        <p:blipFill>
          <a:blip r:embed="rId1"/>
          <a:stretch/>
        </p:blipFill>
        <p:spPr>
          <a:xfrm>
            <a:off x="685800" y="3363840"/>
            <a:ext cx="3809880" cy="29718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5" descr="C:\Users\1\Desktop\Фото Общяк\DSC02312.JPG"/>
          <p:cNvPicPr/>
          <p:nvPr/>
        </p:nvPicPr>
        <p:blipFill>
          <a:blip r:embed="rId2"/>
          <a:stretch/>
        </p:blipFill>
        <p:spPr>
          <a:xfrm>
            <a:off x="4800600" y="3429000"/>
            <a:ext cx="3774960" cy="283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c00000"/>
                </a:solidFill>
                <a:latin typeface="Times New Roman"/>
              </a:rPr>
              <a:t>Нереверсивное управление асинхронным электродвигателем с короткозамкнутым ротором, осуществляется контакторам КМ 1. Сборка схемы проходит в два этапа: сборка цепей управления и сборка силовой цеп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Этап  1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Контакт И разомкнутой кнопки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BC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единяется с контактом Ж кнопки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BT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и разомкнутым контактом Л блок-контакта магнитного пускателя. Контакт Е кнопки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BT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подключается к фазе В. Контакт М разомкнутой кнопки SBC соединяется с контактом К блок-контакта магнитного пускателя и обмоткой магнитного пускателя. Обмотка магнитного пускателя соединяется с контактом Д теплового реле. Контакт Г теплового реле соединяется с фазой 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Этап 2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Силовые провода А В С подключаются к контактам магнитного пускателя А Б В. С контактов магнитного пускателя О Р подключаем провода на термоэлементы теплового реле, оставшийся провод (П) подключаем к асинхронному электродвигателю(Т).  Противоположные контакты термоэлементов С и У теплового реле подключаем к двигателю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ля отключения электродвигателя нажимают кнопку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BT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зрывая тем самым цепь в которую включены обмотка магнитного пускателя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При перегрузке нагреваются термоэлементы теплового реле, деформируется биметаллическая пластина теплового реле размыкая тем самым контакты КК. Цепь питания обмотки магнитного пускателя разрывается, пускатель возвращается в исходное положение, электро- двигатель отключае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Times New Roman"/>
              </a:rPr>
              <a:t>Задание на урок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зучить инструкционную карт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еречертить в тетрадь электрическую схему в соответствие с требованиями ГОС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рганизовать рабочее мест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брать схему нереверсивного пуска асинхронного трехфазного электродвигател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блюдать правила техники безопас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ставить отчёт о проделанной работ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4" descr="http://svetlov-shop.ru/image/cache/data/i/kp/cc3ddcf2e684f497111605a1e1aa4303/110752-500x500.png"/>
          <p:cNvPicPr/>
          <p:nvPr/>
        </p:nvPicPr>
        <p:blipFill>
          <a:blip r:embed="rId1"/>
          <a:stretch/>
        </p:blipFill>
        <p:spPr>
          <a:xfrm>
            <a:off x="6400800" y="4121280"/>
            <a:ext cx="2247840" cy="22478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5" descr="http://www.ljplus.ru/img3/g/i/gilliano/02.jpg"/>
          <p:cNvPicPr/>
          <p:nvPr/>
        </p:nvPicPr>
        <p:blipFill>
          <a:blip r:embed="rId2"/>
          <a:stretch/>
        </p:blipFill>
        <p:spPr>
          <a:xfrm>
            <a:off x="685800" y="4648320"/>
            <a:ext cx="2425680" cy="16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62012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7d"/>
                </a:solidFill>
                <a:latin typeface="Times New Roman"/>
              </a:rPr>
              <a:t>Технология выполнения работы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1532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зучить принципиальную электрическую схем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зучить принцип работы, назначение элемен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изуальным осмотром проверить целостность всех элемен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становить на стенд кнопочную станцию, тепловое реле, магнитный пускател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резать провода по длин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льзуясь схемой электрической принципиальной собрать схему управл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верить работоспособность схемы управления (под наблюдением мастера включить в сеть).Устранить неисправ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брать силовую часть схем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д наблюдением мастера произвести пуск электродвигател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блюдать технику безопасност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Times New Roman"/>
              </a:rPr>
              <a:t>Схема нереверсивного пуска трехфазного асинхронного электродвигател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Object 4"/>
          <p:cNvGraphicFramePr/>
          <p:nvPr/>
        </p:nvGraphicFramePr>
        <p:xfrm>
          <a:off x="1447920" y="2057400"/>
          <a:ext cx="6362640" cy="3666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2057400"/>
                    <a:ext cx="6362640" cy="366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Александр</cp:lastModifiedBy>
  <dcterms:modified xsi:type="dcterms:W3CDTF">2023-06-07T15:54:09Z</dcterms:modified>
  <cp:revision>1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