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9039-715C-46F3-ADF8-11B87A6D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3801-3C56-443F-A8C4-FA624D66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422D-77D5-4B9E-8F8E-E01BA985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CECD-9A92-4C5E-A5E5-1FBC5251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A256-BD43-4974-8A9B-EBE84082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B3EE-949B-4575-B577-EFA19679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1563-DE2B-433F-A9FF-3EA7F5F1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4BB9-B4FA-4A12-A742-EADD5D38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65F9-53A3-4B40-82B3-014E0616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E080-B874-47CD-AD77-B784AA0E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3AE-8796-4D7E-BF06-8F1909F8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B7C3-A5F6-4E0D-B327-DAA29845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B19D-AA4D-4E00-BC83-306CA36E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BFA6-FD33-4EB0-B099-DFCBC28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3B2C-90E4-4479-A419-F5E6E022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D965-C78D-4A6A-9968-E6220C55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9C66-B9BA-4184-8DAF-23CB7A0E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F5EA-5A2E-483E-86A5-8AA3C140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9D1D-2561-44EA-9FF6-4883BAE4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F0E5-E03B-4053-B724-974C9DC5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458F-5915-45B9-8C84-F21D0684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64FD-4502-4B55-9C80-7C7CA575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889B-F01C-42D6-A2A1-3428F8AC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4B21-2AE0-459A-B713-9D768FF7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C8E-2C7B-483A-918D-ECC0390AC3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12E8-EAB5-466A-987B-745FAA1BF0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9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Сборка схемы нереверсивного пуска трёхфазного асинхронного двигателя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54097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Подготовил : мастер производственного обучения Форат Александр Эваль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ФКП Образовательного учреждения №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434340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хема 1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24256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Цель уро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 обучающихся собирать принципиальную схему нереверсивного пуска трехфазного асинхронного двигателя, изучить принцип работы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ить у обучающихся технические знания о различных типах схем нереверсивного пуска асинхронного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в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 обучающихся электромонтёров умение анализировать, контролировать свои действия; решать проблемные ситуации и применять на практике имеющиеся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атериально-техническое оснащение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с периферийными устройств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йный проекто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двигател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гнитный пуска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опочная станция.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ое рел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актные кол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тажный но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р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рукционная к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чки –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sanita.kiev.ua/images/yootheme/demo/home_slideshow01.jpg"/>
          <p:cNvPicPr/>
          <p:nvPr/>
        </p:nvPicPr>
        <p:blipFill>
          <a:blip r:embed="rId1"/>
          <a:stretch/>
        </p:blipFill>
        <p:spPr>
          <a:xfrm>
            <a:off x="4343400" y="2133720"/>
            <a:ext cx="4335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Опрос по карточкам – зада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начение состав и принцип работы магнитного пускателя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начение и устройство кнопок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ка безопасности при сборке электрических сх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http://cdn.elec.ru/_thumb/800x600/files/2012/04/04/PKE.jpg"/>
          <p:cNvPicPr/>
          <p:nvPr/>
        </p:nvPicPr>
        <p:blipFill>
          <a:blip r:embed="rId1"/>
          <a:stretch/>
        </p:blipFill>
        <p:spPr>
          <a:xfrm>
            <a:off x="685800" y="336384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1\Desktop\Фото Общяк\DSC02312.JPG"/>
          <p:cNvPicPr/>
          <p:nvPr/>
        </p:nvPicPr>
        <p:blipFill>
          <a:blip r:embed="rId2"/>
          <a:stretch/>
        </p:blipFill>
        <p:spPr>
          <a:xfrm>
            <a:off x="4800600" y="3429000"/>
            <a:ext cx="37749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ереверсивное управление асинхронным электродвигателем с короткозамкнутым ротором, осуществляется контакторам КМ 1. Сборка схемы проходит в два этапа: сборка цепей управления и сборка силовой ц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 1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нтакт И разомкнутой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единяется с контактом Ж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разомкнутым контактом Л блок-контакта магнитного пускателя. Контакт Е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ключается к фазе В. Контакт М разомкнутой кнопки SBC соединяется с контактом К блок-контакта магнитного пускателя и обмоткой магнитного пускателя. Обмотка магнитного пускателя соединяется с контактом Д теплового реле. Контакт Г теплового реле соединяется с фазой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овые провода А В С подключаются к контактам магнитного пускателя А Б В. С контактов магнитного пускателя О Р подключаем провода на термоэлементы теплового реле, оставшийся провод (П) подключаем к асинхронному электродвигателю(Т).  Противоположные контакты термоэлементов С и У теплового реле подключаем к двигател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тключения электродвигателя нажимают кнопк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ая тем самым цепь в которую включены обмотка магнитного пускате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При перегрузке нагреваются термоэлементы теплового реле, деформируется биметаллическая пластина теплового реле размыкая тем самым контакты КК. Цепь питания обмотки магнитного пускателя разрывается, пускатель возвращается в исходное положение, электро- двигатель отклю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Times New Roman"/>
              </a:rPr>
              <a:t>Задание на ур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инструкционную ка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чертить в тетрадь электрическую схему в соответствие с требованиями Г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овать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схему нереверсивного пуска асинхронного трехфазного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правила техники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отчёт о проделан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http://svetlov-shop.ru/image/cache/data/i/kp/cc3ddcf2e684f497111605a1e1aa4303/110752-500x500.png"/>
          <p:cNvPicPr/>
          <p:nvPr/>
        </p:nvPicPr>
        <p:blipFill>
          <a:blip r:embed="rId1"/>
          <a:stretch/>
        </p:blipFill>
        <p:spPr>
          <a:xfrm>
            <a:off x="6400800" y="412128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ljplus.ru/img3/g/i/gilliano/02.jpg"/>
          <p:cNvPicPr/>
          <p:nvPr/>
        </p:nvPicPr>
        <p:blipFill>
          <a:blip r:embed="rId2"/>
          <a:stretch/>
        </p:blipFill>
        <p:spPr>
          <a:xfrm>
            <a:off x="685800" y="4648320"/>
            <a:ext cx="24256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Технология выполнения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принципиальную электр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принцип работы, назначение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зуальным осмотром проверить целостность все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на стенд кнопочную станцию, тепловое реле, магнитный пуска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езать провода по дл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ьзуясь схемой электрической принципиальной собрать схему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ить работоспособность схемы управления (под наблюдением мастера включить в сеть).Устранить неиспра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силовую часть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наблюдением мастера произвести пуск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технику безопас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Схема нереверсивного пуска трехфазного асинхронного электродвиг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447920" y="2057400"/>
          <a:ext cx="636264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3626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23-06-07T15:54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