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7460-DFFA-4FB6-9CE9-B612E247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916-3478-4010-AB3C-A06A16B4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FBE1F-86F1-42EF-B31E-0CDB562F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9AC58-463C-4C46-8A8E-E77A8E3C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3E438-6420-4525-8511-4C4908E0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51098-772A-4603-A2C1-0CDCA8F2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427D2-798B-4DE1-A659-B632F964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C9BCC-333C-4243-95EF-B9737CF8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6C6CC-798B-4B4E-948D-A55DF0EB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BAB95-D44B-4E5E-A694-DAA47D43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4E69A-C894-4553-B636-D4FB789E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5DF0A-C636-46C9-9450-B51EFE34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41A-AE74-4C1B-A580-865F61E0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580B3-CE34-4B3A-A520-B98484B0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B50E2-36ED-4AD7-BE6E-C84D9150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49D24-313D-43B2-8A79-86572969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A5AFC-0B68-49CB-A104-C7F0E306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80A17-A9E8-418F-93E8-374616DB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0C6AC-F9BA-4B24-BD12-3D2A52AD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3A4D2-4AFB-46A3-B6EB-A6ACB111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2260B-6281-4BDE-9E58-E9AB8400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843BA-0F28-4A4D-BDBE-90386228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6A4F4-5F41-4AA7-A56A-4752296D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AB37-4F50-4EC5-97EF-4FA3A906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3EAB3-2A84-4988-850A-25368D2E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488E9-401A-42AA-A041-657F39BF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1AA23-EB2D-46FD-B0BC-206AE3AA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102FF-A6F7-4C64-B980-7FAAD45F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56F20-5FAB-49B6-9881-28BA0854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8AE38-D256-4C84-B0DE-481BFD4D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9BDED-073B-4EBC-95C4-4C65F0E8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4F331-1851-407C-A518-0FE3120B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D1FD7-B9D8-43F6-9517-B160295E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2E1E0-9710-4BCD-A57B-1DCDEDE3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0CB6-C17E-4410-9E63-DFADA4BB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8D690-AA13-428B-9BFF-28024615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C7B66-D088-4F2F-8AFB-A1270D9E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BC5F2-87D0-4E9C-BE6A-1A12F030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5D3B0-52FC-47F0-AB42-65D4F321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E9F5F-FE67-426D-BEBC-B95B5E1A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6F64C-152A-4299-92D3-74F73F50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FBD37-CEB6-4096-B664-FEAF4FFF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75682-BF3E-4B66-ACC0-958ED6D4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4AA23-14B8-44DF-8FB7-D2B6CB36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A5B3C-0E30-42E6-9563-2B595D96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9CB7-40DB-425F-9DB9-272E22A9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5698F-756B-4E17-9E26-43B29384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0B151-01ED-4D87-B00E-28515AAD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4CCCF-E9E9-4DAB-A865-B33DECAE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8501A-C285-4198-B805-8F008944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A2103-82DB-4188-BFB8-20C2A485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9DD7E-530D-4A21-9D02-B50C21F8B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4CCC7-FBA1-4807-BE87-92367C4F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10E86-88E7-47A3-BCA5-CB96DA07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3D75AA-E5BD-419B-95D5-948B39C3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C481EA-6790-4142-9398-D82BD1A9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CFE5-DDA1-4B0C-AE28-8ADC3C4F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B51B6E-C99D-465A-A724-829D1C2B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307E1-74A2-4479-B211-178A646C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6B994C-A2C7-40DD-8F9E-B0FDF992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AB625-2010-447F-A5CF-538C7359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2979E-40B7-4BCB-AD11-BDFC5DE0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97E2B-BEA7-4625-A517-DA1EB800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B5700-D3BA-4045-B8AC-CF637105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635D2A-0392-4C5D-BCA3-C7948EB5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E7E4D8-E2C3-44C0-B332-CECEE190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255B70-11E1-4F3C-BD5C-893B636D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6B3E-F92E-4C0E-9C16-47AF232C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54CB1-E14C-4308-9CAB-74B9EE51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9A2403-0136-4217-9F5D-FA4B9744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C977A6-3B45-4F97-AC52-18843151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BC79B-9B67-471B-9F73-14C94FB3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C1DEA-E1C3-4D71-9CF7-F3FE6A6D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4524AC-432B-450E-868A-56D110C4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64FE9-BEF9-4BC1-B4FB-04A515AC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C22AD-1A0B-4926-B679-C4A04AF3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37FB1F-DCC9-4E0F-8C5C-C0217A6D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25AAF4-F0BD-4E37-857F-193D8F17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97A0-6301-404C-91F8-7627E45C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A0AD6D-E3E1-4245-8963-65EC4D27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CD541A-3FA8-4E19-9296-4796CF85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4248A4-575D-4C49-9561-0377F6E9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460E53-9C70-40E4-9944-9EDEA9DA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F2F0CB-7FBB-4C8B-86DA-9B1BD577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C8F5BD-F976-4E23-A985-FE3A0858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E3536-DA26-4600-8A56-C6F238B8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9366B9-0AD8-41BB-8E7A-E3A8FC6E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790958-02EE-4F9D-B02A-E694BE3D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E130B1-D83A-4356-AC3F-0B82461C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C22B-2C00-4FBA-B164-1F06C92B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4CFDAA-070E-40BD-AC13-90E7985D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B37E81-7638-4923-AAB6-016665B1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F54BE5-217E-4BCD-9856-E1604F80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B3052D-9617-48B8-8D29-A5624F70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C7BC51-E602-406A-AFF6-1D8CC7FE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26BDD5-D214-456C-89E6-E061086D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9EBA5-171C-41AF-A7D7-6F0DB262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F1783B-8779-4B6C-AC74-AEEB6974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08606-5DA1-462D-AC4F-AFBCD903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713F6A-AAF6-4622-9A47-D32D0C69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0A50-AAB7-4E1C-AF0D-8C6C0446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5031FB-523F-4FE8-8E0C-3D843129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5FA181-783B-421F-8A4C-3FEE33F8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3BC20A-0CFC-4638-BB07-8256F4D1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0A749C-5AEB-40B8-A532-58B573F3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A1776A-A042-44FE-9A30-91741D7F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A54734-0673-4DDA-8008-7B9105E4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0D6F99-B58A-45A6-83EF-62537FAE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6A13DC-AC74-4D42-852A-BA2361D5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61B3C0-B441-4A15-BE15-11B8ECC0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22D346-30B9-484F-A3DF-FB6BFCCB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06A6-312C-4F72-88C5-9F42C77F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7E3A-120F-4995-A651-2CC4681E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2634A2-DDE0-4430-8ABA-C716E7C9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510F9F-4856-4991-84C2-EE941C35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C7EED7-0577-4DAA-B2AA-E946C0E4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419837-2DFA-4097-96F9-90CC1E98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E3101D-440B-4094-A8E2-B4051D51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43FC17-06A8-4128-AD05-37F6BCC0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0725B9-64AA-4592-886E-459D054B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A72048-B488-4C73-AB1F-6FA3E6F2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DE0E6E-9950-4D67-8F01-81E741D9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056844-6F91-4DEC-8E20-FF7A9D3C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ADBF-09A9-4A24-9994-5E3DE69F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D401FD-60F2-4BE2-935E-A2EEEBCC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258FA2-3A7B-4231-9429-DBA2B8A0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BBB258-3CA7-4868-9D9B-E67D2796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65F6AB-E32D-4197-9F8A-9E67E96A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AAB3FC-00C0-486B-87D5-50ED557A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DB0821-E09B-4AEA-85AB-DA5D68A9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9696EE-DC25-4020-8F0C-FBD0C578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A88121-3CA3-4E06-A194-C3929A1D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186393-A71C-4170-A88C-771A4F13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E04890-C477-4143-BC6D-24E7CC08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837B-27E9-4EBD-858C-6FC655EC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DEF249-1185-447E-9A39-3FC2B151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286AF5-EE4C-4916-A059-16B069F1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8455F2-323B-48E4-88E1-C7374401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E15486-AA9F-410B-9CC3-8238B735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F3F51E-074B-40C9-AF4B-EBAA1113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FAFFF9-5F0E-4A0D-86B0-9510317D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C9F5CD-9773-4BD1-84BA-65BBEFB9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9B6393-1639-449C-A94C-DB711593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4AB26E-57BF-4472-8906-CF9564CB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15DC-39AA-4B14-91D7-EAF133EB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7EEB-A675-4BF8-BBB7-66A54E62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B65C1-BC89-4F87-A70F-072F74FB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57B6B-6348-4E7A-AF76-F7E3883D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EDBB0-2DFB-4705-9DA9-5979276F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6759C-5D1E-400A-B66D-C63BE7E0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03904-F356-4D20-A7DC-172F6FE4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FBC1-1F2D-4748-8A9C-7CAD412F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30CDC-8B3E-4D15-9532-2C7FF216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32CA2-832D-4DC3-B101-81238521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F2895-9B28-40F8-AD14-08B73955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AAF14-69BE-4F91-9D09-E008D4D4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0DE6A-DC66-483F-9D03-FFE9FCFD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C0B44-F971-4796-8E83-0B016BCF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893D9-101D-4189-86EE-93B530A0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11A5D-2531-4A7B-A792-99918515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8A920-EA36-4EDC-9A61-481AC47F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01425-7FC5-4226-BAC5-F7672D74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ACD-FF5F-4F69-9217-32BA5150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0FF30-8543-4DCA-A03F-58ADAE06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9A39A-E5F9-47D2-9D2F-BF340084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D442D-BABB-4395-A3C0-EB79BC10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9124C-1649-49ED-8031-DF9A2ABD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15411-BB9F-472A-9072-E1DFF263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7DAC8-A9BB-448A-B619-2B57A281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19587-4191-4B02-B0CB-8A2E1F0C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9A139-16BB-4CCC-8E29-774EBF6A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34DF2-F32A-461D-A226-80E45E13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A44A3-03DD-4680-96CD-F1767CB4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C604-7A35-4550-BA31-C0381AFB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ACD02-F27E-4AAB-B932-48385E96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3458C-DF28-4B96-A256-E171B5BF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B89DF-B5F5-417F-AF79-87FCA7B8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31B9B-FDF3-4CF3-B975-8E4FF6C6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57E55-0123-443A-838E-426830DF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139F5-A72D-406B-A1D3-AEDFDB1C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936F2-0BA0-46C5-9F12-805CCA11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0FF31-C30C-430B-A1CC-1CC3FB64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F10E1-B90B-41D5-A1D3-6C80C3F4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ACDE5-9BE6-454A-94E9-2D5C1B54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E692-3125-42F8-853B-B68B2849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BC284-9EFC-43C1-8FBC-5C393BD0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16C4B-8F3B-4F7D-AE21-8629FDE5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CE28F-3A3C-4D5A-B998-FFC1DEE9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6FF55-24ED-4A8D-9D98-715D4DB4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04081-1BF7-4458-98BB-4100C061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B94CC-BF3A-4AB5-96B3-E1E2A733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70A38-18F7-47EB-931A-734BB16A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28693-C6E8-4576-8A1B-53E0BDEF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BDE81-C250-44D2-AC4A-97A5DD66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B7A00-A6FC-4480-B220-8E87825A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08C2-2165-46A5-8E39-480FD0D1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6267C-A418-474C-8132-CB7BEAC8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A6A6E-EEA4-4111-8F1E-CFD736CD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02E5F-2194-4C4B-9E70-A5B13200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404A5-A47D-4D00-AC91-9555D71E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AA30C-36E4-495A-98DD-74846C2D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903BC-6274-4311-847A-52266F5B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386CB-E009-4BB4-8459-86451121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8F586-5EC5-4DA5-8FC1-D8C53660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66FA8-8681-4B52-9DBA-7A15AE23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83A2D-3AA0-41A7-BF60-0120EB86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04A-71A7-4760-9BAB-DAEE826F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A85E4-9F8D-4E04-8889-377EBA7C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4ADE4-BEDB-4062-B87B-980110DA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DAFCE-F9ED-40B7-BF1E-A594F264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91504-C74F-482C-BB42-F2320512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04FF1-4748-428A-B677-D38B639F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A8AC5-094E-47AD-8F3C-6558F850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8949E-D1BE-413F-96D8-CCA1A0B8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7E44F-B3D0-47EE-8287-269CD859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ABE59-AFEB-4D89-B47E-5D329952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985E4-4183-470C-A9C3-996AC0FE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41C-D13E-4730-920B-81D36111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2D897-99F3-476C-BCB7-C0D837DE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51C51-0333-4D69-AC4F-4DCC6536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CA9E3-3EED-4D72-8EC3-D96E238B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D6E89-0343-4EEC-A2C3-ADCB46A1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25C4D-22B8-496E-8A4C-206609BF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2CFBD-1A52-423E-9EAA-24514929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A9DD3-60E2-4BA5-BD51-4BDCC22F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FE3A8-4CF4-4FB8-A155-ECF2DBDE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AF99B-3D53-4A89-ACFB-1E16E4E0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98310-A74A-4261-91D6-8CF581A0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1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8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828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05B1-679E-4D71-9392-9A6A89BC24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9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0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1FAA-709F-4B7B-A90A-B9D0161BE532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3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3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BD3A-D272-4A01-AE8C-D1BE8C91A562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845C-8EE7-4397-B713-6351DC738D7F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3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3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3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8E01-3C8F-4D6C-B5AC-4A50CC298A1D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6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28BD-E65D-4826-BB4C-1F1D1A4D3D19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2949-6C9B-44F2-A684-68749852D75D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2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3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4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4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4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66F2-57EF-4E1D-866C-99D10D529ED6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6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7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4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5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5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AD38-5BB9-4046-9D8B-499ABA606CFF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5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5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5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167A-09C6-439C-A648-063B6E51E59C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4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5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5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5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5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7D49-2E05-4FEA-B381-34911805A96E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3D9F-302C-4E6F-9E3B-8380332EEC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2300-F528-457E-B7C2-1E68FB7E419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7BBA-2308-4348-AACA-EA60DF91624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8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8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9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0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0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1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8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219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22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1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222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DBAF-7B62-4BBE-B614-469DD052B1B6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312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3" name="Rectangle 4"/>
            <p:cNvSpPr/>
            <p:nvPr/>
          </p:nvSpPr>
          <p:spPr>
            <a:xfrm>
              <a:off x="0" y="900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4" name="Rectangle 5"/>
            <p:cNvSpPr/>
            <p:nvPr/>
          </p:nvSpPr>
          <p:spPr>
            <a:xfrm>
              <a:off x="7953480" y="9000"/>
              <a:ext cx="1203120" cy="684864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15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316" name="Group 7"/>
              <p:cNvGrpSpPr/>
              <p:nvPr/>
            </p:nvGrpSpPr>
            <p:grpSpPr>
              <a:xfrm>
                <a:off x="8381880" y="-360"/>
                <a:ext cx="762120" cy="2277720"/>
                <a:chOff x="8381880" y="-360"/>
                <a:chExt cx="762120" cy="2277720"/>
              </a:xfrm>
            </p:grpSpPr>
            <p:grpSp>
              <p:nvGrpSpPr>
                <p:cNvPr id="317" name="Group 8"/>
                <p:cNvGrpSpPr/>
                <p:nvPr/>
              </p:nvGrpSpPr>
              <p:grpSpPr>
                <a:xfrm>
                  <a:off x="8710560" y="-360"/>
                  <a:ext cx="279360" cy="275400"/>
                  <a:chOff x="8710560" y="-360"/>
                  <a:chExt cx="279360" cy="275400"/>
                </a:xfrm>
              </p:grpSpPr>
              <p:grpSp>
                <p:nvGrpSpPr>
                  <p:cNvPr id="318" name="Group 9"/>
                  <p:cNvGrpSpPr/>
                  <p:nvPr/>
                </p:nvGrpSpPr>
                <p:grpSpPr>
                  <a:xfrm>
                    <a:off x="8710560" y="-360"/>
                    <a:ext cx="279360" cy="275400"/>
                    <a:chOff x="8710560" y="-360"/>
                    <a:chExt cx="279360" cy="275400"/>
                  </a:xfrm>
                </p:grpSpPr>
                <p:sp>
                  <p:nvSpPr>
                    <p:cNvPr id="319" name="Freeform 10"/>
                    <p:cNvSpPr/>
                    <p:nvPr/>
                  </p:nvSpPr>
                  <p:spPr>
                    <a:xfrm rot="16200000">
                      <a:off x="8749440" y="-392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Freeform 11"/>
                    <p:cNvSpPr/>
                    <p:nvPr/>
                  </p:nvSpPr>
                  <p:spPr>
                    <a:xfrm rot="16200000">
                      <a:off x="8758800" y="91800"/>
                      <a:ext cx="14076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1" name="Oval 12"/>
                  <p:cNvSpPr/>
                  <p:nvPr/>
                </p:nvSpPr>
                <p:spPr>
                  <a:xfrm rot="16200000">
                    <a:off x="8830080" y="138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13"/>
                  <p:cNvSpPr/>
                  <p:nvPr/>
                </p:nvSpPr>
                <p:spPr>
                  <a:xfrm rot="16200000">
                    <a:off x="8763840" y="69840"/>
                    <a:ext cx="424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14"/>
                  <p:cNvSpPr/>
                  <p:nvPr/>
                </p:nvSpPr>
                <p:spPr>
                  <a:xfrm rot="16200000">
                    <a:off x="8834760" y="5724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Freeform 15"/>
                  <p:cNvSpPr/>
                  <p:nvPr/>
                </p:nvSpPr>
                <p:spPr>
                  <a:xfrm rot="16200000">
                    <a:off x="8904240" y="10728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Freeform 16"/>
                  <p:cNvSpPr/>
                  <p:nvPr/>
                </p:nvSpPr>
                <p:spPr>
                  <a:xfrm rot="16200000">
                    <a:off x="8830080" y="200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17"/>
                  <p:cNvSpPr/>
                  <p:nvPr/>
                </p:nvSpPr>
                <p:spPr>
                  <a:xfrm rot="16200000">
                    <a:off x="8778600" y="175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2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76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7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18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23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6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6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70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75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5" name="Group 26"/>
              <p:cNvGrpSpPr/>
              <p:nvPr/>
            </p:nvGrpSpPr>
            <p:grpSpPr>
              <a:xfrm>
                <a:off x="7848720" y="1607040"/>
                <a:ext cx="828720" cy="4703400"/>
                <a:chOff x="7848720" y="1607040"/>
                <a:chExt cx="828720" cy="4703400"/>
              </a:xfrm>
            </p:grpSpPr>
            <p:pic>
              <p:nvPicPr>
                <p:cNvPr id="33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7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12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00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82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05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47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1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75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92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98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8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5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62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90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9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5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7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06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8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55" name="Freeform 46"/>
            <p:cNvSpPr/>
            <p:nvPr/>
          </p:nvSpPr>
          <p:spPr>
            <a:xfrm>
              <a:off x="7953480" y="4911120"/>
              <a:ext cx="1190520" cy="193716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6" name="Freeform 47"/>
            <p:cNvSpPr/>
            <p:nvPr/>
          </p:nvSpPr>
          <p:spPr>
            <a:xfrm>
              <a:off x="7939080" y="4860360"/>
              <a:ext cx="1219320" cy="199728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7" name="Freeform 48"/>
            <p:cNvSpPr/>
            <p:nvPr/>
          </p:nvSpPr>
          <p:spPr>
            <a:xfrm>
              <a:off x="7927920" y="2823120"/>
              <a:ext cx="1231920" cy="403128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8" name="Freeform 49"/>
            <p:cNvSpPr/>
            <p:nvPr/>
          </p:nvSpPr>
          <p:spPr>
            <a:xfrm>
              <a:off x="8010360" y="3542760"/>
              <a:ext cx="979560" cy="21812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9" name="Freeform 50"/>
            <p:cNvSpPr/>
            <p:nvPr/>
          </p:nvSpPr>
          <p:spPr>
            <a:xfrm>
              <a:off x="8244000" y="435600"/>
              <a:ext cx="914400" cy="50410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0" name="Freeform 51"/>
            <p:cNvSpPr/>
            <p:nvPr/>
          </p:nvSpPr>
          <p:spPr>
            <a:xfrm>
              <a:off x="8250120" y="270720"/>
              <a:ext cx="909720" cy="30672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1" name="Freeform 52"/>
            <p:cNvSpPr/>
            <p:nvPr/>
          </p:nvSpPr>
          <p:spPr>
            <a:xfrm>
              <a:off x="7943760" y="9000"/>
              <a:ext cx="576360" cy="334800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2" name="Freeform 53"/>
            <p:cNvSpPr/>
            <p:nvPr/>
          </p:nvSpPr>
          <p:spPr>
            <a:xfrm>
              <a:off x="7943760" y="10440"/>
              <a:ext cx="300240" cy="33483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3" name="Rectangle 54"/>
            <p:cNvSpPr/>
            <p:nvPr/>
          </p:nvSpPr>
          <p:spPr>
            <a:xfrm>
              <a:off x="7866000" y="10440"/>
              <a:ext cx="88920" cy="684864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4" name="Freeform 55"/>
            <p:cNvSpPr/>
            <p:nvPr/>
          </p:nvSpPr>
          <p:spPr>
            <a:xfrm>
              <a:off x="7958160" y="6230160"/>
              <a:ext cx="1165320" cy="61812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AutoShape 56"/>
            <p:cNvSpPr/>
            <p:nvPr/>
          </p:nvSpPr>
          <p:spPr>
            <a:xfrm rot="5400000">
              <a:off x="4328640" y="3320640"/>
              <a:ext cx="6848640" cy="225360"/>
            </a:xfrm>
            <a:custGeom>
              <a:avLst/>
              <a:gdLst>
                <a:gd name="textAreaLeft" fmla="*/ 667440 w 6848640"/>
                <a:gd name="textAreaRight" fmla="*/ 6181200 w 684864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FBF7-AC4B-4194-88E4-94E51FDE12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7187-FC04-4A92-AAFF-2CB073813EF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45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5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5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5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5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461" name="Freeform 19"/>
            <p:cNvSpPr/>
            <p:nvPr/>
          </p:nvSpPr>
          <p:spPr>
            <a:xfrm rot="7320000">
              <a:off x="7790760" y="4661280"/>
              <a:ext cx="998640" cy="4633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2" name="Freeform 20"/>
            <p:cNvSpPr/>
            <p:nvPr/>
          </p:nvSpPr>
          <p:spPr>
            <a:xfrm rot="7320000">
              <a:off x="7766640" y="4640040"/>
              <a:ext cx="995400" cy="4586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3" name="Freeform 21"/>
            <p:cNvSpPr/>
            <p:nvPr/>
          </p:nvSpPr>
          <p:spPr>
            <a:xfrm rot="7320000">
              <a:off x="7934760" y="4626000"/>
              <a:ext cx="660240" cy="4190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64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465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6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7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8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69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A3EB-C600-4967-B5B3-0C703BCE8C2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4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5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27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1464-F53D-4A7F-B6C2-EB9E88BEA52B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Семинар для педагогов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 «Рабочие программы учителя основной инструмент реализации ФГОС УО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900000" y="3860280"/>
            <a:ext cx="73440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Учитель: И.Н.Моржанае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Учитель: П.И. Омаро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Дата: 13.12.2021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1" name="Прямоугольник 4"/>
          <p:cNvSpPr/>
          <p:nvPr/>
        </p:nvSpPr>
        <p:spPr>
          <a:xfrm>
            <a:off x="5502960" y="45007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308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ОП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02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5" name="Rectangle 9"/>
          <p:cNvSpPr/>
          <p:nvPr/>
        </p:nvSpPr>
        <p:spPr>
          <a:xfrm>
            <a:off x="1143000" y="313920"/>
            <a:ext cx="72151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Закон РФ «Об образовании в РФ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Статья 2.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Основные понятия,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используемые в настоящем Федеральном закон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Calibri"/>
              </a:rPr>
              <a:t>Адаптированная </a:t>
            </a:r>
            <a:r>
              <a:rPr b="1" lang="ru-RU" sz="2000" spc="-1" strike="noStrike">
                <a:solidFill>
                  <a:srgbClr val="2f1311"/>
                </a:solidFill>
                <a:latin typeface="Calibri"/>
              </a:rPr>
              <a:t>основная</a:t>
            </a:r>
            <a:r>
              <a:rPr b="0" lang="ru-RU" sz="2000" spc="-1" strike="noStrike">
                <a:solidFill>
                  <a:srgbClr val="2f1311"/>
                </a:solidFill>
                <a:latin typeface="Calibri"/>
              </a:rPr>
              <a:t>общеобразовательная программа — это  образовательная программа </a:t>
            </a:r>
            <a:r>
              <a:rPr b="1" lang="ru-RU" sz="2000" spc="-1" strike="noStrike">
                <a:solidFill>
                  <a:srgbClr val="2f1311"/>
                </a:solidFill>
                <a:latin typeface="Calibri"/>
              </a:rPr>
              <a:t>общего образования детей с ограниченными возможностями здоровья</a:t>
            </a:r>
            <a:r>
              <a:rPr b="0" lang="ru-RU" sz="2000" spc="-1" strike="noStrike">
                <a:solidFill>
                  <a:srgbClr val="2f1311"/>
                </a:solidFill>
                <a:latin typeface="Calibri"/>
              </a:rPr>
              <a:t>, разработанная на основе ФГОС обучающихся с ОВЗ с учетом особенностей их психофизического развития, индивидуальных возможностей, и обеспечивающая коррекцию нарушений развития и социальную адаптацию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6" name="Прямоугольник 10"/>
          <p:cNvSpPr/>
          <p:nvPr/>
        </p:nvSpPr>
        <p:spPr>
          <a:xfrm>
            <a:off x="5431320" y="4572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ООП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 txBox="1"/>
          <p:nvPr/>
        </p:nvSpPr>
        <p:spPr>
          <a:xfrm>
            <a:off x="394920" y="620280"/>
            <a:ext cx="820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согласно ч. 7 ст. 12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рганизации, осуществляющие образовательную деятельность по имеющим государственную аккредитацию образовательным программам, разрабатывают образовательные программы в соответствии с федеральными государственными образовательными стандартами и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с учетом соответствующих примерных основных образовательных програм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Прямоугольник 1"/>
          <p:cNvSpPr/>
          <p:nvPr/>
        </p:nvSpPr>
        <p:spPr>
          <a:xfrm>
            <a:off x="785880" y="357120"/>
            <a:ext cx="79293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Исключительным правом на разработку и утверждение АООП обладает образовательная организация. Согласно ч. 5 ст. 12 Федерального закона № 273-ФЗ «образовательные программы самостоятельно разрабатываются и утверждаются организацией, осуществляющей образовательную деятельность». Ст. 28«Компетенция, права, обязанности и ответственность образовательной организации» подтверждает это положение. Она относит к компетенции образовательной организации в установленной сфере деятельности разработку и утверждение образовательных программ образовательной организации. Сама же ОО решает вопрос о целесообразности проведения экспертизы разработанной АООП. Согласования образовательной программы не требуется.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Прямоугольник 1"/>
          <p:cNvSpPr/>
          <p:nvPr/>
        </p:nvSpPr>
        <p:spPr>
          <a:xfrm>
            <a:off x="428760" y="336600"/>
            <a:ext cx="7858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 ФГОС О УО выделены 2 варианта АООП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ля детей с легкой умственной отсталостью, у которых нет других нарушени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для детей с умеренной, тяжелой и глубокой умственной отсталостью, с множественными нарушениями, обучаются по СИП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Определение варианта АООП для обучающегося с ОВЗ осуществляется в соответствии с рекомендациями психолого-медико-педагогической комиссией (далее – ПМПК). А в случае наличия у него ИПРА – с учетом ее требований и мнения родителей. В процессе реализации АООП возможен переход с одного варианта на другой в соответствии с динамикой развития ребенка и подтвержденной рекомендациями ПМПК и с учетом мнения родителей</a:t>
            </a:r>
            <a:r>
              <a:rPr b="0" lang="ru-RU" sz="2400" spc="-1" strike="noStrike" baseline="30000">
                <a:solidFill>
                  <a:srgbClr val="00206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mbria"/>
              </a:rPr>
              <a:t>Рабочая программа</a:t>
            </a: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 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рмативно-управленческий документ образовательного учреждения, характеризующий систему организации образовательной деятельности педагог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чая программа показывает, как с учетом конкретных условий, образовательных потребностей и особенностей развития обучающихся, педагог создает индивидуальную педагогическую модель образования на основе ФГО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Таким образом, рабочая программа по предмету - это документ, который составляется с учетом особенностей образовательного учреждения, особенностей обучающегося конкретного класс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Рабочая программа - индивидуальный инструмент педагога, в котором он определяет наиболее оптимальные и эффективные для определенного класса содержание, формы, методы и приемы организации образовательного процесса с целью получения результата, соответствующего требованиям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стандар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Cambria"/>
              </a:rPr>
              <a:t>ЛИЧНОСТНЫЕ РЕЗУЛЬТАТЫ ОБРАЗОВАТЕЛЬНОЙ ДЕЯТЕЛЬНОСТИ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истема ценностных отношений обучающихся — к себе, другим участникам образовательного процесса, самому образовательному процессу и его результатам, сформированные в образовательном процессе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mbria"/>
              </a:rPr>
              <a:t>Деятельностный подход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одход к организации процесса обучения, в котором на первый план выходит проблема самоопределения ученика в учебном процессе. Целью деятельностного подхода является воспитание личности ребенка как субъекта жизнедеятель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Система оценки учебных достижений обучающихся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истема и состав инструментария, включающая описание объекта и содержание оценки (требования, структурированные в соответствии с используемой таксономией); критерии и процедуры оценивания; формы представления результатов; условия и границы примене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mbria"/>
              </a:rPr>
              <a:t>ВНЕУРОЧНАЯ (ВНЕУЧЕБНАЯ) ДЕЯТЕЛЬНОСТЬ обучающихся</a:t>
            </a: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685440" y="1828800"/>
            <a:ext cx="8101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i="1" lang="ru-RU" sz="2600" spc="-1" strike="noStrike">
                <a:solidFill>
                  <a:srgbClr val="002060"/>
                </a:solidFill>
                <a:latin typeface="Calibri"/>
              </a:rPr>
              <a:t>деятельностная организация на основе вариативной составляющей базисного учебного плана, организуемая участниками образовательного процесса, отличная от урочной системы обучения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Cambria"/>
              </a:rPr>
              <a:t>Структура Программы учебных предметов</a:t>
            </a:r>
            <a:br>
              <a:rPr sz="2500"/>
            </a:br>
            <a:r>
              <a:rPr b="0" lang="ru-RU" sz="2500" spc="-1" strike="noStrike">
                <a:solidFill>
                  <a:srgbClr val="002060"/>
                </a:solidFill>
                <a:latin typeface="Cambria"/>
              </a:rPr>
              <a:t>(по ФГОС) </a:t>
            </a:r>
            <a:br>
              <a:rPr sz="2500"/>
            </a:br>
            <a:endParaRPr b="0" lang="en-US" sz="25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пояснительную записку, в которой конкретизируются общие цели образования с учетом специфики учебного предмета, коррекционного курс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общую характеристику учебного предмета, коррекционного курса с учетом особенностей его освоения обучающимис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описание места учебного предмета в учебном план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) личностные и предметные результаты освоения учебного предмета, коррекционного курс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) содержание учебного предмета, коррекционного курс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) тематическое планирование с определением основных видов учебной деятельности обучающих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) описание материально-технического обеспечения образователь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2329"/>
                </a:solidFill>
                <a:latin typeface="Cambria"/>
              </a:rPr>
              <a:t>Понятийный аппарат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бучающийся с ограниченными возможностями здоровья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физическое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лицо, имеющее недостатки в физическом и (или) психологическом развитии, подтвержденные психолого-медико-педагогической комиссией и препятствующие получению образования без создания специальных услов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273-ФЗ, ст.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Статус «Ребенок с ОВЗ» устанавливает ПМП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01b1d"/>
                </a:solidFill>
                <a:latin typeface="Calibri"/>
              </a:rPr>
              <a:t>Примерные варианты тематического план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4" name=""/>
          <p:cNvGraphicFramePr/>
          <p:nvPr/>
        </p:nvGraphicFramePr>
        <p:xfrm>
          <a:off x="357120" y="642960"/>
          <a:ext cx="8572680" cy="5857920"/>
        </p:xfrm>
        <a:graphic>
          <a:graphicData uri="http://schemas.openxmlformats.org/drawingml/2006/table">
            <a:tbl>
              <a:tblPr/>
              <a:tblGrid>
                <a:gridCol w="428760"/>
                <a:gridCol w="928800"/>
                <a:gridCol w="772920"/>
                <a:gridCol w="754200"/>
                <a:gridCol w="901440"/>
                <a:gridCol w="862200"/>
                <a:gridCol w="988920"/>
                <a:gridCol w="957240"/>
                <a:gridCol w="988920"/>
                <a:gridCol w="989280"/>
              </a:tblGrid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ланируемые результаты по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ормируемы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сновные вид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Материально-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рограмм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ГОС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базовые учебны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техническо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рганизаци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ействия (БУД)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беспечение, в т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бразовательной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Личностны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редметны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ч. ЭО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2"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1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 недел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ентябр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2"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1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 недел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ентябр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 недел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ентябр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 недел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6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36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ентябр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0" rIns="0" tIns="0" bIns="0" anchor="b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5" name="Rectangle 1"/>
          <p:cNvSpPr/>
          <p:nvPr/>
        </p:nvSpPr>
        <p:spPr>
          <a:xfrm>
            <a:off x="3432960" y="-729000"/>
            <a:ext cx="2278080" cy="19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3480" rIns="660240" tIns="574560" bIns="914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  <a:ea typeface="Times New Roman"/>
              </a:rPr>
              <a:t>КТП (форма 4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6" name=""/>
          <p:cNvGraphicFramePr/>
          <p:nvPr/>
        </p:nvGraphicFramePr>
        <p:xfrm>
          <a:off x="142920" y="928800"/>
          <a:ext cx="8858160" cy="2514600"/>
        </p:xfrm>
        <a:graphic>
          <a:graphicData uri="http://schemas.openxmlformats.org/drawingml/2006/table">
            <a:tbl>
              <a:tblPr/>
              <a:tblGrid>
                <a:gridCol w="665280"/>
                <a:gridCol w="641160"/>
                <a:gridCol w="1278000"/>
                <a:gridCol w="900000"/>
                <a:gridCol w="1095480"/>
                <a:gridCol w="1200240"/>
                <a:gridCol w="1334880"/>
                <a:gridCol w="871560"/>
                <a:gridCol w="871560"/>
              </a:tblGrid>
              <a:tr h="1234800">
                <a:tc rowSpan="3">
                  <a:txBody>
                    <a:bodyPr lIns="0" rIns="0" tIns="0" bIns="0" anchor="b">
                      <a:noAutofit/>
                    </a:bodyPr>
                    <a:p>
                      <a:pPr marL="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12600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(дата)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урока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сновны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элементы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одержания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ланируемые результаты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о ФГО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ормируемы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базовые учебны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ействия (БУД)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редства обучения и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коррекционной работы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контроля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ом,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задани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Личностны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редметны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27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7" name="Rectangle 2"/>
          <p:cNvSpPr/>
          <p:nvPr/>
        </p:nvSpPr>
        <p:spPr>
          <a:xfrm>
            <a:off x="3869640" y="182880"/>
            <a:ext cx="140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  <a:ea typeface="Times New Roman"/>
              </a:rPr>
              <a:t>КТП (форма 5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1049" name="Picture 2" descr="C:\Users\Sideswipe\Desktop\slide_14.jpg"/>
          <p:cNvPicPr/>
          <p:nvPr/>
        </p:nvPicPr>
        <p:blipFill>
          <a:blip r:embed="rId1"/>
          <a:stretch/>
        </p:blipFill>
        <p:spPr>
          <a:xfrm>
            <a:off x="1281240" y="1219320"/>
            <a:ext cx="65815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2" name="Прямоугольник 4"/>
          <p:cNvSpPr/>
          <p:nvPr/>
        </p:nvSpPr>
        <p:spPr>
          <a:xfrm>
            <a:off x="5502960" y="45007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308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ОП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003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6" name="Rectangle 9"/>
          <p:cNvSpPr/>
          <p:nvPr/>
        </p:nvSpPr>
        <p:spPr>
          <a:xfrm>
            <a:off x="1143000" y="159840"/>
            <a:ext cx="72151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Закон РФ «Об образовании в РФ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Статья 2.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Основные понятия,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используемые в настоящем Федеральном закон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даптированная образовательная программа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бразовательная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рограмма, адаптированная для обучения лиц с ограниченными возможностями здоровья с учетом особенностей их психофизического развития, индивидуальных возможностей и при необходимости обеспечивающая коррекцию нарушений развития и социальную адаптацию указанных лиц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7" name="Прямоугольник 10"/>
          <p:cNvSpPr/>
          <p:nvPr/>
        </p:nvSpPr>
        <p:spPr>
          <a:xfrm>
            <a:off x="5431320" y="4572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ООП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85560" y="571320"/>
            <a:ext cx="749124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190b81"/>
                </a:solidFill>
                <a:latin typeface="Calibri"/>
              </a:rPr>
              <a:t>Понятийный аппарат: сокращения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1356840" y="981000"/>
            <a:ext cx="7659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ИУ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индивидуальный учебный пл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СИП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специальная индивидуальная программа разви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ИП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индивидуальная программа реабилитации (инвали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АОО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адаптированная основная образовательная программа (образовательного учрежд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АО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адаптированная образовательная программа (обучающегося с ОВ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0b81"/>
                </a:solidFill>
                <a:latin typeface="Calibri"/>
              </a:rPr>
              <a:t>БУ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базовые учебные действия (для нецензового образова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071360" y="71424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Федеральный государственный образовательный стандарт - как понятие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57200" y="170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тандарт</a:t>
            </a:r>
            <a:r>
              <a:rPr b="1" i="1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(от англ. </a:t>
            </a:r>
            <a:r>
              <a:rPr b="0" i="1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standard</a:t>
            </a:r>
            <a:r>
              <a:rPr b="0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— норма, образец) в широком смысле слова — образец, эталон, модель, принимаемые за исходные для сопоставления с ними др. подобных объектов. Стандарт в Российской Федерации — документ,  устанавливающий комплекс норм, правил, требований к объект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бразовательный станда</a:t>
            </a: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т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станавливает ряд требований к содержанию, структуре и условиям образования детей на разных ступенях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2" name="Рисунок 1" descr="http://kirovskschool2.ucoz.ru/school/fgos_noo/f.jpg"/>
          <p:cNvPicPr/>
          <p:nvPr/>
        </p:nvPicPr>
        <p:blipFill>
          <a:blip r:embed="rId1"/>
          <a:stretch/>
        </p:blipFill>
        <p:spPr>
          <a:xfrm>
            <a:off x="6072120" y="6000840"/>
            <a:ext cx="28958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mbria"/>
              </a:rPr>
              <a:t>Федеральный государственный образовательный стандарт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Нормативный документ, определяющий совокупность требований к результатам освоения основной образовательной программы, ее структуре и условиям реализац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Федеральный государственный образовательный стандарт образования обучающихся с умственной отсталостью (интеллектуальными нарушениями)</a:t>
            </a:r>
            <a:endParaRPr b="0" lang="en-US" sz="2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ость обязательных требований при реализации адаптированных основных общеобразовательных программ  в организациях, осуществляющих образовательную деятельность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Cambria"/>
              </a:rPr>
              <a:t>Под специальными условиями для получения образования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–</a:t>
            </a:r>
            <a:r>
              <a:rPr b="0" i="1" lang="ru-RU" sz="1800" spc="-1" strike="noStrike">
                <a:solidFill>
                  <a:srgbClr val="35353e"/>
                </a:solidFill>
                <a:latin typeface="Calibri"/>
              </a:rPr>
              <a:t>обучающимис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ограниченными возможностями здоровья понимаются условия обучения, воспитания и развития таких обучающихся, включающие в себя использование специальных образовательных программ и методов обучения и воспитания, специальных учебников, учебных пособий и дидактических материалов, специальных технических средств обучения коллективного и индивидуального пользования, предоставление услуг ассистента (помощника), оказывающего обучающимся необходимую техническую помощь, проведение групповых  и индивидуальных коррекционных занятий, обеспечение доступа в здания организаций, осуществляющих образовательную деятельность, и другие условия, без которых невозможно или затруднено освоение образовательных программ обучающимися с ограниченными возможностями здоровь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Прямоугольник 3"/>
          <p:cNvSpPr/>
          <p:nvPr/>
        </p:nvSpPr>
        <p:spPr>
          <a:xfrm>
            <a:off x="428760" y="750960"/>
            <a:ext cx="839124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 терминологии Федерального закона № 273-ФЗ «Об образовании в Российской Федерации» от 29 декабря 2012 г. образовательные программы для обучающихся с ОВЗ относятся к адаптированным образовательным программам. В соответствии с п. 28 ст. 2 Федерального закона № 273-ФЗ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6T18:21:11Z</dcterms:created>
  <dc:creator>Sideswipe</dc:creator>
  <dc:description/>
  <dc:language>en-US</dc:language>
  <cp:lastModifiedBy>HP</cp:lastModifiedBy>
  <dcterms:modified xsi:type="dcterms:W3CDTF">2023-07-06T09:47:03Z</dcterms:modified>
  <cp:revision>21</cp:revision>
  <dc:subject/>
  <dc:title>Слайд 1</dc:title>
</cp:coreProperties>
</file>