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A09-5744-4ABE-8DC8-C1CCA3DD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DB1-7716-4F7C-8F78-17D4A9F9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CCADE-34EA-4715-B387-4D3534F1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DEB15-F9E6-4EE9-9630-455AB554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1EA36-C6DB-4CAB-82B1-8AD95DDB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917CB-2237-4477-B9A1-83DA39A7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4327E-E518-4B63-A559-59081C0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5EDB4-1CA3-49E5-92A5-6A755C70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94EA6-3A58-4152-9788-69C40016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75181-446F-4780-8B84-E57DFC7F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A860E-FF2E-4713-8904-B54AE82C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6D494-886C-440E-AFD4-164B62FF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35E-08FD-4042-B96C-4C57B409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B12B5-8499-4ADE-82E1-333FFC4E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CF1C8-C943-438E-BE9A-B5D3E3AB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A0EF1-F357-414D-BE84-500E4B1D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11A7C-9C76-445D-A579-0847199F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718A5-F6B7-4A07-840E-B5DF962F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B6388-9297-4518-AACE-6D90D4BD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05F25-A8AF-494D-9D24-81A0159A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A691E-3CA9-40F2-A81A-7F3526B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7265E-411A-4D21-B23B-D903B375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D61FC-DAF1-4F30-B15D-3726C3B9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52B-B343-48D1-908E-EDFE69B0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27222-1CA1-46A0-9B6F-2C05350A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B57BA-A315-401C-8A00-E7B62D12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09F1F-6623-4E3A-809E-04AF446C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F5EA9-CB55-4DC6-BD1B-6C328AA0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066A7-1B74-46AD-9EF0-9BAD8F51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7FE51-CD72-4A47-A0BA-597EC915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4DF0E-4DCA-4113-A00E-BAA36902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1075B-6C76-4969-AF02-A9B7A3A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BCFE5-F85D-480A-962F-CFE9FDA8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6C2C2-7287-40C9-B323-F6DA9B5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7378-3FCF-422E-9D28-AACF9ACB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A774-314D-4899-BF09-789F8C39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D3E23-8253-496E-BAE6-84DADBE0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D8882-6707-40A4-BB7A-0561B880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AC182-E708-4548-B18C-88E60C24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8EA55-0BD6-49CB-8E0E-657E7043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FA1E7-ABE5-4AA2-AE17-C71F06E0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EE287-EF35-4EE9-8ECF-B985FC55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AF353-4E16-484F-8503-F3122FF7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A4FC4-861A-4F3D-9663-C28CF250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DD4E4-9CD9-4374-9E6A-8FE5D9F0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5A27-53F3-4958-AECC-29D9F273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86C05-A930-4AC5-925A-C9DAC31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99998-CC83-4A2F-B456-7FCF9E53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D9D24-336E-453B-B859-BB315ED8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AE143-5840-4292-B001-7DDC04AC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AD20E-5D88-431C-849F-BADDCB9E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DE110-872A-4AF8-B7BE-785768F9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20C1C-AD49-4F09-ABE3-C1EFA375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097D8-DF34-4AFB-AC0E-5810364F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CDCC9-5348-4DCA-9B64-7EE55D95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CD61A-9A1A-449B-A2C1-F6D1C573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3F13-87F7-4AF3-8C32-9083B3F3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81ED8-5623-4ACB-BBA1-9EF83A8F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FF87E-EEFD-4EE1-969D-60CF0EB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7B90B-89E7-43AA-B5FB-9233ECAE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56D05-A6B1-41CC-9C7E-B6D4787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6E030-8567-49C7-9FBB-A1715120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6F3A3-C670-4B4F-A214-83AD05E8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DD2C0-4D2E-4CBA-869F-F72C2D27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B00DA-FE69-476A-A681-30864AAE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F7FB3-FF81-4C09-8ABA-9FE01F37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246AF-0470-412E-B477-0CCBC8B9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B591-2BFB-4E49-AD93-25781942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9356B-E080-4C72-A935-403E9EE1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DDAFB-F888-4334-A4F6-C343403B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A1D5C-AA95-45FB-883E-AF54EAF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57EDA-55D8-4902-8495-0C29095D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A36F2-199F-49D1-AC01-7966330D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AEC3A-BCEA-49B5-B985-5AC75E4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76988-F6F8-4993-98F3-B79F8FA1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CE271-AFAB-4107-9197-89DA13F2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01AD4-23B2-45FE-A0CA-E5BEBBA3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8E1C9-C28A-4036-8B64-D4DC2390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B5D6-C1D4-4A02-9E3C-F1AB60E2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FA220-26F0-42D7-8A2A-CDD4458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6B866-3E04-4AE1-83F9-85F5AEA4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FB3A9-573E-4FD4-BFCF-1BB652AF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4A947-815C-4573-8654-D22112BD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8FFB3-5724-4856-B429-AB03F60B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766F0-7AF2-4781-A8BD-BC0D679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A71C2-5025-4D55-82BC-35CC59FD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872F0-4BE4-4A37-B4FE-55128C3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04B37-310E-484F-A3EA-42BC7D59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FA303-7FBA-4A38-AE06-8DBBDC9F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38D1-E9AE-40E4-990C-0F269D15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C8401-3B21-4316-9112-E52B250C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00FC0-2206-4C8B-BDE0-D6D88A62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03954-783F-4ECE-816E-AD73C1D5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12B12-FDC3-41EA-8390-A4E1CBE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8A67C-EC4B-445F-9554-60674AE5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DE835-B3B7-4E56-B2DD-E182B71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29DDC8-1967-4356-A19B-4D7233E8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683F1-AD32-4993-9247-C2758829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602D6-8D18-4B1B-ACE6-6EB2D8D3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56690-004D-4B90-9EA3-D81CF3DA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08C2-0DDB-4751-8A08-1AF8DB35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796FF-199C-4A77-A8B6-366FCD82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F009A-7DF2-4169-BA3C-CD227FA0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9B01F-F64B-444C-8ECD-1AA6D424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FEA5B-EBA8-4CE5-A624-70F54723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94F07-01FE-4D6A-B348-1228855F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89C8F-4A82-4B65-B5F1-8FB2EBE1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FACEC-9221-46BF-905F-3A5A8457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354AD-F9D4-4ED6-BB4E-A6B37D88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60B47-0EF9-4CF9-BE2C-ED29D52B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E85503-FD19-4184-B9B2-C23131CC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E28-0636-4C94-98D0-FBAE6ADC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1DCD-8E65-414F-89CE-E7D6F260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80041-4087-4153-AE60-5AFBED2F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D7EC8-A08F-4482-9E22-211BEFF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AD4DB-F572-4A79-85A0-CDC9BEF8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7BDDD-E2BD-4D66-9910-1ACD85D1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83A7B-830E-4223-8CEC-BFF6487F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23BD4-372A-41FE-B6A6-C4639F0E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8ACAA-9439-4C29-999F-8D03E5F8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2E698-1372-4DAE-9E23-6F7529BA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F3F53-7954-4730-97C0-CEF71A64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BA2FD-F422-4691-818E-2CDCA7E2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1FB2-581D-4014-893E-D9695EB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12781-F3A3-4E5E-8373-7756A9EE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534FA-A12C-47C1-BD53-29830484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CE332D-F40A-4A97-85C8-1135FA5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453F7-CD59-45FC-90CD-8EEDA17F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409BE-0F6B-4CC1-92D6-2ED495BA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72A33-63BA-4DD7-9E5A-A3538420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B5BB2-0BDE-49C5-ADB1-9790490E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FA08C-CC75-4B2D-AD21-30A56DEA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35F55D-0B3A-4D3C-B281-FCADC774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1EFB4-69C0-4280-B96C-9DBC11D7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68F5-FD1A-4F3C-A84C-98FF4A1F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5613A9-ABF3-402C-A565-65C63582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6C781-09F1-4E3E-9685-F4163A66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51D1FF-87DA-4F37-B0CA-3FCEA37D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EB6C1-055B-4180-A5E4-2D5B0DF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1552C4-8038-4895-9E57-BCCDF478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B7373-2541-44E3-8FE6-9491B5CA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5F7E9-29D7-4712-A44D-D9C67629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A5ABD-C5D6-460F-939E-FB90F7CB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44C79-D239-4C28-83E6-622F1F1F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B6A4-6AEE-4FA1-AFEF-F42326E7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8AA0-A5AD-4B2B-87FF-58F83436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43D5-2DD9-480D-A25F-D24B4891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722B-94A6-4378-BA46-61B47D4E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8F07-E3AE-4E10-BF9D-B8F5C08B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7E76-A972-4F6D-BC59-010208DE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3EFB-B0D5-44B9-A610-3203E55C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B58-7F7C-4C2D-A62F-3F8A1905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1483-8C87-4786-8D69-708CD68C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4373-1995-40D6-BC8D-AF45ABB3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4B7A-E9D4-48D1-9040-82F86DD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F6F4-95A4-47EF-AE67-DB9128B0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95CC4-BB84-4CA2-82A6-DE2DC027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F99F-6CBF-427C-87AD-03EE9B53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B387-7365-44A9-AABD-48086E0B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36CE-2CC0-478E-8FD6-150552B2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562F-8D2B-4176-9F88-ED6613BB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9C76-4198-4379-B0BD-9029950A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B08-4F24-49CD-82CE-E96D5640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4B41-21BA-4442-8CEF-2028B1B0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54C6-66E4-4560-95D2-934ECFEA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B16E-BAC6-43D8-B377-88F432EF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CA23-20E3-452D-BFF2-9EC82C73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15B7F-C52E-40F4-A6D2-7F2B0732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3F5B-009D-4DA9-A3AF-257FE41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B8425-FFDE-40DD-A49D-536BBCD5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0B38-A236-4654-ABA0-725B8572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47FF-E35C-490D-A92B-7A4CC4F0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B4ECD-6498-41AB-8DB6-BB26EF7B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925-0402-4E45-87A3-E27803C8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1BB6-18CD-404F-8158-0EE864AC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C6F8-4885-4455-BEA0-DE867858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82E0-1AF4-4959-B1A6-F21094B4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031B-BD09-441E-A4D8-2B8FDBDE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36E7-5A55-496E-8C17-36189C76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19FB-C055-48A5-BCC2-1E999998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14C1E-B83C-46A0-99F1-D2BDD1CD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1740C-FABF-4567-85E2-8C97878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A2F4D-0C15-40B4-8156-5B2D7CF7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D60A7-CCA4-4298-B52D-6CB80CD7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F78-8AA7-4377-AE3A-B4B87724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C5CB-0556-435E-9852-A84E7A6D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F833-341F-4393-AACA-23FF7A15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DCEC5-9945-40BE-B4B1-FF4C102A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DE78B-8540-4294-8803-E211079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2356-104F-40AA-9ACB-BC1D3C46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5611-4B56-43A4-974B-D82377AC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F38CB-C691-4B9C-A707-8936B697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AF9D-3CF0-4EA8-B02B-764116E1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23ADB-28A0-496F-9F10-CD981D55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959DF-EBF9-4558-8453-CCA7C3D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37F-F4C4-427F-B229-51E95A1D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40D6-2639-4FBD-87F4-76A2484D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E491-1473-42B7-88A7-ADB31417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94970-C8CA-4190-A358-2A58DEE7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5AC2-779E-4071-AB4C-B5DD6804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20A66-0D3C-4F1B-AB26-9CA63414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40B1-6B55-454D-BEB0-C0E59FF1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B7E92-68B8-4D83-BE32-A210671E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27EFC-F22B-4887-A764-34CD39CC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9A62-503A-47B9-B3ED-7CB3C5F5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0EC89-A83A-4AB4-B0BC-EB05E6F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848-3818-4D8E-9212-302E19C2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5C8F5-4943-4966-BC45-D0EF649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61667-381F-4F51-BC56-4E5D3E8B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0CC0A-82D9-4C27-A920-E3E3813A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D122-1C80-4D38-ACF5-ECFC2FF1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B41FD-47FD-4645-B1DD-C38B3449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D2990-F727-4200-8BE3-84AC0CF9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1BEBA-8750-45E4-9C5B-7D3C422A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B57BE-50E0-4839-9CB8-9A95D94B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4FD8F-ABB6-4458-9332-8FA8314E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F2E57-2221-43A7-A1B5-1F40E551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26B-C1AE-42FE-85F6-5ABB6B92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38EF3-1751-4D3B-8AAA-E125954E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871BD-61DA-49CC-B159-191C3BEB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0DA5B-C5D1-408F-AF1D-7D36ACAB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F97FA-B635-406D-B055-5D1DDFF6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991E-121B-48BB-9256-C42339C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1B242-7C15-417F-A604-5AA38725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03B05-FD17-42CC-84B8-8E60713A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3D5DA-1890-448C-9BA4-6FB55E18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50005-3815-4466-8DE4-E7E4D246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47AE9-5075-43B0-AE1E-55AFF7D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83E0-4330-4C7F-A1EE-6D5121FD73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B6BD-9480-4F39-B506-3FD6B7ED674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464C-C754-4278-BBDF-B94A96C6FAE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FB93-912A-4429-B4BC-8E2EE739FC1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EC70-7576-4563-9B43-979C1CDF5FF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D0CD-8D59-44AC-9C2F-201BEF05DC4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8B0-E486-43AC-BBB7-958ACD7DCBF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2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3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4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4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2228-48D2-4C96-870C-E45208BBDBE8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6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5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5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4F5E-867E-4A15-8C59-58198D1A097E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5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5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5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2765-64D2-4E2A-900E-8F9A3C78555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4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5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5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5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FDD3-519B-4923-B22A-8F5E2FDFBF9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7319-65C6-4AFC-82F8-DD92B0EEC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B820-710E-448B-BFA9-FE06113FB2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14D2-A7B4-487C-8131-332B5A418CB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8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0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21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22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22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BDF3-2A69-4C3B-AFDD-C782116143A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31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3" name="Rectangle 4"/>
            <p:cNvSpPr/>
            <p:nvPr/>
          </p:nvSpPr>
          <p:spPr>
            <a:xfrm>
              <a:off x="0" y="90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7953480" y="9000"/>
              <a:ext cx="1203120" cy="68486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5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316" name="Group 7"/>
              <p:cNvGrpSpPr/>
              <p:nvPr/>
            </p:nvGrpSpPr>
            <p:grpSpPr>
              <a:xfrm>
                <a:off x="8381880" y="-360"/>
                <a:ext cx="762120" cy="2277720"/>
                <a:chOff x="8381880" y="-360"/>
                <a:chExt cx="762120" cy="2277720"/>
              </a:xfrm>
            </p:grpSpPr>
            <p:grpSp>
              <p:nvGrpSpPr>
                <p:cNvPr id="317" name="Group 8"/>
                <p:cNvGrpSpPr/>
                <p:nvPr/>
              </p:nvGrpSpPr>
              <p:grpSpPr>
                <a:xfrm>
                  <a:off x="8710560" y="-360"/>
                  <a:ext cx="279360" cy="275400"/>
                  <a:chOff x="8710560" y="-360"/>
                  <a:chExt cx="279360" cy="275400"/>
                </a:xfrm>
              </p:grpSpPr>
              <p:grpSp>
                <p:nvGrpSpPr>
                  <p:cNvPr id="318" name="Group 9"/>
                  <p:cNvGrpSpPr/>
                  <p:nvPr/>
                </p:nvGrpSpPr>
                <p:grpSpPr>
                  <a:xfrm>
                    <a:off x="8710560" y="-360"/>
                    <a:ext cx="279360" cy="275400"/>
                    <a:chOff x="8710560" y="-360"/>
                    <a:chExt cx="279360" cy="275400"/>
                  </a:xfrm>
                </p:grpSpPr>
                <p:sp>
                  <p:nvSpPr>
                    <p:cNvPr id="319" name="Freeform 10"/>
                    <p:cNvSpPr/>
                    <p:nvPr/>
                  </p:nvSpPr>
                  <p:spPr>
                    <a:xfrm rot="16200000">
                      <a:off x="8749440" y="-392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Freeform 11"/>
                    <p:cNvSpPr/>
                    <p:nvPr/>
                  </p:nvSpPr>
                  <p:spPr>
                    <a:xfrm rot="16200000">
                      <a:off x="8758800" y="91800"/>
                      <a:ext cx="1407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1" name="Oval 12"/>
                  <p:cNvSpPr/>
                  <p:nvPr/>
                </p:nvSpPr>
                <p:spPr>
                  <a:xfrm rot="16200000">
                    <a:off x="8830080" y="138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13"/>
                  <p:cNvSpPr/>
                  <p:nvPr/>
                </p:nvSpPr>
                <p:spPr>
                  <a:xfrm rot="16200000">
                    <a:off x="8763840" y="6984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4"/>
                  <p:cNvSpPr/>
                  <p:nvPr/>
                </p:nvSpPr>
                <p:spPr>
                  <a:xfrm rot="16200000">
                    <a:off x="8834760" y="5724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15"/>
                  <p:cNvSpPr/>
                  <p:nvPr/>
                </p:nvSpPr>
                <p:spPr>
                  <a:xfrm rot="16200000">
                    <a:off x="8904240" y="107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6"/>
                  <p:cNvSpPr/>
                  <p:nvPr/>
                </p:nvSpPr>
                <p:spPr>
                  <a:xfrm rot="16200000">
                    <a:off x="8830080" y="200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7"/>
                  <p:cNvSpPr/>
                  <p:nvPr/>
                </p:nvSpPr>
                <p:spPr>
                  <a:xfrm rot="16200000">
                    <a:off x="8778600" y="175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7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2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6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5" name="Group 26"/>
              <p:cNvGrpSpPr/>
              <p:nvPr/>
            </p:nvGrpSpPr>
            <p:grpSpPr>
              <a:xfrm>
                <a:off x="7848720" y="1607040"/>
                <a:ext cx="828720" cy="4703400"/>
                <a:chOff x="7848720" y="1607040"/>
                <a:chExt cx="828720" cy="4703400"/>
              </a:xfrm>
            </p:grpSpPr>
            <p:pic>
              <p:nvPicPr>
                <p:cNvPr id="33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7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0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1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9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6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5" name="Freeform 46"/>
            <p:cNvSpPr/>
            <p:nvPr/>
          </p:nvSpPr>
          <p:spPr>
            <a:xfrm>
              <a:off x="7953480" y="4911120"/>
              <a:ext cx="1190520" cy="193716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7939080" y="4860360"/>
              <a:ext cx="1219320" cy="199728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Freeform 48"/>
            <p:cNvSpPr/>
            <p:nvPr/>
          </p:nvSpPr>
          <p:spPr>
            <a:xfrm>
              <a:off x="7927920" y="2823120"/>
              <a:ext cx="1231920" cy="403128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Freeform 49"/>
            <p:cNvSpPr/>
            <p:nvPr/>
          </p:nvSpPr>
          <p:spPr>
            <a:xfrm>
              <a:off x="8010360" y="3542760"/>
              <a:ext cx="979560" cy="21812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Freeform 50"/>
            <p:cNvSpPr/>
            <p:nvPr/>
          </p:nvSpPr>
          <p:spPr>
            <a:xfrm>
              <a:off x="8244000" y="435600"/>
              <a:ext cx="914400" cy="50410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8250120" y="270720"/>
              <a:ext cx="909720" cy="30672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Freeform 52"/>
            <p:cNvSpPr/>
            <p:nvPr/>
          </p:nvSpPr>
          <p:spPr>
            <a:xfrm>
              <a:off x="7943760" y="9000"/>
              <a:ext cx="576360" cy="33480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Freeform 53"/>
            <p:cNvSpPr/>
            <p:nvPr/>
          </p:nvSpPr>
          <p:spPr>
            <a:xfrm>
              <a:off x="7943760" y="10440"/>
              <a:ext cx="300240" cy="33483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Rectangle 54"/>
            <p:cNvSpPr/>
            <p:nvPr/>
          </p:nvSpPr>
          <p:spPr>
            <a:xfrm>
              <a:off x="7866000" y="10440"/>
              <a:ext cx="88920" cy="68486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7958160" y="6230160"/>
              <a:ext cx="1165320" cy="61812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AutoShape 56"/>
            <p:cNvSpPr/>
            <p:nvPr/>
          </p:nvSpPr>
          <p:spPr>
            <a:xfrm rot="5400000">
              <a:off x="4328640" y="3320640"/>
              <a:ext cx="6848640" cy="225360"/>
            </a:xfrm>
            <a:custGeom>
              <a:avLst/>
              <a:gdLst>
                <a:gd name="textAreaLeft" fmla="*/ 667440 w 6848640"/>
                <a:gd name="textAreaRight" fmla="*/ 6181200 w 68486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D5D6-62D1-4FD4-9818-A65473F7E0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6B28-7304-41A1-BC8C-25ADF04595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5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461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465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6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7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8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9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7BFA-7883-4B61-89E7-E606B0CC76D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4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5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15E-5BF2-4C43-8D9C-FCE55DC8EAA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Семинар для педагогов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 «Рабочие программы учителя основной инструмент реализации ФГОС УО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900000" y="3860280"/>
            <a:ext cx="7344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: И.Н.Моржана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: П.И. Омар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Дата: 13.12.2021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4"/>
          <p:cNvSpPr/>
          <p:nvPr/>
        </p:nvSpPr>
        <p:spPr>
          <a:xfrm>
            <a:off x="5502960" y="4500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0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2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1143000" y="313920"/>
            <a:ext cx="721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 в РФ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татья 2.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ные понятия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спользуемые в настоящем Федеральном зако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Адаптированная </a:t>
            </a:r>
            <a:r>
              <a:rPr b="1" lang="ru-RU" sz="2000" spc="-1" strike="noStrike">
                <a:solidFill>
                  <a:srgbClr val="2f1311"/>
                </a:solidFill>
                <a:latin typeface="Calibri"/>
              </a:rPr>
              <a:t>основная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общеобразовательная программа — это  образовательная программа </a:t>
            </a:r>
            <a:r>
              <a:rPr b="1" lang="ru-RU" sz="2000" spc="-1" strike="noStrike">
                <a:solidFill>
                  <a:srgbClr val="2f1311"/>
                </a:solidFill>
                <a:latin typeface="Calibri"/>
              </a:rPr>
              <a:t>общего образования детей с ограниченными возможностями здоровья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, разработанная на основе ФГОС обучающихся с ОВЗ с учетом особенностей их психофизического развития, индивидуальных возможностей, и обеспечивающая коррекцию нарушений развития и социальную адаптацию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6" name="Прямоугольник 10"/>
          <p:cNvSpPr/>
          <p:nvPr/>
        </p:nvSpPr>
        <p:spPr>
          <a:xfrm>
            <a:off x="5431320" y="4572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394920" y="62028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огласно ч. 7 ст. 12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рганизации, осуществляющие образовательную деятельность по имеющим государственную аккредитацию образовательным программам, разрабатывают образовательные программы в соответствии с федеральными государственными образовательными стандартами и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с учетом соответствующих примерных основных образовательных програ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Прямоугольник 1"/>
          <p:cNvSpPr/>
          <p:nvPr/>
        </p:nvSpPr>
        <p:spPr>
          <a:xfrm>
            <a:off x="785880" y="357120"/>
            <a:ext cx="7929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сключительным правом на разработку и утверждение АООП обладает образовательная организация. Согласно ч. 5 ст. 12 Федерального закона № 273-ФЗ «образовательные программы самостоятельно разрабатываются и утверждаются организацией, осуществляющей образовательную деятельность». Ст. 28«Компетенция, права, обязанности и ответственность образовательной организации» подтверждает это положение. Она относит к компетенции образовательной организации в установленной сфере деятельности разработку и утверждение образовательных программ образовательной организации. Сама же ОО решает вопрос о целесообразности проведения экспертизы разработанной АООП. Согласования образовательной программы не требуется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Прямоугольник 1"/>
          <p:cNvSpPr/>
          <p:nvPr/>
        </p:nvSpPr>
        <p:spPr>
          <a:xfrm>
            <a:off x="428760" y="336600"/>
            <a:ext cx="7858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 ФГОС О УО выделены 2 варианта АООП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ля детей с легкой умственной отсталостью, у которых нет других наруш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ля детей с умеренной, тяжелой и глубокой умственной отсталостью, с множественными нарушениями, обучаются по СИП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пределение варианта АООП для обучающегося с ОВЗ осуществляется в соответствии с рекомендациями психолого-медико-педагогической комиссией (далее – ПМПК). А в случае наличия у него ИПРА – с учетом ее требований и мнения родителей. В процессе реализации АООП возможен переход с одного варианта на другой в соответствии с динамикой развития ребенка и подтвержденной рекомендациями ПМПК и с учетом мнения родителей</a:t>
            </a:r>
            <a:r>
              <a:rPr b="0" lang="ru-RU" sz="2400" spc="-1" strike="noStrike" baseline="30000">
                <a:solidFill>
                  <a:srgbClr val="00206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Рабочая программа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мативно-управленческий документ образовательного учреждения, характеризующий систему организации образовательной деятельности педаго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ая программа показывает, как с учетом конкретных условий, образовательных потребностей и особенностей развития обучающихся, педагог создает индивидуальную педагогическую модель образования на основе ФГО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аким образом, рабочая программа по предмету - это документ, который составляется с учетом особенностей образовательного учреждения, особенностей обучающегося конкретного кла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Рабочая программа - индивидуальный инструмент педагога, в котором он определяет наиболее оптимальные и эффективные для определенного класса содержание, формы, методы и приемы организации образовательного процесса с целью получения результата, соответствующего требованиям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стандар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mbria"/>
              </a:rPr>
              <a:t>ЛИЧНОСТНЫЕ РЕЗУЛЬТАТЫ ОБРАЗОВАТЕЛЬНОЙ ДЕЯТЕЛЬНОСТИ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ценностных отношений обучающихся — к себе, другим участникам образовательного процесса, самому образовательному процессу и его результатам, сформированные в образовательном процессе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mbria"/>
              </a:rPr>
              <a:t>Деятельностный подхо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одход к организации процесса обучения, в котором на первый план выходит проблема самоопределения ученика в учебном процессе. Целью деятельностного подхода является воспитание личности ребенка как субъекта жизнедея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истема оценки учебных достижений обучающихс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и состав инструментария, включающая описание объекта и содержание оценки (требования, структурированные в соответствии с используемой таксономией); критерии и процедуры оценивания; формы представления результатов; условия и границы примен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ВНЕУРОЧНАЯ (ВНЕУЧЕБНАЯ) ДЕЯТЕЛЬНОСТЬ обучающихся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85440" y="1828800"/>
            <a:ext cx="8101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деятельностная организация на основе вариативной составляющей базисного учебного плана, организуемая участниками образовательного процесса, отличная от урочной системы обучения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mbria"/>
              </a:rPr>
              <a:t>Структура Программы учебных предметов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mbria"/>
              </a:rPr>
              <a:t>(по ФГОС) 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пояснительную записку, в которой конкретизируются общие цели образования с учетом специфики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общую характеристику учебного предмета, коррекционного курса с учетом особенностей его освоения обучающимис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описание места учебного предмета в учебном пла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личностные и предметные результаты освоения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содержание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 описание материально-технического обеспечения 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329"/>
                </a:solidFill>
                <a:latin typeface="Cambria"/>
              </a:rPr>
              <a:t>Понятийный аппара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учающийся с ограниченными возможностями здоровь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физическо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специальны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273-ФЗ, ст.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татус «Ребенок с ОВЗ» устанавливает ПМП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1b1d"/>
                </a:solidFill>
                <a:latin typeface="Calibri"/>
              </a:rPr>
              <a:t>Примерные варианты тематического пла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357120" y="642960"/>
          <a:ext cx="8572680" cy="5857920"/>
        </p:xfrm>
        <a:graphic>
          <a:graphicData uri="http://schemas.openxmlformats.org/drawingml/2006/table">
            <a:tbl>
              <a:tblPr/>
              <a:tblGrid>
                <a:gridCol w="428760"/>
                <a:gridCol w="928800"/>
                <a:gridCol w="772920"/>
                <a:gridCol w="754200"/>
                <a:gridCol w="901440"/>
                <a:gridCol w="862200"/>
                <a:gridCol w="988920"/>
                <a:gridCol w="957240"/>
                <a:gridCol w="988920"/>
                <a:gridCol w="9892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ланируемые результаты п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уем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сновные вид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териально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ограмм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ГОС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зовые учеб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хническо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йствия (БУД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еспечение, в т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разовательной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ч. ЭО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1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1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Rectangle 1"/>
          <p:cNvSpPr/>
          <p:nvPr/>
        </p:nvSpPr>
        <p:spPr>
          <a:xfrm>
            <a:off x="3432960" y="-729000"/>
            <a:ext cx="227808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3480" rIns="660240" tIns="57456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КТП (форма 4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6" name=""/>
          <p:cNvGraphicFramePr/>
          <p:nvPr/>
        </p:nvGraphicFramePr>
        <p:xfrm>
          <a:off x="142920" y="928800"/>
          <a:ext cx="8858160" cy="2514600"/>
        </p:xfrm>
        <a:graphic>
          <a:graphicData uri="http://schemas.openxmlformats.org/drawingml/2006/table">
            <a:tbl>
              <a:tblPr/>
              <a:tblGrid>
                <a:gridCol w="665280"/>
                <a:gridCol w="641160"/>
                <a:gridCol w="1278000"/>
                <a:gridCol w="900000"/>
                <a:gridCol w="1095480"/>
                <a:gridCol w="1200240"/>
                <a:gridCol w="1334880"/>
                <a:gridCol w="871560"/>
                <a:gridCol w="871560"/>
              </a:tblGrid>
              <a:tr h="1234800">
                <a:tc rowSpan="3">
                  <a:txBody>
                    <a:bodyPr lIns="0" rIns="0" tIns="0" bIns="0" anchor="b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(дата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одержани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 ФГО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уем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зовые учеб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йствия (БУД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редства обучения и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ррекционной рабо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ом,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7" name="Rectangle 2"/>
          <p:cNvSpPr/>
          <p:nvPr/>
        </p:nvSpPr>
        <p:spPr>
          <a:xfrm>
            <a:off x="3869640" y="18288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КТП (форма 5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1049" name="Picture 2" descr="C:\Users\Sideswipe\Desktop\slide_14.jpg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2" name="Прямоугольник 4"/>
          <p:cNvSpPr/>
          <p:nvPr/>
        </p:nvSpPr>
        <p:spPr>
          <a:xfrm>
            <a:off x="5502960" y="4500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0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0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1143000" y="159840"/>
            <a:ext cx="721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 в РФ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татья 2.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ные понятия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спользуемые в настоящем Федеральном зако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разовательная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ограмма, адаптированная для обуче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7" name="Прямоугольник 10"/>
          <p:cNvSpPr/>
          <p:nvPr/>
        </p:nvSpPr>
        <p:spPr>
          <a:xfrm>
            <a:off x="5431320" y="4572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5560" y="571320"/>
            <a:ext cx="749124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190b81"/>
                </a:solidFill>
                <a:latin typeface="Calibri"/>
              </a:rPr>
              <a:t>Понятийный аппарат: сокращения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356840" y="981000"/>
            <a:ext cx="7659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ИУ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дивидуальный учебный п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СИП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пециальная индивидуальная программа разви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ИП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дивидуальная программа реабилитации (инвали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АОО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даптированная основная образовательная программа (образовательного учрежд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АО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даптированная образовательная программа (обучающегося с ОВ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БУ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азовые учебные действия (для нецензового образ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Федеральный государственный образовательный стандарт - как понятие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андарт</a:t>
            </a:r>
            <a:r>
              <a:rPr b="1" i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(от англ. </a:t>
            </a:r>
            <a:r>
              <a:rPr b="0" i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tandard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— норма, образец) в широком смысле слова — образец, эталон, модель, принимаемые за исходные для сопоставления с ними др. подобных объектов. Стандарт в Российской Федерации — документ,  устанавливающий комплекс норм, правил, требований к объек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разовательный станда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т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станавливает ряд требований к содержанию, структуре и условиям образования детей на разных ступенях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2" name="Рисунок 1" descr="http://kirovskschool2.ucoz.ru/school/fgos_noo/f.jpg"/>
          <p:cNvPicPr/>
          <p:nvPr/>
        </p:nvPicPr>
        <p:blipFill>
          <a:blip r:embed="rId1"/>
          <a:stretch/>
        </p:blipFill>
        <p:spPr>
          <a:xfrm>
            <a:off x="6072120" y="6000840"/>
            <a:ext cx="28958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mbria"/>
              </a:rPr>
              <a:t>Федеральный государственный образовательный стандарт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Нормативный документ, определяющий совокупность требований к результатам освоения основной образовательной программы, ее структуре и условиям реализ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Федеральный государственный образовательный стандарт образования обучающихся с умственной отсталостью (интеллектуальными нарушениями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ость обязательных требований при реализации адаптированных основных общеобразовательных программ  в организациях, осуществляющих образовательную деятельность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mbria"/>
              </a:rPr>
              <a:t>Под специальными условиями для получения образовани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–</a:t>
            </a:r>
            <a:r>
              <a:rPr b="0" i="1" lang="ru-RU" sz="1800" spc="-1" strike="noStrike">
                <a:solidFill>
                  <a:srgbClr val="35353e"/>
                </a:solidFill>
                <a:latin typeface="Calibri"/>
              </a:rPr>
              <a:t>обучающими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ограниченными возможностями здоровья понимаются условия обучения, воспитания и развития таких обучающихся, включающие в себя использование специальных образовательных программ и методов обучения и воспитания, специальных учебников, учебных пособий и дидактических материалов, специальных технических средств обучения коллективного и индивидуального пользования, предоставление услуг ассистента (помощника), оказывающего обучающимся необходимую техническую помощь, проведение групповых  и индивидуальных коррекционных занятий, обеспечение доступа в здания организаций, осуществляющих образовательную деятельность, и другие условия, без которых невозможно или затруднено освоение образовательных программ обучающимися с ограниченными возможностями здоровь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Прямоугольник 3"/>
          <p:cNvSpPr/>
          <p:nvPr/>
        </p:nvSpPr>
        <p:spPr>
          <a:xfrm>
            <a:off x="428760" y="750960"/>
            <a:ext cx="83912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 терминологии Федерального закона № 273-ФЗ «Об образовании в Российской Федерации» от 29 декабря 2012 г. образовательные программы для обучающихся с ОВЗ относятся к адаптированным образовательным программам. В соответствии с п. 28 ст. 2 Федерального закона № 273-ФЗ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8:21:11Z</dcterms:created>
  <dc:creator>Sideswipe</dc:creator>
  <dc:description/>
  <dc:language>en-US</dc:language>
  <cp:lastModifiedBy>HP</cp:lastModifiedBy>
  <dcterms:modified xsi:type="dcterms:W3CDTF">2023-07-06T09:47:03Z</dcterms:modified>
  <cp:revision>21</cp:revision>
  <dc:subject/>
  <dc:title>Слайд 1</dc:title>
</cp:coreProperties>
</file>