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4.gif" ContentType="image/gif"/>
  <Override PartName="/ppt/media/image10.gif" ContentType="image/gif"/>
  <Override PartName="/ppt/media/image13.png" ContentType="image/png"/>
  <Override PartName="/ppt/media/image9.png" ContentType="image/png"/>
  <Override PartName="/ppt/media/image5.gif" ContentType="image/gif"/>
  <Override PartName="/ppt/media/image8.png" ContentType="image/png"/>
  <Override PartName="/ppt/media/image14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.gif" ContentType="image/gif"/>
  <Override PartName="/ppt/media/image6.png" ContentType="image/png"/>
  <Override PartName="/ppt/media/image19.jpeg" ContentType="image/jpeg"/>
  <Override PartName="/ppt/media/image11.png" ContentType="image/png"/>
  <Override PartName="/ppt/media/image3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D379-EBED-4F78-9D44-D4004C4B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3364-C424-4538-8A74-75F2245A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1263-6ACF-4F16-9EA9-91B7A019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C5C5-5A7A-4670-ADD0-7BF88A73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0903-6A46-4243-BDCF-C0EE787A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BB0F-E80F-41F4-995E-250D769D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30A6-4C9F-49C4-8800-CA314655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D660-FCA8-48E8-8A48-920F9C53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AF0B-F3DE-4C01-AF5B-AD7F18FD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78F1-2B8E-462E-B653-B6EDB4BE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03C3-FE67-4780-8722-BA5FE147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4160-7EC4-4BD6-A990-3148763E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D9C2-257D-45E3-84D8-3B9B282401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image" Target="../media/image10.gi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hyperlink" Target="http://www.smayli.ru/smile/multyashki-1805.html" TargetMode="External"/><Relationship Id="rId4" Type="http://schemas.openxmlformats.org/officeDocument/2006/relationships/image" Target="../media/image23.gif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1643040"/>
            <a:ext cx="7958160" cy="179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рок литературного чтени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тему: Сергей Владимирович Михалков «Мой щенок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000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C:\Documents and Settings\ИРИНА\Рабочий стол\БУКВЫ\Все букофки\Буквы с цветами\a.gif"/>
          <p:cNvPicPr/>
          <p:nvPr/>
        </p:nvPicPr>
        <p:blipFill>
          <a:blip r:embed="rId2"/>
          <a:stretch/>
        </p:blipFill>
        <p:spPr>
          <a:xfrm>
            <a:off x="6786720" y="214200"/>
            <a:ext cx="1214280" cy="1386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rcRect l="0" t="0" r="0" b="8133"/>
          <a:stretch/>
        </p:blipFill>
        <p:spPr>
          <a:xfrm>
            <a:off x="0" y="3643200"/>
            <a:ext cx="292896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0" y="0"/>
            <a:ext cx="9144000" cy="9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па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бан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( ведро для воды,  кувшин с крышко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довка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заведующая складом, помещение для хранения клада, пристройка к дому, где хранятся вещи и проду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челиный рой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семья пчёл, пчелиные гонк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билась с ног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измучиться, сбить себе ноги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жит пластом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лежать на пластыре, вытянуться, лежать не шевеляс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БАН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–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суд с крышк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images.jpg"/>
          <p:cNvPicPr/>
          <p:nvPr/>
        </p:nvPicPr>
        <p:blipFill>
          <a:blip r:embed="rId1"/>
          <a:stretch/>
        </p:blipFill>
        <p:spPr>
          <a:xfrm>
            <a:off x="2857680" y="1714680"/>
            <a:ext cx="350028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7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довка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- пристройка к дому, где хранятся вещи и продукт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kladovka -1.jpg"/>
          <p:cNvPicPr/>
          <p:nvPr/>
        </p:nvPicPr>
        <p:blipFill>
          <a:blip r:embed="rId1"/>
          <a:stretch/>
        </p:blipFill>
        <p:spPr>
          <a:xfrm>
            <a:off x="1285920" y="2214720"/>
            <a:ext cx="6621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челиный рой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пчё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3" descr="images (1).jpg"/>
          <p:cNvPicPr/>
          <p:nvPr/>
        </p:nvPicPr>
        <p:blipFill>
          <a:blip r:embed="rId1"/>
          <a:stretch/>
        </p:blipFill>
        <p:spPr>
          <a:xfrm>
            <a:off x="1143000" y="1785960"/>
            <a:ext cx="72151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билась с ног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училась, уст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Щенок. Иллюстрация к сказке"/>
          <p:cNvPicPr/>
          <p:nvPr/>
        </p:nvPicPr>
        <p:blipFill>
          <a:blip r:embed="rId1"/>
          <a:stretch/>
        </p:blipFill>
        <p:spPr>
          <a:xfrm>
            <a:off x="1714680" y="2071800"/>
            <a:ext cx="607212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L -0.48629 0.00185 E">
                                      <p:cBhvr>
                                        <p:cTn id="20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жать пластом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ть не шевеля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4" descr="Щенок. Иллюстрация к сказке"/>
          <p:cNvPicPr/>
          <p:nvPr/>
        </p:nvPicPr>
        <p:blipFill>
          <a:blip r:embed="rId1"/>
          <a:stretch/>
        </p:blipFill>
        <p:spPr>
          <a:xfrm>
            <a:off x="1143000" y="2071800"/>
            <a:ext cx="66736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71720" y="64296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ешем щеткой мы щенка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удет шерстка так мягка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качет радостный щенок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крыть он радости не мог!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Documents and Settings\Лиля\Рабочий стол\yorkshire-para-adocao-2.jpg"/>
          <p:cNvPicPr/>
          <p:nvPr/>
        </p:nvPicPr>
        <p:blipFill>
          <a:blip r:embed="rId2"/>
          <a:stretch/>
        </p:blipFill>
        <p:spPr>
          <a:xfrm>
            <a:off x="3419640" y="4292640"/>
            <a:ext cx="352872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250920" y="260280"/>
            <a:ext cx="8572320" cy="66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групп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группа и 2 группа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олните пропущенные пункты пла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группа: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йствия щ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 всех буд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……………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ёдом жбан переверн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……………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……………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Еле вылез и проп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группа: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асения дев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кр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угое имя д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………………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кнет под дожд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8800" y="907560"/>
            <a:ext cx="7758000" cy="94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те те слова, которые характеризуют девочку и щенк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руппа и 4групп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7733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Девочка                                  Щен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брая                                     Озорной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ветственная                           Труслив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енивая                                     Глуп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ботливая                               Любопыт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лая                                      Непослуш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внодушная                                  Зл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Жестокая                                Шаловлив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нимательная                               Ум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-30240" y="1440"/>
            <a:ext cx="2614680" cy="2857680"/>
          </a:xfrm>
          <a:prstGeom prst="rect">
            <a:avLst/>
          </a:prstGeom>
          <a:ln w="0">
            <a:noFill/>
          </a:ln>
        </p:spPr>
      </p:pic>
      <p:sp>
        <p:nvSpPr>
          <p:cNvPr id="93" name="Прямая соединительная линия 15"/>
          <p:cNvSpPr/>
          <p:nvPr/>
        </p:nvSpPr>
        <p:spPr>
          <a:xfrm flipH="1">
            <a:off x="5643720" y="3430440"/>
            <a:ext cx="144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            </a:t>
            </a:r>
            <a:r>
              <a:rPr b="1" lang="ru-RU" sz="4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евочка           Щено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брая                   Озорной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ветственная       Любопыт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ботливая          Непослуш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нимательная        Шаловлив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:\Documents and Settings\ИРИНА\Рабочий стол\БУКВЫ\Все букофки\Буквы с цветами\a.gif"/>
          <p:cNvPicPr/>
          <p:nvPr/>
        </p:nvPicPr>
        <p:blipFill>
          <a:blip r:embed="rId2"/>
          <a:stretch/>
        </p:blipFill>
        <p:spPr>
          <a:xfrm>
            <a:off x="1785960" y="5214960"/>
            <a:ext cx="1214280" cy="1386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C:\Documents and Settings\ИРИНА\Рабочий стол\БУКВЫ\Все букофки\Буквы с цветами\e.gif"/>
          <p:cNvPicPr/>
          <p:nvPr/>
        </p:nvPicPr>
        <p:blipFill>
          <a:blip r:embed="rId3"/>
          <a:stretch/>
        </p:blipFill>
        <p:spPr>
          <a:xfrm>
            <a:off x="0" y="3571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Documents and Settings\ИРИНА\Рабочий стол\БУКВЫ\Все букофки\Буквы с цветами\o.gif"/>
          <p:cNvPicPr/>
          <p:nvPr/>
        </p:nvPicPr>
        <p:blipFill>
          <a:blip r:embed="rId4"/>
          <a:stretch/>
        </p:blipFill>
        <p:spPr>
          <a:xfrm>
            <a:off x="3000240" y="214200"/>
            <a:ext cx="121464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f017p29-1"/>
          <p:cNvPicPr/>
          <p:nvPr/>
        </p:nvPicPr>
        <p:blipFill>
          <a:blip r:embed="rId5"/>
          <a:stretch/>
        </p:blipFill>
        <p:spPr>
          <a:xfrm>
            <a:off x="4786200" y="214200"/>
            <a:ext cx="4143600" cy="63817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34" descr=""/>
          <p:cNvPicPr/>
          <p:nvPr/>
        </p:nvPicPr>
        <p:blipFill>
          <a:blip r:embed="rId6"/>
          <a:stretch/>
        </p:blipFill>
        <p:spPr>
          <a:xfrm>
            <a:off x="426960" y="1859040"/>
            <a:ext cx="44308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4996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теперь давайте выясним: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ли в доме есть животное- это хорошо или плохо?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овите плюсы и минус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26920" y="2708280"/>
          <a:ext cx="6985080" cy="3529080"/>
        </p:xfrm>
        <a:graphic>
          <a:graphicData uri="http://schemas.openxmlformats.org/drawingml/2006/table">
            <a:tbl>
              <a:tblPr/>
              <a:tblGrid>
                <a:gridCol w="2968920"/>
                <a:gridCol w="4016160"/>
              </a:tblGrid>
              <a:tr h="117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рош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хо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7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7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одержимое 2" descr=""/>
          <p:cNvPicPr/>
          <p:nvPr/>
        </p:nvPicPr>
        <p:blipFill>
          <a:blip r:embed="rId1"/>
          <a:stretch/>
        </p:blipFill>
        <p:spPr>
          <a:xfrm>
            <a:off x="426960" y="2571840"/>
            <a:ext cx="8406000" cy="452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D:\Мои документы2\Презентации. Шаблоны 2\Виньетки\kniga02.png"/>
          <p:cNvPicPr/>
          <p:nvPr/>
        </p:nvPicPr>
        <p:blipFill>
          <a:blip r:embed="rId2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кот и рыбки.gif"/>
          <p:cNvPicPr/>
          <p:nvPr/>
        </p:nvPicPr>
        <p:blipFill>
          <a:blip r:embed="rId3"/>
          <a:stretch/>
        </p:blipFill>
        <p:spPr>
          <a:xfrm>
            <a:off x="2214720" y="285840"/>
            <a:ext cx="2520720" cy="18860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" descr="хомяк.gif"/>
          <p:cNvPicPr/>
          <p:nvPr/>
        </p:nvPicPr>
        <p:blipFill>
          <a:blip r:embed="rId4"/>
          <a:stretch/>
        </p:blipFill>
        <p:spPr>
          <a:xfrm>
            <a:off x="6429240" y="214200"/>
            <a:ext cx="1643040" cy="21909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3" descr="попугай.gif"/>
          <p:cNvPicPr/>
          <p:nvPr/>
        </p:nvPicPr>
        <p:blipFill>
          <a:blip r:embed="rId5"/>
          <a:stretch/>
        </p:blipFill>
        <p:spPr>
          <a:xfrm>
            <a:off x="7715160" y="2786040"/>
            <a:ext cx="1428840" cy="19242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5" descr="24.gif"/>
          <p:cNvPicPr/>
          <p:nvPr/>
        </p:nvPicPr>
        <p:blipFill>
          <a:blip r:embed="rId6"/>
          <a:stretch/>
        </p:blipFill>
        <p:spPr>
          <a:xfrm>
            <a:off x="285840" y="4357800"/>
            <a:ext cx="16430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14200" y="1856880"/>
            <a:ext cx="8715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омашнее задание по выбору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учить все стихотворение наизу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ыучить понравившийся отрывок из стихотвор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разительное чтение стихотвор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Содержимое 3" descr=""/>
          <p:cNvPicPr/>
          <p:nvPr/>
        </p:nvPicPr>
        <p:blipFill>
          <a:blip r:embed="rId1"/>
          <a:stretch/>
        </p:blipFill>
        <p:spPr>
          <a:xfrm>
            <a:off x="3638520" y="457200"/>
            <a:ext cx="4237200" cy="2840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128520" y="2322360"/>
            <a:ext cx="3936960" cy="4535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Анимашки Мультяшки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8000" y="3857760"/>
            <a:ext cx="2725920" cy="28080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"/>
          <p:cNvPicPr/>
          <p:nvPr/>
        </p:nvPicPr>
        <p:blipFill>
          <a:blip r:embed="rId5"/>
          <a:stretch/>
        </p:blipFill>
        <p:spPr>
          <a:xfrm>
            <a:off x="460440" y="160200"/>
            <a:ext cx="2111400" cy="19004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"/>
          <p:cNvPicPr/>
          <p:nvPr/>
        </p:nvPicPr>
        <p:blipFill>
          <a:blip r:embed="rId6"/>
          <a:stretch/>
        </p:blipFill>
        <p:spPr>
          <a:xfrm>
            <a:off x="7164360" y="2637000"/>
            <a:ext cx="1979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го задан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42680" y="2642760"/>
            <a:ext cx="6072120" cy="3017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.В. Михалков «Сила воли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4" descr="кот и рыбки.gif"/>
          <p:cNvPicPr/>
          <p:nvPr/>
        </p:nvPicPr>
        <p:blipFill>
          <a:blip r:embed="rId1"/>
          <a:stretch/>
        </p:blipFill>
        <p:spPr>
          <a:xfrm>
            <a:off x="2214720" y="285840"/>
            <a:ext cx="2520720" cy="1886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D:\Мои документы2\Презентации. Шаблоны 2\Виньетки\kniga02.png"/>
          <p:cNvPicPr/>
          <p:nvPr/>
        </p:nvPicPr>
        <p:blipFill>
          <a:blip r:embed="rId2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24.gif"/>
          <p:cNvPicPr/>
          <p:nvPr/>
        </p:nvPicPr>
        <p:blipFill>
          <a:blip r:embed="rId3"/>
          <a:stretch/>
        </p:blipFill>
        <p:spPr>
          <a:xfrm>
            <a:off x="214200" y="4429080"/>
            <a:ext cx="1643040" cy="21909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попугай.gif"/>
          <p:cNvPicPr/>
          <p:nvPr/>
        </p:nvPicPr>
        <p:blipFill>
          <a:blip r:embed="rId4"/>
          <a:stretch/>
        </p:blipFill>
        <p:spPr>
          <a:xfrm>
            <a:off x="7715160" y="3286080"/>
            <a:ext cx="1428840" cy="19242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" descr="хомяк.gif"/>
          <p:cNvPicPr/>
          <p:nvPr/>
        </p:nvPicPr>
        <p:blipFill>
          <a:blip r:embed="rId5"/>
          <a:stretch/>
        </p:blipFill>
        <p:spPr>
          <a:xfrm>
            <a:off x="6429240" y="214200"/>
            <a:ext cx="1643040" cy="219096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6" descr=""/>
          <p:cNvPicPr/>
          <p:nvPr/>
        </p:nvPicPr>
        <p:blipFill>
          <a:blip r:embed="rId6"/>
          <a:stretch/>
        </p:blipFill>
        <p:spPr>
          <a:xfrm>
            <a:off x="639720" y="2212920"/>
            <a:ext cx="7645320" cy="30481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7"/>
          <p:cNvSpPr/>
          <p:nvPr/>
        </p:nvSpPr>
        <p:spPr>
          <a:xfrm>
            <a:off x="2597400" y="5143680"/>
            <a:ext cx="624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уан де Сент-Экзюпе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1643040" y="357120"/>
            <a:ext cx="7072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тренажере спрятался герой нового произведе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ег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 щ  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   е    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   н   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    о   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    к   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71760" y="499680"/>
            <a:ext cx="6457680" cy="19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Владимирович Михалков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й щено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rcRect l="0" t="0" r="0" b="8133"/>
          <a:stretch/>
        </p:blipFill>
        <p:spPr>
          <a:xfrm>
            <a:off x="2419200" y="2637000"/>
            <a:ext cx="430560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аша дикция была четкой, учимся произносить скороговорк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14200" y="307188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ва щенка щека к щек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Щиплют щетку в уголк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ыразительного чтения, нужно уметь правильно ставить логическое ударение. Прочитайте предложения, выделяя голосом выделенное слов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57120" y="2714760"/>
            <a:ext cx="850104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люблю играть с щенком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лю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играть с щенком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 люблю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ть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с щенком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 люблю играть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щенком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Мой щенок С.Михалков (360p)" descr=""/>
          <p:cNvPicPr/>
          <p:nvPr/>
        </p:nvPicPr>
        <p:blipFill>
          <a:blip r:embed="rId1"/>
          <a:stretch/>
        </p:blipFill>
        <p:spPr>
          <a:xfrm>
            <a:off x="1349280" y="1311120"/>
            <a:ext cx="5877000" cy="4408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7:09:26Z</dcterms:created>
  <dc:creator>Zal</dc:creator>
  <dc:description/>
  <dc:language>en-US</dc:language>
  <cp:lastModifiedBy>Пользователь Windows</cp:lastModifiedBy>
  <dcterms:modified xsi:type="dcterms:W3CDTF">2023-02-02T04:03:17Z</dcterms:modified>
  <cp:revision>42</cp:revision>
  <dc:subject/>
  <dc:title>Слайд 1</dc:title>
</cp:coreProperties>
</file>