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4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034-49AC-4F54-88C6-0C2FAB0D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5B5-B170-45D4-808D-468697E2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F8A-50AA-4835-83A7-4D394A56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6B8-ACCE-45CC-BFD5-1690BF7A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295-B658-41DA-9075-AEE71D72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B38-A5D6-4865-BC41-AE9C856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B79-7EB8-4854-B048-26194CFC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B10-AFBC-431D-8817-0E38F24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43D-FDDB-4562-BE09-0F34772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688-7A4D-43C3-8AC5-6FEAC27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674-42A2-4F05-86B8-583D6A9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AC0-D2F9-4CFD-A610-6AF2D30A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6D13-5856-480F-88B1-5B0723588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10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smayli.ru/smile/multyashki-1805.html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7958160" cy="179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литературного чте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тему: Сергей Владимирович Михалков «Мой щенок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000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ИРИНА\Рабочий стол\БУКВЫ\Все букофки\Буквы с цветами\a.gif"/>
          <p:cNvPicPr/>
          <p:nvPr/>
        </p:nvPicPr>
        <p:blipFill>
          <a:blip r:embed="rId2"/>
          <a:stretch/>
        </p:blipFill>
        <p:spPr>
          <a:xfrm>
            <a:off x="6786720" y="214200"/>
            <a:ext cx="1214280" cy="13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rcRect l="0" t="0" r="0" b="8133"/>
          <a:stretch/>
        </p:blipFill>
        <p:spPr>
          <a:xfrm>
            <a:off x="0" y="3643200"/>
            <a:ext cx="29289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0"/>
            <a:ext cx="9144000" cy="9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бан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( ведро для воды,  кувшин с крышк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довка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заведующая складом, помещение для хранения клада, пристройка к дому, где хранятся вещи и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иный рой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емья пчёл, пчелиные гон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илась с ног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измучиться, сбить себе ног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жит пластом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ежать на пластыре, вытянуться, лежать не шевеляс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БАН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–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суд с крыш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images.jpg"/>
          <p:cNvPicPr/>
          <p:nvPr/>
        </p:nvPicPr>
        <p:blipFill>
          <a:blip r:embed="rId1"/>
          <a:stretch/>
        </p:blipFill>
        <p:spPr>
          <a:xfrm>
            <a:off x="2857680" y="1714680"/>
            <a:ext cx="35002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довк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- пристройка к дому, где хранятся вещи и продук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kladovka -1.jpg"/>
          <p:cNvPicPr/>
          <p:nvPr/>
        </p:nvPicPr>
        <p:blipFill>
          <a:blip r:embed="rId1"/>
          <a:stretch/>
        </p:blipFill>
        <p:spPr>
          <a:xfrm>
            <a:off x="1285920" y="2214720"/>
            <a:ext cx="662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иный рой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пчё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images (1).jpg"/>
          <p:cNvPicPr/>
          <p:nvPr/>
        </p:nvPicPr>
        <p:blipFill>
          <a:blip r:embed="rId1"/>
          <a:stretch/>
        </p:blipFill>
        <p:spPr>
          <a:xfrm>
            <a:off x="1143000" y="1785960"/>
            <a:ext cx="72151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билась с ног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училась, ус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Щенок. Иллюстрация к сказке"/>
          <p:cNvPicPr/>
          <p:nvPr/>
        </p:nvPicPr>
        <p:blipFill>
          <a:blip r:embed="rId1"/>
          <a:stretch/>
        </p:blipFill>
        <p:spPr>
          <a:xfrm>
            <a:off x="1714680" y="2071800"/>
            <a:ext cx="60721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48629 0.00185 E">
                                      <p:cBhvr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жать пластом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ь не шевеля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Щенок. Иллюстрация к сказке"/>
          <p:cNvPicPr/>
          <p:nvPr/>
        </p:nvPicPr>
        <p:blipFill>
          <a:blip r:embed="rId1"/>
          <a:stretch/>
        </p:blipFill>
        <p:spPr>
          <a:xfrm>
            <a:off x="1143000" y="2071800"/>
            <a:ext cx="6673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1720" y="64296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шем щеткой мы щенка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удет шерстка так мягка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ачет радостный щен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рыть он радости не мог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Лиля\Рабочий стол\yorkshire-para-adocao-2.jpg"/>
          <p:cNvPicPr/>
          <p:nvPr/>
        </p:nvPicPr>
        <p:blipFill>
          <a:blip r:embed="rId2"/>
          <a:stretch/>
        </p:blipFill>
        <p:spPr>
          <a:xfrm>
            <a:off x="3419640" y="4292640"/>
            <a:ext cx="3528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50920" y="260280"/>
            <a:ext cx="857232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 и 2 групп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ите пропущенные пункты пл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руппа: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я щ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всех бу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ёдом жбан перевер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Еле вылез и проп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группа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ени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е имя 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кнет под дожд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907560"/>
            <a:ext cx="7758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те слова, которые характеризуют девочку и щен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и 4групп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Девочка                                  Ще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ая                                     Озорной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ственная                           Трус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нивая                                     Глуп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отливая                               Любопыт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ая                                      Непослуш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внодушная                                  З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естокая                                Шалов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тельная                               Ум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-30240" y="1440"/>
            <a:ext cx="2614680" cy="2857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15"/>
          <p:cNvSpPr/>
          <p:nvPr/>
        </p:nvSpPr>
        <p:spPr>
          <a:xfrm flipH="1">
            <a:off x="5643720" y="3430440"/>
            <a:ext cx="1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libri"/>
              </a:rPr>
              <a:t>            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евочка           Щен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ая                   Озорной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ственная       Любопыт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отливая          Непослуш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нимательная        Шаловлив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Documents and Settings\ИРИНА\Рабочий стол\БУКВЫ\Все букофки\Буквы с цветами\a.gif"/>
          <p:cNvPicPr/>
          <p:nvPr/>
        </p:nvPicPr>
        <p:blipFill>
          <a:blip r:embed="rId2"/>
          <a:stretch/>
        </p:blipFill>
        <p:spPr>
          <a:xfrm>
            <a:off x="1785960" y="5214960"/>
            <a:ext cx="1214280" cy="13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ИРИНА\Рабочий стол\БУКВЫ\Все букофки\Буквы с цветами\e.gif"/>
          <p:cNvPicPr/>
          <p:nvPr/>
        </p:nvPicPr>
        <p:blipFill>
          <a:blip r:embed="rId3"/>
          <a:stretch/>
        </p:blipFill>
        <p:spPr>
          <a:xfrm>
            <a:off x="0" y="3571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ИРИНА\Рабочий стол\БУКВЫ\Все букофки\Буквы с цветами\o.gif"/>
          <p:cNvPicPr/>
          <p:nvPr/>
        </p:nvPicPr>
        <p:blipFill>
          <a:blip r:embed="rId4"/>
          <a:stretch/>
        </p:blipFill>
        <p:spPr>
          <a:xfrm>
            <a:off x="3000240" y="214200"/>
            <a:ext cx="1214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017p29-1"/>
          <p:cNvPicPr/>
          <p:nvPr/>
        </p:nvPicPr>
        <p:blipFill>
          <a:blip r:embed="rId5"/>
          <a:stretch/>
        </p:blipFill>
        <p:spPr>
          <a:xfrm>
            <a:off x="4786200" y="214200"/>
            <a:ext cx="4143600" cy="6381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4" descr=""/>
          <p:cNvPicPr/>
          <p:nvPr/>
        </p:nvPicPr>
        <p:blipFill>
          <a:blip r:embed="rId6"/>
          <a:stretch/>
        </p:blipFill>
        <p:spPr>
          <a:xfrm>
            <a:off x="426960" y="1859040"/>
            <a:ext cx="4430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давайте выясним: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в доме есть животное- это хорошо или плохо?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люсы и мину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2708280"/>
          <a:ext cx="6985080" cy="3529080"/>
        </p:xfrm>
        <a:graphic>
          <a:graphicData uri="http://schemas.openxmlformats.org/drawingml/2006/table">
            <a:tbl>
              <a:tblPr/>
              <a:tblGrid>
                <a:gridCol w="2968920"/>
                <a:gridCol w="4016160"/>
              </a:tblGrid>
              <a:tr h="117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7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426960" y="2571840"/>
            <a:ext cx="8406000" cy="45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кот и рыбки.gif"/>
          <p:cNvPicPr/>
          <p:nvPr/>
        </p:nvPicPr>
        <p:blipFill>
          <a:blip r:embed="rId3"/>
          <a:stretch/>
        </p:blipFill>
        <p:spPr>
          <a:xfrm>
            <a:off x="2214720" y="285840"/>
            <a:ext cx="2520720" cy="1886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хомяк.gif"/>
          <p:cNvPicPr/>
          <p:nvPr/>
        </p:nvPicPr>
        <p:blipFill>
          <a:blip r:embed="rId4"/>
          <a:stretch/>
        </p:blipFill>
        <p:spPr>
          <a:xfrm>
            <a:off x="6429240" y="21420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попугай.gif"/>
          <p:cNvPicPr/>
          <p:nvPr/>
        </p:nvPicPr>
        <p:blipFill>
          <a:blip r:embed="rId5"/>
          <a:stretch/>
        </p:blipFill>
        <p:spPr>
          <a:xfrm>
            <a:off x="7715160" y="2786040"/>
            <a:ext cx="1428840" cy="1924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24.gif"/>
          <p:cNvPicPr/>
          <p:nvPr/>
        </p:nvPicPr>
        <p:blipFill>
          <a:blip r:embed="rId6"/>
          <a:stretch/>
        </p:blipFill>
        <p:spPr>
          <a:xfrm>
            <a:off x="285840" y="4357800"/>
            <a:ext cx="1643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задание по выбору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учить все стихотворение наиз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учить понравившийся отрывок из стихотво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разительное чтение стихотвор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Содержимое 3" descr=""/>
          <p:cNvPicPr/>
          <p:nvPr/>
        </p:nvPicPr>
        <p:blipFill>
          <a:blip r:embed="rId1"/>
          <a:stretch/>
        </p:blipFill>
        <p:spPr>
          <a:xfrm>
            <a:off x="3638520" y="457200"/>
            <a:ext cx="4237200" cy="284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28520" y="2322360"/>
            <a:ext cx="3936960" cy="453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Анимашки Мультяшк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8000" y="3857760"/>
            <a:ext cx="2725920" cy="280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5"/>
          <a:stretch/>
        </p:blipFill>
        <p:spPr>
          <a:xfrm>
            <a:off x="460440" y="160200"/>
            <a:ext cx="2111400" cy="1900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6"/>
          <a:stretch/>
        </p:blipFill>
        <p:spPr>
          <a:xfrm>
            <a:off x="7164360" y="2637000"/>
            <a:ext cx="1979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го за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2680" y="2642760"/>
            <a:ext cx="6072120" cy="3017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.В. Михалков «Сила вол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кот и рыбки.gif"/>
          <p:cNvPicPr/>
          <p:nvPr/>
        </p:nvPicPr>
        <p:blipFill>
          <a:blip r:embed="rId1"/>
          <a:stretch/>
        </p:blipFill>
        <p:spPr>
          <a:xfrm>
            <a:off x="2214720" y="285840"/>
            <a:ext cx="2520720" cy="18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24.gif"/>
          <p:cNvPicPr/>
          <p:nvPr/>
        </p:nvPicPr>
        <p:blipFill>
          <a:blip r:embed="rId3"/>
          <a:stretch/>
        </p:blipFill>
        <p:spPr>
          <a:xfrm>
            <a:off x="214200" y="442908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пугай.gif"/>
          <p:cNvPicPr/>
          <p:nvPr/>
        </p:nvPicPr>
        <p:blipFill>
          <a:blip r:embed="rId4"/>
          <a:stretch/>
        </p:blipFill>
        <p:spPr>
          <a:xfrm>
            <a:off x="7715160" y="3286080"/>
            <a:ext cx="1428840" cy="1924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хомяк.gif"/>
          <p:cNvPicPr/>
          <p:nvPr/>
        </p:nvPicPr>
        <p:blipFill>
          <a:blip r:embed="rId5"/>
          <a:stretch/>
        </p:blipFill>
        <p:spPr>
          <a:xfrm>
            <a:off x="6429240" y="214200"/>
            <a:ext cx="1643040" cy="2190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6"/>
          <a:stretch/>
        </p:blipFill>
        <p:spPr>
          <a:xfrm>
            <a:off x="639720" y="2212920"/>
            <a:ext cx="764532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2597400" y="514368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де Сент-Экзюп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643040" y="357120"/>
            <a:ext cx="7072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тренажере спрятался герой нового произвед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е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 щ 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  е    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   н  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    о  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    к  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499680"/>
            <a:ext cx="645768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Владимирович Михалк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й щено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rcRect l="0" t="0" r="0" b="8133"/>
          <a:stretch/>
        </p:blipFill>
        <p:spPr>
          <a:xfrm>
            <a:off x="2419200" y="2637000"/>
            <a:ext cx="43056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ша дикция была четкой, учимся произносить скороговорк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4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ва щенка щека к ще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иплют щетку в уголк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зительного чтения, нужно уметь правильно ставить логическое ударение. Прочитайте предложения, выделяя голосом выделенное сло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120" y="2714760"/>
            <a:ext cx="8501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юблю играть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грать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ть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играть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щенк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Мой щенок С.Михалков (360p)" descr=""/>
          <p:cNvPicPr/>
          <p:nvPr/>
        </p:nvPicPr>
        <p:blipFill>
          <a:blip r:embed="rId1"/>
          <a:stretch/>
        </p:blipFill>
        <p:spPr>
          <a:xfrm>
            <a:off x="1349280" y="1311120"/>
            <a:ext cx="5877000" cy="440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09:26Z</dcterms:created>
  <dc:creator>Zal</dc:creator>
  <dc:description/>
  <dc:language>en-US</dc:language>
  <cp:lastModifiedBy>Пользователь Windows</cp:lastModifiedBy>
  <dcterms:modified xsi:type="dcterms:W3CDTF">2023-02-02T04:03:17Z</dcterms:modified>
  <cp:revision>42</cp:revision>
  <dc:subject/>
  <dc:title>Слайд 1</dc:title>
</cp:coreProperties>
</file>