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FF3-B0FB-443B-B017-CB37D1BC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839-CA88-43CE-96A0-ED029269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FE6-08F0-4E28-9D76-B3F3BDFC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B28-0BC3-4F37-9F0D-0BCEFEC8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648A-E857-4F43-ACBA-2E783104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4CF9-CADE-4CC5-8E5C-6F05ADF4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BA12-BA2C-41C8-8830-E60A798F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C4E7-12F9-4280-9C67-AA27A02D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340A-8E8A-411F-8EEE-3B44E57E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63DE-DE39-41A7-AA69-29C97B66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405C-FB62-4EDC-9049-0023C324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75A-BFED-4BDF-8400-E6DE1B53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B37D-4008-4249-BE1B-3D1EFA94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7D28-3164-438E-B420-C43CB3F1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1E12-4478-43C0-970F-AEE2949B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EF90-5720-4804-B207-47A34F9A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1934-28F9-4FC7-BCF2-33957F86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6862D-0851-46B6-AACB-36489BF0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7C86-4C2A-4526-8F4F-34DFEEE8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B66F9-E87D-4DFE-B24D-69D0326F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9B08-2180-475A-B74B-B377DF1E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6C9B-067F-4E42-BAE7-CD33C2A5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F29-8868-436D-B5F2-C0D4B370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DF90-940E-4295-B44A-6D5303DF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ADD97-78F5-42EB-8C84-B7447141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55B2-DEE0-423C-A433-1BE956C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0BD5-95AB-4A37-8A6B-FD608DF8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C743-FDBD-43FA-8E1F-8BC8FACD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3731-DD3C-4554-A1D9-B4CFE0D9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1AD82-CFA8-4454-9CC7-F45AC37C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8E640-D128-4071-A1E1-2E1F97E9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5A4E8-EDC0-476F-9C9C-41393C57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6881-7B6D-494F-9D8D-59DEB3C6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E7E-0285-49FA-B6A6-8B27D57A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E11F1-E534-4838-9840-DC99EFBA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3F591-7A1E-4E7F-86B7-81115809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086B4-A3DE-4E26-8D85-EAC062D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26400-1EE7-43E8-915D-9A5C3419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8663-81D6-4020-A96C-DE09D74D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88E77-ABA1-42CA-A202-FA5EBCAC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6E16-876C-45AB-954B-0E7DFCD3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4E32-920C-4825-95B5-71246ED8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6523C-25A5-494A-BD2B-BA8F5BB2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CB172-1F5D-4CBA-A96C-1F15D69A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7C4-5F59-4B8A-950F-28AD9790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2275-7CAF-4C63-98BA-79880406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4F51C-60B3-4834-B250-5496BD8F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4565A-0C96-4C06-AA56-05951B7B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06588-5E03-4741-9C57-979A04AF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10B3-BFB5-48F4-9E8E-46750492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33E42-9866-47F3-A460-30977E60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C3833-B6F0-4E73-8E00-37D01FA8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E59C6-ED8E-4EBD-9DF6-45FDE742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689AF-8139-4693-86DF-F1DCFE04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1A723-3EED-4F6B-8B1D-89BE7F05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753-FE2B-4EFA-8F1F-880A6DD5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E8C56-0AD8-4834-90E8-F0F862D4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FA6E1-3778-4895-B90A-AE57FBCF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484C-D49B-49D2-AED1-3ED3D6E9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C2C2C-BB2E-49D2-A1CA-8A786F30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598FD-522A-4282-A059-BDB7FEDD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99D48-93FF-441D-B8EC-1ECC9C73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2157A-B4B4-41F3-AB31-F62F2899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9D585-B99F-4FFC-9489-409AB3B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00101-D017-4046-BE4D-5499B181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223EC-DFA8-40D5-AF3F-89DF6641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6E7-7FD1-45DF-86C4-BEE621B6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F8F64-7C57-49A4-8157-C71756CD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FEDF6-0A62-475B-A6F9-BCA2CC2D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E9C65-E4B4-4BFF-A191-19D9E5EA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A3E8F-3AA2-47D9-AA50-AB76DE61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47255-5F42-4B5A-A177-8A369E66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521C7-4D07-4E9F-AE10-806333EF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928F-70AB-42DB-BE93-4E0A9B7D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6E003-E20C-4A9A-86FF-A8CD5702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F9014-4EFF-47BD-8874-96F76851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BDB72-A4FE-4A1A-9F8C-C2A06F4F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CD2-0582-477B-81C9-5DACBEB9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470B9-A902-4CB7-B7DD-0D18EA7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FA0D-9507-4F83-9385-A4F36B6B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D3905-089D-45FB-90F5-4359DCC9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89893-A564-465A-9D9B-595838C5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1197D-7159-4928-85AF-42BA27AA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B7F-B3F2-4DFB-917F-33E92B0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A40C-5373-4D9A-A522-D251BC98F03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BC72-E71E-44A5-82DF-84F31DFDEA5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A9BE-B5CB-4C92-BC06-A9735C54C40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1E48-7E7E-4E0C-8B2C-35513EF734F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ECA9-84A2-4DA9-AEE7-3AD1A0FFF20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15DB-AD08-4144-A07A-6E7E77EFA1E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5AA5-C228-437E-84D7-AE73C197ACE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СТВЕННОЕ БЮДЖЕТНОЕ ОБРАЗОВАТЕЛЬНОЕ УЧЕЖДЕНИЕ ВЫСШ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МОСКОВ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АДЕМИЯ СЦИАЛЬНОГО УПРАВЛЕНИЯ»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ем язык программирования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Segoe UI Symbol"/>
              </a:rPr>
              <a:t>Scratch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Segoe UI Symbol"/>
              </a:rPr>
              <a:t>во внеурочной деятельност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 Орлова Ирина Петровна,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У  Чулковской  СОШ №20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менского района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овской области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ябрь 2021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63640" y="4968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м программный код для наглядного понимания материа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3" name="Рисунок 1" descr=""/>
          <p:cNvPicPr/>
          <p:nvPr/>
        </p:nvPicPr>
        <p:blipFill>
          <a:blip r:embed="rId1"/>
          <a:stretch/>
        </p:blipFill>
        <p:spPr>
          <a:xfrm>
            <a:off x="1401840" y="1682640"/>
            <a:ext cx="3809880" cy="101253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6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4176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1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тегории «Переменные» возле блока «моя переменная» установим галочку для отображения на сцене программы»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Объект 3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3025800" cy="11523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517680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108000" y="3843360"/>
          <a:ext cx="8640720" cy="2033640"/>
        </p:xfrm>
        <a:graphic>
          <a:graphicData uri="http://schemas.openxmlformats.org/drawingml/2006/table">
            <a:tbl>
              <a:tblPr/>
              <a:tblGrid>
                <a:gridCol w="1306440"/>
                <a:gridCol w="1822320"/>
                <a:gridCol w="1646280"/>
                <a:gridCol w="3865680"/>
              </a:tblGrid>
              <a:tr h="2890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пис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и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7445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еремен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станавливает значение перемен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название нового оператора в словари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Рисунок 10" descr=""/>
          <p:cNvPicPr/>
          <p:nvPr/>
        </p:nvPicPr>
        <p:blipFill>
          <a:blip r:embed="rId1"/>
          <a:stretch/>
        </p:blipFill>
        <p:spPr>
          <a:xfrm>
            <a:off x="1476360" y="4788000"/>
            <a:ext cx="1727280" cy="4190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1" descr=""/>
          <p:cNvPicPr/>
          <p:nvPr/>
        </p:nvPicPr>
        <p:blipFill>
          <a:blip r:embed="rId2"/>
          <a:stretch/>
        </p:blipFill>
        <p:spPr>
          <a:xfrm>
            <a:off x="4859280" y="4262400"/>
            <a:ext cx="381636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Сегодня я узнал (а)…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Сегодня я научился (ась)…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324000" y="1773360"/>
            <a:ext cx="864072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ость  техноло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Scratc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состоит в том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что «она позволяет, обратившись к миру мультимедиа и программирования, впустить обучающегося в информационную среду   творчества и познавательной деятельности, кроме предметных знаний приобрести качества, необходимые каждому человеку для успешной жизни и профессиональной карьеры в современном мир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( Из программы курса внеурочной деятельности «Программируем, учимся, играем»,  авторы Босова Л.Л., Босова А.Ю, Филиппов В.И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235240" y="2674800"/>
            <a:ext cx="4681440" cy="3451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занятия: «Создание интерактивной игры»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1403280" y="404640"/>
            <a:ext cx="533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ланируемые образовательные результ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324000" y="907920"/>
            <a:ext cx="8496000" cy="74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развитие навыков начального программир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формирование представлений о назначении среды программировани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Scratch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и о элементах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Мета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етение навыков самооценки, само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я  создавать, применять, преобразовывать программные понятия для решения учебной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Личн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формирование основ информационной культу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осознание социальных норм и правил межличностных 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в коллекти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соблюдение правил здорового и безопасного поведения в окружающей сре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26560" y="27079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обучить приемам программирования в Scratch при помощи блоков команд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научить фиксировать количество касаний одного спрайта с другим используя знания о переменны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совершенствовать знания и умения программирования в Scrat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сформировать умение пользоваться переменными в Scrat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д внеурочного занятия-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знавательная деятель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тоды 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тод использования перед разработко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ловесный, наглядный, частично-поисковый, практическ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а внеурочного занятия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ружо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орудование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мпьютеры, интерактивная доска, карточки с командами для  составления алгоритма, карточки инструк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ы работы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ронтальная, индивидуальная, парна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Знакомимся с планируемым результатом: создание интерактивной игры  с использованием среды программирования Scrat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тановка проблемы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с вами мы будем создавать игру с использованием переменной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208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Запустите среду программирова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Scratc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. Передвинем спрайт бейсболиста по сцене. Как видим, при его соприкосновении с мячиком изменяется число в верхнем левом углу сцены.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egoe UI Symbo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Объект 4" descr=""/>
          <p:cNvPicPr/>
          <p:nvPr/>
        </p:nvPicPr>
        <p:blipFill>
          <a:blip r:embed="rId1"/>
          <a:stretch/>
        </p:blipFill>
        <p:spPr>
          <a:xfrm>
            <a:off x="2276640" y="2674800"/>
            <a:ext cx="4599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5:19:25Z</dcterms:created>
  <dc:creator>Ирина</dc:creator>
  <dc:description/>
  <dc:language>en-US</dc:language>
  <cp:lastModifiedBy>ирина</cp:lastModifiedBy>
  <dcterms:modified xsi:type="dcterms:W3CDTF">2023-07-07T07:18:49Z</dcterms:modified>
  <cp:revision>106</cp:revision>
  <dc:subject/>
  <dc:title>Греческая лира</dc:title>
</cp:coreProperties>
</file>