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637-6EA4-4D0D-AEF9-4A96E9DC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E5BB-D126-4141-9861-4CD3E1A2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EBA-7C0C-40DE-9586-C8EB9E0B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657-2413-4404-926C-91666E20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0CB8-9DCA-4EAE-AF3B-7CAADC7A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10A0-ADA7-46B2-88E6-02931197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C6B9-E202-4BD3-B471-AB970D19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E682-987E-4BA4-87F1-21BE4966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C849-9FE3-4773-812F-6480E435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B07F-BF43-4006-A0A4-AF3416A0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9D5F-0207-4EDB-8CC9-DCDD1CC0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582-52C4-47C6-84B5-E42E2701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E3A0-F45B-44BE-AEBB-145800BE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9CA9-4340-4EC0-BA74-FD419E78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FDBB-12CB-495C-A221-3FDEA5FC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B665-9992-4A16-B169-977326FF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071F-F5E7-41D7-BD63-A649A75B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2BB0C-A03B-47D0-A783-53968E0D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7E36C-1E36-4B30-88F7-C545D009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2B991-D0E0-4DFD-A8A6-1034A4B2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44CCB-2C85-4BC2-B154-58D2A8F3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8A9AF-8F18-40DC-9315-75EBE642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8C7-2920-48B8-9E09-52B3E815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A661F-9914-4E32-AE83-97F20126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DEBB7-B60C-44A5-B760-5D761C18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56ADB-EED7-4606-80DB-1E218048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492B4-7B14-40BD-8A9B-40400533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B80B2-C8CF-4CFD-9DC8-802A1288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A5E2B-EB5E-43FF-82E3-A3C01A19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0FDD0-4FB2-42D1-958D-CA88E06B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510BD-D710-4B5E-8F05-A62FDC31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F7E65-5FD0-41B6-89FD-E4C23EAC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91B30-214E-429F-97B3-26FE09C3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05A-0958-49C3-9465-C0797877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CEB12-0713-4AC6-99D0-27B8A326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64A1F-B938-4EDE-A581-9E0566CF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BE3F1-8267-4088-B693-20AEC8F9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ABB7D-735E-4FFE-B267-244D8BE1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E34EC-F378-4062-BDBA-0B2AAE8C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298D9-C614-4F64-9C50-BDA539EC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F60D1-D7B7-4B4A-BD7F-DE82CC76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C9048-65DF-4E80-9F0A-2D71AD87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9B6DA-8E18-4351-9C04-4D1BD7B6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89935-F48E-432B-BA9F-AA97C8E2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C16-209F-48CC-B3BF-C253DBA9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9C891-A0AD-4642-8B2D-53086502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B87EF-235B-41F9-ADC7-528981F9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EB118-EB40-437D-A9D7-D4B84052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AF982-EF25-44C8-B880-B6C8B707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F74A1-4568-45EA-9CC8-69EFB7C8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27EB1-D8DB-42A2-B412-625209BD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770CC-C84B-4BA3-B2E9-94B27184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2F49F-51A5-4751-BD2B-3FFDAE14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EE5B2-9FC5-4325-AF57-5752AD66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34F5-F4A4-4ADE-9296-4BEEC073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127-8558-4782-B03C-9D49D15E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95DC2-476A-4961-BA12-D06AB876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40393-0277-4E51-BA25-5CD1FB9D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2AF9D-CB3B-47F1-B276-3303D40A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F4F38-7053-4FCB-B8A2-8203EDAD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33485-54CE-40B1-A8E5-CCD41E5D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F52F0-777C-4BBF-85B5-1FC4D1DB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44833-1271-4ED5-9A85-0FD36C80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5847F-91C6-4B64-B849-306301B4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75A7D-92EC-48BB-838C-FBF62221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CC67B-B0C1-4512-A4FA-CF0D8FB5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CC7-7CBC-4E8C-ACA5-D403C5E9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DAABE-700F-4892-9109-0E9C9B63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2F11B-A257-4513-B395-6DF95A0A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11705-7873-47FC-B140-CE4E666F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06DB9-0490-46B8-8B10-8583130D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BD2D8-FF9F-4A8C-AAE9-7695AAA4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E1B0E-BC8F-418B-95F2-A66A12FE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8BEC1-F499-44ED-9884-D0D410D5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05003-F47F-4BF7-B064-8BA084F2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F91C2-024F-4C4B-993D-8BAA84DA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27ECE-5EB2-4535-94F0-56176CC1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A74-17E7-473D-ACC2-4DC38499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73391-5CDF-48D1-9874-80CE5D7C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FA08E-87AC-4F2D-B22F-5C7DDFCA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6C9AA-9DDB-433D-A659-935A4E0B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74B44-0B8D-4145-96C1-42064E71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31FD7-658D-4F8D-A70D-17FCFF56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E6A-BCEB-4F7E-BFA7-35ABE5B2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2EA8-D0FF-4B94-A9E6-AF23398C731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3CF8-1983-4F20-879A-E5970818557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442E-1E7E-41C0-9207-E83D38081F3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B158-DC1B-4808-BDD1-4FDF97E0687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9235-57F9-4068-BB5E-3E1F3005E67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8C71-97B2-4E70-9A0A-0E474F5F3CD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0B08-1376-433B-BF51-9AF953F0F85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СТВЕННОЕ БЮДЖЕТНОЕ ОБРАЗОВАТЕЛЬНОЕ УЧЕЖДЕНИЕ ВЫСШЕ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МОСКОВСКОЙ ОБЛ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КАДЕМИЯ СЦИАЛЬНОГО УПРАВЛЕНИЯ»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уем язык программирования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Segoe UI Symbol"/>
              </a:rPr>
              <a:t>Scratch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Segoe UI Symbol"/>
              </a:rPr>
              <a:t>во внеурочной деятельност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:  Орлова Ирина Петровна,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У  Чулковской  СОШ №20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менского района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сковской области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ябрь 2021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63640" y="49680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000" y="62028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м программный код для наглядного понимания материал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3" name="Рисунок 1" descr=""/>
          <p:cNvPicPr/>
          <p:nvPr/>
        </p:nvPicPr>
        <p:blipFill>
          <a:blip r:embed="rId1"/>
          <a:stretch/>
        </p:blipFill>
        <p:spPr>
          <a:xfrm>
            <a:off x="1401840" y="1682640"/>
            <a:ext cx="3809880" cy="101253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6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4176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Объект 3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193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тегории «Переменные» возле блока «моя переменная» установим галочку для отображения на сцене программы»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Объект 3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3025800" cy="115236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517680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108000" y="3843360"/>
          <a:ext cx="8640720" cy="2033640"/>
        </p:xfrm>
        <a:graphic>
          <a:graphicData uri="http://schemas.openxmlformats.org/drawingml/2006/table">
            <a:tbl>
              <a:tblPr/>
              <a:tblGrid>
                <a:gridCol w="1306440"/>
                <a:gridCol w="1822320"/>
                <a:gridCol w="1646280"/>
                <a:gridCol w="3865680"/>
              </a:tblGrid>
              <a:tr h="2890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пис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ts val="15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и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7445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еремен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станавливает значение переменн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ts val="15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 название нового оператора в словари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Рисунок 10" descr=""/>
          <p:cNvPicPr/>
          <p:nvPr/>
        </p:nvPicPr>
        <p:blipFill>
          <a:blip r:embed="rId1"/>
          <a:stretch/>
        </p:blipFill>
        <p:spPr>
          <a:xfrm>
            <a:off x="1476360" y="4788000"/>
            <a:ext cx="1727280" cy="4190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1" descr=""/>
          <p:cNvPicPr/>
          <p:nvPr/>
        </p:nvPicPr>
        <p:blipFill>
          <a:blip r:embed="rId2"/>
          <a:stretch/>
        </p:blipFill>
        <p:spPr>
          <a:xfrm>
            <a:off x="4859280" y="4262400"/>
            <a:ext cx="381636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Сегодня я узнал (а)…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Сегодня я научился (ась)…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я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1"/>
          <p:cNvSpPr/>
          <p:nvPr/>
        </p:nvSpPr>
        <p:spPr>
          <a:xfrm>
            <a:off x="324000" y="1773360"/>
            <a:ext cx="864072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ость  техноло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Scratc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состоит в том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что «она позволяет, обратившись к миру мультимедиа и программирования, впустить обучающегося в информационную среду   творчества и познавательной деятельности, кроме предметных знаний приобрести качества, необходимые каждому человеку для успешной жизни и профессиональной карьеры в современном мир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( Из программы курса внеурочной деятельности «Программируем, учимся, играем»,  авторы Босова Л.Л., Босова А.Ю, Филиппов В.И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235240" y="2674800"/>
            <a:ext cx="4681440" cy="3451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занятия: «Создание интерактивной игры»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1"/>
          <p:cNvSpPr/>
          <p:nvPr/>
        </p:nvSpPr>
        <p:spPr>
          <a:xfrm>
            <a:off x="1403280" y="404640"/>
            <a:ext cx="533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ланируемые образовательные результ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2"/>
          <p:cNvSpPr/>
          <p:nvPr/>
        </p:nvSpPr>
        <p:spPr>
          <a:xfrm>
            <a:off x="324000" y="907920"/>
            <a:ext cx="8496000" cy="74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развитие навыков начального программир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формирование представлений о назначении среды программировани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Scratch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и о элементах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Мета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етение навыков самооценки, само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умения  создавать, применять, преобразовывать программные понятия для решения учебной зада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Личнос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формирование основ информационной культу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осознание социальных норм и правил межличностных отно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в коллектив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соблюдение правил здорового и безопасного поведения в окружающей сре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26560" y="270792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обучить приемам программирования в Scratch при помощи блоков команд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научить фиксировать количество касаний одного спрайта с другим используя знания о переменных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совершенствовать знания и умения программирования в Scrat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сформировать умение пользоваться переменными в Scrat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задач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ид внеурочного занятия-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знавательная деятельн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етоды 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етод использования перед разработко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ловесный, наглядный, частично-поисковый, практическ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а внеурочного занятия: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ружо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орудование: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мпьютеры, интерактивная доска, карточки с командами для  составления алгоритма, карточки инструкц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ы работы: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ронтальная, индивидуальная, парна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Знакомимся с планируемым результатом: создание интерактивной игры  с использованием среды программирования Scratch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становка проблемы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с вами мы будем создавать игру с использованием переменной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ая работа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208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Запустите среду программирован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Scratc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. Передвинем спрайт бейсболиста по сцене. Как видим, при его соприкосновении с мячиком изменяется число в верхнем левом углу сцены.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egoe UI Symbo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Объект 4" descr=""/>
          <p:cNvPicPr/>
          <p:nvPr/>
        </p:nvPicPr>
        <p:blipFill>
          <a:blip r:embed="rId1"/>
          <a:stretch/>
        </p:blipFill>
        <p:spPr>
          <a:xfrm>
            <a:off x="2276640" y="2674800"/>
            <a:ext cx="45990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5:19:25Z</dcterms:created>
  <dc:creator>Ирина</dc:creator>
  <dc:description/>
  <dc:language>en-US</dc:language>
  <cp:lastModifiedBy>ирина</cp:lastModifiedBy>
  <dcterms:modified xsi:type="dcterms:W3CDTF">2023-07-07T07:18:49Z</dcterms:modified>
  <cp:revision>106</cp:revision>
  <dc:subject/>
  <dc:title>Греческая лира</dc:title>
</cp:coreProperties>
</file>