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1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8.png" ContentType="image/png"/>
  <Override PartName="/ppt/media/image39.jpeg" ContentType="image/jpeg"/>
  <Override PartName="/ppt/media/image17.png" ContentType="image/png"/>
  <Override PartName="/ppt/media/image32.jpeg" ContentType="image/jpeg"/>
  <Override PartName="/ppt/media/image4.jpeg" ContentType="image/jpeg"/>
  <Override PartName="/ppt/media/image14.png" ContentType="image/png"/>
  <Override PartName="/ppt/media/image2.png" ContentType="image/png"/>
  <Override PartName="/ppt/media/image25.png" ContentType="image/png"/>
  <Override PartName="/ppt/media/image59.jpeg" ContentType="image/jpeg"/>
  <Override PartName="/ppt/media/image18.png" ContentType="image/png"/>
  <Override PartName="/ppt/media/image42.jpeg" ContentType="image/jpeg"/>
  <Override PartName="/ppt/media/image56.jpeg" ContentType="image/jpeg"/>
  <Override PartName="/ppt/media/image60.jpeg" ContentType="image/jpeg"/>
  <Override PartName="/ppt/media/image52.jpeg" ContentType="image/jpeg"/>
  <Override PartName="/ppt/media/image27.png" ContentType="image/png"/>
  <Override PartName="/ppt/media/image33.jpeg" ContentType="image/jpeg"/>
  <Override PartName="/ppt/media/image3.png" ContentType="image/png"/>
  <Override PartName="/ppt/media/image15.png" ContentType="image/png"/>
  <Override PartName="/ppt/media/image6.jpeg" ContentType="image/jpeg"/>
  <Override PartName="/ppt/media/image19.png" ContentType="image/png"/>
  <Override PartName="/ppt/media/image22.png" ContentType="image/png"/>
  <Override PartName="/ppt/media/image35.jpeg" ContentType="image/jpeg"/>
  <Override PartName="/ppt/media/image61.png" ContentType="image/png"/>
  <Override PartName="/ppt/media/image5.jpeg" ContentType="image/jpeg"/>
  <Override PartName="/ppt/media/image26.jpeg" ContentType="image/jpeg"/>
  <Override PartName="/ppt/media/image49.jpeg" ContentType="image/jpeg"/>
  <Override PartName="/ppt/media/image1.jpeg" ContentType="image/jpeg"/>
  <Override PartName="/ppt/media/image21.png" ContentType="image/png"/>
  <Override PartName="/ppt/media/image10.png" ContentType="image/png"/>
  <Override PartName="/ppt/media/image36.jpeg" ContentType="image/jpeg"/>
  <Override PartName="/ppt/media/image37.jpeg" ContentType="image/jpeg"/>
  <Override PartName="/ppt/media/image20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29.jpeg" ContentType="image/jpeg"/>
  <Override PartName="/ppt/media/image12.jpeg" ContentType="image/jpeg"/>
  <Override PartName="/ppt/media/image9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23.png" ContentType="image/png"/>
  <Override PartName="/ppt/media/image53.jpeg" ContentType="image/jpeg"/>
  <Override PartName="/ppt/media/image54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Click to move the slide</a:t>
            </a: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32FA3C-2F42-4AC6-A8AF-84DCC50F7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D17ECDC-2258-4D94-AE44-D2FD59013F25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01EA649-1684-44D9-A0F6-ADE0B99301B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F05-D1E0-4463-A753-A47CFCAD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CA3-FCB6-45CC-99D1-D914E03E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9EE-1465-4AD7-97E2-EE5B194C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BA4-F9F5-44B7-B405-8B6B8AD8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BF49-47AD-4E0C-A84C-8FA7407A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D965-81B7-4865-B532-808DD227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354C-94DC-47CD-A3C7-10AF3487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4ACD-9F17-4DC8-AB97-1449A013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249A-9CE8-46D0-ABEC-4B00A173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3320"/>
            <a:ext cx="8243640" cy="60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C99A-D3EF-4796-86CF-97D3C76A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349C-44D2-4880-9F70-EA46AAA7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02A-123A-41DD-9540-709BAC71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A9D8-E15F-4E6C-A2D5-AD9B35FE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A25D-482C-4CB4-9888-CB990B98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B895-721D-453E-A7F3-A26EA17A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9209-0322-4795-9E80-48C130CD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6E23-27FC-46FA-8659-389DCDB4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D938-D510-4067-8A00-A6952B09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6D81E-1776-4717-9C27-E2349605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B63C9-D384-4877-A0D3-9E764932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BD4E-AAD0-4461-942D-E5AFF843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FB4E-3FD6-46FB-89EC-7017D4D6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F13-0ABE-43D2-BB19-FBE70AA4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42800" y="103320"/>
            <a:ext cx="8243640" cy="60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703E-B0F7-4501-B746-461A8828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61321-EC4D-4D02-AF6D-95DB01CF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BD07B-1990-4FCD-9CEA-33CA1D43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AC08-9506-4E2E-82CE-15A17FC0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CD075-E647-4550-B7BC-D40AFEEE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48EF2-9B5F-4B96-8C3D-F7D75B3B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092AA-BFDD-43E4-8A77-1DACA309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D86-50FB-4F75-9120-C42D8AA3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677-EFD2-41B9-B9B8-BDBFF155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42800" y="103320"/>
            <a:ext cx="8243640" cy="60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9985-55F0-4EC5-B213-0DDBCE39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F24-D29F-4750-93C3-98B29956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17F-507F-4332-A902-CD188929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03F-BB29-4055-B116-7854C75D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5320" y="-91440"/>
            <a:ext cx="2790720" cy="6947640"/>
            <a:chOff x="-85320" y="-91440"/>
            <a:chExt cx="2790720" cy="694764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8800" cy="1272960"/>
            </a:xfrm>
            <a:custGeom>
              <a:avLst/>
              <a:gdLst>
                <a:gd name="textAreaLeft" fmla="*/ 0 w 748800"/>
                <a:gd name="textAreaRight" fmla="*/ 749160 w 74880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chemeClr val="folHlink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9840" y="3920400"/>
              <a:ext cx="886680" cy="721440"/>
              <a:chOff x="69840" y="3920400"/>
              <a:chExt cx="886680" cy="721440"/>
            </a:xfrm>
          </p:grpSpPr>
          <p:sp>
            <p:nvSpPr>
              <p:cNvPr id="3" name="Freeform 5"/>
              <p:cNvSpPr/>
              <p:nvPr/>
            </p:nvSpPr>
            <p:spPr>
              <a:xfrm flipV="1" rot="4200000">
                <a:off x="119160" y="3939840"/>
                <a:ext cx="227520" cy="26460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-360 h 264600"/>
                  <a:gd name="textAreaBottom" fmla="*/ 264600 h 264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V="1" rot="4200000">
                <a:off x="275400" y="4311720"/>
                <a:ext cx="389160" cy="2196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219600"/>
                  <a:gd name="textAreaBottom" fmla="*/ 22032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V="1" rot="4200000">
                <a:off x="631440" y="4158000"/>
                <a:ext cx="405720" cy="112320"/>
              </a:xfrm>
              <a:custGeom>
                <a:avLst/>
                <a:gdLst>
                  <a:gd name="textAreaLeft" fmla="*/ 0 w 405720"/>
                  <a:gd name="textAreaRight" fmla="*/ 406080 w 405720"/>
                  <a:gd name="textAreaTop" fmla="*/ 360 h 112320"/>
                  <a:gd name="textAreaBottom" fmla="*/ 113040 h 1123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6800" cy="1218960"/>
            </a:xfrm>
            <a:custGeom>
              <a:avLst/>
              <a:gdLst>
                <a:gd name="textAreaLeft" fmla="*/ 0 w 1126800"/>
                <a:gd name="textAreaRight" fmla="*/ 1127160 w 11268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chemeClr val="accent2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3320" y="2611440"/>
              <a:ext cx="2718720" cy="3098160"/>
              <a:chOff x="-13320" y="2611440"/>
              <a:chExt cx="2718720" cy="3098160"/>
            </a:xfrm>
          </p:grpSpPr>
          <p:sp>
            <p:nvSpPr>
              <p:cNvPr id="8" name="Freeform 10"/>
              <p:cNvSpPr/>
              <p:nvPr/>
            </p:nvSpPr>
            <p:spPr>
              <a:xfrm flipH="1" rot="780000">
                <a:off x="371520" y="270792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0000">
                <a:off x="90720" y="285696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0000">
                <a:off x="344160" y="3067920"/>
                <a:ext cx="289440" cy="51732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0000">
                <a:off x="880200" y="3799800"/>
                <a:ext cx="264600" cy="308160"/>
              </a:xfrm>
              <a:custGeom>
                <a:avLst/>
                <a:gdLst>
                  <a:gd name="textAreaLeft" fmla="*/ -360 w 264600"/>
                  <a:gd name="textAreaRight" fmla="*/ 264600 w 26460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0000">
                <a:off x="804240" y="3864240"/>
                <a:ext cx="65160" cy="182160"/>
              </a:xfrm>
              <a:custGeom>
                <a:avLst/>
                <a:gdLst>
                  <a:gd name="textAreaLeft" fmla="*/ -360 w 65160"/>
                  <a:gd name="textAreaRight" fmla="*/ 65160 w 6516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61840" y="4052160"/>
                <a:ext cx="1843560" cy="1657440"/>
                <a:chOff x="861840" y="4052160"/>
                <a:chExt cx="1843560" cy="16574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V="1" rot="17880000">
                  <a:off x="1272240" y="3938400"/>
                  <a:ext cx="474120" cy="1215360"/>
                </a:xfrm>
                <a:custGeom>
                  <a:avLst/>
                  <a:gdLst>
                    <a:gd name="textAreaLeft" fmla="*/ 0 w 474120"/>
                    <a:gd name="textAreaRight" fmla="*/ 474480 w 474120"/>
                    <a:gd name="textAreaTop" fmla="*/ 360 h 1215360"/>
                    <a:gd name="textAreaBottom" fmla="*/ 1216080 h 12153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V="1" rot="17880000">
                  <a:off x="2343240" y="4961160"/>
                  <a:ext cx="109080" cy="49824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360 h 498240"/>
                    <a:gd name="textAreaBottom" fmla="*/ 498960 h 4982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V="1" rot="17880000">
                  <a:off x="2522160" y="5559480"/>
                  <a:ext cx="198720" cy="8424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360 h 84240"/>
                    <a:gd name="textAreaBottom" fmla="*/ 8496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6920" y="6172920"/>
              <a:ext cx="790560" cy="635760"/>
              <a:chOff x="466920" y="6172920"/>
              <a:chExt cx="790560" cy="635760"/>
            </a:xfrm>
          </p:grpSpPr>
          <p:sp>
            <p:nvSpPr>
              <p:cNvPr id="18" name="Freeform 20"/>
              <p:cNvSpPr/>
              <p:nvPr/>
            </p:nvSpPr>
            <p:spPr>
              <a:xfrm rot="6240000">
                <a:off x="1012320" y="6172560"/>
                <a:ext cx="197280" cy="25272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0000">
                <a:off x="760680" y="6514560"/>
                <a:ext cx="337320" cy="20988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0000">
                <a:off x="385560" y="6411960"/>
                <a:ext cx="351720" cy="106920"/>
              </a:xfrm>
              <a:custGeom>
                <a:avLst/>
                <a:gdLst>
                  <a:gd name="textAreaLeft" fmla="*/ 0 w 351720"/>
                  <a:gd name="textAreaRight" fmla="*/ 352080 w 35172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6800" y="1773360"/>
              <a:ext cx="784800" cy="696240"/>
              <a:chOff x="316800" y="1773360"/>
              <a:chExt cx="784800" cy="696240"/>
            </a:xfrm>
          </p:grpSpPr>
          <p:sp>
            <p:nvSpPr>
              <p:cNvPr id="22" name="Freeform 24"/>
              <p:cNvSpPr/>
              <p:nvPr/>
            </p:nvSpPr>
            <p:spPr>
              <a:xfrm rot="4980000">
                <a:off x="837360" y="1745280"/>
                <a:ext cx="207360" cy="2980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4980000">
                <a:off x="693720" y="2154960"/>
                <a:ext cx="354600" cy="24732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4980000">
                <a:off x="216720" y="2208960"/>
                <a:ext cx="369720" cy="12600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7560" cy="582480"/>
              <a:chOff x="1293840" y="0"/>
              <a:chExt cx="547560" cy="58248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400" y="104040"/>
                <a:ext cx="297000" cy="18144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5000" y="489960"/>
                <a:ext cx="309600" cy="9252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160" cy="1199880"/>
            </a:xfrm>
            <a:custGeom>
              <a:avLst/>
              <a:gdLst>
                <a:gd name="textAreaLeft" fmla="*/ 0 w 1109160"/>
                <a:gd name="textAreaRight" fmla="*/ 1109520 w 110916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chemeClr val="accent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780000">
              <a:off x="383760" y="5403600"/>
              <a:ext cx="209160" cy="264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780000">
              <a:off x="422280" y="5702040"/>
              <a:ext cx="104400" cy="680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6840" cy="3315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5920" cy="20268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160" cy="1360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8760" cy="1174320"/>
            </a:xfrm>
            <a:custGeom>
              <a:avLst/>
              <a:gdLst>
                <a:gd name="textAreaLeft" fmla="*/ 0 w 788760"/>
                <a:gd name="textAreaRight" fmla="*/ 789120 w 788760"/>
                <a:gd name="textAreaTop" fmla="*/ 0 h 1174320"/>
                <a:gd name="textAreaBottom" fmla="*/ 1174680 h 117432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60000">
              <a:off x="31680" y="650520"/>
              <a:ext cx="545760" cy="3884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60000">
              <a:off x="384120" y="1199880"/>
              <a:ext cx="264600" cy="18216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60000">
              <a:off x="911160" y="453960"/>
              <a:ext cx="232920" cy="2538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60000">
              <a:off x="374400" y="1144440"/>
              <a:ext cx="97920" cy="1537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60000">
              <a:off x="928440" y="739440"/>
              <a:ext cx="113760" cy="648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0960" cy="103140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60000">
              <a:off x="88560" y="132840"/>
              <a:ext cx="1275840" cy="1088640"/>
            </a:xfrm>
            <a:custGeom>
              <a:avLst/>
              <a:gdLst>
                <a:gd name="textAreaLeft" fmla="*/ 0 w 1275840"/>
                <a:gd name="textAreaRight" fmla="*/ 1276200 w 1275840"/>
                <a:gd name="textAreaTop" fmla="*/ 0 h 1088640"/>
                <a:gd name="textAreaBottom" fmla="*/ 1089000 h 108864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2"/>
          <p:cNvGrpSpPr/>
          <p:nvPr/>
        </p:nvGrpSpPr>
        <p:grpSpPr>
          <a:xfrm>
            <a:off x="-25920" y="0"/>
            <a:ext cx="9051480" cy="6857640"/>
            <a:chOff x="-25920" y="0"/>
            <a:chExt cx="9051480" cy="6857640"/>
          </a:xfrm>
        </p:grpSpPr>
        <p:grpSp>
          <p:nvGrpSpPr>
            <p:cNvPr id="44" name="Group 3"/>
            <p:cNvGrpSpPr/>
            <p:nvPr/>
          </p:nvGrpSpPr>
          <p:grpSpPr>
            <a:xfrm>
              <a:off x="5405400" y="56520"/>
              <a:ext cx="3620160" cy="6142320"/>
              <a:chOff x="5405400" y="56520"/>
              <a:chExt cx="3620160" cy="6142320"/>
            </a:xfrm>
          </p:grpSpPr>
          <p:sp>
            <p:nvSpPr>
              <p:cNvPr id="45" name="Freeform 4"/>
              <p:cNvSpPr/>
              <p:nvPr/>
            </p:nvSpPr>
            <p:spPr>
              <a:xfrm flipV="1" rot="12000000">
                <a:off x="6570360" y="347040"/>
                <a:ext cx="2115720" cy="2356920"/>
              </a:xfrm>
              <a:custGeom>
                <a:avLst/>
                <a:gdLst>
                  <a:gd name="textAreaLeft" fmla="*/ 0 w 2115720"/>
                  <a:gd name="textAreaRight" fmla="*/ 2116080 w 2115720"/>
                  <a:gd name="textAreaTop" fmla="*/ -360 h 2356920"/>
                  <a:gd name="textAreaBottom" fmla="*/ 2356920 h 235692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5"/>
              <p:cNvSpPr/>
              <p:nvPr/>
            </p:nvSpPr>
            <p:spPr>
              <a:xfrm flipV="1" rot="12000000">
                <a:off x="7416360" y="195696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6"/>
              <p:cNvSpPr/>
              <p:nvPr/>
            </p:nvSpPr>
            <p:spPr>
              <a:xfrm flipV="1" rot="12000000">
                <a:off x="6824520" y="2595600"/>
                <a:ext cx="439200" cy="39492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7"/>
              <p:cNvSpPr/>
              <p:nvPr/>
            </p:nvSpPr>
            <p:spPr>
              <a:xfrm flipV="1" rot="12000000">
                <a:off x="7236720" y="675000"/>
                <a:ext cx="388440" cy="55044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8"/>
              <p:cNvSpPr/>
              <p:nvPr/>
            </p:nvSpPr>
            <p:spPr>
              <a:xfrm flipV="1" rot="12000000">
                <a:off x="7153200" y="264528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9"/>
              <p:cNvSpPr/>
              <p:nvPr/>
            </p:nvSpPr>
            <p:spPr>
              <a:xfrm flipV="1" rot="12000000">
                <a:off x="7127640" y="124236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0"/>
              <p:cNvSpPr/>
              <p:nvPr/>
            </p:nvSpPr>
            <p:spPr>
              <a:xfrm flipV="1" rot="12000000">
                <a:off x="5947920" y="293904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80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Freeform 11"/>
            <p:cNvSpPr/>
            <p:nvPr/>
          </p:nvSpPr>
          <p:spPr>
            <a:xfrm flipH="1" rot="420000">
              <a:off x="34560" y="3106440"/>
              <a:ext cx="512280" cy="102960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29600"/>
                <a:gd name="textAreaBottom" fmla="*/ 1029960 h 102960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266760" y="2000160"/>
              <a:ext cx="1998360" cy="243180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1800"/>
                <a:gd name="textAreaBottom" fmla="*/ 2432160 h 243180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0" y="4143240"/>
              <a:ext cx="1271160" cy="72828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280"/>
                <a:gd name="textAreaBottom" fmla="*/ 728640 h 72828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 flipH="1" rot="420000">
              <a:off x="1425240" y="4532400"/>
              <a:ext cx="561600" cy="73620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 flipH="1" rot="420000">
              <a:off x="1267560" y="4728600"/>
              <a:ext cx="137880" cy="43452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1889280" y="5195880"/>
              <a:ext cx="1758600" cy="166176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1760"/>
                <a:gd name="textAreaBottom" fmla="*/ 1662120 h 166176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17"/>
            <p:cNvGrpSpPr/>
            <p:nvPr/>
          </p:nvGrpSpPr>
          <p:grpSpPr>
            <a:xfrm>
              <a:off x="4142880" y="1037520"/>
              <a:ext cx="1017000" cy="1268280"/>
              <a:chOff x="4142880" y="1037520"/>
              <a:chExt cx="1017000" cy="1268280"/>
            </a:xfrm>
          </p:grpSpPr>
          <p:sp>
            <p:nvSpPr>
              <p:cNvPr id="59" name="Freeform 18"/>
              <p:cNvSpPr/>
              <p:nvPr/>
            </p:nvSpPr>
            <p:spPr>
              <a:xfrm rot="3180000">
                <a:off x="4551480" y="1076040"/>
                <a:ext cx="286560" cy="3798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9"/>
              <p:cNvSpPr/>
              <p:nvPr/>
            </p:nvSpPr>
            <p:spPr>
              <a:xfrm rot="3180000">
                <a:off x="4641480" y="1608840"/>
                <a:ext cx="489960" cy="315360"/>
              </a:xfrm>
              <a:custGeom>
                <a:avLst/>
                <a:gdLst>
                  <a:gd name="textAreaLeft" fmla="*/ 0 w 489960"/>
                  <a:gd name="textAreaRight" fmla="*/ 490320 w 48996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0"/>
              <p:cNvSpPr/>
              <p:nvPr/>
            </p:nvSpPr>
            <p:spPr>
              <a:xfrm rot="3180000">
                <a:off x="4105080" y="1972800"/>
                <a:ext cx="510840" cy="16056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1"/>
            <p:cNvGrpSpPr/>
            <p:nvPr/>
          </p:nvGrpSpPr>
          <p:grpSpPr>
            <a:xfrm>
              <a:off x="5648040" y="294120"/>
              <a:ext cx="886680" cy="839880"/>
              <a:chOff x="5648040" y="294120"/>
              <a:chExt cx="886680" cy="839880"/>
            </a:xfrm>
          </p:grpSpPr>
          <p:sp>
            <p:nvSpPr>
              <p:cNvPr id="63" name="Freeform 22"/>
              <p:cNvSpPr/>
              <p:nvPr/>
            </p:nvSpPr>
            <p:spPr>
              <a:xfrm rot="14880000">
                <a:off x="5759640" y="80208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3"/>
              <p:cNvSpPr/>
              <p:nvPr/>
            </p:nvSpPr>
            <p:spPr>
              <a:xfrm rot="14880000">
                <a:off x="5706360" y="481320"/>
                <a:ext cx="306360" cy="30024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4"/>
              <p:cNvSpPr/>
              <p:nvPr/>
            </p:nvSpPr>
            <p:spPr>
              <a:xfrm rot="14880000">
                <a:off x="6244200" y="39420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5"/>
            <p:cNvGrpSpPr/>
            <p:nvPr/>
          </p:nvGrpSpPr>
          <p:grpSpPr>
            <a:xfrm>
              <a:off x="953640" y="5282640"/>
              <a:ext cx="1063080" cy="834840"/>
              <a:chOff x="953640" y="5282640"/>
              <a:chExt cx="1063080" cy="834840"/>
            </a:xfrm>
          </p:grpSpPr>
          <p:sp>
            <p:nvSpPr>
              <p:cNvPr id="67" name="Freeform 26"/>
              <p:cNvSpPr/>
              <p:nvPr/>
            </p:nvSpPr>
            <p:spPr>
              <a:xfrm rot="8520000">
                <a:off x="1698840" y="5549760"/>
                <a:ext cx="252360" cy="29916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7"/>
              <p:cNvSpPr/>
              <p:nvPr/>
            </p:nvSpPr>
            <p:spPr>
              <a:xfrm rot="8520000">
                <a:off x="1180440" y="5762160"/>
                <a:ext cx="431280" cy="24840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8"/>
              <p:cNvSpPr/>
              <p:nvPr/>
            </p:nvSpPr>
            <p:spPr>
              <a:xfrm rot="8520000">
                <a:off x="944640" y="5407560"/>
                <a:ext cx="449640" cy="12636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29"/>
            <p:cNvGrpSpPr/>
            <p:nvPr/>
          </p:nvGrpSpPr>
          <p:grpSpPr>
            <a:xfrm>
              <a:off x="358920" y="434880"/>
              <a:ext cx="1690560" cy="1151640"/>
              <a:chOff x="358920" y="434880"/>
              <a:chExt cx="1690560" cy="1151640"/>
            </a:xfrm>
          </p:grpSpPr>
          <p:sp>
            <p:nvSpPr>
              <p:cNvPr id="71" name="Freeform 30"/>
              <p:cNvSpPr/>
              <p:nvPr/>
            </p:nvSpPr>
            <p:spPr>
              <a:xfrm flipV="1" rot="14940000">
                <a:off x="1558440" y="1058040"/>
                <a:ext cx="357480" cy="53172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-360 h 531720"/>
                  <a:gd name="textAreaBottom" fmla="*/ 531720 h 531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1"/>
              <p:cNvSpPr/>
              <p:nvPr/>
            </p:nvSpPr>
            <p:spPr>
              <a:xfrm flipV="1" rot="14940000">
                <a:off x="1008000" y="577800"/>
                <a:ext cx="610560" cy="441360"/>
              </a:xfrm>
              <a:custGeom>
                <a:avLst/>
                <a:gdLst>
                  <a:gd name="textAreaLeft" fmla="*/ 0 w 610560"/>
                  <a:gd name="textAreaRight" fmla="*/ 610920 w 610560"/>
                  <a:gd name="textAreaTop" fmla="*/ 360 h 441360"/>
                  <a:gd name="textAreaBottom" fmla="*/ 44208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2"/>
              <p:cNvSpPr/>
              <p:nvPr/>
            </p:nvSpPr>
            <p:spPr>
              <a:xfrm flipV="1" rot="14940000">
                <a:off x="259200" y="1085400"/>
                <a:ext cx="636840" cy="22500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-360 h 225000"/>
                  <a:gd name="textAreaBottom" fmla="*/ 225000 h 225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3"/>
            <p:cNvGrpSpPr/>
            <p:nvPr/>
          </p:nvGrpSpPr>
          <p:grpSpPr>
            <a:xfrm>
              <a:off x="7396560" y="3694320"/>
              <a:ext cx="1159200" cy="1611000"/>
              <a:chOff x="7396560" y="3694320"/>
              <a:chExt cx="1159200" cy="1611000"/>
            </a:xfrm>
          </p:grpSpPr>
          <p:sp>
            <p:nvSpPr>
              <p:cNvPr id="75" name="Freeform 34"/>
              <p:cNvSpPr/>
              <p:nvPr/>
            </p:nvSpPr>
            <p:spPr>
              <a:xfrm flipV="1" rot="20820000">
                <a:off x="7451280" y="4739400"/>
                <a:ext cx="357480" cy="53208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360 h 532080"/>
                  <a:gd name="textAreaBottom" fmla="*/ 532800 h 532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5"/>
              <p:cNvSpPr/>
              <p:nvPr/>
            </p:nvSpPr>
            <p:spPr>
              <a:xfrm flipV="1" rot="20820000">
                <a:off x="7903080" y="4438440"/>
                <a:ext cx="610920" cy="44136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360 h 441360"/>
                  <a:gd name="textAreaBottom" fmla="*/ 44208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6"/>
              <p:cNvSpPr/>
              <p:nvPr/>
            </p:nvSpPr>
            <p:spPr>
              <a:xfrm flipV="1" rot="20820000">
                <a:off x="7596720" y="3762360"/>
                <a:ext cx="636480" cy="225000"/>
              </a:xfrm>
              <a:custGeom>
                <a:avLst/>
                <a:gdLst>
                  <a:gd name="textAreaLeft" fmla="*/ 0 w 636480"/>
                  <a:gd name="textAreaRight" fmla="*/ 636840 w 636480"/>
                  <a:gd name="textAreaTop" fmla="*/ -360 h 225000"/>
                  <a:gd name="textAreaBottom" fmla="*/ 225000 h 225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Freeform 37"/>
            <p:cNvSpPr/>
            <p:nvPr/>
          </p:nvSpPr>
          <p:spPr>
            <a:xfrm>
              <a:off x="1932120" y="3240"/>
              <a:ext cx="1368000" cy="1406160"/>
            </a:xfrm>
            <a:custGeom>
              <a:avLst/>
              <a:gdLst>
                <a:gd name="textAreaLeft" fmla="*/ 0 w 1368000"/>
                <a:gd name="textAreaRight" fmla="*/ 1368360 w 1368000"/>
                <a:gd name="textAreaTop" fmla="*/ 0 h 1406160"/>
                <a:gd name="textAreaBottom" fmla="*/ 1406520 h 140616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flipV="1" rot="9840000">
              <a:off x="3426120" y="162360"/>
              <a:ext cx="1080720" cy="94104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360 h 941040"/>
                <a:gd name="textAreaBottom" fmla="*/ 941760 h 94104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flipV="1" rot="9840000">
              <a:off x="3170160" y="136224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flipV="1" rot="9840000">
              <a:off x="3530880" y="1282320"/>
              <a:ext cx="194760" cy="369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360 h 369360"/>
                <a:gd name="textAreaBottom" fmla="*/ 370080 h 36936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>
              <a:off x="2544840" y="0"/>
              <a:ext cx="196560" cy="191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flipV="1" rot="9840000">
              <a:off x="3449520" y="1965240"/>
              <a:ext cx="623520" cy="365112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360 h 3651120"/>
                <a:gd name="textAreaBottom" fmla="*/ 3651840 h 365112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>
              <a:off x="0" y="2933640"/>
              <a:ext cx="56880" cy="2091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360" cy="3580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  <a:ea typeface="Arial"/>
              </a:rPr>
              <a:t>Образец заголовка</a:t>
            </a:r>
            <a:endParaRPr b="0" lang="ru-RU" sz="5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2759269-5A72-42A0-BC07-4C520610D4D6}" type="slidenum">
              <a:rPr b="0" lang="ru-RU" sz="1400" spc="-1" strike="noStrike">
                <a:solidFill>
                  <a:srgbClr val="006699"/>
                </a:solidFill>
                <a:latin typeface="Verdan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ru-RU" sz="2400" spc="-1" strike="noStrike">
              <a:solidFill>
                <a:srgbClr val="006699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85320" y="-91440"/>
            <a:ext cx="2790720" cy="6947640"/>
            <a:chOff x="-85320" y="-91440"/>
            <a:chExt cx="2790720" cy="6947640"/>
          </a:xfrm>
        </p:grpSpPr>
        <p:sp>
          <p:nvSpPr>
            <p:cNvPr id="127" name="Freeform 3"/>
            <p:cNvSpPr/>
            <p:nvPr/>
          </p:nvSpPr>
          <p:spPr>
            <a:xfrm>
              <a:off x="-7920" y="5178600"/>
              <a:ext cx="748800" cy="1272960"/>
            </a:xfrm>
            <a:custGeom>
              <a:avLst/>
              <a:gdLst>
                <a:gd name="textAreaLeft" fmla="*/ 0 w 748800"/>
                <a:gd name="textAreaRight" fmla="*/ 749160 w 74880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chemeClr val="folHlink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4"/>
            <p:cNvGrpSpPr/>
            <p:nvPr/>
          </p:nvGrpSpPr>
          <p:grpSpPr>
            <a:xfrm>
              <a:off x="69840" y="3920400"/>
              <a:ext cx="886680" cy="721440"/>
              <a:chOff x="69840" y="3920400"/>
              <a:chExt cx="886680" cy="721440"/>
            </a:xfrm>
          </p:grpSpPr>
          <p:sp>
            <p:nvSpPr>
              <p:cNvPr id="129" name="Freeform 5"/>
              <p:cNvSpPr/>
              <p:nvPr/>
            </p:nvSpPr>
            <p:spPr>
              <a:xfrm flipV="1" rot="4200000">
                <a:off x="119160" y="3939840"/>
                <a:ext cx="227520" cy="26460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-360 h 264600"/>
                  <a:gd name="textAreaBottom" fmla="*/ 264600 h 264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"/>
              <p:cNvSpPr/>
              <p:nvPr/>
            </p:nvSpPr>
            <p:spPr>
              <a:xfrm flipV="1" rot="4200000">
                <a:off x="275400" y="4311720"/>
                <a:ext cx="389160" cy="2196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219600"/>
                  <a:gd name="textAreaBottom" fmla="*/ 22032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 flipV="1" rot="4200000">
                <a:off x="631440" y="4158000"/>
                <a:ext cx="405720" cy="112320"/>
              </a:xfrm>
              <a:custGeom>
                <a:avLst/>
                <a:gdLst>
                  <a:gd name="textAreaLeft" fmla="*/ 0 w 405720"/>
                  <a:gd name="textAreaRight" fmla="*/ 406080 w 405720"/>
                  <a:gd name="textAreaTop" fmla="*/ 360 h 112320"/>
                  <a:gd name="textAreaBottom" fmla="*/ 113040 h 1123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Freeform 8"/>
            <p:cNvSpPr/>
            <p:nvPr/>
          </p:nvSpPr>
          <p:spPr>
            <a:xfrm>
              <a:off x="142920" y="2755800"/>
              <a:ext cx="1126800" cy="1218960"/>
            </a:xfrm>
            <a:custGeom>
              <a:avLst/>
              <a:gdLst>
                <a:gd name="textAreaLeft" fmla="*/ 0 w 1126800"/>
                <a:gd name="textAreaRight" fmla="*/ 1127160 w 11268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chemeClr val="accent2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9"/>
            <p:cNvGrpSpPr/>
            <p:nvPr/>
          </p:nvGrpSpPr>
          <p:grpSpPr>
            <a:xfrm>
              <a:off x="-13320" y="2611440"/>
              <a:ext cx="2718720" cy="3098160"/>
              <a:chOff x="-13320" y="2611440"/>
              <a:chExt cx="2718720" cy="3098160"/>
            </a:xfrm>
          </p:grpSpPr>
          <p:sp>
            <p:nvSpPr>
              <p:cNvPr id="134" name="Freeform 10"/>
              <p:cNvSpPr/>
              <p:nvPr/>
            </p:nvSpPr>
            <p:spPr>
              <a:xfrm flipH="1" rot="780000">
                <a:off x="371520" y="270792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1"/>
              <p:cNvSpPr/>
              <p:nvPr/>
            </p:nvSpPr>
            <p:spPr>
              <a:xfrm flipH="1" rot="780000">
                <a:off x="90720" y="285696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2"/>
              <p:cNvSpPr/>
              <p:nvPr/>
            </p:nvSpPr>
            <p:spPr>
              <a:xfrm flipH="1" rot="780000">
                <a:off x="344160" y="3067920"/>
                <a:ext cx="289440" cy="51732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3"/>
              <p:cNvSpPr/>
              <p:nvPr/>
            </p:nvSpPr>
            <p:spPr>
              <a:xfrm flipH="1" rot="780000">
                <a:off x="880200" y="3799800"/>
                <a:ext cx="264600" cy="308160"/>
              </a:xfrm>
              <a:custGeom>
                <a:avLst/>
                <a:gdLst>
                  <a:gd name="textAreaLeft" fmla="*/ -360 w 264600"/>
                  <a:gd name="textAreaRight" fmla="*/ 264600 w 26460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4"/>
              <p:cNvSpPr/>
              <p:nvPr/>
            </p:nvSpPr>
            <p:spPr>
              <a:xfrm flipH="1" rot="780000">
                <a:off x="804240" y="3864240"/>
                <a:ext cx="65160" cy="182160"/>
              </a:xfrm>
              <a:custGeom>
                <a:avLst/>
                <a:gdLst>
                  <a:gd name="textAreaLeft" fmla="*/ -360 w 65160"/>
                  <a:gd name="textAreaRight" fmla="*/ 65160 w 6516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15"/>
              <p:cNvGrpSpPr/>
              <p:nvPr/>
            </p:nvGrpSpPr>
            <p:grpSpPr>
              <a:xfrm>
                <a:off x="861840" y="4052160"/>
                <a:ext cx="1843560" cy="1657440"/>
                <a:chOff x="861840" y="4052160"/>
                <a:chExt cx="1843560" cy="1657440"/>
              </a:xfrm>
            </p:grpSpPr>
            <p:sp>
              <p:nvSpPr>
                <p:cNvPr id="140" name="Freeform 16"/>
                <p:cNvSpPr/>
                <p:nvPr/>
              </p:nvSpPr>
              <p:spPr>
                <a:xfrm flipV="1" rot="17880000">
                  <a:off x="1272240" y="3938400"/>
                  <a:ext cx="474120" cy="1215360"/>
                </a:xfrm>
                <a:custGeom>
                  <a:avLst/>
                  <a:gdLst>
                    <a:gd name="textAreaLeft" fmla="*/ 0 w 474120"/>
                    <a:gd name="textAreaRight" fmla="*/ 474480 w 474120"/>
                    <a:gd name="textAreaTop" fmla="*/ 360 h 1215360"/>
                    <a:gd name="textAreaBottom" fmla="*/ 1216080 h 12153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17"/>
                <p:cNvSpPr/>
                <p:nvPr/>
              </p:nvSpPr>
              <p:spPr>
                <a:xfrm flipV="1" rot="17880000">
                  <a:off x="2343240" y="4961160"/>
                  <a:ext cx="109080" cy="49824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360 h 498240"/>
                    <a:gd name="textAreaBottom" fmla="*/ 498960 h 4982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18"/>
                <p:cNvSpPr/>
                <p:nvPr/>
              </p:nvSpPr>
              <p:spPr>
                <a:xfrm flipV="1" rot="17880000">
                  <a:off x="2522160" y="5559480"/>
                  <a:ext cx="198720" cy="8424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360 h 84240"/>
                    <a:gd name="textAreaBottom" fmla="*/ 8496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Group 19"/>
            <p:cNvGrpSpPr/>
            <p:nvPr/>
          </p:nvGrpSpPr>
          <p:grpSpPr>
            <a:xfrm>
              <a:off x="466920" y="6172920"/>
              <a:ext cx="790560" cy="635760"/>
              <a:chOff x="466920" y="6172920"/>
              <a:chExt cx="790560" cy="635760"/>
            </a:xfrm>
          </p:grpSpPr>
          <p:sp>
            <p:nvSpPr>
              <p:cNvPr id="144" name="Freeform 20"/>
              <p:cNvSpPr/>
              <p:nvPr/>
            </p:nvSpPr>
            <p:spPr>
              <a:xfrm rot="6240000">
                <a:off x="1012320" y="6172560"/>
                <a:ext cx="197280" cy="25272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1"/>
              <p:cNvSpPr/>
              <p:nvPr/>
            </p:nvSpPr>
            <p:spPr>
              <a:xfrm rot="6240000">
                <a:off x="760680" y="6514560"/>
                <a:ext cx="337320" cy="20988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2"/>
              <p:cNvSpPr/>
              <p:nvPr/>
            </p:nvSpPr>
            <p:spPr>
              <a:xfrm rot="6240000">
                <a:off x="385560" y="6411960"/>
                <a:ext cx="351720" cy="106920"/>
              </a:xfrm>
              <a:custGeom>
                <a:avLst/>
                <a:gdLst>
                  <a:gd name="textAreaLeft" fmla="*/ 0 w 351720"/>
                  <a:gd name="textAreaRight" fmla="*/ 352080 w 35172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23"/>
            <p:cNvGrpSpPr/>
            <p:nvPr/>
          </p:nvGrpSpPr>
          <p:grpSpPr>
            <a:xfrm>
              <a:off x="316800" y="1773360"/>
              <a:ext cx="784800" cy="696240"/>
              <a:chOff x="316800" y="1773360"/>
              <a:chExt cx="784800" cy="696240"/>
            </a:xfrm>
          </p:grpSpPr>
          <p:sp>
            <p:nvSpPr>
              <p:cNvPr id="148" name="Freeform 24"/>
              <p:cNvSpPr/>
              <p:nvPr/>
            </p:nvSpPr>
            <p:spPr>
              <a:xfrm rot="4980000">
                <a:off x="837360" y="1745280"/>
                <a:ext cx="207360" cy="2980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5"/>
              <p:cNvSpPr/>
              <p:nvPr/>
            </p:nvSpPr>
            <p:spPr>
              <a:xfrm rot="4980000">
                <a:off x="693720" y="2154960"/>
                <a:ext cx="354600" cy="24732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6"/>
              <p:cNvSpPr/>
              <p:nvPr/>
            </p:nvSpPr>
            <p:spPr>
              <a:xfrm rot="4980000">
                <a:off x="216720" y="2208960"/>
                <a:ext cx="369720" cy="12600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27"/>
            <p:cNvGrpSpPr/>
            <p:nvPr/>
          </p:nvGrpSpPr>
          <p:grpSpPr>
            <a:xfrm>
              <a:off x="1293840" y="0"/>
              <a:ext cx="547560" cy="582480"/>
              <a:chOff x="1293840" y="0"/>
              <a:chExt cx="547560" cy="582480"/>
            </a:xfrm>
          </p:grpSpPr>
          <p:sp>
            <p:nvSpPr>
              <p:cNvPr id="152" name="Freeform 28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9"/>
              <p:cNvSpPr/>
              <p:nvPr/>
            </p:nvSpPr>
            <p:spPr>
              <a:xfrm>
                <a:off x="1544400" y="104040"/>
                <a:ext cx="297000" cy="18144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0"/>
              <p:cNvSpPr/>
              <p:nvPr/>
            </p:nvSpPr>
            <p:spPr>
              <a:xfrm>
                <a:off x="1485000" y="489960"/>
                <a:ext cx="309600" cy="9252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138240" y="149400"/>
              <a:ext cx="1109160" cy="1199880"/>
            </a:xfrm>
            <a:custGeom>
              <a:avLst/>
              <a:gdLst>
                <a:gd name="textAreaLeft" fmla="*/ 0 w 1109160"/>
                <a:gd name="textAreaRight" fmla="*/ 1109520 w 110916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chemeClr val="accent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 rot="780000">
              <a:off x="383760" y="5403600"/>
              <a:ext cx="209160" cy="264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 rot="780000">
              <a:off x="422280" y="5702040"/>
              <a:ext cx="104400" cy="680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17640" y="6524640"/>
              <a:ext cx="186840" cy="3315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0" y="6299280"/>
              <a:ext cx="205920" cy="20268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0" y="6269040"/>
              <a:ext cx="74160" cy="1360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0" y="5141880"/>
              <a:ext cx="788760" cy="1174320"/>
            </a:xfrm>
            <a:custGeom>
              <a:avLst/>
              <a:gdLst>
                <a:gd name="textAreaLeft" fmla="*/ 0 w 788760"/>
                <a:gd name="textAreaRight" fmla="*/ 789120 w 788760"/>
                <a:gd name="textAreaTop" fmla="*/ 0 h 1174320"/>
                <a:gd name="textAreaBottom" fmla="*/ 1174680 h 117432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 rot="1560000">
              <a:off x="31680" y="650520"/>
              <a:ext cx="545760" cy="3884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9"/>
            <p:cNvSpPr/>
            <p:nvPr/>
          </p:nvSpPr>
          <p:spPr>
            <a:xfrm rot="1560000">
              <a:off x="384120" y="1199880"/>
              <a:ext cx="264600" cy="18216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0"/>
            <p:cNvSpPr/>
            <p:nvPr/>
          </p:nvSpPr>
          <p:spPr>
            <a:xfrm rot="1560000">
              <a:off x="911160" y="453960"/>
              <a:ext cx="232920" cy="2538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1"/>
            <p:cNvSpPr/>
            <p:nvPr/>
          </p:nvSpPr>
          <p:spPr>
            <a:xfrm rot="1560000">
              <a:off x="374400" y="1144440"/>
              <a:ext cx="97920" cy="1537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2"/>
            <p:cNvSpPr/>
            <p:nvPr/>
          </p:nvSpPr>
          <p:spPr>
            <a:xfrm rot="1560000">
              <a:off x="928440" y="739440"/>
              <a:ext cx="113760" cy="648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3"/>
            <p:cNvSpPr/>
            <p:nvPr/>
          </p:nvSpPr>
          <p:spPr>
            <a:xfrm>
              <a:off x="0" y="1406520"/>
              <a:ext cx="570960" cy="103140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4"/>
            <p:cNvSpPr/>
            <p:nvPr/>
          </p:nvSpPr>
          <p:spPr>
            <a:xfrm rot="1560000">
              <a:off x="88560" y="132840"/>
              <a:ext cx="1275840" cy="1088640"/>
            </a:xfrm>
            <a:custGeom>
              <a:avLst/>
              <a:gdLst>
                <a:gd name="textAreaLeft" fmla="*/ 0 w 1275840"/>
                <a:gd name="textAreaRight" fmla="*/ 1276200 w 1275840"/>
                <a:gd name="textAreaTop" fmla="*/ 0 h 1088640"/>
                <a:gd name="textAreaBottom" fmla="*/ 1089000 h 108864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E4B9957-F737-4D52-9733-EF4DEF8E7B20}" type="slidenum">
              <a:rPr b="0" lang="ru-RU" sz="1400" spc="-1" strike="noStrike">
                <a:solidFill>
                  <a:srgbClr val="006699"/>
                </a:solidFill>
                <a:latin typeface="Verdan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Click to edit the title text format</a:t>
            </a: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ru-RU" sz="2400" spc="-1" strike="noStrike">
              <a:solidFill>
                <a:srgbClr val="006699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-85320" y="-91440"/>
            <a:ext cx="2790720" cy="6947640"/>
            <a:chOff x="-85320" y="-91440"/>
            <a:chExt cx="2790720" cy="6947640"/>
          </a:xfrm>
        </p:grpSpPr>
        <p:sp>
          <p:nvSpPr>
            <p:cNvPr id="211" name="Freeform 3"/>
            <p:cNvSpPr/>
            <p:nvPr/>
          </p:nvSpPr>
          <p:spPr>
            <a:xfrm>
              <a:off x="-7920" y="5178600"/>
              <a:ext cx="748800" cy="1272960"/>
            </a:xfrm>
            <a:custGeom>
              <a:avLst/>
              <a:gdLst>
                <a:gd name="textAreaLeft" fmla="*/ 0 w 748800"/>
                <a:gd name="textAreaRight" fmla="*/ 749160 w 74880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chemeClr val="folHlink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"/>
            <p:cNvGrpSpPr/>
            <p:nvPr/>
          </p:nvGrpSpPr>
          <p:grpSpPr>
            <a:xfrm>
              <a:off x="69840" y="3920400"/>
              <a:ext cx="886680" cy="721440"/>
              <a:chOff x="69840" y="3920400"/>
              <a:chExt cx="886680" cy="721440"/>
            </a:xfrm>
          </p:grpSpPr>
          <p:sp>
            <p:nvSpPr>
              <p:cNvPr id="213" name="Freeform 5"/>
              <p:cNvSpPr/>
              <p:nvPr/>
            </p:nvSpPr>
            <p:spPr>
              <a:xfrm flipV="1" rot="4200000">
                <a:off x="119160" y="3939840"/>
                <a:ext cx="227520" cy="26460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-360 h 264600"/>
                  <a:gd name="textAreaBottom" fmla="*/ 264600 h 264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6"/>
              <p:cNvSpPr/>
              <p:nvPr/>
            </p:nvSpPr>
            <p:spPr>
              <a:xfrm flipV="1" rot="4200000">
                <a:off x="275400" y="4311720"/>
                <a:ext cx="389160" cy="2196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219600"/>
                  <a:gd name="textAreaBottom" fmla="*/ 22032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7"/>
              <p:cNvSpPr/>
              <p:nvPr/>
            </p:nvSpPr>
            <p:spPr>
              <a:xfrm flipV="1" rot="4200000">
                <a:off x="631440" y="4158000"/>
                <a:ext cx="405720" cy="112320"/>
              </a:xfrm>
              <a:custGeom>
                <a:avLst/>
                <a:gdLst>
                  <a:gd name="textAreaLeft" fmla="*/ 0 w 405720"/>
                  <a:gd name="textAreaRight" fmla="*/ 406080 w 405720"/>
                  <a:gd name="textAreaTop" fmla="*/ 360 h 112320"/>
                  <a:gd name="textAreaBottom" fmla="*/ 113040 h 1123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Freeform 8"/>
            <p:cNvSpPr/>
            <p:nvPr/>
          </p:nvSpPr>
          <p:spPr>
            <a:xfrm>
              <a:off x="142920" y="2755800"/>
              <a:ext cx="1126800" cy="1218960"/>
            </a:xfrm>
            <a:custGeom>
              <a:avLst/>
              <a:gdLst>
                <a:gd name="textAreaLeft" fmla="*/ 0 w 1126800"/>
                <a:gd name="textAreaRight" fmla="*/ 1127160 w 11268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chemeClr val="accent2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9"/>
            <p:cNvGrpSpPr/>
            <p:nvPr/>
          </p:nvGrpSpPr>
          <p:grpSpPr>
            <a:xfrm>
              <a:off x="-13320" y="2611440"/>
              <a:ext cx="2718720" cy="3098160"/>
              <a:chOff x="-13320" y="2611440"/>
              <a:chExt cx="2718720" cy="3098160"/>
            </a:xfrm>
          </p:grpSpPr>
          <p:sp>
            <p:nvSpPr>
              <p:cNvPr id="218" name="Freeform 10"/>
              <p:cNvSpPr/>
              <p:nvPr/>
            </p:nvSpPr>
            <p:spPr>
              <a:xfrm flipH="1" rot="780000">
                <a:off x="371520" y="270792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1"/>
              <p:cNvSpPr/>
              <p:nvPr/>
            </p:nvSpPr>
            <p:spPr>
              <a:xfrm flipH="1" rot="780000">
                <a:off x="90720" y="285696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2"/>
              <p:cNvSpPr/>
              <p:nvPr/>
            </p:nvSpPr>
            <p:spPr>
              <a:xfrm flipH="1" rot="780000">
                <a:off x="344160" y="3067920"/>
                <a:ext cx="289440" cy="51732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3"/>
              <p:cNvSpPr/>
              <p:nvPr/>
            </p:nvSpPr>
            <p:spPr>
              <a:xfrm flipH="1" rot="780000">
                <a:off x="880200" y="3799800"/>
                <a:ext cx="264600" cy="308160"/>
              </a:xfrm>
              <a:custGeom>
                <a:avLst/>
                <a:gdLst>
                  <a:gd name="textAreaLeft" fmla="*/ -360 w 264600"/>
                  <a:gd name="textAreaRight" fmla="*/ 264600 w 26460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 flipH="1" rot="780000">
                <a:off x="804240" y="3864240"/>
                <a:ext cx="65160" cy="182160"/>
              </a:xfrm>
              <a:custGeom>
                <a:avLst/>
                <a:gdLst>
                  <a:gd name="textAreaLeft" fmla="*/ -360 w 65160"/>
                  <a:gd name="textAreaRight" fmla="*/ 65160 w 6516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Group 15"/>
              <p:cNvGrpSpPr/>
              <p:nvPr/>
            </p:nvGrpSpPr>
            <p:grpSpPr>
              <a:xfrm>
                <a:off x="861840" y="4052160"/>
                <a:ext cx="1843560" cy="1657440"/>
                <a:chOff x="861840" y="4052160"/>
                <a:chExt cx="1843560" cy="1657440"/>
              </a:xfrm>
            </p:grpSpPr>
            <p:sp>
              <p:nvSpPr>
                <p:cNvPr id="224" name="Freeform 16"/>
                <p:cNvSpPr/>
                <p:nvPr/>
              </p:nvSpPr>
              <p:spPr>
                <a:xfrm flipV="1" rot="17880000">
                  <a:off x="1272240" y="3938400"/>
                  <a:ext cx="474120" cy="1215360"/>
                </a:xfrm>
                <a:custGeom>
                  <a:avLst/>
                  <a:gdLst>
                    <a:gd name="textAreaLeft" fmla="*/ 0 w 474120"/>
                    <a:gd name="textAreaRight" fmla="*/ 474480 w 474120"/>
                    <a:gd name="textAreaTop" fmla="*/ 360 h 1215360"/>
                    <a:gd name="textAreaBottom" fmla="*/ 1216080 h 12153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7"/>
                <p:cNvSpPr/>
                <p:nvPr/>
              </p:nvSpPr>
              <p:spPr>
                <a:xfrm flipV="1" rot="17880000">
                  <a:off x="2343240" y="4961160"/>
                  <a:ext cx="109080" cy="49824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360 h 498240"/>
                    <a:gd name="textAreaBottom" fmla="*/ 498960 h 4982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8"/>
                <p:cNvSpPr/>
                <p:nvPr/>
              </p:nvSpPr>
              <p:spPr>
                <a:xfrm flipV="1" rot="17880000">
                  <a:off x="2522160" y="5559480"/>
                  <a:ext cx="198720" cy="8424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360 h 84240"/>
                    <a:gd name="textAreaBottom" fmla="*/ 8496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Group 19"/>
            <p:cNvGrpSpPr/>
            <p:nvPr/>
          </p:nvGrpSpPr>
          <p:grpSpPr>
            <a:xfrm>
              <a:off x="466920" y="6172920"/>
              <a:ext cx="790560" cy="635760"/>
              <a:chOff x="466920" y="6172920"/>
              <a:chExt cx="790560" cy="635760"/>
            </a:xfrm>
          </p:grpSpPr>
          <p:sp>
            <p:nvSpPr>
              <p:cNvPr id="228" name="Freeform 20"/>
              <p:cNvSpPr/>
              <p:nvPr/>
            </p:nvSpPr>
            <p:spPr>
              <a:xfrm rot="6240000">
                <a:off x="1012320" y="6172560"/>
                <a:ext cx="197280" cy="25272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1"/>
              <p:cNvSpPr/>
              <p:nvPr/>
            </p:nvSpPr>
            <p:spPr>
              <a:xfrm rot="6240000">
                <a:off x="760680" y="6514560"/>
                <a:ext cx="337320" cy="20988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2"/>
              <p:cNvSpPr/>
              <p:nvPr/>
            </p:nvSpPr>
            <p:spPr>
              <a:xfrm rot="6240000">
                <a:off x="385560" y="6411960"/>
                <a:ext cx="351720" cy="106920"/>
              </a:xfrm>
              <a:custGeom>
                <a:avLst/>
                <a:gdLst>
                  <a:gd name="textAreaLeft" fmla="*/ 0 w 351720"/>
                  <a:gd name="textAreaRight" fmla="*/ 352080 w 35172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23"/>
            <p:cNvGrpSpPr/>
            <p:nvPr/>
          </p:nvGrpSpPr>
          <p:grpSpPr>
            <a:xfrm>
              <a:off x="316800" y="1773360"/>
              <a:ext cx="784800" cy="696240"/>
              <a:chOff x="316800" y="1773360"/>
              <a:chExt cx="784800" cy="696240"/>
            </a:xfrm>
          </p:grpSpPr>
          <p:sp>
            <p:nvSpPr>
              <p:cNvPr id="232" name="Freeform 24"/>
              <p:cNvSpPr/>
              <p:nvPr/>
            </p:nvSpPr>
            <p:spPr>
              <a:xfrm rot="4980000">
                <a:off x="837360" y="1745280"/>
                <a:ext cx="207360" cy="2980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5"/>
              <p:cNvSpPr/>
              <p:nvPr/>
            </p:nvSpPr>
            <p:spPr>
              <a:xfrm rot="4980000">
                <a:off x="693720" y="2154960"/>
                <a:ext cx="354600" cy="24732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6"/>
              <p:cNvSpPr/>
              <p:nvPr/>
            </p:nvSpPr>
            <p:spPr>
              <a:xfrm rot="4980000">
                <a:off x="216720" y="2208960"/>
                <a:ext cx="369720" cy="12600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27"/>
            <p:cNvGrpSpPr/>
            <p:nvPr/>
          </p:nvGrpSpPr>
          <p:grpSpPr>
            <a:xfrm>
              <a:off x="1293840" y="0"/>
              <a:ext cx="547560" cy="582480"/>
              <a:chOff x="1293840" y="0"/>
              <a:chExt cx="547560" cy="582480"/>
            </a:xfrm>
          </p:grpSpPr>
          <p:sp>
            <p:nvSpPr>
              <p:cNvPr id="236" name="Freeform 28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9"/>
              <p:cNvSpPr/>
              <p:nvPr/>
            </p:nvSpPr>
            <p:spPr>
              <a:xfrm>
                <a:off x="1544400" y="104040"/>
                <a:ext cx="297000" cy="18144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0"/>
              <p:cNvSpPr/>
              <p:nvPr/>
            </p:nvSpPr>
            <p:spPr>
              <a:xfrm>
                <a:off x="1485000" y="489960"/>
                <a:ext cx="309600" cy="9252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31"/>
            <p:cNvSpPr/>
            <p:nvPr/>
          </p:nvSpPr>
          <p:spPr>
            <a:xfrm>
              <a:off x="138240" y="149400"/>
              <a:ext cx="1109160" cy="1199880"/>
            </a:xfrm>
            <a:custGeom>
              <a:avLst/>
              <a:gdLst>
                <a:gd name="textAreaLeft" fmla="*/ 0 w 1109160"/>
                <a:gd name="textAreaRight" fmla="*/ 1109520 w 110916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chemeClr val="accent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 rot="780000">
              <a:off x="383760" y="5403600"/>
              <a:ext cx="209160" cy="264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 rot="780000">
              <a:off x="422280" y="5702040"/>
              <a:ext cx="104400" cy="680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17640" y="6524640"/>
              <a:ext cx="186840" cy="3315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0" y="6299280"/>
              <a:ext cx="205920" cy="20268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0" y="6269040"/>
              <a:ext cx="74160" cy="1360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0" y="5141880"/>
              <a:ext cx="788760" cy="1174320"/>
            </a:xfrm>
            <a:custGeom>
              <a:avLst/>
              <a:gdLst>
                <a:gd name="textAreaLeft" fmla="*/ 0 w 788760"/>
                <a:gd name="textAreaRight" fmla="*/ 789120 w 788760"/>
                <a:gd name="textAreaTop" fmla="*/ 0 h 1174320"/>
                <a:gd name="textAreaBottom" fmla="*/ 1174680 h 117432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 rot="1560000">
              <a:off x="31680" y="650520"/>
              <a:ext cx="545760" cy="3884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9"/>
            <p:cNvSpPr/>
            <p:nvPr/>
          </p:nvSpPr>
          <p:spPr>
            <a:xfrm rot="1560000">
              <a:off x="384120" y="1199880"/>
              <a:ext cx="264600" cy="18216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0"/>
            <p:cNvSpPr/>
            <p:nvPr/>
          </p:nvSpPr>
          <p:spPr>
            <a:xfrm rot="1560000">
              <a:off x="911160" y="453960"/>
              <a:ext cx="232920" cy="2538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1"/>
            <p:cNvSpPr/>
            <p:nvPr/>
          </p:nvSpPr>
          <p:spPr>
            <a:xfrm rot="1560000">
              <a:off x="374400" y="1144440"/>
              <a:ext cx="97920" cy="1537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2"/>
            <p:cNvSpPr/>
            <p:nvPr/>
          </p:nvSpPr>
          <p:spPr>
            <a:xfrm rot="1560000">
              <a:off x="928440" y="739440"/>
              <a:ext cx="113760" cy="648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3"/>
            <p:cNvSpPr/>
            <p:nvPr/>
          </p:nvSpPr>
          <p:spPr>
            <a:xfrm>
              <a:off x="0" y="1406520"/>
              <a:ext cx="570960" cy="103140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4"/>
            <p:cNvSpPr/>
            <p:nvPr/>
          </p:nvSpPr>
          <p:spPr>
            <a:xfrm rot="1560000">
              <a:off x="88560" y="132840"/>
              <a:ext cx="1275840" cy="1088640"/>
            </a:xfrm>
            <a:custGeom>
              <a:avLst/>
              <a:gdLst>
                <a:gd name="textAreaLeft" fmla="*/ 0 w 1275840"/>
                <a:gd name="textAreaRight" fmla="*/ 1276200 w 1275840"/>
                <a:gd name="textAreaTop" fmla="*/ 0 h 1088640"/>
                <a:gd name="textAreaBottom" fmla="*/ 1089000 h 108864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8B8D532-9821-456D-8333-E54CFCE81C4F}" type="slidenum">
              <a:rPr b="0" lang="ru-RU" sz="1400" spc="-1" strike="noStrike">
                <a:solidFill>
                  <a:srgbClr val="006699"/>
                </a:solidFill>
                <a:latin typeface="Verdan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ru-RU" sz="2400" spc="-1" strike="noStrike">
              <a:solidFill>
                <a:srgbClr val="006699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image" Target="../media/image59.jpeg"/><Relationship Id="rId9" Type="http://schemas.openxmlformats.org/officeDocument/2006/relationships/image" Target="../media/image60.jpeg"/><Relationship Id="rId10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497440" cy="1510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Times New Roman"/>
                <a:ea typeface="Arial"/>
              </a:rPr>
              <a:t>ГОТОВНОСТЬ РЕБЕНКА К ШКОЛЬНОМУ ОБУЧЕНИЮ</a:t>
            </a:r>
            <a:endParaRPr b="0" lang="ru-RU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2" name="Рисунок 2" descr=""/>
          <p:cNvPicPr/>
          <p:nvPr/>
        </p:nvPicPr>
        <p:blipFill>
          <a:blip r:embed="rId2"/>
          <a:stretch/>
        </p:blipFill>
        <p:spPr>
          <a:xfrm>
            <a:off x="1467000" y="6091200"/>
            <a:ext cx="7651440" cy="76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3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4" descr=""/>
          <p:cNvPicPr/>
          <p:nvPr/>
        </p:nvPicPr>
        <p:blipFill>
          <a:blip r:embed="rId2"/>
          <a:stretch/>
        </p:blipFill>
        <p:spPr>
          <a:xfrm>
            <a:off x="258840" y="222120"/>
            <a:ext cx="8611920" cy="56016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5"/>
          <p:cNvSpPr/>
          <p:nvPr/>
        </p:nvSpPr>
        <p:spPr>
          <a:xfrm>
            <a:off x="258840" y="1004760"/>
            <a:ext cx="8776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 семи годам ребёнок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4d"/>
                </a:solidFill>
                <a:latin typeface="Times New Roman"/>
                <a:ea typeface="Arial"/>
              </a:rPr>
              <a:t>Свободно владеть карандашом и кистью при разных приёмах рис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4d"/>
                </a:solidFill>
                <a:latin typeface="Times New Roman"/>
                <a:ea typeface="Arial"/>
              </a:rPr>
              <a:t>Изображать в рисунке несколько предметов, объединяя их единым содерж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4d"/>
                </a:solidFill>
                <a:latin typeface="Times New Roman"/>
                <a:ea typeface="Arial"/>
              </a:rPr>
              <a:t>Штриховать или раскрашивать рисунки, не выходя за кон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4d"/>
                </a:solidFill>
                <a:latin typeface="Times New Roman"/>
                <a:ea typeface="Arial"/>
              </a:rPr>
              <a:t>Ориентироваться в тетради в клетку или в ли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4d"/>
                </a:solidFill>
                <a:latin typeface="Times New Roman"/>
                <a:ea typeface="Arial"/>
              </a:rPr>
              <a:t>Уметь копировать фразы, простейшие рису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4d"/>
                </a:solidFill>
                <a:latin typeface="Times New Roman"/>
                <a:ea typeface="Arial"/>
              </a:rPr>
              <a:t>Передавать в рисунке точную форму предмета, пропорции, расположение ч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3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"/>
          <p:cNvPicPr/>
          <p:nvPr/>
        </p:nvPicPr>
        <p:blipFill>
          <a:blip r:embed="rId2"/>
          <a:stretch/>
        </p:blipFill>
        <p:spPr>
          <a:xfrm>
            <a:off x="1812960" y="103320"/>
            <a:ext cx="5503680" cy="12920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4" descr=""/>
          <p:cNvPicPr/>
          <p:nvPr/>
        </p:nvPicPr>
        <p:blipFill>
          <a:blip r:embed="rId3"/>
          <a:stretch/>
        </p:blipFill>
        <p:spPr>
          <a:xfrm>
            <a:off x="2340000" y="1417680"/>
            <a:ext cx="4277880" cy="40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3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3"/>
          <p:cNvSpPr/>
          <p:nvPr/>
        </p:nvSpPr>
        <p:spPr>
          <a:xfrm>
            <a:off x="250920" y="404640"/>
            <a:ext cx="871344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Times New Roman"/>
                <a:ea typeface="Arial"/>
              </a:rPr>
              <a:t>                          </a:t>
            </a:r>
            <a:r>
              <a:rPr b="1" i="1" lang="ru-RU" sz="3200" spc="-1" strike="noStrike">
                <a:solidFill>
                  <a:srgbClr val="383838"/>
                </a:solidFill>
                <a:latin typeface="Times New Roman"/>
                <a:ea typeface="Arial"/>
              </a:rPr>
              <a:t>Интеллектуальная гото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это уровень развития познавательной сферы психики (восприятие, внимание, память, реч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  </a:t>
            </a: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Наличие познавательного интереса у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Вним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В деятельности ребенка появляется действие по правилу – первый необходимый элемент произвольного вним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Вызывает тревогу ребенок 6, а особенно 7 лет, который не в состоянии сосредоточиться на необходимой, но неинтересной деятельности хотя бы 5-10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Рисунок 4" descr=""/>
          <p:cNvPicPr/>
          <p:nvPr/>
        </p:nvPicPr>
        <p:blipFill>
          <a:blip r:embed="rId2"/>
          <a:srcRect l="0" t="19724" r="0" b="0"/>
          <a:stretch/>
        </p:blipFill>
        <p:spPr>
          <a:xfrm>
            <a:off x="6564240" y="1536840"/>
            <a:ext cx="240012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3"/>
          <p:cNvSpPr/>
          <p:nvPr/>
        </p:nvSpPr>
        <p:spPr>
          <a:xfrm>
            <a:off x="179280" y="103320"/>
            <a:ext cx="878472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28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Интеллектуальная гото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Память</a:t>
            </a: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Для ребенка 6-7 лет вполне доступно такое задание – запомнить 10 слов, не связанных по смыслу. Ребенок должен запоминать услышанное, увиденное и некоторое время удерживать в памя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Мышление</a:t>
            </a: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Совершенствуется наглядно-действенное мышление (манипулирование предметами), улучшается наглядно-образное мышление (манипулирование образами и представления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ВАЖНО, чтобы ребенок мог некоторое время концентрироваться на какой-либо задаче и выполнять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Рисунок 4" descr=""/>
          <p:cNvPicPr/>
          <p:nvPr/>
        </p:nvPicPr>
        <p:blipFill>
          <a:blip r:embed="rId2"/>
          <a:srcRect l="16140" t="0" r="0" b="11982"/>
          <a:stretch/>
        </p:blipFill>
        <p:spPr>
          <a:xfrm>
            <a:off x="5435640" y="3933720"/>
            <a:ext cx="20142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3" descr=""/>
          <p:cNvPicPr/>
          <p:nvPr/>
        </p:nvPicPr>
        <p:blipFill>
          <a:blip r:embed="rId2"/>
          <a:stretch/>
        </p:blipFill>
        <p:spPr>
          <a:xfrm>
            <a:off x="900000" y="1100160"/>
            <a:ext cx="7090920" cy="232848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4" descr=""/>
          <p:cNvPicPr/>
          <p:nvPr/>
        </p:nvPicPr>
        <p:blipFill>
          <a:blip r:embed="rId3"/>
          <a:stretch/>
        </p:blipFill>
        <p:spPr>
          <a:xfrm>
            <a:off x="900000" y="3089160"/>
            <a:ext cx="7090920" cy="209664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5" descr=""/>
          <p:cNvPicPr/>
          <p:nvPr/>
        </p:nvPicPr>
        <p:blipFill>
          <a:blip r:embed="rId4"/>
          <a:stretch/>
        </p:blipFill>
        <p:spPr>
          <a:xfrm>
            <a:off x="1735200" y="515880"/>
            <a:ext cx="5419440" cy="48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5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3"/>
          <p:cNvSpPr/>
          <p:nvPr/>
        </p:nvSpPr>
        <p:spPr>
          <a:xfrm>
            <a:off x="108000" y="0"/>
            <a:ext cx="89276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7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Рекомендации родителям для подготовки ребенка к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4"/>
          <p:cNvSpPr/>
          <p:nvPr/>
        </p:nvSpPr>
        <p:spPr>
          <a:xfrm>
            <a:off x="108000" y="507960"/>
            <a:ext cx="8784720" cy="53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Упражнения, которые помогут подготовить ребенка к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Задачи – головолом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Моза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Назови одним сло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Какая фигура не подх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Отгадай загад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Закончи предло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Четвертый лиш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Скажи наобор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Что будет, ес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4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334d"/>
                </a:solidFill>
                <a:latin typeface="Times New Roman"/>
                <a:ea typeface="Arial"/>
              </a:rPr>
              <a:t>Пальчикова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4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334d"/>
                </a:solidFill>
                <a:latin typeface="Times New Roman"/>
                <a:ea typeface="Arial"/>
              </a:rPr>
              <a:t>Рисунок по точ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4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334d"/>
                </a:solidFill>
                <a:latin typeface="Times New Roman"/>
                <a:ea typeface="Arial"/>
              </a:rPr>
              <a:t>Обведение по контору, штрих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4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334d"/>
                </a:solidFill>
                <a:latin typeface="Times New Roman"/>
                <a:ea typeface="Arial"/>
              </a:rPr>
              <a:t>Рисование линий различной формы и сло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5" descr=""/>
          <p:cNvPicPr/>
          <p:nvPr/>
        </p:nvPicPr>
        <p:blipFill>
          <a:blip r:embed="rId2"/>
          <a:srcRect l="0" t="0" r="6480" b="0"/>
          <a:stretch/>
        </p:blipFill>
        <p:spPr>
          <a:xfrm>
            <a:off x="6615000" y="946080"/>
            <a:ext cx="2246040" cy="180000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6" descr=""/>
          <p:cNvPicPr/>
          <p:nvPr/>
        </p:nvPicPr>
        <p:blipFill>
          <a:blip r:embed="rId3"/>
          <a:stretch/>
        </p:blipFill>
        <p:spPr>
          <a:xfrm>
            <a:off x="4033800" y="1521000"/>
            <a:ext cx="2401560" cy="180000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7" descr=""/>
          <p:cNvPicPr/>
          <p:nvPr/>
        </p:nvPicPr>
        <p:blipFill>
          <a:blip r:embed="rId4"/>
          <a:stretch/>
        </p:blipFill>
        <p:spPr>
          <a:xfrm>
            <a:off x="6541920" y="2997360"/>
            <a:ext cx="2401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3" descr=""/>
          <p:cNvPicPr/>
          <p:nvPr/>
        </p:nvPicPr>
        <p:blipFill>
          <a:blip r:embed="rId2"/>
          <a:stretch/>
        </p:blipFill>
        <p:spPr>
          <a:xfrm>
            <a:off x="108000" y="103320"/>
            <a:ext cx="878472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6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4"/>
          <p:cNvSpPr/>
          <p:nvPr/>
        </p:nvSpPr>
        <p:spPr>
          <a:xfrm>
            <a:off x="971640" y="549360"/>
            <a:ext cx="784836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Arial"/>
              </a:rPr>
              <a:t>Тест для родителе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Arial"/>
              </a:rPr>
              <a:t>Готов ли ваш ребёнок к шко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6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Таблица 5"/>
          <p:cNvGraphicFramePr/>
          <p:nvPr/>
        </p:nvGraphicFramePr>
        <p:xfrm>
          <a:off x="324000" y="384120"/>
          <a:ext cx="8640360" cy="538092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74592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ы считаете, что Ваш ребенок достаточно усидчив и внимателен при выполнении не слишком привлекательного для него задания?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  Не всегда 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592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аш ребенок любит мастерить, пользуясь клеем, ножницами, инструментами?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   Не всегда  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20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меет ли он составлять рассказ по 5-7 картинкам?                        Да     Не всегда  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200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ашего ребенка сильнее привлекают атрибуты школы (портфель, книжки, новое “взрослое” положение), чем возможность больше узнать и многому научиться?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   Не всегда    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592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Верно ли, что Ваш(а) сын (дочь) недостаточно уверенно пользуется шариковой ручкой?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    Не всегда    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44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меет ли ребенок выделять существенные признаки в предметах (например, у птицы есть клюв, перья)?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     Не всегда   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6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8" name="Таблица 3"/>
          <p:cNvGraphicFramePr/>
          <p:nvPr/>
        </p:nvGraphicFramePr>
        <p:xfrm>
          <a:off x="179280" y="404640"/>
          <a:ext cx="8784720" cy="490644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7635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Может ли Ваш ребенок сравнивать числа и предметы (определять количество)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Не всегда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Рисунки Вашего ребенка, как правило, неаккуратны, размашисты и не завершены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Не всегда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 Умеет ли Ваш ребенок считать до двадцати и обратно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Не всегда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528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 Может ли Ваш ребенок объединить одним словом понятия одного вида, рода, характера (например, назвать одним словом “обувь” слова “сапоги”, “туфли”, “ботинки”)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Не всегда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820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 Может ли Ваш ребенок придумать слово к предложенному слову так, чтобы они были связаны по смыслу, как связаны слова в образце (например, образец “дерево — ветки”, к слову “книга” необходимо назвать слово “страницы”)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 Не всегда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252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 Игрушки и личные вещи Вашего ребенка всегда в беспорядке и Вы устали напоминать ему, что нужно их убрать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                                     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 Не всегда  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7"/>
          <p:cNvSpPr/>
          <p:nvPr/>
        </p:nvSpPr>
        <p:spPr>
          <a:xfrm>
            <a:off x="395280" y="115920"/>
            <a:ext cx="874836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«Школа не должна вносить резкого перелома в жизнь.</a:t>
            </a:r>
            <a:br>
              <a:rPr sz="2800"/>
            </a:br>
            <a:r>
              <a:rPr b="1" i="1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Став учеником, ребенок продолжает делать сегодня то, что делал вчера.</a:t>
            </a:r>
            <a:br>
              <a:rPr sz="2800"/>
            </a:br>
            <a:r>
              <a:rPr b="1" i="1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Пусть новое появляется в его жизни постепенно и</a:t>
            </a:r>
            <a:br>
              <a:rPr sz="2800"/>
            </a:br>
            <a:r>
              <a:rPr b="1" i="1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не ошеломляет лавиной впечатлений»</a:t>
            </a:r>
            <a:br>
              <a:rPr sz="2400"/>
            </a:br>
            <a:r>
              <a:rPr b="0" i="1" lang="ru-RU" sz="2400" spc="-1" strike="noStrike">
                <a:solidFill>
                  <a:srgbClr val="003333"/>
                </a:solidFill>
                <a:latin typeface="Times New Roman"/>
                <a:ea typeface="Arial"/>
              </a:rPr>
              <a:t>(В.А.Сухомлинский)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7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Таблица 3"/>
          <p:cNvGraphicFramePr/>
          <p:nvPr/>
        </p:nvGraphicFramePr>
        <p:xfrm>
          <a:off x="250920" y="189000"/>
          <a:ext cx="8704080" cy="4147920"/>
        </p:xfrm>
        <a:graphic>
          <a:graphicData uri="http://schemas.openxmlformats.org/drawingml/2006/table">
            <a:tbl>
              <a:tblPr/>
              <a:tblGrid>
                <a:gridCol w="8704080"/>
              </a:tblGrid>
              <a:tr h="382320">
                <a:tc>
                  <a:txBody>
                    <a:bodyPr lIns="60120" rIns="60120" tIns="60120" bIns="601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 Знает ли Ваш малыш буквы и умеет ли он читать по слогам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Не всегда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2920">
                <a:tc>
                  <a:txBody>
                    <a:bodyPr lIns="60120" rIns="60120" tIns="60120" bIns="601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 Способен ли Ваш малыш складывать и вычитать в пределах десяти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Не всегда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60120" rIns="60120" tIns="60120" bIns="601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 Хочет ли ваш ребенок идти в первый класс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Не всегда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840">
                <a:tc>
                  <a:txBody>
                    <a:bodyPr lIns="60120" rIns="60120" tIns="60120" bIns="601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 Знает ли он простые геометрические фигуры (круг, квадрат, треугольник, овал прямоугольник)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                                               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 Не всегда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2920">
                <a:tc>
                  <a:txBody>
                    <a:bodyPr lIns="60120" rIns="60120" tIns="60120" bIns="601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 Ваш ребенок умеет побыть один и заняться чем-либо самостоятельно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Не всегда  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60120" rIns="60120" tIns="60120" bIns="601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 Ваш ребенок без особого труда может собрать разрезанную на несколько частей картинку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  Не всегда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7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Таблица 3"/>
          <p:cNvGraphicFramePr/>
          <p:nvPr/>
        </p:nvGraphicFramePr>
        <p:xfrm>
          <a:off x="108000" y="333360"/>
          <a:ext cx="8989560" cy="4014000"/>
        </p:xfrm>
        <a:graphic>
          <a:graphicData uri="http://schemas.openxmlformats.org/drawingml/2006/table">
            <a:tbl>
              <a:tblPr/>
              <a:tblGrid>
                <a:gridCol w="8989920"/>
              </a:tblGrid>
              <a:tr h="37764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 Ваш ребенок общителен как с детьми так и со взрослыми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 Не всегда   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 Ваш малыш способен хорошо запомнить и выполнить устное поручение (например, по телефону)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                                                       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Не всегда 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 Вы считаете, что Ваш малыш нелюбознателен и плохо осведомлен? Да     Не всегда    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 Ваш ребенок с трудом и без всякого удовольствия декламирует стихи и рассказывает сказки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Не всегда  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 Сможет ли Ваш ребенок придумать к предложенному слову слова с противоположным смыслом (например, “жарко” — “холодно”)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  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 Не всегда  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52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 Ему доставляет удовольствие раскрашивать или рисовать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Не всегда    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76" name="Рисунок 2" descr=""/>
          <p:cNvPicPr/>
          <p:nvPr/>
        </p:nvPicPr>
        <p:blipFill>
          <a:blip r:embed="rId1"/>
          <a:stretch/>
        </p:blipFill>
        <p:spPr>
          <a:xfrm>
            <a:off x="0" y="-1908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5"/>
          <p:cNvSpPr/>
          <p:nvPr/>
        </p:nvSpPr>
        <p:spPr>
          <a:xfrm>
            <a:off x="442800" y="260280"/>
            <a:ext cx="84499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 ваших ответах преобладают красные кружки, один-два зелёных и совсем нет син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ень готовности -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аточный</a:t>
            </a:r>
            <a:r>
              <a:rPr b="1" i="1" lang="ru-RU" sz="1800" spc="-1" strike="noStrike">
                <a:solidFill>
                  <a:srgbClr val="ff0000"/>
                </a:solidFill>
                <a:latin typeface="Verdan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6"/>
          <p:cNvSpPr/>
          <p:nvPr/>
        </p:nvSpPr>
        <p:spPr>
          <a:xfrm>
            <a:off x="442800" y="1677960"/>
            <a:ext cx="84499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 ваших ответах преобладают одинаково красные и зелёные кружки, то уровень готовности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442800" y="3063960"/>
            <a:ext cx="82436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  <a:ea typeface="Arial"/>
              </a:rPr>
              <a:t>   </a:t>
            </a:r>
            <a:r>
              <a:rPr b="1" i="1" lang="ru-RU" sz="28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  <a:ea typeface="Arial"/>
              </a:rPr>
              <a:t>Если в ваших ответах преобладают  синие  кружки, один-два зелёных и совсем нет красных, уровень готовности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недостат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8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4"/>
          <p:cNvSpPr/>
          <p:nvPr/>
        </p:nvSpPr>
        <p:spPr>
          <a:xfrm>
            <a:off x="611280" y="549360"/>
            <a:ext cx="83530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3333"/>
                </a:solidFill>
                <a:latin typeface="Times New Roman"/>
                <a:ea typeface="Arial"/>
              </a:rPr>
              <a:t>Что же является самым важным при подготовке ребенка к шко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84" name="Рисунок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" descr=""/>
          <p:cNvPicPr/>
          <p:nvPr/>
        </p:nvPicPr>
        <p:blipFill>
          <a:blip r:embed="rId2"/>
          <a:stretch/>
        </p:blipFill>
        <p:spPr>
          <a:xfrm>
            <a:off x="1479600" y="3465360"/>
            <a:ext cx="1809360" cy="162036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4" descr=""/>
          <p:cNvPicPr/>
          <p:nvPr/>
        </p:nvPicPr>
        <p:blipFill>
          <a:blip r:embed="rId3"/>
          <a:stretch/>
        </p:blipFill>
        <p:spPr>
          <a:xfrm>
            <a:off x="3898800" y="1944720"/>
            <a:ext cx="1066320" cy="101880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5" descr=""/>
          <p:cNvPicPr/>
          <p:nvPr/>
        </p:nvPicPr>
        <p:blipFill>
          <a:blip r:embed="rId4"/>
          <a:stretch/>
        </p:blipFill>
        <p:spPr>
          <a:xfrm>
            <a:off x="1771560" y="1549440"/>
            <a:ext cx="1161720" cy="111240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6" descr=""/>
          <p:cNvPicPr/>
          <p:nvPr/>
        </p:nvPicPr>
        <p:blipFill>
          <a:blip r:embed="rId5"/>
          <a:stretch/>
        </p:blipFill>
        <p:spPr>
          <a:xfrm>
            <a:off x="6151680" y="1060560"/>
            <a:ext cx="1312560" cy="125532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7" descr=""/>
          <p:cNvPicPr/>
          <p:nvPr/>
        </p:nvPicPr>
        <p:blipFill>
          <a:blip r:embed="rId6"/>
          <a:stretch/>
        </p:blipFill>
        <p:spPr>
          <a:xfrm>
            <a:off x="3809880" y="2825640"/>
            <a:ext cx="1266480" cy="126648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8" descr=""/>
          <p:cNvPicPr/>
          <p:nvPr/>
        </p:nvPicPr>
        <p:blipFill>
          <a:blip r:embed="rId7"/>
          <a:stretch/>
        </p:blipFill>
        <p:spPr>
          <a:xfrm>
            <a:off x="5931000" y="2147760"/>
            <a:ext cx="1755360" cy="160920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9" descr=""/>
          <p:cNvPicPr/>
          <p:nvPr/>
        </p:nvPicPr>
        <p:blipFill>
          <a:blip r:embed="rId8"/>
          <a:stretch/>
        </p:blipFill>
        <p:spPr>
          <a:xfrm>
            <a:off x="1647720" y="2441520"/>
            <a:ext cx="1449000" cy="13284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1" descr=""/>
          <p:cNvPicPr/>
          <p:nvPr/>
        </p:nvPicPr>
        <p:blipFill>
          <a:blip r:embed="rId9"/>
          <a:stretch/>
        </p:blipFill>
        <p:spPr>
          <a:xfrm>
            <a:off x="3691080" y="3573360"/>
            <a:ext cx="1639440" cy="140616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12" descr=""/>
          <p:cNvPicPr/>
          <p:nvPr/>
        </p:nvPicPr>
        <p:blipFill>
          <a:blip r:embed="rId10"/>
          <a:stretch/>
        </p:blipFill>
        <p:spPr>
          <a:xfrm>
            <a:off x="2705040" y="-79200"/>
            <a:ext cx="3612960" cy="112356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15" descr=""/>
          <p:cNvPicPr/>
          <p:nvPr/>
        </p:nvPicPr>
        <p:blipFill>
          <a:blip r:embed="rId11"/>
          <a:stretch/>
        </p:blipFill>
        <p:spPr>
          <a:xfrm>
            <a:off x="5821200" y="3252960"/>
            <a:ext cx="1980720" cy="181584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6" descr=""/>
          <p:cNvPicPr/>
          <p:nvPr/>
        </p:nvPicPr>
        <p:blipFill>
          <a:blip r:embed="rId12"/>
          <a:stretch/>
        </p:blipFill>
        <p:spPr>
          <a:xfrm>
            <a:off x="5896080" y="3895560"/>
            <a:ext cx="20127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9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3"/>
          <p:cNvSpPr/>
          <p:nvPr/>
        </p:nvSpPr>
        <p:spPr>
          <a:xfrm>
            <a:off x="108000" y="103320"/>
            <a:ext cx="9000720" cy="51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334d"/>
                </a:solidFill>
                <a:latin typeface="Times New Roman"/>
                <a:ea typeface="Calibri"/>
              </a:rPr>
              <a:t>С 1 января 2021 года в силу вступили новые правила по  платным образовательным услугам. (постановление Правительства от 15.09.2020 № 1441). Касаются требования только формы договора. Теперь кроме данных заказчика надо вписывать и информацию о законном представителе ребёнка. Эти сведения нужны на тот случай, если договор заключает, например, бабушка. А она по закону права ребенка представлять не может, и обращаться к ней по вопросам воспитания нельз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334d"/>
                </a:solidFill>
                <a:latin typeface="Times New Roman"/>
                <a:ea typeface="Calibri"/>
              </a:rPr>
              <a:t>Занятия проводятся в соответствии с новыми санитарными правилами СП 3.1/2.4 3598–20 (Санитарно эпидемиологические требования для образовательных организаций (ДОУ, детские сады, щколы) в условиях распространения новой коронавирусной инфекции (COVID-19)», согласно постановлению Главного санитарного врача РФ от 30.06.2020 № 16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00" name="Рисунок 2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3" descr=""/>
          <p:cNvPicPr/>
          <p:nvPr/>
        </p:nvPicPr>
        <p:blipFill>
          <a:blip r:embed="rId2"/>
          <a:srcRect l="5768" t="3691" r="0" b="0"/>
          <a:stretch/>
        </p:blipFill>
        <p:spPr>
          <a:xfrm>
            <a:off x="324000" y="404640"/>
            <a:ext cx="856908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0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3" descr=""/>
          <p:cNvPicPr/>
          <p:nvPr/>
        </p:nvPicPr>
        <p:blipFill>
          <a:blip r:embed="rId2"/>
          <a:stretch/>
        </p:blipFill>
        <p:spPr>
          <a:xfrm>
            <a:off x="166680" y="393840"/>
            <a:ext cx="8810280" cy="303480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4"/>
          <p:cNvSpPr/>
          <p:nvPr/>
        </p:nvSpPr>
        <p:spPr>
          <a:xfrm>
            <a:off x="108000" y="3429000"/>
            <a:ext cx="886896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спотребнадзор можетв любой момент организовать проверку учреждения. Ели родители и сотрудники не будут соблюдать санитарно-эпидемиологические меры, Роспотребнадзор может оштрафовать и даже запретить работать, если родители и сотрудники не будут соблюдать санитарно-эпидемиологические меры. Как только в требованиях будет послабление, мы пойдем вам навстреч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0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442800" y="333360"/>
            <a:ext cx="7729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илактика острых кишечных и воздушно - капельных инф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2" descr=""/>
          <p:cNvPicPr/>
          <p:nvPr/>
        </p:nvPicPr>
        <p:blipFill>
          <a:blip r:embed="rId2"/>
          <a:stretch/>
        </p:blipFill>
        <p:spPr>
          <a:xfrm>
            <a:off x="268200" y="725400"/>
            <a:ext cx="8592840" cy="46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1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4" descr=""/>
          <p:cNvPicPr/>
          <p:nvPr/>
        </p:nvPicPr>
        <p:blipFill>
          <a:blip r:embed="rId2"/>
          <a:stretch/>
        </p:blipFill>
        <p:spPr>
          <a:xfrm>
            <a:off x="6251400" y="1165320"/>
            <a:ext cx="1348920" cy="179820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3"/>
          <p:cNvSpPr/>
          <p:nvPr/>
        </p:nvSpPr>
        <p:spPr>
          <a:xfrm>
            <a:off x="324000" y="476280"/>
            <a:ext cx="836244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1d2905"/>
                </a:solidFill>
                <a:latin typeface="Trebuchet MS"/>
                <a:ea typeface="Arial"/>
              </a:rPr>
              <a:t>Мероприятия проведенные за первое полугодие в наше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Осен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Акция «Покормите птиц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Поход в 42 школу «Автогородок» ждёт своих др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Акция «Покорми бездомных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День Ма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Акция «Будь внимательным на дорог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Нов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Акция  «Доброе дело-доброе сердц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Рождество и Коля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Дни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ирование отчетных концертов (выпускных) на последнюю неделю апреля. Если ситуация с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Covi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19 будет такая же как в данный момент, то концерты будут проведены без родителей. Будет организована онлайн трансляция в прямом эфире для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2" descr=""/>
          <p:cNvPicPr/>
          <p:nvPr/>
        </p:nvPicPr>
        <p:blipFill>
          <a:blip r:embed="rId3"/>
          <a:stretch/>
        </p:blipFill>
        <p:spPr>
          <a:xfrm>
            <a:off x="7661160" y="911160"/>
            <a:ext cx="1348920" cy="18000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6" descr=""/>
          <p:cNvPicPr/>
          <p:nvPr/>
        </p:nvPicPr>
        <p:blipFill>
          <a:blip r:embed="rId4"/>
          <a:srcRect l="3537" t="13243" r="7478" b="11142"/>
          <a:stretch/>
        </p:blipFill>
        <p:spPr>
          <a:xfrm>
            <a:off x="5651640" y="2984400"/>
            <a:ext cx="2825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36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  <a:ea typeface="Arial"/>
              </a:rPr>
              <a:t>Виды готовности 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Verdana"/>
                <a:ea typeface="Arial"/>
              </a:rPr>
              <a:t>к школе:</a:t>
            </a:r>
            <a:endParaRPr b="0" lang="ru-RU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424360" cy="482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                        </a:t>
            </a:r>
            <a:r>
              <a:rPr b="1" i="1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Готовность к школе </a:t>
            </a: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- это совокупность определенных свойств и способов поведения (компетентностей) ребенка, необходимых ему для восприятия, переработки и усвоения учебных стимулов в начале и при дальнейшем продолжении школьного обучения. </a:t>
            </a: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                  </a:t>
            </a: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Факторы готовности к школе</a:t>
            </a:r>
            <a:r>
              <a:rPr b="0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: </a:t>
            </a: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33"/>
                </a:solidFill>
                <a:latin typeface="Times New Roman"/>
                <a:ea typeface="Arial"/>
              </a:rPr>
              <a:t>-Требования и условия в конкретной школе </a:t>
            </a:r>
            <a:endParaRPr b="0" lang="ru-RU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33"/>
                </a:solidFill>
                <a:latin typeface="Times New Roman"/>
                <a:ea typeface="Arial"/>
              </a:rPr>
              <a:t>-Качеств каждого конкретного ребенка и его уровень развития </a:t>
            </a:r>
            <a:endParaRPr b="0" lang="ru-RU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33"/>
                </a:solidFill>
                <a:latin typeface="Times New Roman"/>
                <a:ea typeface="Arial"/>
              </a:rPr>
              <a:t>-Специфика программ подготовки и адаптации к школе</a:t>
            </a:r>
            <a:endParaRPr b="0" lang="ru-RU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8" name="Рисунок 1" descr=""/>
          <p:cNvPicPr/>
          <p:nvPr/>
        </p:nvPicPr>
        <p:blipFill>
          <a:blip r:embed="rId2"/>
          <a:srcRect l="0" t="0" r="0" b="4224"/>
          <a:stretch/>
        </p:blipFill>
        <p:spPr>
          <a:xfrm>
            <a:off x="5803920" y="2565360"/>
            <a:ext cx="2914200" cy="15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1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3"/>
          <p:cNvSpPr/>
          <p:nvPr/>
        </p:nvSpPr>
        <p:spPr>
          <a:xfrm>
            <a:off x="324000" y="476280"/>
            <a:ext cx="836244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1">
                    <a:lumMod val="10000"/>
                  </a:schemeClr>
                </a:solidFill>
                <a:latin typeface="Trebuchet MS"/>
                <a:ea typeface="Arial"/>
              </a:rPr>
              <a:t>Мероприятия проведенные за первое полугодие в наше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3" descr=""/>
          <p:cNvPicPr/>
          <p:nvPr/>
        </p:nvPicPr>
        <p:blipFill>
          <a:blip r:embed="rId2"/>
          <a:stretch/>
        </p:blipFill>
        <p:spPr>
          <a:xfrm>
            <a:off x="55440" y="162720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6" descr=""/>
          <p:cNvPicPr/>
          <p:nvPr/>
        </p:nvPicPr>
        <p:blipFill>
          <a:blip r:embed="rId3"/>
          <a:stretch/>
        </p:blipFill>
        <p:spPr>
          <a:xfrm>
            <a:off x="4605480" y="165420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8" descr=""/>
          <p:cNvPicPr/>
          <p:nvPr/>
        </p:nvPicPr>
        <p:blipFill>
          <a:blip r:embed="rId4"/>
          <a:stretch/>
        </p:blipFill>
        <p:spPr>
          <a:xfrm>
            <a:off x="2509920" y="1654200"/>
            <a:ext cx="1987200" cy="180000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11" descr=""/>
          <p:cNvPicPr/>
          <p:nvPr/>
        </p:nvPicPr>
        <p:blipFill>
          <a:blip r:embed="rId5"/>
          <a:stretch/>
        </p:blipFill>
        <p:spPr>
          <a:xfrm>
            <a:off x="282600" y="362268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12" descr=""/>
          <p:cNvPicPr/>
          <p:nvPr/>
        </p:nvPicPr>
        <p:blipFill>
          <a:blip r:embed="rId6"/>
          <a:stretch/>
        </p:blipFill>
        <p:spPr>
          <a:xfrm>
            <a:off x="3257640" y="362736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13" descr=""/>
          <p:cNvPicPr/>
          <p:nvPr/>
        </p:nvPicPr>
        <p:blipFill>
          <a:blip r:embed="rId7"/>
          <a:stretch/>
        </p:blipFill>
        <p:spPr>
          <a:xfrm>
            <a:off x="6168960" y="364500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14" descr=""/>
          <p:cNvPicPr/>
          <p:nvPr/>
        </p:nvPicPr>
        <p:blipFill>
          <a:blip r:embed="rId8"/>
          <a:stretch/>
        </p:blipFill>
        <p:spPr>
          <a:xfrm>
            <a:off x="7155000" y="1041480"/>
            <a:ext cx="1800000" cy="23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27" name="Рисунок 2" descr=""/>
          <p:cNvPicPr/>
          <p:nvPr/>
        </p:nvPicPr>
        <p:blipFill>
          <a:blip r:embed="rId1"/>
          <a:stretch/>
        </p:blipFill>
        <p:spPr>
          <a:xfrm>
            <a:off x="0" y="-648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4" descr=""/>
          <p:cNvPicPr/>
          <p:nvPr/>
        </p:nvPicPr>
        <p:blipFill>
          <a:blip r:embed="rId2"/>
          <a:stretch/>
        </p:blipFill>
        <p:spPr>
          <a:xfrm>
            <a:off x="165240" y="647640"/>
            <a:ext cx="1800000" cy="24001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5" descr=""/>
          <p:cNvPicPr/>
          <p:nvPr/>
        </p:nvPicPr>
        <p:blipFill>
          <a:blip r:embed="rId3"/>
          <a:srcRect l="0" t="0" r="0" b="13247"/>
          <a:stretch/>
        </p:blipFill>
        <p:spPr>
          <a:xfrm>
            <a:off x="5807160" y="1847880"/>
            <a:ext cx="2766600" cy="180000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6" descr=""/>
          <p:cNvPicPr/>
          <p:nvPr/>
        </p:nvPicPr>
        <p:blipFill>
          <a:blip r:embed="rId4"/>
          <a:stretch/>
        </p:blipFill>
        <p:spPr>
          <a:xfrm>
            <a:off x="3930480" y="103320"/>
            <a:ext cx="1800000" cy="24001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7" descr=""/>
          <p:cNvPicPr/>
          <p:nvPr/>
        </p:nvPicPr>
        <p:blipFill>
          <a:blip r:embed="rId5"/>
          <a:stretch/>
        </p:blipFill>
        <p:spPr>
          <a:xfrm>
            <a:off x="190440" y="3413160"/>
            <a:ext cx="2398320" cy="179820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8" descr=""/>
          <p:cNvPicPr/>
          <p:nvPr/>
        </p:nvPicPr>
        <p:blipFill>
          <a:blip r:embed="rId6"/>
          <a:stretch/>
        </p:blipFill>
        <p:spPr>
          <a:xfrm>
            <a:off x="6683400" y="28440"/>
            <a:ext cx="2401560" cy="180000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9" descr=""/>
          <p:cNvPicPr/>
          <p:nvPr/>
        </p:nvPicPr>
        <p:blipFill>
          <a:blip r:embed="rId7"/>
          <a:srcRect l="0" t="12198" r="0" b="0"/>
          <a:stretch/>
        </p:blipFill>
        <p:spPr>
          <a:xfrm>
            <a:off x="2135160" y="517680"/>
            <a:ext cx="1536480" cy="180000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0" descr=""/>
          <p:cNvPicPr/>
          <p:nvPr/>
        </p:nvPicPr>
        <p:blipFill>
          <a:blip r:embed="rId8"/>
          <a:srcRect l="7472" t="25851" r="24015" b="17458"/>
          <a:stretch/>
        </p:blipFill>
        <p:spPr>
          <a:xfrm>
            <a:off x="2779560" y="3070080"/>
            <a:ext cx="2900160" cy="18000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1" descr=""/>
          <p:cNvPicPr/>
          <p:nvPr/>
        </p:nvPicPr>
        <p:blipFill>
          <a:blip r:embed="rId9"/>
          <a:stretch/>
        </p:blipFill>
        <p:spPr>
          <a:xfrm>
            <a:off x="6672240" y="3666960"/>
            <a:ext cx="2400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37" name="Рисунок 2" descr=""/>
          <p:cNvPicPr/>
          <p:nvPr/>
        </p:nvPicPr>
        <p:blipFill>
          <a:blip r:embed="rId1"/>
          <a:stretch/>
        </p:blipFill>
        <p:spPr>
          <a:xfrm>
            <a:off x="0" y="-2556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3" descr=""/>
          <p:cNvPicPr/>
          <p:nvPr/>
        </p:nvPicPr>
        <p:blipFill>
          <a:blip r:embed="rId2"/>
          <a:srcRect l="0" t="18507" r="20604" b="0"/>
          <a:stretch/>
        </p:blipFill>
        <p:spPr>
          <a:xfrm>
            <a:off x="324000" y="185760"/>
            <a:ext cx="1800000" cy="246348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"/>
          <p:cNvPicPr/>
          <p:nvPr/>
        </p:nvPicPr>
        <p:blipFill>
          <a:blip r:embed="rId3"/>
          <a:stretch/>
        </p:blipFill>
        <p:spPr>
          <a:xfrm>
            <a:off x="343080" y="2762280"/>
            <a:ext cx="1800000" cy="239832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5" descr=""/>
          <p:cNvPicPr/>
          <p:nvPr/>
        </p:nvPicPr>
        <p:blipFill>
          <a:blip r:embed="rId4"/>
          <a:srcRect l="-1000" t="10505" r="1000" b="-1454"/>
          <a:stretch/>
        </p:blipFill>
        <p:spPr>
          <a:xfrm>
            <a:off x="2627280" y="214200"/>
            <a:ext cx="1936440" cy="243504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6" descr=""/>
          <p:cNvPicPr/>
          <p:nvPr/>
        </p:nvPicPr>
        <p:blipFill>
          <a:blip r:embed="rId5"/>
          <a:srcRect l="0" t="17454" r="0" b="0"/>
          <a:stretch/>
        </p:blipFill>
        <p:spPr>
          <a:xfrm>
            <a:off x="4869000" y="214200"/>
            <a:ext cx="1882440" cy="223308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7" descr=""/>
          <p:cNvPicPr/>
          <p:nvPr/>
        </p:nvPicPr>
        <p:blipFill>
          <a:blip r:embed="rId6"/>
          <a:srcRect l="0" t="6953" r="0" b="0"/>
          <a:stretch/>
        </p:blipFill>
        <p:spPr>
          <a:xfrm>
            <a:off x="6985080" y="214200"/>
            <a:ext cx="1800000" cy="223308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8" descr=""/>
          <p:cNvPicPr/>
          <p:nvPr/>
        </p:nvPicPr>
        <p:blipFill>
          <a:blip r:embed="rId7"/>
          <a:srcRect l="0" t="6953" r="0" b="0"/>
          <a:stretch/>
        </p:blipFill>
        <p:spPr>
          <a:xfrm>
            <a:off x="2627280" y="2701800"/>
            <a:ext cx="1944360" cy="245556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9" descr=""/>
          <p:cNvPicPr/>
          <p:nvPr/>
        </p:nvPicPr>
        <p:blipFill>
          <a:blip r:embed="rId8"/>
          <a:stretch/>
        </p:blipFill>
        <p:spPr>
          <a:xfrm>
            <a:off x="4943520" y="2744640"/>
            <a:ext cx="1800000" cy="240012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0" descr=""/>
          <p:cNvPicPr/>
          <p:nvPr/>
        </p:nvPicPr>
        <p:blipFill>
          <a:blip r:embed="rId9"/>
          <a:stretch/>
        </p:blipFill>
        <p:spPr>
          <a:xfrm>
            <a:off x="7115040" y="2757600"/>
            <a:ext cx="18000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47" name="Рисунок 2" descr=""/>
          <p:cNvPicPr/>
          <p:nvPr/>
        </p:nvPicPr>
        <p:blipFill>
          <a:blip r:embed="rId1"/>
          <a:stretch/>
        </p:blipFill>
        <p:spPr>
          <a:xfrm>
            <a:off x="0" y="-2556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8" name="Прямоугольник 3"/>
          <p:cNvSpPr/>
          <p:nvPr/>
        </p:nvSpPr>
        <p:spPr>
          <a:xfrm>
            <a:off x="442800" y="549360"/>
            <a:ext cx="83768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опасное поведение детей на дороге, проблема нахождения на проезжей части, контроль за поведением и играми детей во время прогулок на улице, а также разъяснение требований ПДД при перевозке несовершеннолетних в салоне транспортных сред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2" descr=""/>
          <p:cNvPicPr/>
          <p:nvPr/>
        </p:nvPicPr>
        <p:blipFill>
          <a:blip r:embed="rId2"/>
          <a:stretch/>
        </p:blipFill>
        <p:spPr>
          <a:xfrm>
            <a:off x="1835280" y="1411200"/>
            <a:ext cx="540036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5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3"/>
          <p:cNvSpPr/>
          <p:nvPr/>
        </p:nvSpPr>
        <p:spPr>
          <a:xfrm>
            <a:off x="539640" y="1125360"/>
            <a:ext cx="8353080" cy="41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334d"/>
                </a:solidFill>
                <a:latin typeface="Times New Roman"/>
                <a:ea typeface="Calibri"/>
              </a:rPr>
              <a:t>БЛАГОДАРИМ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334d"/>
                </a:solidFill>
                <a:latin typeface="Times New Roman"/>
                <a:ea typeface="Calibri"/>
              </a:rPr>
              <a:t>ГОТОВЫ ОТВЕТИТЬ НА ВАШИ ВОПРОСЫ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071920" cy="928440"/>
          </a:xfrm>
          <a:prstGeom prst="rect">
            <a:avLst/>
          </a:prstGeom>
          <a:gradFill rotWithShape="0">
            <a:gsLst>
              <a:gs pos="0">
                <a:srgbClr val="ebf5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808080"/>
            </a:outerShdw>
          </a:effectLst>
        </p:spPr>
        <p:txBody>
          <a:bodyPr numCol="1" spcCol="0"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  <a:ea typeface="Arial"/>
              </a:rPr>
              <a:t>Готовность</a:t>
            </a:r>
            <a:r>
              <a:rPr b="0" lang="ru-RU" sz="3600" spc="-1" strike="noStrike">
                <a:solidFill>
                  <a:srgbClr val="c00000"/>
                </a:solidFill>
                <a:latin typeface="Verdana"/>
                <a:ea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  <a:ea typeface="Arial"/>
              </a:rPr>
              <a:t>к школе</a:t>
            </a:r>
            <a:endParaRPr b="0" lang="ru-RU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2" descr=""/>
          <p:cNvPicPr/>
          <p:nvPr/>
        </p:nvPicPr>
        <p:blipFill>
          <a:blip r:embed="rId2"/>
          <a:stretch/>
        </p:blipFill>
        <p:spPr>
          <a:xfrm>
            <a:off x="7077240" y="836640"/>
            <a:ext cx="1800000" cy="24001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4"/>
          <p:cNvSpPr/>
          <p:nvPr/>
        </p:nvSpPr>
        <p:spPr>
          <a:xfrm>
            <a:off x="179280" y="189000"/>
            <a:ext cx="885636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383838"/>
                </a:solidFill>
                <a:latin typeface="Times New Roman"/>
                <a:ea typeface="Arial"/>
              </a:rPr>
              <a:t>Готовность к школе (как понять родителям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383838"/>
                </a:solidFill>
                <a:latin typeface="Open Sans"/>
                <a:ea typeface="Arial"/>
              </a:rPr>
              <a:t>-   </a:t>
            </a:r>
            <a:r>
              <a:rPr b="0" lang="ru-RU" sz="2800" spc="-1" strike="noStrike">
                <a:solidFill>
                  <a:srgbClr val="383838"/>
                </a:solidFill>
                <a:latin typeface="Times New Roman"/>
                <a:ea typeface="Arial"/>
              </a:rPr>
              <a:t>Хочет ли Ваш ребенок идти в шк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383838"/>
                </a:solidFill>
                <a:latin typeface="Times New Roman"/>
                <a:ea typeface="Arial"/>
              </a:rPr>
              <a:t>Достаточно ли хорошо развиты у ребенка познавательные процес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383838"/>
                </a:solidFill>
                <a:latin typeface="Times New Roman"/>
                <a:ea typeface="Arial"/>
              </a:rPr>
              <a:t>Может ли ребенок контролировать свое поведение (произвольное поведение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383838"/>
                </a:solidFill>
                <a:latin typeface="Times New Roman"/>
                <a:ea typeface="Arial"/>
              </a:rPr>
              <a:t>Хорошо ли развита тонкая моторика пальцев ру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383838"/>
                </a:solidFill>
                <a:latin typeface="Times New Roman"/>
                <a:ea typeface="Arial"/>
              </a:rPr>
              <a:t>Достаточно ли хорошо развиты у ребенка речь, навык общения и интелл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42960"/>
            <a:ext cx="7429320" cy="9284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Verdana"/>
                <a:ea typeface="Arial"/>
              </a:rPr>
              <a:t>Физическая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  <a:ea typeface="Arial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Verdana"/>
                <a:ea typeface="Arial"/>
              </a:rPr>
              <a:t>готовность</a:t>
            </a:r>
            <a:endParaRPr b="0" lang="ru-RU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3"/>
          <p:cNvSpPr/>
          <p:nvPr/>
        </p:nvSpPr>
        <p:spPr>
          <a:xfrm>
            <a:off x="250920" y="189000"/>
            <a:ext cx="878472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Эмоциональная готов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-совокупность качеств, которые позволяют ребенку преодолеть эмоциональную неуверенность и различные блокады, которые мешают воспринимать учебный материал или ведут к тому, что ребенок замыкается в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-Умение адекватно переносить разочарования и справляться с ними – важная сторона эмоциональной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Рисунок 5" descr=""/>
          <p:cNvPicPr/>
          <p:nvPr/>
        </p:nvPicPr>
        <p:blipFill>
          <a:blip r:embed="rId2"/>
          <a:srcRect l="0" t="17383" r="15862" b="0"/>
          <a:stretch/>
        </p:blipFill>
        <p:spPr>
          <a:xfrm>
            <a:off x="250920" y="2927520"/>
            <a:ext cx="1514160" cy="198252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6" descr=""/>
          <p:cNvPicPr/>
          <p:nvPr/>
        </p:nvPicPr>
        <p:blipFill>
          <a:blip r:embed="rId3"/>
          <a:srcRect l="4795" t="0" r="0" b="0"/>
          <a:stretch/>
        </p:blipFill>
        <p:spPr>
          <a:xfrm>
            <a:off x="2771640" y="2852640"/>
            <a:ext cx="3198600" cy="252072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7" descr=""/>
          <p:cNvPicPr/>
          <p:nvPr/>
        </p:nvPicPr>
        <p:blipFill>
          <a:blip r:embed="rId4"/>
          <a:stretch/>
        </p:blipFill>
        <p:spPr>
          <a:xfrm>
            <a:off x="6303960" y="2927520"/>
            <a:ext cx="23983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89720" cy="482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334d"/>
                </a:solidFill>
                <a:latin typeface="Times New Roman"/>
                <a:ea typeface="Arial"/>
              </a:rPr>
              <a:t>        </a:t>
            </a:r>
            <a:r>
              <a:rPr b="1" i="1" lang="ru-RU" sz="4400" spc="-1" strike="noStrike">
                <a:solidFill>
                  <a:srgbClr val="00334d"/>
                </a:solidFill>
                <a:latin typeface="Times New Roman"/>
                <a:ea typeface="Arial"/>
              </a:rPr>
              <a:t>Социальная готовность</a:t>
            </a:r>
            <a:br>
              <a:rPr sz="4400"/>
            </a:br>
            <a:r>
              <a:rPr b="0" lang="ru-RU" sz="2400" spc="-1" strike="noStrike">
                <a:solidFill>
                  <a:srgbClr val="00334d"/>
                </a:solidFill>
                <a:latin typeface="Times New Roman"/>
                <a:ea typeface="Arial"/>
              </a:rPr>
              <a:t>Тесно связана с эмоциональной.</a:t>
            </a:r>
            <a:br>
              <a:rPr sz="2400"/>
            </a:br>
            <a:r>
              <a:rPr b="0" lang="ru-RU" sz="2400" spc="-1" strike="noStrike">
                <a:solidFill>
                  <a:srgbClr val="00334d"/>
                </a:solidFill>
                <a:latin typeface="Times New Roman"/>
                <a:ea typeface="Arial"/>
              </a:rPr>
              <a:t>Ребенок должен быть готов к тому, что он не сможет больше следовать только своим желаниям и импульсам. </a:t>
            </a: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Способность ребенка понимать смысл правил поведения и обхождения людей друг с другом, готовность следовать этим правилам.</a:t>
            </a:r>
            <a:br>
              <a:rPr sz="2800"/>
            </a:br>
            <a:r>
              <a:rPr b="1" lang="ru-RU" sz="2800" spc="-1" strike="noStrike">
                <a:solidFill>
                  <a:srgbClr val="00334d"/>
                </a:solidFill>
                <a:latin typeface="Times New Roman"/>
                <a:ea typeface="Arial"/>
              </a:rPr>
              <a:t>Дети должны уметь: слушать друг друга; давать собеседнику договорить до конца; иметь возможность воздерживаться от собственных импульсов</a:t>
            </a:r>
            <a:br>
              <a:rPr sz="2800"/>
            </a:br>
            <a:br>
              <a:rPr sz="2800"/>
            </a:b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5125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334d"/>
                </a:solidFill>
                <a:latin typeface="Times New Roman"/>
                <a:ea typeface="Arial"/>
              </a:rPr>
              <a:t>Чтобы успешно обучаться в школе</a:t>
            </a:r>
            <a:r>
              <a:rPr b="0" lang="ru-RU" sz="2800" spc="-1" strike="noStrike">
                <a:solidFill>
                  <a:srgbClr val="00334d"/>
                </a:solidFill>
                <a:latin typeface="Times New Roman"/>
                <a:ea typeface="Arial"/>
              </a:rPr>
              <a:t>, ребенок должен уметь строить адекватные системе обучения отношения со взрослыми, т.е. у него должна быть развита произвольность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334d"/>
                </a:solidFill>
                <a:latin typeface="Times New Roman"/>
                <a:ea typeface="Arial"/>
              </a:rPr>
              <a:t> -При низком уровне произвольности дети не видят за вопросами взрослого учебной задачи, а воспринимают их как повод для непосредственного, житейского общения.</a:t>
            </a: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2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5" descr=""/>
          <p:cNvPicPr/>
          <p:nvPr/>
        </p:nvPicPr>
        <p:blipFill>
          <a:blip r:embed="rId2"/>
          <a:stretch/>
        </p:blipFill>
        <p:spPr>
          <a:xfrm>
            <a:off x="595440" y="260280"/>
            <a:ext cx="7938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2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3"/>
          <p:cNvSpPr/>
          <p:nvPr/>
        </p:nvSpPr>
        <p:spPr>
          <a:xfrm>
            <a:off x="108000" y="260280"/>
            <a:ext cx="8784720" cy="49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Open Sans"/>
                <a:ea typeface="Arial"/>
              </a:rPr>
              <a:t>	</a:t>
            </a:r>
            <a:r>
              <a:rPr b="0" lang="ru-RU" sz="1800" spc="-1" strike="noStrike">
                <a:solidFill>
                  <a:srgbClr val="383838"/>
                </a:solidFill>
                <a:latin typeface="Open Sans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383838"/>
                </a:solidFill>
                <a:latin typeface="Times New Roman"/>
                <a:ea typeface="Arial"/>
              </a:rPr>
              <a:t>Моторная гото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Open Sans"/>
                <a:ea typeface="Arial"/>
              </a:rPr>
              <a:t> </a:t>
            </a:r>
            <a:r>
              <a:rPr b="0" lang="ru-RU" sz="1800" spc="-1" strike="noStrike">
                <a:solidFill>
                  <a:srgbClr val="383838"/>
                </a:solidFill>
                <a:latin typeface="Open Sans"/>
                <a:ea typeface="Arial"/>
              </a:rPr>
              <a:t>- </a:t>
            </a: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возрастные особенности организма и морфофункциональные особ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Моторная готов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Владеет своим тел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Воспринимает свое тело и ощущает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Произвольно направляет движения (владеть внутренней подвижность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Выражает при помощи тела и движения свои импуль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Когда говорят о моторной готовности к школе, то имеют в виду координацию системы «глаз – рука» и развитие тонкой моторики, необходимой для обучению пись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Шары">
  <a:themeElements>
    <a:clrScheme name="Шары 8">
      <a:dk1>
        <a:srgbClr val="006699"/>
      </a:dk1>
      <a:lt1>
        <a:srgbClr val="ffffff"/>
      </a:lt1>
      <a:dk2>
        <a:srgbClr val="006666"/>
      </a:dk2>
      <a:lt2>
        <a:srgbClr val="ffffcc"/>
      </a:lt2>
      <a:accent1>
        <a:srgbClr val="edfad2"/>
      </a:accent1>
      <a:accent2>
        <a:srgbClr val="ebf7ff"/>
      </a:accent2>
      <a:accent3>
        <a:srgbClr val="ffffff"/>
      </a:accent3>
      <a:accent4>
        <a:srgbClr val="005682"/>
      </a:accent4>
      <a:accent5>
        <a:srgbClr val="f4fce5"/>
      </a:accent5>
      <a:accent6>
        <a:srgbClr val="d5e0e7"/>
      </a:accent6>
      <a:hlink>
        <a:srgbClr val="cc99ff"/>
      </a:hlink>
      <a:folHlink>
        <a:srgbClr val="f2dff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Шары">
  <a:themeElements>
    <a:clrScheme name="Шары 8">
      <a:dk1>
        <a:srgbClr val="006699"/>
      </a:dk1>
      <a:lt1>
        <a:srgbClr val="ffffff"/>
      </a:lt1>
      <a:dk2>
        <a:srgbClr val="006666"/>
      </a:dk2>
      <a:lt2>
        <a:srgbClr val="ffffcc"/>
      </a:lt2>
      <a:accent1>
        <a:srgbClr val="edfad2"/>
      </a:accent1>
      <a:accent2>
        <a:srgbClr val="ebf7ff"/>
      </a:accent2>
      <a:accent3>
        <a:srgbClr val="ffffff"/>
      </a:accent3>
      <a:accent4>
        <a:srgbClr val="005682"/>
      </a:accent4>
      <a:accent5>
        <a:srgbClr val="f4fce5"/>
      </a:accent5>
      <a:accent6>
        <a:srgbClr val="d5e0e7"/>
      </a:accent6>
      <a:hlink>
        <a:srgbClr val="cc99ff"/>
      </a:hlink>
      <a:folHlink>
        <a:srgbClr val="f2dff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Шары">
  <a:themeElements>
    <a:clrScheme name="Шары 8">
      <a:dk1>
        <a:srgbClr val="006699"/>
      </a:dk1>
      <a:lt1>
        <a:srgbClr val="ffffff"/>
      </a:lt1>
      <a:dk2>
        <a:srgbClr val="006666"/>
      </a:dk2>
      <a:lt2>
        <a:srgbClr val="ffffcc"/>
      </a:lt2>
      <a:accent1>
        <a:srgbClr val="edfad2"/>
      </a:accent1>
      <a:accent2>
        <a:srgbClr val="ebf7ff"/>
      </a:accent2>
      <a:accent3>
        <a:srgbClr val="ffffff"/>
      </a:accent3>
      <a:accent4>
        <a:srgbClr val="005682"/>
      </a:accent4>
      <a:accent5>
        <a:srgbClr val="f4fce5"/>
      </a:accent5>
      <a:accent6>
        <a:srgbClr val="d5e0e7"/>
      </a:accent6>
      <a:hlink>
        <a:srgbClr val="cc99ff"/>
      </a:hlink>
      <a:folHlink>
        <a:srgbClr val="f2dff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6666"/>
      </a:dk2>
      <a:lt2>
        <a:srgbClr val="ffffcc"/>
      </a:lt2>
      <a:accent1>
        <a:srgbClr val="edfad2"/>
      </a:accent1>
      <a:accent2>
        <a:srgbClr val="ebf7ff"/>
      </a:accent2>
      <a:accent3>
        <a:srgbClr val="ffffff"/>
      </a:accent3>
      <a:accent4>
        <a:srgbClr val="005682"/>
      </a:accent4>
      <a:accent5>
        <a:srgbClr val="f4fce5"/>
      </a:accent5>
      <a:accent6>
        <a:srgbClr val="d5e0e7"/>
      </a:accent6>
      <a:hlink>
        <a:srgbClr val="cc99ff"/>
      </a:hlink>
      <a:folHlink>
        <a:srgbClr val="f2dff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7T07:22:15Z</dcterms:created>
  <dc:creator>user</dc:creator>
  <dc:description/>
  <dc:language>en-US</dc:language>
  <cp:lastModifiedBy>Motodist</cp:lastModifiedBy>
  <dcterms:modified xsi:type="dcterms:W3CDTF">2023-07-07T19:55:24Z</dcterms:modified>
  <cp:revision>7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34</vt:r8>
  </property>
</Properties>
</file>