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5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6597-D248-410B-B91B-5A790ACC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310-F579-49B8-80F6-7212502E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8297-B706-4BA5-8790-22D3CC87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A5A-E237-4B91-AB17-299604AA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3A4-2B85-48DE-85D8-0BA7DEED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C422-E24A-4A2E-A960-F6639E90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F0F-213A-47B3-8C18-BF516998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D9BB-46BE-421B-9E5D-CF7DF1F4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BA9-67B6-419D-8DA3-6284ED40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9DA7-51C1-4F07-A9BD-5F56C403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E624-EDE2-4883-9CFE-5E78AD0D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C3E-5357-4224-88C0-58299E93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E149-0B20-45C6-B4A8-43C2A183DE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1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2050920" y="907920"/>
            <a:ext cx="5400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СВОЯ ИГРА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154240" y="2924280"/>
            <a:ext cx="50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Comic Sans MS"/>
              </a:rPr>
              <a:t>по математи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3"/>
          <p:cNvSpPr/>
          <p:nvPr/>
        </p:nvSpPr>
        <p:spPr>
          <a:xfrm>
            <a:off x="1547640" y="1773360"/>
            <a:ext cx="158436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"/>
          <p:cNvSpPr/>
          <p:nvPr/>
        </p:nvSpPr>
        <p:spPr>
          <a:xfrm>
            <a:off x="3851280" y="1773360"/>
            <a:ext cx="180036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5"/>
          <p:cNvSpPr/>
          <p:nvPr/>
        </p:nvSpPr>
        <p:spPr>
          <a:xfrm>
            <a:off x="6659640" y="1844640"/>
            <a:ext cx="172872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1692360" y="1341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32400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Единицы измерений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571680" y="1857240"/>
            <a:ext cx="771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Врач дал больной девочке 3 таблетки и велел принимать их через каждые полчаса. Она строго выполнила указание врача. На сколько времени хватило прописанных врачом таблет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3017160" y="1000080"/>
            <a:ext cx="259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Arial"/>
              </a:rPr>
              <a:t>на 1 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799"/>
          <p:cNvSpPr/>
          <p:nvPr/>
        </p:nvSpPr>
        <p:spPr>
          <a:xfrm>
            <a:off x="108000" y="119700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2340000" y="2997360"/>
            <a:ext cx="4762440" cy="3162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клетка фон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32400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948240" y="2293200"/>
            <a:ext cx="656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Гусь весит 12 к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Сколько он будет веси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если встанет на одну ногу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587320" y="1785960"/>
            <a:ext cx="299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12 к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4"/>
          <p:cNvSpPr/>
          <p:nvPr/>
        </p:nvSpPr>
        <p:spPr>
          <a:xfrm>
            <a:off x="142920" y="135720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571680" y="2286000"/>
            <a:ext cx="771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Лестница состоит из 7 ступенек. Какая ступенька находится на середин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143080" y="857160"/>
            <a:ext cx="4859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511000" y="928800"/>
            <a:ext cx="401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Arial"/>
              </a:rPr>
              <a:t>четвёрт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324000" y="278136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50920" y="14842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468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324000" y="227664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лке стоят 19 книг. Из них 5 сборников рассказов, 3 сборника стихов, а остальные - учебники. Сколько учебников на пол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755640" y="105264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5 + 3 = 8 (к)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 и сти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9 - 8 = 11 (уч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11 учебник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8"/>
          <p:cNvSpPr/>
          <p:nvPr/>
        </p:nvSpPr>
        <p:spPr>
          <a:xfrm>
            <a:off x="214200" y="1009800"/>
            <a:ext cx="882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1080" y="1700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324000" y="1557360"/>
            <a:ext cx="85010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395280" y="1844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ь по краткой записи задачу и реши е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D:\мама\разные картинки\рисунки для през фото\баск. мяч.jpg"/>
          <p:cNvPicPr/>
          <p:nvPr/>
        </p:nvPicPr>
        <p:blipFill>
          <a:blip r:embed="rId3"/>
          <a:stretch/>
        </p:blipFill>
        <p:spPr>
          <a:xfrm>
            <a:off x="468360" y="256536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9"/>
          <p:cNvSpPr/>
          <p:nvPr/>
        </p:nvSpPr>
        <p:spPr>
          <a:xfrm>
            <a:off x="1258920" y="2708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- 12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D:\мама\разные картинки\рисунки для през фото\мяч ф..jpg"/>
          <p:cNvPicPr/>
          <p:nvPr/>
        </p:nvPicPr>
        <p:blipFill>
          <a:blip r:embed="rId4"/>
          <a:stretch/>
        </p:blipFill>
        <p:spPr>
          <a:xfrm>
            <a:off x="468360" y="335772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1"/>
          <p:cNvSpPr/>
          <p:nvPr/>
        </p:nvSpPr>
        <p:spPr>
          <a:xfrm>
            <a:off x="1332000" y="34290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 ?, на 5 м. меньше, 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Выгнутая вниз стрелка 12"/>
          <p:cNvSpPr/>
          <p:nvPr/>
        </p:nvSpPr>
        <p:spPr>
          <a:xfrm rot="15780000">
            <a:off x="4616280" y="2836440"/>
            <a:ext cx="1044360" cy="723960"/>
          </a:xfrm>
          <a:custGeom>
            <a:avLst/>
            <a:gdLst>
              <a:gd name="textAreaLeft" fmla="*/ 203400 w 1044360"/>
              <a:gd name="textAreaRight" fmla="*/ 696240 w 1044360"/>
              <a:gd name="textAreaTop" fmla="*/ 96840 h 723960"/>
              <a:gd name="textAreaBottom" fmla="*/ 62712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15" hR="21600" stAng="10800000" swAng="-5400000"/>
                <a:lnTo>
                  <a:pt x="10195" y="21600"/>
                </a:lnTo>
                <a:arcTo wR="8415" hR="21600" stAng="5400000" swAng="-3566386"/>
                <a:lnTo>
                  <a:pt x="21386" y="4842"/>
                </a:lnTo>
                <a:lnTo>
                  <a:pt x="17719" y="0"/>
                </a:lnTo>
                <a:lnTo>
                  <a:pt x="13624" y="4842"/>
                </a:lnTo>
                <a:lnTo>
                  <a:pt x="16615" y="4842"/>
                </a:lnTo>
                <a:arcTo wR="8415" hR="21600" stAng="1833614" swAng="3424020"/>
                <a:lnTo>
                  <a:pt x="9305" y="21479"/>
                </a:lnTo>
                <a:arcTo wR="8415" hR="21600" stAng="5542365" swAng="5257635"/>
                <a:close/>
              </a:path>
              <a:path fill="darkenLess" w="21600" h="21600">
                <a:moveTo>
                  <a:pt x="0" y="0"/>
                </a:moveTo>
                <a:arcTo wR="8415" hR="21600" stAng="10800000" swAng="-5400000"/>
                <a:lnTo>
                  <a:pt x="10195" y="21600"/>
                </a:lnTo>
                <a:arcTo wR="8415" hR="21600" stAng="5400000" swAng="142365"/>
                <a:lnTo>
                  <a:pt x="9305" y="21479"/>
                </a:lnTo>
                <a:arcTo wR="8415" hR="21600" stAng="5542365" swAng="525763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D:\мама\разные картинки\рисунки для през фото\рез. мяч.jpg"/>
          <p:cNvPicPr/>
          <p:nvPr/>
        </p:nvPicPr>
        <p:blipFill>
          <a:blip r:embed="rId5"/>
          <a:stretch/>
        </p:blipFill>
        <p:spPr>
          <a:xfrm>
            <a:off x="395280" y="4149720"/>
            <a:ext cx="760320" cy="7160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5"/>
          <p:cNvSpPr/>
          <p:nvPr/>
        </p:nvSpPr>
        <p:spPr>
          <a:xfrm>
            <a:off x="1116000" y="43657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?,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 8 м. больше, 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Выгнутая вниз стрелка 16"/>
          <p:cNvSpPr/>
          <p:nvPr/>
        </p:nvSpPr>
        <p:spPr>
          <a:xfrm rot="15993600">
            <a:off x="5907600" y="2775600"/>
            <a:ext cx="1271520" cy="2432160"/>
          </a:xfrm>
          <a:custGeom>
            <a:avLst/>
            <a:gdLst>
              <a:gd name="textAreaLeft" fmla="*/ 219240 w 1271520"/>
              <a:gd name="textAreaRight" fmla="*/ 809640 w 1271520"/>
              <a:gd name="textAreaTop" fmla="*/ 325800 h 2432160"/>
              <a:gd name="textAreaBottom" fmla="*/ 2106360 h 243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458" hR="21600" stAng="10800000" swAng="-5400000"/>
                <a:lnTo>
                  <a:pt x="10026" y="21600"/>
                </a:lnTo>
                <a:arcTo wR="7458" hR="21600" stAng="5400000" swAng="-4473415"/>
                <a:lnTo>
                  <a:pt x="21566" y="2051"/>
                </a:lnTo>
                <a:lnTo>
                  <a:pt x="16200" y="0"/>
                </a:lnTo>
                <a:lnTo>
                  <a:pt x="10766" y="2051"/>
                </a:lnTo>
                <a:lnTo>
                  <a:pt x="14882" y="2051"/>
                </a:lnTo>
                <a:arcTo wR="7458" hR="21600" stAng="926585" swAng="4266214"/>
                <a:lnTo>
                  <a:pt x="8742" y="21277"/>
                </a:lnTo>
                <a:arcTo wR="7458" hR="21600" stAng="5607201" swAng="5192799"/>
                <a:close/>
              </a:path>
              <a:path fill="darkenLess" w="21600" h="21600">
                <a:moveTo>
                  <a:pt x="0" y="0"/>
                </a:moveTo>
                <a:arcTo wR="7458" hR="21600" stAng="10800000" swAng="-5400000"/>
                <a:lnTo>
                  <a:pt x="10026" y="21600"/>
                </a:lnTo>
                <a:arcTo wR="7458" hR="21600" stAng="5400000" swAng="207201"/>
                <a:lnTo>
                  <a:pt x="8742" y="21277"/>
                </a:lnTo>
                <a:arcTo wR="7458" hR="21600" stAng="5607201" swAng="5192799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536040" cy="6877080"/>
        </p:xfrm>
        <a:graphic>
          <a:graphicData uri="http://schemas.openxmlformats.org/drawingml/2006/table">
            <a:tbl>
              <a:tblPr/>
              <a:tblGrid>
                <a:gridCol w="1619280"/>
                <a:gridCol w="1368360"/>
                <a:gridCol w="2376360"/>
                <a:gridCol w="2232360"/>
                <a:gridCol w="1939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Единицы измер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Геометрические фиг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Логические 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ndalus"/>
                        </a:rPr>
                        <a:t>Ребу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3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4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5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6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7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8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9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0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1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2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3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4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5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6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7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8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9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0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1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2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3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4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5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53512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395280" y="100008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1) 12 – 5 = 7 (м.) – футболь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2) 7 + 8 = 15 (м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твет: 15 резиновых мяч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(12 – 5) + 8 = 15 (м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4"/>
          <p:cNvSpPr/>
          <p:nvPr/>
        </p:nvSpPr>
        <p:spPr>
          <a:xfrm>
            <a:off x="285840" y="128592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642960" y="185724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Три подружки - Вера, Оля и Таня пошли в лес по ягоды. Для сбора ягод у них были корзина, лукошко и ведерко. Известно, что Оля была не с корзиной и не с лукошком, Вера - не с лукошком. Что с собой взяла каждая девочка для сбора яг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7"/>
          <p:cNvSpPr/>
          <p:nvPr/>
        </p:nvSpPr>
        <p:spPr>
          <a:xfrm>
            <a:off x="8280360" y="6264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428760" y="928800"/>
            <a:ext cx="84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Arial"/>
              </a:rPr>
              <a:t>Вера была с корзинкой, Оля - с ведерком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Arial"/>
              </a:rPr>
              <a:t>Таня -с лукошко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3"/>
          <p:cNvSpPr/>
          <p:nvPr/>
        </p:nvSpPr>
        <p:spPr>
          <a:xfrm>
            <a:off x="1547640" y="1628640"/>
            <a:ext cx="5438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78360" y="15699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419720" y="2961720"/>
            <a:ext cx="2934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&amp;Fcy;&amp;icy;&amp;gcy;&amp;ucy;&amp;rcy;&amp;ycy;"/>
          <p:cNvPicPr/>
          <p:nvPr/>
        </p:nvPicPr>
        <p:blipFill>
          <a:blip r:embed="rId3"/>
          <a:stretch/>
        </p:blipFill>
        <p:spPr>
          <a:xfrm>
            <a:off x="395280" y="3429000"/>
            <a:ext cx="8209080" cy="216072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7"/>
          <p:cNvSpPr/>
          <p:nvPr/>
        </p:nvSpPr>
        <p:spPr>
          <a:xfrm>
            <a:off x="755640" y="19162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 данные фигуры одним словом. Сможешь ли ты назвать каждую из фигур правильно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3637080" y="134136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900000" y="69228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оугольник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мо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ести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вадр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298764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197440" y="1844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4"/>
          <p:cNvSpPr/>
          <p:nvPr/>
        </p:nvSpPr>
        <p:spPr>
          <a:xfrm>
            <a:off x="53964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642960" y="235728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Сумма длин сторон квадрата 40 см. Чему равна длина каждой его сторон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53512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642960" y="1428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У квадрата все стороны имеют равные сторон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У квадрата таких стороны 4. Следовательно, нужно 40 см. разделить на 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читаем: 40 : 4 = 10 (см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8"/>
          <p:cNvSpPr/>
          <p:nvPr/>
        </p:nvSpPr>
        <p:spPr>
          <a:xfrm>
            <a:off x="214200" y="1143000"/>
            <a:ext cx="8569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197080" y="1700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клетка фон"/>
          <p:cNvPicPr/>
          <p:nvPr/>
        </p:nvPicPr>
        <p:blipFill>
          <a:blip r:embed="rId2"/>
          <a:stretch/>
        </p:blipFill>
        <p:spPr>
          <a:xfrm>
            <a:off x="-252360" y="-24300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4758480" y="564372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2" descr="&amp;Lcy;&amp;ocy;&amp;mcy;&amp;acy;&amp;ncy;&amp;ncy;&amp;acy;&amp;yacy;"/>
          <p:cNvPicPr/>
          <p:nvPr/>
        </p:nvPicPr>
        <p:blipFill>
          <a:blip r:embed="rId3"/>
          <a:stretch/>
        </p:blipFill>
        <p:spPr>
          <a:xfrm>
            <a:off x="1187280" y="2421000"/>
            <a:ext cx="604872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12"/>
          <p:cNvSpPr/>
          <p:nvPr/>
        </p:nvSpPr>
        <p:spPr>
          <a:xfrm>
            <a:off x="1187280" y="162864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йдите длину лома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9"/>
          <p:cNvSpPr/>
          <p:nvPr/>
        </p:nvSpPr>
        <p:spPr>
          <a:xfrm>
            <a:off x="2124000" y="1341360"/>
            <a:ext cx="5018040" cy="2570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40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478160" y="1628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6"/>
          <p:cNvSpPr/>
          <p:nvPr/>
        </p:nvSpPr>
        <p:spPr>
          <a:xfrm>
            <a:off x="357120" y="172080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http://img1.liveinternet.ru/images/attach/c/1/50/462/50462487_13.jpg"/>
          <p:cNvPicPr/>
          <p:nvPr/>
        </p:nvPicPr>
        <p:blipFill>
          <a:blip r:embed="rId3"/>
          <a:srcRect l="37796" t="1890" r="40819" b="26458"/>
          <a:stretch/>
        </p:blipFill>
        <p:spPr>
          <a:xfrm>
            <a:off x="3780000" y="3213000"/>
            <a:ext cx="1019160" cy="257976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12"/>
          <p:cNvSpPr/>
          <p:nvPr/>
        </p:nvSpPr>
        <p:spPr>
          <a:xfrm>
            <a:off x="755640" y="1844640"/>
            <a:ext cx="820908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х геометрических фигур нет 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285840" y="12859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87280" y="16678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46836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Единицы измерений 10</a:t>
            </a:r>
            <a:r>
              <a:rPr b="0" lang="ru-RU" sz="4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857160" y="310500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971640" y="2492280"/>
            <a:ext cx="73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ва длина трёхзвенной ломаной, если длина её звеньев 7 см, 4 см и 5 с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500040" y="428760"/>
            <a:ext cx="835812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Задание на знание геометрических фигур и внимание. Найдём геометрические фигуры, вспомнив их определения. </a:t>
            </a:r>
            <a:br>
              <a:rPr sz="2000"/>
            </a:b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Прямоугольник - это геометрическая фигура, четырёхугольник с прямыми углами. На рисунке он представлен в виде основы светоф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1 прямоугольник кстати, квадраты - это тоже прямоугольники(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Квадрат - это прямоугольник, у которого все стороны равны. На рисунке глаза светофора выполнены в виде квадр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6 квадр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Треугольник - это геометрическая фигура, многоугольник с тремя уг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6 треуг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Круг - это геометрическая фигура. На рисунке мы видим только дугу, а не весь круг. Значит, круги на изображении отсутству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0 кру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рисунке  отсутствует геометрическая фигура - к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2197080" y="1773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Геометрические фигуры 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67148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117080" y="2349360"/>
            <a:ext cx="724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Какую геометрическую фигу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осят на голове мужчи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5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845800" y="5157720"/>
            <a:ext cx="289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Цили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Vc79J"/>
          <p:cNvPicPr/>
          <p:nvPr/>
        </p:nvPicPr>
        <p:blipFill>
          <a:blip r:embed="rId2"/>
          <a:stretch/>
        </p:blipFill>
        <p:spPr>
          <a:xfrm>
            <a:off x="1187280" y="333360"/>
            <a:ext cx="3746520" cy="4535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51895_html_m4c4b7368"/>
          <p:cNvPicPr/>
          <p:nvPr/>
        </p:nvPicPr>
        <p:blipFill>
          <a:blip r:embed="rId3"/>
          <a:stretch/>
        </p:blipFill>
        <p:spPr>
          <a:xfrm>
            <a:off x="5435640" y="836640"/>
            <a:ext cx="3219480" cy="3495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3"/>
          <p:cNvSpPr/>
          <p:nvPr/>
        </p:nvSpPr>
        <p:spPr>
          <a:xfrm>
            <a:off x="571680" y="185724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Логические задачи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5"/>
          <p:cNvSpPr/>
          <p:nvPr/>
        </p:nvSpPr>
        <p:spPr>
          <a:xfrm>
            <a:off x="1835280" y="3244680"/>
            <a:ext cx="539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3 3 =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5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23880" y="1916280"/>
          <a:ext cx="6577200" cy="2395440"/>
        </p:xfrm>
        <a:graphic>
          <a:graphicData uri="http://schemas.openxmlformats.org/drawingml/2006/table">
            <a:tbl>
              <a:tblPr/>
              <a:tblGrid>
                <a:gridCol w="258840"/>
                <a:gridCol w="6318360"/>
              </a:tblGrid>
              <a:tr h="23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+ 3 - 3 = 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4"/>
          <p:cNvSpPr/>
          <p:nvPr/>
        </p:nvSpPr>
        <p:spPr>
          <a:xfrm>
            <a:off x="428760" y="214308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333080" y="1700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http://onlinetestpad.com/filestest/0015500-0016000/15666/%D0%B2%D0%BE%D0%BB%D0%BA.jpg"/>
          <p:cNvPicPr/>
          <p:nvPr/>
        </p:nvPicPr>
        <p:blipFill>
          <a:blip r:embed="rId3"/>
          <a:stretch/>
        </p:blipFill>
        <p:spPr>
          <a:xfrm>
            <a:off x="2556000" y="3429000"/>
            <a:ext cx="3200400" cy="306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468360" y="1557360"/>
          <a:ext cx="8353440" cy="1677960"/>
        </p:xfrm>
        <a:graphic>
          <a:graphicData uri="http://schemas.openxmlformats.org/drawingml/2006/table">
            <a:tbl>
              <a:tblPr/>
              <a:tblGrid>
                <a:gridCol w="789120"/>
                <a:gridCol w="820440"/>
                <a:gridCol w="6564600"/>
                <a:gridCol w="179280"/>
              </a:tblGrid>
              <a:tr h="12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2040" rIns="320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2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 лугу паслись 10 овец. Всех, кроме девяти, съел волк. Сколько овец осталось на лугу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Прямоугольник 8"/>
          <p:cNvSpPr/>
          <p:nvPr/>
        </p:nvSpPr>
        <p:spPr>
          <a:xfrm>
            <a:off x="1619280" y="765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Логические задачи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2071800" y="57168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1600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1908000" y="260280"/>
            <a:ext cx="30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2700360" y="227664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Arial"/>
              </a:rPr>
              <a:t>9 ове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857840" y="5928840"/>
            <a:ext cx="385272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7"/>
          <p:cNvSpPr/>
          <p:nvPr/>
        </p:nvSpPr>
        <p:spPr>
          <a:xfrm>
            <a:off x="500040" y="200016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324000" y="27428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традь дешевле ручки, но дороже карандаша. Что дешевле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6"/>
          <p:cNvSpPr/>
          <p:nvPr/>
        </p:nvSpPr>
        <p:spPr>
          <a:xfrm>
            <a:off x="1187280" y="76500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Логические задачи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6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4"/>
          <p:cNvSpPr/>
          <p:nvPr/>
        </p:nvSpPr>
        <p:spPr>
          <a:xfrm>
            <a:off x="2340000" y="4292640"/>
            <a:ext cx="40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4"/>
          <p:cNvSpPr/>
          <p:nvPr/>
        </p:nvSpPr>
        <p:spPr>
          <a:xfrm>
            <a:off x="755640" y="2349360"/>
            <a:ext cx="7561440" cy="1273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нда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7"/>
          <p:cNvSpPr/>
          <p:nvPr/>
        </p:nvSpPr>
        <p:spPr>
          <a:xfrm>
            <a:off x="611280" y="18446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41080" y="18446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468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Логические задачи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042920" y="2492280"/>
            <a:ext cx="77058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ти вчера был день рождения. Зав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пятница. В какой день недели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рождения Кат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484360" y="1413000"/>
            <a:ext cx="489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8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6"/>
          <p:cNvSpPr/>
          <p:nvPr/>
        </p:nvSpPr>
        <p:spPr>
          <a:xfrm>
            <a:off x="1500120" y="500040"/>
            <a:ext cx="590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050920" y="2637000"/>
            <a:ext cx="56167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реда</a:t>
            </a: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5"/>
          <p:cNvSpPr/>
          <p:nvPr/>
        </p:nvSpPr>
        <p:spPr>
          <a:xfrm>
            <a:off x="428760" y="20001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Логические задачи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042920" y="201744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должи ряд чис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6"/>
          <p:cNvSpPr/>
          <p:nvPr/>
        </p:nvSpPr>
        <p:spPr>
          <a:xfrm>
            <a:off x="611280" y="32446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, 18, 19, 17, 18, 16, 17, ...., ...., 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0"/>
          <p:cNvSpPr/>
          <p:nvPr/>
        </p:nvSpPr>
        <p:spPr>
          <a:xfrm>
            <a:off x="1403280" y="162864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6"/>
          <p:cNvSpPr/>
          <p:nvPr/>
        </p:nvSpPr>
        <p:spPr>
          <a:xfrm>
            <a:off x="1692360" y="155736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5, 16,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8"/>
          <p:cNvSpPr/>
          <p:nvPr/>
        </p:nvSpPr>
        <p:spPr>
          <a:xfrm>
            <a:off x="1116000" y="1557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182520" y="1844640"/>
            <a:ext cx="896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"/>
          <p:cNvSpPr/>
          <p:nvPr/>
        </p:nvSpPr>
        <p:spPr>
          <a:xfrm>
            <a:off x="250920" y="836640"/>
            <a:ext cx="847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C:\Documents and Settings\Admin\Рабочий стол\минус.png"/>
          <p:cNvPicPr/>
          <p:nvPr/>
        </p:nvPicPr>
        <p:blipFill>
          <a:blip r:embed="rId3"/>
          <a:stretch/>
        </p:blipFill>
        <p:spPr>
          <a:xfrm>
            <a:off x="1276200" y="2514600"/>
            <a:ext cx="6224760" cy="242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116000" y="1557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2895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2733840" y="1500120"/>
            <a:ext cx="348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МИНУ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6"/>
          <p:cNvSpPr/>
          <p:nvPr/>
        </p:nvSpPr>
        <p:spPr>
          <a:xfrm>
            <a:off x="1909440" y="148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468360" y="692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http://luntiki.ru/uploads/images/9/c/9/b/5/01eb5b7252.jpg"/>
          <p:cNvPicPr/>
          <p:nvPr/>
        </p:nvPicPr>
        <p:blipFill>
          <a:blip r:embed="rId3"/>
          <a:stretch/>
        </p:blipFill>
        <p:spPr>
          <a:xfrm>
            <a:off x="1763640" y="2276640"/>
            <a:ext cx="4762440" cy="2933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757800" y="234936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2510640" y="178596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Семь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9"/>
          <p:cNvSpPr/>
          <p:nvPr/>
        </p:nvSpPr>
        <p:spPr>
          <a:xfrm>
            <a:off x="2771640" y="866880"/>
            <a:ext cx="63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619280" y="1413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468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http://luntiki.ru/uploads/images/0/c/2/e/5/d89403cb18.jpg"/>
          <p:cNvPicPr/>
          <p:nvPr/>
        </p:nvPicPr>
        <p:blipFill>
          <a:blip r:embed="rId3"/>
          <a:stretch/>
        </p:blipFill>
        <p:spPr>
          <a:xfrm>
            <a:off x="1619280" y="2637000"/>
            <a:ext cx="6121440" cy="2495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16000" y="2349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2071800" y="1844640"/>
            <a:ext cx="45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стоян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2125800" y="1700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6" descr="C:\Users\Администратор\Desktop\ребус\1e95f7172a.jpg"/>
          <p:cNvPicPr/>
          <p:nvPr/>
        </p:nvPicPr>
        <p:blipFill>
          <a:blip r:embed="rId3"/>
          <a:stretch/>
        </p:blipFill>
        <p:spPr>
          <a:xfrm>
            <a:off x="1535040" y="2378160"/>
            <a:ext cx="6073920" cy="210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84360" y="1268280"/>
            <a:ext cx="82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1552320" y="1052640"/>
            <a:ext cx="610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Единицы измерений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642960" y="2286000"/>
            <a:ext cx="7643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В клетке находятся три кролика. Три девочки попросили дать им по одному кролику. Каждой девочке дали кролика. И все же в клетке остался один кролик. Как это случ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643040" y="50004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2214720" y="2071800"/>
            <a:ext cx="43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восем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7"/>
          <p:cNvSpPr/>
          <p:nvPr/>
        </p:nvSpPr>
        <p:spPr>
          <a:xfrm>
            <a:off x="3022560" y="1093680"/>
            <a:ext cx="63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541080" y="17002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http://luntiki.ru/uploads/images/3/6/3/8/5/8966d6f34e.jpg"/>
          <p:cNvPicPr/>
          <p:nvPr/>
        </p:nvPicPr>
        <p:blipFill>
          <a:blip r:embed="rId3"/>
          <a:stretch/>
        </p:blipFill>
        <p:spPr>
          <a:xfrm>
            <a:off x="1979640" y="2276640"/>
            <a:ext cx="4762440" cy="3038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1763640" y="2060640"/>
            <a:ext cx="494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кр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39528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Поздравляем победителя!</a:t>
            </a:r>
            <a:br>
              <a:rPr sz="4400"/>
            </a:b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До новых встреч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2" descr="blest47"/>
          <p:cNvPicPr/>
          <p:nvPr/>
        </p:nvPicPr>
        <p:blipFill>
          <a:blip r:embed="rId1"/>
          <a:stretch/>
        </p:blipFill>
        <p:spPr>
          <a:xfrm>
            <a:off x="3143160" y="0"/>
            <a:ext cx="2143080" cy="292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571680" y="114300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Нужно отдать одной девочке клетку вместе с кроли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357120" y="1500120"/>
            <a:ext cx="8358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70160" y="11970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1504800" y="1000080"/>
            <a:ext cx="610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Единицы измерений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3"/>
          <a:stretch/>
        </p:blipFill>
        <p:spPr>
          <a:xfrm>
            <a:off x="684360" y="2565360"/>
            <a:ext cx="7343640" cy="16556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8"/>
          <p:cNvSpPr/>
          <p:nvPr/>
        </p:nvSpPr>
        <p:spPr>
          <a:xfrm>
            <a:off x="971640" y="1773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отрезков изображено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2050920" y="2492280"/>
            <a:ext cx="53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отрезк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1187280" y="1268280"/>
            <a:ext cx="65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Единицы измерений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642960" y="2286000"/>
            <a:ext cx="7715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1547640" y="191628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колько будет сантиметр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1619280" y="2997360"/>
            <a:ext cx="14400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7"/>
          <p:cNvSpPr/>
          <p:nvPr/>
        </p:nvSpPr>
        <p:spPr>
          <a:xfrm>
            <a:off x="3979800" y="2968560"/>
            <a:ext cx="187164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8"/>
          <p:cNvSpPr/>
          <p:nvPr/>
        </p:nvSpPr>
        <p:spPr>
          <a:xfrm>
            <a:off x="6443640" y="2997360"/>
            <a:ext cx="1728720" cy="105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м 8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3:09:18Z</dcterms:created>
  <dc:creator>Светлана</dc:creator>
  <dc:description/>
  <dc:language>en-US</dc:language>
  <cp:lastModifiedBy>RePack by SPecialiST</cp:lastModifiedBy>
  <dcterms:modified xsi:type="dcterms:W3CDTF">2015-04-17T05:46:46Z</dcterms:modified>
  <cp:revision>161</cp:revision>
  <dc:subject/>
  <dc:title>Слайд 1</dc:title>
</cp:coreProperties>
</file>