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5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3036-9342-44CF-968C-BE2D17F0A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656F-C376-4DA5-82C4-E637BAF6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9201-6288-4793-A1C1-93573A429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65C3-2E70-4606-B2AC-2A8102DA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C45C-C6BA-4C83-ABFE-399BA475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92AB-18BF-4454-8FAC-BDA3B827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FE23-2EBE-4CBB-ACE4-E7A1FE59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58DA-9647-4DC5-88FC-D51CB086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70DD-4B0C-40C4-B343-61E11C9D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5D48-549D-4E98-953D-C9011E59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724E-1C54-4429-B46E-ADF524C1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1404-D25A-45DA-94A7-983CF06D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2AD1-189B-4911-B3C2-3137C82730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3.xml"/><Relationship Id="rId3" Type="http://schemas.openxmlformats.org/officeDocument/2006/relationships/slide" Target="slide23.xml"/><Relationship Id="rId4" Type="http://schemas.openxmlformats.org/officeDocument/2006/relationships/slide" Target="slide33.xml"/><Relationship Id="rId5" Type="http://schemas.openxmlformats.org/officeDocument/2006/relationships/slide" Target="slide43.xml"/><Relationship Id="rId6" Type="http://schemas.openxmlformats.org/officeDocument/2006/relationships/slide" Target="slide5.xml"/><Relationship Id="rId7" Type="http://schemas.openxmlformats.org/officeDocument/2006/relationships/slide" Target="slide15.xml"/><Relationship Id="rId8" Type="http://schemas.openxmlformats.org/officeDocument/2006/relationships/slide" Target="slide25.xml"/><Relationship Id="rId9" Type="http://schemas.openxmlformats.org/officeDocument/2006/relationships/slide" Target="slide35.xml"/><Relationship Id="rId10" Type="http://schemas.openxmlformats.org/officeDocument/2006/relationships/slide" Target="slide45.xml"/><Relationship Id="rId11" Type="http://schemas.openxmlformats.org/officeDocument/2006/relationships/slide" Target="slide7.xml"/><Relationship Id="rId12" Type="http://schemas.openxmlformats.org/officeDocument/2006/relationships/slide" Target="slide17.xml"/><Relationship Id="rId13" Type="http://schemas.openxmlformats.org/officeDocument/2006/relationships/slide" Target="slide27.xml"/><Relationship Id="rId14" Type="http://schemas.openxmlformats.org/officeDocument/2006/relationships/slide" Target="slide37.xml"/><Relationship Id="rId15" Type="http://schemas.openxmlformats.org/officeDocument/2006/relationships/slide" Target="slide47.xml"/><Relationship Id="rId16" Type="http://schemas.openxmlformats.org/officeDocument/2006/relationships/slide" Target="slide9.xml"/><Relationship Id="rId17" Type="http://schemas.openxmlformats.org/officeDocument/2006/relationships/slide" Target="slide19.xml"/><Relationship Id="rId18" Type="http://schemas.openxmlformats.org/officeDocument/2006/relationships/slide" Target="slide29.xml"/><Relationship Id="rId19" Type="http://schemas.openxmlformats.org/officeDocument/2006/relationships/slide" Target="slide39.xml"/><Relationship Id="rId20" Type="http://schemas.openxmlformats.org/officeDocument/2006/relationships/slide" Target="slide49.xml"/><Relationship Id="rId21" Type="http://schemas.openxmlformats.org/officeDocument/2006/relationships/slide" Target="slide11.xml"/><Relationship Id="rId22" Type="http://schemas.openxmlformats.org/officeDocument/2006/relationships/slide" Target="slide21.xml"/><Relationship Id="rId23" Type="http://schemas.openxmlformats.org/officeDocument/2006/relationships/slide" Target="slide31.xml"/><Relationship Id="rId24" Type="http://schemas.openxmlformats.org/officeDocument/2006/relationships/slide" Target="slide41.xml"/><Relationship Id="rId25" Type="http://schemas.openxmlformats.org/officeDocument/2006/relationships/slide" Target="slide51.xml"/><Relationship Id="rId2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>
            <a:off x="2050920" y="907920"/>
            <a:ext cx="54007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СВОЯ ИГРА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2154240" y="2924280"/>
            <a:ext cx="50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cc33"/>
                </a:solidFill>
                <a:latin typeface="Comic Sans MS"/>
              </a:rPr>
              <a:t>по математик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3"/>
          <p:cNvSpPr/>
          <p:nvPr/>
        </p:nvSpPr>
        <p:spPr>
          <a:xfrm>
            <a:off x="1547640" y="1773360"/>
            <a:ext cx="158436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0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4"/>
          <p:cNvSpPr/>
          <p:nvPr/>
        </p:nvSpPr>
        <p:spPr>
          <a:xfrm>
            <a:off x="3851280" y="1773360"/>
            <a:ext cx="180036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5"/>
          <p:cNvSpPr/>
          <p:nvPr/>
        </p:nvSpPr>
        <p:spPr>
          <a:xfrm>
            <a:off x="6659640" y="1844640"/>
            <a:ext cx="172872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0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1800" y="69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1692360" y="134136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32400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Единицы измерений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5"/>
          <p:cNvSpPr/>
          <p:nvPr/>
        </p:nvSpPr>
        <p:spPr>
          <a:xfrm>
            <a:off x="571680" y="1857240"/>
            <a:ext cx="7715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Врач дал больной девочке 3 таблетки и велел принимать их через каждые полчаса. Она строго выполнила указание врача. На сколько времени хватило прописанных врачом таблет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"/>
          <p:cNvSpPr/>
          <p:nvPr/>
        </p:nvSpPr>
        <p:spPr>
          <a:xfrm>
            <a:off x="3017160" y="1000080"/>
            <a:ext cx="259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7375e"/>
                </a:solidFill>
                <a:latin typeface="Arial"/>
              </a:rPr>
              <a:t>на 1 ча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799"/>
          <p:cNvSpPr/>
          <p:nvPr/>
        </p:nvSpPr>
        <p:spPr>
          <a:xfrm>
            <a:off x="108000" y="119700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2340000" y="2997360"/>
            <a:ext cx="4762440" cy="3162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клетка фон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4"/>
          <p:cNvSpPr/>
          <p:nvPr/>
        </p:nvSpPr>
        <p:spPr>
          <a:xfrm>
            <a:off x="32400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Задачи 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948240" y="2293200"/>
            <a:ext cx="656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Arial"/>
              </a:rPr>
              <a:t>Гусь весит 12 кг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Arial"/>
              </a:rPr>
              <a:t>Сколько он будет весить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Arial"/>
              </a:rPr>
              <a:t>если встанет на одну ногу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2587320" y="1785960"/>
            <a:ext cx="299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70c0"/>
                </a:solidFill>
                <a:latin typeface="Arial"/>
              </a:rPr>
              <a:t>12 к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4"/>
          <p:cNvSpPr/>
          <p:nvPr/>
        </p:nvSpPr>
        <p:spPr>
          <a:xfrm>
            <a:off x="142920" y="1357200"/>
            <a:ext cx="878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Задачи 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571680" y="2286000"/>
            <a:ext cx="7715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Arial"/>
              </a:rPr>
              <a:t>Лестница состоит из 7 ступенек. Какая ступенька находится на середин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143080" y="857160"/>
            <a:ext cx="4859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3"/>
          <p:cNvSpPr/>
          <p:nvPr/>
        </p:nvSpPr>
        <p:spPr>
          <a:xfrm>
            <a:off x="2511000" y="928800"/>
            <a:ext cx="401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7375e"/>
                </a:solidFill>
                <a:latin typeface="Arial"/>
              </a:rPr>
              <a:t>четвёрта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3"/>
          <p:cNvSpPr/>
          <p:nvPr/>
        </p:nvSpPr>
        <p:spPr>
          <a:xfrm>
            <a:off x="324000" y="2781360"/>
            <a:ext cx="807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50920" y="148428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46836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Задачи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6"/>
          <p:cNvSpPr/>
          <p:nvPr/>
        </p:nvSpPr>
        <p:spPr>
          <a:xfrm>
            <a:off x="324000" y="2276640"/>
            <a:ext cx="82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лке стоят 19 книг. Из них 5 сборников рассказов, 3 сборника стихов, а остальные - учебники. Сколько учебников на пол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755640" y="1052640"/>
            <a:ext cx="777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5 + 3 = 8 (к)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ы и стих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19 - 8 = 11 (уч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11 учебнико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8"/>
          <p:cNvSpPr/>
          <p:nvPr/>
        </p:nvSpPr>
        <p:spPr>
          <a:xfrm>
            <a:off x="214200" y="1009800"/>
            <a:ext cx="8821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41080" y="17002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39528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Задачи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6"/>
          <p:cNvSpPr/>
          <p:nvPr/>
        </p:nvSpPr>
        <p:spPr>
          <a:xfrm>
            <a:off x="324000" y="1557360"/>
            <a:ext cx="85010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7"/>
          <p:cNvSpPr/>
          <p:nvPr/>
        </p:nvSpPr>
        <p:spPr>
          <a:xfrm>
            <a:off x="395280" y="184464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ставь по краткой записи задачу и реши е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D:\мама\разные картинки\рисунки для през фото\баск. мяч.jpg"/>
          <p:cNvPicPr/>
          <p:nvPr/>
        </p:nvPicPr>
        <p:blipFill>
          <a:blip r:embed="rId3"/>
          <a:stretch/>
        </p:blipFill>
        <p:spPr>
          <a:xfrm>
            <a:off x="468360" y="2565360"/>
            <a:ext cx="714240" cy="71424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9"/>
          <p:cNvSpPr/>
          <p:nvPr/>
        </p:nvSpPr>
        <p:spPr>
          <a:xfrm>
            <a:off x="1258920" y="27082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- 12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D:\мама\разные картинки\рисунки для през фото\мяч ф..jpg"/>
          <p:cNvPicPr/>
          <p:nvPr/>
        </p:nvPicPr>
        <p:blipFill>
          <a:blip r:embed="rId4"/>
          <a:stretch/>
        </p:blipFill>
        <p:spPr>
          <a:xfrm>
            <a:off x="468360" y="335772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11"/>
          <p:cNvSpPr/>
          <p:nvPr/>
        </p:nvSpPr>
        <p:spPr>
          <a:xfrm>
            <a:off x="1332000" y="342900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- ?, на 5 м. меньше, ч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Выгнутая вниз стрелка 12"/>
          <p:cNvSpPr/>
          <p:nvPr/>
        </p:nvSpPr>
        <p:spPr>
          <a:xfrm rot="15780000">
            <a:off x="4616280" y="2836440"/>
            <a:ext cx="1044360" cy="723960"/>
          </a:xfrm>
          <a:custGeom>
            <a:avLst/>
            <a:gdLst>
              <a:gd name="textAreaLeft" fmla="*/ 203400 w 1044360"/>
              <a:gd name="textAreaRight" fmla="*/ 696240 w 1044360"/>
              <a:gd name="textAreaTop" fmla="*/ 96840 h 723960"/>
              <a:gd name="textAreaBottom" fmla="*/ 62712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415" hR="21600" stAng="10800000" swAng="-5400000"/>
                <a:lnTo>
                  <a:pt x="10195" y="21600"/>
                </a:lnTo>
                <a:arcTo wR="8415" hR="21600" stAng="5400000" swAng="-3566386"/>
                <a:lnTo>
                  <a:pt x="21386" y="4842"/>
                </a:lnTo>
                <a:lnTo>
                  <a:pt x="17719" y="0"/>
                </a:lnTo>
                <a:lnTo>
                  <a:pt x="13624" y="4842"/>
                </a:lnTo>
                <a:lnTo>
                  <a:pt x="16615" y="4842"/>
                </a:lnTo>
                <a:arcTo wR="8415" hR="21600" stAng="1833614" swAng="3424020"/>
                <a:lnTo>
                  <a:pt x="9305" y="21479"/>
                </a:lnTo>
                <a:arcTo wR="8415" hR="21600" stAng="5542365" swAng="5257635"/>
                <a:close/>
              </a:path>
              <a:path fill="darkenLess" w="21600" h="21600">
                <a:moveTo>
                  <a:pt x="0" y="0"/>
                </a:moveTo>
                <a:arcTo wR="8415" hR="21600" stAng="10800000" swAng="-5400000"/>
                <a:lnTo>
                  <a:pt x="10195" y="21600"/>
                </a:lnTo>
                <a:arcTo wR="8415" hR="21600" stAng="5400000" swAng="142365"/>
                <a:lnTo>
                  <a:pt x="9305" y="21479"/>
                </a:lnTo>
                <a:arcTo wR="8415" hR="21600" stAng="5542365" swAng="525763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D:\мама\разные картинки\рисунки для през фото\рез. мяч.jpg"/>
          <p:cNvPicPr/>
          <p:nvPr/>
        </p:nvPicPr>
        <p:blipFill>
          <a:blip r:embed="rId5"/>
          <a:stretch/>
        </p:blipFill>
        <p:spPr>
          <a:xfrm>
            <a:off x="395280" y="4149720"/>
            <a:ext cx="760320" cy="71604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15"/>
          <p:cNvSpPr/>
          <p:nvPr/>
        </p:nvSpPr>
        <p:spPr>
          <a:xfrm>
            <a:off x="1116000" y="436572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-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 ?,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на 8 м. больше, ч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Выгнутая вниз стрелка 16"/>
          <p:cNvSpPr/>
          <p:nvPr/>
        </p:nvSpPr>
        <p:spPr>
          <a:xfrm rot="15993600">
            <a:off x="5907600" y="2775600"/>
            <a:ext cx="1271520" cy="2432160"/>
          </a:xfrm>
          <a:custGeom>
            <a:avLst/>
            <a:gdLst>
              <a:gd name="textAreaLeft" fmla="*/ 219240 w 1271520"/>
              <a:gd name="textAreaRight" fmla="*/ 809640 w 1271520"/>
              <a:gd name="textAreaTop" fmla="*/ 325800 h 2432160"/>
              <a:gd name="textAreaBottom" fmla="*/ 2106360 h 243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458" hR="21600" stAng="10800000" swAng="-5400000"/>
                <a:lnTo>
                  <a:pt x="10026" y="21600"/>
                </a:lnTo>
                <a:arcTo wR="7458" hR="21600" stAng="5400000" swAng="-4473415"/>
                <a:lnTo>
                  <a:pt x="21566" y="2051"/>
                </a:lnTo>
                <a:lnTo>
                  <a:pt x="16200" y="0"/>
                </a:lnTo>
                <a:lnTo>
                  <a:pt x="10766" y="2051"/>
                </a:lnTo>
                <a:lnTo>
                  <a:pt x="14882" y="2051"/>
                </a:lnTo>
                <a:arcTo wR="7458" hR="21600" stAng="926585" swAng="4266214"/>
                <a:lnTo>
                  <a:pt x="8742" y="21277"/>
                </a:lnTo>
                <a:arcTo wR="7458" hR="21600" stAng="5607201" swAng="5192799"/>
                <a:close/>
              </a:path>
              <a:path fill="darkenLess" w="21600" h="21600">
                <a:moveTo>
                  <a:pt x="0" y="0"/>
                </a:moveTo>
                <a:arcTo wR="7458" hR="21600" stAng="10800000" swAng="-5400000"/>
                <a:lnTo>
                  <a:pt x="10026" y="21600"/>
                </a:lnTo>
                <a:arcTo wR="7458" hR="21600" stAng="5400000" swAng="207201"/>
                <a:lnTo>
                  <a:pt x="8742" y="21277"/>
                </a:lnTo>
                <a:arcTo wR="7458" hR="21600" stAng="5607201" swAng="5192799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536040" cy="6877080"/>
        </p:xfrm>
        <a:graphic>
          <a:graphicData uri="http://schemas.openxmlformats.org/drawingml/2006/table">
            <a:tbl>
              <a:tblPr/>
              <a:tblGrid>
                <a:gridCol w="1619280"/>
                <a:gridCol w="1368360"/>
                <a:gridCol w="2376360"/>
                <a:gridCol w="2232360"/>
                <a:gridCol w="1939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Единицы измер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За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Геометрические фиг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Логические за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504d"/>
                          </a:solidFill>
                          <a:latin typeface="Andalus"/>
                        </a:rPr>
                        <a:t>Ребу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2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3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4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5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6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7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8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9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0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1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2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3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4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5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6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7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8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19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20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21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22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23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24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00ff"/>
                          </a:solidFill>
                          <a:uFillTx/>
                          <a:latin typeface="Vladimir Script"/>
                          <a:hlinkClick r:id="rId25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504d"/>
                      </a:solidFill>
                    </a:lnL>
                    <a:lnR w="28080">
                      <a:solidFill>
                        <a:srgbClr val="c0504d"/>
                      </a:solidFill>
                    </a:lnR>
                    <a:lnT w="28080">
                      <a:solidFill>
                        <a:srgbClr val="c0504d"/>
                      </a:solidFill>
                    </a:lnT>
                    <a:lnB w="28080">
                      <a:solidFill>
                        <a:srgbClr val="c0504d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53512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395280" y="1000080"/>
            <a:ext cx="76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Calibri"/>
              </a:rPr>
              <a:t>1) 12 – 5 = 7 (м.) – футболь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Calibri"/>
              </a:rPr>
              <a:t>2) 7 + 8 = 15 (м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Calibri"/>
              </a:rPr>
              <a:t>Ответ: 15 резиновых мяч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Calibri"/>
              </a:rPr>
              <a:t>(12 – 5) + 8 = 15 (м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4"/>
          <p:cNvSpPr/>
          <p:nvPr/>
        </p:nvSpPr>
        <p:spPr>
          <a:xfrm>
            <a:off x="285840" y="1285920"/>
            <a:ext cx="84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Задачи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642960" y="1857240"/>
            <a:ext cx="8001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Три подружки - Вера, Оля и Таня пошли в лес по ягоды. Для сбора ягод у них были корзина, лукошко и ведерко. Известно, что Оля была не с корзиной и не с лукошком, Вера - не с лукошком. Что с собой взяла каждая девочка для сбора яго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7"/>
          <p:cNvSpPr/>
          <p:nvPr/>
        </p:nvSpPr>
        <p:spPr>
          <a:xfrm>
            <a:off x="8280360" y="6264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428760" y="928800"/>
            <a:ext cx="84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7375e"/>
                </a:solidFill>
                <a:latin typeface="Arial"/>
              </a:rPr>
              <a:t>Вера была с корзинкой, Оля - с ведерком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7375e"/>
                </a:solidFill>
                <a:latin typeface="Arial"/>
              </a:rPr>
              <a:t>Таня -с лукошком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3"/>
          <p:cNvSpPr/>
          <p:nvPr/>
        </p:nvSpPr>
        <p:spPr>
          <a:xfrm>
            <a:off x="1547640" y="1628640"/>
            <a:ext cx="5438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178360" y="15699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Геометрические фигуры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4419720" y="2961720"/>
            <a:ext cx="2934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&amp;Fcy;&amp;icy;&amp;gcy;&amp;ucy;&amp;rcy;&amp;ycy;"/>
          <p:cNvPicPr/>
          <p:nvPr/>
        </p:nvPicPr>
        <p:blipFill>
          <a:blip r:embed="rId3"/>
          <a:stretch/>
        </p:blipFill>
        <p:spPr>
          <a:xfrm>
            <a:off x="395280" y="3429000"/>
            <a:ext cx="8209080" cy="216072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7"/>
          <p:cNvSpPr/>
          <p:nvPr/>
        </p:nvSpPr>
        <p:spPr>
          <a:xfrm>
            <a:off x="755640" y="19162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ови данные фигуры одним словом. Сможешь ли ты назвать каждую из фигур правильно?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3637080" y="134136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900000" y="692280"/>
            <a:ext cx="6985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ноугольники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ямоуголь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еуголь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естиуголь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вадра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2987640" y="1844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2197440" y="184464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4"/>
          <p:cNvSpPr/>
          <p:nvPr/>
        </p:nvSpPr>
        <p:spPr>
          <a:xfrm>
            <a:off x="53964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Геометрические фигуры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5"/>
          <p:cNvSpPr/>
          <p:nvPr/>
        </p:nvSpPr>
        <p:spPr>
          <a:xfrm>
            <a:off x="642960" y="235728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Сумма длин сторон квадрата 40 см. Чему равна длина каждой его сторон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2535120" y="42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3"/>
          <p:cNvSpPr/>
          <p:nvPr/>
        </p:nvSpPr>
        <p:spPr>
          <a:xfrm>
            <a:off x="642960" y="1428840"/>
            <a:ext cx="771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У квадрата все стороны имеют равные сторон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У квадрата таких стороны 4. Следовательно, нужно 40 см. разделить на 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Считаем: 40 : 4 = 10 (см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8"/>
          <p:cNvSpPr/>
          <p:nvPr/>
        </p:nvSpPr>
        <p:spPr>
          <a:xfrm>
            <a:off x="214200" y="1143000"/>
            <a:ext cx="85694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2197080" y="1700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клетка фон"/>
          <p:cNvPicPr/>
          <p:nvPr/>
        </p:nvPicPr>
        <p:blipFill>
          <a:blip r:embed="rId2"/>
          <a:stretch/>
        </p:blipFill>
        <p:spPr>
          <a:xfrm>
            <a:off x="-252360" y="-24300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4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Геометрические фигуры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4758480" y="564372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2" descr="&amp;Lcy;&amp;ocy;&amp;mcy;&amp;acy;&amp;ncy;&amp;ncy;&amp;acy;&amp;yacy;"/>
          <p:cNvPicPr/>
          <p:nvPr/>
        </p:nvPicPr>
        <p:blipFill>
          <a:blip r:embed="rId3"/>
          <a:stretch/>
        </p:blipFill>
        <p:spPr>
          <a:xfrm>
            <a:off x="1187280" y="2421000"/>
            <a:ext cx="604872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12"/>
          <p:cNvSpPr/>
          <p:nvPr/>
        </p:nvSpPr>
        <p:spPr>
          <a:xfrm>
            <a:off x="1187280" y="1628640"/>
            <a:ext cx="48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йдите длину лома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9"/>
          <p:cNvSpPr/>
          <p:nvPr/>
        </p:nvSpPr>
        <p:spPr>
          <a:xfrm>
            <a:off x="2124000" y="1341360"/>
            <a:ext cx="5018040" cy="25704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с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Геометрические фигуры 40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478160" y="1628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Геометрические фигуры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6"/>
          <p:cNvSpPr/>
          <p:nvPr/>
        </p:nvSpPr>
        <p:spPr>
          <a:xfrm>
            <a:off x="357120" y="172080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1" descr="http://img1.liveinternet.ru/images/attach/c/1/50/462/50462487_13.jpg"/>
          <p:cNvPicPr/>
          <p:nvPr/>
        </p:nvPicPr>
        <p:blipFill>
          <a:blip r:embed="rId3"/>
          <a:srcRect l="37796" t="1890" r="40819" b="26458"/>
          <a:stretch/>
        </p:blipFill>
        <p:spPr>
          <a:xfrm>
            <a:off x="3780000" y="3213000"/>
            <a:ext cx="1019160" cy="257976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12"/>
          <p:cNvSpPr/>
          <p:nvPr/>
        </p:nvSpPr>
        <p:spPr>
          <a:xfrm>
            <a:off x="755640" y="1844640"/>
            <a:ext cx="8209080" cy="93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их геометрических фигур нет на рисун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3"/>
          <p:cNvSpPr/>
          <p:nvPr/>
        </p:nvSpPr>
        <p:spPr>
          <a:xfrm>
            <a:off x="285840" y="12859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287280" y="166788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46836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Единицы измерений 10</a:t>
            </a:r>
            <a:r>
              <a:rPr b="0" lang="ru-RU" sz="44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857160" y="3105000"/>
            <a:ext cx="70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971640" y="2492280"/>
            <a:ext cx="7345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ва длина трёхзвенной ломаной, если длина её звеньев 7 см, 4 см и 5 с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7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2"/>
          <p:cNvSpPr/>
          <p:nvPr/>
        </p:nvSpPr>
        <p:spPr>
          <a:xfrm>
            <a:off x="500040" y="428760"/>
            <a:ext cx="8358120" cy="58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Задание на знание геометрических фигур и внимание. Найдём геометрические фигуры, вспомнив их определения. </a:t>
            </a:r>
            <a:br>
              <a:rPr sz="2000"/>
            </a:b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Прямоугольник - это геометрическая фигура, четырёхугольник с прямыми углами. На рисунке он представлен в виде основы светоф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1 прямоугольник кстати, квадраты - это тоже прямоугольники(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Квадрат - это прямоугольник, у которого все стороны равны. На рисунке глаза светофора выполнены в виде квадр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6 квадр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Треугольник - это геометрическая фигура, многоугольник с тремя уг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6 треуг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Круг - это геометрическая фигура. На рисунке мы видим только дугу, а не весь круг. Значит, круги на изображении отсутству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0 кру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рисунке  отсутствует геометрическая фигура - кру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5"/>
          <p:cNvSpPr/>
          <p:nvPr/>
        </p:nvSpPr>
        <p:spPr>
          <a:xfrm>
            <a:off x="2197080" y="17733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504d"/>
                </a:solidFill>
                <a:latin typeface="Arial"/>
              </a:rPr>
              <a:t>Геометрические фигуры  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167148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1117080" y="2349360"/>
            <a:ext cx="724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Какую геометрическую фигу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осят на голове мужчин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15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2845800" y="5157720"/>
            <a:ext cx="289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Цилинд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Vc79J"/>
          <p:cNvPicPr/>
          <p:nvPr/>
        </p:nvPicPr>
        <p:blipFill>
          <a:blip r:embed="rId2"/>
          <a:stretch/>
        </p:blipFill>
        <p:spPr>
          <a:xfrm>
            <a:off x="1187280" y="333360"/>
            <a:ext cx="3746520" cy="4535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51895_html_m4c4b7368"/>
          <p:cNvPicPr/>
          <p:nvPr/>
        </p:nvPicPr>
        <p:blipFill>
          <a:blip r:embed="rId3"/>
          <a:stretch/>
        </p:blipFill>
        <p:spPr>
          <a:xfrm>
            <a:off x="5435640" y="836640"/>
            <a:ext cx="3219480" cy="3495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3"/>
          <p:cNvSpPr/>
          <p:nvPr/>
        </p:nvSpPr>
        <p:spPr>
          <a:xfrm>
            <a:off x="571680" y="1857240"/>
            <a:ext cx="82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504d"/>
                </a:solidFill>
                <a:latin typeface="Arial"/>
              </a:rPr>
              <a:t>Логические задачи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5"/>
          <p:cNvSpPr/>
          <p:nvPr/>
        </p:nvSpPr>
        <p:spPr>
          <a:xfrm>
            <a:off x="1835280" y="3244680"/>
            <a:ext cx="5394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3 3 =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81b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5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523880" y="1916280"/>
          <a:ext cx="6577200" cy="2395440"/>
        </p:xfrm>
        <a:graphic>
          <a:graphicData uri="http://schemas.openxmlformats.org/drawingml/2006/table">
            <a:tbl>
              <a:tblPr/>
              <a:tblGrid>
                <a:gridCol w="258840"/>
                <a:gridCol w="6318360"/>
              </a:tblGrid>
              <a:tr h="239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+ 3 - 3 = 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4"/>
          <p:cNvSpPr/>
          <p:nvPr/>
        </p:nvSpPr>
        <p:spPr>
          <a:xfrm>
            <a:off x="428760" y="2143080"/>
            <a:ext cx="84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333080" y="17002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8" descr="http://onlinetestpad.com/filestest/0015500-0016000/15666/%D0%B2%D0%BE%D0%BB%D0%BA.jpg"/>
          <p:cNvPicPr/>
          <p:nvPr/>
        </p:nvPicPr>
        <p:blipFill>
          <a:blip r:embed="rId3"/>
          <a:stretch/>
        </p:blipFill>
        <p:spPr>
          <a:xfrm>
            <a:off x="2556000" y="3429000"/>
            <a:ext cx="3200400" cy="3063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8" name=""/>
          <p:cNvGraphicFramePr/>
          <p:nvPr/>
        </p:nvGraphicFramePr>
        <p:xfrm>
          <a:off x="468360" y="1557360"/>
          <a:ext cx="8353440" cy="1677960"/>
        </p:xfrm>
        <a:graphic>
          <a:graphicData uri="http://schemas.openxmlformats.org/drawingml/2006/table">
            <a:tbl>
              <a:tblPr/>
              <a:tblGrid>
                <a:gridCol w="789120"/>
                <a:gridCol w="820440"/>
                <a:gridCol w="6564600"/>
                <a:gridCol w="179280"/>
              </a:tblGrid>
              <a:tr h="123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2040" rIns="32040" tIns="15840" bIns="15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8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2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 лугу паслись 10 овец. Всех, кроме девяти, съел волк. Сколько овец осталось на лугу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040" rIns="32040" tIns="15840" bIns="15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Прямоугольник 8"/>
          <p:cNvSpPr/>
          <p:nvPr/>
        </p:nvSpPr>
        <p:spPr>
          <a:xfrm>
            <a:off x="1619280" y="76500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Логические задачи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81b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7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2071800" y="57168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160020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1908000" y="260280"/>
            <a:ext cx="30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2700360" y="2276640"/>
            <a:ext cx="410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ff"/>
                </a:solidFill>
                <a:latin typeface="Arial"/>
              </a:rPr>
              <a:t>9 ове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857840" y="5928840"/>
            <a:ext cx="3852720" cy="7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7"/>
          <p:cNvSpPr/>
          <p:nvPr/>
        </p:nvSpPr>
        <p:spPr>
          <a:xfrm>
            <a:off x="500040" y="2000160"/>
            <a:ext cx="835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6"/>
          <p:cNvSpPr/>
          <p:nvPr/>
        </p:nvSpPr>
        <p:spPr>
          <a:xfrm>
            <a:off x="324000" y="274284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традь дешевле ручки, но дороже карандаша. Что дешевле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6"/>
          <p:cNvSpPr/>
          <p:nvPr/>
        </p:nvSpPr>
        <p:spPr>
          <a:xfrm>
            <a:off x="1187280" y="76500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Логические задачи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81b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6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4"/>
          <p:cNvSpPr/>
          <p:nvPr/>
        </p:nvSpPr>
        <p:spPr>
          <a:xfrm>
            <a:off x="2340000" y="4292640"/>
            <a:ext cx="403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4"/>
          <p:cNvSpPr/>
          <p:nvPr/>
        </p:nvSpPr>
        <p:spPr>
          <a:xfrm>
            <a:off x="755640" y="2349360"/>
            <a:ext cx="7561440" cy="1273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анда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Прямоугольник 7"/>
          <p:cNvSpPr/>
          <p:nvPr/>
        </p:nvSpPr>
        <p:spPr>
          <a:xfrm>
            <a:off x="611280" y="184464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541080" y="18446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4"/>
          <p:cNvSpPr/>
          <p:nvPr/>
        </p:nvSpPr>
        <p:spPr>
          <a:xfrm>
            <a:off x="46836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Логические задачи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042920" y="2492280"/>
            <a:ext cx="77058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ати вчера был день рождения. Зав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т пятница. В какой день недели бы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рождения Кати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2484360" y="1413000"/>
            <a:ext cx="4896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с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81b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8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6"/>
          <p:cNvSpPr/>
          <p:nvPr/>
        </p:nvSpPr>
        <p:spPr>
          <a:xfrm>
            <a:off x="1500120" y="500040"/>
            <a:ext cx="5905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2050920" y="2637000"/>
            <a:ext cx="561672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реда</a:t>
            </a: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оугольник 5"/>
          <p:cNvSpPr/>
          <p:nvPr/>
        </p:nvSpPr>
        <p:spPr>
          <a:xfrm>
            <a:off x="428760" y="200016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4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Логические задачи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1042920" y="2017440"/>
            <a:ext cx="63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должи ряд чисе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6"/>
          <p:cNvSpPr/>
          <p:nvPr/>
        </p:nvSpPr>
        <p:spPr>
          <a:xfrm>
            <a:off x="611280" y="32446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, 18, 19, 17, 18, 16, 17, ...., ...., 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81b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0"/>
          <p:cNvSpPr/>
          <p:nvPr/>
        </p:nvSpPr>
        <p:spPr>
          <a:xfrm>
            <a:off x="1403280" y="162864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7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6"/>
          <p:cNvSpPr/>
          <p:nvPr/>
        </p:nvSpPr>
        <p:spPr>
          <a:xfrm>
            <a:off x="1692360" y="1557360"/>
            <a:ext cx="66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5, 16, 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8"/>
          <p:cNvSpPr/>
          <p:nvPr/>
        </p:nvSpPr>
        <p:spPr>
          <a:xfrm>
            <a:off x="1116000" y="155736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182520" y="1844640"/>
            <a:ext cx="896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4"/>
          <p:cNvSpPr/>
          <p:nvPr/>
        </p:nvSpPr>
        <p:spPr>
          <a:xfrm>
            <a:off x="250920" y="836640"/>
            <a:ext cx="847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Ребусы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C:\Documents and Settings\Admin\Рабочий стол\минус.png"/>
          <p:cNvPicPr/>
          <p:nvPr/>
        </p:nvPicPr>
        <p:blipFill>
          <a:blip r:embed="rId3"/>
          <a:stretch/>
        </p:blipFill>
        <p:spPr>
          <a:xfrm>
            <a:off x="1276200" y="2514600"/>
            <a:ext cx="6224760" cy="2428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116000" y="155736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289548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2733840" y="1500120"/>
            <a:ext cx="348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70c0"/>
                </a:solidFill>
                <a:latin typeface="Arial"/>
              </a:rPr>
              <a:t>МИНУ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6"/>
          <p:cNvSpPr/>
          <p:nvPr/>
        </p:nvSpPr>
        <p:spPr>
          <a:xfrm>
            <a:off x="1909440" y="148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4"/>
          <p:cNvSpPr/>
          <p:nvPr/>
        </p:nvSpPr>
        <p:spPr>
          <a:xfrm>
            <a:off x="468360" y="692280"/>
            <a:ext cx="847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Ребусы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7" descr="http://luntiki.ru/uploads/images/9/c/9/b/5/01eb5b7252.jpg"/>
          <p:cNvPicPr/>
          <p:nvPr/>
        </p:nvPicPr>
        <p:blipFill>
          <a:blip r:embed="rId3"/>
          <a:stretch/>
        </p:blipFill>
        <p:spPr>
          <a:xfrm>
            <a:off x="1763640" y="2276640"/>
            <a:ext cx="4762440" cy="2933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757800" y="234936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2510640" y="1785960"/>
            <a:ext cx="337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70c0"/>
                </a:solidFill>
                <a:latin typeface="Arial"/>
              </a:rPr>
              <a:t>Семья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9"/>
          <p:cNvSpPr/>
          <p:nvPr/>
        </p:nvSpPr>
        <p:spPr>
          <a:xfrm>
            <a:off x="2771640" y="866880"/>
            <a:ext cx="637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1619280" y="1413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4"/>
          <p:cNvSpPr/>
          <p:nvPr/>
        </p:nvSpPr>
        <p:spPr>
          <a:xfrm>
            <a:off x="46836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Ребусы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8" descr="http://luntiki.ru/uploads/images/0/c/2/e/5/d89403cb18.jpg"/>
          <p:cNvPicPr/>
          <p:nvPr/>
        </p:nvPicPr>
        <p:blipFill>
          <a:blip r:embed="rId3"/>
          <a:stretch/>
        </p:blipFill>
        <p:spPr>
          <a:xfrm>
            <a:off x="1619280" y="2637000"/>
            <a:ext cx="6121440" cy="2495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116000" y="234936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3"/>
          <p:cNvSpPr/>
          <p:nvPr/>
        </p:nvSpPr>
        <p:spPr>
          <a:xfrm>
            <a:off x="2071800" y="1844640"/>
            <a:ext cx="459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70c0"/>
                </a:solidFill>
                <a:latin typeface="Arial"/>
              </a:rPr>
              <a:t>стоян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4"/>
          <p:cNvSpPr/>
          <p:nvPr/>
        </p:nvSpPr>
        <p:spPr>
          <a:xfrm>
            <a:off x="2125800" y="1700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Ребусы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Рисунок 6" descr="C:\Users\Администратор\Desktop\ребус\1e95f7172a.jpg"/>
          <p:cNvPicPr/>
          <p:nvPr/>
        </p:nvPicPr>
        <p:blipFill>
          <a:blip r:embed="rId3"/>
          <a:stretch/>
        </p:blipFill>
        <p:spPr>
          <a:xfrm>
            <a:off x="1535040" y="2378160"/>
            <a:ext cx="6073920" cy="2101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684360" y="1268280"/>
            <a:ext cx="82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1552320" y="1052640"/>
            <a:ext cx="610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504d"/>
                </a:solidFill>
                <a:latin typeface="Arial"/>
              </a:rPr>
              <a:t>Единицы измерений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642960" y="2286000"/>
            <a:ext cx="7643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В клетке находятся три кролика. Три девочки попросили дать им по одному кролику. Каждой девочке дали кролика. И все же в клетке остался один кролик. Как это случило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643040" y="50004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2214720" y="2071800"/>
            <a:ext cx="437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70c0"/>
                </a:solidFill>
                <a:latin typeface="Arial"/>
              </a:rPr>
              <a:t>восем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7"/>
          <p:cNvSpPr/>
          <p:nvPr/>
        </p:nvSpPr>
        <p:spPr>
          <a:xfrm>
            <a:off x="3022560" y="1093680"/>
            <a:ext cx="637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541080" y="170028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5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4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Ребусы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8" descr="http://luntiki.ru/uploads/images/3/6/3/8/5/8966d6f34e.jpg"/>
          <p:cNvPicPr/>
          <p:nvPr/>
        </p:nvPicPr>
        <p:blipFill>
          <a:blip r:embed="rId3"/>
          <a:stretch/>
        </p:blipFill>
        <p:spPr>
          <a:xfrm>
            <a:off x="1979640" y="2276640"/>
            <a:ext cx="4762440" cy="3038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AutoShape 7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"/>
          <p:cNvSpPr/>
          <p:nvPr/>
        </p:nvSpPr>
        <p:spPr>
          <a:xfrm>
            <a:off x="1763640" y="2060640"/>
            <a:ext cx="494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70c0"/>
                </a:solidFill>
                <a:latin typeface="Arial"/>
              </a:rPr>
              <a:t>кро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"/>
          <p:cNvSpPr/>
          <p:nvPr/>
        </p:nvSpPr>
        <p:spPr>
          <a:xfrm>
            <a:off x="395280" y="213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Подведем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4"/>
          <p:cNvSpPr/>
          <p:nvPr/>
        </p:nvSpPr>
        <p:spPr>
          <a:xfrm>
            <a:off x="611280" y="26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Поздравляем победителя!</a:t>
            </a:r>
            <a:br>
              <a:rPr sz="4400"/>
            </a:b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До новых встреч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Рисунок 2" descr="blest47"/>
          <p:cNvPicPr/>
          <p:nvPr/>
        </p:nvPicPr>
        <p:blipFill>
          <a:blip r:embed="rId1"/>
          <a:stretch/>
        </p:blipFill>
        <p:spPr>
          <a:xfrm>
            <a:off x="3143160" y="0"/>
            <a:ext cx="2143080" cy="2928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2"/>
          <p:cNvSpPr/>
          <p:nvPr/>
        </p:nvSpPr>
        <p:spPr>
          <a:xfrm>
            <a:off x="571680" y="1143000"/>
            <a:ext cx="785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Arial"/>
              </a:rPr>
              <a:t>Нужно отдать одной девочке клетку вместе с кролик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357120" y="1500120"/>
            <a:ext cx="8358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70160" y="11970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1504800" y="1000080"/>
            <a:ext cx="610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504d"/>
                </a:solidFill>
                <a:latin typeface="Arial"/>
              </a:rPr>
              <a:t>Единицы измерений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"/>
          <p:cNvPicPr/>
          <p:nvPr/>
        </p:nvPicPr>
        <p:blipFill>
          <a:blip r:embed="rId3"/>
          <a:stretch/>
        </p:blipFill>
        <p:spPr>
          <a:xfrm>
            <a:off x="684360" y="2565360"/>
            <a:ext cx="7343640" cy="16556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8"/>
          <p:cNvSpPr/>
          <p:nvPr/>
        </p:nvSpPr>
        <p:spPr>
          <a:xfrm>
            <a:off x="971640" y="1773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отрезков изображено на рисун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2050920" y="2492280"/>
            <a:ext cx="532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отрезко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3"/>
          <p:cNvSpPr/>
          <p:nvPr/>
        </p:nvSpPr>
        <p:spPr>
          <a:xfrm>
            <a:off x="1187280" y="1268280"/>
            <a:ext cx="65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клетка 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"/>
              </a:rPr>
              <a:t>Единицы измерений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642960" y="2286000"/>
            <a:ext cx="77151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1547640" y="1916280"/>
            <a:ext cx="67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колько будет сантиметр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6"/>
          <p:cNvSpPr/>
          <p:nvPr/>
        </p:nvSpPr>
        <p:spPr>
          <a:xfrm>
            <a:off x="1619280" y="2997360"/>
            <a:ext cx="144000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7"/>
          <p:cNvSpPr/>
          <p:nvPr/>
        </p:nvSpPr>
        <p:spPr>
          <a:xfrm>
            <a:off x="3979800" y="2968560"/>
            <a:ext cx="187164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 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8"/>
          <p:cNvSpPr/>
          <p:nvPr/>
        </p:nvSpPr>
        <p:spPr>
          <a:xfrm>
            <a:off x="6443640" y="2997360"/>
            <a:ext cx="1728720" cy="1058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м 8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3:09:18Z</dcterms:created>
  <dc:creator>Светлана</dc:creator>
  <dc:description/>
  <dc:language>en-US</dc:language>
  <cp:lastModifiedBy>RePack by SPecialiST</cp:lastModifiedBy>
  <dcterms:modified xsi:type="dcterms:W3CDTF">2015-04-17T05:46:46Z</dcterms:modified>
  <cp:revision>161</cp:revision>
  <dc:subject/>
  <dc:title>Слайд 1</dc:title>
</cp:coreProperties>
</file>